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335-C7E6-4F3A-8F31-B7C970BE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82D3-4BCC-40F7-AF68-6A358799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A9B8-9390-4247-9531-E09C35ADC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1B91-B385-48D1-839A-69970779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4C9-C6AA-4201-BF14-7186EAD5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79F-7281-4032-9D8A-939AF12E1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B7A4-79CB-459F-995E-217D1814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66B-76B5-4486-A146-A7B1215D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4C1-5E42-426F-B503-FCFDA5485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646F-8CC7-49C3-8795-D55B933B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F045-FB30-4BEB-BB24-1E3CB772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6A4-4669-442A-AF3D-5DE81F5EC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F94-D072-4733-A924-75063E841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BDB9-7A21-41DE-919E-224CD5FEB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70F-CA80-4E4B-9D60-CBA599D8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2A6-51FB-4A7C-80E4-D556142B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653-A13B-4D03-8307-E564C875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D01-D1A2-434C-9853-A41E2BEB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7D9-AA5F-4CCC-BF2B-B695791D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2D1-7A25-4F0A-B1B3-03171E6A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413-183C-47A8-A1B2-3DAB6748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E64-0E49-4C4E-8731-C659A912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9C7-070C-4CF7-A98B-A80AFA4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384-9910-49C9-9A49-F40C0D0C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280-B4EB-42F0-A911-EDCCC8D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1B9-FC89-4EA2-9F53-531AB2D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585-06CD-42A6-8DFC-3C8BD70FF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image" Target="../media/image4.png"/><Relationship Id="rId8" Type="http://schemas.openxmlformats.org/officeDocument/2006/relationships/slide" Target="slide5.xml"/><Relationship Id="rId9" Type="http://schemas.openxmlformats.org/officeDocument/2006/relationships/image" Target="../media/image5.png"/><Relationship Id="rId10" Type="http://schemas.openxmlformats.org/officeDocument/2006/relationships/slide" Target="slide14.xml"/><Relationship Id="rId11" Type="http://schemas.openxmlformats.org/officeDocument/2006/relationships/image" Target="../media/image6.png"/><Relationship Id="rId12" Type="http://schemas.openxmlformats.org/officeDocument/2006/relationships/slide" Target="slide16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b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4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b5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10" descr=""/>
          <p:cNvPicPr/>
          <p:nvPr/>
        </p:nvPicPr>
        <p:blipFill>
          <a:blip r:embed="rId14"/>
          <a:stretch/>
        </p:blipFill>
        <p:spPr>
          <a:xfrm>
            <a:off x="1103400" y="2120760"/>
            <a:ext cx="698004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20101001213158-828844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Users\apple\Desktop\slide0044_image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5d51fc7-5ca3-4e7c-a6b7-6859772408c1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5029200" y="3505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886200" y="31240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258920" y="162864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68360" y="2133720"/>
            <a:ext cx="820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走了一个寒冬，我们又迎来了美丽的春天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春风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春水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小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蝴蝶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雏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枝头的绿苞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明丽的阳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田野里的小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迫不及待地向我们报告着春的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34290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979640" y="1844640"/>
            <a:ext cx="453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，摇绿了树的枝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，漂白了鸭的羽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盼望了整整一个冬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看，春天已经来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186520" y="37688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979640" y="3141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盼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7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28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32"/>
          <p:cNvSpPr/>
          <p:nvPr/>
        </p:nvSpPr>
        <p:spPr>
          <a:xfrm>
            <a:off x="1042920" y="1700280"/>
            <a:ext cx="69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换上新羽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蝴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牵引着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雏菊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开始开放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吐出嫩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放射光芒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钻出地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395280" y="141300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音字组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iǎ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ī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ià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）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ì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112536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合适的词语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    希望      愿望      失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现两岸和平统一是海内外中国人的共同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和家长都（      ）我们能健康成长，我们可不能让他们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（     ）着能够快点长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97164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愿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708360" y="4062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564000" y="45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失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181240" y="5430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盼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dd"/>
          <p:cNvPicPr/>
          <p:nvPr/>
        </p:nvPicPr>
        <p:blipFill>
          <a:blip r:embed="rId5"/>
          <a:stretch/>
        </p:blipFill>
        <p:spPr>
          <a:xfrm>
            <a:off x="7885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684360" y="1557360"/>
            <a:ext cx="7848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除了诗人笔下的春天美景外，在你眼中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哪些春天的景色呢？它们是怎样的呢？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春天的美景画下来，学着诗歌的样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段描写春天美景的小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先小组交流，再全班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042920" y="6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b1"/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b6"/>
          <p:cNvPicPr/>
          <p:nvPr/>
        </p:nvPicPr>
        <p:blipFill>
          <a:blip r:embed="rId3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b2"/>
          <p:cNvPicPr/>
          <p:nvPr/>
        </p:nvPicPr>
        <p:blipFill>
          <a:blip r:embed="rId4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b3"/>
          <p:cNvPicPr/>
          <p:nvPr/>
        </p:nvPicPr>
        <p:blipFill>
          <a:blip r:embed="rId5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b4"/>
          <p:cNvPicPr/>
          <p:nvPr/>
        </p:nvPicPr>
        <p:blipFill>
          <a:blip r:embed="rId6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b5"/>
          <p:cNvPicPr/>
          <p:nvPr/>
        </p:nvPicPr>
        <p:blipFill>
          <a:blip r:embed="rId7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WordArt 8" descr=""/>
          <p:cNvPicPr/>
          <p:nvPr/>
        </p:nvPicPr>
        <p:blipFill>
          <a:blip r:embed="rId8"/>
          <a:stretch/>
        </p:blipFill>
        <p:spPr>
          <a:xfrm>
            <a:off x="1103400" y="2120760"/>
            <a:ext cx="698004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04920" y="260280"/>
            <a:ext cx="8135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阅读过程中认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冈、蝴、蝶、耀、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积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词语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装、山冈、蝴蝶、雀跃、沉睡、照耀、面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用合适的方式理解词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雀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课文。背诵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要求预习课文。能说出自己知道的春天的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春天来到时人们欢快的心情以及对春天的喜爱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ck"/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2"/>
          <p:cNvPicPr/>
          <p:nvPr/>
        </p:nvPicPr>
        <p:blipFill>
          <a:blip r:embed="rId3"/>
          <a:stretch/>
        </p:blipFill>
        <p:spPr>
          <a:xfrm>
            <a:off x="395280" y="47628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995640" y="134136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  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你喜欢的描写春天的诗歌，和同学开一个诗歌朗诵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2196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1"/>
          <p:cNvPicPr/>
          <p:nvPr/>
        </p:nvPicPr>
        <p:blipFill>
          <a:blip r:embed="rId5"/>
          <a:stretch/>
        </p:blipFill>
        <p:spPr>
          <a:xfrm>
            <a:off x="2241720" y="476280"/>
            <a:ext cx="457344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684360" y="76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学乐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187280" y="2133720"/>
            <a:ext cx="71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95280" y="1773360"/>
            <a:ext cx="8748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诗歌，学习其中的生字新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找诗中描写了哪些春天的景色，并完成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的填空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走了一个寒冬，我们又迎来了美丽的春     天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及待地向我们报告着春的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7"/>
          <p:cNvSpPr/>
          <p:nvPr/>
        </p:nvSpPr>
        <p:spPr>
          <a:xfrm>
            <a:off x="971640" y="1844640"/>
            <a:ext cx="684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āng          hú  dié             yào                j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冈      蝴 蝶    照 耀     面 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75564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一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258920" y="184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entury Gothic"/>
              </a:rPr>
              <a:t>g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6877080" y="184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entury Gothic"/>
              </a:rPr>
              <a:t>j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971640" y="4508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指的是较低而平的山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971640" y="2924280"/>
            <a:ext cx="691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iǎo                 jīn                                          sā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 白     禁不住    雀 跃     搔 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201034215847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20100620004124412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3768050_20573506547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600360" y="285264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春天的第一只蝴蝶飞来了，我高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067280" y="3933720"/>
            <a:ext cx="4897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pple</dc:creator>
  <dc:description/>
  <dc:language>en-US</dc:language>
  <cp:lastModifiedBy>lbx777</cp:lastModifiedBy>
  <dcterms:modified xsi:type="dcterms:W3CDTF">2016-01-21T18:39:50Z</dcterms:modified>
  <cp:revision>57</cp:revision>
  <dc:subject/>
  <dc:title>PowerPoint Presentation</dc:title>
</cp:coreProperties>
</file>