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2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8678-5BE7-4CFF-8E32-6DB3A6D46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ED02-C9F0-4062-A7A7-75F4B88C2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2DE9-5127-4EFD-92DE-EA9B067B8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D2D1-C1C6-4F0E-864C-C22A04F33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B254-E0A4-4A51-8CD2-BC278FC0A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0470-97EE-4884-BD2F-0E0D67E8B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1AD4-4209-4B5B-A98D-803936635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89D9-F715-45FB-9041-C5D7E1378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0B08-BBEA-4B04-9883-E53B23573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C806-760B-482B-822F-4609AC9EB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E426-25B9-47D4-9254-1ECDBEEAB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99EC-488D-41C4-B0ED-318C8BBD3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1CF7-8A3C-435B-8ADC-F83457B2A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E34E-2A37-4D47-900B-131D34D9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8ED-CB3D-4E4D-A47D-B50ADF18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D68-FA05-4388-9A6F-E2E5BBF6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176-09A0-4DB2-AAA6-1F562E69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103-8485-4D68-88F4-F02BE4B5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43D-8B97-4F64-8971-FB66F14D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36D-8B1C-41AB-A09F-77589595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4BE-CD79-4A89-9928-9C890EB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A39-6A35-437C-B0A3-8AE8877F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847-318C-4288-B5AA-3E8E99DD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2B6-3206-4D69-9863-C83FA30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9FA-FFF1-417A-8641-72A221C9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752-3195-4434-A132-703D54AD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6FAB-4C1B-4437-B177-2CE74C822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image" Target="../media/image4.png"/><Relationship Id="rId8" Type="http://schemas.openxmlformats.org/officeDocument/2006/relationships/slide" Target="slide5.xml"/><Relationship Id="rId9" Type="http://schemas.openxmlformats.org/officeDocument/2006/relationships/image" Target="../media/image5.png"/><Relationship Id="rId10" Type="http://schemas.openxmlformats.org/officeDocument/2006/relationships/slide" Target="slide14.xml"/><Relationship Id="rId11" Type="http://schemas.openxmlformats.org/officeDocument/2006/relationships/image" Target="../media/image6.png"/><Relationship Id="rId12" Type="http://schemas.openxmlformats.org/officeDocument/2006/relationships/slide" Target="slide16.xm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b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b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4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b5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4" name="WordArt 10" descr=""/>
          <p:cNvPicPr/>
          <p:nvPr/>
        </p:nvPicPr>
        <p:blipFill>
          <a:blip r:embed="rId14"/>
          <a:stretch/>
        </p:blipFill>
        <p:spPr>
          <a:xfrm>
            <a:off x="1103400" y="2120760"/>
            <a:ext cx="6980040" cy="206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20101001213158-828844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Users\apple\Desktop\slide0044_image0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5d51fc7-5ca3-4e7c-a6b7-6859772408c1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5029200" y="35053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886200" y="31240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258920" y="162864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468360" y="2133720"/>
            <a:ext cx="820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走了一个寒冬，我们又迎来了美丽的春天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春风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春水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小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蝴蝶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雏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枝头的绿苞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明丽的阳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田野里的小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迫不及待地向我们报告着春的消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34290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1979640" y="1844640"/>
            <a:ext cx="453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，摇绿了树的枝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，漂白了鸭的羽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盼望了整整一个冬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看，春天已经来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186520" y="37688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979640" y="3141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盼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26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7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28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32"/>
          <p:cNvSpPr/>
          <p:nvPr/>
        </p:nvSpPr>
        <p:spPr>
          <a:xfrm>
            <a:off x="1042920" y="1700280"/>
            <a:ext cx="69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换上新羽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蝴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牵引着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雏菊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开始开放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绿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吐出嫩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放射光芒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钻出地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5"/>
          <p:cNvSpPr/>
          <p:nvPr/>
        </p:nvSpPr>
        <p:spPr>
          <a:xfrm>
            <a:off x="395280" y="1413000"/>
            <a:ext cx="835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多音字组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iǎ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ī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ià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）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ì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112536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择合适的词语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      希望      愿望      失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实现两岸和平统一是海内外中国人的共同（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和家长都（      ）我们能健康成长，我们可不能让他们（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（     ）着能够快点长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97164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愿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708360" y="4062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564000" y="450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失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181240" y="54309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盼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dd"/>
          <p:cNvPicPr/>
          <p:nvPr/>
        </p:nvPicPr>
        <p:blipFill>
          <a:blip r:embed="rId5"/>
          <a:stretch/>
        </p:blipFill>
        <p:spPr>
          <a:xfrm>
            <a:off x="7885080" y="47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684360" y="1557360"/>
            <a:ext cx="7848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除了诗人笔下的春天美景外，在你眼中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哪些春天的景色呢？它们是怎样的呢？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春天的美景画下来，学着诗歌的样子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段描写春天美景的小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先小组交流，再全班交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042920" y="6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b1"/>
          <p:cNvPicPr/>
          <p:nvPr/>
        </p:nvPicPr>
        <p:blipFill>
          <a:blip r:embed="rId2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b6"/>
          <p:cNvPicPr/>
          <p:nvPr/>
        </p:nvPicPr>
        <p:blipFill>
          <a:blip r:embed="rId3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b2"/>
          <p:cNvPicPr/>
          <p:nvPr/>
        </p:nvPicPr>
        <p:blipFill>
          <a:blip r:embed="rId4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b3"/>
          <p:cNvPicPr/>
          <p:nvPr/>
        </p:nvPicPr>
        <p:blipFill>
          <a:blip r:embed="rId5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b4"/>
          <p:cNvPicPr/>
          <p:nvPr/>
        </p:nvPicPr>
        <p:blipFill>
          <a:blip r:embed="rId6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b5"/>
          <p:cNvPicPr/>
          <p:nvPr/>
        </p:nvPicPr>
        <p:blipFill>
          <a:blip r:embed="rId7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WordArt 8" descr=""/>
          <p:cNvPicPr/>
          <p:nvPr/>
        </p:nvPicPr>
        <p:blipFill>
          <a:blip r:embed="rId8"/>
          <a:stretch/>
        </p:blipFill>
        <p:spPr>
          <a:xfrm>
            <a:off x="1103400" y="2120760"/>
            <a:ext cx="6980040" cy="206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04920" y="260280"/>
            <a:ext cx="8135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阅读过程中认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冈、蝴、蝶、耀、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积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词语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装、山冈、蝴蝶、雀跃、沉睡、照耀、面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用合适的方式理解词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雀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感情地朗读课文。背诵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要求预习课文。能说出自己知道的春天的消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春天来到时人们欢快的心情以及对春天的喜爱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ck"/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2"/>
          <p:cNvPicPr/>
          <p:nvPr/>
        </p:nvPicPr>
        <p:blipFill>
          <a:blip r:embed="rId3"/>
          <a:stretch/>
        </p:blipFill>
        <p:spPr>
          <a:xfrm>
            <a:off x="395280" y="476280"/>
            <a:ext cx="8353440" cy="554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3995640" y="134136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  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你喜欢的描写春天的诗歌，和同学开一个诗歌朗诵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2196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1"/>
          <p:cNvPicPr/>
          <p:nvPr/>
        </p:nvPicPr>
        <p:blipFill>
          <a:blip r:embed="rId5"/>
          <a:stretch/>
        </p:blipFill>
        <p:spPr>
          <a:xfrm>
            <a:off x="2241720" y="476280"/>
            <a:ext cx="457344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684360" y="76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学乐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1187280" y="2133720"/>
            <a:ext cx="71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95280" y="1773360"/>
            <a:ext cx="8748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感情地朗读诗歌，学习其中的生字新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找诗中描写了哪些春天的景色，并完成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的填空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走了一个寒冬，我们又迎来了美丽的春     天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及待地向我们报告着春的消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7"/>
          <p:cNvSpPr/>
          <p:nvPr/>
        </p:nvSpPr>
        <p:spPr>
          <a:xfrm>
            <a:off x="971640" y="1844640"/>
            <a:ext cx="684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āng          hú  dié             yào                j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冈      蝴 蝶    照 耀     面 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755640" y="112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一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258920" y="1844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entury Gothic"/>
              </a:rPr>
              <a:t>gā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6877080" y="184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entury Gothic"/>
              </a:rPr>
              <a:t>j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971640" y="4508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指的是较低而平的山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971640" y="2924280"/>
            <a:ext cx="691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iǎo                 jīn                                          sā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 白     禁不住    雀 跃     搔 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201034215847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20100620004124412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3768050_20573506547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600360" y="285264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春天的第一只蝴蝶飞来了，我高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地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067280" y="3933720"/>
            <a:ext cx="4897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pple</dc:creator>
  <dc:description/>
  <dc:language>en-US</dc:language>
  <cp:lastModifiedBy>lbx777</cp:lastModifiedBy>
  <dcterms:modified xsi:type="dcterms:W3CDTF">2016-01-21T18:39:50Z</dcterms:modified>
  <cp:revision>57</cp:revision>
  <dc:subject/>
  <dc:title>PowerPoint Presentation</dc:title>
</cp:coreProperties>
</file>