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NIGHTBUG.WAV" ContentType="audio/x-wav"/>
  <Override PartName="/ppt/media/image6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notesMasterIdLst>
    <p:notesMasterId r:id="rId74"/>
  </p:notes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  <p:sldId id="264" r:id="rId83"/>
    <p:sldId id="265" r:id="rId84"/>
    <p:sldId id="266" r:id="rId85"/>
    <p:sldId id="267" r:id="rId86"/>
    <p:sldId id="268" r:id="rId87"/>
    <p:sldId id="269" r:id="rId88"/>
    <p:sldId id="270" r:id="rId89"/>
    <p:sldId id="271" r:id="rId90"/>
    <p:sldId id="272" r:id="rId91"/>
    <p:sldId id="273" r:id="rId92"/>
    <p:sldId id="274" r:id="rId93"/>
    <p:sldId id="275" r:id="rId94"/>
    <p:sldId id="276" r:id="rId95"/>
    <p:sldId id="277" r:id="rId9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notesMaster" Target="notesMasters/notesMaster1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slide" Target="slides/slide9.xml"/><Relationship Id="rId84" Type="http://schemas.openxmlformats.org/officeDocument/2006/relationships/slide" Target="slides/slide10.xml"/><Relationship Id="rId85" Type="http://schemas.openxmlformats.org/officeDocument/2006/relationships/slide" Target="slides/slide11.xml"/><Relationship Id="rId86" Type="http://schemas.openxmlformats.org/officeDocument/2006/relationships/slide" Target="slides/slide12.xml"/><Relationship Id="rId87" Type="http://schemas.openxmlformats.org/officeDocument/2006/relationships/slide" Target="slides/slide13.xml"/><Relationship Id="rId88" Type="http://schemas.openxmlformats.org/officeDocument/2006/relationships/slide" Target="slides/slide14.xml"/><Relationship Id="rId89" Type="http://schemas.openxmlformats.org/officeDocument/2006/relationships/slide" Target="slides/slide15.xml"/><Relationship Id="rId90" Type="http://schemas.openxmlformats.org/officeDocument/2006/relationships/slide" Target="slides/slide16.xml"/><Relationship Id="rId91" Type="http://schemas.openxmlformats.org/officeDocument/2006/relationships/slide" Target="slides/slide17.xml"/><Relationship Id="rId92" Type="http://schemas.openxmlformats.org/officeDocument/2006/relationships/slide" Target="slides/slide18.xml"/><Relationship Id="rId93" Type="http://schemas.openxmlformats.org/officeDocument/2006/relationships/slide" Target="slides/slide19.xml"/><Relationship Id="rId94" Type="http://schemas.openxmlformats.org/officeDocument/2006/relationships/slide" Target="slides/slide20.xml"/><Relationship Id="rId95" Type="http://schemas.openxmlformats.org/officeDocument/2006/relationships/slide" Target="slides/slide21.xml"/><Relationship Id="rId96" Type="http://schemas.openxmlformats.org/officeDocument/2006/relationships/slide" Target="slides/slide2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dt" idx="21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body"/>
          </p:nvPr>
        </p:nvSpPr>
        <p:spPr>
          <a:xfrm rot="16200000">
            <a:off x="70920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 type="ftr" idx="21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 type="sldNum" idx="21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42D-F040-4245-87C5-E935A6AE76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sldImg"/>
          </p:nvPr>
        </p:nvSpPr>
        <p:spPr>
          <a:xfrm>
            <a:off x="138240" y="766800"/>
            <a:ext cx="6823080" cy="3838680"/>
          </a:xfrm>
          <a:prstGeom prst="rect">
            <a:avLst/>
          </a:prstGeom>
          <a:ln w="0">
            <a:noFill/>
          </a:ln>
        </p:spPr>
      </p:sp>
      <p:sp>
        <p:nvSpPr>
          <p:cNvPr id="31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等线 Light"/>
              <a:ea typeface="等线"/>
            </a:endParaRPr>
          </a:p>
        </p:txBody>
      </p:sp>
      <p:sp>
        <p:nvSpPr>
          <p:cNvPr id="3158" name="灯片编号占位符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C623-BFA2-45A4-91AB-D5D8EADB0C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sldImg"/>
          </p:nvPr>
        </p:nvSpPr>
        <p:spPr>
          <a:xfrm>
            <a:off x="138240" y="766800"/>
            <a:ext cx="6823080" cy="3838680"/>
          </a:xfrm>
          <a:prstGeom prst="rect">
            <a:avLst/>
          </a:prstGeom>
          <a:ln w="0">
            <a:noFill/>
          </a:ln>
        </p:spPr>
      </p:sp>
      <p:sp>
        <p:nvSpPr>
          <p:cNvPr id="31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等线 Light"/>
              <a:ea typeface="等线"/>
            </a:endParaRPr>
          </a:p>
        </p:txBody>
      </p:sp>
      <p:sp>
        <p:nvSpPr>
          <p:cNvPr id="3161" name="灯片编号占位符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E55-DC58-4E0C-8A9F-3A5A1F420C22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BFB-7B54-4FCF-8B5E-D85714CC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537-018E-4C65-9FCD-D9702FB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D9636-CD8E-4EEF-8F60-B477F0C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91011-D663-40D2-95E3-1C76431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7A78E-3D76-4C1B-AD7A-290D035F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809C3-8A81-407E-8177-C599B563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81630-E9BF-4D5F-9332-84EFFA5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5002E-8DD3-45E6-A4D1-D1C2615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6672-A569-43F5-9B31-7D0786C7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1C05-A822-45DA-9D65-007101F0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47631-34C1-4BC1-8886-F2B27DCE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C314F-75E9-47A4-934E-54D8C57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BB0-F7B6-45E0-8F32-340E65A0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4C653-4403-4889-9585-21D5D32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FB367-7E8D-4638-83A2-2D52633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6A093-8AC5-41D9-9DC9-089A6EEA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AA9EA-B3B4-409C-A3B2-98050B53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5E02E-58CF-4F16-84A8-0702A44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3622D-A4F6-471C-973D-4933253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3A584-4D89-42FF-B99E-46622D3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53F2D-8A4F-4AA5-B088-D81B621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00527-8464-43F7-B0D6-51CBA03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0FA2-C25B-4D94-8462-D100CAAB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452-DCAE-4451-AD5D-A08D9DE4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38B30-5551-4336-AA2F-3286ED9E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C6F6-9A28-47B7-9A2D-2864C715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2D35B-0690-4FA8-800D-DE02506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4C7A6-1FF2-49B2-8CA4-2A80113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9DE9E-3B60-4D0D-8019-98C8844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AFC5E-B28F-4C69-BECB-D312BFDC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C038D-8F6F-4C12-8742-193DACC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AD3F-A907-4F7C-A8C8-C285C78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51FAD-1805-4773-B582-E154C8B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0AC4E-639D-4E30-BA26-4B391AD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F567-DBB1-42FC-8F87-CF59ACD9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4AD03-419C-41C4-AFF8-0599E6D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074E-BF78-41D7-8E76-BC83C834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45A90-DC95-4587-A62C-ABA6DC40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44C2C-9B86-4833-BDEE-177B886E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080E4-F4AB-4B67-A618-3ACA11E5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2CC4-EA3D-4F2D-A2B4-A835FBC0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D3893-BE88-4DFB-A085-395E1E7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450B2-6EAB-47EF-BFE6-5A2D00CB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2DB6D-421E-480A-97AE-E92F26F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97E2-C83E-45B7-9DDF-078F55D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43E-CA09-4083-8FCB-787B321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C2869-DAD5-4FC0-98F6-F73B94D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1A9A-1758-4713-BD68-39AED9C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4B240-F14F-40F9-B348-72FF833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91050-E9EF-4E8B-A25E-9137D2DF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2E6DD-B441-4E9B-BD83-46293288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9B208-2381-4F2B-8158-38781D85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37F37-C9F0-4199-A305-4A2313E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86D4D-C123-411F-8728-E8027A3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103B4-4AE1-4D1A-98A0-934774A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A983-0950-4407-B7C4-4D2F4F95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4FA5-6765-4918-858A-1517894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02B45-DECF-4AF8-9B12-5A93E48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1DFD0-09DB-49D7-A4E9-279C60C8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BC15E-2ACF-484D-8D12-7F1F15A5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5DD97-A4C0-4028-AE33-9131FC2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10BC4-D8EC-48C9-A291-A3509DF2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7E0D7-66AE-40BC-A905-18C772F2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3FAFC-ED8F-44C3-9045-68FE8B46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9E17A-1C9D-4B6D-8CC5-2DD7731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1127D-F32C-464A-89E0-4CFD5245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C398F-D140-48DD-A766-ABC9475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8FC8-0D02-4FCD-8476-F3F6D57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027EB-45F1-4B4F-8B3B-F178841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48B7F-F898-4BBA-A1CF-A6A09841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7D176-8DE9-4869-826C-EDAAAAAF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82E1F-AB54-46AB-BB09-89CC4C19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58D9D-7FFC-4FA9-B740-2E94E6D6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082A3-7BE1-49F4-9A97-772969EB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0E446-8615-4A58-8B5C-833F611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1C19E-7F2E-4DA0-9B5B-5B3F8D9C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BED47-1BCB-43F3-9688-1A79C14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4124C-4250-4926-BFA5-521CA84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16C1-C207-4A83-9FDE-649D65C0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740C9-5C22-44F2-8ED6-00E282C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8D11C-398F-4BD2-B48C-E1499B9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F7172-9947-454E-B6C1-E642F2F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832C8-EDF5-4FFB-BADA-90E5358E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8947A-195E-4616-9E11-567C661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E6EEE-A8BA-4BD8-AC6C-3DD0B0D0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482BB-BCA8-474C-B8F0-989CB31D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6BDCA-24E1-447F-8075-3206C75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53790-62E0-44C9-A42F-045E0DC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EA2BF-D4AB-48AE-93F5-73F8E44E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B89C-4E62-486C-8FB4-C08CF38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7403D-F385-4CF3-A576-0D520CDD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529DC-79C5-4B7D-811F-2FACD185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2D656-99BE-4C09-BAB4-E25DC4E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93CF1-EE4A-46BA-93B2-0AF9AFD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E36FE-3A56-4690-96AA-EE81EAE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C38CF-DA52-445F-9635-611D8AFC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FFA8A-B9A1-41BE-A848-2DE199D5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6D18B-5BE3-4C3A-918D-13EB6CE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7ADE0-CA19-4774-942F-828DE01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E78E5-8CC1-4A9C-8B47-C133B21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7CB9-5DB7-41E9-8EAD-A92FD0DC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4AA50-B410-4713-BE95-96F5568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CDCBD-1F45-4CB9-BDB8-EA0B454C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EBBA2-85DF-416A-91EA-3ADAB51C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A2D0F-394C-4607-A038-A524D833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B1646-B959-4466-BF9F-4C779B5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8E41E-A662-4512-9BA2-E0CF0F6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DFA52-30A2-4DE8-A08C-9737281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29A7F-0831-4565-8FBA-DB8FD18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3A5D1-ECBC-4289-B668-5EE8A8DB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1E5A2-B673-4099-94B7-685C843C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690-1AA4-455D-82D8-A994EAA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F71D-2FB1-4EA4-AAC8-AE273F3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C1F15-3041-492E-8670-7B486F2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93589-C330-47FD-85B0-D0C5FCF3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DFE38-A10F-4241-B19C-5B421CF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267EA-623E-4858-A1E9-2C522FC5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CB991-0288-4C45-B2CE-0A6E2A32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DD3C9-5A3F-4FF5-B042-8329294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05A53-1C41-4AF1-B1D0-94654A6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E8F32-08D6-46B4-A079-791C9154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4ED3B-2311-4339-8693-6D7CB6B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B23D4-211E-4420-AEA4-5EC8550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D62-F6B4-4AF6-980C-A73136E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096F2-5BA7-4E9C-9C80-E009A03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C0BB6-D42D-4655-9D67-11E4A673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C2015-D1AE-4997-B63F-D0FD013A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483C2-5321-4773-9139-B511B19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407E1-80E4-4D65-BCF4-C470EF3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35582-613C-43C8-A309-582F9D61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7071B-A052-46DC-9735-E05F89A3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57E32-8F8D-49BD-9599-B23CEEE4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65E3D-92AE-40B8-8B21-ECBC179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49499-017C-45F0-BFD4-D635F64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F7BB-0C51-4A16-AE9E-66CEB7A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5E65D-F799-42A0-AD2A-ECAF21FF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E1BE9-1C73-4170-A055-5650D528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812FD-9F86-4C24-A85D-9EB35E2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73284-9E46-4986-8152-8557380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B5501-7DD8-4065-B746-F89F33C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49EC8-4D82-42FA-B0ED-B2F418B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79F97-854F-47BD-97A4-F17DBE0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132B0-F3BE-4F97-8C64-BA585EFF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A4320-108C-4AE1-BD3D-A2BD74C9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B048D-B5F7-4268-A929-490709D6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3CF1-6300-4894-8BC1-591DD122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7C58F-43FA-4B3F-81EE-32C51EAD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9CE559-2413-467B-A1D6-DFB3BCA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B15A1-AC3E-4B0F-99BA-6EDE2F2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1C808-45BE-426C-92BC-83225A0E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7C7D2-A447-4671-A995-A4703991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93447-CE3E-4293-929C-A97FCB5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5DFB0-C3C7-4FBA-AF27-87FB8E7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5E339-1E9A-4C65-A1A3-6804DE7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35B7F-C699-409F-BD2C-3AE256C9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C1E10-886E-4AA4-9C32-33B5FFB8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96C3-78F9-4E19-9641-765853BA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B5582-0C20-4270-AE16-3234092A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2FA92-E7DD-42AF-8319-9CC8D093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316F7-3350-46DB-BBE0-AB6A5C6C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82890-326F-45E4-BA63-BBAA23C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1725AB-4269-450B-B5FD-F373296B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F3330-BB48-473E-B043-521AC81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565A5-E327-4681-AAEB-56F8228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1469A-E070-4B74-9351-6804CE7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B23B1-8226-4DA1-B680-9E83682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E1C46-E6F4-44D4-B8E5-6F4E82C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E889-EE5C-470C-BD5A-EB5A1A8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FFD44-F59C-4E33-9F58-1CDA3A9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82549-E204-4DA9-945C-D2F5495C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22390-80BC-44F2-BC2C-2F3F2A90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4B2BF-806E-4F8E-BF5E-AAE4A35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00109-45E8-4578-B6B7-4DFFD6C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7067B7-6CBB-4224-8E11-547B764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0B219-19BA-4F16-9465-3D763984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849869-909D-4ACB-9601-3660489A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0C678-582F-4229-9A99-020DF07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2111E-790E-46D3-A688-DCC345E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A25F-3CB4-48BF-9C3E-A25AA8BB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3CF0F2-DCB4-47E6-8279-FEE6DA8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A7813-04DF-4D1F-98D4-7C8F034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970821-9879-4527-981C-023516E2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A8F76-0283-45DD-B941-63CBD3CC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F0F61-554B-4A60-BCF1-55CA7F58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955A1E-E962-4BB7-96A8-809F9A8D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DF01D6-3F0F-4775-8FF3-6BCD1EC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B82A8-5F90-4BEB-B8A3-29E6F8B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3A6696-F2F2-4FC1-858B-0C55BA18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888EAF-B1FC-41B2-8B4B-006CF46C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FAE9-3070-48EC-9BBE-B4BDDF94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FF993-BD8C-4716-8E56-DFF54CF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0F8BA-7C00-457F-ACAF-36D8C2A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954973-B56E-4949-A35A-F1BB595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E39901-4E3C-465A-B1F8-51859FA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A2884-3538-413E-8279-9E34868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98A9B-5D35-41AF-9EE6-B444C76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12F8D-EBB5-4057-BB24-F52A567F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D9C020-8EDC-4F6A-B707-A2662E3D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CFB90D-C14D-46B4-BB78-555E6DB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ED0ECF-C790-44DB-A66C-6E9A2217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36C8-90CB-4BC6-8066-93E4190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9D7541-3E78-4291-B2F7-848C278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A1101-47EB-4D98-9D3E-2ACE09D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F047A3-A9A9-43B8-BC09-906BCB55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C572D5-93E9-43A8-9149-9D1E1FB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7A0BA-86C5-4269-9DDA-0229576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6617BA-F1A9-40F2-9A36-B432F3A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D5E34-076F-42CD-B670-F60A05AF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49A309-D3FD-4C26-9191-89801F17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23468-A5A7-4F0B-AE47-AB34F97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22E70-9858-404E-8D4F-BC181AB9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2A07D-ED1F-449A-8BAF-36E4F71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5805C4-7E5A-4000-AA29-7691208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E8816B-4795-4775-B890-E0B7719E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1DD872-CD36-4097-8B3F-14B1C2A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395FB1-1569-4AC1-8512-5D4DDFFF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3BD39A-793D-4633-BB1D-7CB1344E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8EA9E9-9221-41DA-97AE-B856BAD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A53DDB-9954-4756-AC6A-1DF17E1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A9A79-BB33-4AF1-A37E-63E11E4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DEA6AE-2933-4CE3-8B08-DF56345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4B115E-8C7F-4236-8017-8CE94AE4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41D-744B-4675-B3B4-24088D5B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45BC-3435-4BAC-A753-46207FDB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3C5939-7023-4E95-9EE0-B54304D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AFD233-7572-44D3-8AFC-368F0D63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01C7CD-3DA4-449C-AE21-C0EF3E4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79E1C4-A1D4-4E07-858A-9F11BDF1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EC3E9D-1CCD-4255-8427-0D150504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D37D6A-8C9E-4152-9F5E-BC139B1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D14358-3FEA-4E87-811D-B87878B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BDA0CA-C6AF-4B64-83F0-922B5F7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4BDFA-FF3B-4A4E-87B6-DAC110B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9F77B3-96AB-4F13-A547-B4DCC2C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10D2-912B-46A0-96A4-3241B43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481BE2-798A-478D-B972-382E8ABE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8FCA6B-3D3C-4525-8FB5-8BD584AD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90930-851C-4238-ADA1-6166EB48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798DED-5AE9-4D1D-93A1-DA9CC352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0D736-8B8D-4E85-BDB0-DCC09CF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B291A-C6CB-473E-93F6-EA10E901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170261-0EFC-4CF5-9885-D8EC870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FEB354-816D-41AF-8D5F-9403D7EB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66DBC3-C6E2-43B5-A15B-DD392E08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47C323-2F64-4AAD-A51E-8D80F20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7B51-5848-40F1-BADB-B6337D0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9D5D63-20C4-40E6-8D4E-74D312A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2597D0-9CB1-4E53-BCFD-EB9E8A4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3D2533-4B16-4FC0-9B55-8458DF57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A085FC-DC43-4372-8EB1-E744FBB9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55BE8-277B-416A-9644-17710EBF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CBB84B-05CB-4DAD-9815-281478C6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D84459-BF8A-42B3-8B8A-BD1E1EB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397997-E449-4D5A-B7C9-6ECF59F0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707447-62E6-43D7-BE45-A3F2550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139244-5F03-4235-8F99-BF1A2E1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14FC-A9B1-43A6-BCE2-9B92E9C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5409EF-BE18-41B1-94B2-9A31FE0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D2C2B-BFFD-4357-A8A8-C3E1AB8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C129B-23C4-47F3-8C15-5AE6421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6A4715-5E8A-4177-9995-9E70CEC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1A8476-78CE-4471-B871-81DD0F0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0DA35A-57C5-4174-8AD6-F63A73F6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2DDB8D-B15D-4F1E-81E3-FF2E73E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CB00739-3C69-4EB7-B96E-5FEADB08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A5AB5E-53B6-4D97-AF0E-44FC95A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145AB7-3F13-4BDD-9C84-67640ED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17C0-9D39-4A71-8276-97D322C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A0FD626-F6B7-40FA-AD38-B174C75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09131A-ECC0-493B-8465-ABC724BD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467298B-B838-47B0-ACF4-31A9C82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AE3954-5B0D-41F1-BFD5-AD63F95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F07A87-611D-4203-9F3E-BFD365AC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6AF463-749D-40CC-BDBC-35BFD9A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E41387-ED06-4478-A77C-F52A8F87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ECCB12-4CC9-4EFC-8439-1E884276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4CF76C-68FC-4F10-B842-052E90C7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3B0D0D-2B7D-4CBF-92D4-FD60C0AB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7458-A5A5-4434-B49C-2AABDB22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581204D-4358-4CB2-AF3C-D0ECE8C1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F34C19-329D-407B-AE81-7DB37BA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F8210E-6311-4EAB-B855-123F1F4B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59E43B-D92F-43D0-B3A5-68665F8B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54552F6-9A83-4855-963E-8387AD6E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7406879-DD77-4CC8-BA55-6D447D2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0D9935E-16C2-4DA4-9282-7CA42AC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689FA03-1DC6-4B13-AB22-6CD2D40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81E6D69-0B80-450C-A7F0-C418A4B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B774D8F-4116-48C3-AD80-A3A082F3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75A3-DAF5-4A46-AF91-A27ADC1F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A0EE11-0951-460E-8C22-0AE2872C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D440EA2-C117-40C9-A4CA-8691141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08559A-6A4F-4395-B45F-41EA088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E033206-1075-47CE-B45E-854DC45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919CA4D-7545-47E4-88F3-DD9F0160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BCAB414-7711-4B20-AD4F-C99B851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8EACE42-364D-486D-83E8-8BDD4B7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01A44DE-2390-44C6-BD9D-83AFAE2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22A5E3-10D8-4EC1-AC40-8840392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62A5D9B-F0FA-4E18-8998-BD2C063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FF9C-C430-482D-89DE-8350E19B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CFB824A-9BB0-408E-94C9-CDE92A3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C3E343-36BF-4771-AE2B-B7DA5F21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FB453D7-BC83-4E48-84A3-5D631182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06D4967-6F48-42EF-A736-F7E1AB51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07FFCAE-47E7-4004-93E9-97F26E8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F3DB3CE-62D9-424C-8D6C-86D31EB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20C578-38FF-497C-B337-AC416D2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8646D3-3736-44E5-B08B-91A3709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DF17772-BD04-41DE-BB29-D73D197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A1C0644-1225-4416-B520-7593E47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87FE-6C39-4E29-B847-172F316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23A0EDD-3D3C-49CE-A0E9-036D64D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7E38B23-8933-4872-BFCE-A9E91EB8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AE9865B-DB34-48F9-944C-BA53E73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BF1AC97-9748-40DC-98D5-57E29D40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B60A12A-4F81-48A0-9065-F2DF7654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B148A6-401B-4329-A7F4-1FF15B45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0C83E3-2250-4522-9443-1D9F3C9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BC8329-CE03-4AB3-8B54-7D76C44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470AB1-11F4-419A-9958-783678FD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4AF3F4-D1ED-4B7F-8BCC-D4B5A8F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6CD3-6DDB-4605-830A-E537F02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BA8885-BF05-4EE9-9350-CE098F7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0918B9-7252-448C-92D7-E3025841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ACDF7E-4001-405F-BEEA-772EEC3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115594-DBFE-4510-8005-1CEEF3C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CEB691-09C3-4E19-ADE0-2D3EADF1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06EE04-9558-4699-AD70-495D857A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0F32F4-1547-4C5C-AFCE-D75AE7AD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E3CA9A0-6488-46B3-A7D3-ED88685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773BBE9-CCD1-4BD4-87A7-E8FEA82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0D31FAA-50C3-44AA-AAAD-689347AD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935-09E0-435F-93EF-08A0DFD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1BDB8-765E-4E24-AF60-241CD94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EE257A5-7374-4F87-91EF-348D0F0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CD8FB49-5802-4356-9281-E9BE687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8A276E3-CF76-408D-A95C-FC8F131E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1DB49DF-3B28-4599-B2C4-4045102E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068D52B-4AE4-406B-BCAF-A119DD4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CD737D6-F4D6-48A3-910C-1EAA6CE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31AAED6-5876-4110-AF24-814CD98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7F6455-659D-465E-9DAF-61021B84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9046C5A-A83D-41D9-BB86-7FFAA7C3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65FD99-5D7B-4B0B-B419-A9486531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2F78-D3A8-4381-A0A1-79122B1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667BE1-CFE0-4A61-B985-3452F42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CD5EC3-900B-4085-B624-63D2A71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2B965AD-98A3-43D9-8E19-9F816A6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E7CEF3D-C49D-4AD0-806D-814114C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7DF8EAE-1BA9-4BEC-960E-788E8C5E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4F0D878-440F-4BE4-AA06-4FF6143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F65933-8114-470C-8D6A-2D04943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8E4819E-623A-43B8-A1F0-419FE65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09C9B1-1D58-47FB-85D0-C35E992D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2940F6-5755-4898-B403-A21647BA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300E-B034-46E3-81AB-6C36E7C5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6B088EF-1455-442F-8572-1A78943A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A72982E-F33B-46BD-A69D-F232FC09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E466964-EB7B-4062-B9C7-0E70B9D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A4F018D-A587-4C79-8A85-C3C0787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C4C2802-486C-4600-B230-EC93F08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008AC6E-E245-442C-B19D-18679476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01E0ED-E534-4849-81A2-83DF3E90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865F721-543E-456F-9CDF-9C92306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DCD6D53-331B-466B-8B70-F00778B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B6D2067-3417-413A-8651-5F31C93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1CC3-6FA9-4761-AE41-8E50E95D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3CA66E-FA40-4175-99D1-75556146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E659529-D8A2-4CD3-BDC7-BF1624AD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A10A8EF-9BA2-465D-9868-F38DF344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9116D1-8482-404F-89CC-1C30D8C0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6A3269-4A44-4708-AEF5-A843EC0E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B7EAF3F-ED7A-413F-821A-91050FB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C2C1AE9-642D-4109-A75A-E8E6144D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295FC1-C2AF-4AE9-ABD8-8306D33E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53811B6-836B-4493-ABA5-6A91EDA8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9317BF-CCA2-4336-920B-AA07040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0010-A579-4875-81D0-3967B86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3842C4-6661-4FB0-8B33-3708849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A174CE9-5049-41F7-97BF-96C5C68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5AEB027-978E-4743-AB43-BECFED4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773B3F-93AC-4CBB-B506-476AAB1D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A5460F-AC2F-4570-96E2-3ED2D4BA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C4ECA93-7663-4546-BC86-7330C240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4E110F8-364F-404E-AB68-986EFB3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4A30495-07CD-45AA-BF69-741CBD7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275AD90-31C2-49D7-BE77-02360FB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3B18E74-5C17-4AD2-886A-2481F307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179D-27CF-4FC9-8C04-FF7E8CE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168155F-6604-426A-BB74-13C0BD2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D180331-509E-4C4F-9E0A-70D6B408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1CF61AB-78AF-4456-9A7C-A451D93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2C9F7AD-33BD-45AD-9698-DE2F35A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4EE0FAC-84D6-4F39-A810-6A37A87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CCF6F81-0A9A-4EDD-8F1E-C3EDB626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1DA5072-1AC3-4264-909E-8B8E7ADE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7422791-DB19-4CCF-9F80-9E347AF2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2D9C453-0C3A-48C9-8CCD-2E5C82A5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7E7F36A-4529-4410-B03F-4C105F76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5949-0D40-403D-8145-97BD2D6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C4E822-B5B9-4C30-923A-A81746B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EE9CC7E-C055-4A90-AB21-F150508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BAFC885-E056-4352-99EA-AD2C969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31D4158-A6E5-4827-80F1-ACB7BDD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E2AB05-4F9F-449F-9EB3-2DC0743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7EF4F7-6BE5-4241-BA7A-C06FBB6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F53A558-26F1-465D-A246-F1CE118B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A8F2E4E-EDC4-45F4-9F1E-A4F8BC1E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1D7AB61-D1CA-426A-AA01-8C7B6CBF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0D1032-BF14-4F01-912A-DD1B1F5E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7797-7D72-401B-91D1-53AB73E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800275-35CD-4869-8E75-645D11E2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C7F258-4FB6-40CA-B6DB-CE1ACD89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E082BF-6360-4EF0-9F63-BF351E32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E5DF8C-3F9D-411B-9748-D8F34EA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C3E19D-0596-4A8B-88E9-D7C1825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0D6401-A32E-4C84-BEC2-7890C49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018B57-D589-446A-84B8-AB1BA695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EAE5F3-BFD1-466F-B9FB-3AA8C48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181CDD-61A8-41FE-A5DD-845FAEE2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324AA9-1E09-45EB-869B-44D96C02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4B6F-2E83-477F-BD23-FF3807DE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B80DFE-62E9-431C-A3C6-139993CF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5787AD-2DA8-4D74-96B6-101F082E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1FB58E-ACF8-496D-935B-B741DD1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5B2AAB-A2F9-458B-865D-E803B8A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01870E-9B22-483C-9203-2CD54F7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7481FC-AA9C-43D8-8D2A-A227B86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30B3E7-32F0-4781-9D71-74B0EA9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19C591-83AF-4BA9-AC4B-2D1568E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7BC978-00E9-472E-BAFB-D3F9774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ADA8E5-E13C-4D33-9DD1-8691164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41E4-7251-45F4-82C9-6124C5AE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F7F25C-93EF-45E6-A912-98022FB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DC8061-C868-4F7F-BEF0-3625406D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73483C-073E-4F47-9A1E-13A03B45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9D2788-2CE2-4881-A7F1-5C99276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CE3A3A-AFF6-4F19-B8A0-5AA48633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57BCB6-87AF-41DA-B7B5-6EAAD56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EE51B1-0CB3-426F-892D-40BEE2BB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FC4CB8-B674-48CB-8681-ACF5D3A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57EE19-18EB-4617-A6CE-9F494A2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2E113D-512B-4D38-ADB8-7C86C62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95B-4A52-4AAE-B6CC-9965B0B7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6DE2-204F-4F58-8FD6-5942DD36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34432C-0919-4823-9490-AFFA042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AAEEEB-1F3E-4145-B02E-9A6FCA04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141D87-6ADE-4E9C-8188-12EDC30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3931C7-AC50-4DE7-92DC-F3BFBBB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C702DB-C05B-4A21-835E-25BCDBEA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9DC3A5-01A9-4C42-81F3-56A3CA6E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289BE7-6413-4E81-AB1E-FEF99DF1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0E3F53-425A-4E43-AEC3-CA31617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0995AC-8E10-420F-9EE2-2F1DFD56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EB3CB8-2C0F-4298-B7E8-BCC9ABD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D301-4AC9-4007-964B-8576D299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5CF9D4-2F12-4B62-A849-1847D06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7E0190-4191-4E00-B7B0-BEC0D7D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6D8C1F-B2B4-4631-9A4E-D3078D54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D5B125-563C-4C70-8748-0FE53E8C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973904-4B0B-446F-8335-2169309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FA7D4C-B3B6-4605-9429-51488F10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EE9F0E-B0F5-4640-9F99-D2E29AB9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19E0005-0873-4051-855E-AA16B273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95723F-D996-4FAA-A194-0EAE86DE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6607E9-7A38-4FDE-A77D-E6A3E74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2A11-3C82-4A08-8CF8-858BA81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98926D-EF8E-439B-8637-FA59F93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03B299-655C-46F0-AA86-85EF330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FFA037-C44F-4696-B30C-2070492C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EACD90-9937-40AC-8275-3863012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FE0478-B8D2-4931-B938-DF1FBB57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5073BF-608F-482D-B6A2-A92839F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9C83DF-5021-4B77-BEDE-EEAA2DE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2FC692-C6EE-4F94-B115-3C633442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C8C0B90-8701-4FE5-B5EB-E7E4522D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0F7B93-4C72-4162-AC90-0FC78C0F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86D7-0A15-4FE3-8982-C0791E74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D096A9-9E5A-4C28-B210-4C9BA58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94B3EF-EB6A-4D89-A202-265CB59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6C89AE-AD13-4042-BE0D-1B609EE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A4527F-931B-46C4-92C5-5BC377F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4D7F00-AF7A-4884-AD11-0AF54CF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5021F0-7844-4BC6-83D5-8A93837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FD9DE8-E27D-45AF-A17B-106889B3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EFD8BD-DE09-4550-90AD-F3B786B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21D330-1131-4069-8369-ADB94B0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1850D7-F62F-4F24-AE46-5AB419E6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388B-C8C5-4206-886F-510B770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FB36537-786F-496A-B0AC-65B1BC22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16DC96-1D7B-407D-946D-452AD77A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CDE479-DC89-4D7E-9A29-A805403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8ADEE6-8233-4DA1-83A2-B4416D6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A9AC85-A3CA-436A-A112-A5571A1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F6DB64-F09D-4D69-9E7E-8BF0A636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02B557-EFB0-49B1-B868-F8A510E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0EC111-AFE8-4A78-86C1-0C59B82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579A0B-2BE1-4ACB-BA2A-83A358A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C592D9-0CDA-4B98-997F-F8E3D66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F806-82AE-4108-A171-C8DE54F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C90C40-E1B9-46AF-9D6E-06083D1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56F8A7-0A6E-4116-B6C5-6D9315F8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7A2710-C2F2-4123-BCA3-29B51DD6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92582E-C8DC-421F-8296-E34D86CD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981AC3-C05C-4005-A8C5-CCA6111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BC4AF7-EB06-4D77-8D2B-BB9655D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13F699-EDCF-44A4-9B72-898AAEE6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B546C6-A8B3-4F6A-B563-FE54F3CB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56383C-68DB-4698-8820-E63C1B4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3ADA5EB-2C3B-4828-BE7E-8E372F2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2ADB-8EA0-4AFD-A4E6-43B84F88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63CEC1-05B4-44EE-931B-7D659848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CEF73D-2E1D-4F16-8F2D-13952B5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10A5204-4592-4E27-A4D0-27D2783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EFE392-1A3C-4EFC-89C0-FFF66335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B1B983-5387-4331-84E1-5AA6ACDC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21A877-B803-402B-9330-F8B7248E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789532-F1AC-447D-A560-E8204984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E64FDE-2507-4796-B487-8F4F2038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E42BD6-C0F0-439D-ABB1-8D2991B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1A352A-FD58-4412-B9FD-76E2EDD9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3F9CF-89F2-4305-97CE-8A1B8F5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E17733-32AB-4553-93D6-D089E8F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B3C3C5-45DB-4EED-AEBF-DB8B44F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131834-3E9A-4F45-8B32-ED277F5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933AFF-7FC5-4391-9E22-9F0B978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A17B21-B95E-4E09-A53D-6BB48DC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14EB6E-45C2-43D1-81ED-746EB4C0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370340-E4AE-43C5-BC24-4CF97E29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579EB5-8F15-4DE2-8731-4E00C973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D58F3CF-7BE4-4C42-AF5E-9DB83F1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22360E-455F-4E53-A1DF-74F3039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FA91-4E3E-49DF-9112-DFC347C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A1F9EA-43D9-4860-8C60-CDC0ECC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A330A2-11B5-4B0C-A15B-BF852DB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3FB36E-6C2A-4CF5-AC38-1D61D1D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766854-406E-4292-80D6-2A672B3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349D62-6DF9-478D-872D-2680AB4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CC40AA-DEE9-4DDC-965D-BF3617A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97F495-39F6-40C1-937D-ADD2EA1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9A516C-07C4-4BFF-9726-678E48F4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7633EC-0539-40E7-8F3B-D43E9D3E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A22FFB-3BFC-4298-B6E0-EBA9FAC1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F1A2-E33F-4417-A009-27B1D167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465BB9-85EB-42A4-ABAA-851B88C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D5D3FD-D91B-4427-B7F9-2555B38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25F33B-A41D-4D78-BF1E-C98B4D5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FDEF7E-98D6-4D70-B001-18940D10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885D22-FAA3-431E-B226-B3AB3E3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3477E2-7E67-415E-BE88-B8AD09B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745176-7EB1-4B74-A6C5-B0046AB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6DD7F0-F5D7-4F4B-95E9-A6809DD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C4CAC3-0C94-4743-95FA-678880E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0F3A418-E376-4C29-BAD8-9C7C30AB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752-9692-4CD9-9941-CC8C2EA2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748B-BA31-4232-B094-26889F20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D65F3E-2926-48A1-9F2F-58208878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168395-BDF2-44F8-ACA0-B6C11C0A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D6CE123-1E1D-480B-BD7E-E092F6A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EFC59B6-D290-4543-85BF-EBC693E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77D2D8-BB47-471F-A7FD-8675B82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954C6CA-8D0E-4564-85E4-166A447F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C3B5350-68A3-4ACC-9F0F-8C4D3762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6B28333-4C9B-46B9-A72C-A58E25E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2683842-E419-455D-9DD1-5F0562D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A597D11-DF29-461B-8B19-80D7BC0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3796-3E9E-4E08-BFBC-CC70038B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083E7B5-C53A-41E0-B08A-81E10FD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6AA019F-EC0A-4AE9-BAEE-C1A6ABF1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9C7B99-3BCE-4ED9-98FC-FA7717A1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56F8D0-07B6-4F41-9E5F-BDF4A403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23295F-1FE8-4D63-BB40-4A7D6693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A4A39F-8675-4AFD-BF81-CAF185F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A73E11-6335-4B1F-BD08-72ED659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FA3BE7-4919-4D14-83A2-99CE4180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3366C9-6AF3-45D6-A558-64178E5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7D98C1-A1EC-4A9E-A7E5-9432B31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3832-A93C-4B70-BDA9-FA44788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92E3F4B-4AC9-4ED3-A029-0A8E997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0DAB5C-2D48-4446-83BD-B07BD42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B4AED9-A928-41BF-AB26-FAE459C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278969-8ADD-42B7-9E82-49DCEE0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5E672B-40FB-4597-B0FC-33F156AA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EEDCC50-1F56-4F69-B592-9BCF4A7D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AF40E0-9016-49F5-B78C-347BD9C4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32F93F-4B70-4B5E-A60C-6FA6ADE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824D42-8821-4954-8AE5-FF961FD0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F56BA3-BD72-4E83-BFA9-1096B14D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4ED2-B590-4CB0-94BA-F98C8CA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CC9F31-F994-4040-A66D-3296E0B7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BBD04C3-D42C-44F1-B3D9-C6E7686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8D759C-6590-4834-B83E-EA01262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019B57-8534-4454-8EDF-1176DB5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842268-EA07-4E51-B3FE-AF9C1AB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D2640E-CBDC-4BC6-9B75-1DF6B43F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280B288-808B-49E4-B3E1-0B349945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5AA725-5D41-4CAD-82AF-909AD4E3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6708507-23A4-47B8-A65A-219F61DC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66ABA04-303E-491E-845D-E109569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20EA-EA2D-458E-8348-CC3CA61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6204A1-9E1A-438F-8284-36753EB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968CEC-2915-4AC1-A9EE-D847828C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58E932-6FE9-4F12-932D-695DBCCD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184A47-195F-4BC8-B846-949DDE9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97592A-0480-4208-89B5-695F76A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9EF2AB-9828-4A42-A0C2-D708177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E70D42-E8C5-423B-AF3D-9A86C35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CCF792-6C1D-45C1-804A-65693B65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9E3CB9-5EBA-4BA7-9DA6-AB9E7497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9814DE-C0A0-4C2F-9C49-D9121BAD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6BAA-C587-4F75-B0A9-E6CB72F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3F698A-568F-4838-B028-4448A146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1A8D97-349F-4212-A1F7-20DF4F4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09023F-D2F9-4399-9235-63DC377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87C04B-DA76-428F-BA77-5DDB55C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F59EE6-3C68-4ACC-A0D8-D1F8ED7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411D76B-BEF9-401A-BFA4-C359176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D54A1F-0223-496C-AC32-FE88B6D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BF3B9E5-5FA8-44F2-85B6-34A454F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A2CCBA-41F3-48DE-974B-CB0BAD55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605027E-1221-44C3-9D18-4E63A3DD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5A8A-33D1-4E33-B84E-E2D0CF1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C78D623-C8E2-433F-80EE-E670F5A8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77CE28-51EB-4BD6-99C2-A9889814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17B826-E779-470A-99B8-5482013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01EEBE-4E80-4175-AA7F-F1B6BD8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6E3E1CC-DEAD-4C3B-BC02-7BE2B00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8BA7A9-01D5-4C3C-AEED-278DF6F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B65357-9D63-42E8-A220-DD8E13F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0DAFF3-6C06-4D8B-8517-EFB81BE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2383EB-D75F-49FB-8068-51B7770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E765F05-F579-4A6A-84F8-D174F37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DEC3C-4449-4C55-89A3-6EB2478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7C57BDD-777F-4A4D-82A7-515DCF7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69BB1B5-B040-4D9E-9C93-AB58D2C6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2593AC-75EF-43DB-9340-F4C571E0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780E9F-91F5-4D30-8D51-BB587B16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AE9D9A-455F-4401-82C2-B2C188B1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238B2F-2DD8-4081-A3C4-04F33AC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13693A7-0850-468E-AD83-20656D3E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160230-0B6F-4678-9F27-D661D6F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D877CC-B69D-4FAE-ACD4-C6661E6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F82CC6-D726-460E-84C2-A7122CB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48E6-A922-4533-9CD6-564A39D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E800A0C-F507-42D4-A376-F4EEBDE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E8CFA8-B4BE-4DF8-848F-18A490B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0AB6D3-95A7-4C0A-A2F7-25C9334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3C60544-03B8-46F2-8D5E-83906CFB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5450D35-6D76-40B5-9DDD-766E294A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3CB32DF-7CAB-4F64-A534-7E5A4E4E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F5936D-2AB4-4BB9-90CF-C0FF255B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5EB1778-036C-4C31-9536-D7A035E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2A6FB5A-8A4A-469B-A51C-38BD9F5B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B60E1E-5059-46FB-AC4E-500B89E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8BD4-3F83-4A6E-A83E-8B6B82E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2FC2972-A8F8-477B-9576-1D173067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95D67DB-CDBE-4AB0-B30B-CEA052D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6CC857-86F8-47EC-9166-1EC6D9D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B5CDD85-ED47-4CBE-A677-4C66215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32ECF6-7083-42AB-A7AA-7E7E7C0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4DCE9A-57C3-4539-A2C8-0BF4ACFE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96195F5-0582-44BE-A037-EFAB5BDC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AB32CB-0088-4CC1-8361-7F4450FF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5C22EE-4B90-42EA-9BBC-67232B60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A23E992-ABC7-4C19-BABD-5DE83AB4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692-11DC-4C35-9025-97B7A029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4E4E-CA34-4A95-9042-9F11950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6D12048-9531-461D-B572-AEA1652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124D2C-3AC5-4296-A726-01890FE9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BFD5A8-BBC4-4CF5-9F3F-D3FDC0C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0A6B15-05DC-4653-87EA-0EFAFF2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321F544-DD82-42E5-9F0E-0832DBA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5E361D-E7A0-4E77-AD89-B70E736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445FAE-C81A-4342-B4AB-100A260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044D0A5-FDE3-42E3-B27F-93D6E63C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7813B7-3C08-47B5-A74C-BDC9A144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F59208F-F59D-4462-8480-6757F4BB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3D870-0E61-4ABB-A64B-734A19D6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873B97-C369-4BF8-B06D-C45E88F0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18B4ED-DF54-433B-B338-6E028CE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60F3090-33DB-486E-A167-C556C5B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76B88F-C3D8-4D2A-9427-83E8BAB3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EE6B28F-E22B-4329-9E1C-F6246CC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3225CAA-9F02-496F-A5EC-27EE8E1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BF739E3-1C1A-42C4-9172-57026FF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CD7397-1E15-41FC-A734-C2E4B28F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DF37F8-3C7E-4119-8E36-957F4181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63B3F5-B27B-4721-AB48-49618728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1F76-F0F6-41D5-9789-44FF01ED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C0AB5A7-9F5D-45C5-9BC3-944B114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CAF5B75-C1C6-496D-B590-37980419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9D6F703-2D51-430E-B521-66F23DE6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66A9AAB-F135-4EAD-A69B-24D4E0E4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6490B0A-97F9-41DE-8874-CABA6BB2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3A070B1-499A-4631-8384-9DE199F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5081931-05B4-4600-9392-525A4A65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4D5BA77-8817-43C9-85E4-101FCA3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65C36F-F3E8-485B-87CA-4140E1D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7F9213-D337-4D16-87C0-42F7EF8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DB69-C8D0-4B9F-AEBF-6A3CF2AF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B7B265-E2F1-43DE-90AF-461592D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D27DDE9-960A-4FFB-B000-C51AE565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346C834-3029-4728-AD54-91361027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275FF37-30DC-42D3-8B03-77BCE524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97FAE3-EB2E-4818-BE20-14E8373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902D36C-83A1-4B88-858E-013A753D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805DF3-971F-4C81-85DD-CEB9A67C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3422A1D-A998-4ACF-84A5-D96D7C2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9E1F0C8-A8D2-492F-9606-A0C7AA7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16C91BA-DAEF-49F9-BA67-638699E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BF52E-4F92-4152-8D8C-A1C9BC6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9763A80-6B27-42A5-9D1F-BB879FD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6B19757-D934-4039-BD96-E351B49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181155C-7CCD-47D8-8802-BC0BE0B1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AE31579-8FE9-4E97-B894-ECF5503B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0C911C-1373-48D5-9E5E-E9A6A3D1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C85B9E-9F7F-4D70-B51C-34720359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7D59148-3697-4022-ADAA-9C55143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6125F36-B6C9-4F8D-A1A7-859445A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7A6F912-CD27-4931-9BB6-3722A53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887E78-D2DC-4402-AB3C-26C2BBBA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CB7D-975B-4B38-98DE-9175408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FA21C09-3500-4081-B5B8-2FD63F0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1955FC4-AE47-46C6-B0B3-12AE352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BA6BA0C-D50E-43BA-99CF-56FFC5B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77FBFC7-6F17-49CA-8B6E-56FE21C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E131EB7-093F-448F-9028-15836AF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55CD4EE-45D1-4EB5-AC2C-8D7BB65B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D26214B-AA71-4925-94B8-6A05ECD8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882D97C-D033-4E4E-819D-DACAC41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2848101-493C-4377-9DF0-174559A6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FC414FF-CC72-4CAD-A6AE-201E0EA5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CF90-61C1-4FD5-BABE-ADA2DA5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60593C6-0781-49AA-8101-5B09319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B276A11-2F53-48D0-959F-9087A80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1A24252-E704-424C-8484-1F27432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83B83C0-21CF-4A83-AA22-76583CA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751F32D-4E7F-4267-B711-F8E2F31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ED95E1B-2DDD-47ED-8379-8E991E1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7DE63A6-4FFE-4AC3-B249-A874569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0DD262E-C909-4966-88CE-D125FFC3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4F95525-5C52-406C-8519-19D20745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64FFD9-63CF-444C-97A5-00590894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D9590-7263-4361-B7C0-E976DC2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DAA6029-BE3D-4627-B8EB-6B47100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D67D9C-8164-40D1-962D-1F7ADBC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C12869A-41A5-4E3D-B634-5F3B0C5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3E82C0-81E4-4D36-AB93-13AC7A4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C340FD-95CC-42A5-BEFD-FB2007CF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27ABDD5-0876-43FE-945B-9BA6F04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247D8B5-3BBA-49EE-9AC6-663E388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7339ADB-1315-400B-BBC2-8333B12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6CEFC9C-E34B-4230-A30E-558E74F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C7E7A03-DC60-4FF9-BB68-E54B37A0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5D32C-64BA-4EB8-A86E-5517BFA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1331F2B-0430-4F97-AA1C-93C2A7F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EF54947-EC67-40CA-A490-AB631BCD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E45ADBE-DC8D-448D-93F0-4614D59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9560155-C8F5-41A5-AD9B-2D54624D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FADF835-0C24-4E5B-BB18-04A9DFB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AF3DEB3-85E6-41E4-9A99-BE3C5C1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DC4A9E-0701-4B72-8B3F-C06E330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D12EC6B-0815-4B5D-862B-4204C97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F5636D0-47B2-41F7-9325-CDE5536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49122F-AE13-4A8C-B5C4-55D257BB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AC661-B8D5-4FB5-A83B-18A23C35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58039A-1FB8-45BE-9C63-AA1206AE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58AFB97-7AC4-425E-B461-CFBC1F1D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A587FD4-C7C5-4A6F-9647-187AE3C5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E6FD55B-B226-4E4F-AE61-8D8A05CD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FA7967F-EAB6-4013-8648-5DC1066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BF7B18-11ED-4B00-9C36-74F9FD34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6C76D4A-2331-4CD0-9581-0D4B44EC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03552F-42D0-4EC2-9218-E968207D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4EDCF6F-C092-4A50-A120-20C77222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66AE02-CE8D-4C43-AB16-E668A18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B35-109E-466C-9C0E-6C44DAA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7DE1A-9127-4EAF-860D-0770B77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E881CE1-91DF-42CC-8EE5-65D6D30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EC87862-93F2-44F6-9674-1EC2F8F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7A03AA-FD8F-4B93-93BA-5395DA0E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719A69-E8DA-4C0B-BB5C-AA8823D4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DE5356-8CEB-4495-91EA-22B2EE84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1CE49F6-C0C1-4A49-971F-9C590AA1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812809C-8726-4A4B-A472-E3FC9B4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7029323-0E0C-412A-8DB0-B7BC283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78150A1-C8AA-4DBF-98CC-0526BF70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B19DC0-F118-4645-B2AD-3289E34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7523B-6B40-4E9D-B783-7D0599D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9E82A72-0D11-46BF-AD08-5A45BD7B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B480FEE-0E86-46D4-AD2C-AC36085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3867199-D5CC-4204-A18B-6E22436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1E5CEA-529B-4324-B7E0-60FE579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9AD669E-FAD6-4061-B89A-57567C13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92C1ABB-4A64-4D71-8487-46307061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71B7BFD-AB17-4EBE-ADD9-A2B7FADD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04C0791-BFF6-40FB-8D6A-C980B093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FD82706-5F70-4782-B1DC-E5874FA3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9F2202-84F6-4EED-995D-FF5D05B5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B502A-D689-4178-9653-29025DAC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8230D3-C090-4FA4-BCA9-5E48A2C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631AC66-4C93-4C3B-98DE-32E4200D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58D8AE2-BAEC-4FE8-B7C1-ED0589E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B42AC1C-C5B5-45CB-AEBB-AD66056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2F57CDA-0BEF-4213-A0A3-5F690E4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C840BD2-71BC-4540-9548-E1DAC0C8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57FF1A6-2C9A-48E3-A63E-C0A4883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1CB718B-1227-42E4-A0FB-E513C6AC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5F50E7-66B9-4793-922B-12AF647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34852AA-9BA6-4523-83A2-50FAA402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9776-EBE8-4546-AFB9-3305C253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C3C8F94-583F-4CB0-80F9-E8DEFCCA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30FD17F-DEF4-43ED-A0E0-492B1BE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F338A35-A163-4D86-98D5-FA1E0B66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3C9E09E-FA9F-4927-8F30-B14A419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8F3F0C7-2337-417C-8E9D-8B1F55A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7D5154D-5A28-461B-8F5F-BB27F4E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3DD6DE-51A1-4670-8820-064B23B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6D92CF-562A-4DD6-8599-9643E72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63D4457-E197-404B-B056-3FD4C465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AD82660-3E6E-4028-BF03-7138BC33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97AD-C168-40F1-BE40-D3871CE1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D338E1C-D814-40BC-987E-4F07C151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AAC26A0-3EA9-4540-9354-0879321D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8590CD-EA5C-4FB0-B5D9-19FEAA17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A3655D2-6D2A-4E9F-BF43-472F6D8C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1BE31A7-18FD-4DDE-8B98-00656E78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C6DB28-371B-4B08-8BA3-AC49C63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7E1F8BB-D413-41DA-9147-D49FC83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290A30-5472-4C9B-B6E0-23D523F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E5D0C34-5CAD-4E8E-A45C-D37E55E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9F9789B-AB36-40C3-AD11-2069678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444A-4F1D-4476-98E1-9D09CE0F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3290754-BA58-4AA7-BD6A-2B27110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E86026-FAEF-49DC-9E9D-908B80C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8E61F1D-5203-4F35-90ED-AA8F4C5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C99E0F6-596C-4795-A319-DE8B771B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8B2D74-10D6-458B-AD3A-A101447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D24666-465F-4464-B46F-106929D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43F1BA6-49C4-4483-B453-E926DCF8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D9AA337-771A-4195-A184-0DA3244C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EB0A2B-36D2-4A5C-BC3F-718C6B3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3C4D911-3028-4AB6-8641-1248536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DF5F-1099-4D22-BEDA-07511C7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F4ABCE3-EFA0-4691-A2EE-91892A9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5D218B7-2070-4423-AB06-8C13C0C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66279FE-90B0-4336-8FA5-CB1711A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1DA3AE6-E88E-4B44-8B33-CCB234DF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3AF6DF9-8959-486D-9D54-BC343F73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4D76B-7E7D-454F-ADC0-EB45901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2735-A062-47D9-BA87-5FD5DA2A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D5B5B-9B5F-4DD9-B4D5-389828C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823-9CA7-4F76-A613-26A075A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4A1DF-E56D-4AB8-B3BB-E1B0BC3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1977-A41B-4347-8F20-4C6AC9E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CAF4D-F929-4DE2-850D-9F08278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865AA-C3AE-4744-B29C-CC6CDA0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B5F0F-0CD9-43D9-8E6E-94BDC774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48F6A-FF41-4EC9-BA55-5D5BAD6D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8585-944A-44D5-9E3E-D5D0B0D5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EDAE2-6F09-489A-8B0D-75F1454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7A13F-B5CF-4FAC-B206-B4FA58C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D0CF-725C-4C76-A022-4A8D2CBE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ADC9-D933-453F-84DE-4C99CBAEA5A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562-889E-43E1-AEE1-836E71C599A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FFF-76D7-4B0F-8414-5CD8A4B14E5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595D-515C-42F8-A413-E4BC52E5A89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E47D-9DC9-4FAD-B5E3-850A6F1691C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9A5-96B2-4708-ACD9-27A61EB4B9B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A411-29E8-4CB2-BE48-D937870C8661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0FAF-2235-4C13-AA21-BB493C4ED8E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D883-24A6-4131-AE3B-92D40B2DC22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46E-A790-4221-84E8-B4776DBA2DF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19C-ECA2-4C68-A388-BAB61445A37E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A9D-EAA7-4D95-B283-ECC6F52734F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dt" idx="4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41A-5153-409C-9BDC-F68123198B0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021-A063-4DFC-959F-A3E5EB8ADF8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dt" idx="4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48B-4133-4929-811F-34F3570FF11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C32-1266-4819-B1FA-47380D7016A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dt" idx="4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787-0510-4859-A219-4F882B6F6C4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5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5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EF7-D89B-485A-8A8F-8B876AC8A42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dt" idx="5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2D2-F010-48B2-A4C4-A09ACA4A40C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6CFF-8D02-4486-A510-62C0ADA66B6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dt" idx="5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F5C8-0420-4F5A-A60B-09F943FE123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5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5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62B-F229-491E-B9AD-2229C61789B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9D4-3724-417E-A5B1-E2A424E95BA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4994-9669-42EB-92E2-9DBC3E4312F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dt" idx="5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853-7776-4BA9-ACC8-E8CE843261C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448-75E1-40EC-AB49-E306F5269DA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dt" idx="6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A28-34AE-4779-B073-F2A98085FCE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6EF-62CA-40F4-8D0F-21EC8E73086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dt" idx="6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1F21-2DFF-40F8-884E-68F8B546FC3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16B8-5434-4A80-B57A-B72D7F959749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920" name="PlaceHolder 1"/>
          <p:cNvSpPr>
            <a:spLocks noGrp="1"/>
          </p:cNvSpPr>
          <p:nvPr>
            <p:ph type="dt" idx="6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481-FF03-4D71-865B-96DA5CE7071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21B-1B5B-4D06-A0D6-5AF2991D483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dt" idx="7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BA10-FF3A-4C62-92DA-AA4E9C47718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7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7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90C-CDA9-424B-BC42-5E27519D2A3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dt" idx="7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A206-ACB6-43C7-978B-46C60D493EF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7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7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E93-2336-48B4-803C-54044D98ADE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dt" idx="7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716-AE7A-4786-BE74-4200A96F8DF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B7E-ECB0-433D-A693-FFB5FB6F3CA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92" name="PlaceHolder 1"/>
          <p:cNvSpPr>
            <a:spLocks noGrp="1"/>
          </p:cNvSpPr>
          <p:nvPr>
            <p:ph type="dt" idx="7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635C-5ECD-4024-924D-8B973CB1E24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8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8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BD4D-7606-40A8-A402-90F581A3545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dt" idx="8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221-69FD-40B0-8FA3-D09FF6CDB59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8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8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BE9-77ED-411E-A86C-723007C1E6A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ftr" idx="8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sldNum" idx="8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C250-B518-419B-BEA8-ABDA8926B0B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dt" idx="8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CD6F-1912-4D00-A2A4-2B66C4D45A2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28C-5D0C-4059-AF93-78F025ACF44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4DF-0937-43E1-BC61-E68BF7DD720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ftr" idx="8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8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C3C-37A3-4C9D-A82C-3DFD3323ACA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dt" idx="9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E6D-3A45-4CD9-AC7F-60312F6F671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ftr" idx="9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sldNum" idx="9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4EE2-F589-4EBA-B395-AF4F64CAE87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dt" idx="9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B2D-EE4D-4A4C-85B4-611CBA31FA4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ftr" idx="9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sldNum" idx="9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57A6-78E3-49CA-9E1B-664A03AD275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dt" idx="9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65A4-E801-4203-91B9-EA1D4899DE6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矩形 6"/>
          <p:cNvSpPr/>
          <p:nvPr/>
        </p:nvSpPr>
        <p:spPr>
          <a:xfrm>
            <a:off x="6243480" y="4002120"/>
            <a:ext cx="58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精美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总结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zongjie/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计划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jihua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商务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shangwu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jianl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毕业答辩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dabian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汇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huibao/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dt" idx="9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4EC-D8B6-40E0-BC36-803845245ED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9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9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C1E-3A40-48D8-A85F-AE47FD39769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ftr" idx="10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sldNum" idx="10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235-2B6C-4B35-8466-97A622B4F04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dt" idx="10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BF4-2CD6-436E-A5B4-892E7F7B72C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ftr" idx="10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sldNum" idx="10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FECC-1BFD-4CD2-8651-652C723F501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dt" idx="10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48A-7409-41DA-B4E3-4A086139736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ftr" idx="10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sldNum" idx="10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596C-7DD1-4D0E-A2B3-466710F33D1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dt" idx="10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54A-2A26-4425-BC10-F03D9A282AF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ftr" idx="10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sldNum" idx="11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3D5D-773D-4C21-A11A-5A5AB23B530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dt" idx="11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D18-C25A-40DC-B097-7EF3DF8794B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ftr" idx="11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sldNum" idx="11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883-81C1-41A3-B5F8-85F35215ACB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dt" idx="11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CFB-A253-4937-9C54-461C27199BD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ftr" idx="11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sldNum" idx="11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808-E5BE-4AF7-A573-C4F3B7E41B7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dt" idx="11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ADA-B34D-4DFB-B822-CDA0751BB3B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9812-DED2-4C7B-A903-00599DFEEC6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DB6E-FC80-4EAE-BD4A-A236EA10FA5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dt" idx="11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AF1-30EE-4B06-9627-606DC762A8A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2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ECC-EE6C-472C-8ED3-1FFDE503E7B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dt" idx="12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882-C83A-4693-B414-9917AACAF27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12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12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F1C-5500-4452-BF42-5ADE2C776BA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dt" idx="12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53E-8942-4B1F-A85F-8D48FCBC903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2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 type="sldNum" idx="12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8C5A-DF30-4AC6-B590-241E42E4224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dt" idx="12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1F1F-9AB2-42F9-8FC0-665264E531DE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 type="ftr" idx="12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 type="sldNum" idx="12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AE2-6688-4036-9B40-2F3A66AB60F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dt" idx="13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9F17-C544-45D9-9FFB-DFCF97B3197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3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3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BE0-CAC7-45D4-9B7E-C8CC09A67C4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dt" idx="13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BC83-BBFC-431C-8083-B4758C26E33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 type="ftr" idx="13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 type="sldNum" idx="13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8C3-5E2D-4CF5-8C4F-A919940AA74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dt" idx="13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1DC2-48EE-4CFD-9557-BD49359306E1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 type="ftr" idx="13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 type="sldNum" idx="13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5305-ACAC-4FF6-BBED-4EBBCBC4E5B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dt" idx="13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4EA-BD0F-46DF-A9B1-A617C6540A8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 type="ftr" idx="14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 type="sldNum" idx="14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B631-352A-4CC4-A62C-D041BF283A18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dt" idx="14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D34-19E8-47E9-809A-DF94DBF68E3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3BF-F173-4895-9D81-92CBB1FB4FF9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dt" idx="14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0FE8-DE05-460C-B5AB-E71E20EF306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 type="ftr" idx="14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 type="sldNum" idx="14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85B7-732D-4596-B8FF-AB43553BEC5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B5B-0DFD-4B4B-BE76-16A8670801F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F32-A30E-4B7B-8547-42B10D8818E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dt" idx="14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80A-9E72-4E2C-A3F4-EE88C3F8D11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 type="ftr" idx="14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 type="sldNum" idx="15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CD3-D175-45A7-8BD7-170E230D689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081" name="PlaceHolder 1"/>
          <p:cNvSpPr>
            <a:spLocks noGrp="1"/>
          </p:cNvSpPr>
          <p:nvPr>
            <p:ph type="dt" idx="15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1EE-483F-43EE-868D-0F9DB146742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 type="ftr" idx="15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 type="sldNum" idx="15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DC5-7A11-4EF8-8D98-47F0D0F1EE8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24" name="PlaceHolder 1"/>
          <p:cNvSpPr>
            <a:spLocks noGrp="1"/>
          </p:cNvSpPr>
          <p:nvPr>
            <p:ph type="dt" idx="15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B13-F11A-47A0-A661-CB3465E44A6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 type="ftr" idx="15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 type="sldNum" idx="15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031-6E3A-4B62-8458-2DABA6BBE38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67" name="PlaceHolder 1"/>
          <p:cNvSpPr>
            <a:spLocks noGrp="1"/>
          </p:cNvSpPr>
          <p:nvPr>
            <p:ph type="dt" idx="15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81D2-0F00-4F90-B376-1F4C90089E3E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ftr" idx="15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 type="sldNum" idx="15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DD8-1650-4FAA-92CA-F2718C1A978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10" name="PlaceHolder 1"/>
          <p:cNvSpPr>
            <a:spLocks noGrp="1"/>
          </p:cNvSpPr>
          <p:nvPr>
            <p:ph type="dt" idx="16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792-22C4-4214-98AD-3630F94B82F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 type="ftr" idx="16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 type="sldNum" idx="16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1E1-954F-4350-BF53-3B26918F499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53" name="PlaceHolder 1"/>
          <p:cNvSpPr>
            <a:spLocks noGrp="1"/>
          </p:cNvSpPr>
          <p:nvPr>
            <p:ph type="dt" idx="16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910-7025-4924-8FAF-1E0CE87E776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8C1B-1674-4696-A4D5-9396D3E6758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96" name="PlaceHolder 1"/>
          <p:cNvSpPr>
            <a:spLocks noGrp="1"/>
          </p:cNvSpPr>
          <p:nvPr>
            <p:ph type="dt" idx="16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813-C0F7-4B70-9BFB-D598D4FFE94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6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6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215-7ECF-4090-A948-9DE385888EF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33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339" name="PlaceHolder 1"/>
          <p:cNvSpPr>
            <a:spLocks noGrp="1"/>
          </p:cNvSpPr>
          <p:nvPr>
            <p:ph type="dt" idx="16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8484-ED1E-483F-8865-4AC10CB7643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7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 type="sldNum" idx="17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B98-5A35-4E2A-83FF-D50D7842859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38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382" name="PlaceHolder 1"/>
          <p:cNvSpPr>
            <a:spLocks noGrp="1"/>
          </p:cNvSpPr>
          <p:nvPr>
            <p:ph type="dt" idx="17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C58-F3D8-4A8E-9F4B-C77B4042672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7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7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AC7-8E65-4C0B-8650-705FA3AC9C8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42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425" name="PlaceHolder 1"/>
          <p:cNvSpPr>
            <a:spLocks noGrp="1"/>
          </p:cNvSpPr>
          <p:nvPr>
            <p:ph type="dt" idx="17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AAB-BDAE-4F31-95FD-9D8A6E37D12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 type="ftr" idx="17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 type="sldNum" idx="17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6DA-064A-4C92-BE1F-DDA33F4BB09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E2D-9605-4C69-8C98-98DDF083CB5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A864-4CF1-4348-AC95-6361181B777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468" name="PlaceHolder 1"/>
          <p:cNvSpPr>
            <a:spLocks noGrp="1"/>
          </p:cNvSpPr>
          <p:nvPr>
            <p:ph type="dt" idx="17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D46-0F20-4E27-ACB4-EA125F2CABE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 type="ftr" idx="17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 type="sldNum" idx="18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43A-7495-4411-9143-3050912414B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dt" idx="18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650-DE08-4CD5-9BE0-0E4971AD4AB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 type="ftr" idx="18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 type="sldNum" idx="18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CAA-8C12-4F52-A35D-67D551EE617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5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54" name="PlaceHolder 1"/>
          <p:cNvSpPr>
            <a:spLocks noGrp="1"/>
          </p:cNvSpPr>
          <p:nvPr>
            <p:ph type="dt" idx="18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318F-E2F3-425A-BC3D-47D1CDE3CA7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 type="ftr" idx="18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 type="sldNum" idx="18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FA2-E4C3-47DF-A132-2D1416E11AF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9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97" name="PlaceHolder 1"/>
          <p:cNvSpPr>
            <a:spLocks noGrp="1"/>
          </p:cNvSpPr>
          <p:nvPr>
            <p:ph type="dt" idx="18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DBB-C224-4381-96E3-3B7231830DD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8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8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C9E-99F2-46DB-96E6-3AF13830E16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63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640" name="PlaceHolder 1"/>
          <p:cNvSpPr>
            <a:spLocks noGrp="1"/>
          </p:cNvSpPr>
          <p:nvPr>
            <p:ph type="dt" idx="19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DA6-A106-46F2-ABD7-E8CDB446885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19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19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CF6-0FEF-40FB-8330-076B987BAAE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dt" idx="19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05B-C4D9-4670-B5F4-7F8A565A23D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 type="ftr" idx="19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5"/>
          <p:cNvSpPr>
            <a:spLocks noGrp="1"/>
          </p:cNvSpPr>
          <p:nvPr>
            <p:ph type="sldNum" idx="19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FFA8-BB32-4767-9FBB-2406E3E3EAA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72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726" name="PlaceHolder 1"/>
          <p:cNvSpPr>
            <a:spLocks noGrp="1"/>
          </p:cNvSpPr>
          <p:nvPr>
            <p:ph type="dt" idx="19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C758-A7FD-4659-92CB-34BA55C8A10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 type="ftr" idx="19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 type="sldNum" idx="19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414-6CCD-47DE-9F96-6DFFF9877E81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76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769" name="PlaceHolder 1"/>
          <p:cNvSpPr>
            <a:spLocks noGrp="1"/>
          </p:cNvSpPr>
          <p:nvPr>
            <p:ph type="dt" idx="19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5D3-9056-49B4-9445-A4548688E07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 type="ftr" idx="20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5"/>
          <p:cNvSpPr>
            <a:spLocks noGrp="1"/>
          </p:cNvSpPr>
          <p:nvPr>
            <p:ph type="sldNum" idx="20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34E-C8ED-4C49-8C2D-77A07276858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1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12" name="PlaceHolder 1"/>
          <p:cNvSpPr>
            <a:spLocks noGrp="1"/>
          </p:cNvSpPr>
          <p:nvPr>
            <p:ph type="dt" idx="20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006-0D28-414A-8E6A-72E0380188C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 type="ftr" idx="20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 type="sldNum" idx="20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823-2FB6-4DEE-806C-5E7FFC0BAB1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5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55" name="PlaceHolder 1"/>
          <p:cNvSpPr>
            <a:spLocks noGrp="1"/>
          </p:cNvSpPr>
          <p:nvPr>
            <p:ph type="dt" idx="20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AE0-A529-4C19-87C7-264D979FAC6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 type="ftr" idx="20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5"/>
          <p:cNvSpPr>
            <a:spLocks noGrp="1"/>
          </p:cNvSpPr>
          <p:nvPr>
            <p:ph type="sldNum" idx="20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179E-B81D-4211-9585-E4CDE665284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FA3-FFB2-4F47-9E51-BC528984799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BB80-408D-4E56-8082-BB05A69E7FE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9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98" name="PlaceHolder 1"/>
          <p:cNvSpPr>
            <a:spLocks noGrp="1"/>
          </p:cNvSpPr>
          <p:nvPr>
            <p:ph type="dt" idx="20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4F0-1FBF-4711-AED0-0D28E14433C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ftr" idx="20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 type="sldNum" idx="21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C1E-BAB9-4104-BF23-80D1F57A33D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941" name="PlaceHolder 1"/>
          <p:cNvSpPr>
            <a:spLocks noGrp="1"/>
          </p:cNvSpPr>
          <p:nvPr>
            <p:ph type="dt" idx="21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D35A-1BFD-424C-8ABC-59683959955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ftr" idx="21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5"/>
          <p:cNvSpPr>
            <a:spLocks noGrp="1"/>
          </p:cNvSpPr>
          <p:nvPr>
            <p:ph type="sldNum" idx="21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93F-C8AC-41AB-AD10-9EE27C13725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98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984" name="PlaceHolder 1"/>
          <p:cNvSpPr>
            <a:spLocks noGrp="1"/>
          </p:cNvSpPr>
          <p:nvPr>
            <p:ph type="dt" idx="21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889-F146-476D-AB15-51685251002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 type="ftr" idx="21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 type="sldNum" idx="21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C01-9AB4-4A11-9546-38BCCFDFECB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2FBF-5490-4BFD-BAD9-366C51126C81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942B-C878-4E4A-ABC4-300ED470F59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9981-7140-421E-A875-99DA2E17701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77E-593B-4C24-8431-465E49FC5F6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NIGHTBUG.WAV"/><Relationship Id="rId4" Type="http://schemas.openxmlformats.org/officeDocument/2006/relationships/slideLayout" Target="../slideLayouts/slideLayout6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36951;&#20256;&#30149;.ppt" TargetMode="External"/><Relationship Id="rId2" Type="http://schemas.openxmlformats.org/officeDocument/2006/relationships/hyperlink" Target="file:///&#38182;&#29791;&#65288;&#26391;&#35829;&#65289;.kux" TargetMode="External"/><Relationship Id="rId3" Type="http://schemas.openxmlformats.org/officeDocument/2006/relationships/hyperlink" Target="file:///&#38182;&#29791;&#65288;&#26391;&#35829;&#65289;.kux" TargetMode="External"/><Relationship Id="rId4" Type="http://schemas.openxmlformats.org/officeDocument/2006/relationships/hyperlink" Target="file:///&#38182;&#29791;&#65288;&#26391;&#35829;&#65289;.kux" TargetMode="External"/><Relationship Id="rId5" Type="http://schemas.openxmlformats.org/officeDocument/2006/relationships/image" Target="../media/image13.png"/><Relationship Id="rId6" Type="http://schemas.openxmlformats.org/officeDocument/2006/relationships/hyperlink" Target="file:///../&#36951;&#20256;&#30149;.ppt" TargetMode="External"/><Relationship Id="rId7" Type="http://schemas.openxmlformats.org/officeDocument/2006/relationships/hyperlink" Target="file:///&#12298;&#38182;&#29791;&#12299;&#65288;&#39532;&#23567;&#26126;&#65289;.kux" TargetMode="External"/><Relationship Id="rId8" Type="http://schemas.openxmlformats.org/officeDocument/2006/relationships/hyperlink" Target="file:///&#12298;&#38182;&#29791;&#12299;&#65288;&#39532;&#23567;&#26126;&#65289;.kux" TargetMode="External"/><Relationship Id="rId9" Type="http://schemas.openxmlformats.org/officeDocument/2006/relationships/hyperlink" Target="file:///&#12298;&#38182;&#29791;&#12299;&#65288;&#39532;&#23567;&#26126;&#65289;.kux" TargetMode="External"/><Relationship Id="rId10" Type="http://schemas.openxmlformats.org/officeDocument/2006/relationships/slideLayout" Target="../slideLayouts/slideLayout6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2" name="组合 34" descr=""/>
          <p:cNvPicPr/>
          <p:nvPr/>
        </p:nvPicPr>
        <p:blipFill>
          <a:blip r:embed="rId1"/>
          <a:stretch/>
        </p:blipFill>
        <p:spPr>
          <a:xfrm>
            <a:off x="396720" y="1122480"/>
            <a:ext cx="1773360" cy="285480"/>
          </a:xfrm>
          <a:prstGeom prst="rect">
            <a:avLst/>
          </a:prstGeom>
          <a:ln w="0">
            <a:noFill/>
          </a:ln>
        </p:spPr>
      </p:pic>
      <p:sp>
        <p:nvSpPr>
          <p:cNvPr id="3033" name="Text Box 2"/>
          <p:cNvSpPr/>
          <p:nvPr/>
        </p:nvSpPr>
        <p:spPr>
          <a:xfrm>
            <a:off x="187200" y="50760"/>
            <a:ext cx="87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聪明的你，一定知道下列诗句是哪位诗人所写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2"/>
          <p:cNvSpPr/>
          <p:nvPr/>
        </p:nvSpPr>
        <p:spPr>
          <a:xfrm>
            <a:off x="395280" y="573120"/>
            <a:ext cx="637848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夕阳无限好，只是近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天意怜幽草，人间重晚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春心莫共花争发，一寸相思一寸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春蚕到死丝方尽，蜡炬成灰泪始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相见时难别亦难，东风无力百花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历览前贤国与家，成由勤俭败由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身无彩凤双飞翼，心有灵犀一点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嫦娥应悔偷灵药，碧海青天夜夜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可怜夜半虚前席，不问苍生问鬼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⑩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此情可待成追忆，只是当时已惘然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Rectangle 426"/>
          <p:cNvSpPr/>
          <p:nvPr/>
        </p:nvSpPr>
        <p:spPr>
          <a:xfrm>
            <a:off x="3216240" y="5076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矩形 2"/>
          <p:cNvSpPr/>
          <p:nvPr/>
        </p:nvSpPr>
        <p:spPr>
          <a:xfrm>
            <a:off x="7164360" y="843120"/>
            <a:ext cx="928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58333E-006 -1.85185E-006 L 0.26784 -0.15509 E">
                                      <p:cBhvr>
                                        <p:cTn id="11" dur="4500" fill="hold" repeatCount="1000"/>
                                        <p:tgtEl>
                                          <p:spTgt spid="3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矩形 1"/>
          <p:cNvSpPr/>
          <p:nvPr/>
        </p:nvSpPr>
        <p:spPr>
          <a:xfrm>
            <a:off x="2724480" y="-284040"/>
            <a:ext cx="369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春心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文本框 2"/>
          <p:cNvSpPr/>
          <p:nvPr/>
        </p:nvSpPr>
        <p:spPr>
          <a:xfrm>
            <a:off x="1116000" y="91584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伤春之心，比喻对失去了的美好事物的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矩形 2"/>
          <p:cNvSpPr/>
          <p:nvPr/>
        </p:nvSpPr>
        <p:spPr>
          <a:xfrm>
            <a:off x="826920" y="1419120"/>
            <a:ext cx="799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曾像庄周梦蝶一样迷失在美好的境界中，最终却只能像望帝那样把伤心托付给杜鹃。</a:t>
            </a:r>
            <a:r>
              <a:rPr b="0" lang="zh-CN" sz="2000" spc="-1" strike="noStrike">
                <a:solidFill>
                  <a:srgbClr val="333333"/>
                </a:solidFill>
                <a:latin typeface="华文楷体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文本框 1"/>
          <p:cNvSpPr/>
          <p:nvPr/>
        </p:nvSpPr>
        <p:spPr>
          <a:xfrm>
            <a:off x="900000" y="2932200"/>
            <a:ext cx="44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颔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文本框 2"/>
          <p:cNvSpPr/>
          <p:nvPr/>
        </p:nvSpPr>
        <p:spPr>
          <a:xfrm>
            <a:off x="900000" y="3795840"/>
            <a:ext cx="50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典：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庄周梦蝶、望帝啼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矩形 1"/>
          <p:cNvSpPr/>
          <p:nvPr/>
        </p:nvSpPr>
        <p:spPr>
          <a:xfrm>
            <a:off x="2278080" y="-20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春心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矩形 1"/>
          <p:cNvSpPr/>
          <p:nvPr/>
        </p:nvSpPr>
        <p:spPr>
          <a:xfrm>
            <a:off x="814320" y="1203480"/>
            <a:ext cx="82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庄周梦蝶 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前有一天，庄周梦见自己变成了蝴蝶，一只翩翩起舞的蝴蝶。自己非常快乐，悠然自得，不知道自己是庄周。一会儿梦醒了，却是僵卧在床的庄周，他不知道是庄周做梦变成了蝴蝶呢，还是蝴蝶做梦变成了庄周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80900"/>
          <p:cNvSpPr/>
          <p:nvPr/>
        </p:nvSpPr>
        <p:spPr>
          <a:xfrm>
            <a:off x="814320" y="3940200"/>
            <a:ext cx="8177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怀念、迷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矩形 1"/>
          <p:cNvSpPr/>
          <p:nvPr/>
        </p:nvSpPr>
        <p:spPr>
          <a:xfrm>
            <a:off x="2278080" y="-20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春心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矩形 1"/>
          <p:cNvSpPr/>
          <p:nvPr/>
        </p:nvSpPr>
        <p:spPr>
          <a:xfrm>
            <a:off x="814320" y="1203480"/>
            <a:ext cx="7966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望帝啼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望帝，古代神话中蜀王杜宇的称号。传说他因水灾让位给治水有功的鳖灵，自己隐居山中，不料鳖灵横征暴敛，百姓生活在水深火热之中。望帝懊悔不已，郁郁病死，死后化为杜鹃，啼声非常悲凄，直至啼出血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文本框 80900"/>
          <p:cNvSpPr/>
          <p:nvPr/>
        </p:nvSpPr>
        <p:spPr>
          <a:xfrm>
            <a:off x="797040" y="3940200"/>
            <a:ext cx="7534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哀怨、凄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矩形 1"/>
          <p:cNvSpPr/>
          <p:nvPr/>
        </p:nvSpPr>
        <p:spPr>
          <a:xfrm>
            <a:off x="4447080" y="-2192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矩形 2"/>
          <p:cNvSpPr/>
          <p:nvPr/>
        </p:nvSpPr>
        <p:spPr>
          <a:xfrm>
            <a:off x="971640" y="1003320"/>
            <a:ext cx="74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身世悲凉如月明沧海鲛人有泪成珠，理想破灭便如蓝田良玉化作缕缕青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文本框 1"/>
          <p:cNvSpPr/>
          <p:nvPr/>
        </p:nvSpPr>
        <p:spPr>
          <a:xfrm>
            <a:off x="971640" y="2643120"/>
            <a:ext cx="44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颈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文本框 2"/>
          <p:cNvSpPr/>
          <p:nvPr/>
        </p:nvSpPr>
        <p:spPr>
          <a:xfrm>
            <a:off x="971640" y="3435480"/>
            <a:ext cx="50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典：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鲛人泣珠、暖玉生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矩形 1"/>
          <p:cNvSpPr/>
          <p:nvPr/>
        </p:nvSpPr>
        <p:spPr>
          <a:xfrm>
            <a:off x="4374360" y="-23652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矩形 1"/>
          <p:cNvSpPr/>
          <p:nvPr/>
        </p:nvSpPr>
        <p:spPr>
          <a:xfrm>
            <a:off x="755640" y="843120"/>
            <a:ext cx="819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鲛人泣珠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海水中有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水中生活像鱼一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来不放弃纺织的工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哭的时候能哭出珍珠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本天上明珠，珠似水中明月；鲛人泣泪，颗颗成珠，亦是海中的奇情异景。如此，明月落于沧海之间，明珠浴于泪波之界，月、珠、泪，在诗人笔下已然形成一个难以分辨的朦胧哀婉的妙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文本框 80900"/>
          <p:cNvSpPr/>
          <p:nvPr/>
        </p:nvSpPr>
        <p:spPr>
          <a:xfrm>
            <a:off x="684360" y="4083120"/>
            <a:ext cx="7854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孤寂、悲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矩形 1"/>
          <p:cNvSpPr/>
          <p:nvPr/>
        </p:nvSpPr>
        <p:spPr>
          <a:xfrm>
            <a:off x="4374360" y="-23652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矩形 1"/>
          <p:cNvSpPr/>
          <p:nvPr/>
        </p:nvSpPr>
        <p:spPr>
          <a:xfrm>
            <a:off x="900000" y="915840"/>
            <a:ext cx="796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暖玉生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说蓝田美玉深埋地下，不为人所见，但在日光煦照下它那温润的精气却能透过泥土，烟雾般升腾到空中。这种烟雾般的精气只能在远观时才可见，近处是看不到的。这代表了一种美好的理想，既不能把握也无法亲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文本框 1"/>
          <p:cNvSpPr/>
          <p:nvPr/>
        </p:nvSpPr>
        <p:spPr>
          <a:xfrm>
            <a:off x="900000" y="3940200"/>
            <a:ext cx="8169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失落、惆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矩形 1"/>
          <p:cNvSpPr/>
          <p:nvPr/>
        </p:nvSpPr>
        <p:spPr>
          <a:xfrm>
            <a:off x="2311920" y="-35100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此情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可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待成追忆，只是当时已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惘然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矩形 2"/>
          <p:cNvSpPr/>
          <p:nvPr/>
        </p:nvSpPr>
        <p:spPr>
          <a:xfrm>
            <a:off x="971640" y="1247760"/>
            <a:ext cx="744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些感情哪能等到追忆时才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当时就已让我感到迷惘、茫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矩形 1"/>
          <p:cNvSpPr/>
          <p:nvPr/>
        </p:nvSpPr>
        <p:spPr>
          <a:xfrm>
            <a:off x="1116000" y="3363840"/>
            <a:ext cx="74152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怅惘、痛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文本框 2"/>
          <p:cNvSpPr/>
          <p:nvPr/>
        </p:nvSpPr>
        <p:spPr>
          <a:xfrm>
            <a:off x="1332000" y="666720"/>
            <a:ext cx="19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哪能，难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文本框 6"/>
          <p:cNvSpPr/>
          <p:nvPr/>
        </p:nvSpPr>
        <p:spPr>
          <a:xfrm>
            <a:off x="6551640" y="69840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模糊不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文本框 3"/>
          <p:cNvSpPr/>
          <p:nvPr/>
        </p:nvSpPr>
        <p:spPr>
          <a:xfrm>
            <a:off x="1044720" y="25210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尾联用了哪种抒情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Rectangle 462"/>
          <p:cNvSpPr/>
          <p:nvPr/>
        </p:nvSpPr>
        <p:spPr>
          <a:xfrm>
            <a:off x="3455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2"/>
          <p:cNvSpPr/>
          <p:nvPr/>
        </p:nvSpPr>
        <p:spPr>
          <a:xfrm>
            <a:off x="250920" y="1060560"/>
            <a:ext cx="852480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篇《锦瑟》解人难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王士祯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义山的《锦瑟》《碧城》《圣女祠》等诗，讲的什么事，我理会不着。拆开来一句一句叫我解释，我连文义也解不出来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梁启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种从《锦瑟》中痛感情爱，诗家从《锦瑟》中深得诗心，不平者从《锦瑟》中共鸣牢骚，久旅不归者吟《锦瑟》而思乡垂泪，这都是赏家与作者的合作成果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王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矩形 73733"/>
          <p:cNvSpPr/>
          <p:nvPr/>
        </p:nvSpPr>
        <p:spPr>
          <a:xfrm>
            <a:off x="2411280" y="1131840"/>
            <a:ext cx="6813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恋情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悼亡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伤身世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治寄托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Rectangle 2"/>
          <p:cNvSpPr/>
          <p:nvPr/>
        </p:nvSpPr>
        <p:spPr>
          <a:xfrm>
            <a:off x="179280" y="987480"/>
            <a:ext cx="88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李商隐无意于当时的党争，却又身陷其中，既为牛党之令狐楚所怨，又被李党之王茂元所疏。而前者为赏拔之恩主，后者为翁婿之至亲，所以他一生抑郁，其忧时忧国之心、自伤身世之慨难以直言，只有把真实生活的体验，揉入自己心灵的幻想之中。他的作品既非纯粹写实，也非纯然幻想，读者可以从不同角度得到不同的感受，赋予不同的意义，这就造成了其诗朦胧多义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7" name="图片 3" descr=""/>
          <p:cNvPicPr/>
          <p:nvPr/>
        </p:nvPicPr>
        <p:blipFill>
          <a:blip r:embed="rId2"/>
          <a:stretch/>
        </p:blipFill>
        <p:spPr>
          <a:xfrm>
            <a:off x="-4680" y="-46080"/>
            <a:ext cx="9153360" cy="1523880"/>
          </a:xfrm>
          <a:prstGeom prst="rect">
            <a:avLst/>
          </a:prstGeom>
          <a:ln w="0">
            <a:noFill/>
          </a:ln>
        </p:spPr>
      </p:pic>
      <p:pic>
        <p:nvPicPr>
          <p:cNvPr id="3038" name="图片 4" descr=""/>
          <p:cNvPicPr/>
          <p:nvPr/>
        </p:nvPicPr>
        <p:blipFill>
          <a:blip r:embed="rId3"/>
          <a:stretch/>
        </p:blipFill>
        <p:spPr>
          <a:xfrm>
            <a:off x="4095720" y="3959280"/>
            <a:ext cx="5046840" cy="1189080"/>
          </a:xfrm>
          <a:prstGeom prst="rect">
            <a:avLst/>
          </a:prstGeom>
          <a:ln w="0">
            <a:noFill/>
          </a:ln>
        </p:spPr>
      </p:pic>
      <p:pic>
        <p:nvPicPr>
          <p:cNvPr id="3039" name="图片 5" descr=""/>
          <p:cNvPicPr/>
          <p:nvPr/>
        </p:nvPicPr>
        <p:blipFill>
          <a:blip r:embed="rId4"/>
          <a:stretch/>
        </p:blipFill>
        <p:spPr>
          <a:xfrm>
            <a:off x="-4680" y="3643200"/>
            <a:ext cx="2921040" cy="806400"/>
          </a:xfrm>
          <a:prstGeom prst="rect">
            <a:avLst/>
          </a:prstGeom>
          <a:ln w="0">
            <a:noFill/>
          </a:ln>
        </p:spPr>
      </p:pic>
      <p:grpSp>
        <p:nvGrpSpPr>
          <p:cNvPr id="3040" name="Group 37848"/>
          <p:cNvGrpSpPr/>
          <p:nvPr/>
        </p:nvGrpSpPr>
        <p:grpSpPr>
          <a:xfrm>
            <a:off x="950760" y="2633760"/>
            <a:ext cx="804960" cy="217440"/>
            <a:chOff x="950760" y="2633760"/>
            <a:chExt cx="804960" cy="217440"/>
          </a:xfrm>
        </p:grpSpPr>
        <p:sp>
          <p:nvSpPr>
            <p:cNvPr id="3041" name="Line 37849"/>
            <p:cNvSpPr/>
            <p:nvPr/>
          </p:nvSpPr>
          <p:spPr>
            <a:xfrm>
              <a:off x="1301400" y="2743200"/>
              <a:ext cx="22356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Line 37850"/>
            <p:cNvSpPr/>
            <p:nvPr/>
          </p:nvSpPr>
          <p:spPr>
            <a:xfrm>
              <a:off x="1301400" y="2633760"/>
              <a:ext cx="45432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37851"/>
            <p:cNvSpPr/>
            <p:nvPr/>
          </p:nvSpPr>
          <p:spPr>
            <a:xfrm>
              <a:off x="950760" y="2851200"/>
              <a:ext cx="57348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37852"/>
            <p:cNvSpPr/>
            <p:nvPr/>
          </p:nvSpPr>
          <p:spPr>
            <a:xfrm>
              <a:off x="15256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37853"/>
            <p:cNvSpPr/>
            <p:nvPr/>
          </p:nvSpPr>
          <p:spPr>
            <a:xfrm>
              <a:off x="14950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37854"/>
            <p:cNvSpPr/>
            <p:nvPr/>
          </p:nvSpPr>
          <p:spPr>
            <a:xfrm>
              <a:off x="14554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37855"/>
            <p:cNvSpPr/>
            <p:nvPr/>
          </p:nvSpPr>
          <p:spPr>
            <a:xfrm>
              <a:off x="1252440" y="2633760"/>
              <a:ext cx="5400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37856"/>
            <p:cNvSpPr/>
            <p:nvPr/>
          </p:nvSpPr>
          <p:spPr>
            <a:xfrm>
              <a:off x="1292040" y="2633760"/>
              <a:ext cx="5400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9" name="Group 37848"/>
          <p:cNvGrpSpPr/>
          <p:nvPr/>
        </p:nvGrpSpPr>
        <p:grpSpPr>
          <a:xfrm>
            <a:off x="7551720" y="2338560"/>
            <a:ext cx="806040" cy="218880"/>
            <a:chOff x="7551720" y="2338560"/>
            <a:chExt cx="806040" cy="218880"/>
          </a:xfrm>
        </p:grpSpPr>
        <p:sp>
          <p:nvSpPr>
            <p:cNvPr id="3050" name="Line 37849"/>
            <p:cNvSpPr/>
            <p:nvPr/>
          </p:nvSpPr>
          <p:spPr>
            <a:xfrm>
              <a:off x="7902360" y="2448000"/>
              <a:ext cx="22536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37850"/>
            <p:cNvSpPr/>
            <p:nvPr/>
          </p:nvSpPr>
          <p:spPr>
            <a:xfrm>
              <a:off x="7903800" y="2338560"/>
              <a:ext cx="45396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Line 37851"/>
            <p:cNvSpPr/>
            <p:nvPr/>
          </p:nvSpPr>
          <p:spPr>
            <a:xfrm>
              <a:off x="7551720" y="2557440"/>
              <a:ext cx="57492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37852"/>
            <p:cNvSpPr/>
            <p:nvPr/>
          </p:nvSpPr>
          <p:spPr>
            <a:xfrm>
              <a:off x="8128080" y="244800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37853"/>
            <p:cNvSpPr/>
            <p:nvPr/>
          </p:nvSpPr>
          <p:spPr>
            <a:xfrm>
              <a:off x="8096040" y="2448000"/>
              <a:ext cx="554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37854"/>
            <p:cNvSpPr/>
            <p:nvPr/>
          </p:nvSpPr>
          <p:spPr>
            <a:xfrm>
              <a:off x="8058240" y="244800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37855"/>
            <p:cNvSpPr/>
            <p:nvPr/>
          </p:nvSpPr>
          <p:spPr>
            <a:xfrm>
              <a:off x="7853400" y="2338560"/>
              <a:ext cx="554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37856"/>
            <p:cNvSpPr/>
            <p:nvPr/>
          </p:nvSpPr>
          <p:spPr>
            <a:xfrm>
              <a:off x="7893000" y="233856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8" name="文本框 1"/>
          <p:cNvSpPr/>
          <p:nvPr/>
        </p:nvSpPr>
        <p:spPr>
          <a:xfrm>
            <a:off x="1023120" y="1081080"/>
            <a:ext cx="182628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daad7b"/>
                </a:solidFill>
                <a:latin typeface="汉仪行楷简"/>
                <a:ea typeface="汉仪行楷简"/>
              </a:rPr>
              <a:t>锦 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文本框 6"/>
          <p:cNvSpPr/>
          <p:nvPr/>
        </p:nvSpPr>
        <p:spPr>
          <a:xfrm>
            <a:off x="3256200" y="1930320"/>
            <a:ext cx="820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等线"/>
                <a:ea typeface="楷体_GB2312"/>
              </a:rPr>
              <a:t>李商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0" name="Picture 49" descr=""/>
          <p:cNvPicPr/>
          <p:nvPr/>
        </p:nvPicPr>
        <p:blipFill>
          <a:blip r:embed="rId5"/>
          <a:stretch/>
        </p:blipFill>
        <p:spPr>
          <a:xfrm>
            <a:off x="7070760" y="1592280"/>
            <a:ext cx="2073240" cy="2073240"/>
          </a:xfrm>
          <a:prstGeom prst="rect">
            <a:avLst/>
          </a:prstGeom>
          <a:ln w="0">
            <a:noFill/>
          </a:ln>
        </p:spPr>
      </p:pic>
      <p:pic>
        <p:nvPicPr>
          <p:cNvPr id="3061" name="图片 1" descr=""/>
          <p:cNvPicPr/>
          <p:nvPr/>
        </p:nvPicPr>
        <p:blipFill>
          <a:blip r:embed="rId6"/>
          <a:stretch/>
        </p:blipFill>
        <p:spPr>
          <a:xfrm>
            <a:off x="0" y="-46080"/>
            <a:ext cx="9166320" cy="5194440"/>
          </a:xfrm>
          <a:prstGeom prst="rect">
            <a:avLst/>
          </a:prstGeom>
          <a:ln w="0">
            <a:noFill/>
          </a:ln>
        </p:spPr>
      </p:pic>
      <p:sp>
        <p:nvSpPr>
          <p:cNvPr id="3062" name="矩形 45061"/>
          <p:cNvSpPr/>
          <p:nvPr/>
        </p:nvSpPr>
        <p:spPr>
          <a:xfrm>
            <a:off x="5772240" y="136440"/>
            <a:ext cx="2701800" cy="47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</a:rPr>
              <a:t>锦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</a:rPr>
              <a:t>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767120" y="307512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 fill="hold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 repeatCount="1000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 repeatCount="10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Text Box 2"/>
          <p:cNvSpPr/>
          <p:nvPr/>
        </p:nvSpPr>
        <p:spPr>
          <a:xfrm>
            <a:off x="395280" y="987480"/>
            <a:ext cx="842652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的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要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起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首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锦瑟牵情，回首往事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托物起兴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承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颔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庄周梦蝶，望帝啼鹃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典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颈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鲛人泣珠，暖玉生烟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典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合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尾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忆此情，当时惘然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的情感：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追忆华年的迷惘与感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文本框 99"/>
          <p:cNvSpPr/>
          <p:nvPr/>
        </p:nvSpPr>
        <p:spPr>
          <a:xfrm>
            <a:off x="108000" y="627120"/>
            <a:ext cx="889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以锦瑟起兴，引起对华年往事的追忆的句子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宋词“锦瑟华年谁与度”中的“锦瑟华年”源于《锦瑟》中的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句分别使用了庄子和杜宇两个典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表现作者可望而不可即的理想境界的两句是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的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追忆往事的惆怅苦痛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人为之哀惋不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Rectangle 462"/>
          <p:cNvSpPr/>
          <p:nvPr/>
        </p:nvSpPr>
        <p:spPr>
          <a:xfrm>
            <a:off x="3064680" y="-20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理解性默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文本框 1"/>
          <p:cNvSpPr/>
          <p:nvPr/>
        </p:nvSpPr>
        <p:spPr>
          <a:xfrm>
            <a:off x="2122200" y="1044720"/>
            <a:ext cx="39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锦瑟无端五十弦 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弦一柱思华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文本框 2"/>
          <p:cNvSpPr/>
          <p:nvPr/>
        </p:nvSpPr>
        <p:spPr>
          <a:xfrm>
            <a:off x="3497040" y="1924200"/>
            <a:ext cx="40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锦瑟无端五十弦 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弦一柱思华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文本框 3"/>
          <p:cNvSpPr/>
          <p:nvPr/>
        </p:nvSpPr>
        <p:spPr>
          <a:xfrm>
            <a:off x="3497040" y="2355840"/>
            <a:ext cx="40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庄生晓梦迷蝴蝶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望帝春心托杜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文本框 4"/>
          <p:cNvSpPr/>
          <p:nvPr/>
        </p:nvSpPr>
        <p:spPr>
          <a:xfrm>
            <a:off x="1900080" y="3579840"/>
            <a:ext cx="39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沧海月明珠有泪    蓝田日暖玉生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文本框 5"/>
          <p:cNvSpPr/>
          <p:nvPr/>
        </p:nvSpPr>
        <p:spPr>
          <a:xfrm>
            <a:off x="3909600" y="40114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情可待成追忆    只是当时已惘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2" name="图片 54273" descr=""/>
          <p:cNvPicPr/>
          <p:nvPr/>
        </p:nvPicPr>
        <p:blipFill>
          <a:blip r:embed="rId1"/>
          <a:stretch/>
        </p:blipFill>
        <p:spPr>
          <a:xfrm>
            <a:off x="69840" y="0"/>
            <a:ext cx="9074160" cy="5143680"/>
          </a:xfrm>
          <a:prstGeom prst="rect">
            <a:avLst/>
          </a:prstGeom>
          <a:ln w="0">
            <a:noFill/>
          </a:ln>
        </p:spPr>
      </p:pic>
      <p:sp>
        <p:nvSpPr>
          <p:cNvPr id="3153" name="文本框 54275"/>
          <p:cNvSpPr/>
          <p:nvPr/>
        </p:nvSpPr>
        <p:spPr>
          <a:xfrm>
            <a:off x="4803840" y="4222800"/>
            <a:ext cx="2813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矩形 54277"/>
          <p:cNvSpPr/>
          <p:nvPr/>
        </p:nvSpPr>
        <p:spPr>
          <a:xfrm>
            <a:off x="2976480" y="1708200"/>
            <a:ext cx="3262320" cy="11192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</a:rPr>
              <a:t>再 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5" name="New picture" descr=""/>
          <p:cNvPicPr/>
          <p:nvPr/>
        </p:nvPicPr>
        <p:blipFill>
          <a:blip r:embed="rId2"/>
          <a:stretch/>
        </p:blipFill>
        <p:spPr>
          <a:xfrm>
            <a:off x="12420720" y="10642680"/>
            <a:ext cx="30456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NIGHTBU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4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65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66" name="Rectangle 3"/>
          <p:cNvSpPr/>
          <p:nvPr/>
        </p:nvSpPr>
        <p:spPr>
          <a:xfrm>
            <a:off x="100080" y="-20520"/>
            <a:ext cx="89424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盛唐的繁华落下帷幕，中唐又以其匆匆的步伐走过。曾经空前绝后的大唐王朝到了日薄西山的时候。李白登仙而去，杜甫困顿而逝，白居易、韩愈、柳宗元、刘禹锡的身影也渐渐消失在历史的尘埃之中。末世的余音里，李商隐走来了，这位晚唐的才子、旷世的情种，为大唐的黄昏添上了一道绚丽的余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然，即使是天才的诗人，也只能为即将消逝的王朝轻唱一曲挽歌。今天，就让我们走近这位天才的诗人，走进李商隐的心灵世界。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7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68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69" name="Rectangle 462"/>
          <p:cNvSpPr/>
          <p:nvPr/>
        </p:nvSpPr>
        <p:spPr>
          <a:xfrm>
            <a:off x="718560" y="-93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矩形 1"/>
          <p:cNvSpPr/>
          <p:nvPr/>
        </p:nvSpPr>
        <p:spPr>
          <a:xfrm>
            <a:off x="3338640" y="504720"/>
            <a:ext cx="585144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，字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义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号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玉谿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樊南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晚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，有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七律圣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之称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杜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小李杜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温庭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温李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李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李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三李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李商隐是继杜甫之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唐代七言律诗发展史上的第二座里程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李商隐著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樊南文集》《李义山诗集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诗构思新奇、风格秾丽，流传下来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0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《唐诗三百首》中，李商隐的诗作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，数量位列第四（杜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、王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、李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1" name="图片 1" descr=""/>
          <p:cNvPicPr/>
          <p:nvPr/>
        </p:nvPicPr>
        <p:blipFill>
          <a:blip r:embed="rId3"/>
          <a:stretch/>
        </p:blipFill>
        <p:spPr>
          <a:xfrm>
            <a:off x="34920" y="914400"/>
            <a:ext cx="3184560" cy="3386160"/>
          </a:xfrm>
          <a:prstGeom prst="rect">
            <a:avLst/>
          </a:prstGeom>
          <a:ln w="0">
            <a:noFill/>
          </a:ln>
        </p:spPr>
      </p:pic>
      <p:sp>
        <p:nvSpPr>
          <p:cNvPr id="3072" name="矩形 1"/>
          <p:cNvSpPr/>
          <p:nvPr/>
        </p:nvSpPr>
        <p:spPr>
          <a:xfrm>
            <a:off x="108000" y="43005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2800" spc="-1" strike="noStrike">
                <a:solidFill>
                  <a:srgbClr val="1d41d5"/>
                </a:solidFill>
                <a:latin typeface="华文楷体"/>
                <a:ea typeface="华文楷体"/>
              </a:rPr>
              <a:t>李商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1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3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75" name="Rectangle 462"/>
          <p:cNvSpPr/>
          <p:nvPr/>
        </p:nvSpPr>
        <p:spPr>
          <a:xfrm>
            <a:off x="718560" y="-93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矩形 1"/>
          <p:cNvSpPr/>
          <p:nvPr/>
        </p:nvSpPr>
        <p:spPr>
          <a:xfrm>
            <a:off x="3203640" y="415800"/>
            <a:ext cx="5983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是唐代皇族的远房宗室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左右父亲去世后，其家生活贫困，要靠亲戚接济，作为长子的李商隐在少年时期曾为别人抄书挣钱，贴补家用。李商隐曾三次进士落第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时考中进士后因卷入“牛李党争”，一生困顿不得志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时抑郁而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7" name="图片 1" descr=""/>
          <p:cNvPicPr/>
          <p:nvPr/>
        </p:nvPicPr>
        <p:blipFill>
          <a:blip r:embed="rId3"/>
          <a:stretch/>
        </p:blipFill>
        <p:spPr>
          <a:xfrm>
            <a:off x="34920" y="914400"/>
            <a:ext cx="3184560" cy="3386160"/>
          </a:xfrm>
          <a:prstGeom prst="rect">
            <a:avLst/>
          </a:prstGeom>
          <a:ln w="0">
            <a:noFill/>
          </a:ln>
        </p:spPr>
      </p:pic>
      <p:sp>
        <p:nvSpPr>
          <p:cNvPr id="3078" name="矩形 1"/>
          <p:cNvSpPr/>
          <p:nvPr/>
        </p:nvSpPr>
        <p:spPr>
          <a:xfrm>
            <a:off x="108000" y="43005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2800" spc="-1" strike="noStrike">
                <a:solidFill>
                  <a:srgbClr val="1d41d5"/>
                </a:solidFill>
                <a:latin typeface="华文楷体"/>
                <a:ea typeface="华文楷体"/>
              </a:rPr>
              <a:t>李商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1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文本框 3"/>
          <p:cNvSpPr/>
          <p:nvPr/>
        </p:nvSpPr>
        <p:spPr>
          <a:xfrm>
            <a:off x="3274920" y="329076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李商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文本框 9"/>
          <p:cNvSpPr/>
          <p:nvPr/>
        </p:nvSpPr>
        <p:spPr>
          <a:xfrm>
            <a:off x="4716360" y="302436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令狐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直接连接符 6"/>
          <p:cNvSpPr/>
          <p:nvPr/>
        </p:nvSpPr>
        <p:spPr>
          <a:xfrm flipV="1">
            <a:off x="4282920" y="3292560"/>
            <a:ext cx="36828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直接连接符 18"/>
          <p:cNvSpPr/>
          <p:nvPr/>
        </p:nvSpPr>
        <p:spPr>
          <a:xfrm>
            <a:off x="4300560" y="3579840"/>
            <a:ext cx="3506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文本框 10"/>
          <p:cNvSpPr/>
          <p:nvPr/>
        </p:nvSpPr>
        <p:spPr>
          <a:xfrm>
            <a:off x="4716360" y="355140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王茂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直接连接符 24"/>
          <p:cNvSpPr/>
          <p:nvPr/>
        </p:nvSpPr>
        <p:spPr>
          <a:xfrm>
            <a:off x="5867280" y="325584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直接连接符 24"/>
          <p:cNvSpPr/>
          <p:nvPr/>
        </p:nvSpPr>
        <p:spPr>
          <a:xfrm>
            <a:off x="5867280" y="378000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文本框 11"/>
          <p:cNvSpPr/>
          <p:nvPr/>
        </p:nvSpPr>
        <p:spPr>
          <a:xfrm>
            <a:off x="6369120" y="302436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牛僧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文本框 12"/>
          <p:cNvSpPr/>
          <p:nvPr/>
        </p:nvSpPr>
        <p:spPr>
          <a:xfrm>
            <a:off x="6372360" y="350676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李德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文本框 13"/>
          <p:cNvSpPr/>
          <p:nvPr/>
        </p:nvSpPr>
        <p:spPr>
          <a:xfrm>
            <a:off x="7451640" y="32558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牛李党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文本框 13"/>
          <p:cNvSpPr/>
          <p:nvPr/>
        </p:nvSpPr>
        <p:spPr>
          <a:xfrm>
            <a:off x="3276720" y="4076640"/>
            <a:ext cx="58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写《锦瑟》时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适值罢盐铁推官后回郑州闲居，不久病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文本框 29699"/>
          <p:cNvSpPr/>
          <p:nvPr/>
        </p:nvSpPr>
        <p:spPr>
          <a:xfrm>
            <a:off x="1763640" y="123840"/>
            <a:ext cx="5327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锦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瑟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锦瑟无端五十弦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一弦一柱思华年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庄生晓梦迷蝴蝶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望帝春心托杜鹃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沧海月明珠有泪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蓝田日暖玉生烟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此情可待成追忆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只是当时已惘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2">
            <a:hlinkClick r:id="rId1"/>
          </p:cNvPr>
          <p:cNvSpPr/>
          <p:nvPr/>
        </p:nvSpPr>
        <p:spPr>
          <a:xfrm>
            <a:off x="6588000" y="1492200"/>
            <a:ext cx="2283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zh-CN" sz="5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2"/>
              </a:rPr>
              <a:t>朗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3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4"/>
              </a:rPr>
              <a:t>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2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395280" y="2500200"/>
            <a:ext cx="1133640" cy="1135080"/>
          </a:xfrm>
          <a:prstGeom prst="rect">
            <a:avLst/>
          </a:prstGeom>
          <a:ln w="0">
            <a:noFill/>
          </a:ln>
        </p:spPr>
      </p:pic>
      <p:sp>
        <p:nvSpPr>
          <p:cNvPr id="3093" name="Text Box 2">
            <a:hlinkClick r:id="rId6"/>
          </p:cNvPr>
          <p:cNvSpPr/>
          <p:nvPr/>
        </p:nvSpPr>
        <p:spPr>
          <a:xfrm>
            <a:off x="6588000" y="3003480"/>
            <a:ext cx="2283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zh-CN" sz="5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7"/>
              </a:rPr>
              <a:t>演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8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9"/>
              </a:rPr>
              <a:t>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4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2500200"/>
            <a:ext cx="1133640" cy="1135080"/>
          </a:xfrm>
          <a:prstGeom prst="rect">
            <a:avLst/>
          </a:prstGeom>
          <a:ln w="0">
            <a:noFill/>
          </a:ln>
        </p:spPr>
      </p:pic>
      <p:sp>
        <p:nvSpPr>
          <p:cNvPr id="3095" name="文本框 16"/>
          <p:cNvSpPr/>
          <p:nvPr/>
        </p:nvSpPr>
        <p:spPr>
          <a:xfrm>
            <a:off x="1908000" y="484200"/>
            <a:ext cx="643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诗中表明主要内容的关键词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16"/>
          <p:cNvSpPr/>
          <p:nvPr/>
        </p:nvSpPr>
        <p:spPr>
          <a:xfrm>
            <a:off x="1979640" y="1928880"/>
            <a:ext cx="640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诗中表明诗人情感的关键词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3"/>
          <p:cNvSpPr/>
          <p:nvPr/>
        </p:nvSpPr>
        <p:spPr>
          <a:xfrm>
            <a:off x="2771640" y="1203480"/>
            <a:ext cx="4318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内容之诗眼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华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7"/>
          <p:cNvSpPr/>
          <p:nvPr/>
        </p:nvSpPr>
        <p:spPr>
          <a:xfrm>
            <a:off x="2746440" y="3147840"/>
            <a:ext cx="4753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感之诗眼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惘   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矩形 1"/>
          <p:cNvSpPr/>
          <p:nvPr/>
        </p:nvSpPr>
        <p:spPr>
          <a:xfrm>
            <a:off x="3166920" y="-281160"/>
            <a:ext cx="29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锦瑟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无端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五十弦，一弦一柱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华年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文本框 3"/>
          <p:cNvSpPr/>
          <p:nvPr/>
        </p:nvSpPr>
        <p:spPr>
          <a:xfrm>
            <a:off x="1692360" y="84456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无缘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文本框 4"/>
          <p:cNvSpPr/>
          <p:nvPr/>
        </p:nvSpPr>
        <p:spPr>
          <a:xfrm>
            <a:off x="6659640" y="8445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青年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5"/>
          <p:cNvSpPr/>
          <p:nvPr/>
        </p:nvSpPr>
        <p:spPr>
          <a:xfrm>
            <a:off x="1116000" y="2716200"/>
            <a:ext cx="69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锦瑟为何毫无缘由地有五十根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每一音每一节都叫我追忆青年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图片 4" descr=""/>
          <p:cNvPicPr/>
          <p:nvPr/>
        </p:nvPicPr>
        <p:blipFill>
          <a:blip r:embed="rId1"/>
          <a:stretch/>
        </p:blipFill>
        <p:spPr>
          <a:xfrm>
            <a:off x="1552680" y="3851280"/>
            <a:ext cx="6667560" cy="1292400"/>
          </a:xfrm>
          <a:prstGeom prst="rect">
            <a:avLst/>
          </a:prstGeom>
          <a:ln w="0">
            <a:noFill/>
          </a:ln>
        </p:spPr>
      </p:pic>
      <p:sp>
        <p:nvSpPr>
          <p:cNvPr id="3104" name="矩形 5"/>
          <p:cNvSpPr/>
          <p:nvPr/>
        </p:nvSpPr>
        <p:spPr>
          <a:xfrm>
            <a:off x="1044720" y="140004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锦瑟：漆有织锦纹的瑟。瑟：拨弦乐器，通常二十五弦。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史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载古瑟五十弦，后一般为二十五弦。但此诗创作于李商隐妻子死后，故五十弦有断弦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矩形 1"/>
          <p:cNvSpPr/>
          <p:nvPr/>
        </p:nvSpPr>
        <p:spPr>
          <a:xfrm>
            <a:off x="3877920" y="-93600"/>
            <a:ext cx="15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锦瑟无端五十弦，一弦一柱思华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文本框 1"/>
          <p:cNvSpPr/>
          <p:nvPr/>
        </p:nvSpPr>
        <p:spPr>
          <a:xfrm>
            <a:off x="971640" y="1155600"/>
            <a:ext cx="44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首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文本框 2"/>
          <p:cNvSpPr/>
          <p:nvPr/>
        </p:nvSpPr>
        <p:spPr>
          <a:xfrm>
            <a:off x="1332000" y="1708200"/>
            <a:ext cx="35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起兴、比喻、借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矩形 1"/>
          <p:cNvSpPr/>
          <p:nvPr/>
        </p:nvSpPr>
        <p:spPr>
          <a:xfrm>
            <a:off x="1260360" y="2282760"/>
            <a:ext cx="7608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人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托物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瑟）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起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同时以“锦瑟”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好的“华年”，以“思”引发“无端”之问，开门见山，点出自己因回首青春往事而引发的一声感慨。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弦一柱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借代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一声乐音，形容乐音繁复绵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文本框 80900"/>
          <p:cNvSpPr/>
          <p:nvPr/>
        </p:nvSpPr>
        <p:spPr>
          <a:xfrm>
            <a:off x="1116000" y="4227480"/>
            <a:ext cx="7532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en-US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伤感、无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07:47:48Z</dcterms:created>
  <dc:creator/>
  <dc:description/>
  <cp:keywords/>
  <dc:language>en-US</dc:language>
  <cp:lastModifiedBy>微软用户</cp:lastModifiedBy>
  <cp:lastPrinted>2021-11-19T07:47:48Z</cp:lastPrinted>
  <dcterms:modified xsi:type="dcterms:W3CDTF">2022-01-12T04:03:0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bum">
    <vt:lpwstr>rbm.xkw.com</vt:lpwstr>
  </property>
  <property fmtid="{D5CDD505-2E9C-101B-9397-08002B2CF9AE}" pid="3" name="author">
    <vt:lpwstr>rbm.xkw.com</vt:lpwstr>
  </property>
  <property fmtid="{D5CDD505-2E9C-101B-9397-08002B2CF9AE}" pid="4" name="company">
    <vt:lpwstr>学科网</vt:lpwstr>
  </property>
  <property fmtid="{D5CDD505-2E9C-101B-9397-08002B2CF9AE}" pid="5" name="copyright">
    <vt:lpwstr>学科网版权所有</vt:lpwstr>
  </property>
</Properties>
</file>