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AFF-E6A8-49B2-BA2C-23239A0B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A7F-563C-401C-9BDF-5783C4B0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DCE-2383-4131-AE88-9CE7CC8A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555-36A5-4F33-8019-2CD8860A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E94-C57F-440A-8D8C-CA8B080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9B3E-3D84-44A0-9CD2-A732F97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A6C-EBA6-4C01-817D-D1CE4FC1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5EF-83BF-43F5-86C7-F50DB5C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44D-7F9C-4481-817A-9CD947F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F4C6-B31A-49CF-879E-0FCACA2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8CC-D78E-4029-8CEB-C61B29F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80A-CA4F-4B59-A3F6-30CD26E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C4EE-E03F-45E0-A73E-5C1D09F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3EE-22A0-46C1-8267-49548AA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21C-7AFB-4220-8097-49A38883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0AA-41A0-464A-BA65-92D36003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9C9D-E846-4E79-86E5-5C5491C0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DC9-BC19-44EB-B1BF-27BBFAB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9FC-4C81-4DD4-8DAD-B8EFD9C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049-241C-4D0F-955B-F0CFB42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0E0-4E79-4295-8065-AA7920F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D3E-AF76-4D07-842F-82CAEB0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044-BA93-4402-BEEB-FEF4CBD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3FA-89D6-4A38-A8AC-EF4D6D9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CCF-AB4F-443D-8363-0956CA06BD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F9A8-C00F-45F3-9693-57F32BC7B6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图片1"/>
          <p:cNvPicPr/>
          <p:nvPr/>
        </p:nvPicPr>
        <p:blipFill>
          <a:blip r:embed="rId1"/>
          <a:stretch/>
        </p:blipFill>
        <p:spPr>
          <a:xfrm>
            <a:off x="0" y="-20520"/>
            <a:ext cx="953928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7128360" y="448560"/>
            <a:ext cx="1094760" cy="400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 快  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774560" y="5622840"/>
            <a:ext cx="100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黄庭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79280" y="623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黄庭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登快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中的快阁，今在江西泰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352600" y="1341360"/>
            <a:ext cx="4398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登快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痴儿了却公家事，快阁东西倚晚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木千山天远大，澄江一道月分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弦已为佳人绝，青眼聊因美酒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里归船弄长笛，此心吾与白鸥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37960" y="333360"/>
            <a:ext cx="1866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痴儿了却公家事，快阁东西倚晚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531080" y="1773360"/>
            <a:ext cx="61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句是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傅咸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载夏侯济之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子痴，了官事，官事未易了也。了事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坐痴，复为快耳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句用杜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目寒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倚山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及李商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古贞魂倚暮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82920" y="4365720"/>
            <a:ext cx="58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“了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字，渲染出了诗人什么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11640" y="112536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前两句运用了什么典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012040" y="5229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释重负的欢快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755640" y="333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的首联，这两句写了些什么？在表达方式上属于什么？作者为什么自称为“痴儿”？用“倚”字好还是用“赏”字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联写了作者公余之暇登快阁眺望。属于叙述这种表达方式。“痴儿”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的自嘲，但显示出一种兀傲的神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“倚”字用的好，含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倚阁赏晚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重意思，如果用“赏”字，就显得呆板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390480" y="117360"/>
            <a:ext cx="2547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颔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木千山天远大，澄江一道月分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17360" y="1197000"/>
            <a:ext cx="53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望无数秋山，山上的落叶飘零了，浩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空此时显得更加辽远阔大，澄净如玉的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在快阁亭下淙淙流过，一弯新月，映照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水中，显得更加空明澄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373400" y="3933720"/>
            <a:ext cx="57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杜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边落木萧萧下，不尽长江滚滚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谢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余霞散成绮，澄江净如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72840" y="5086440"/>
            <a:ext cx="55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人曾评此二句道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意境天开，则实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劈古今未泄之奥妙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张宗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鲁斋所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09720" y="76500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翻译这两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164240" y="3429000"/>
            <a:ext cx="30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化用了谁的诗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468360" y="333360"/>
            <a:ext cx="8496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首联相比颔联在表达方式上有何变化？这两句描写了那些景物？这些景物有何特点？它们表达了作者何种思想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由首联的叙写承接下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描写出自己登快阁后的所见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联描写了“落木”、“千山”、“天”、“江”和“月”等景物。具有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之远大，月之分明，气象阔远”的特点。寄托了作者向往大自然的感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句化用了杜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登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无边落木萧萧下，不尽长江滚滚来。”和谢眺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登三山还望京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余霞散成绮，澄江静如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766680" y="189000"/>
            <a:ext cx="1866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颈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弦已为佳人绝，青眼聊因美酒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41080" y="1557360"/>
            <a:ext cx="598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句用伯牙捧琴谢知音的故事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吕氏春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味篇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载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钟子期死，伯牙破琴绝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终身不复鼓琴，以为世无足复为鼓琴者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句用阮籍青白眼事。史载阮籍善为青白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见礼俗之士，以白眼对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见所悦之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乃见青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阮籍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940920" y="5518080"/>
            <a:ext cx="7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诗人无可奈何、孤独无聊的形象神情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76960" y="909720"/>
            <a:ext cx="30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运用了什么典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00080" y="48690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有何妙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39528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作者运用这两个典故表达了怎样的思想感情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运用这两个事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表达了自己厌恶官场、欲求知音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11720" y="117360"/>
            <a:ext cx="6032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尾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里归船弄长笛，此心吾与白鸥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57800" y="838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明了诗人怎样的人生理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74840" y="155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弃官归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674360" y="5086440"/>
            <a:ext cx="527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翁方纲评黄山谷诗云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坡公之外又出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绝高之风骨，绝大之境界，造化元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泄透矣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411560" y="2060640"/>
            <a:ext cx="527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姚鼐称此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豪而有韵，此移太白歌行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律内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817360" y="3286080"/>
            <a:ext cx="299340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东树评析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四句且叙且写，一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浩然，五、六句对意流行。收尤豪放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寓单行之气于排偶之中者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539640" y="3333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为什么不说自己“想弃官归隐”，而是用了“归船”、“长笛”、“白鸥”等词语，这样表达有和妙处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不说自己“想弃官归隐”，而是用了“归船”、“长笛”、“白鸥”等词语，这是将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弃官归隐”这种抽象的思想感情用形象的东西表达出来，增加了诗中的形象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32520" y="1844640"/>
            <a:ext cx="53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黄庭坚作诗以学杜甫为宗旨，专意学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拗句”；又提倡“无一字无来处”而“点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成金”、“夺胎换骨”，从而形成独具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“山谷体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03000" y="33336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、语言特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395280" y="0"/>
            <a:ext cx="828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黑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品诗。把握以象传意和用典言志写作手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味人。理解“山谷”内涵，感受诗人狷介自持的生命气质、“和而不同”的人生智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本是诗在用典、炼字方面颇见功夫。“天远大”、“月分明”，点活了眼前景，写出了胸中境。“朱弦”“青眼”，不仅用事贴切，而且善敷色彩；“快阁东西”中的“东西”，写其徘徊瞻眺，“倚晚晴”的“倚”，写其逍遥自得，用寻常字面，意态宛然可见。五六句属对严整，意思流贯，把七言歌行的手法运用到律诗中，气势流转，谋篇布局颇见章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全诗的结构看，结尾相当精彩：起首处诗人从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透露了对官场生涯的厌倦和对登快阁亭欣赏自然景色的渴望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然后，诗人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陶醉在落木千山，澄江月明的美景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之中，在良辰美景中，诗人心内的忧烦无端而来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诗人感受到自己的抱负无法实现、自己的胸怀无人理解的痛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那么，解脱的出路何在呢？这就很自然地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引出了诗人的“归船”、“白鸥”之想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此诗极受后人称赏。姚鼐称此诗“豪而有韵，此移太白歌行于七律内者”；翁方纲评黄山谷诗云：“坡公之外又出此一种绝高之风骨，绝大之境界，造化元气发泄透矣。”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黄庭坚作诗以学杜甫为宗旨，专意学其“拗句”；又提倡“无一字无来处”而“点铁成金”、“夺胎换骨”，从而形成独具风格的“山谷体”。此诗也可见这样的特点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Garamond"/>
              </a:rPr>
              <a:t>课堂总结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曲折尽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平铺直叙的作品，一般说来不会引人入胜。反之，顿挫抑扬，往往金声而玉振；曲径通幽，每引人寻踪而探胜；欲擒故纵，才能见到诗意文情和山重水复的丘壑之美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全诗的结构看，这个结尾是相当精彩的：起首处诗人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痴儿了却官家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起，透露了对官场生涯的厌倦和对登快阁亭欣赏自然景色的渴望；然后，渐入佳境，诗人陶醉在落木千山，澄江月明的美景之中，与起首处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家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鲜明对照；五、六句诗人作一迭宕：在良辰美景中，诗人心内的忧烦无端而来，诗人感受到自己的抱负无法实现、自己的胸怀无人理解的痛苦。那么，解脱的出路何在呢？这就很自然地引出了诗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想。这一结尾，不但呼应了起首，顺势作结，给人以“一气盘旋而下之感”。而且意味隽永，让人想象无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纵观全诗，感情抑扬，起伏不定：初登而喜（前四句），忽而转忧（“朱弦”句），继而又转喜（“青眼”句），喜而复忧（“万里”两句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通过这一而再、再而三的纵笔，作者对于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宦途的厌倦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对于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乡园的向往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便愈见其深，愈感其切。由于它用的是顿挫、跌宕的手法，因此，也愈见出感情的深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900000" y="1413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一、走进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-20520"/>
            <a:ext cx="4492800" cy="6978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717800" y="117360"/>
            <a:ext cx="406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庭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字鲁直，自号山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人，晚号涪翁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称黄豫章，洪州分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今江西修水）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宋诗人、词人、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家，为盛极一时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西诗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山之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324000" y="260280"/>
            <a:ext cx="8569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庭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鲁直，号山谷道人，晚号涪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黔安居士，八桂老人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宋诗人，书法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修水县人。其父黄庶庆历二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进士，仕不得志，遂刻意于文词，作诗学杜甫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伐檀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世。舅父李常（字公择）也是一位诗人兼藏书家。使黄庭坚从小生长在文学空气浓厚的书香家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庭坚自幼聪颖异常，五岁能背诵五经，七岁写过一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李常为之惊奇，称他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日千里之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宗治平三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6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黄庭坚第二次参加省试，以一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无遗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，中了第一名。第二年，再到汴京（今开封）参加礼部考试，中了三甲进士，登上仕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丰三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黄庭坚入京改官，被任为吉州太和县（今江西省太和县）知县。为了了解人民的生活实际情况，他常常深入穷乡僻壤，将农民的疾苦，如实上报，减轻农民负担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468360" y="333360"/>
            <a:ext cx="8424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庭坚出于苏轼门下，与张耒、秦观、晁补之并称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门四学士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与苏轼齐名，世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最重要的成就是诗。诗论标榜杜甫，但是强调读书查据，以故为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一字无来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脱胎换骨，点铁成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论。艺求上讲究修辞造句，追求奇拗硬涩的风格，其诗多写个人生活。他在宋代影响颇大，开创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西诗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又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兼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、草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书法初以周越为师，后取法颜真卿及怀素，受杨凝式影响，尤得力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痊鹳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笔法以侧险取势，纵横奇倔，自成风格，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宋四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词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调歌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瑶草一何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平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归何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美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涯也有江南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81400" y="117360"/>
            <a:ext cx="608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神宗元丰五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黄庭坚当时在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州太和县（今江西泰和）知县任上，公事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，诗人常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澄江之上，以江山广远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清华得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一统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吉安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阁览胜。这一首著名的七律就是写登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的所见所感。它集中体现了诗人的审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趣味和艺术主张，因而，常被评论家们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代表作。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95280" y="222912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写作背景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庭坚被任命为吉州太和县知县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于元丰四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8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达任所。这是他人仕以来首次担任地方官，处理公事十分认真负责。他亲见人民的种种疾苦，而王安石新法在实行过程中受到扭曲，并不能给人民带来实际好处，甚至有时还加重他们的负担。黄庭坚对这一切深感忧虑而又无能为力，所以时时生出归隐之念。元丰五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08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的一个傍晚，他在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公事之余，登上赣江边上的快阁，目有所见，心有所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即将其所见所感写入了《登快阁》这首诗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600280" y="94716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二、赏读诗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4:16:01Z</dcterms:created>
  <dc:creator>余哲</dc:creator>
  <dc:description/>
  <cp:keywords/>
  <dc:language>en-US</dc:language>
  <cp:lastModifiedBy>Administrator</cp:lastModifiedBy>
  <cp:lastPrinted>1899-12-30T00:00:00Z</cp:lastPrinted>
  <dcterms:modified xsi:type="dcterms:W3CDTF">2019-10-12T15:41:36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