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gif" ContentType="image/gi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192-2EB9-469B-8115-4E15FE40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06D-8850-4DCE-A1AC-72704183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215-AD59-43BC-AC50-F3365405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9DA-A963-48C2-A506-C20365A9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CE8-34FC-4EB0-95B5-E3D9BC3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5D0-74A2-43AA-893F-C0F8C74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85D-C634-4E48-9118-3B506F9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9B0-7DEB-462D-A751-89BBF7C0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874-1498-460F-8C00-2F45866B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7BD-ABB9-4078-8069-1D4AFAE0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838-DBAD-45EC-B16A-74A3B95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B15-378B-49D2-B7E8-305BDC7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EF8-C4E7-49F1-8D8D-D96BB167B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484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1700280"/>
            <a:ext cx="59054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应用文写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单据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547640" y="213372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钱物往来要大写：壹、贰、叁、肆、伍、陆、柒、捌、玖、拾、佰  、仟、万、亿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②钱的数额前，必须写“人民币”紧相连。数额末尾加“整”，且要写在同一行，以防涂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③正文之后，可写“此据”，以防他人增减作弊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借条或欠条必须写清归还期限，以防无理拖延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     ⑤不得涂改，如有改动，改动处应加章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 ⑥打印稿格式不变，但必须有签名，盖章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 ⑦为了便于存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要写全年、月、日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 rot="252000">
            <a:off x="1835280" y="1341360"/>
            <a:ext cx="4330440" cy="164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单据写作的注意事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情况下应写哪一种单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日，吴玉去正华文体商店购体育用品，但带的钱不够，还差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元，因他与商店老板很熟，于是约定第二天送还不足部分。请以吴玉的名义写一张单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  概念：欠条是欠物、欠款的个人或单位写给对方作为约期归还的文字凭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  注意：借钱或物品，到期不能全部归还、应收回原借条，另写一张欠条，约定在一定期限内归还尚余部分。因此，不能与借条混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9"/>
          <p:cNvSpPr/>
          <p:nvPr/>
        </p:nvSpPr>
        <p:spPr>
          <a:xfrm>
            <a:off x="1835280" y="620640"/>
            <a:ext cx="525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欠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因购体育用品所带现金不够，尚欠正华文体商店人民币肆拾捌元整，明天送还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此据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吴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6 (6)"/>
          <p:cNvPicPr/>
          <p:nvPr/>
        </p:nvPicPr>
        <p:blipFill>
          <a:blip r:embed="rId1"/>
          <a:stretch/>
        </p:blipFill>
        <p:spPr>
          <a:xfrm>
            <a:off x="1476360" y="4005360"/>
            <a:ext cx="575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042920" y="981000"/>
            <a:ext cx="7058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领条的写作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领条是个人或部门从有关单位领取钱物时，写给发放人留存的凭证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书1"/>
          <p:cNvPicPr/>
          <p:nvPr/>
        </p:nvPicPr>
        <p:blipFill>
          <a:blip r:embed="rId1"/>
          <a:stretch/>
        </p:blipFill>
        <p:spPr>
          <a:xfrm>
            <a:off x="7524720" y="4941720"/>
            <a:ext cx="1000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71640" y="1341360"/>
            <a:ext cx="3240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下面的领条是否存在错误，请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领到厂劳资科发给的劳动布工作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套，高筒胶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双。此 系工人劳保用品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承车间罗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6 (5)"/>
          <p:cNvPicPr/>
          <p:nvPr/>
        </p:nvPicPr>
        <p:blipFill>
          <a:blip r:embed="rId1"/>
          <a:stretch/>
        </p:blipFill>
        <p:spPr>
          <a:xfrm>
            <a:off x="4427640" y="3805200"/>
            <a:ext cx="4441680" cy="30528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076720" y="476280"/>
            <a:ext cx="2232000" cy="936720"/>
          </a:xfrm>
          <a:prstGeom prst="wedgeRoundRectCallout">
            <a:avLst>
              <a:gd name="adj1" fmla="val -130083"/>
              <a:gd name="adj2" fmla="val 152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写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5292720" y="2781360"/>
            <a:ext cx="2808360" cy="720720"/>
          </a:xfrm>
          <a:prstGeom prst="wedgeRoundRectCallout">
            <a:avLst>
              <a:gd name="adj1" fmla="val -162324"/>
              <a:gd name="adj2" fmla="val 37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品数量应大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修改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领到厂劳资科发给的劳动布工作服玖拾陆套，高筒胶鞋捌拾贰双。此系工人劳保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轴承车间  罗明                                      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50920" y="76500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一反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会写收条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11280" y="1773360"/>
            <a:ext cx="784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团支部团支书李华收到校团委发给本支部的《团章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，团支部活动记录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，请以李华的名义给校团委写张收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书1"/>
          <p:cNvPicPr/>
          <p:nvPr/>
        </p:nvPicPr>
        <p:blipFill>
          <a:blip r:embed="rId1"/>
          <a:stretch/>
        </p:blipFill>
        <p:spPr>
          <a:xfrm>
            <a:off x="0" y="476280"/>
            <a:ext cx="223200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6 (4)"/>
          <p:cNvPicPr/>
          <p:nvPr/>
        </p:nvPicPr>
        <p:blipFill>
          <a:blip r:embed="rId2"/>
          <a:stretch/>
        </p:blipFill>
        <p:spPr>
          <a:xfrm>
            <a:off x="4932360" y="4149720"/>
            <a:ext cx="31478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收条的写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概念：收到单位或个人送来的钱或物品，应写张单据给对方作为凭证，这种单据叫收条，也可叫收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注意：如所收钱物或物品本来是由甲方借出的，那么甲方应出示乙方写的借条，还给对方或当面撕毁。这时甲方不必写收条。如甲方不在，别人代收，代收人应写收条或代收条给乙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47640" y="189000"/>
            <a:ext cx="53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条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620640"/>
            <a:ext cx="43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520" y="3932280"/>
            <a:ext cx="911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9640" y="1052640"/>
            <a:ext cx="820908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    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收到校团委发给本支部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《团章》伍拾柒本，团支部活记录本贰本。此据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高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支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经手人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187280" y="1341360"/>
            <a:ext cx="7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导入新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268360" y="1341360"/>
            <a:ext cx="60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青年农民闫霞是河南省淅川县城关镇西湾村人。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8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日，闫霞在县城个体工商户李伟门窗厂购买铁制大门一套，价值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38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。闫霞当即付现金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8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同时出具欠款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的条据，注明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日付清。约定期到后，闫霞支付欠款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1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下欠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，由于碍于情面，闫霞也未变更条据。今年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月初，闫霞主动向李伟还下欠的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时，不料李伟拿出闫霞给出具的欠条，让闫霞还</a:t>
            </a:r>
            <a:r>
              <a:rPr b="1" lang="en-US" sz="2400" spc="-1" strike="noStrike">
                <a:solidFill>
                  <a:srgbClr val="333399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元欠款，双方争辩未果。为此，闫霞将李伟诉诸法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476360" y="400536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484360" y="1484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340000" y="19890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979640" y="1700280"/>
            <a:ext cx="655308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单据写作很重要，规范写法要记牢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钱物数量要大写，数前“币种”数后“整”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正文之后写“此据”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借条、欠条标还期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打印稿，应签名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月日，须写齐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涂改处，盖印章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歧义，无烦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3640" y="3933720"/>
            <a:ext cx="3200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一读，记一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今天周小东收到李华归还的借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.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请你以周小东的名义打一收条给李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今天李华向周小东借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约定一个月后归还。请你以李华的名义打一借条给周小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书1"/>
          <p:cNvPicPr/>
          <p:nvPr/>
        </p:nvPicPr>
        <p:blipFill>
          <a:blip r:embed="rId2"/>
          <a:stretch/>
        </p:blipFill>
        <p:spPr>
          <a:xfrm>
            <a:off x="6012000" y="4653000"/>
            <a:ext cx="1944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28600" y="1219320"/>
            <a:ext cx="7315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收到李华归还的借款计人民币贰百伍拾元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小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09480" y="1295280"/>
            <a:ext cx="6705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李华人民币肆千捌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后归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小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762120"/>
            <a:ext cx="6629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李明准备出墙报，   需向保管室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白纸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盒颜料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盒粉笔。请你以李明的名义向保管室写一张领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设你准备出差，暂时向会计室欠差旅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预备本月内结清。请你给会计室写一张欠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480" y="106668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领到保管室白纸伍张、颜料叁盒、粉笔贰盒，办墙报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手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李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0880" y="1600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暂欠会计室差旅费计人民币贰千伍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月内结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1600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暂欠会计室差旅费计人民币贰千伍百元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月内结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90720" y="762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这份借条有什么毛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加以修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2133720"/>
            <a:ext cx="6400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会互助金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以内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371600" y="1143000"/>
            <a:ext cx="5715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借到工会互助金人民币叁百元整，一个月内归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据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××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067280" y="981000"/>
            <a:ext cx="396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院认为：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告在被告处购门一套支付部分现金，下欠款额欠条系其亲笔所写，属真实意思表达，法院予以认证。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告称在约定期限内已还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，下欠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未还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真凭实据，不予认可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最后，法院依法判令闫霞在十日内偿还李伟现金</a:t>
            </a:r>
            <a:r>
              <a:rPr b="0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，并承担</a:t>
            </a:r>
            <a:r>
              <a:rPr b="0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诉讼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57120" y="0"/>
            <a:ext cx="7567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再次强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据类应用文的一般写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1600200"/>
            <a:ext cx="6553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首行中间写标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二行空两格写上“今收到” 、 “今借到” 、“今暂欠”或“今领到”等字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接对方单位或个人姓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着写物的名称数量或金额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文结束后另起一行空两格写上“此据”字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正文的右下方写单位名称、经手人姓名和开条日期，并加盖图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0492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据类应用文写作的注意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14200" y="11430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财物往来的单据要长期保存或作为结算凭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该书写清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用纸墨要利于保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单据中涉及财物的金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必须大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零，壹，贰，叁，肆，伍，陆，柒，捌，玖，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数额前后不能留下空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防增添涂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是现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金额前应先写上“人民币”三个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面接写数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数额后面写上量词名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加写一个“整”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示完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防止添写作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凭证单据不得任意涂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许改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在改动处加盖印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示负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纠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了便于存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写明年、月、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533b7a1790fd0760f3de323f"/>
          <p:cNvPicPr/>
          <p:nvPr/>
        </p:nvPicPr>
        <p:blipFill>
          <a:blip r:embed="rId1"/>
          <a:stretch/>
        </p:blipFill>
        <p:spPr>
          <a:xfrm>
            <a:off x="468360" y="189000"/>
            <a:ext cx="809928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格式错误的借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cd236890ab4eb890e24445b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7280" y="128520"/>
            <a:ext cx="245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00" y="1483920"/>
            <a:ext cx="647640" cy="3382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b75b2de664dfd18cdbf1ae8"/>
          <p:cNvPicPr/>
          <p:nvPr/>
        </p:nvPicPr>
        <p:blipFill>
          <a:blip r:embed="rId1"/>
          <a:stretch/>
        </p:blipFill>
        <p:spPr>
          <a:xfrm>
            <a:off x="1403280" y="620640"/>
            <a:ext cx="4991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楷体"/>
              </a:rPr>
              <a:t>单据的概念与种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69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据是个人或单位之间因发生钱物往来，而给对方出具的一种作为凭证或说明的具有固定格式的条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据有借条、收条、欠条、领条等几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借条的写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606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2060640"/>
            <a:ext cx="4186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书1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1333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4788000" y="1773360"/>
            <a:ext cx="381636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003640" y="1700280"/>
            <a:ext cx="3745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今借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财会科人民币叁仟元整，用作出公差费用。出差完毕后按规定报销。此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68360" y="1700280"/>
            <a:ext cx="3960720" cy="46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95280" y="2022480"/>
            <a:ext cx="396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借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今借到财会科人民币叁仟元整，用作出公差费用。出差完毕后按规定报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此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书1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042920" y="1628640"/>
            <a:ext cx="3240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042920" y="1773360"/>
            <a:ext cx="3024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借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今借到财会科人民币叁仟元整，用于出公差费用。出差完毕后按规定报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此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刘海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635280" y="404640"/>
            <a:ext cx="4824360" cy="1368720"/>
          </a:xfrm>
          <a:prstGeom prst="wedgeRoundRectCallout">
            <a:avLst>
              <a:gd name="adj1" fmla="val -60759"/>
              <a:gd name="adj2" fmla="val 69027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 通常在第一行中间写“借条”、“收条”、“领条”等，或者写“今借到”、“今收到”、“今领到”等字样，表明单据的性质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643280" y="2565360"/>
            <a:ext cx="3743640" cy="1655640"/>
          </a:xfrm>
          <a:prstGeom prst="borderCallout1">
            <a:avLst>
              <a:gd name="adj1" fmla="val 18750"/>
              <a:gd name="adj2" fmla="val -8333"/>
              <a:gd name="adj3" fmla="val -4601"/>
              <a:gd name="adj4" fmla="val -263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正文</a:t>
            </a: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     第二行空两格开始写，要写明从什么单位或什么人处借到或领到什么财物，要详细写明名称、种类、数量，数量要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写汉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一般不用阿拉伯数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148360" y="4365720"/>
            <a:ext cx="3384360" cy="2276280"/>
          </a:xfrm>
          <a:prstGeom prst="wedgeRectCallout">
            <a:avLst>
              <a:gd name="adj1" fmla="val -93106"/>
              <a:gd name="adj2" fmla="val -2106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具名和日期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 正文下面偏右处写上经手人的姓名及日期，个人出具的单据，由本人签名，有时要写明所属单位名称，并盖章；单位出具的单据要盖公章，一般还要有经手人签名盖章。日期写在署名的下面。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1:38:43Z</dcterms:created>
  <dc:creator>wangyingzi</dc:creator>
  <dc:description/>
  <dc:language>en-US</dc:language>
  <cp:lastModifiedBy>ad</cp:lastModifiedBy>
  <dcterms:modified xsi:type="dcterms:W3CDTF">2013-11-27T07:29:03Z</dcterms:modified>
  <cp:revision>28</cp:revision>
  <dc:subject/>
  <dc:title>幻灯片 1</dc:title>
</cp:coreProperties>
</file>