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gif" ContentType="image/gif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3855-E02B-439D-88EF-2A3E5F2FE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335E-5501-4668-ACA2-A370FD334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98A4-23F8-4105-9749-7DF4E1AB0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34F0-14B2-45D6-BA37-2E3762984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B60B-F30A-42AE-BBB7-682390849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597C-A275-40EA-B216-471244FA6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BC89-76BE-46C3-B6AE-0E7C809FD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E6CF-D1A8-4FF4-9D2D-EF425C779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376F-8288-4F97-AD46-3C3E845E9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7496-6083-4360-A570-E31EEA63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9B19-5A70-423C-AA25-3854F96DA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36D8-FB87-400C-85B1-6FD1CED67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D0558-C956-4509-BEBA-772C601E3B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187280" y="148428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971640" y="1700280"/>
            <a:ext cx="590544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应用文写作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隶书"/>
                <a:ea typeface="隶书"/>
              </a:rPr>
              <a:t>单据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1547640" y="2133720"/>
            <a:ext cx="504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    ①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钱物往来要大写：壹、贰、叁、肆、伍、陆、柒、捌、玖、拾、佰  、仟、万、亿。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     ②钱的数额前，必须写“人民币”紧相连。数额末尾加“整”，且要写在同一行，以防涂改。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      ③正文之后，可写“此据”，以防他人增减作弊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④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借条或欠条必须写清归还期限，以防无理拖延。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      ⑤不得涂改，如有改动，改动处应加章。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 ⑥打印稿格式不变，但必须有签名，盖章。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 ⑦为了便于存查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要写全年、月、日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8"/>
          <p:cNvSpPr txBox="1"/>
          <p:nvPr/>
        </p:nvSpPr>
        <p:spPr>
          <a:xfrm rot="252000">
            <a:off x="1835280" y="1341360"/>
            <a:ext cx="4330440" cy="1646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单据写作的注意事项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69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下列情况下应写哪一种单据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2008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年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7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月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12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日，吴玉去正华文体商店购体育用品，但带的钱不够，还差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48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元，因他与商店老板很熟，于是约定第二天送还不足部分。请以吴玉的名义写一张单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欠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   概念：欠条是欠物、欠款的个人或单位写给对方作为约期归还的文字凭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   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   注意：借钱或物品，到期不能全部归还、应收回原借条，另写一张欠条，约定在一定期限内归还尚余部分。因此，不能与借条混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9"/>
          <p:cNvSpPr/>
          <p:nvPr/>
        </p:nvSpPr>
        <p:spPr>
          <a:xfrm>
            <a:off x="1835280" y="620640"/>
            <a:ext cx="525600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欠条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因购体育用品所带现金不够，尚欠正华文体商店人民币肆拾捌元整，明天送还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此据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                                            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吴玉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                                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008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年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7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月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2 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日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1" descr="6 (6)"/>
          <p:cNvPicPr/>
          <p:nvPr/>
        </p:nvPicPr>
        <p:blipFill>
          <a:blip r:embed="rId1"/>
          <a:stretch/>
        </p:blipFill>
        <p:spPr>
          <a:xfrm>
            <a:off x="1476360" y="4005360"/>
            <a:ext cx="575964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1042920" y="981000"/>
            <a:ext cx="70581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zh-CN" sz="4800" spc="-1" strike="noStrike">
                <a:solidFill>
                  <a:srgbClr val="003366"/>
                </a:solidFill>
                <a:latin typeface="Arial"/>
              </a:rPr>
              <a:t>领条的写作 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      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领条是个人或部门从有关单位领取钱物时，写给发放人留存的凭证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书1"/>
          <p:cNvPicPr/>
          <p:nvPr/>
        </p:nvPicPr>
        <p:blipFill>
          <a:blip r:embed="rId1"/>
          <a:stretch/>
        </p:blipFill>
        <p:spPr>
          <a:xfrm>
            <a:off x="7524720" y="4941720"/>
            <a:ext cx="1000080" cy="13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971640" y="1341360"/>
            <a:ext cx="3240000" cy="32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下面的领条是否存在错误，请修改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今领到厂劳资科发给的劳动布工作服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6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套，高筒胶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双。此 系工人劳保用品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轴承车间罗明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6 (5)"/>
          <p:cNvPicPr/>
          <p:nvPr/>
        </p:nvPicPr>
        <p:blipFill>
          <a:blip r:embed="rId1"/>
          <a:stretch/>
        </p:blipFill>
        <p:spPr>
          <a:xfrm>
            <a:off x="4427640" y="3805200"/>
            <a:ext cx="4441680" cy="305280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6"/>
          <p:cNvSpPr/>
          <p:nvPr/>
        </p:nvSpPr>
        <p:spPr>
          <a:xfrm>
            <a:off x="5076720" y="476280"/>
            <a:ext cx="2232000" cy="936720"/>
          </a:xfrm>
          <a:prstGeom prst="wedgeRoundRectCallout">
            <a:avLst>
              <a:gd name="adj1" fmla="val -130083"/>
              <a:gd name="adj2" fmla="val 15287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没写标题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8"/>
          <p:cNvSpPr/>
          <p:nvPr/>
        </p:nvSpPr>
        <p:spPr>
          <a:xfrm>
            <a:off x="5292720" y="2781360"/>
            <a:ext cx="2808360" cy="720720"/>
          </a:xfrm>
          <a:prstGeom prst="wedgeRoundRectCallout">
            <a:avLst>
              <a:gd name="adj1" fmla="val -162324"/>
              <a:gd name="adj2" fmla="val 3788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物品数量应大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309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修改后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9280" y="90792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 algn="ctr">
              <a:lnSpc>
                <a:spcPct val="1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领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今领到厂劳资科发给的劳动布工作服玖拾陆套，高筒胶鞋捌拾贰双。此系工人劳保用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轴承车间  罗明                                         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8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2050920" y="765000"/>
            <a:ext cx="635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举一反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会写收条了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611280" y="1773360"/>
            <a:ext cx="784836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高三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(2)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团支部团支书李华收到校团委发给本支部的《团章》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57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本，团支部活动记录本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本，请以李华的名义给校团委写张收条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书1"/>
          <p:cNvPicPr/>
          <p:nvPr/>
        </p:nvPicPr>
        <p:blipFill>
          <a:blip r:embed="rId1"/>
          <a:stretch/>
        </p:blipFill>
        <p:spPr>
          <a:xfrm>
            <a:off x="0" y="476280"/>
            <a:ext cx="2232000" cy="16574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6 (4)"/>
          <p:cNvPicPr/>
          <p:nvPr/>
        </p:nvPicPr>
        <p:blipFill>
          <a:blip r:embed="rId2"/>
          <a:stretch/>
        </p:blipFill>
        <p:spPr>
          <a:xfrm>
            <a:off x="4932360" y="4149720"/>
            <a:ext cx="314784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收条的写作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 概念：收到单位或个人送来的钱或物品，应写张单据给对方作为凭证，这种单据叫收条，也可叫收据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     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 注意：如所收钱物或物品本来是由甲方借出的，那么甲方应出示乙方写的借条，还给对方或当面撕毁。这时甲方不必写收条。如甲方不在，别人代收，代收人应写收条或代收条给乙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1547640" y="189000"/>
            <a:ext cx="531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条据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0" y="620640"/>
            <a:ext cx="430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例：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47520" y="3932280"/>
            <a:ext cx="9114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539640" y="1052640"/>
            <a:ext cx="8209080" cy="32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收    条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今收到校团委发给本支部的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《团章》伍拾柒本，团支部活记录本贰本。此据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高三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团支部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经手人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李华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日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1187280" y="1341360"/>
            <a:ext cx="720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导入新课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2268360" y="1341360"/>
            <a:ext cx="6050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333399"/>
                </a:solidFill>
                <a:latin typeface="楷体"/>
                <a:ea typeface="楷体"/>
              </a:rPr>
              <a:t>青年农民闫霞是河南省淅川县城关镇西湾村人。</a:t>
            </a:r>
            <a:r>
              <a:rPr b="1" lang="en-US" sz="2400" spc="-1" strike="noStrike">
                <a:solidFill>
                  <a:srgbClr val="333399"/>
                </a:solidFill>
                <a:latin typeface="楷体"/>
                <a:ea typeface="楷体"/>
              </a:rPr>
              <a:t>1999</a:t>
            </a:r>
            <a:r>
              <a:rPr b="1" lang="zh-CN" sz="2400" spc="-1" strike="noStrike">
                <a:solidFill>
                  <a:srgbClr val="333399"/>
                </a:solidFill>
                <a:latin typeface="楷体"/>
                <a:ea typeface="楷体"/>
              </a:rPr>
              <a:t>年</a:t>
            </a:r>
            <a:r>
              <a:rPr b="1" lang="en-US" sz="2400" spc="-1" strike="noStrike">
                <a:solidFill>
                  <a:srgbClr val="333399"/>
                </a:solidFill>
                <a:latin typeface="楷体"/>
                <a:ea typeface="楷体"/>
              </a:rPr>
              <a:t>10</a:t>
            </a:r>
            <a:r>
              <a:rPr b="1" lang="zh-CN" sz="2400" spc="-1" strike="noStrike">
                <a:solidFill>
                  <a:srgbClr val="333399"/>
                </a:solidFill>
                <a:latin typeface="楷体"/>
                <a:ea typeface="楷体"/>
              </a:rPr>
              <a:t>月</a:t>
            </a:r>
            <a:r>
              <a:rPr b="1" lang="en-US" sz="2400" spc="-1" strike="noStrike">
                <a:solidFill>
                  <a:srgbClr val="333399"/>
                </a:solidFill>
                <a:latin typeface="楷体"/>
                <a:ea typeface="楷体"/>
              </a:rPr>
              <a:t>18</a:t>
            </a:r>
            <a:r>
              <a:rPr b="1" lang="zh-CN" sz="2400" spc="-1" strike="noStrike">
                <a:solidFill>
                  <a:srgbClr val="333399"/>
                </a:solidFill>
                <a:latin typeface="楷体"/>
                <a:ea typeface="楷体"/>
              </a:rPr>
              <a:t>日，闫霞在县城个体工商户李伟门窗厂购买铁制大门一套，价值</a:t>
            </a:r>
            <a:r>
              <a:rPr b="1" lang="en-US" sz="2400" spc="-1" strike="noStrike">
                <a:solidFill>
                  <a:srgbClr val="333399"/>
                </a:solidFill>
                <a:latin typeface="楷体"/>
                <a:ea typeface="楷体"/>
              </a:rPr>
              <a:t>380</a:t>
            </a:r>
            <a:r>
              <a:rPr b="1" lang="zh-CN" sz="2400" spc="-1" strike="noStrike">
                <a:solidFill>
                  <a:srgbClr val="333399"/>
                </a:solidFill>
                <a:latin typeface="楷体"/>
                <a:ea typeface="楷体"/>
              </a:rPr>
              <a:t>元。闫霞当即付现金</a:t>
            </a:r>
            <a:r>
              <a:rPr b="1" lang="en-US" sz="2400" spc="-1" strike="noStrike">
                <a:solidFill>
                  <a:srgbClr val="333399"/>
                </a:solidFill>
                <a:latin typeface="楷体"/>
                <a:ea typeface="楷体"/>
              </a:rPr>
              <a:t>180</a:t>
            </a:r>
            <a:r>
              <a:rPr b="1" lang="zh-CN" sz="2400" spc="-1" strike="noStrike">
                <a:solidFill>
                  <a:srgbClr val="333399"/>
                </a:solidFill>
                <a:latin typeface="楷体"/>
                <a:ea typeface="楷体"/>
              </a:rPr>
              <a:t>元，同时出具欠款</a:t>
            </a:r>
            <a:r>
              <a:rPr b="1" lang="en-US" sz="2400" spc="-1" strike="noStrike">
                <a:solidFill>
                  <a:srgbClr val="333399"/>
                </a:solidFill>
                <a:latin typeface="楷体"/>
                <a:ea typeface="楷体"/>
              </a:rPr>
              <a:t>200</a:t>
            </a:r>
            <a:r>
              <a:rPr b="1" lang="zh-CN" sz="2400" spc="-1" strike="noStrike">
                <a:solidFill>
                  <a:srgbClr val="333399"/>
                </a:solidFill>
                <a:latin typeface="楷体"/>
                <a:ea typeface="楷体"/>
              </a:rPr>
              <a:t>元的条据，注明</a:t>
            </a:r>
            <a:r>
              <a:rPr b="1" lang="en-US" sz="2400" spc="-1" strike="noStrike">
                <a:solidFill>
                  <a:srgbClr val="333399"/>
                </a:solidFill>
                <a:latin typeface="楷体"/>
                <a:ea typeface="楷体"/>
              </a:rPr>
              <a:t>1999</a:t>
            </a:r>
            <a:r>
              <a:rPr b="1" lang="zh-CN" sz="2400" spc="-1" strike="noStrike">
                <a:solidFill>
                  <a:srgbClr val="333399"/>
                </a:solidFill>
                <a:latin typeface="楷体"/>
                <a:ea typeface="楷体"/>
              </a:rPr>
              <a:t>年</a:t>
            </a:r>
            <a:r>
              <a:rPr b="1" lang="en-US" sz="2400" spc="-1" strike="noStrike">
                <a:solidFill>
                  <a:srgbClr val="333399"/>
                </a:solidFill>
                <a:latin typeface="楷体"/>
                <a:ea typeface="楷体"/>
              </a:rPr>
              <a:t>12</a:t>
            </a:r>
            <a:r>
              <a:rPr b="1" lang="zh-CN" sz="2400" spc="-1" strike="noStrike">
                <a:solidFill>
                  <a:srgbClr val="333399"/>
                </a:solidFill>
                <a:latin typeface="楷体"/>
                <a:ea typeface="楷体"/>
              </a:rPr>
              <a:t>月</a:t>
            </a:r>
            <a:r>
              <a:rPr b="1" lang="en-US" sz="2400" spc="-1" strike="noStrike">
                <a:solidFill>
                  <a:srgbClr val="333399"/>
                </a:solidFill>
                <a:latin typeface="楷体"/>
                <a:ea typeface="楷体"/>
              </a:rPr>
              <a:t>20</a:t>
            </a:r>
            <a:r>
              <a:rPr b="1" lang="zh-CN" sz="2400" spc="-1" strike="noStrike">
                <a:solidFill>
                  <a:srgbClr val="333399"/>
                </a:solidFill>
                <a:latin typeface="楷体"/>
                <a:ea typeface="楷体"/>
              </a:rPr>
              <a:t>日付清。约定期到后，闫霞支付欠款</a:t>
            </a:r>
            <a:r>
              <a:rPr b="1" lang="en-US" sz="2400" spc="-1" strike="noStrike">
                <a:solidFill>
                  <a:srgbClr val="333399"/>
                </a:solidFill>
                <a:latin typeface="楷体"/>
                <a:ea typeface="楷体"/>
              </a:rPr>
              <a:t>150</a:t>
            </a:r>
            <a:r>
              <a:rPr b="1" lang="zh-CN" sz="2400" spc="-1" strike="noStrike">
                <a:solidFill>
                  <a:srgbClr val="333399"/>
                </a:solidFill>
                <a:latin typeface="楷体"/>
                <a:ea typeface="楷体"/>
              </a:rPr>
              <a:t>元，下欠</a:t>
            </a:r>
            <a:r>
              <a:rPr b="1" lang="en-US" sz="2400" spc="-1" strike="noStrike">
                <a:solidFill>
                  <a:srgbClr val="333399"/>
                </a:solidFill>
                <a:latin typeface="楷体"/>
                <a:ea typeface="楷体"/>
              </a:rPr>
              <a:t>50</a:t>
            </a:r>
            <a:r>
              <a:rPr b="1" lang="zh-CN" sz="2400" spc="-1" strike="noStrike">
                <a:solidFill>
                  <a:srgbClr val="333399"/>
                </a:solidFill>
                <a:latin typeface="楷体"/>
                <a:ea typeface="楷体"/>
              </a:rPr>
              <a:t>元，由于碍于情面，闫霞也未变更条据。今年</a:t>
            </a:r>
            <a:r>
              <a:rPr b="1" lang="en-US" sz="2400" spc="-1" strike="noStrike">
                <a:solidFill>
                  <a:srgbClr val="333399"/>
                </a:solidFill>
                <a:latin typeface="楷体"/>
                <a:ea typeface="楷体"/>
              </a:rPr>
              <a:t>2</a:t>
            </a:r>
            <a:r>
              <a:rPr b="1" lang="zh-CN" sz="2400" spc="-1" strike="noStrike">
                <a:solidFill>
                  <a:srgbClr val="333399"/>
                </a:solidFill>
                <a:latin typeface="楷体"/>
                <a:ea typeface="楷体"/>
              </a:rPr>
              <a:t>月初，闫霞主动向李伟还下欠的</a:t>
            </a:r>
            <a:r>
              <a:rPr b="1" lang="en-US" sz="2400" spc="-1" strike="noStrike">
                <a:solidFill>
                  <a:srgbClr val="333399"/>
                </a:solidFill>
                <a:latin typeface="楷体"/>
                <a:ea typeface="楷体"/>
              </a:rPr>
              <a:t>50</a:t>
            </a:r>
            <a:r>
              <a:rPr b="1" lang="zh-CN" sz="2400" spc="-1" strike="noStrike">
                <a:solidFill>
                  <a:srgbClr val="333399"/>
                </a:solidFill>
                <a:latin typeface="楷体"/>
                <a:ea typeface="楷体"/>
              </a:rPr>
              <a:t>元时，不料李伟拿出闫霞给出具的欠条，让闫霞还</a:t>
            </a:r>
            <a:r>
              <a:rPr b="1" lang="en-US" sz="2400" spc="-1" strike="noStrike">
                <a:solidFill>
                  <a:srgbClr val="333399"/>
                </a:solidFill>
                <a:latin typeface="楷体"/>
                <a:ea typeface="楷体"/>
              </a:rPr>
              <a:t>200</a:t>
            </a:r>
            <a:r>
              <a:rPr b="1" lang="zh-CN" sz="2400" spc="-1" strike="noStrike">
                <a:solidFill>
                  <a:srgbClr val="333399"/>
                </a:solidFill>
                <a:latin typeface="楷体"/>
                <a:ea typeface="楷体"/>
              </a:rPr>
              <a:t>元欠款，双方争辩未果。为此，闫霞将李伟诉诸法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1476360" y="4005360"/>
            <a:ext cx="662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图片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6"/>
          <p:cNvSpPr/>
          <p:nvPr/>
        </p:nvSpPr>
        <p:spPr>
          <a:xfrm>
            <a:off x="2484360" y="1484280"/>
            <a:ext cx="61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340000" y="1989000"/>
            <a:ext cx="54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1979640" y="1700280"/>
            <a:ext cx="6553080" cy="43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单据写作很重要，规范写法要记牢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钱物数量要大写，数前“币种”数后“整”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正文之后写“此据”，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借条、欠条标还期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打印稿，应签名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年月日，须写齐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涂改处，盖印章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无歧义，无烦恼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WordArt 9"/>
          <p:cNvSpPr txBox="1"/>
          <p:nvPr/>
        </p:nvSpPr>
        <p:spPr>
          <a:xfrm>
            <a:off x="5003640" y="3933720"/>
            <a:ext cx="32004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读一读，记一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path" presetID="3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 -0.004 0.012 -0.04529 0.037 -0.04263 C 0.075 -0.03863 0.09 -0.00932 0.125 -0.03863 C 0.147 -0.05595 0.173 -0.09991 0.192 -0.09858 C 0.235 -0.09724 0.244 -0.05195 0.244 -0.01066 C 0.245 0.04796 0.189 0.09724 0.121 0.10257 C 0.052 0.10657 -0.005 0.04396 0 0 Z">
                                      <p:cBhvr>
                                        <p:cTn id="94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课堂巩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42472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 今天周小东收到李华归还的借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0.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元，请你以周小东的名义打一收条给李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今天李华向周小东借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元，约定一个月后归还。请你以李华的名义打一借条给周小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书1"/>
          <p:cNvPicPr/>
          <p:nvPr/>
        </p:nvPicPr>
        <p:blipFill>
          <a:blip r:embed="rId2"/>
          <a:stretch/>
        </p:blipFill>
        <p:spPr>
          <a:xfrm>
            <a:off x="6012000" y="4653000"/>
            <a:ext cx="1944720" cy="17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3"/>
          <p:cNvSpPr/>
          <p:nvPr/>
        </p:nvSpPr>
        <p:spPr>
          <a:xfrm>
            <a:off x="228600" y="1219320"/>
            <a:ext cx="73152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收条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今收到李华归还的借款计人民币贰百伍拾元整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此据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周小东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609480" y="1295280"/>
            <a:ext cx="67057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借条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今借到李华人民币肆千捌百元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个月后归还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此据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周小东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609480" y="762120"/>
            <a:ext cx="662940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高一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班李明准备出墙报，   需向保管室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张白纸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盒颜料，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盒粉笔。请你以李明的名义向保管室写一张领条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假设你准备出差，暂时向会计室欠差旅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5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元，预备本月内结清。请你给会计室写一张欠条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609480" y="1066680"/>
            <a:ext cx="66294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领条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今领到保管室白纸伍张、颜料叁盒、粉笔贰盒，办墙报用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此据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经手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高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4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班李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380880" y="1600200"/>
            <a:ext cx="75438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欠条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今暂欠会计室差旅费计人民币贰千伍百元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本月内结清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此据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×××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3"/>
          <p:cNvSpPr/>
          <p:nvPr/>
        </p:nvSpPr>
        <p:spPr>
          <a:xfrm>
            <a:off x="380880" y="1600200"/>
            <a:ext cx="75438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欠条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今暂欠会计室差旅费计人民币贰千伍百元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本月内结清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此据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×××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990720" y="7621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下面这份借条有什么毛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请加以修改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990720" y="2133720"/>
            <a:ext cx="64008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今借到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工会互助金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个月以内还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1371600" y="1143000"/>
            <a:ext cx="571500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借条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今借到工会互助金人民币叁百元整，一个月内归还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此据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×××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5"/>
          <p:cNvSpPr/>
          <p:nvPr/>
        </p:nvSpPr>
        <p:spPr>
          <a:xfrm>
            <a:off x="4067280" y="981000"/>
            <a:ext cx="39607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法院认为：</a:t>
            </a:r>
            <a:r>
              <a:rPr b="0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原告在被告处购门一套支付部分现金，下欠款额欠条系其亲笔所写，属真实意思表达，法院予以认证。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原告称在约定期限内已还</a:t>
            </a:r>
            <a:r>
              <a:rPr b="0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50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元，下欠</a:t>
            </a:r>
            <a:r>
              <a:rPr b="0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0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元未还</a:t>
            </a:r>
            <a:r>
              <a:rPr b="0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没有真凭实据，不予认可</a:t>
            </a:r>
            <a:r>
              <a:rPr b="0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。最后，法院依法判令闫霞在十日内偿还李伟现金</a:t>
            </a:r>
            <a:r>
              <a:rPr b="0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200</a:t>
            </a:r>
            <a:r>
              <a:rPr b="0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元，并承担</a:t>
            </a:r>
            <a:r>
              <a:rPr b="0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50</a:t>
            </a:r>
            <a:r>
              <a:rPr b="0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元诉讼费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357120" y="0"/>
            <a:ext cx="75675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再次强调：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单据类应用文的一般写法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609480" y="1600200"/>
            <a:ext cx="655344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在首行中间写标题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第二行空两格写上“今收到” 、 “今借到” 、“今暂欠”或“今领到”等字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后接对方单位或个人姓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接着写物的名称数量或金额等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正文结束后另起一行空两格写上“此据”字样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最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正文的右下方写单位名称、经手人姓名和开条日期，并加盖图章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304920" y="30492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单据类应用文写作的注意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214200" y="1143000"/>
            <a:ext cx="914400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财物往来的单据要长期保存或作为结算凭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应该书写清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所用纸墨要利于保存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单据中涉及财物的金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数字必须大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零，壹，贰，叁，肆，伍，陆，柒，捌，玖，拾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在数额前后不能留下空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以防增添涂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果是现金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金额前应先写上“人民币”三个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后面接写数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数额后面写上量词名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然后加写一个“整”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以示完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防止添写作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凭证单据不得任意涂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许改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应在改动处加盖印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以示负责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避免纠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为了便于存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要写明年、月、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39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533b7a1790fd0760f3de323f"/>
          <p:cNvPicPr/>
          <p:nvPr/>
        </p:nvPicPr>
        <p:blipFill>
          <a:blip r:embed="rId1"/>
          <a:stretch/>
        </p:blipFill>
        <p:spPr>
          <a:xfrm>
            <a:off x="468360" y="189000"/>
            <a:ext cx="8099280" cy="59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格式错误的借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ccd236890ab4eb890e24445b"/>
          <p:cNvPicPr/>
          <p:nvPr/>
        </p:nvPicPr>
        <p:blipFill>
          <a:blip r:embed="rId1"/>
          <a:stretch/>
        </p:blipFill>
        <p:spPr>
          <a:xfrm>
            <a:off x="468360" y="1557360"/>
            <a:ext cx="82803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27280" y="128520"/>
            <a:ext cx="2459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596000" y="1483920"/>
            <a:ext cx="647640" cy="33829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5b75b2de664dfd18cdbf1ae8"/>
          <p:cNvPicPr/>
          <p:nvPr/>
        </p:nvPicPr>
        <p:blipFill>
          <a:blip r:embed="rId1"/>
          <a:stretch/>
        </p:blipFill>
        <p:spPr>
          <a:xfrm>
            <a:off x="1403280" y="620640"/>
            <a:ext cx="49910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Arial"/>
                <a:ea typeface="楷体"/>
              </a:rPr>
              <a:t>单据的概念与种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15640" y="1988640"/>
            <a:ext cx="676908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单据是个人或单位之间因发生钱物往来，而给对方出具的一种作为凭证或说明的具有固定格式的条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单据有借条、收条、欠条、领条等几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借条的写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6068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00720" y="2060640"/>
            <a:ext cx="418608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1" descr="书1"/>
          <p:cNvPicPr/>
          <p:nvPr/>
        </p:nvPicPr>
        <p:blipFill>
          <a:blip r:embed="rId1"/>
          <a:stretch/>
        </p:blipFill>
        <p:spPr>
          <a:xfrm>
            <a:off x="250920" y="333360"/>
            <a:ext cx="1655640" cy="13334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12"/>
          <p:cNvSpPr/>
          <p:nvPr/>
        </p:nvSpPr>
        <p:spPr>
          <a:xfrm>
            <a:off x="4788000" y="1773360"/>
            <a:ext cx="3816360" cy="46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5003640" y="1700280"/>
            <a:ext cx="374508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今借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财会科人民币叁仟元整，用作出公差费用。出差完毕后按规定报销。此据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                  </a:t>
            </a: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刘海林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2008</a:t>
            </a: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年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4"/>
          <p:cNvSpPr/>
          <p:nvPr/>
        </p:nvSpPr>
        <p:spPr>
          <a:xfrm>
            <a:off x="468360" y="1700280"/>
            <a:ext cx="3960720" cy="468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5"/>
          <p:cNvSpPr/>
          <p:nvPr/>
        </p:nvSpPr>
        <p:spPr>
          <a:xfrm>
            <a:off x="395280" y="2022480"/>
            <a:ext cx="396072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借条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今借到财会科人民币叁仟元整，用作出公差费用。出差完毕后按规定报销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此据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                  </a:t>
            </a: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刘海林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2008</a:t>
            </a: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年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书1"/>
          <p:cNvPicPr/>
          <p:nvPr/>
        </p:nvPicPr>
        <p:blipFill>
          <a:blip r:embed="rId1"/>
          <a:stretch/>
        </p:blipFill>
        <p:spPr>
          <a:xfrm>
            <a:off x="250920" y="333360"/>
            <a:ext cx="1655640" cy="133344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5"/>
          <p:cNvSpPr/>
          <p:nvPr/>
        </p:nvSpPr>
        <p:spPr>
          <a:xfrm>
            <a:off x="1042920" y="1628640"/>
            <a:ext cx="3240000" cy="460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1042920" y="1773360"/>
            <a:ext cx="302436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Arial"/>
              </a:rPr>
              <a:t>借条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66"/>
                </a:solidFill>
                <a:latin typeface="Arial"/>
              </a:rPr>
              <a:t>今借到财会科人民币叁仟元整，用于出公差费用。出差完毕后按规定报销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66"/>
                </a:solidFill>
                <a:latin typeface="Arial"/>
              </a:rPr>
              <a:t>此据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Arial"/>
              </a:rPr>
              <a:t>                  </a:t>
            </a:r>
            <a:r>
              <a:rPr b="0" lang="zh-CN" sz="2400" spc="-1" strike="noStrike">
                <a:solidFill>
                  <a:srgbClr val="000066"/>
                </a:solidFill>
                <a:latin typeface="Arial"/>
              </a:rPr>
              <a:t>刘海林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2008</a:t>
            </a:r>
            <a:r>
              <a:rPr b="0" lang="zh-CN" sz="2400" spc="-1" strike="noStrike">
                <a:solidFill>
                  <a:srgbClr val="000066"/>
                </a:solidFill>
                <a:latin typeface="Arial"/>
              </a:rPr>
              <a:t>年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66"/>
                </a:solidFill>
                <a:latin typeface="Arial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7"/>
          <p:cNvSpPr/>
          <p:nvPr/>
        </p:nvSpPr>
        <p:spPr>
          <a:xfrm>
            <a:off x="3635280" y="404640"/>
            <a:ext cx="4824360" cy="1368720"/>
          </a:xfrm>
          <a:prstGeom prst="wedgeRoundRectCallout">
            <a:avLst>
              <a:gd name="adj1" fmla="val -60759"/>
              <a:gd name="adj2" fmla="val 69027"/>
              <a:gd name="adj3" fmla="val 16667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①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标题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     通常在第一行中间写“借条”、“收条”、“领条”等，或者写“今借到”、“今收到”、“今领到”等字样，表明单据的性质。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8"/>
          <p:cNvSpPr/>
          <p:nvPr/>
        </p:nvSpPr>
        <p:spPr>
          <a:xfrm>
            <a:off x="4643280" y="2565360"/>
            <a:ext cx="3743640" cy="1655640"/>
          </a:xfrm>
          <a:prstGeom prst="borderCallout1">
            <a:avLst>
              <a:gd name="adj1" fmla="val 18750"/>
              <a:gd name="adj2" fmla="val -8333"/>
              <a:gd name="adj3" fmla="val -4601"/>
              <a:gd name="adj4" fmla="val -2637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②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正文</a:t>
            </a:r>
            <a:br>
              <a:rPr sz="1800"/>
            </a:b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     第二行空两格开始写，要写明从什么单位或什么人处借到或领到什么财物，要详细写明名称、种类、数量，数量要用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大写汉字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，一般不用阿拉伯数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9"/>
          <p:cNvSpPr/>
          <p:nvPr/>
        </p:nvSpPr>
        <p:spPr>
          <a:xfrm>
            <a:off x="5148360" y="4365720"/>
            <a:ext cx="3384360" cy="2276280"/>
          </a:xfrm>
          <a:prstGeom prst="wedgeRectCallout">
            <a:avLst>
              <a:gd name="adj1" fmla="val -93106"/>
              <a:gd name="adj2" fmla="val -2106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③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具名和日期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     正文下面偏右处写上经手人的姓名及日期，个人出具的单据，由本人签名，有时要写明所属单位名称，并盖章；单位出具的单据要盖公章，一般还要有经手人签名盖章。日期写在署名的下面。</a:t>
            </a: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1T01:38:43Z</dcterms:created>
  <dc:creator>wangyingzi</dc:creator>
  <dc:description/>
  <dc:language>en-US</dc:language>
  <cp:lastModifiedBy>ad</cp:lastModifiedBy>
  <dcterms:modified xsi:type="dcterms:W3CDTF">2013-11-27T07:29:03Z</dcterms:modified>
  <cp:revision>28</cp:revision>
  <dc:subject/>
  <dc:title>幻灯片 1</dc:title>
</cp:coreProperties>
</file>