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5C1-92BF-40B5-B2EB-1AFA241C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98F-282D-47DE-83AE-B7329B95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AB738-0798-49C9-9AA0-CC6B3028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B3365-678B-4CDD-B6EA-AAF639E6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19104-4819-4FB0-ACB1-0080AB00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8BEA9-113F-458D-BE92-5F8371BF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7E581-6F80-494B-B795-4BBCAE71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5299E-1D9D-42A6-B538-E798D0C5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EFBAF-6BFC-4536-AAD0-CE6031D9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2D115-A308-47BE-BD36-53EA6E86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7CFBB-F72C-4011-A171-07791A1D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EB3B9-68CA-4049-AFC7-5D3E7573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EB0-786B-4165-BD59-CCA2CC2E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EF17D-FAB3-4BED-A208-8D25B466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5E67A-789E-4977-88E0-31A3C8A7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C2D51-CF5D-44B4-9A5C-9707D6A7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B0B82-2CBE-450A-8010-DEBA749E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DDA3F-AA4B-4F04-A008-9479CEC8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0C5B1-5FCC-40F0-94D4-D0E2A755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40E9E-C245-43CA-AD59-26097793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17D4C-ADC7-429F-843C-01957148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C68B5-ED10-4188-B67E-4478AB2F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DDF31-D104-46AF-AE33-D56AB4C7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37A-E88E-4BD3-B081-45ADA805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0D002-5C4B-4043-816A-40F2CAEE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D6483-D30F-48B0-95C8-5080C623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22F3D-8B0F-43CC-B7F9-72A0D5EA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15757-C071-4A0F-8C3E-4B4A1EF1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6A2B0-4CE9-4DAE-BB32-91DBA15C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E020D-DD69-4832-BE31-E42A970E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A6ABD-32AE-47A9-819F-9A2F8575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48AFD-6F8E-4494-BF98-B5F7AAEE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B46AA-B4BB-4545-9F27-7C9D130F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6B4BA-9E5F-4D79-8293-0988AD99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F150-85E3-4B85-85A8-483687B5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CE737-00F6-4905-8FDF-A5CF31A3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58E07-F6FC-469F-B603-1B5BD63F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F23AA-9866-4114-86CF-3A76A0C6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E442-7A1D-4ABD-8E7F-C5C1A312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FAF9-1385-4D56-B08F-F0917622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072D-44E4-4203-8AC6-0D7BC7EF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C57D-9EE4-40CE-931C-47D8C304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0458-ADA9-428A-ADC5-3CFDAC0C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59AB-D805-4D81-8380-6EB29BBA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337-A6EA-4A8D-9202-643A582C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1F47-9FBF-43F5-9658-B6BB582E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1457-65D3-491B-AE59-360825A0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BE7C-FFC4-4007-A94F-BB5E26FE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A867-10AB-4480-9651-115C7047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C625-4DDF-4FF1-ADE2-E471081F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2F9B-2252-49DE-83B6-BC291ACB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33F4-8B1E-46F6-86D9-9D603D70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39C54-F212-49FE-A840-AC6BE94B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9E92-2EF8-4418-8535-CEA1722E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58C44-0637-46EF-81B8-4DD0A163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337-ECA8-493B-83E1-2C62B5DE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B5E4-ACBA-4776-B655-93E1BD91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A8B6F-8E37-4250-9280-68ABE599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99A2-9A79-4937-AD31-395E723B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1452-98D2-43F0-8E2F-60C04F2D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E0FA-8F5B-4407-A7C2-DFA965FF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37429-9239-4965-85AA-8B4A63C6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D3B2-B53D-46AA-A00C-E7AD412D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A6CAD-ACFD-42AC-B3E1-89CF2BAD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C589C-2FE2-44B8-8D4E-151943DD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9C146-F860-4BA6-B7D4-248EF981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D47-01F8-44FD-B8E8-E3B3EF27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0EBF-2138-495D-8C39-3FE803A3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49E4A-69DF-4B2E-9874-D31C5D60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26B4-53BB-4D8D-A3EF-725874F6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F4AE-D719-4F86-A174-26433246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B7E5-EF7E-4229-A7A6-456B26B9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9C167-5F00-45C2-8AD7-4AF0348E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83F0-C5AD-4FA8-8A0B-2AB9978D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95394-1EBE-49C5-98FE-4E4642A4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EA01B-A549-4F0B-AE32-5B16BF94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1226E-87E9-462A-979A-8C8B1640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35E-6586-4C0D-B1A6-29E64B85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3A2BB-069E-44E2-BF26-376E551C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32DBA-FB70-417D-89C8-7F157864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69774-E1CD-40B3-A10D-80731398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22B23-7F94-4CF2-9815-0A518831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30CE5-A9A3-464D-88FE-05D4EC0E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79DAC-55D7-434C-910E-0B6F3AFE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B416A-FAC5-4FDD-BE05-59B77CA3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CB88E-CFB2-45C1-82A7-D334433B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6F4E9-171B-4D6E-B599-5ADB1182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E6F96-3051-4467-95F0-1EB7CB05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2B2-24EA-4236-B18A-6E8FBB97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E2A9A-82CA-44ED-B6B3-DE76204C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AB12C-28F7-48BC-A3E7-7EE778E4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DD693-8F73-483A-9098-A6537907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E42D1-7CD3-405A-B7BA-A5D5C698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7EC42-CFBD-4FFD-9A1C-71E7A31E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BBC48-CE60-4BA7-9D6D-E049EAC7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55F3A-114B-458E-8EDD-7FA35D5F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9C1A8-02C1-4717-90B2-BA118002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8AA62-195F-414A-847A-0C806DED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C58D4-466E-4676-8C49-A58E08AB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D76-A29E-42D1-93C9-73E521B2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7C321-F22F-4056-93AF-73E1BBA9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6CAB4-10E6-4C69-A756-082068F7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BC17D-E79D-4435-8991-6174E8BF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0792E-2EEB-4703-9287-5934E8C1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1B61B-559E-4A5D-AB3B-AE1E1210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E5041-2F62-455B-AFB3-373C1779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2DAE3-C8D1-4336-A6F2-52893890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59118-6CE0-48AD-ACAF-3FEF1C70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33426-020A-44F1-8373-6B26332D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88F6F-94A8-459C-9B4E-809D1910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B21-0D53-4257-8426-A2A5684B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CB99E-C03D-4404-808B-3132772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AEC99-8DE1-4061-AB3B-50C57BF3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3E2B2-D6E5-4351-AA32-C58106B8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FF291-48D3-4753-BDC9-D4A30DBA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467CF-3658-496D-9D6D-7C60C1E4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D4EF7-2D4C-485D-8A08-425CB89D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262A8-FD09-47F2-A58F-E1EE85DA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4F781-EF83-405F-8B01-ED724C44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A5E1B-AC92-48ED-90F1-6DC6FC6E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4E3BD-26D9-4E35-B4E9-D1990A9C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986-9BD8-4B24-A633-5C6886C8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64447-CE84-4B60-92E9-A201A9E6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BADE9-B421-44BC-BD23-F9376EB9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51C63-5D89-4C73-8AD4-00B19965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9527B-947D-4020-AA48-7F5AA1AD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CD4FE-73CD-4F49-9D3C-55EE66CF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8245C-F847-441C-B820-E80937C9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A3756-FB5C-4DE2-B7B9-592CE8D6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6F19F-E646-4348-9A42-2CCA3A11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47F06-53D1-4E0C-99A5-DD879C16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1234A-72D3-44D4-A1A7-0A92C059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2ED32-A5B4-4056-9AD3-49FBE17E77AC}" type="slidenum">
              <a:rPr b="0" lang="zh-CN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25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B6985-D347-4F16-B67C-34CC15BD0475}" type="slidenum">
              <a:rPr b="0" lang="zh-CN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943920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44C0D-96CC-4B76-8B15-6062D429DE12}" type="slidenum">
              <a:rPr b="0" lang="zh-CN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417760" y="3529080"/>
            <a:ext cx="863748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415960" y="328680"/>
            <a:ext cx="4973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7840" y="798480"/>
            <a:ext cx="80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D7DCD-0EE1-48B9-BF6D-D3820FFC29AC}" type="slidenum">
              <a:rPr b="0" lang="zh-CN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1D497-DB76-4434-BA45-EC5AD4B12F84}" type="slidenum">
              <a:rPr b="0" lang="zh-CN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54040" y="3805200"/>
            <a:ext cx="8631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34740-8FD5-4D0A-809B-1C79A4E0B164}" type="slidenum">
              <a:rPr b="0" lang="zh-CN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3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016EE-5F0B-4EE4-89EF-0D61ED7495A9}" type="slidenum">
              <a:rPr b="0" lang="zh-CN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A3BD9-9FB4-41C7-B47C-B5468ABDB266}" type="slidenum">
              <a:rPr b="0" lang="zh-CN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2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CF7DC-EA15-40F7-8ADC-AF99924E6B4D}" type="slidenum">
              <a:rPr b="0" lang="zh-CN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7920" y="3205080"/>
            <a:ext cx="3270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29109-171C-44AF-83F0-57A0D319848F}" type="slidenum">
              <a:rPr b="0" lang="zh-CN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7"/>
          <p:cNvGrpSpPr/>
          <p:nvPr/>
        </p:nvGrpSpPr>
        <p:grpSpPr>
          <a:xfrm>
            <a:off x="7477200" y="482760"/>
            <a:ext cx="4075200" cy="5148000"/>
            <a:chOff x="7477200" y="482760"/>
            <a:chExt cx="4075200" cy="5148000"/>
          </a:xfrm>
        </p:grpSpPr>
        <p:grpSp>
          <p:nvGrpSpPr>
            <p:cNvPr id="363" name="Rectangle 17"/>
            <p:cNvGrpSpPr/>
            <p:nvPr/>
          </p:nvGrpSpPr>
          <p:grpSpPr>
            <a:xfrm>
              <a:off x="7477200" y="482760"/>
              <a:ext cx="4075200" cy="5148000"/>
              <a:chOff x="7477200" y="482760"/>
              <a:chExt cx="4075200" cy="5148000"/>
            </a:xfrm>
          </p:grpSpPr>
          <p:pic>
            <p:nvPicPr>
              <p:cNvPr id="364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477200" y="482760"/>
                <a:ext cx="40752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7573320" y="500760"/>
                <a:ext cx="3880800" cy="48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Rectangle 18"/>
            <p:cNvGrpSpPr/>
            <p:nvPr/>
          </p:nvGrpSpPr>
          <p:grpSpPr>
            <a:xfrm>
              <a:off x="7831080" y="771480"/>
              <a:ext cx="3361320" cy="4310280"/>
              <a:chOff x="7831080" y="771480"/>
              <a:chExt cx="3361320" cy="4310280"/>
            </a:xfrm>
          </p:grpSpPr>
          <p:pic>
            <p:nvPicPr>
              <p:cNvPr id="367" name="Rectangl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831080" y="771480"/>
                <a:ext cx="3361320" cy="43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7871040" y="813600"/>
                <a:ext cx="3286440" cy="423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7920" y="3143160"/>
            <a:ext cx="55274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47920" y="5470560"/>
            <a:ext cx="552744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898989"/>
                </a:solidFill>
                <a:latin typeface="Gill Sans MT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Gill Sans MT"/>
                <a:ea typeface="等线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47920" y="318600"/>
            <a:ext cx="5540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800" spc="-1" strike="noStrike">
                <a:solidFill>
                  <a:srgbClr val="b71e42"/>
                </a:solidFill>
                <a:latin typeface="Gill Sans MT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6FCC5-5AD7-4428-996D-9BDEF1954D85}" type="slidenum">
              <a:rPr b="0" lang="zh-CN" sz="2800" spc="-1" strike="noStrike">
                <a:solidFill>
                  <a:srgbClr val="b71e42"/>
                </a:solidFill>
                <a:latin typeface="Gill Sans MT"/>
                <a:ea typeface="等线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等线 Light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e1e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1e1e1e"/>
                </a:solidFill>
                <a:latin typeface="宋体"/>
                <a:ea typeface="宋体"/>
              </a:rPr>
              <a:t>、学会鉴赏诗歌的方法（知人论世、意象、由景及人的过渡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e1e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1e1e1e"/>
                </a:solidFill>
                <a:latin typeface="宋体"/>
                <a:ea typeface="宋体"/>
              </a:rPr>
              <a:t>、进一步明确“意象”及其作用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e1e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1e1e1e"/>
                </a:solidFill>
                <a:latin typeface="宋体"/>
                <a:ea typeface="宋体"/>
              </a:rPr>
              <a:t>、明确本诗的艺术特色并运用到自己的诗歌创作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09440" y="1360080"/>
            <a:ext cx="9142200" cy="22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1e1e"/>
                </a:solidFill>
                <a:latin typeface="宋体"/>
                <a:ea typeface="宋体"/>
              </a:rPr>
              <a:t>当作者置身于日本横滨的海岸，面对浩渺无边的大海、惊天的巨浪，作者感受到了什么？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09400" y="206028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Gill Sans MT"/>
              <a:ea typeface="等线 Ligh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50440" y="1933560"/>
            <a:ext cx="96584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只读一遍，我们就能感受到诗作中的激情，这也是郭诗的特色，有人把这称为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“火山喷发式的情感。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13920" y="804600"/>
            <a:ext cx="116823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题目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立在地球边上放号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谁立在地球边上？地球边上是哪？放号是什么意思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46240" y="2015640"/>
            <a:ext cx="1169496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1e1e"/>
                </a:solidFill>
                <a:latin typeface="宋体"/>
                <a:ea typeface="宋体"/>
              </a:rPr>
              <a:t>作者将自己想象成一个巨人，太平洋北冰洋尽收眼底。“五四”浪潮的波涛汹涌，震动了年轻气盛的诗人，我们清晰地感受到作者火热赤诚的心，澎湃激扬的热情。他如巨人般立在地球边上，站在“全方位”俯瞰地球的立足点上，放声呼唤、纵情高歌，为“五四精神”而呐喊。这首诗就是那种向旧世界、旧传统、旧文化猛烈冲击的时代精神的象征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838080" y="0"/>
            <a:ext cx="10515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2"/>
          <p:cNvGrpSpPr/>
          <p:nvPr/>
        </p:nvGrpSpPr>
        <p:grpSpPr>
          <a:xfrm>
            <a:off x="838080" y="1677960"/>
            <a:ext cx="11468160" cy="5033880"/>
            <a:chOff x="838080" y="1677960"/>
            <a:chExt cx="11468160" cy="5033880"/>
          </a:xfrm>
        </p:grpSpPr>
        <p:sp>
          <p:nvSpPr>
            <p:cNvPr id="525" name="Rectangle 3"/>
            <p:cNvSpPr/>
            <p:nvPr/>
          </p:nvSpPr>
          <p:spPr>
            <a:xfrm>
              <a:off x="838080" y="1677960"/>
              <a:ext cx="10515960" cy="50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数的白云正在空中怒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啊啊！好幅壮丽的北冰洋的情景哟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限的太平洋提起他全身的力量要把地球推倒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啊啊！我眼前来了的滚滚洪涛哟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啊啊！不断的毁坏，不断的创造，不断的努力哟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啊啊！力哟！力哟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力的绘画，力的舞蹈，力的音乐，力的诗歌，力的律吕哟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楷体"/>
                  <a:ea typeface="楷体"/>
                </a:rPr>
                <a:t>                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组合 4"/>
            <p:cNvGrpSpPr/>
            <p:nvPr/>
          </p:nvGrpSpPr>
          <p:grpSpPr>
            <a:xfrm>
              <a:off x="6448320" y="1863360"/>
              <a:ext cx="5857920" cy="3834000"/>
              <a:chOff x="6448320" y="1863360"/>
              <a:chExt cx="5857920" cy="3834000"/>
            </a:xfrm>
          </p:grpSpPr>
          <p:sp>
            <p:nvSpPr>
              <p:cNvPr id="527" name="文本框 1"/>
              <p:cNvSpPr/>
              <p:nvPr/>
            </p:nvSpPr>
            <p:spPr>
              <a:xfrm>
                <a:off x="6881400" y="2131560"/>
                <a:ext cx="151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动荡的时代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文本框 5"/>
              <p:cNvSpPr/>
              <p:nvPr/>
            </p:nvSpPr>
            <p:spPr>
              <a:xfrm>
                <a:off x="9647280" y="3014280"/>
                <a:ext cx="265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对旧世界的破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文本框 6"/>
              <p:cNvSpPr/>
              <p:nvPr/>
            </p:nvSpPr>
            <p:spPr>
              <a:xfrm>
                <a:off x="9647280" y="3598560"/>
                <a:ext cx="201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蕴蓄已久的力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文本框 7"/>
              <p:cNvSpPr/>
              <p:nvPr/>
            </p:nvSpPr>
            <p:spPr>
              <a:xfrm>
                <a:off x="9705960" y="4197240"/>
                <a:ext cx="201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破坏与创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文本框 8"/>
              <p:cNvSpPr/>
              <p:nvPr/>
            </p:nvSpPr>
            <p:spPr>
              <a:xfrm>
                <a:off x="10293480" y="5029200"/>
                <a:ext cx="179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对力的赞美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右箭头 11"/>
              <p:cNvSpPr/>
              <p:nvPr/>
            </p:nvSpPr>
            <p:spPr>
              <a:xfrm>
                <a:off x="8470800" y="3106440"/>
                <a:ext cx="977760" cy="239400"/>
              </a:xfrm>
              <a:prstGeom prst="rightArrow">
                <a:avLst>
                  <a:gd name="adj1" fmla="val 50000"/>
                  <a:gd name="adj2" fmla="val 137540"/>
                </a:avLst>
              </a:prstGeom>
              <a:solidFill>
                <a:srgbClr val="b71e42"/>
              </a:solidFill>
              <a:ln w="15840">
                <a:solidFill>
                  <a:srgbClr val="8613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右箭头 12"/>
              <p:cNvSpPr/>
              <p:nvPr/>
            </p:nvSpPr>
            <p:spPr>
              <a:xfrm>
                <a:off x="8470800" y="3757320"/>
                <a:ext cx="1017360" cy="233280"/>
              </a:xfrm>
              <a:prstGeom prst="rightArrow">
                <a:avLst>
                  <a:gd name="adj1" fmla="val 50000"/>
                  <a:gd name="adj2" fmla="val 137395"/>
                </a:avLst>
              </a:prstGeom>
              <a:solidFill>
                <a:srgbClr val="b71e42"/>
              </a:solidFill>
              <a:ln w="15840">
                <a:solidFill>
                  <a:srgbClr val="8613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右箭头 13"/>
              <p:cNvSpPr/>
              <p:nvPr/>
            </p:nvSpPr>
            <p:spPr>
              <a:xfrm>
                <a:off x="8556480" y="4308120"/>
                <a:ext cx="1127160" cy="264960"/>
              </a:xfrm>
              <a:prstGeom prst="rightArrow">
                <a:avLst>
                  <a:gd name="adj1" fmla="val 50000"/>
                  <a:gd name="adj2" fmla="val 137450"/>
                </a:avLst>
              </a:prstGeom>
              <a:solidFill>
                <a:srgbClr val="b71e42"/>
              </a:solidFill>
              <a:ln w="15840">
                <a:solidFill>
                  <a:srgbClr val="8613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右大括号 13"/>
              <p:cNvSpPr/>
              <p:nvPr/>
            </p:nvSpPr>
            <p:spPr>
              <a:xfrm>
                <a:off x="6448320" y="1863360"/>
                <a:ext cx="215640" cy="936720"/>
              </a:xfrm>
              <a:custGeom>
                <a:avLst/>
                <a:gdLst>
                  <a:gd name="textAreaLeft" fmla="*/ 0 w 215640"/>
                  <a:gd name="textAreaRight" fmla="*/ 77760 w 215640"/>
                  <a:gd name="textAreaTop" fmla="*/ 5400 h 936720"/>
                  <a:gd name="textAreaBottom" fmla="*/ 93132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08"/>
                      <a:pt x="10800" y="415"/>
                    </a:cubicBezTo>
                    <a:lnTo>
                      <a:pt x="10800" y="10385"/>
                    </a:lnTo>
                    <a:cubicBezTo>
                      <a:pt x="10800" y="10593"/>
                      <a:pt x="16200" y="10800"/>
                      <a:pt x="21600" y="10800"/>
                    </a:cubicBezTo>
                    <a:cubicBezTo>
                      <a:pt x="16200" y="10800"/>
                      <a:pt x="10800" y="11008"/>
                      <a:pt x="10800" y="11215"/>
                    </a:cubicBezTo>
                    <a:lnTo>
                      <a:pt x="10800" y="21185"/>
                    </a:lnTo>
                    <a:cubicBezTo>
                      <a:pt x="10800" y="21393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b71e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右大括号 14"/>
              <p:cNvSpPr/>
              <p:nvPr/>
            </p:nvSpPr>
            <p:spPr>
              <a:xfrm>
                <a:off x="9947160" y="4760640"/>
                <a:ext cx="215640" cy="936720"/>
              </a:xfrm>
              <a:custGeom>
                <a:avLst/>
                <a:gdLst>
                  <a:gd name="textAreaLeft" fmla="*/ 0 w 215640"/>
                  <a:gd name="textAreaRight" fmla="*/ 77760 w 215640"/>
                  <a:gd name="textAreaTop" fmla="*/ 5400 h 936720"/>
                  <a:gd name="textAreaBottom" fmla="*/ 93132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08"/>
                      <a:pt x="10800" y="415"/>
                    </a:cubicBezTo>
                    <a:lnTo>
                      <a:pt x="10800" y="10385"/>
                    </a:lnTo>
                    <a:cubicBezTo>
                      <a:pt x="10800" y="10593"/>
                      <a:pt x="16200" y="10800"/>
                      <a:pt x="21600" y="10800"/>
                    </a:cubicBezTo>
                    <a:cubicBezTo>
                      <a:pt x="16200" y="10800"/>
                      <a:pt x="10800" y="11008"/>
                      <a:pt x="10800" y="11215"/>
                    </a:cubicBezTo>
                    <a:lnTo>
                      <a:pt x="10800" y="21185"/>
                    </a:lnTo>
                    <a:cubicBezTo>
                      <a:pt x="10800" y="21393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b71e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文本框 10"/>
          <p:cNvSpPr/>
          <p:nvPr/>
        </p:nvSpPr>
        <p:spPr>
          <a:xfrm>
            <a:off x="3895560" y="1092240"/>
            <a:ext cx="46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立在地球边上放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文本框 1"/>
          <p:cNvSpPr/>
          <p:nvPr/>
        </p:nvSpPr>
        <p:spPr>
          <a:xfrm>
            <a:off x="603360" y="609480"/>
            <a:ext cx="105026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力的绘画，力的舞蹈，力的音乐，力的诗歌，力的律吕哟！”主语是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2460600" y="1201680"/>
            <a:ext cx="411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"/>
                <a:ea typeface="等线"/>
              </a:rPr>
              <a:t>——</a:t>
            </a:r>
            <a:r>
              <a:rPr b="0" lang="zh-CN" sz="3300" spc="-1" strike="noStrike">
                <a:solidFill>
                  <a:srgbClr val="000000"/>
                </a:solidFill>
                <a:latin typeface="等线"/>
                <a:ea typeface="等线"/>
              </a:rPr>
              <a:t>洪涛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3"/>
          <p:cNvSpPr/>
          <p:nvPr/>
        </p:nvSpPr>
        <p:spPr>
          <a:xfrm>
            <a:off x="442800" y="2395440"/>
            <a:ext cx="106902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排山倒海般的洪涛既具有巨大的破坏力，又蕴藏着同样巨大的创造力。诗人呼唤“毁坏”“创造”，是“五四”精神的表现。所谓“毁坏”就是要反帝反封建，所谓“创造”就是要建设民主与科学的新中国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4"/>
          <p:cNvSpPr/>
          <p:nvPr/>
        </p:nvSpPr>
        <p:spPr>
          <a:xfrm>
            <a:off x="1008000" y="1820880"/>
            <a:ext cx="4481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Gill Sans MT"/>
                <a:ea typeface="等线"/>
              </a:rPr>
              <a:t>洪涛的“力”的作用？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5"/>
          <p:cNvSpPr/>
          <p:nvPr/>
        </p:nvSpPr>
        <p:spPr>
          <a:xfrm>
            <a:off x="403200" y="4492800"/>
            <a:ext cx="10902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Gill Sans MT"/>
                <a:ea typeface="等线"/>
              </a:rPr>
              <a:t>       </a:t>
            </a:r>
            <a:r>
              <a:rPr b="1" lang="zh-CN" sz="2900" spc="-1" strike="noStrike">
                <a:solidFill>
                  <a:srgbClr val="000000"/>
                </a:solidFill>
                <a:latin typeface="Gill Sans MT"/>
                <a:ea typeface="等线"/>
              </a:rPr>
              <a:t>最后几句采用排比、反复的修辞手法抒发感情，赞美了摧毁旧世界、创造新生活的雄强之力，节奏感强，增强了语言气势，加强了表达效果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矩形 6" descr=""/>
          <p:cNvPicPr/>
          <p:nvPr/>
        </p:nvPicPr>
        <p:blipFill>
          <a:blip r:embed="rId1"/>
          <a:stretch/>
        </p:blipFill>
        <p:spPr>
          <a:xfrm>
            <a:off x="-225360" y="-317520"/>
            <a:ext cx="380988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356760" y="662040"/>
            <a:ext cx="1164924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just">
              <a:lnSpc>
                <a:spcPct val="15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等线"/>
              </a:rPr>
              <a:t>诗人为什么要把诗歌的题目命名为《立在地球边上放号》，有何新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等线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69840" y="1622520"/>
            <a:ext cx="1101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99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通观全诗，诗人把自己想象为一个站在地球边上目光遍及广阔天地，并发出了激情的呼唤的巨人。通过对自然的抒写，可以看到抒情主人公的高大形象，窥视到他的充实的内心，感受到他的如沸的激情，而抒情形象所显示的这种独特感情、心理，正反映了被五四时代怒潮唤醒的革命知识青年的共同特征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标题 1"/>
          <p:cNvSpPr/>
          <p:nvPr/>
        </p:nvSpPr>
        <p:spPr>
          <a:xfrm>
            <a:off x="279360" y="555480"/>
            <a:ext cx="7731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中国第一首白话文诗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内容占位符 2"/>
          <p:cNvSpPr/>
          <p:nvPr/>
        </p:nvSpPr>
        <p:spPr>
          <a:xfrm>
            <a:off x="1365120" y="1504800"/>
            <a:ext cx="9075960" cy="31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e1e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蝴蝶</a:t>
            </a:r>
            <a:r>
              <a:rPr b="1" lang="en-US" sz="3200" spc="-1" strike="noStrike">
                <a:solidFill>
                  <a:srgbClr val="1e1e1e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胡适</a:t>
            </a:r>
            <a:r>
              <a:rPr b="1" lang="en-US" sz="3200" spc="-1" strike="noStrike">
                <a:solidFill>
                  <a:srgbClr val="1e1e1e"/>
                </a:solidFill>
                <a:latin typeface="宋体"/>
              </a:rPr>
              <a:t>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两只黄蝴蝶，双双飞上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不知为什么，一只忽飞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剩下另一只，孤单怪可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也无心上天，天上太孤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文本框 2"/>
          <p:cNvSpPr/>
          <p:nvPr/>
        </p:nvSpPr>
        <p:spPr>
          <a:xfrm>
            <a:off x="0" y="0"/>
            <a:ext cx="12192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宋体"/>
              </a:rPr>
              <a:t>这首诗选自诗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尝试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</a:rPr>
              <a:t>，与诗集相对应的是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尝试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</a:rPr>
              <a:t>”二字。作者在尝试什么？为什么要尝试写白话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宋体"/>
              </a:rPr>
              <a:t>用胡适先生的原话来说是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私心以为文言决不足以为吾国将来文学之利器”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</a:rPr>
              <a:t>，当时，胡适先生从西方接受的新的文化思想决定他目光的前瞻性，所以他刻意想摆脱旧诗体的束缚，想写出真正自由体的白话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宋体"/>
              </a:rPr>
              <a:t>虽然如此，但是咱们还是能从刚才这首</a:t>
            </a:r>
            <a:r>
              <a:rPr b="1" lang="en-US" sz="2800" spc="-1" strike="noStrike">
                <a:solidFill>
                  <a:srgbClr val="1e1e1e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</a:rPr>
              <a:t>蝴蝶</a:t>
            </a:r>
            <a:r>
              <a:rPr b="1" lang="en-US" sz="2800" spc="-1" strike="noStrike">
                <a:solidFill>
                  <a:srgbClr val="1e1e1e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</a:rPr>
              <a:t>上发现旧诗体的痕迹，比如它还是以五言为律，还有压着</a:t>
            </a:r>
            <a:r>
              <a:rPr b="1" lang="en-US" sz="2800" spc="-1" strike="noStrike">
                <a:solidFill>
                  <a:srgbClr val="1e1e1e"/>
                </a:solidFill>
                <a:latin typeface="宋体"/>
              </a:rPr>
              <a:t>an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</a:rPr>
              <a:t>韵等。所以胡适先生对他的</a:t>
            </a:r>
            <a:r>
              <a:rPr b="1" lang="en-US" sz="2800" spc="-1" strike="noStrike">
                <a:solidFill>
                  <a:srgbClr val="1e1e1e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</a:rPr>
              <a:t>尝试集</a:t>
            </a:r>
            <a:r>
              <a:rPr b="1" lang="en-US" sz="2800" spc="-1" strike="noStrike">
                <a:solidFill>
                  <a:srgbClr val="1e1e1e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</a:rPr>
              <a:t>这样评价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现在回头看我这五年来的诗，很像一个缠过脚后来放大了的妇人，回头看她一年一年的放脚鞋样，虽然一年放大一年，但是年年的鞋样上总还带着缠脚时代的血腥气，因为缠过脚的妇人永远不能恢复她的天然脚了。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</a:rPr>
              <a:t>言辞中对自己诗作中留下的新旧时代交错的影子感到很是无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21708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等线 Light"/>
              </a:rPr>
              <a:t>文体知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1197000"/>
            <a:ext cx="1219212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  <a:ea typeface="等线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  <a:ea typeface="等线"/>
              </a:rPr>
              <a:t>新诗与自由诗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  <a:ea typeface="等线"/>
              </a:rPr>
              <a:t>新诗，又称现代诗，与旧体诗相对而言，一般是指五四新文化运动以后产生的新体诗歌，包括现代格律诗、散文诗、自由诗等。它的特点是冲破了旧体格律诗的限制，采用与现代口语相接近的白话和现代音韵，文体整齐，押韵自由，生动活泼，便于表现复杂的现代生活和思想感情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 MT"/>
                <a:ea typeface="等线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Gill Sans MT"/>
                <a:ea typeface="等线"/>
              </a:rPr>
              <a:t>自由诗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  <a:ea typeface="等线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Gill Sans MT"/>
                <a:ea typeface="等线"/>
              </a:rPr>
              <a:t>是一种字数、行数、节数、音韵等方面都较为自由的诗体。它不受格律的约束，可以根据内容的需要在形式上自由变化，押大致相近的韵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New picture" descr=""/>
          <p:cNvPicPr/>
          <p:nvPr/>
        </p:nvPicPr>
        <p:blipFill>
          <a:blip r:embed="rId1"/>
          <a:stretch/>
        </p:blipFill>
        <p:spPr>
          <a:xfrm>
            <a:off x="12211200" y="11106000"/>
            <a:ext cx="315720" cy="2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2"/>
          <p:cNvSpPr/>
          <p:nvPr/>
        </p:nvSpPr>
        <p:spPr>
          <a:xfrm>
            <a:off x="1187280" y="1366920"/>
            <a:ext cx="1006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如果是胡适先生的</a:t>
            </a:r>
            <a:r>
              <a:rPr b="1" lang="en-US" sz="3200" spc="-1" strike="noStrike">
                <a:solidFill>
                  <a:srgbClr val="1e1e1e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尝试集</a:t>
            </a:r>
            <a:r>
              <a:rPr b="1" lang="en-US" sz="3200" spc="-1" strike="noStrike">
                <a:solidFill>
                  <a:srgbClr val="1e1e1e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可以视为区分新旧诗的界限，那么堪称新诗纪念碑式作品的就是郭沫若先生的诗集</a:t>
            </a:r>
            <a:r>
              <a:rPr b="1" lang="en-US" sz="3200" spc="-1" strike="noStrike">
                <a:solidFill>
                  <a:srgbClr val="1e1e1e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女神</a:t>
            </a:r>
            <a:r>
              <a:rPr b="1" lang="en-US" sz="3200" spc="-1" strike="noStrike">
                <a:solidFill>
                  <a:srgbClr val="1e1e1e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。本堂课，我们一同走进诗集</a:t>
            </a:r>
            <a:r>
              <a:rPr b="1" lang="en-US" sz="3200" spc="-1" strike="noStrike">
                <a:solidFill>
                  <a:srgbClr val="1e1e1e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女神</a:t>
            </a:r>
            <a:r>
              <a:rPr b="1" lang="en-US" sz="3200" spc="-1" strike="noStrike">
                <a:solidFill>
                  <a:srgbClr val="1e1e1e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中的名篇</a:t>
            </a:r>
            <a:r>
              <a:rPr b="1" lang="en-US" sz="3200" spc="-1" strike="noStrike">
                <a:solidFill>
                  <a:srgbClr val="1e1e1e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立在地球边上放号</a:t>
            </a:r>
            <a:r>
              <a:rPr b="1" lang="en-US" sz="3200" spc="-1" strike="noStrike">
                <a:solidFill>
                  <a:srgbClr val="1e1e1e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1e1e1e"/>
                </a:solidFill>
                <a:latin typeface="宋体"/>
              </a:rPr>
              <a:t>，一同感受新诗的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417400" y="801720"/>
            <a:ext cx="8637480" cy="2541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Gill Sans MT"/>
                <a:ea typeface="等线 Light"/>
              </a:rPr>
              <a:t>立在地球边上放号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2417400" y="3530160"/>
            <a:ext cx="86374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Gill Sans MT"/>
              <a:ea typeface="等线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31392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等线 Light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1810800"/>
            <a:ext cx="121921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郭沫若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92--197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，原名郭开贞，四川乐山人，诗人、学者。</a:t>
            </a:r>
            <a:r>
              <a:rPr b="1" lang="zh-CN" sz="3200" spc="-1" strike="noStrike">
                <a:solidFill>
                  <a:srgbClr val="1e1e1e"/>
                </a:solidFill>
                <a:latin typeface="黑体"/>
                <a:ea typeface="黑体"/>
              </a:rPr>
              <a:t>他少年时代接触了大量古典文学，喜欢屈原、李白、苏轼等人的诗，受到浪漫主义影响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e1e"/>
                </a:solidFill>
                <a:latin typeface="黑体"/>
                <a:ea typeface="黑体"/>
              </a:rPr>
              <a:t>1914</a:t>
            </a:r>
            <a:r>
              <a:rPr b="1" lang="zh-CN" sz="3200" spc="-1" strike="noStrike">
                <a:solidFill>
                  <a:srgbClr val="1e1e1e"/>
                </a:solidFill>
                <a:latin typeface="黑体"/>
                <a:ea typeface="黑体"/>
              </a:rPr>
              <a:t>年春赴日本留学，这个时期接触到泰戈尔、歌德、莎士比亚、惠特曼等外国作家的作品，深受影响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2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与成仿吾、郁达夫等人成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创造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2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于日本帝国大学毕业回国后，编辑《创作周报》《洪水》，提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革命文学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主张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2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起旅居日本，直到抗日战争爆发后秘密回国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Gill Sans MT"/>
              <a:ea typeface="等线 Ligh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72520" y="614520"/>
            <a:ext cx="1164132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国新诗的奠基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是继鲁迅之后革命文化界公认的领袖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浪漫主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天才诗人，代表诗集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《女神》《星空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的第一部诗集《女神》喊出了时代的真声音，震醒了一代青年，释放了被压抑的社会心绪，满足了时代的精神需求，而且从思想艺术上显示一种崭新面貌，为新诗地位的确定做出重大贡献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等线 Light"/>
              </a:rPr>
              <a:t>时代背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1933560"/>
            <a:ext cx="1199664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宋体"/>
                <a:ea typeface="宋体"/>
              </a:rPr>
              <a:t>五四运动是爱国运动，具体是以青年学生为主，广大群众、市民、工商人士等阶层共同参与的，通过示威游行、请愿、罢工、暴力对抗政府等多种形式的爱国运动，是中国人民彻底反对帝国主义、封建主义的爱国运动。“五四精神”追求“民主”“科学”，提倡新道德，反对旧道德；提倡新文学，反对旧文学。受“五四精神”影响，</a:t>
            </a:r>
            <a:r>
              <a:rPr b="1" lang="en-US" sz="2800" spc="-1" strike="noStrike">
                <a:solidFill>
                  <a:srgbClr val="1e1e1e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  <a:ea typeface="宋体"/>
              </a:rPr>
              <a:t>女神</a:t>
            </a:r>
            <a:r>
              <a:rPr b="1" lang="en-US" sz="2800" spc="-1" strike="noStrike">
                <a:solidFill>
                  <a:srgbClr val="1e1e1e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  <a:ea typeface="宋体"/>
              </a:rPr>
              <a:t>这部诗集诞生了，它突破了旧格套的束缚，创造了雄浑奔放的自由诗体。</a:t>
            </a:r>
            <a:r>
              <a:rPr b="1" lang="en-US" sz="2800" spc="-1" strike="noStrike">
                <a:solidFill>
                  <a:srgbClr val="1e1e1e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  <a:ea typeface="宋体"/>
              </a:rPr>
              <a:t>立在地球边上放号</a:t>
            </a:r>
            <a:r>
              <a:rPr b="1" lang="en-US" sz="2800" spc="-1" strike="noStrike">
                <a:solidFill>
                  <a:srgbClr val="1e1e1e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  <a:ea typeface="宋体"/>
              </a:rPr>
              <a:t>写于</a:t>
            </a:r>
            <a:r>
              <a:rPr b="1" lang="en-US" sz="2800" spc="-1" strike="noStrike">
                <a:solidFill>
                  <a:srgbClr val="1e1e1e"/>
                </a:solidFill>
                <a:latin typeface="宋体"/>
                <a:ea typeface="宋体"/>
              </a:rPr>
              <a:t>1919</a:t>
            </a:r>
            <a:r>
              <a:rPr b="1" lang="zh-CN" sz="2800" spc="-1" strike="noStrike">
                <a:solidFill>
                  <a:srgbClr val="1e1e1e"/>
                </a:solidFill>
                <a:latin typeface="宋体"/>
                <a:ea typeface="宋体"/>
              </a:rPr>
              <a:t>年九、十月之间，受五四运动和十月革命的冲击，郭沫若决然从日本渡海回国</a:t>
            </a:r>
            <a:r>
              <a:rPr b="1" lang="en-US" sz="2800" spc="-1" strike="noStrike">
                <a:solidFill>
                  <a:srgbClr val="1e1e1e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9T17:29:38Z</dcterms:created>
  <dc:creator/>
  <dc:description/>
  <dc:language>en-US</dc:language>
  <cp:lastModifiedBy>微软用户</cp:lastModifiedBy>
  <cp:lastPrinted>2020-12-29T17:29:38Z</cp:lastPrinted>
  <dcterms:modified xsi:type="dcterms:W3CDTF">2021-08-30T09:31:49Z</dcterms:modified>
  <cp:revision>6</cp:revision>
  <dc:subject/>
  <dc:title>学习目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lbum">
    <vt:lpwstr>rbm.xkw.com</vt:lpwstr>
  </property>
  <property fmtid="{D5CDD505-2E9C-101B-9397-08002B2CF9AE}" pid="3" name="author">
    <vt:lpwstr>rbm.xkw.com</vt:lpwstr>
  </property>
  <property fmtid="{D5CDD505-2E9C-101B-9397-08002B2CF9AE}" pid="4" name="company">
    <vt:lpwstr>学科网</vt:lpwstr>
  </property>
  <property fmtid="{D5CDD505-2E9C-101B-9397-08002B2CF9AE}" pid="5" name="copyright">
    <vt:lpwstr>学科网版权所有</vt:lpwstr>
  </property>
</Properties>
</file>