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C0D-916B-46D7-A037-DD7F1631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321-18C1-468D-8A8B-72A15331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DF5-C023-4276-BF2C-71E6687A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706-4FD3-4E82-AB6B-E35BB12D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902-C218-4557-8317-4A210056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66E-544B-4A77-B482-D00BAA46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354-768C-44E2-AD64-C1708C12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C77-C44B-4D9F-8563-5E33D4AA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E55-8953-4ABF-A118-169C218D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476-E28C-4D57-8FA2-B4A17020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C8B-3707-4FD3-AA45-F01EB644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53D-18F8-455D-851C-5D829B0A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DD17-ED73-46ED-9972-52EDC186AE44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00000" y="115920"/>
            <a:ext cx="7559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2·2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班会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：如何备考期末统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畅所欲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一）复习经验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二）期末成绩目标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3"/>
          <p:cNvSpPr/>
          <p:nvPr/>
        </p:nvSpPr>
        <p:spPr>
          <a:xfrm>
            <a:off x="0" y="181080"/>
            <a:ext cx="9109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3029040" y="0"/>
            <a:ext cx="308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3"/>
          <p:cNvSpPr/>
          <p:nvPr/>
        </p:nvSpPr>
        <p:spPr>
          <a:xfrm>
            <a:off x="611280" y="5493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278531"/>
          <p:cNvSpPr txBox="1"/>
          <p:nvPr/>
        </p:nvSpPr>
        <p:spPr>
          <a:xfrm>
            <a:off x="1692360" y="620640"/>
            <a:ext cx="4282920" cy="19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如何高效复习？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7T08:45:15Z</dcterms:created>
  <dc:creator/>
  <dc:description/>
  <dc:language>en-US</dc:language>
  <cp:lastModifiedBy>HP</cp:lastModifiedBy>
  <dcterms:modified xsi:type="dcterms:W3CDTF">2020-12-21T06:55:47Z</dcterms:modified>
  <cp:revision>24</cp:revision>
  <dc:subject/>
  <dc:title>保密教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