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33CF-771C-4756-AA17-0F6C98A9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7F3D-B653-4346-A7C6-FAFA4780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326B-B7C6-4DCA-8A0A-1C83C41B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AC0-2C5D-4065-8981-DC391047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2B42-2D22-4899-9BD1-3CE70081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E141-402D-4BC4-BEFF-F11D39DD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63B7-45E6-458E-B15B-68B82476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BAA9-1D81-4A53-BAC2-8C4832BC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903B-558F-4399-9DD7-52D464D5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C4A2-1489-4D48-AB69-67ED64C2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3762-162A-4341-9625-BD4EA0C3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0A09-E374-4E97-A236-1D168F4E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BE57-9E03-429D-B526-A7E4EC17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8C6D-1642-4217-B6AB-AE25BFC0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4D41-0FFC-4BF8-8ED2-8E2A4C1F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2737-4CDF-47CE-A5A3-3F092131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B795-D7B3-4027-B9F1-FC4DEF41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3D82-7E50-4643-918E-84450D5D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892-6C4A-46F3-B3B7-72DBCDEB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89D-1748-43C1-A89F-90617EFF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1A49-3407-4354-B484-D6115C43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BBF-5151-45E5-9495-AAE21786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12C6-F925-401C-BB92-4597DB5A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E83B-61DF-4951-A448-60F74B1E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A448-68DB-40FF-8C1D-4B46AB5A4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8360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802080" cy="82908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888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B5D9-4585-46B3-AE4D-D163DDD39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so.gushiwen.org/authorv_b90660e3e492.aspx" TargetMode="External"/><Relationship Id="rId2" Type="http://schemas.openxmlformats.org/officeDocument/2006/relationships/hyperlink" Target="https://so.gushiwen.org/shiwens/default.aspx?cstr=&#21776;&#20195;" TargetMode="External"/><Relationship Id="rId3" Type="http://schemas.openxmlformats.org/officeDocument/2006/relationships/hyperlink" Target="https://so.gushiwen.org/shiwens/default.aspx?cstr=&#21776;&#20195;" TargetMode="External"/><Relationship Id="rId4" Type="http://schemas.openxmlformats.org/officeDocument/2006/relationships/hyperlink" Target="https://so.gushiwen.org/shiwens/default.aspx?cstr=&#21776;&#20195;" TargetMode="Externa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矩形 1" descr=""/>
          <p:cNvPicPr/>
          <p:nvPr/>
        </p:nvPicPr>
        <p:blipFill>
          <a:blip r:embed="rId1"/>
          <a:stretch/>
        </p:blipFill>
        <p:spPr>
          <a:xfrm>
            <a:off x="2627280" y="2060640"/>
            <a:ext cx="35845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文本框 1"/>
          <p:cNvSpPr/>
          <p:nvPr/>
        </p:nvSpPr>
        <p:spPr>
          <a:xfrm>
            <a:off x="612720" y="1925640"/>
            <a:ext cx="791856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北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鱼，其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鲲。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大，不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几千里也；化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鸟，其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鹏。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背，不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几千里也；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而飞，其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天之云。是鸟也，海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徙于南冥。南冥者，天池也。齐谐者，志怪者也。谐之言曰：“鹏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徙于南冥也，水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千里，抟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tuá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扶摇而上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九万里，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六月息者也。”野马也，尘埃也，生物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以息相吹也。天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苍苍，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色邪？其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而无所至极邪？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视下也，亦若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已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"/>
          <p:cNvSpPr/>
          <p:nvPr/>
        </p:nvSpPr>
        <p:spPr>
          <a:xfrm>
            <a:off x="3223800" y="1225440"/>
            <a:ext cx="162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读准加点字字音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划分朗读节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组合 29"/>
          <p:cNvGrpSpPr/>
          <p:nvPr/>
        </p:nvGrpSpPr>
        <p:grpSpPr>
          <a:xfrm>
            <a:off x="0" y="260280"/>
            <a:ext cx="2387520" cy="738360"/>
            <a:chOff x="0" y="260280"/>
            <a:chExt cx="2387520" cy="738360"/>
          </a:xfrm>
        </p:grpSpPr>
        <p:sp>
          <p:nvSpPr>
            <p:cNvPr id="537" name="文本框 30"/>
            <p:cNvSpPr/>
            <p:nvPr/>
          </p:nvSpPr>
          <p:spPr>
            <a:xfrm>
              <a:off x="0" y="414360"/>
              <a:ext cx="23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自主学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组合 31"/>
            <p:cNvGrpSpPr/>
            <p:nvPr/>
          </p:nvGrpSpPr>
          <p:grpSpPr>
            <a:xfrm>
              <a:off x="107280" y="260280"/>
              <a:ext cx="1753920" cy="738360"/>
              <a:chOff x="107280" y="260280"/>
              <a:chExt cx="1753920" cy="738360"/>
            </a:xfrm>
          </p:grpSpPr>
          <p:pic>
            <p:nvPicPr>
              <p:cNvPr id="539" name="图片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7280" y="260280"/>
                <a:ext cx="353880" cy="7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直接连接符 13"/>
              <p:cNvSpPr/>
              <p:nvPr/>
            </p:nvSpPr>
            <p:spPr>
              <a:xfrm>
                <a:off x="295560" y="967320"/>
                <a:ext cx="1565640" cy="0"/>
              </a:xfrm>
              <a:prstGeom prst="line">
                <a:avLst/>
              </a:prstGeom>
              <a:ln cap="rnd" w="31680">
                <a:solidFill>
                  <a:srgbClr val="00b0f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1" name="文本框 4"/>
          <p:cNvSpPr/>
          <p:nvPr/>
        </p:nvSpPr>
        <p:spPr>
          <a:xfrm>
            <a:off x="3132000" y="444600"/>
            <a:ext cx="229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朗读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北冥有鱼" descr=""/>
          <p:cNvPicPr/>
          <p:nvPr/>
        </p:nvPicPr>
        <p:blipFill>
          <a:blip r:embed="rId2"/>
          <a:stretch/>
        </p:blipFill>
        <p:spPr>
          <a:xfrm>
            <a:off x="7504200" y="1488960"/>
            <a:ext cx="46512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0" y="1017720"/>
            <a:ext cx="8896320" cy="35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翻译全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60c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60c"/>
                </a:solidFill>
                <a:latin typeface="Arial"/>
              </a:rPr>
              <a:t>运用坐庄法翻译课文，</a:t>
            </a:r>
            <a:r>
              <a:rPr b="1" lang="en-US" sz="4000" spc="-1" strike="noStrike">
                <a:solidFill>
                  <a:srgbClr val="00060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60c"/>
                </a:solidFill>
                <a:latin typeface="Arial"/>
              </a:rPr>
              <a:t>号坐庄，按照</a:t>
            </a:r>
            <a:r>
              <a:rPr b="1" lang="en-US" sz="4000" spc="-1" strike="noStrike">
                <a:solidFill>
                  <a:srgbClr val="00060c"/>
                </a:solidFill>
                <a:latin typeface="Arial"/>
              </a:rPr>
              <a:t>4-1</a:t>
            </a:r>
            <a:r>
              <a:rPr b="1" lang="zh-CN" sz="4000" spc="-1" strike="noStrike">
                <a:solidFill>
                  <a:srgbClr val="00060c"/>
                </a:solidFill>
                <a:latin typeface="Arial"/>
              </a:rPr>
              <a:t>号的顺序交流翻译中的疑点，然后合作解决疑难，仍有疑问，全班提出解决。时间</a:t>
            </a:r>
            <a:r>
              <a:rPr b="1" lang="en-US" sz="4000" spc="-1" strike="noStrike">
                <a:solidFill>
                  <a:srgbClr val="00060c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60c"/>
                </a:solidFill>
                <a:latin typeface="Arial"/>
              </a:rPr>
              <a:t>分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组合 29"/>
          <p:cNvGrpSpPr/>
          <p:nvPr/>
        </p:nvGrpSpPr>
        <p:grpSpPr>
          <a:xfrm>
            <a:off x="0" y="255600"/>
            <a:ext cx="2155680" cy="738000"/>
            <a:chOff x="0" y="255600"/>
            <a:chExt cx="2155680" cy="738000"/>
          </a:xfrm>
        </p:grpSpPr>
        <p:sp>
          <p:nvSpPr>
            <p:cNvPr id="545" name="文本框 30"/>
            <p:cNvSpPr/>
            <p:nvPr/>
          </p:nvSpPr>
          <p:spPr>
            <a:xfrm>
              <a:off x="21960" y="37944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合作学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组合 31"/>
            <p:cNvGrpSpPr/>
            <p:nvPr/>
          </p:nvGrpSpPr>
          <p:grpSpPr>
            <a:xfrm>
              <a:off x="0" y="255600"/>
              <a:ext cx="1753200" cy="738000"/>
              <a:chOff x="0" y="255600"/>
              <a:chExt cx="1753200" cy="738000"/>
            </a:xfrm>
          </p:grpSpPr>
          <p:pic>
            <p:nvPicPr>
              <p:cNvPr id="547" name="图片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255600"/>
                <a:ext cx="353520" cy="73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直接连接符 13"/>
              <p:cNvSpPr/>
              <p:nvPr/>
            </p:nvSpPr>
            <p:spPr>
              <a:xfrm>
                <a:off x="190440" y="963720"/>
                <a:ext cx="1562760" cy="0"/>
              </a:xfrm>
              <a:prstGeom prst="line">
                <a:avLst/>
              </a:prstGeom>
              <a:ln cap="rnd" w="31680">
                <a:solidFill>
                  <a:srgbClr val="00b0f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文本框 4"/>
          <p:cNvSpPr/>
          <p:nvPr/>
        </p:nvSpPr>
        <p:spPr>
          <a:xfrm>
            <a:off x="3389400" y="255600"/>
            <a:ext cx="25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疏通文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"/>
          <p:cNvSpPr/>
          <p:nvPr/>
        </p:nvSpPr>
        <p:spPr>
          <a:xfrm>
            <a:off x="1547640" y="1944720"/>
            <a:ext cx="759636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                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冥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鱼，其名为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鲲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之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，不知其几千里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化而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为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鸟，其名为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鹏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之    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，不知其几千里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标注 2"/>
          <p:cNvSpPr/>
          <p:nvPr/>
        </p:nvSpPr>
        <p:spPr>
          <a:xfrm>
            <a:off x="3402000" y="1461960"/>
            <a:ext cx="3330720" cy="331920"/>
          </a:xfrm>
          <a:prstGeom prst="wedgeRectCallout">
            <a:avLst>
              <a:gd name="adj1" fmla="val -35805"/>
              <a:gd name="adj2" fmla="val 108152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冥，通“溟”</a:t>
            </a: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3"/>
          <p:cNvSpPr/>
          <p:nvPr/>
        </p:nvSpPr>
        <p:spPr>
          <a:xfrm>
            <a:off x="3903840" y="23814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北海有一条鱼，它的名字叫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标注 5"/>
          <p:cNvSpPr/>
          <p:nvPr/>
        </p:nvSpPr>
        <p:spPr>
          <a:xfrm>
            <a:off x="2868480" y="2943360"/>
            <a:ext cx="1559160" cy="330120"/>
          </a:xfrm>
          <a:prstGeom prst="wedgeRectCallout">
            <a:avLst>
              <a:gd name="adj1" fmla="val -75995"/>
              <a:gd name="adj2" fmla="val 1912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楷体"/>
                <a:ea typeface="楷体"/>
              </a:rPr>
              <a:t>主谓之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6"/>
          <p:cNvSpPr/>
          <p:nvPr/>
        </p:nvSpPr>
        <p:spPr>
          <a:xfrm>
            <a:off x="4298760" y="32925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鲲体积巨大，不知道有几千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标注 7"/>
          <p:cNvSpPr/>
          <p:nvPr/>
        </p:nvSpPr>
        <p:spPr>
          <a:xfrm>
            <a:off x="2955960" y="3855960"/>
            <a:ext cx="1177920" cy="328680"/>
          </a:xfrm>
          <a:prstGeom prst="wedgeRectCallout">
            <a:avLst>
              <a:gd name="adj1" fmla="val -75995"/>
              <a:gd name="adj2" fmla="val 1912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成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8"/>
          <p:cNvSpPr/>
          <p:nvPr/>
        </p:nvSpPr>
        <p:spPr>
          <a:xfrm>
            <a:off x="4534200" y="42591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鲲变化成为鸟，它的名字叫作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标注 9"/>
          <p:cNvSpPr/>
          <p:nvPr/>
        </p:nvSpPr>
        <p:spPr>
          <a:xfrm>
            <a:off x="2714760" y="4732200"/>
            <a:ext cx="549000" cy="328680"/>
          </a:xfrm>
          <a:prstGeom prst="wedgeRectCallout">
            <a:avLst>
              <a:gd name="adj1" fmla="val -75995"/>
              <a:gd name="adj2" fmla="val 1912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0"/>
          <p:cNvSpPr/>
          <p:nvPr/>
        </p:nvSpPr>
        <p:spPr>
          <a:xfrm>
            <a:off x="3094560" y="518472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"/>
                <a:ea typeface="楷体"/>
              </a:rPr>
              <a:t>鹏的脊背，不知道长几千里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文本框 1"/>
          <p:cNvSpPr/>
          <p:nvPr/>
        </p:nvSpPr>
        <p:spPr>
          <a:xfrm>
            <a:off x="468360" y="520560"/>
            <a:ext cx="867564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怒                            而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飞，其翼若垂天之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鸟也，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海运      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则将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徙  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于南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冥者，天池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齐谐》者，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志 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怪者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谐》之言曰：“鹏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之      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徙于南冥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击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千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标注 2"/>
          <p:cNvSpPr/>
          <p:nvPr/>
        </p:nvSpPr>
        <p:spPr>
          <a:xfrm>
            <a:off x="1204920" y="385920"/>
            <a:ext cx="2695680" cy="331560"/>
          </a:xfrm>
          <a:prstGeom prst="wedgeRectCallout">
            <a:avLst>
              <a:gd name="adj1" fmla="val -49787"/>
              <a:gd name="adj2" fmla="val 1435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振奋</a:t>
            </a: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这里指用力鼓动翅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3"/>
          <p:cNvSpPr/>
          <p:nvPr/>
        </p:nvSpPr>
        <p:spPr>
          <a:xfrm>
            <a:off x="4795920" y="9777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楷体"/>
                <a:ea typeface="楷体"/>
              </a:rPr>
              <a:t>当它奋起而飞的时候，那展开的双翅就像悬挂在天空的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标注 4"/>
          <p:cNvSpPr/>
          <p:nvPr/>
        </p:nvSpPr>
        <p:spPr>
          <a:xfrm>
            <a:off x="4910040" y="55440"/>
            <a:ext cx="1317600" cy="465120"/>
          </a:xfrm>
          <a:prstGeom prst="wedgeRectCallout">
            <a:avLst>
              <a:gd name="adj1" fmla="val -59180"/>
              <a:gd name="adj2" fmla="val 118685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表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5"/>
          <p:cNvSpPr/>
          <p:nvPr/>
        </p:nvSpPr>
        <p:spPr>
          <a:xfrm>
            <a:off x="4020120" y="19209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这只鹏鸟呀，海水运动时将要飞到到南海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标注 6"/>
          <p:cNvSpPr/>
          <p:nvPr/>
        </p:nvSpPr>
        <p:spPr>
          <a:xfrm>
            <a:off x="3327480" y="1515960"/>
            <a:ext cx="1244520" cy="330480"/>
          </a:xfrm>
          <a:prstGeom prst="wedgeRectCallout">
            <a:avLst>
              <a:gd name="adj1" fmla="val -75995"/>
              <a:gd name="adj2" fmla="val 1912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海水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7"/>
          <p:cNvSpPr/>
          <p:nvPr/>
        </p:nvSpPr>
        <p:spPr>
          <a:xfrm>
            <a:off x="5967720" y="2352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这南海是个天然形成的水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标注 8"/>
          <p:cNvSpPr/>
          <p:nvPr/>
        </p:nvSpPr>
        <p:spPr>
          <a:xfrm>
            <a:off x="6373800" y="1558800"/>
            <a:ext cx="949320" cy="328680"/>
          </a:xfrm>
          <a:prstGeom prst="wedgeRectCallout">
            <a:avLst>
              <a:gd name="adj1" fmla="val -93157"/>
              <a:gd name="adj2" fmla="val 39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迁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标注 9"/>
          <p:cNvSpPr/>
          <p:nvPr/>
        </p:nvSpPr>
        <p:spPr>
          <a:xfrm>
            <a:off x="3409920" y="2963880"/>
            <a:ext cx="1079640" cy="330120"/>
          </a:xfrm>
          <a:prstGeom prst="wedgeRectCallout">
            <a:avLst>
              <a:gd name="adj1" fmla="val -93157"/>
              <a:gd name="adj2" fmla="val 39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记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10"/>
          <p:cNvSpPr/>
          <p:nvPr/>
        </p:nvSpPr>
        <p:spPr>
          <a:xfrm>
            <a:off x="2006640" y="326700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《齐谐》是一部专门记载怪异事情的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标注 11"/>
          <p:cNvSpPr/>
          <p:nvPr/>
        </p:nvSpPr>
        <p:spPr>
          <a:xfrm>
            <a:off x="4672080" y="4083120"/>
            <a:ext cx="1743120" cy="330120"/>
          </a:xfrm>
          <a:prstGeom prst="wedgeRectCallout">
            <a:avLst>
              <a:gd name="adj1" fmla="val -75995"/>
              <a:gd name="adj2" fmla="val 1912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主谓之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文本框 12"/>
          <p:cNvSpPr/>
          <p:nvPr/>
        </p:nvSpPr>
        <p:spPr>
          <a:xfrm>
            <a:off x="2689200" y="501804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这本书上记载说：“鹏鸟迁徙到南方的大海之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标注 13"/>
          <p:cNvSpPr/>
          <p:nvPr/>
        </p:nvSpPr>
        <p:spPr>
          <a:xfrm>
            <a:off x="1476360" y="4440240"/>
            <a:ext cx="1150920" cy="328680"/>
          </a:xfrm>
          <a:prstGeom prst="wedgeRectCallout">
            <a:avLst>
              <a:gd name="adj1" fmla="val -66365"/>
              <a:gd name="adj2" fmla="val 223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拍打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14"/>
          <p:cNvSpPr/>
          <p:nvPr/>
        </p:nvSpPr>
        <p:spPr>
          <a:xfrm>
            <a:off x="5166720" y="56116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翅膀激水而行，激起的波涛浪花有三千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文本框 1"/>
          <p:cNvSpPr/>
          <p:nvPr/>
        </p:nvSpPr>
        <p:spPr>
          <a:xfrm>
            <a:off x="593640" y="695160"/>
            <a:ext cx="8604360" cy="47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抟                扶摇           而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者九万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去           以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月 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息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者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野马         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，尘埃也，生物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之以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息相吹也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之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苍苍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其正色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邪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             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其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远而无所至极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视下也，亦若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是     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则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已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标注 4"/>
          <p:cNvSpPr/>
          <p:nvPr/>
        </p:nvSpPr>
        <p:spPr>
          <a:xfrm>
            <a:off x="1171440" y="747720"/>
            <a:ext cx="1671840" cy="330120"/>
          </a:xfrm>
          <a:prstGeom prst="wedgeRectCallout">
            <a:avLst>
              <a:gd name="adj1" fmla="val -59254"/>
              <a:gd name="adj2" fmla="val 21282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盘旋飞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标注 6"/>
          <p:cNvSpPr/>
          <p:nvPr/>
        </p:nvSpPr>
        <p:spPr>
          <a:xfrm>
            <a:off x="1300320" y="1724040"/>
            <a:ext cx="1006200" cy="330120"/>
          </a:xfrm>
          <a:prstGeom prst="wedgeRectCallout">
            <a:avLst>
              <a:gd name="adj1" fmla="val -75046"/>
              <a:gd name="adj2" fmla="val 1912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离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7"/>
          <p:cNvSpPr/>
          <p:nvPr/>
        </p:nvSpPr>
        <p:spPr>
          <a:xfrm>
            <a:off x="3339720" y="21081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它离开北海是凭借着六月的大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标注 8"/>
          <p:cNvSpPr/>
          <p:nvPr/>
        </p:nvSpPr>
        <p:spPr>
          <a:xfrm>
            <a:off x="2903400" y="1719360"/>
            <a:ext cx="1041480" cy="330120"/>
          </a:xfrm>
          <a:prstGeom prst="wedgeRectCallout">
            <a:avLst>
              <a:gd name="adj1" fmla="val -73157"/>
              <a:gd name="adj2" fmla="val 829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凭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标注 9"/>
          <p:cNvSpPr/>
          <p:nvPr/>
        </p:nvSpPr>
        <p:spPr>
          <a:xfrm>
            <a:off x="5261040" y="1687680"/>
            <a:ext cx="2336760" cy="330120"/>
          </a:xfrm>
          <a:prstGeom prst="wedgeRectCallout">
            <a:avLst>
              <a:gd name="adj1" fmla="val -80453"/>
              <a:gd name="adj2" fmla="val 21282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楷体"/>
                <a:ea typeface="楷体"/>
              </a:rPr>
              <a:t>气息，这里指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10"/>
          <p:cNvSpPr/>
          <p:nvPr/>
        </p:nvSpPr>
        <p:spPr>
          <a:xfrm>
            <a:off x="179280" y="3000240"/>
            <a:ext cx="91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楷体"/>
                <a:ea typeface="楷体"/>
              </a:rPr>
              <a:t>山野中的雾气</a:t>
            </a:r>
            <a:r>
              <a:rPr b="1" lang="en-US" sz="2400" spc="-1" strike="noStrike">
                <a:solidFill>
                  <a:srgbClr val="3333ff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3333ff"/>
                </a:solidFill>
                <a:latin typeface="楷体"/>
                <a:ea typeface="楷体"/>
              </a:rPr>
              <a:t>空气中的尘埃</a:t>
            </a:r>
            <a:r>
              <a:rPr b="1" lang="en-US" sz="2400" spc="-1" strike="noStrike">
                <a:solidFill>
                  <a:srgbClr val="3333ff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3333ff"/>
                </a:solidFill>
                <a:latin typeface="楷体"/>
                <a:ea typeface="楷体"/>
              </a:rPr>
              <a:t>都是生物用气息吹拂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标注 11"/>
          <p:cNvSpPr/>
          <p:nvPr/>
        </p:nvSpPr>
        <p:spPr>
          <a:xfrm>
            <a:off x="4059360" y="598320"/>
            <a:ext cx="1073160" cy="330480"/>
          </a:xfrm>
          <a:prstGeom prst="wedgeRectCallout">
            <a:avLst>
              <a:gd name="adj1" fmla="val -78884"/>
              <a:gd name="adj2" fmla="val 2604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旋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标注 12"/>
          <p:cNvSpPr/>
          <p:nvPr/>
        </p:nvSpPr>
        <p:spPr>
          <a:xfrm>
            <a:off x="5607000" y="530280"/>
            <a:ext cx="1451160" cy="330120"/>
          </a:xfrm>
          <a:prstGeom prst="wedgeRectCallout">
            <a:avLst>
              <a:gd name="adj1" fmla="val -60421"/>
              <a:gd name="adj2" fmla="val 1912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表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13"/>
          <p:cNvSpPr/>
          <p:nvPr/>
        </p:nvSpPr>
        <p:spPr>
          <a:xfrm>
            <a:off x="1035000" y="12016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它乘着旋风盘旋飞至九万里的高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标注 14"/>
          <p:cNvSpPr/>
          <p:nvPr/>
        </p:nvSpPr>
        <p:spPr>
          <a:xfrm>
            <a:off x="1300320" y="2622600"/>
            <a:ext cx="1438200" cy="330120"/>
          </a:xfrm>
          <a:prstGeom prst="wedgeRectCallout">
            <a:avLst>
              <a:gd name="adj1" fmla="val -59254"/>
              <a:gd name="adj2" fmla="val 21282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楷体"/>
                <a:ea typeface="楷体"/>
              </a:rPr>
              <a:t>山中雾气奔腾如野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标注 1"/>
          <p:cNvSpPr/>
          <p:nvPr/>
        </p:nvSpPr>
        <p:spPr>
          <a:xfrm>
            <a:off x="6310440" y="2093760"/>
            <a:ext cx="1265040" cy="331920"/>
          </a:xfrm>
          <a:prstGeom prst="wedgeRectCallout">
            <a:avLst>
              <a:gd name="adj1" fmla="val -43416"/>
              <a:gd name="adj2" fmla="val 136291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100" spc="-1" strike="noStrike">
                <a:solidFill>
                  <a:srgbClr val="ff0000"/>
                </a:solidFill>
                <a:latin typeface="楷体"/>
                <a:ea typeface="楷体"/>
              </a:rPr>
              <a:t>主谓之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标注 16"/>
          <p:cNvSpPr/>
          <p:nvPr/>
        </p:nvSpPr>
        <p:spPr>
          <a:xfrm>
            <a:off x="7935840" y="2133720"/>
            <a:ext cx="739800" cy="330120"/>
          </a:xfrm>
          <a:prstGeom prst="wedgeRectCallout">
            <a:avLst>
              <a:gd name="adj1" fmla="val -275606"/>
              <a:gd name="adj2" fmla="val 121078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楷体"/>
                <a:ea typeface="楷体"/>
              </a:rPr>
              <a:t>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标注 17"/>
          <p:cNvSpPr/>
          <p:nvPr/>
        </p:nvSpPr>
        <p:spPr>
          <a:xfrm>
            <a:off x="1752480" y="3921120"/>
            <a:ext cx="1266840" cy="250920"/>
          </a:xfrm>
          <a:prstGeom prst="wedgeRectCallout">
            <a:avLst>
              <a:gd name="adj1" fmla="val 51412"/>
              <a:gd name="adj2" fmla="val -8522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楷体"/>
                <a:ea typeface="楷体"/>
              </a:rPr>
              <a:t>深蓝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标注 18"/>
          <p:cNvSpPr/>
          <p:nvPr/>
        </p:nvSpPr>
        <p:spPr>
          <a:xfrm>
            <a:off x="4572000" y="3565440"/>
            <a:ext cx="1528920" cy="250920"/>
          </a:xfrm>
          <a:prstGeom prst="wedgeRectCallout">
            <a:avLst>
              <a:gd name="adj1" fmla="val 39930"/>
              <a:gd name="adj2" fmla="val -11666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楷体"/>
                <a:ea typeface="楷体"/>
              </a:rPr>
              <a:t>通“耶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标注 19"/>
          <p:cNvSpPr/>
          <p:nvPr/>
        </p:nvSpPr>
        <p:spPr>
          <a:xfrm>
            <a:off x="4586400" y="4078440"/>
            <a:ext cx="3309840" cy="439560"/>
          </a:xfrm>
          <a:prstGeom prst="wedgeRectCallout">
            <a:avLst>
              <a:gd name="adj1" fmla="val 12134"/>
              <a:gd name="adj2" fmla="val -13068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楷体"/>
                <a:ea typeface="楷体"/>
              </a:rPr>
              <a:t>表选择，是…还是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20"/>
          <p:cNvSpPr/>
          <p:nvPr/>
        </p:nvSpPr>
        <p:spPr>
          <a:xfrm>
            <a:off x="476280" y="44449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楷体"/>
                <a:ea typeface="楷体"/>
              </a:rPr>
              <a:t>天色湛蓝</a:t>
            </a:r>
            <a:r>
              <a:rPr b="1" lang="en-US" sz="2400" spc="-1" strike="noStrike">
                <a:solidFill>
                  <a:srgbClr val="3333ff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3333ff"/>
                </a:solidFill>
                <a:latin typeface="楷体"/>
                <a:ea typeface="楷体"/>
              </a:rPr>
              <a:t>是它真正的颜色吗？还是因为天空高远而看不到尽头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标注 21"/>
          <p:cNvSpPr/>
          <p:nvPr/>
        </p:nvSpPr>
        <p:spPr>
          <a:xfrm>
            <a:off x="3789360" y="5135400"/>
            <a:ext cx="1214280" cy="250920"/>
          </a:xfrm>
          <a:prstGeom prst="wedgeRectCallout">
            <a:avLst>
              <a:gd name="adj1" fmla="val -81097"/>
              <a:gd name="adj2" fmla="val -2973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这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标注 22"/>
          <p:cNvSpPr/>
          <p:nvPr/>
        </p:nvSpPr>
        <p:spPr>
          <a:xfrm>
            <a:off x="6359400" y="5065560"/>
            <a:ext cx="1020960" cy="306720"/>
          </a:xfrm>
          <a:prstGeom prst="wedgeRectCallout">
            <a:avLst>
              <a:gd name="adj1" fmla="val -81097"/>
              <a:gd name="adj2" fmla="val -2973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罢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23"/>
          <p:cNvSpPr/>
          <p:nvPr/>
        </p:nvSpPr>
        <p:spPr>
          <a:xfrm>
            <a:off x="1982880" y="6083280"/>
            <a:ext cx="55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大鹏在天空往下看，也不过像人在地面上看天一样罢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文本框 1"/>
          <p:cNvSpPr/>
          <p:nvPr/>
        </p:nvSpPr>
        <p:spPr>
          <a:xfrm>
            <a:off x="480960" y="1082520"/>
            <a:ext cx="837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北海里有一条鱼，它的名字叫作鲲。鲲的体积巨大，不知道有几千里；鲲变化成为鸟，它的名字叫鹏。鹏的脊背，不知道长几千里；当它奋起而飞的时候，那展开的双翅就像悬挂在天边的云。这只鹏鸟呀，海水运动时将要飞到到南海去。这南海是个天然形成的水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3"/>
          <p:cNvSpPr/>
          <p:nvPr/>
        </p:nvSpPr>
        <p:spPr>
          <a:xfrm>
            <a:off x="440640" y="498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翻 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矩形 3"/>
          <p:cNvSpPr/>
          <p:nvPr/>
        </p:nvSpPr>
        <p:spPr>
          <a:xfrm>
            <a:off x="415440" y="3459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翻 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文本占位符 36866"/>
          <p:cNvSpPr/>
          <p:nvPr/>
        </p:nvSpPr>
        <p:spPr>
          <a:xfrm>
            <a:off x="457200" y="930240"/>
            <a:ext cx="8578800" cy="56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齐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部专门记载怪异事情的书。这本书上记载说：“这本书上记载说：“鹏鸟迁徙到南方的大海之时，翅膀激水而行，激起的波涛浪花有三千里。它乘着旋风盘旋飞至九万里的高空，它离开北海是凭借着六月的大风。”。山野中的雾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中的尘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都是生物用气息吹拂的结果。天色湛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它真正的颜色吗？还是因为天空高远而看不到尽头呢？还是因为天空高远而看不到尽头呢？大鹏在天空往下看，也不过像人在地面上看天一样罢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文本框 1"/>
          <p:cNvSpPr/>
          <p:nvPr/>
        </p:nvSpPr>
        <p:spPr>
          <a:xfrm>
            <a:off x="900000" y="18252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文章内容理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章主要讲了哪几层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笔下的“鹏”是个什么样的形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2"/>
          <p:cNvSpPr/>
          <p:nvPr/>
        </p:nvSpPr>
        <p:spPr>
          <a:xfrm>
            <a:off x="324000" y="155736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第一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开头到“垂天之云” ，写北冥之鱼由鲲到鹏的变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第二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从“是鸟也”到“以息相吹也”，写大鹏迁徙南海的气势，乘风而起，击水三千，扶摇九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第三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剩余内容，写作者仰观苍天，拟想大鹏俯瞰大地，抒发了一种天地浑茫的感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3"/>
          <p:cNvSpPr/>
          <p:nvPr/>
        </p:nvSpPr>
        <p:spPr>
          <a:xfrm>
            <a:off x="1403280" y="4581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笔下的大鹏是一个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硕大无比、力大无穷、志存高远、善借长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文本框 4"/>
          <p:cNvSpPr/>
          <p:nvPr/>
        </p:nvSpPr>
        <p:spPr>
          <a:xfrm>
            <a:off x="577800" y="3809880"/>
            <a:ext cx="250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1"/>
          <p:cNvSpPr/>
          <p:nvPr/>
        </p:nvSpPr>
        <p:spPr>
          <a:xfrm>
            <a:off x="863640" y="1339920"/>
            <a:ext cx="838512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大鹏为什么要迁徙到南冥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鲲鹏由北海飞到南海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需要借助什么条件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1"/>
          <p:cNvSpPr/>
          <p:nvPr/>
        </p:nvSpPr>
        <p:spPr>
          <a:xfrm>
            <a:off x="863640" y="1893960"/>
            <a:ext cx="723744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南冥是天然的大池，是大鹏心目中的理想境地，是要追求一种精神的自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5"/>
          <p:cNvSpPr/>
          <p:nvPr/>
        </p:nvSpPr>
        <p:spPr>
          <a:xfrm>
            <a:off x="1692360" y="3665520"/>
            <a:ext cx="67672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海运则将徙于南冥”“抟扶摇而上者九万里，去以六月息者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借助海水运动和长风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组合 29"/>
          <p:cNvGrpSpPr/>
          <p:nvPr/>
        </p:nvGrpSpPr>
        <p:grpSpPr>
          <a:xfrm>
            <a:off x="250920" y="453960"/>
            <a:ext cx="1765080" cy="738360"/>
            <a:chOff x="250920" y="453960"/>
            <a:chExt cx="1765080" cy="738360"/>
          </a:xfrm>
        </p:grpSpPr>
        <p:sp>
          <p:nvSpPr>
            <p:cNvPr id="605" name="文本框 8"/>
            <p:cNvSpPr/>
            <p:nvPr/>
          </p:nvSpPr>
          <p:spPr>
            <a:xfrm>
              <a:off x="528480" y="544320"/>
              <a:ext cx="14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内容理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组合 31"/>
            <p:cNvGrpSpPr/>
            <p:nvPr/>
          </p:nvGrpSpPr>
          <p:grpSpPr>
            <a:xfrm>
              <a:off x="250920" y="453960"/>
              <a:ext cx="1754280" cy="738360"/>
              <a:chOff x="250920" y="453960"/>
              <a:chExt cx="1754280" cy="738360"/>
            </a:xfrm>
          </p:grpSpPr>
          <p:pic>
            <p:nvPicPr>
              <p:cNvPr id="607" name="图片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453960"/>
                <a:ext cx="359280" cy="7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直接连接符 13"/>
              <p:cNvSpPr/>
              <p:nvPr/>
            </p:nvSpPr>
            <p:spPr>
              <a:xfrm>
                <a:off x="442080" y="1159920"/>
                <a:ext cx="1563120" cy="0"/>
              </a:xfrm>
              <a:prstGeom prst="line">
                <a:avLst/>
              </a:prstGeom>
              <a:ln cap="rnd" w="31680">
                <a:solidFill>
                  <a:srgbClr val="00b0f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华文中宋"/>
              </a:rPr>
              <a:t>主旨理解：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0" name="文本框 16387"/>
          <p:cNvSpPr/>
          <p:nvPr/>
        </p:nvSpPr>
        <p:spPr>
          <a:xfrm>
            <a:off x="276120" y="1413000"/>
            <a:ext cx="8589960" cy="1312920"/>
          </a:xfrm>
          <a:prstGeom prst="rect">
            <a:avLst/>
          </a:prstGeom>
          <a:solidFill>
            <a:srgbClr val="fcf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300ec0"/>
                </a:solidFill>
                <a:latin typeface="Times New Roman"/>
                <a:ea typeface="幼圆"/>
              </a:rPr>
              <a:t>      </a:t>
            </a:r>
            <a:r>
              <a:rPr b="1" sz="3200" spc="-1" strike="noStrike">
                <a:solidFill>
                  <a:srgbClr val="300ec0"/>
                </a:solidFill>
                <a:latin typeface="Times New Roman"/>
                <a:ea typeface="幼圆"/>
              </a:rPr>
              <a:t> 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逍遥游”的含义是无依无靠，无所羁绊，悠然自得，自由自在。在本文中，作者借大鹏乘风翱翔，雾气、尘埃等漂浮的现象，</a:t>
            </a:r>
            <a:r>
              <a:rPr b="1" sz="3200" spc="-1" strike="noStrike">
                <a:solidFill>
                  <a:srgbClr val="3333ff"/>
                </a:solidFill>
                <a:latin typeface="Times New Roman"/>
                <a:ea typeface="幼圆"/>
              </a:rPr>
              <a:t>说明作为形体的生命，是没有绝对自由的，也不可能有；而人的精神，是应该绝对自由的，表达了作者对精神自由地追求。    </a:t>
            </a:r>
            <a:r>
              <a:rPr b="1" sz="4000" spc="-1" strike="noStrike">
                <a:solidFill>
                  <a:srgbClr val="3333ff"/>
                </a:solidFill>
                <a:latin typeface="Times New Roman"/>
                <a:ea typeface="幼圆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道理：</a:t>
            </a:r>
            <a:r>
              <a:rPr b="1" sz="3200" spc="-1" strike="noStrike">
                <a:solidFill>
                  <a:srgbClr val="ff0000"/>
                </a:solidFill>
                <a:latin typeface="黑体"/>
                <a:ea typeface="黑体"/>
              </a:rPr>
              <a:t>任何事物的存在都是依附于一定的条件，它们的活动都是有所凭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84320" y="50652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0ac2"/>
                </a:solidFill>
                <a:latin typeface="Arial"/>
                <a:ea typeface="华文行楷"/>
              </a:rPr>
              <a:t>课程标准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5" name="文本框 15362"/>
          <p:cNvSpPr/>
          <p:nvPr/>
        </p:nvSpPr>
        <p:spPr>
          <a:xfrm>
            <a:off x="0" y="1571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新课标提出的“阅读浅易文言文，能借助注释和工具书理解基本内容”，“诵读古代诗词，有意识地在积累、感悟、运用中提高自己的欣赏品位和审美情趣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57360" y="75096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华文中宋"/>
              </a:rPr>
              <a:t>现实意义：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0" y="1483920"/>
            <a:ext cx="87501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sz="36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sz="3200" spc="-1" strike="noStrike">
                <a:solidFill>
                  <a:srgbClr val="000000"/>
                </a:solidFill>
                <a:latin typeface="黑体"/>
                <a:ea typeface="黑体"/>
              </a:rPr>
              <a:t>作者在文中表明自己的观点：</a:t>
            </a:r>
            <a:r>
              <a:rPr b="1" sz="3200" spc="-1" strike="noStrike">
                <a:solidFill>
                  <a:srgbClr val="3333ff"/>
                </a:solidFill>
                <a:latin typeface="黑体"/>
                <a:ea typeface="黑体"/>
              </a:rPr>
              <a:t>世间万物都是有所凭依的，它们的活动都是有所凭借。</a:t>
            </a:r>
            <a:r>
              <a:rPr b="1" sz="3200" spc="-1" strike="noStrike">
                <a:solidFill>
                  <a:srgbClr val="000000"/>
                </a:solidFill>
                <a:latin typeface="黑体"/>
                <a:ea typeface="黑体"/>
              </a:rPr>
              <a:t>就连宏大的鲲鹏也不例外，这就让我们意识到，自由是相对的，世界上没有绝对的自由。只有遵守法纪，懂得自律的人，才会有自由的空间和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13"/>
          <p:cNvSpPr/>
          <p:nvPr/>
        </p:nvSpPr>
        <p:spPr>
          <a:xfrm>
            <a:off x="477720" y="2389320"/>
            <a:ext cx="836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3"/>
          <p:cNvSpPr/>
          <p:nvPr/>
        </p:nvSpPr>
        <p:spPr>
          <a:xfrm>
            <a:off x="574560" y="4349880"/>
            <a:ext cx="83473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25eaa"/>
                </a:solidFill>
                <a:latin typeface="宋体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组合 6"/>
          <p:cNvGrpSpPr/>
          <p:nvPr/>
        </p:nvGrpSpPr>
        <p:grpSpPr>
          <a:xfrm>
            <a:off x="-19080" y="352440"/>
            <a:ext cx="2664000" cy="737640"/>
            <a:chOff x="-19080" y="352440"/>
            <a:chExt cx="2664000" cy="737640"/>
          </a:xfrm>
        </p:grpSpPr>
        <p:sp>
          <p:nvSpPr>
            <p:cNvPr id="616" name="文本框 7"/>
            <p:cNvSpPr/>
            <p:nvPr/>
          </p:nvSpPr>
          <p:spPr>
            <a:xfrm>
              <a:off x="399960" y="442800"/>
              <a:ext cx="224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艺术特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组合 8"/>
            <p:cNvGrpSpPr/>
            <p:nvPr/>
          </p:nvGrpSpPr>
          <p:grpSpPr>
            <a:xfrm>
              <a:off x="-19080" y="352440"/>
              <a:ext cx="2647440" cy="737640"/>
              <a:chOff x="-19080" y="352440"/>
              <a:chExt cx="2647440" cy="737640"/>
            </a:xfrm>
          </p:grpSpPr>
          <p:pic>
            <p:nvPicPr>
              <p:cNvPr id="618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-19080" y="352440"/>
                <a:ext cx="536400" cy="73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9" name="直接连接符 13"/>
              <p:cNvSpPr/>
              <p:nvPr/>
            </p:nvSpPr>
            <p:spPr>
              <a:xfrm>
                <a:off x="267840" y="1059120"/>
                <a:ext cx="2360520" cy="0"/>
              </a:xfrm>
              <a:prstGeom prst="line">
                <a:avLst/>
              </a:prstGeom>
              <a:ln cap="rnd" w="31680">
                <a:solidFill>
                  <a:srgbClr val="00b0f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0" name="文本框 5"/>
          <p:cNvSpPr/>
          <p:nvPr/>
        </p:nvSpPr>
        <p:spPr>
          <a:xfrm>
            <a:off x="747720" y="1338120"/>
            <a:ext cx="782964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善用寓言故事来说理，富有感染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鲲鹏之变这一寓言，将抽象的道理讲得非常具体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6"/>
          <p:cNvSpPr/>
          <p:nvPr/>
        </p:nvSpPr>
        <p:spPr>
          <a:xfrm>
            <a:off x="900000" y="3235320"/>
            <a:ext cx="81028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想象丰富，意境开阔，富有浪漫主义特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开始描绘了大鹏展翅而九万里的雄姿和青苍辽阔的天空，展现出一个广阔壮丽的意境，显示了庄子奇特丰富的魅力，极富浪漫主义气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Box 1"/>
          <p:cNvSpPr/>
          <p:nvPr/>
        </p:nvSpPr>
        <p:spPr>
          <a:xfrm>
            <a:off x="1714680" y="57168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庄子善用寓言故事梳理，想象雄奇瑰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庄子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特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2"/>
          <p:cNvSpPr/>
          <p:nvPr/>
        </p:nvSpPr>
        <p:spPr>
          <a:xfrm>
            <a:off x="1710000" y="1773360"/>
            <a:ext cx="4803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“鹏”有关的文学形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游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狮驼国的大鹏金翅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“鹏”有关的诗词名句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九万里风鹏正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渔家傲 天接云涛连晓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清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鹏一日同风起，扶摇直上九万里。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信人生二百年，会当水击三千里。 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毛泽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鲲鹏展翅，九万里，翻动扶摇羊角。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毛泽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“鹏”有关的成语典故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鹍鹏得志  鹏程万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里鹏程    鹏路翱翔    万里鹏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文本框 1"/>
          <p:cNvSpPr/>
          <p:nvPr/>
        </p:nvSpPr>
        <p:spPr>
          <a:xfrm>
            <a:off x="0" y="189000"/>
            <a:ext cx="9144000" cy="63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李邕           </a:t>
            </a:r>
            <a:r>
              <a:rPr b="0" lang="zh-CN" sz="28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李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〔</a:t>
            </a:r>
            <a:r>
              <a:rPr b="0" lang="zh-CN" sz="28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唐代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鹏一日同风起，扶摇直上九万里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假令风歇时下来，犹能簸却沧溟水。</a:t>
            </a:r>
            <a:br>
              <a:rPr sz="2800"/>
            </a:b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时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见我恒殊调，闻余大言皆冷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宣父犹能畏后生，丈夫未可轻年少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人 一作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世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译解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鹏总有一天会和风飞起，凭借风力直上九霄云外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即使待到风停下来，其力量之大仿似能将沧海之水簸干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人见我好发奇谈怪论，听了我的豪言壮语皆冷笑不已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孔圣人还说后生可畏，大丈夫可不能轻视少年人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赏析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白用诗的语言描述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庄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的大鹏形象，他借助这一形象，表达了一飞冲天、一鸣惊人的高远志向，以及不被世俗认同的伤感，并希望得到李邕这样名士的赏识和引荐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文本框 4"/>
          <p:cNvSpPr/>
          <p:nvPr/>
        </p:nvSpPr>
        <p:spPr>
          <a:xfrm>
            <a:off x="577800" y="3809880"/>
            <a:ext cx="250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组合 29"/>
          <p:cNvGrpSpPr/>
          <p:nvPr/>
        </p:nvGrpSpPr>
        <p:grpSpPr>
          <a:xfrm>
            <a:off x="250920" y="476280"/>
            <a:ext cx="1765080" cy="738000"/>
            <a:chOff x="250920" y="476280"/>
            <a:chExt cx="1765080" cy="738000"/>
          </a:xfrm>
        </p:grpSpPr>
        <p:sp>
          <p:nvSpPr>
            <p:cNvPr id="627" name="文本框 8"/>
            <p:cNvSpPr/>
            <p:nvPr/>
          </p:nvSpPr>
          <p:spPr>
            <a:xfrm>
              <a:off x="528480" y="566640"/>
              <a:ext cx="14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深入探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组合 31"/>
            <p:cNvGrpSpPr/>
            <p:nvPr/>
          </p:nvGrpSpPr>
          <p:grpSpPr>
            <a:xfrm>
              <a:off x="250920" y="476280"/>
              <a:ext cx="1754280" cy="738000"/>
              <a:chOff x="250920" y="476280"/>
              <a:chExt cx="1754280" cy="738000"/>
            </a:xfrm>
          </p:grpSpPr>
          <p:pic>
            <p:nvPicPr>
              <p:cNvPr id="629" name="图片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476280"/>
                <a:ext cx="359280" cy="73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直接连接符 13"/>
              <p:cNvSpPr/>
              <p:nvPr/>
            </p:nvSpPr>
            <p:spPr>
              <a:xfrm>
                <a:off x="442080" y="1185480"/>
                <a:ext cx="1563120" cy="0"/>
              </a:xfrm>
              <a:prstGeom prst="line">
                <a:avLst/>
              </a:prstGeom>
              <a:ln cap="rnd" w="31680">
                <a:solidFill>
                  <a:srgbClr val="00b0f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1" name="文本框 1"/>
          <p:cNvSpPr/>
          <p:nvPr/>
        </p:nvSpPr>
        <p:spPr>
          <a:xfrm>
            <a:off x="911160" y="1519200"/>
            <a:ext cx="77644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8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句子赏析：“鹏之徙于南冥也，水击三千里，抟扶摇而上者九万里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文本框 2"/>
          <p:cNvSpPr/>
          <p:nvPr/>
        </p:nvSpPr>
        <p:spPr>
          <a:xfrm>
            <a:off x="684360" y="2496960"/>
            <a:ext cx="81262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8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此句运用丰富的想像，奇特的夸张，描写了鲲鹏振翼拍水，盘旋飞向九万里高空的形象，这一形象能激发人的豪情壮志，具有强烈的艺术感染力。“击”“抟”等字传神、生动，让人产生丰富的想像和联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文本框 1"/>
          <p:cNvSpPr/>
          <p:nvPr/>
        </p:nvSpPr>
        <p:spPr>
          <a:xfrm>
            <a:off x="1403280" y="1460520"/>
            <a:ext cx="75582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、通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北冥有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通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”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思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正色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通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”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思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、词类活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抟扶摇而上者九万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_____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意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____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文中意思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志怪者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怪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_______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意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文中意思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2"/>
          <p:cNvSpPr/>
          <p:nvPr/>
        </p:nvSpPr>
        <p:spPr>
          <a:xfrm>
            <a:off x="3069360" y="1981080"/>
            <a:ext cx="34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冥” 通 “溟”，        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3"/>
          <p:cNvSpPr/>
          <p:nvPr/>
        </p:nvSpPr>
        <p:spPr>
          <a:xfrm>
            <a:off x="3169800" y="2687760"/>
            <a:ext cx="33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邪”通  “耶 ，        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文本框 4"/>
          <p:cNvSpPr/>
          <p:nvPr/>
        </p:nvSpPr>
        <p:spPr>
          <a:xfrm>
            <a:off x="2607480" y="3697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名词作状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5"/>
          <p:cNvSpPr/>
          <p:nvPr/>
        </p:nvSpPr>
        <p:spPr>
          <a:xfrm>
            <a:off x="6116040" y="3728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方位名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6"/>
          <p:cNvSpPr/>
          <p:nvPr/>
        </p:nvSpPr>
        <p:spPr>
          <a:xfrm>
            <a:off x="3433320" y="41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7"/>
          <p:cNvSpPr/>
          <p:nvPr/>
        </p:nvSpPr>
        <p:spPr>
          <a:xfrm>
            <a:off x="2846160" y="4778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形容词作名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8"/>
          <p:cNvSpPr/>
          <p:nvPr/>
        </p:nvSpPr>
        <p:spPr>
          <a:xfrm>
            <a:off x="6419160" y="4772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奇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9"/>
          <p:cNvSpPr/>
          <p:nvPr/>
        </p:nvSpPr>
        <p:spPr>
          <a:xfrm>
            <a:off x="3021120" y="5294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怪异的事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1"/>
          <p:cNvSpPr/>
          <p:nvPr/>
        </p:nvSpPr>
        <p:spPr>
          <a:xfrm>
            <a:off x="3193920" y="473040"/>
            <a:ext cx="23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知识归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文本框 1"/>
          <p:cNvSpPr/>
          <p:nvPr/>
        </p:nvSpPr>
        <p:spPr>
          <a:xfrm>
            <a:off x="1779480" y="693720"/>
            <a:ext cx="61786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、一词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2"/>
          <p:cNvSpPr/>
          <p:nvPr/>
        </p:nvSpPr>
        <p:spPr>
          <a:xfrm>
            <a:off x="1187280" y="1701720"/>
            <a:ext cx="518508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名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为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视下也，亦若是则已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正色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远而无所至极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翼若垂天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息相吹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六月息者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之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息相吹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11"/>
          <p:cNvSpPr/>
          <p:nvPr/>
        </p:nvSpPr>
        <p:spPr>
          <a:xfrm>
            <a:off x="4140360" y="1355760"/>
            <a:ext cx="48513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叫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成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代词，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代词，大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助词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结构助词，主谓之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凭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12"/>
          <p:cNvSpPr/>
          <p:nvPr/>
        </p:nvSpPr>
        <p:spPr>
          <a:xfrm>
            <a:off x="6094440" y="3429000"/>
            <a:ext cx="30607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表选择，是…还是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文本框 1"/>
          <p:cNvSpPr/>
          <p:nvPr/>
        </p:nvSpPr>
        <p:spPr>
          <a:xfrm>
            <a:off x="127080" y="181080"/>
            <a:ext cx="898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息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去以六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者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物之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吹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北山愚公长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鸢飞戾天者，望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2"/>
          <p:cNvSpPr/>
          <p:nvPr/>
        </p:nvSpPr>
        <p:spPr>
          <a:xfrm>
            <a:off x="3530520" y="1319040"/>
            <a:ext cx="51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名词，气息，这里指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3"/>
          <p:cNvSpPr/>
          <p:nvPr/>
        </p:nvSpPr>
        <p:spPr>
          <a:xfrm>
            <a:off x="4230720" y="1812960"/>
            <a:ext cx="33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名词，气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4"/>
          <p:cNvSpPr/>
          <p:nvPr/>
        </p:nvSpPr>
        <p:spPr>
          <a:xfrm>
            <a:off x="3720960" y="2397240"/>
            <a:ext cx="36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动词，叹气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5"/>
          <p:cNvSpPr/>
          <p:nvPr/>
        </p:nvSpPr>
        <p:spPr>
          <a:xfrm>
            <a:off x="5048280" y="2935440"/>
            <a:ext cx="27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平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文本框 6"/>
          <p:cNvSpPr/>
          <p:nvPr/>
        </p:nvSpPr>
        <p:spPr>
          <a:xfrm>
            <a:off x="237960" y="4102200"/>
            <a:ext cx="87598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怒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抟扶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者九万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7"/>
          <p:cNvSpPr/>
          <p:nvPr/>
        </p:nvSpPr>
        <p:spPr>
          <a:xfrm>
            <a:off x="2001960" y="4689360"/>
            <a:ext cx="58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连词，表修饰关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8"/>
          <p:cNvSpPr/>
          <p:nvPr/>
        </p:nvSpPr>
        <p:spPr>
          <a:xfrm>
            <a:off x="4662360" y="5332320"/>
            <a:ext cx="43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连词，表修饰关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文本框 1"/>
          <p:cNvSpPr/>
          <p:nvPr/>
        </p:nvSpPr>
        <p:spPr>
          <a:xfrm>
            <a:off x="127080" y="181080"/>
            <a:ext cx="89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文本框 9"/>
          <p:cNvSpPr/>
          <p:nvPr/>
        </p:nvSpPr>
        <p:spPr>
          <a:xfrm>
            <a:off x="127080" y="890640"/>
            <a:ext cx="887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月息者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物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息相吹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名为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几千里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色邪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远而无所至极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视下也，亦若是则已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10"/>
          <p:cNvSpPr/>
          <p:nvPr/>
        </p:nvSpPr>
        <p:spPr>
          <a:xfrm>
            <a:off x="3859200" y="156204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介词，凭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11"/>
          <p:cNvSpPr/>
          <p:nvPr/>
        </p:nvSpPr>
        <p:spPr>
          <a:xfrm>
            <a:off x="4246560" y="2146320"/>
            <a:ext cx="29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介词，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文本框 12"/>
          <p:cNvSpPr/>
          <p:nvPr/>
        </p:nvSpPr>
        <p:spPr>
          <a:xfrm>
            <a:off x="2554200" y="310824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代词，它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13"/>
          <p:cNvSpPr/>
          <p:nvPr/>
        </p:nvSpPr>
        <p:spPr>
          <a:xfrm>
            <a:off x="3763800" y="3692520"/>
            <a:ext cx="20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14"/>
          <p:cNvSpPr/>
          <p:nvPr/>
        </p:nvSpPr>
        <p:spPr>
          <a:xfrm>
            <a:off x="257040" y="4818240"/>
            <a:ext cx="78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连词，表选择，是……还是…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15"/>
          <p:cNvSpPr/>
          <p:nvPr/>
        </p:nvSpPr>
        <p:spPr>
          <a:xfrm>
            <a:off x="5581800" y="5402160"/>
            <a:ext cx="34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它，代指大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文本框 2"/>
          <p:cNvSpPr/>
          <p:nvPr/>
        </p:nvSpPr>
        <p:spPr>
          <a:xfrm>
            <a:off x="1116000" y="836640"/>
            <a:ext cx="7848720" cy="41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、古今异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怒而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怒，古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今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海运则将徙于南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海运，古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今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池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池，古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今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野马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野马，古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今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1"/>
          <p:cNvSpPr/>
          <p:nvPr/>
        </p:nvSpPr>
        <p:spPr>
          <a:xfrm>
            <a:off x="3354480" y="1571760"/>
            <a:ext cx="607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奋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2"/>
          <p:cNvSpPr/>
          <p:nvPr/>
        </p:nvSpPr>
        <p:spPr>
          <a:xfrm>
            <a:off x="5973120" y="1522440"/>
            <a:ext cx="607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发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5"/>
          <p:cNvSpPr/>
          <p:nvPr/>
        </p:nvSpPr>
        <p:spPr>
          <a:xfrm>
            <a:off x="3569040" y="2406600"/>
            <a:ext cx="607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海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8"/>
          <p:cNvSpPr/>
          <p:nvPr/>
        </p:nvSpPr>
        <p:spPr>
          <a:xfrm>
            <a:off x="6167880" y="2406600"/>
            <a:ext cx="1460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泛指海上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10"/>
          <p:cNvSpPr/>
          <p:nvPr/>
        </p:nvSpPr>
        <p:spPr>
          <a:xfrm>
            <a:off x="3444120" y="3121200"/>
            <a:ext cx="1887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天然形成的大水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13"/>
          <p:cNvSpPr/>
          <p:nvPr/>
        </p:nvSpPr>
        <p:spPr>
          <a:xfrm>
            <a:off x="6896160" y="3178080"/>
            <a:ext cx="1247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高山湖泊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14"/>
          <p:cNvSpPr/>
          <p:nvPr/>
        </p:nvSpPr>
        <p:spPr>
          <a:xfrm>
            <a:off x="3611520" y="3984480"/>
            <a:ext cx="1553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山野中的雾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15"/>
          <p:cNvSpPr/>
          <p:nvPr/>
        </p:nvSpPr>
        <p:spPr>
          <a:xfrm>
            <a:off x="6747480" y="4003560"/>
            <a:ext cx="1127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野生的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19"/>
          <p:cNvGrpSpPr/>
          <p:nvPr/>
        </p:nvGrpSpPr>
        <p:grpSpPr>
          <a:xfrm>
            <a:off x="1211400" y="420840"/>
            <a:ext cx="2639520" cy="700200"/>
            <a:chOff x="1211400" y="420840"/>
            <a:chExt cx="2639520" cy="700200"/>
          </a:xfrm>
        </p:grpSpPr>
        <p:pic>
          <p:nvPicPr>
            <p:cNvPr id="507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211400" y="420840"/>
              <a:ext cx="2639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文本框 2"/>
            <p:cNvSpPr/>
            <p:nvPr/>
          </p:nvSpPr>
          <p:spPr>
            <a:xfrm>
              <a:off x="1619280" y="476280"/>
              <a:ext cx="195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核心素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AutoShape 14"/>
          <p:cNvSpPr/>
          <p:nvPr/>
        </p:nvSpPr>
        <p:spPr>
          <a:xfrm>
            <a:off x="4457880" y="327672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6"/>
          <p:cNvSpPr/>
          <p:nvPr/>
        </p:nvSpPr>
        <p:spPr>
          <a:xfrm>
            <a:off x="4457880" y="327672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1"/>
          <p:cNvSpPr/>
          <p:nvPr/>
        </p:nvSpPr>
        <p:spPr>
          <a:xfrm>
            <a:off x="474840" y="1071720"/>
            <a:ext cx="8169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语言建构与运用” ：通过梳理文言现象，建构对古汉语语法的初步认识，能够大致翻译课外文言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思维发展与提升”：通过分析两篇文章内容，理解庄子的文章特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审美鉴赏与创造”：通过评价庄子其人，培养学生“知人论世”的审美思想和结合现代社会生活取其精华的创造性思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6"/>
          <p:cNvGrpSpPr/>
          <p:nvPr/>
        </p:nvGrpSpPr>
        <p:grpSpPr>
          <a:xfrm>
            <a:off x="384120" y="1028880"/>
            <a:ext cx="1765440" cy="738000"/>
            <a:chOff x="384120" y="1028880"/>
            <a:chExt cx="1765440" cy="738000"/>
          </a:xfrm>
        </p:grpSpPr>
        <p:sp>
          <p:nvSpPr>
            <p:cNvPr id="673" name="文本框 7"/>
            <p:cNvSpPr/>
            <p:nvPr/>
          </p:nvSpPr>
          <p:spPr>
            <a:xfrm>
              <a:off x="661680" y="1119240"/>
              <a:ext cx="148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堂检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4" name="组合 8"/>
            <p:cNvGrpSpPr/>
            <p:nvPr/>
          </p:nvGrpSpPr>
          <p:grpSpPr>
            <a:xfrm>
              <a:off x="384120" y="1028880"/>
              <a:ext cx="1754640" cy="738000"/>
              <a:chOff x="384120" y="1028880"/>
              <a:chExt cx="1754640" cy="738000"/>
            </a:xfrm>
          </p:grpSpPr>
          <p:pic>
            <p:nvPicPr>
              <p:cNvPr id="675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384120" y="1028880"/>
                <a:ext cx="353520" cy="73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直接连接符 13"/>
              <p:cNvSpPr/>
              <p:nvPr/>
            </p:nvSpPr>
            <p:spPr>
              <a:xfrm>
                <a:off x="574560" y="1735920"/>
                <a:ext cx="1564200" cy="0"/>
              </a:xfrm>
              <a:prstGeom prst="line">
                <a:avLst/>
              </a:prstGeom>
              <a:ln cap="rnd" w="31680">
                <a:solidFill>
                  <a:srgbClr val="00b0f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文本框 1"/>
          <p:cNvSpPr/>
          <p:nvPr/>
        </p:nvSpPr>
        <p:spPr>
          <a:xfrm>
            <a:off x="1235160" y="1841400"/>
            <a:ext cx="617040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阅读课文，完成下列各题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填空：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本文的作者▁▁▁， ▁▁▁时期▁▁▁学派代表人物，与▁▁▁合称“老庄”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给加点字注音。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北</a:t>
            </a:r>
            <a:r>
              <a:rPr b="1" lang="zh-CN" sz="2100" spc="-1" strike="noStrike" u="sng">
                <a:solidFill>
                  <a:srgbClr val="ff0000"/>
                </a:solidFill>
                <a:uFillTx/>
                <a:latin typeface="宋体"/>
              </a:rPr>
              <a:t>冥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（     ）  </a:t>
            </a:r>
            <a:r>
              <a:rPr b="1" lang="zh-CN" sz="2100" spc="-1" strike="noStrike" u="sng">
                <a:solidFill>
                  <a:srgbClr val="ff0000"/>
                </a:solidFill>
                <a:uFillTx/>
                <a:latin typeface="宋体"/>
              </a:rPr>
              <a:t>抟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（     ）  迁</a:t>
            </a:r>
            <a:r>
              <a:rPr b="1" lang="zh-CN" sz="2100" spc="-1" strike="noStrike" u="sng">
                <a:solidFill>
                  <a:srgbClr val="ff0000"/>
                </a:solidFill>
                <a:uFillTx/>
                <a:latin typeface="宋体"/>
              </a:rPr>
              <a:t>徙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（     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、解释下列加点的词语。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(4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北冥有鱼，其名为鲲。 冥：▁▁▁▁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《齐谐》者，志怪者也。 怪：▁▁▁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抟扶摇而上者九万里。 抟：▁▁▁▁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野马也，尘埃也。 野马：▁▁▁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2"/>
          <p:cNvSpPr/>
          <p:nvPr/>
        </p:nvSpPr>
        <p:spPr>
          <a:xfrm>
            <a:off x="2868840" y="2533680"/>
            <a:ext cx="500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庄子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"/>
          <p:cNvSpPr/>
          <p:nvPr/>
        </p:nvSpPr>
        <p:spPr>
          <a:xfrm>
            <a:off x="4037400" y="2541600"/>
            <a:ext cx="500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战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4"/>
          <p:cNvSpPr/>
          <p:nvPr/>
        </p:nvSpPr>
        <p:spPr>
          <a:xfrm>
            <a:off x="5333760" y="2533680"/>
            <a:ext cx="500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道家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5"/>
          <p:cNvSpPr/>
          <p:nvPr/>
        </p:nvSpPr>
        <p:spPr>
          <a:xfrm>
            <a:off x="2332440" y="2878200"/>
            <a:ext cx="500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老子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6"/>
          <p:cNvSpPr/>
          <p:nvPr/>
        </p:nvSpPr>
        <p:spPr>
          <a:xfrm>
            <a:off x="1986480" y="3579840"/>
            <a:ext cx="867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mí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8"/>
          <p:cNvSpPr/>
          <p:nvPr/>
        </p:nvSpPr>
        <p:spPr>
          <a:xfrm>
            <a:off x="3719160" y="3587760"/>
            <a:ext cx="808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tuá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8"/>
          <p:cNvSpPr/>
          <p:nvPr/>
        </p:nvSpPr>
        <p:spPr>
          <a:xfrm>
            <a:off x="5964480" y="3608280"/>
            <a:ext cx="415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xǐ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10"/>
          <p:cNvSpPr/>
          <p:nvPr/>
        </p:nvSpPr>
        <p:spPr>
          <a:xfrm>
            <a:off x="5383440" y="4262400"/>
            <a:ext cx="1188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同“溟”，海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文本框 11"/>
          <p:cNvSpPr/>
          <p:nvPr/>
        </p:nvSpPr>
        <p:spPr>
          <a:xfrm>
            <a:off x="6745320" y="4583160"/>
            <a:ext cx="2919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形容词用作名词，怪异的事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12"/>
          <p:cNvSpPr/>
          <p:nvPr/>
        </p:nvSpPr>
        <p:spPr>
          <a:xfrm>
            <a:off x="5650920" y="4941720"/>
            <a:ext cx="3805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盘旋飞翔。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13"/>
          <p:cNvSpPr/>
          <p:nvPr/>
        </p:nvSpPr>
        <p:spPr>
          <a:xfrm>
            <a:off x="5370840" y="5310360"/>
            <a:ext cx="20109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山野中的雾气奔腾如野马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组合 6"/>
          <p:cNvGrpSpPr/>
          <p:nvPr/>
        </p:nvGrpSpPr>
        <p:grpSpPr>
          <a:xfrm>
            <a:off x="384120" y="909720"/>
            <a:ext cx="1765440" cy="738000"/>
            <a:chOff x="384120" y="909720"/>
            <a:chExt cx="1765440" cy="738000"/>
          </a:xfrm>
        </p:grpSpPr>
        <p:sp>
          <p:nvSpPr>
            <p:cNvPr id="690" name="文本框 1"/>
            <p:cNvSpPr/>
            <p:nvPr/>
          </p:nvSpPr>
          <p:spPr>
            <a:xfrm>
              <a:off x="661680" y="1000080"/>
              <a:ext cx="148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堂检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组合 8"/>
            <p:cNvGrpSpPr/>
            <p:nvPr/>
          </p:nvGrpSpPr>
          <p:grpSpPr>
            <a:xfrm>
              <a:off x="384120" y="909720"/>
              <a:ext cx="1754640" cy="738000"/>
              <a:chOff x="384120" y="909720"/>
              <a:chExt cx="1754640" cy="738000"/>
            </a:xfrm>
          </p:grpSpPr>
          <p:pic>
            <p:nvPicPr>
              <p:cNvPr id="692" name="图片 2" descr=""/>
              <p:cNvPicPr/>
              <p:nvPr/>
            </p:nvPicPr>
            <p:blipFill>
              <a:blip r:embed="rId1"/>
              <a:stretch/>
            </p:blipFill>
            <p:spPr>
              <a:xfrm>
                <a:off x="384120" y="909720"/>
                <a:ext cx="353520" cy="73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直接连接符 13"/>
              <p:cNvSpPr/>
              <p:nvPr/>
            </p:nvSpPr>
            <p:spPr>
              <a:xfrm>
                <a:off x="574560" y="1619640"/>
                <a:ext cx="1564200" cy="0"/>
              </a:xfrm>
              <a:prstGeom prst="line">
                <a:avLst/>
              </a:prstGeom>
              <a:ln cap="rnd" w="31680">
                <a:solidFill>
                  <a:srgbClr val="00b0f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4" name="文本框 1"/>
          <p:cNvSpPr/>
          <p:nvPr/>
        </p:nvSpPr>
        <p:spPr>
          <a:xfrm>
            <a:off x="1189080" y="1665360"/>
            <a:ext cx="61484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、下列句中没有古今异义现象的一项是（     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海运则将徙于南冥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南冥者，天池也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抟扶摇而上者九万里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野马也，尘埃也，生物之以息相吹也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、把下列句子翻译成现代汉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怒而飞，其翼若垂天之云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天之苍苍，其正色邪？其远而无所至极邪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3"/>
          <p:cNvSpPr/>
          <p:nvPr/>
        </p:nvSpPr>
        <p:spPr>
          <a:xfrm>
            <a:off x="3703680" y="2043000"/>
            <a:ext cx="3284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海运：海动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泛指海上运输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11"/>
          <p:cNvSpPr/>
          <p:nvPr/>
        </p:nvSpPr>
        <p:spPr>
          <a:xfrm>
            <a:off x="3511440" y="2417760"/>
            <a:ext cx="45864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天池：天然形成的大水池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高山湖泊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文本框 12"/>
          <p:cNvSpPr/>
          <p:nvPr/>
        </p:nvSpPr>
        <p:spPr>
          <a:xfrm>
            <a:off x="6384960" y="1668600"/>
            <a:ext cx="3808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13"/>
          <p:cNvSpPr/>
          <p:nvPr/>
        </p:nvSpPr>
        <p:spPr>
          <a:xfrm>
            <a:off x="4087800" y="2768760"/>
            <a:ext cx="3808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✔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标注 14"/>
          <p:cNvSpPr/>
          <p:nvPr/>
        </p:nvSpPr>
        <p:spPr>
          <a:xfrm>
            <a:off x="4689360" y="2860560"/>
            <a:ext cx="2732040" cy="304920"/>
          </a:xfrm>
          <a:prstGeom prst="wedgeRectCallout">
            <a:avLst>
              <a:gd name="adj1" fmla="val -63546"/>
              <a:gd name="adj2" fmla="val 101092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ff0000"/>
                </a:solidFill>
                <a:latin typeface="宋体"/>
                <a:ea typeface="宋体"/>
              </a:rPr>
              <a:t>野马：山野中的雾气</a:t>
            </a:r>
            <a:r>
              <a:rPr b="1" sz="15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sz="1500" spc="-1" strike="noStrike">
                <a:solidFill>
                  <a:srgbClr val="ff0000"/>
                </a:solidFill>
                <a:latin typeface="宋体"/>
                <a:ea typeface="宋体"/>
              </a:rPr>
              <a:t>野生的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15"/>
          <p:cNvSpPr/>
          <p:nvPr/>
        </p:nvSpPr>
        <p:spPr>
          <a:xfrm>
            <a:off x="1189080" y="4237200"/>
            <a:ext cx="55278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振翅飞翔起来，它的翅膀就像挂在天边的云彩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文本框 16"/>
          <p:cNvSpPr/>
          <p:nvPr/>
        </p:nvSpPr>
        <p:spPr>
          <a:xfrm>
            <a:off x="1195560" y="5014800"/>
            <a:ext cx="5527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天色深蓝，是它真正的颜色呢，还是因为太遥远而没有办法看到天的尽头呢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日记本上，一行原文，一行翻译，重点词语红笔解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495360" y="117936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第二课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庄子与惠子游于濠梁之上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0" y="1017720"/>
            <a:ext cx="8896320" cy="35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翻译全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60c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60c"/>
                </a:solidFill>
                <a:latin typeface="Arial"/>
              </a:rPr>
              <a:t>运用坐庄法翻译课文，</a:t>
            </a:r>
            <a:r>
              <a:rPr b="1" lang="en-US" sz="4000" spc="-1" strike="noStrike">
                <a:solidFill>
                  <a:srgbClr val="00060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60c"/>
                </a:solidFill>
                <a:latin typeface="Arial"/>
              </a:rPr>
              <a:t>号坐庄，按照</a:t>
            </a:r>
            <a:r>
              <a:rPr b="1" lang="en-US" sz="4000" spc="-1" strike="noStrike">
                <a:solidFill>
                  <a:srgbClr val="00060c"/>
                </a:solidFill>
                <a:latin typeface="Arial"/>
              </a:rPr>
              <a:t>4-1</a:t>
            </a:r>
            <a:r>
              <a:rPr b="1" lang="zh-CN" sz="4000" spc="-1" strike="noStrike">
                <a:solidFill>
                  <a:srgbClr val="00060c"/>
                </a:solidFill>
                <a:latin typeface="Arial"/>
              </a:rPr>
              <a:t>号的顺序交流翻译中的疑点，然后合作解决疑难，仍有疑问，全班提出解决。时间</a:t>
            </a:r>
            <a:r>
              <a:rPr b="1" lang="en-US" sz="4000" spc="-1" strike="noStrike">
                <a:solidFill>
                  <a:srgbClr val="00060c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60c"/>
                </a:solidFill>
                <a:latin typeface="Arial"/>
              </a:rPr>
              <a:t>分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3"/>
          <p:cNvSpPr/>
          <p:nvPr/>
        </p:nvSpPr>
        <p:spPr>
          <a:xfrm>
            <a:off x="0" y="404640"/>
            <a:ext cx="91440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庄子与惠子游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á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梁之上。庄子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á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鱼出游从容，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鱼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乐也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惠子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非鱼，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鱼之乐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庄子曰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非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安知我不知鱼之乐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惠子曰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非子，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子矣；子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鱼也，子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知鱼之乐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矣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庄子曰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</a:t>
            </a: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循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其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子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汝安知鱼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既已知吾知之而问我。我知之濠上也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3"/>
          <p:cNvSpPr/>
          <p:nvPr/>
        </p:nvSpPr>
        <p:spPr>
          <a:xfrm>
            <a:off x="3936600" y="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4010400" y="981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5"/>
          <p:cNvSpPr/>
          <p:nvPr/>
        </p:nvSpPr>
        <p:spPr>
          <a:xfrm>
            <a:off x="4873320" y="981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6"/>
          <p:cNvSpPr/>
          <p:nvPr/>
        </p:nvSpPr>
        <p:spPr>
          <a:xfrm>
            <a:off x="2219760" y="184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怎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7"/>
          <p:cNvSpPr/>
          <p:nvPr/>
        </p:nvSpPr>
        <p:spPr>
          <a:xfrm>
            <a:off x="7765920" y="2451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固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8"/>
          <p:cNvSpPr/>
          <p:nvPr/>
        </p:nvSpPr>
        <p:spPr>
          <a:xfrm>
            <a:off x="4003560" y="3235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主谓之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9"/>
          <p:cNvSpPr/>
          <p:nvPr/>
        </p:nvSpPr>
        <p:spPr>
          <a:xfrm>
            <a:off x="7006320" y="3213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完全，完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10"/>
          <p:cNvSpPr/>
          <p:nvPr/>
        </p:nvSpPr>
        <p:spPr>
          <a:xfrm>
            <a:off x="2342160" y="3933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追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话题本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11"/>
          <p:cNvSpPr/>
          <p:nvPr/>
        </p:nvSpPr>
        <p:spPr>
          <a:xfrm>
            <a:off x="7286400" y="4005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话，话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12"/>
          <p:cNvSpPr/>
          <p:nvPr/>
        </p:nvSpPr>
        <p:spPr>
          <a:xfrm>
            <a:off x="547200" y="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文章翻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1"/>
          <p:cNvSpPr/>
          <p:nvPr/>
        </p:nvSpPr>
        <p:spPr>
          <a:xfrm>
            <a:off x="2047680" y="321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本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7"/>
          <p:cNvSpPr/>
          <p:nvPr/>
        </p:nvSpPr>
        <p:spPr>
          <a:xfrm>
            <a:off x="0" y="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译文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庄子和惠子一道在濠水的桥上游玩。庄子说：“白鱼在河水中游得多么悠闲自得，这是鱼的快乐啊。”惠子说：“你不是鱼，怎么知道鱼的快乐？”庄子说：“你不是我，怎么知道我不知道鱼的快乐呢？”惠子说：“我不是你，固然不知道你（的想法）；你本来就不是鱼，你不知道鱼的快乐，这是完全可以肯定的了！”庄子说：“请从我们最初的话题说起。你说‘你哪知道鱼儿快乐’的话，就说明你已经知道我知道鱼快乐而在问我。我是在濠水的桥上知道的啊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485720" y="828720"/>
            <a:ext cx="61722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问题探究</a:t>
            </a:r>
            <a:endParaRPr b="0" lang="en-US" sz="3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1152000" y="1520640"/>
            <a:ext cx="72406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这场辩论赛的辩题是什么？正反双方的观点各是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】辩题是：庄子是否知道鱼之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】正方（庄子）的观点：鱼出游从容，是鱼之乐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】反方（惠子）的观点：子非鱼，安知鱼之乐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20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2000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900000" y="853920"/>
            <a:ext cx="7848720" cy="51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在庄子和惠子的辩论中，谁是胜者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】从逻辑上看，惠子是胜者。庄子是靠故意曲解惠子的意思，才在争论中得以维持自己最初的判断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】从形式上看，庄子是胜者。因为庄子说了后惠子就没有话可以用来反驳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庄子把“安知”，解释成“哪里知道”， 而惠子本意是“怎么知道”。庄子偷换概念，避重就轻，化解了发难，因此表面上赢了，机智灵活跃然纸上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137960" y="1068480"/>
            <a:ext cx="7574040" cy="46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庄子为什么会认为鱼儿是快乐的呢？文章反映了他的什么思想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】庄子坚持认为“出游从容”的鱼儿很快乐，其实是他愉悦心境的投射与反映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】文章反映了庄子追求“天地与我并生，而万物与我唯一”，</a:t>
            </a:r>
            <a:r>
              <a:rPr b="1" lang="zh-CN" sz="3000" spc="-1" strike="noStrike">
                <a:solidFill>
                  <a:srgbClr val="3333ff"/>
                </a:solidFill>
                <a:latin typeface="Arial"/>
              </a:rPr>
              <a:t>表现了他推崇“自然”，反对“人为”， 的思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88920" y="-360"/>
            <a:ext cx="896616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我能通过课下注释的帮助，熟记文学常识积累重点文言词语，并运用坐庄法准确流畅翻译课文，培养及时反馈的技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我能通过朗读课文，运用叽叽喳喳法，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学习想象，用寓言和具体形象表现哲理的写法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培养赞美的技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我能通过理解文章内容，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树立远大目标志存高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并从文中形象大鹏受到教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宋体"/>
              </a:rPr>
              <a:t>合作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熟练运用坐庄法交流文言文翻译中的难点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在此过程中能够使用倾听、赞美、反馈和寻求反馈等合作技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宋体"/>
              </a:rPr>
              <a:t>核心素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学习文言文的相关知识，能养成阅读文言文的习惯，理解文章主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宋体"/>
              </a:rPr>
              <a:t>高阶思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品味文言文的表达方式、语言特点，理解作品情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矩形 1"/>
          <p:cNvSpPr/>
          <p:nvPr/>
        </p:nvSpPr>
        <p:spPr>
          <a:xfrm>
            <a:off x="0" y="7128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一）古今异义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宋体"/>
              </a:rPr>
              <a:t>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本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古义：追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今义：遵守；依照；沿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2"/>
          <p:cNvSpPr/>
          <p:nvPr/>
        </p:nvSpPr>
        <p:spPr>
          <a:xfrm>
            <a:off x="60480" y="1471680"/>
            <a:ext cx="9480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二）一词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固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非子，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宋体"/>
              </a:rPr>
              <a:t>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知子矣   （固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子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宋体"/>
              </a:rPr>
              <a:t>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非鱼也     （本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庄子往见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宋体"/>
              </a:rPr>
              <a:t>之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（指惠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鱼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宋体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乐也      （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子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宋体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知鱼之乐   （取消句子的独立性，可不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3"/>
          <p:cNvSpPr/>
          <p:nvPr/>
        </p:nvSpPr>
        <p:spPr>
          <a:xfrm>
            <a:off x="60480" y="4214880"/>
            <a:ext cx="845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子之不知鱼之乐，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宋体"/>
                <a:ea typeface="Times New Roman"/>
              </a:rPr>
              <a:t>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矣 （完全，肯定是这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宋体"/>
                <a:ea typeface="Times New Roman"/>
              </a:rPr>
              <a:t>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石以为   （整个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6"/>
          <p:cNvSpPr/>
          <p:nvPr/>
        </p:nvSpPr>
        <p:spPr>
          <a:xfrm>
            <a:off x="250920" y="5665680"/>
            <a:ext cx="889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（三）成语积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濠梁观鱼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形容悠然自得，寄情物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组合 6203"/>
          <p:cNvGrpSpPr/>
          <p:nvPr/>
        </p:nvGrpSpPr>
        <p:grpSpPr>
          <a:xfrm>
            <a:off x="60480" y="223920"/>
            <a:ext cx="2234520" cy="523800"/>
            <a:chOff x="60480" y="223920"/>
            <a:chExt cx="2234520" cy="523800"/>
          </a:xfrm>
        </p:grpSpPr>
        <p:pic>
          <p:nvPicPr>
            <p:cNvPr id="728" name="图片 6200" descr="PPT·（4字）"/>
            <p:cNvPicPr/>
            <p:nvPr/>
          </p:nvPicPr>
          <p:blipFill>
            <a:blip r:embed="rId1"/>
            <a:stretch/>
          </p:blipFill>
          <p:spPr>
            <a:xfrm>
              <a:off x="60480" y="317160"/>
              <a:ext cx="17236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矩形 6201" descr=""/>
            <p:cNvPicPr/>
            <p:nvPr/>
          </p:nvPicPr>
          <p:blipFill>
            <a:blip r:embed="rId2"/>
            <a:stretch/>
          </p:blipFill>
          <p:spPr>
            <a:xfrm>
              <a:off x="262440" y="223920"/>
              <a:ext cx="2032560" cy="523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文本框 6194" descr=""/>
          <p:cNvPicPr/>
          <p:nvPr/>
        </p:nvPicPr>
        <p:blipFill>
          <a:blip r:embed="rId1"/>
          <a:stretch/>
        </p:blipFill>
        <p:spPr>
          <a:xfrm>
            <a:off x="530280" y="706320"/>
            <a:ext cx="7686720" cy="6389640"/>
          </a:xfrm>
          <a:prstGeom prst="rect">
            <a:avLst/>
          </a:prstGeom>
          <a:ln w="0">
            <a:noFill/>
          </a:ln>
        </p:spPr>
      </p:pic>
      <p:grpSp>
        <p:nvGrpSpPr>
          <p:cNvPr id="731" name="组合 6203"/>
          <p:cNvGrpSpPr/>
          <p:nvPr/>
        </p:nvGrpSpPr>
        <p:grpSpPr>
          <a:xfrm>
            <a:off x="285840" y="214200"/>
            <a:ext cx="2303280" cy="489960"/>
            <a:chOff x="285840" y="214200"/>
            <a:chExt cx="2303280" cy="489960"/>
          </a:xfrm>
        </p:grpSpPr>
        <p:pic>
          <p:nvPicPr>
            <p:cNvPr id="732" name="图片 6200" descr="PPT·（4字）"/>
            <p:cNvPicPr/>
            <p:nvPr/>
          </p:nvPicPr>
          <p:blipFill>
            <a:blip r:embed="rId2"/>
            <a:stretch/>
          </p:blipFill>
          <p:spPr>
            <a:xfrm>
              <a:off x="285840" y="249120"/>
              <a:ext cx="23032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矩形 6201"/>
            <p:cNvSpPr/>
            <p:nvPr/>
          </p:nvSpPr>
          <p:spPr>
            <a:xfrm>
              <a:off x="1162440" y="214200"/>
              <a:ext cx="973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知识梳理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文本框 1"/>
          <p:cNvSpPr/>
          <p:nvPr/>
        </p:nvSpPr>
        <p:spPr>
          <a:xfrm>
            <a:off x="5214960" y="1714680"/>
            <a:ext cx="168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悬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2"/>
          <p:cNvSpPr/>
          <p:nvPr/>
        </p:nvSpPr>
        <p:spPr>
          <a:xfrm>
            <a:off x="5214960" y="2214720"/>
            <a:ext cx="16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迁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文本框 3"/>
          <p:cNvSpPr/>
          <p:nvPr/>
        </p:nvSpPr>
        <p:spPr>
          <a:xfrm>
            <a:off x="5214960" y="2714760"/>
            <a:ext cx="289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击水，拍打水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6"/>
          <p:cNvSpPr/>
          <p:nvPr/>
        </p:nvSpPr>
        <p:spPr>
          <a:xfrm>
            <a:off x="5214960" y="3286080"/>
            <a:ext cx="213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盘旋飞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文本框 8"/>
          <p:cNvSpPr/>
          <p:nvPr/>
        </p:nvSpPr>
        <p:spPr>
          <a:xfrm>
            <a:off x="5286240" y="3786120"/>
            <a:ext cx="1648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凭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文本框 9"/>
          <p:cNvSpPr/>
          <p:nvPr/>
        </p:nvSpPr>
        <p:spPr>
          <a:xfrm>
            <a:off x="5286240" y="4286160"/>
            <a:ext cx="1543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这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11"/>
          <p:cNvSpPr/>
          <p:nvPr/>
        </p:nvSpPr>
        <p:spPr>
          <a:xfrm>
            <a:off x="5439240" y="4857840"/>
            <a:ext cx="5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12"/>
          <p:cNvSpPr/>
          <p:nvPr/>
        </p:nvSpPr>
        <p:spPr>
          <a:xfrm>
            <a:off x="7077240" y="47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怎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5362920" y="5286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本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14"/>
          <p:cNvSpPr/>
          <p:nvPr/>
        </p:nvSpPr>
        <p:spPr>
          <a:xfrm>
            <a:off x="5581080" y="5786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完全，完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15"/>
          <p:cNvSpPr/>
          <p:nvPr/>
        </p:nvSpPr>
        <p:spPr>
          <a:xfrm>
            <a:off x="5434200" y="6334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追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文本框 1"/>
          <p:cNvSpPr/>
          <p:nvPr/>
        </p:nvSpPr>
        <p:spPr>
          <a:xfrm>
            <a:off x="1342800" y="1484280"/>
            <a:ext cx="59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同步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——9,12——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85720" y="823680"/>
            <a:ext cx="61722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08000" y="620640"/>
            <a:ext cx="903600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准字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名为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kū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x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于南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mí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tuá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扶摇而上    齐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xi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正色邪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yé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濠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áo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tiá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鱼                鱼之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l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组合 5"/>
          <p:cNvGrpSpPr/>
          <p:nvPr/>
        </p:nvGrpSpPr>
        <p:grpSpPr>
          <a:xfrm>
            <a:off x="250920" y="189000"/>
            <a:ext cx="2305080" cy="738000"/>
            <a:chOff x="250920" y="189000"/>
            <a:chExt cx="2305080" cy="738000"/>
          </a:xfrm>
        </p:grpSpPr>
        <p:sp>
          <p:nvSpPr>
            <p:cNvPr id="516" name="文本框 6"/>
            <p:cNvSpPr/>
            <p:nvPr/>
          </p:nvSpPr>
          <p:spPr>
            <a:xfrm>
              <a:off x="250920" y="304560"/>
              <a:ext cx="23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者名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组合 7"/>
            <p:cNvGrpSpPr/>
            <p:nvPr/>
          </p:nvGrpSpPr>
          <p:grpSpPr>
            <a:xfrm>
              <a:off x="250920" y="189000"/>
              <a:ext cx="1754280" cy="738000"/>
              <a:chOff x="250920" y="189000"/>
              <a:chExt cx="1754280" cy="738000"/>
            </a:xfrm>
          </p:grpSpPr>
          <p:pic>
            <p:nvPicPr>
              <p:cNvPr id="518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189000"/>
                <a:ext cx="359280" cy="73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直接连接符 13"/>
              <p:cNvSpPr/>
              <p:nvPr/>
            </p:nvSpPr>
            <p:spPr>
              <a:xfrm>
                <a:off x="442080" y="897480"/>
                <a:ext cx="1563120" cy="0"/>
              </a:xfrm>
              <a:prstGeom prst="line">
                <a:avLst/>
              </a:prstGeom>
              <a:ln cap="rnd" w="31680">
                <a:solidFill>
                  <a:srgbClr val="00b0f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文本框 2"/>
          <p:cNvSpPr/>
          <p:nvPr/>
        </p:nvSpPr>
        <p:spPr>
          <a:xfrm>
            <a:off x="1403280" y="1197000"/>
            <a:ext cx="7319880" cy="21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2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"/>
                <a:ea typeface="楷体"/>
              </a:rPr>
              <a:t>庄子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约前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69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～前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286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名</a:t>
            </a:r>
            <a:r>
              <a:rPr b="1" lang="zh-CN" sz="3600" spc="-1" strike="noStrike">
                <a:solidFill>
                  <a:srgbClr val="3333ff"/>
                </a:solidFill>
                <a:latin typeface="楷体"/>
                <a:ea typeface="楷体"/>
              </a:rPr>
              <a:t>周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3600" spc="-1" strike="noStrike">
                <a:solidFill>
                  <a:srgbClr val="3333ff"/>
                </a:solidFill>
                <a:latin typeface="楷体"/>
                <a:ea typeface="楷体"/>
              </a:rPr>
              <a:t>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国蒙人，</a:t>
            </a:r>
            <a:r>
              <a:rPr b="1" lang="zh-CN" sz="3600" spc="-1" strike="noStrike">
                <a:solidFill>
                  <a:srgbClr val="3333ff"/>
                </a:solidFill>
                <a:latin typeface="楷体"/>
                <a:ea typeface="楷体"/>
              </a:rPr>
              <a:t>战国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时期</a:t>
            </a:r>
            <a:r>
              <a:rPr b="1" lang="zh-CN" sz="3600" spc="-1" strike="noStrike">
                <a:solidFill>
                  <a:srgbClr val="3333ff"/>
                </a:solidFill>
                <a:latin typeface="楷体"/>
                <a:ea typeface="楷体"/>
              </a:rPr>
              <a:t>哲学家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3600" spc="-1" strike="noStrike">
                <a:solidFill>
                  <a:srgbClr val="3333ff"/>
                </a:solidFill>
                <a:latin typeface="楷体"/>
                <a:ea typeface="楷体"/>
              </a:rPr>
              <a:t>思想家、文学家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道家学派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代表人物。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庄子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一书是庄子及其后学的著作，现存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篇，包括内篇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篇，外篇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篇，杂篇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篇。一般认为内篇为庄子本人所作。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北冥有鱼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选自内篇中的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逍遥游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他的哲学思想体系被誉为“</a:t>
            </a:r>
            <a:r>
              <a:rPr b="1" lang="zh-CN" sz="3600" spc="-1" strike="noStrike">
                <a:solidFill>
                  <a:srgbClr val="3333ff"/>
                </a:solidFill>
                <a:latin typeface="楷体"/>
                <a:ea typeface="楷体"/>
              </a:rPr>
              <a:t>老庄哲学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”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。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《庄子》又名《南华经》，是道家经典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之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组合 5"/>
          <p:cNvGrpSpPr/>
          <p:nvPr/>
        </p:nvGrpSpPr>
        <p:grpSpPr>
          <a:xfrm>
            <a:off x="108000" y="115920"/>
            <a:ext cx="2435040" cy="738000"/>
            <a:chOff x="108000" y="115920"/>
            <a:chExt cx="2435040" cy="738000"/>
          </a:xfrm>
        </p:grpSpPr>
        <p:sp>
          <p:nvSpPr>
            <p:cNvPr id="522" name="文本框 6"/>
            <p:cNvSpPr/>
            <p:nvPr/>
          </p:nvSpPr>
          <p:spPr>
            <a:xfrm>
              <a:off x="108000" y="193680"/>
              <a:ext cx="243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者知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组合 7"/>
            <p:cNvGrpSpPr/>
            <p:nvPr/>
          </p:nvGrpSpPr>
          <p:grpSpPr>
            <a:xfrm>
              <a:off x="108000" y="115920"/>
              <a:ext cx="1753200" cy="738000"/>
              <a:chOff x="108000" y="115920"/>
              <a:chExt cx="1753200" cy="738000"/>
            </a:xfrm>
          </p:grpSpPr>
          <p:pic>
            <p:nvPicPr>
              <p:cNvPr id="524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5920"/>
                <a:ext cx="353880" cy="73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5" name="直接连接符 13"/>
              <p:cNvSpPr/>
              <p:nvPr/>
            </p:nvSpPr>
            <p:spPr>
              <a:xfrm>
                <a:off x="296640" y="824400"/>
                <a:ext cx="1564560" cy="0"/>
              </a:xfrm>
              <a:prstGeom prst="line">
                <a:avLst/>
              </a:prstGeom>
              <a:ln cap="rnd" w="31680">
                <a:solidFill>
                  <a:srgbClr val="00b0f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文本框 2"/>
          <p:cNvSpPr/>
          <p:nvPr/>
        </p:nvSpPr>
        <p:spPr>
          <a:xfrm>
            <a:off x="298440" y="1266840"/>
            <a:ext cx="89028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2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楷体"/>
                <a:ea typeface="楷体"/>
              </a:rPr>
              <a:t>庄子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约与孟子同时或稍晚，是中国历史上有重要影响的哲学家，战国时期</a:t>
            </a:r>
            <a:r>
              <a:rPr b="1" lang="zh-CN" sz="3600" spc="-1" strike="noStrike">
                <a:solidFill>
                  <a:srgbClr val="3333ff"/>
                </a:solidFill>
                <a:latin typeface="楷体"/>
                <a:ea typeface="楷体"/>
              </a:rPr>
              <a:t>道家学派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代表人物。庄子继承和发展了老子的哲学思想，世人并称“</a:t>
            </a:r>
            <a:r>
              <a:rPr b="1" lang="zh-CN" sz="3600" spc="-1" strike="noStrike">
                <a:solidFill>
                  <a:srgbClr val="3333ff"/>
                </a:solidFill>
                <a:latin typeface="楷体"/>
                <a:ea typeface="楷体"/>
              </a:rPr>
              <a:t>老庄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”。庄子对待生活的态度是：一切顺其自然，“安时而处顺”、“知其无可奈何而安之若命”、“</a:t>
            </a:r>
            <a:r>
              <a:rPr b="1" lang="zh-CN" sz="3600" spc="-1" strike="noStrike">
                <a:solidFill>
                  <a:srgbClr val="3333ff"/>
                </a:solidFill>
                <a:latin typeface="楷体"/>
                <a:ea typeface="楷体"/>
              </a:rPr>
              <a:t>清静无为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”。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政治上主张“无为而治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组合 5"/>
          <p:cNvGrpSpPr/>
          <p:nvPr/>
        </p:nvGrpSpPr>
        <p:grpSpPr>
          <a:xfrm>
            <a:off x="1440" y="404640"/>
            <a:ext cx="2746440" cy="738360"/>
            <a:chOff x="1440" y="404640"/>
            <a:chExt cx="2746440" cy="738360"/>
          </a:xfrm>
        </p:grpSpPr>
        <p:sp>
          <p:nvSpPr>
            <p:cNvPr id="528" name="文本框 6"/>
            <p:cNvSpPr/>
            <p:nvPr/>
          </p:nvSpPr>
          <p:spPr>
            <a:xfrm>
              <a:off x="1440" y="480600"/>
              <a:ext cx="274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品介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组合 7"/>
            <p:cNvGrpSpPr/>
            <p:nvPr/>
          </p:nvGrpSpPr>
          <p:grpSpPr>
            <a:xfrm>
              <a:off x="251640" y="404640"/>
              <a:ext cx="1753200" cy="738360"/>
              <a:chOff x="251640" y="404640"/>
              <a:chExt cx="1753200" cy="738360"/>
            </a:xfrm>
          </p:grpSpPr>
          <p:pic>
            <p:nvPicPr>
              <p:cNvPr id="530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1640" y="404640"/>
                <a:ext cx="358920" cy="7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" name="直接连接符 13"/>
              <p:cNvSpPr/>
              <p:nvPr/>
            </p:nvSpPr>
            <p:spPr>
              <a:xfrm>
                <a:off x="443880" y="1110240"/>
                <a:ext cx="1560960" cy="0"/>
              </a:xfrm>
              <a:prstGeom prst="line">
                <a:avLst/>
              </a:prstGeom>
              <a:ln cap="rnd" w="31680">
                <a:solidFill>
                  <a:srgbClr val="00b0f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文本框 1"/>
          <p:cNvSpPr/>
          <p:nvPr/>
        </p:nvSpPr>
        <p:spPr>
          <a:xfrm>
            <a:off x="0" y="1679400"/>
            <a:ext cx="91440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庄子的文章，</a:t>
            </a:r>
            <a:r>
              <a:rPr b="1" lang="zh-CN" sz="3200" spc="-1" strike="noStrike">
                <a:solidFill>
                  <a:srgbClr val="3333ff"/>
                </a:solidFill>
                <a:latin typeface="楷体"/>
                <a:ea typeface="楷体"/>
              </a:rPr>
              <a:t>想象奇幻，构思巧妙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多彩的思想世界和文学意境，文笔汪洋恣肆，</a:t>
            </a:r>
            <a:r>
              <a:rPr b="1" lang="zh-CN" sz="3200" spc="-1" strike="noStrike">
                <a:solidFill>
                  <a:srgbClr val="3333ff"/>
                </a:solidFill>
                <a:latin typeface="楷体"/>
                <a:ea typeface="楷体"/>
              </a:rPr>
              <a:t>具有浪漫主义的艺术风格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瑰丽诡谲，意出尘外，乃先秦诸子文章的典范之作。庄子之语看似夸言万里，想象漫无边际，然皆有根基，重于史料议理。鲁迅先生说：“其文则汪洋辟阖，仪态万方，晚周诸子之作，莫能先也。”被誉为“钳揵九流，括囊百氏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95360" y="117936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宋体"/>
              </a:rPr>
              <a:t>第一课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宋体"/>
              </a:rPr>
              <a:t>北冥有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1:29:33Z</dcterms:created>
  <dc:creator>User</dc:creator>
  <dc:description/>
  <dc:language>en-US</dc:language>
  <cp:lastModifiedBy>电脑城</cp:lastModifiedBy>
  <dcterms:modified xsi:type="dcterms:W3CDTF">2021-04-07T07:26:48Z</dcterms:modified>
  <cp:revision>300</cp:revision>
  <dc:subject/>
  <dc:title>幻灯片 1</dc:title>
</cp:coreProperties>
</file>