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29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D27-1EFA-4E7F-BF56-8C16C5CD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455400"/>
            <a:ext cx="8227800" cy="4842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400" y="1133640"/>
            <a:ext cx="822780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00" y="2985120"/>
            <a:ext cx="822780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06A-4354-43A4-AECF-AB405E7F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455400"/>
            <a:ext cx="8227800" cy="4842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400" y="1133640"/>
            <a:ext cx="401508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133640"/>
            <a:ext cx="401508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400" y="2985120"/>
            <a:ext cx="401508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2985120"/>
            <a:ext cx="401508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E0A-70E2-4DAA-B712-8BFFAFC9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455400"/>
            <a:ext cx="8227800" cy="4842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400" y="1133640"/>
            <a:ext cx="264924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133640"/>
            <a:ext cx="264924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560" y="1133640"/>
            <a:ext cx="264924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400" y="2985120"/>
            <a:ext cx="264924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2985120"/>
            <a:ext cx="264924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560" y="2985120"/>
            <a:ext cx="264924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8A4-23C7-4227-BE0F-470F07CD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455400"/>
            <a:ext cx="8227800" cy="4842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400" y="1133640"/>
            <a:ext cx="8227800" cy="35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83D-C748-4E16-96AE-AB92F5A2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455400"/>
            <a:ext cx="8227800" cy="4842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400" y="1133640"/>
            <a:ext cx="8227800" cy="35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015-F383-40F6-9749-F80252DB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455400"/>
            <a:ext cx="8227800" cy="4842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400" y="1133640"/>
            <a:ext cx="4015080" cy="35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133640"/>
            <a:ext cx="4015080" cy="35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D5C-DA64-4603-8B56-C9412ED2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455400"/>
            <a:ext cx="8227800" cy="4842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0ED-C54B-40E2-92B8-411902B1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455400"/>
            <a:ext cx="8227800" cy="22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581-F0C8-4F20-B640-841E55AD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455400"/>
            <a:ext cx="8227800" cy="4842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400" y="1133640"/>
            <a:ext cx="401508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133640"/>
            <a:ext cx="4015080" cy="35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400" y="2985120"/>
            <a:ext cx="401508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534-936A-4F3F-9717-E4735644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455400"/>
            <a:ext cx="8227800" cy="4842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400" y="1133640"/>
            <a:ext cx="4015080" cy="35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133640"/>
            <a:ext cx="401508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2985120"/>
            <a:ext cx="401508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556-070C-4B82-B01D-EF60A635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455400"/>
            <a:ext cx="8227800" cy="4842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400" y="1133640"/>
            <a:ext cx="401508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133640"/>
            <a:ext cx="401508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00" y="2985120"/>
            <a:ext cx="822780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38A-25DB-4FA8-A7E2-BF73ACC2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400"/>
            <a:ext cx="8227800" cy="4842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33640"/>
            <a:ext cx="8227800" cy="35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  <a:p>
            <a:pPr lvl="1" marL="343080" indent="34128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  <a:p>
            <a:pPr lvl="2" marL="68436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  <a:p>
            <a:pPr lvl="3" marL="1025640" indent="-34128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  <a:p>
            <a:pPr lvl="4" marL="1539720" indent="-17136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  <a:p>
            <a:pPr lvl="5" marL="153972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  <a:p>
            <a:pPr lvl="6" marL="153972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23920"/>
            <a:ext cx="2025720" cy="2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A166-CD88-4CE3-B46C-F725EAE4BACE}" type="datetime">
              <a:rPr b="0" lang="zh-CN" sz="7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23920"/>
            <a:ext cx="2968560" cy="2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23920"/>
            <a:ext cx="2025720" cy="2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1F7D-9334-4B11-B895-C8022410F494}" type="slidenum">
              <a:rPr b="0" lang="zh-CN" sz="7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6096e6"/>
          </a:solidFill>
          <a:ln w="1260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文本框 2" descr=""/>
          <p:cNvPicPr/>
          <p:nvPr/>
        </p:nvPicPr>
        <p:blipFill>
          <a:blip r:embed="rId2"/>
          <a:stretch/>
        </p:blipFill>
        <p:spPr>
          <a:xfrm>
            <a:off x="965160" y="223920"/>
            <a:ext cx="7369200" cy="18968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" descr=""/>
          <p:cNvPicPr/>
          <p:nvPr/>
        </p:nvPicPr>
        <p:blipFill>
          <a:blip r:embed="rId3"/>
          <a:stretch/>
        </p:blipFill>
        <p:spPr>
          <a:xfrm>
            <a:off x="5207040" y="2436840"/>
            <a:ext cx="244800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2"/>
          <p:cNvGrpSpPr/>
          <p:nvPr/>
        </p:nvGrpSpPr>
        <p:grpSpPr>
          <a:xfrm>
            <a:off x="0" y="0"/>
            <a:ext cx="5259240" cy="637920"/>
            <a:chOff x="0" y="0"/>
            <a:chExt cx="5259240" cy="637920"/>
          </a:xfrm>
        </p:grpSpPr>
        <p:pic>
          <p:nvPicPr>
            <p:cNvPr id="92" name="组合 1" descr=""/>
            <p:cNvPicPr/>
            <p:nvPr/>
          </p:nvPicPr>
          <p:blipFill>
            <a:blip r:embed="rId1">
              <a:alphaModFix amt="21000"/>
            </a:blip>
            <a:stretch/>
          </p:blipFill>
          <p:spPr>
            <a:xfrm flipH="1" rot="10800000">
              <a:off x="0" y="561960"/>
              <a:ext cx="525924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文本框 7"/>
            <p:cNvSpPr/>
            <p:nvPr/>
          </p:nvSpPr>
          <p:spPr>
            <a:xfrm>
              <a:off x="877320" y="91440"/>
              <a:ext cx="40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方正仿宋简体"/>
                  <a:ea typeface="方正仿宋简体"/>
                </a:rPr>
                <a:t>二读诗歌，品美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41"/>
            <p:cNvSpPr/>
            <p:nvPr/>
          </p:nvSpPr>
          <p:spPr>
            <a:xfrm>
              <a:off x="0" y="0"/>
              <a:ext cx="876600" cy="581400"/>
            </a:xfrm>
            <a:prstGeom prst="ellipse">
              <a:avLst/>
            </a:prstGeom>
            <a:solidFill>
              <a:srgbClr val="bfbfb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文本框 4"/>
          <p:cNvSpPr/>
          <p:nvPr/>
        </p:nvSpPr>
        <p:spPr>
          <a:xfrm>
            <a:off x="325440" y="638280"/>
            <a:ext cx="846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句美丽、朴素，而又自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两行一节的小小诗句，它具有多么大的动人力量，它的内涵多么丰富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                                                                        ——臧克家谈《回延安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"/>
          <p:cNvSpPr/>
          <p:nvPr/>
        </p:nvSpPr>
        <p:spPr>
          <a:xfrm>
            <a:off x="746280" y="1560600"/>
            <a:ext cx="725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何谓“比兴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比：是比喻，形象生动，情感深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兴：是先说其他事物，引来要说的事物。也就是触景生情，托物兴感，启发联想和想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"/>
          <p:cNvSpPr/>
          <p:nvPr/>
        </p:nvSpPr>
        <p:spPr>
          <a:xfrm>
            <a:off x="555480" y="3581280"/>
            <a:ext cx="831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①运动场上彩旗飘，体育健儿真英豪。（上句发端，营造氛围，引出下句要说的事物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②东方红太阳升，中国出了个毛泽东。（上下句关系切近，兼有发端与比喻双重作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③关关雎鸠，在河之洲。窈窕淑女，君子好逑。（上下句关系切近，兼有发端与比喻双重作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2"/>
          <p:cNvGrpSpPr/>
          <p:nvPr/>
        </p:nvGrpSpPr>
        <p:grpSpPr>
          <a:xfrm>
            <a:off x="0" y="0"/>
            <a:ext cx="5259240" cy="637920"/>
            <a:chOff x="0" y="0"/>
            <a:chExt cx="5259240" cy="637920"/>
          </a:xfrm>
        </p:grpSpPr>
        <p:pic>
          <p:nvPicPr>
            <p:cNvPr id="99" name="组合 1" descr=""/>
            <p:cNvPicPr/>
            <p:nvPr/>
          </p:nvPicPr>
          <p:blipFill>
            <a:blip r:embed="rId1">
              <a:alphaModFix amt="21000"/>
            </a:blip>
            <a:stretch/>
          </p:blipFill>
          <p:spPr>
            <a:xfrm flipH="1" rot="10800000">
              <a:off x="0" y="561960"/>
              <a:ext cx="525924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文本框 7"/>
            <p:cNvSpPr/>
            <p:nvPr/>
          </p:nvSpPr>
          <p:spPr>
            <a:xfrm>
              <a:off x="877320" y="91440"/>
              <a:ext cx="40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方正仿宋简体"/>
                  <a:ea typeface="方正仿宋简体"/>
                </a:rPr>
                <a:t>二读诗歌，品美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41"/>
            <p:cNvSpPr/>
            <p:nvPr/>
          </p:nvSpPr>
          <p:spPr>
            <a:xfrm>
              <a:off x="0" y="0"/>
              <a:ext cx="876600" cy="581400"/>
            </a:xfrm>
            <a:prstGeom prst="ellipse">
              <a:avLst/>
            </a:prstGeom>
            <a:solidFill>
              <a:srgbClr val="bfbfb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文本框 4"/>
          <p:cNvSpPr/>
          <p:nvPr/>
        </p:nvSpPr>
        <p:spPr>
          <a:xfrm>
            <a:off x="325440" y="638280"/>
            <a:ext cx="846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句美丽、朴素，而又自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两行一节的小小诗句，它具有多么大的动人力量，它的内涵多么丰富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                                                                        ——臧克家谈《回延安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"/>
          <p:cNvSpPr/>
          <p:nvPr/>
        </p:nvSpPr>
        <p:spPr>
          <a:xfrm>
            <a:off x="746280" y="1560600"/>
            <a:ext cx="725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天游，民俗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这首诗歌采用陕北民歌“信天游”的形式写成，使用了富有地方色彩的语言，展示了浓郁的陕北民俗风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"/>
          <p:cNvSpPr/>
          <p:nvPr/>
        </p:nvSpPr>
        <p:spPr>
          <a:xfrm>
            <a:off x="612720" y="2921040"/>
            <a:ext cx="832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信天游”，顾名思义，即是一种随心所欲任意发挥的民歌形式，又叫“顺天游”“小曲子”，是生活在陕北的人们都熟悉的一种旋律，它奔放热烈，感情浓郁，扣人心弦，回肠荡气，充满了高原的苍凉质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“信天游”的产生有很强的地域性。由于陕北地处高原，过去交通不便，生产全靠脚夫牵着驴骡驮运，脚夫们长期走在寂寞的山水沟壑间，便以歌唱自娱，这就是“信天游”的由来。随时间的迁移，成为了陕北人表情达意的民歌。它还渗透进陕北人的日常生活：货郎用歌声来叫卖，农民用歌声来祈雨，年节用歌声来庆祝，婚嫁用歌声来助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无论是土生土长的陕北人，还是外来的异乡人，都会被这淳朴炽烈的歌声所吸引，也正因为如此，贺敬之的《回延安》一经诞生就引起轰动，成为传世的经典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2"/>
          <p:cNvGrpSpPr/>
          <p:nvPr/>
        </p:nvGrpSpPr>
        <p:grpSpPr>
          <a:xfrm>
            <a:off x="0" y="0"/>
            <a:ext cx="5259240" cy="637920"/>
            <a:chOff x="0" y="0"/>
            <a:chExt cx="5259240" cy="637920"/>
          </a:xfrm>
        </p:grpSpPr>
        <p:pic>
          <p:nvPicPr>
            <p:cNvPr id="106" name="组合 1" descr=""/>
            <p:cNvPicPr/>
            <p:nvPr/>
          </p:nvPicPr>
          <p:blipFill>
            <a:blip r:embed="rId1">
              <a:alphaModFix amt="21000"/>
            </a:blip>
            <a:stretch/>
          </p:blipFill>
          <p:spPr>
            <a:xfrm flipH="1" rot="10800000">
              <a:off x="0" y="561960"/>
              <a:ext cx="525924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文本框 7"/>
            <p:cNvSpPr/>
            <p:nvPr/>
          </p:nvSpPr>
          <p:spPr>
            <a:xfrm>
              <a:off x="877320" y="91440"/>
              <a:ext cx="40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方正仿宋简体"/>
                  <a:ea typeface="方正仿宋简体"/>
                </a:rPr>
                <a:t>三读诗歌，赏特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41"/>
            <p:cNvSpPr/>
            <p:nvPr/>
          </p:nvSpPr>
          <p:spPr>
            <a:xfrm>
              <a:off x="0" y="0"/>
              <a:ext cx="876600" cy="581400"/>
            </a:xfrm>
            <a:prstGeom prst="ellipse">
              <a:avLst/>
            </a:prstGeom>
            <a:solidFill>
              <a:srgbClr val="bfbfb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文本框 4"/>
          <p:cNvSpPr/>
          <p:nvPr/>
        </p:nvSpPr>
        <p:spPr>
          <a:xfrm>
            <a:off x="325440" y="638280"/>
            <a:ext cx="84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诗人对延安的生活太熟悉，对信天游的调子太热爱，受到的影响太深厚，不求深而自深，不雕琢而佳句自来碰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                                                                            ——臧克家谈《回延安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444600" y="1560600"/>
            <a:ext cx="77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民歌味，陕北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请赏读信天游民歌《山丹丹花开红艳艳》，说说它与《回延安》的相似之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"/>
          <p:cNvSpPr/>
          <p:nvPr/>
        </p:nvSpPr>
        <p:spPr>
          <a:xfrm>
            <a:off x="546120" y="2482920"/>
            <a:ext cx="831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山丹丹花开红艳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一道道的山来一道道水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咱们中央红军到陕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一杆杆的红旗一杆杆枪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咱们的队伍势力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千家万户把门开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快把咱亲人迎进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热腾腾的油糕摆上桌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滚滚的米酒快给亲人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为民亲人热炕上坐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痴心的话儿围着亲哥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千里的雷声万里的闪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咱们革命的力量大发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山丹丹开花红艳艳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毛主席领导咱们打江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小结：“信天游”的特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①章法上，两行一节，节数不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②韵律上，节内押韵，或数节一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③语言上，常用叠词，方言口语，七言为主，可长可短，节奏自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④艺术上，善比兴，多修辞，贴切自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2"/>
          <p:cNvGrpSpPr/>
          <p:nvPr/>
        </p:nvGrpSpPr>
        <p:grpSpPr>
          <a:xfrm>
            <a:off x="0" y="0"/>
            <a:ext cx="5259240" cy="637920"/>
            <a:chOff x="0" y="0"/>
            <a:chExt cx="5259240" cy="637920"/>
          </a:xfrm>
        </p:grpSpPr>
        <p:pic>
          <p:nvPicPr>
            <p:cNvPr id="113" name="组合 1" descr=""/>
            <p:cNvPicPr/>
            <p:nvPr/>
          </p:nvPicPr>
          <p:blipFill>
            <a:blip r:embed="rId1">
              <a:alphaModFix amt="21000"/>
            </a:blip>
            <a:stretch/>
          </p:blipFill>
          <p:spPr>
            <a:xfrm flipH="1" rot="10800000">
              <a:off x="0" y="561960"/>
              <a:ext cx="525924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文本框 7"/>
            <p:cNvSpPr/>
            <p:nvPr/>
          </p:nvSpPr>
          <p:spPr>
            <a:xfrm>
              <a:off x="877320" y="91440"/>
              <a:ext cx="40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方正仿宋简体"/>
                  <a:ea typeface="方正仿宋简体"/>
                </a:rPr>
                <a:t>三读诗歌，赏特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41"/>
            <p:cNvSpPr/>
            <p:nvPr/>
          </p:nvSpPr>
          <p:spPr>
            <a:xfrm>
              <a:off x="0" y="0"/>
              <a:ext cx="876600" cy="581400"/>
            </a:xfrm>
            <a:prstGeom prst="ellipse">
              <a:avLst/>
            </a:prstGeom>
            <a:solidFill>
              <a:srgbClr val="bfbfb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文本框 4"/>
          <p:cNvSpPr/>
          <p:nvPr/>
        </p:nvSpPr>
        <p:spPr>
          <a:xfrm>
            <a:off x="325440" y="638280"/>
            <a:ext cx="84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诗人对延安的生活太熟悉，对信天游的调子太热爱，受到的影响太深厚，不求深而自深，不雕琢而佳句自来碰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                                                                            ——臧克家谈《回延安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444600" y="1560600"/>
            <a:ext cx="77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民歌味，陕北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请赏读信天游民歌《山丹丹花开红艳艳》，说说它与《回延安》的相似之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"/>
          <p:cNvSpPr/>
          <p:nvPr/>
        </p:nvSpPr>
        <p:spPr>
          <a:xfrm>
            <a:off x="546120" y="2482920"/>
            <a:ext cx="8318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男女生分别齐读两首信天游民歌，说说对诗歌的理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蓝花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青线线的（那个）蓝线线蓝（个）英英（的彩）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生下一个蓝花花实实的爱死（个）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五谷里的（那个）田苗（子儿）唯有高梁高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一十三省的女儿（哟）数上（那个）蓝花花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横山里下来游击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对面夹沟里流河水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横山里下来游击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崖畔上开花崖畔上红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受苦人盼着那好光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有朝一日翻了身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我和我的干哥哥结个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2"/>
          <p:cNvGrpSpPr/>
          <p:nvPr/>
        </p:nvGrpSpPr>
        <p:grpSpPr>
          <a:xfrm>
            <a:off x="0" y="0"/>
            <a:ext cx="5259240" cy="637920"/>
            <a:chOff x="0" y="0"/>
            <a:chExt cx="5259240" cy="637920"/>
          </a:xfrm>
        </p:grpSpPr>
        <p:pic>
          <p:nvPicPr>
            <p:cNvPr id="120" name="组合 1" descr=""/>
            <p:cNvPicPr/>
            <p:nvPr/>
          </p:nvPicPr>
          <p:blipFill>
            <a:blip r:embed="rId1">
              <a:alphaModFix amt="21000"/>
            </a:blip>
            <a:stretch/>
          </p:blipFill>
          <p:spPr>
            <a:xfrm flipH="1" rot="10800000">
              <a:off x="0" y="561960"/>
              <a:ext cx="525924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文本框 7"/>
            <p:cNvSpPr/>
            <p:nvPr/>
          </p:nvSpPr>
          <p:spPr>
            <a:xfrm>
              <a:off x="877320" y="91440"/>
              <a:ext cx="40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方正仿宋简体"/>
                  <a:ea typeface="方正仿宋简体"/>
                </a:rPr>
                <a:t>三读诗歌，赏特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41"/>
            <p:cNvSpPr/>
            <p:nvPr/>
          </p:nvSpPr>
          <p:spPr>
            <a:xfrm>
              <a:off x="0" y="0"/>
              <a:ext cx="876600" cy="581400"/>
            </a:xfrm>
            <a:prstGeom prst="ellipse">
              <a:avLst/>
            </a:prstGeom>
            <a:solidFill>
              <a:srgbClr val="bfbfb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"/>
          <p:cNvSpPr/>
          <p:nvPr/>
        </p:nvSpPr>
        <p:spPr>
          <a:xfrm>
            <a:off x="325440" y="638280"/>
            <a:ext cx="84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诗人对延安的生活太熟悉，对信天游的调子太热爱，受到的影响太深厚，不求深而自深，不雕琢而佳句自来碰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                                                                            ——臧克家谈《回延安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"/>
          <p:cNvSpPr/>
          <p:nvPr/>
        </p:nvSpPr>
        <p:spPr>
          <a:xfrm>
            <a:off x="444600" y="1560600"/>
            <a:ext cx="77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比兴，写诗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请同学们运用“比兴”手法，和老师一起，共同创作一首小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"/>
          <p:cNvSpPr/>
          <p:nvPr/>
        </p:nvSpPr>
        <p:spPr>
          <a:xfrm>
            <a:off x="546120" y="2482920"/>
            <a:ext cx="8318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         等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花儿等待绽放的娇艳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等待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等待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等待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谁不在等待幸福，等待美，等待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2"/>
          <p:cNvGrpSpPr/>
          <p:nvPr/>
        </p:nvGrpSpPr>
        <p:grpSpPr>
          <a:xfrm>
            <a:off x="0" y="0"/>
            <a:ext cx="5259240" cy="637920"/>
            <a:chOff x="0" y="0"/>
            <a:chExt cx="5259240" cy="637920"/>
          </a:xfrm>
        </p:grpSpPr>
        <p:pic>
          <p:nvPicPr>
            <p:cNvPr id="127" name="组合 1" descr=""/>
            <p:cNvPicPr/>
            <p:nvPr/>
          </p:nvPicPr>
          <p:blipFill>
            <a:blip r:embed="rId1">
              <a:alphaModFix amt="21000"/>
            </a:blip>
            <a:stretch/>
          </p:blipFill>
          <p:spPr>
            <a:xfrm flipH="1" rot="10800000">
              <a:off x="0" y="561960"/>
              <a:ext cx="525924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文本框 7"/>
            <p:cNvSpPr/>
            <p:nvPr/>
          </p:nvSpPr>
          <p:spPr>
            <a:xfrm>
              <a:off x="1068480" y="91440"/>
              <a:ext cx="40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方正仿宋简体"/>
                  <a:ea typeface="方正仿宋简体"/>
                </a:rPr>
                <a:t>课堂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41"/>
            <p:cNvSpPr/>
            <p:nvPr/>
          </p:nvSpPr>
          <p:spPr>
            <a:xfrm>
              <a:off x="0" y="0"/>
              <a:ext cx="876600" cy="581400"/>
            </a:xfrm>
            <a:prstGeom prst="ellipse">
              <a:avLst/>
            </a:prstGeom>
            <a:solidFill>
              <a:srgbClr val="bfbfb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"/>
          <p:cNvSpPr/>
          <p:nvPr/>
        </p:nvSpPr>
        <p:spPr>
          <a:xfrm>
            <a:off x="325440" y="638280"/>
            <a:ext cx="396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793800" y="1022400"/>
            <a:ext cx="74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今天，我们随同诗人贺敬之火热的诗歌回到圣地延安，理解了诗作采用陕北民歌的写作方法，领会了诗歌浓郁的地域特色、文化底蕴和民俗内涵。愿同学们，能从中华民歌民俗中汲取更多的写作养料，为祖国的民俗文化代言，传扬我们的民风民情之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2"/>
          <p:cNvGrpSpPr/>
          <p:nvPr/>
        </p:nvGrpSpPr>
        <p:grpSpPr>
          <a:xfrm>
            <a:off x="0" y="0"/>
            <a:ext cx="5259240" cy="637920"/>
            <a:chOff x="0" y="0"/>
            <a:chExt cx="5259240" cy="637920"/>
          </a:xfrm>
        </p:grpSpPr>
        <p:pic>
          <p:nvPicPr>
            <p:cNvPr id="133" name="组合 1" descr=""/>
            <p:cNvPicPr/>
            <p:nvPr/>
          </p:nvPicPr>
          <p:blipFill>
            <a:blip r:embed="rId1">
              <a:alphaModFix amt="21000"/>
            </a:blip>
            <a:stretch/>
          </p:blipFill>
          <p:spPr>
            <a:xfrm flipH="1" rot="10800000">
              <a:off x="0" y="561960"/>
              <a:ext cx="525924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文本框 7"/>
            <p:cNvSpPr/>
            <p:nvPr/>
          </p:nvSpPr>
          <p:spPr>
            <a:xfrm>
              <a:off x="1077840" y="92160"/>
              <a:ext cx="402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方正仿宋简体"/>
                  <a:ea typeface="方正仿宋简体"/>
                </a:rPr>
                <a:t>当堂检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41"/>
            <p:cNvSpPr/>
            <p:nvPr/>
          </p:nvSpPr>
          <p:spPr>
            <a:xfrm>
              <a:off x="0" y="0"/>
              <a:ext cx="876600" cy="581400"/>
            </a:xfrm>
            <a:prstGeom prst="ellipse">
              <a:avLst/>
            </a:prstGeom>
            <a:solidFill>
              <a:srgbClr val="bfbfb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图片 1" descr=""/>
          <p:cNvPicPr/>
          <p:nvPr/>
        </p:nvPicPr>
        <p:blipFill>
          <a:blip r:embed="rId2"/>
          <a:stretch/>
        </p:blipFill>
        <p:spPr>
          <a:xfrm>
            <a:off x="85680" y="755640"/>
            <a:ext cx="880740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2"/>
          <p:cNvGrpSpPr/>
          <p:nvPr/>
        </p:nvGrpSpPr>
        <p:grpSpPr>
          <a:xfrm>
            <a:off x="0" y="0"/>
            <a:ext cx="5259240" cy="637920"/>
            <a:chOff x="0" y="0"/>
            <a:chExt cx="5259240" cy="637920"/>
          </a:xfrm>
        </p:grpSpPr>
        <p:pic>
          <p:nvPicPr>
            <p:cNvPr id="138" name="组合 1" descr=""/>
            <p:cNvPicPr/>
            <p:nvPr/>
          </p:nvPicPr>
          <p:blipFill>
            <a:blip r:embed="rId1">
              <a:alphaModFix amt="21000"/>
            </a:blip>
            <a:stretch/>
          </p:blipFill>
          <p:spPr>
            <a:xfrm flipH="1" rot="10800000">
              <a:off x="0" y="561960"/>
              <a:ext cx="525924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文本框 7"/>
            <p:cNvSpPr/>
            <p:nvPr/>
          </p:nvSpPr>
          <p:spPr>
            <a:xfrm>
              <a:off x="1077840" y="92160"/>
              <a:ext cx="402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方正仿宋简体"/>
                  <a:ea typeface="方正仿宋简体"/>
                </a:rPr>
                <a:t>课下阅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41"/>
            <p:cNvSpPr/>
            <p:nvPr/>
          </p:nvSpPr>
          <p:spPr>
            <a:xfrm>
              <a:off x="0" y="0"/>
              <a:ext cx="876600" cy="581400"/>
            </a:xfrm>
            <a:prstGeom prst="ellipse">
              <a:avLst/>
            </a:prstGeom>
            <a:solidFill>
              <a:srgbClr val="bfbfb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图片 1" descr=""/>
          <p:cNvPicPr/>
          <p:nvPr/>
        </p:nvPicPr>
        <p:blipFill>
          <a:blip r:embed="rId2"/>
          <a:stretch/>
        </p:blipFill>
        <p:spPr>
          <a:xfrm>
            <a:off x="237960" y="1550880"/>
            <a:ext cx="8668080" cy="20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3"/>
          <p:cNvSpPr/>
          <p:nvPr/>
        </p:nvSpPr>
        <p:spPr>
          <a:xfrm>
            <a:off x="852480" y="1041480"/>
            <a:ext cx="69105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16600" spc="-1" strike="noStrike">
                <a:solidFill>
                  <a:srgbClr val="ff0000"/>
                </a:solidFill>
                <a:latin typeface="Arial"/>
              </a:rPr>
              <a:t>再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1"/>
          <p:cNvSpPr/>
          <p:nvPr/>
        </p:nvSpPr>
        <p:spPr>
          <a:xfrm>
            <a:off x="0" y="1023840"/>
            <a:ext cx="8959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感知诗歌内容，有感情地朗诵诗歌，体会诗人对“母亲延安”的情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理解诗歌所表现的地域文化特点和民俗内涵，并把握“信天游”形式特点和语言风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2"/>
          <p:cNvGrpSpPr/>
          <p:nvPr/>
        </p:nvGrpSpPr>
        <p:grpSpPr>
          <a:xfrm>
            <a:off x="3235320" y="3220920"/>
            <a:ext cx="2251080" cy="1819440"/>
            <a:chOff x="3235320" y="3220920"/>
            <a:chExt cx="2251080" cy="1819440"/>
          </a:xfrm>
        </p:grpSpPr>
        <p:pic>
          <p:nvPicPr>
            <p:cNvPr id="46" name="图片 1" descr="C:/Users/lenovo/AppData/Local/Temp/kaimatting_20200114113621/output_20200114113624..pngoutput_20200114113624."/>
            <p:cNvPicPr/>
            <p:nvPr/>
          </p:nvPicPr>
          <p:blipFill>
            <a:blip r:embed="rId2"/>
            <a:stretch/>
          </p:blipFill>
          <p:spPr>
            <a:xfrm>
              <a:off x="3235320" y="3220920"/>
              <a:ext cx="225108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文本框 3"/>
            <p:cNvSpPr/>
            <p:nvPr/>
          </p:nvSpPr>
          <p:spPr>
            <a:xfrm>
              <a:off x="3404160" y="3434040"/>
              <a:ext cx="1132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学习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2"/>
          <p:cNvGrpSpPr/>
          <p:nvPr/>
        </p:nvGrpSpPr>
        <p:grpSpPr>
          <a:xfrm>
            <a:off x="0" y="0"/>
            <a:ext cx="5259240" cy="637920"/>
            <a:chOff x="0" y="0"/>
            <a:chExt cx="5259240" cy="637920"/>
          </a:xfrm>
        </p:grpSpPr>
        <p:pic>
          <p:nvPicPr>
            <p:cNvPr id="49" name="组合 1" descr=""/>
            <p:cNvPicPr/>
            <p:nvPr/>
          </p:nvPicPr>
          <p:blipFill>
            <a:blip r:embed="rId1">
              <a:alphaModFix amt="21000"/>
            </a:blip>
            <a:stretch/>
          </p:blipFill>
          <p:spPr>
            <a:xfrm flipH="1" rot="10800000">
              <a:off x="0" y="561960"/>
              <a:ext cx="525924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文本框 7"/>
            <p:cNvSpPr/>
            <p:nvPr/>
          </p:nvSpPr>
          <p:spPr>
            <a:xfrm>
              <a:off x="1077840" y="92160"/>
              <a:ext cx="402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方正仿宋简体"/>
                  <a:ea typeface="方正仿宋简体"/>
                </a:rPr>
                <a:t>导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41"/>
            <p:cNvSpPr/>
            <p:nvPr/>
          </p:nvSpPr>
          <p:spPr>
            <a:xfrm>
              <a:off x="0" y="0"/>
              <a:ext cx="876600" cy="581400"/>
            </a:xfrm>
            <a:prstGeom prst="ellipse">
              <a:avLst/>
            </a:prstGeom>
            <a:solidFill>
              <a:srgbClr val="bfbfb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文本框 4"/>
          <p:cNvSpPr/>
          <p:nvPr/>
        </p:nvSpPr>
        <p:spPr>
          <a:xfrm>
            <a:off x="325440" y="638280"/>
            <a:ext cx="82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是一座北国边塞之城，它是一方热烈而又神秘的黄土地，既有壮丽的历史画卷，也有光照日月的红色经典。如果说有哪一个地方，可以作为我们民族伟大复兴的心灵朝圣之地，那这个地方不能是北京，不能是上海，也不能是广州、深圳，它最应该是延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今天，老师将带领同学们学习一首关于延安的政治抒情诗《回延安》，作者贺敬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"/>
          <p:cNvPicPr/>
          <p:nvPr/>
        </p:nvPicPr>
        <p:blipFill>
          <a:blip r:embed="rId2"/>
          <a:stretch/>
        </p:blipFill>
        <p:spPr>
          <a:xfrm>
            <a:off x="5587920" y="2963880"/>
            <a:ext cx="2685960" cy="16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2"/>
          <p:cNvGrpSpPr/>
          <p:nvPr/>
        </p:nvGrpSpPr>
        <p:grpSpPr>
          <a:xfrm>
            <a:off x="0" y="0"/>
            <a:ext cx="5259240" cy="637920"/>
            <a:chOff x="0" y="0"/>
            <a:chExt cx="5259240" cy="637920"/>
          </a:xfrm>
        </p:grpSpPr>
        <p:pic>
          <p:nvPicPr>
            <p:cNvPr id="55" name="组合 1" descr=""/>
            <p:cNvPicPr/>
            <p:nvPr/>
          </p:nvPicPr>
          <p:blipFill>
            <a:blip r:embed="rId1">
              <a:alphaModFix amt="21000"/>
            </a:blip>
            <a:stretch/>
          </p:blipFill>
          <p:spPr>
            <a:xfrm flipH="1" rot="10800000">
              <a:off x="0" y="561960"/>
              <a:ext cx="525924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文本框 7"/>
            <p:cNvSpPr/>
            <p:nvPr/>
          </p:nvSpPr>
          <p:spPr>
            <a:xfrm>
              <a:off x="1077840" y="92160"/>
              <a:ext cx="402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方正仿宋简体"/>
                  <a:ea typeface="方正仿宋简体"/>
                </a:rPr>
                <a:t>延安精神光耀千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椭圆 41"/>
            <p:cNvSpPr/>
            <p:nvPr/>
          </p:nvSpPr>
          <p:spPr>
            <a:xfrm>
              <a:off x="0" y="0"/>
              <a:ext cx="876600" cy="581400"/>
            </a:xfrm>
            <a:prstGeom prst="ellipse">
              <a:avLst/>
            </a:prstGeom>
            <a:solidFill>
              <a:srgbClr val="bfbfb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文本框 4"/>
          <p:cNvSpPr/>
          <p:nvPr/>
        </p:nvSpPr>
        <p:spPr>
          <a:xfrm>
            <a:off x="216000" y="638280"/>
            <a:ext cx="549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革命的延安：延安是中央红军万里长征的最终落脚点。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间，延安一直是中共中央所在地，是中国人民解放斗争的总后方。毛主席等老一辈革命家在延安领导并指挥了抗日战争和解放战争。青年抗日救亡运动：从抗日战争起，全国各地的爱国青年纷纷奔赴延安，进行抗日救亡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大生产运动：由于国民党的封锁，毛主席号召延安军民“自己动手，丰衣足食”，延安开展了轰轰烈烈的大生产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" descr=""/>
          <p:cNvPicPr/>
          <p:nvPr/>
        </p:nvPicPr>
        <p:blipFill>
          <a:blip r:embed="rId2"/>
          <a:stretch/>
        </p:blipFill>
        <p:spPr>
          <a:xfrm>
            <a:off x="5711760" y="1008000"/>
            <a:ext cx="2685960" cy="16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2"/>
          <p:cNvGrpSpPr/>
          <p:nvPr/>
        </p:nvGrpSpPr>
        <p:grpSpPr>
          <a:xfrm>
            <a:off x="0" y="0"/>
            <a:ext cx="5259240" cy="637920"/>
            <a:chOff x="0" y="0"/>
            <a:chExt cx="5259240" cy="637920"/>
          </a:xfrm>
        </p:grpSpPr>
        <p:pic>
          <p:nvPicPr>
            <p:cNvPr id="61" name="组合 1" descr=""/>
            <p:cNvPicPr/>
            <p:nvPr/>
          </p:nvPicPr>
          <p:blipFill>
            <a:blip r:embed="rId1">
              <a:alphaModFix amt="21000"/>
            </a:blip>
            <a:stretch/>
          </p:blipFill>
          <p:spPr>
            <a:xfrm flipH="1" rot="10800000">
              <a:off x="0" y="561960"/>
              <a:ext cx="525924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文本框 7"/>
            <p:cNvSpPr/>
            <p:nvPr/>
          </p:nvSpPr>
          <p:spPr>
            <a:xfrm>
              <a:off x="1077840" y="92160"/>
              <a:ext cx="402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方正仿宋简体"/>
                  <a:ea typeface="方正仿宋简体"/>
                </a:rPr>
                <a:t>诗人与延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41"/>
            <p:cNvSpPr/>
            <p:nvPr/>
          </p:nvSpPr>
          <p:spPr>
            <a:xfrm>
              <a:off x="0" y="0"/>
              <a:ext cx="876600" cy="581400"/>
            </a:xfrm>
            <a:prstGeom prst="ellipse">
              <a:avLst/>
            </a:prstGeom>
            <a:solidFill>
              <a:srgbClr val="bfbfb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文本框 4"/>
          <p:cNvSpPr/>
          <p:nvPr/>
        </p:nvSpPr>
        <p:spPr>
          <a:xfrm>
            <a:off x="325440" y="638280"/>
            <a:ext cx="82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战时的延安抚育了成千上万的革命战士，诗人贺敬之就是其中一位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的他来到延安，在这里生活成长、学习工作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之后奔赴新的战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春，他从北京来到延安参加“西北五省区青年造林大会”。阔别十载，一朝返归，他看到了延安面貌发生了神话般的变化，感奋的情怀化为澎湃的诗情，便以《回延安》为题，尽情抒写这次重回延安的感受和对延安的由衷礼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" descr=""/>
          <p:cNvPicPr/>
          <p:nvPr/>
        </p:nvPicPr>
        <p:blipFill>
          <a:blip r:embed="rId2"/>
          <a:stretch/>
        </p:blipFill>
        <p:spPr>
          <a:xfrm>
            <a:off x="7059600" y="2925720"/>
            <a:ext cx="1360440" cy="19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"/>
          <p:cNvGrpSpPr/>
          <p:nvPr/>
        </p:nvGrpSpPr>
        <p:grpSpPr>
          <a:xfrm>
            <a:off x="0" y="0"/>
            <a:ext cx="5259240" cy="637920"/>
            <a:chOff x="0" y="0"/>
            <a:chExt cx="5259240" cy="637920"/>
          </a:xfrm>
        </p:grpSpPr>
        <p:pic>
          <p:nvPicPr>
            <p:cNvPr id="67" name="组合 1" descr=""/>
            <p:cNvPicPr/>
            <p:nvPr/>
          </p:nvPicPr>
          <p:blipFill>
            <a:blip r:embed="rId1">
              <a:alphaModFix amt="21000"/>
            </a:blip>
            <a:stretch/>
          </p:blipFill>
          <p:spPr>
            <a:xfrm flipH="1" rot="10800000">
              <a:off x="0" y="561960"/>
              <a:ext cx="525924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文本框 7"/>
            <p:cNvSpPr/>
            <p:nvPr/>
          </p:nvSpPr>
          <p:spPr>
            <a:xfrm>
              <a:off x="1077840" y="92160"/>
              <a:ext cx="402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Arial"/>
                </a:rPr>
                <a:t>一读诗歌，显韵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41"/>
            <p:cNvSpPr/>
            <p:nvPr/>
          </p:nvSpPr>
          <p:spPr>
            <a:xfrm>
              <a:off x="0" y="0"/>
              <a:ext cx="876600" cy="581400"/>
            </a:xfrm>
            <a:prstGeom prst="ellipse">
              <a:avLst/>
            </a:prstGeom>
            <a:solidFill>
              <a:srgbClr val="bfbfb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文本框 4"/>
          <p:cNvSpPr/>
          <p:nvPr/>
        </p:nvSpPr>
        <p:spPr>
          <a:xfrm>
            <a:off x="363600" y="2104920"/>
            <a:ext cx="793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读准口语化的读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心口呀莫要这么厉害地跳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灰尘呀莫把我眼睛挡住了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liǎo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满心话登时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dēngsh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说不出来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一头扑进亲人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东山的糜子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méiz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西山的谷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肩膀上的红旗手中的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树梢树枝树根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gēn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根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gen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亲山亲水有亲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羊羔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gāo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羔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gao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吃奶眼望着妈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小米饭养活我长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白生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shēng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生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sheng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的窗纸红窗花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娃娃们争抢来把手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363600" y="1108080"/>
            <a:ext cx="74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首诗情感浓烈，深切动人，极度欢乐的字里行间渗出生活的气息和乡土的美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——臧克家谈《回延安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2"/>
          <p:cNvGrpSpPr/>
          <p:nvPr/>
        </p:nvGrpSpPr>
        <p:grpSpPr>
          <a:xfrm>
            <a:off x="0" y="0"/>
            <a:ext cx="5259240" cy="637920"/>
            <a:chOff x="0" y="0"/>
            <a:chExt cx="5259240" cy="637920"/>
          </a:xfrm>
        </p:grpSpPr>
        <p:pic>
          <p:nvPicPr>
            <p:cNvPr id="73" name="组合 1" descr=""/>
            <p:cNvPicPr/>
            <p:nvPr/>
          </p:nvPicPr>
          <p:blipFill>
            <a:blip r:embed="rId1">
              <a:alphaModFix amt="21000"/>
            </a:blip>
            <a:stretch/>
          </p:blipFill>
          <p:spPr>
            <a:xfrm flipH="1" rot="10800000">
              <a:off x="0" y="561960"/>
              <a:ext cx="525924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文本框 7"/>
            <p:cNvSpPr/>
            <p:nvPr/>
          </p:nvSpPr>
          <p:spPr>
            <a:xfrm>
              <a:off x="1077840" y="92160"/>
              <a:ext cx="402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Arial"/>
                </a:rPr>
                <a:t>一读诗歌，显韵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41"/>
            <p:cNvSpPr/>
            <p:nvPr/>
          </p:nvSpPr>
          <p:spPr>
            <a:xfrm>
              <a:off x="0" y="0"/>
              <a:ext cx="876600" cy="581400"/>
            </a:xfrm>
            <a:prstGeom prst="ellipse">
              <a:avLst/>
            </a:prstGeom>
            <a:solidFill>
              <a:srgbClr val="bfbfb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文本框 4"/>
          <p:cNvSpPr/>
          <p:nvPr/>
        </p:nvSpPr>
        <p:spPr>
          <a:xfrm>
            <a:off x="363600" y="2104920"/>
            <a:ext cx="793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读出动情处的重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手抓黄土我不放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紧紧儿贴在心窝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几回回梦里回延安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双手搂定宝塔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杜甫川唱来柳林铺笑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红旗飘飘把手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白羊肚手巾红腰带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亲人们迎过延河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手把手儿教会了我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母亲打发我们过黄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千万条腿来千万只眼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也不够我走来也不够我看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363600" y="1108080"/>
            <a:ext cx="74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首诗情感浓烈，深切动人，极度欢乐的字里行间渗出生活的气息和乡土的美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——臧克家谈《回延安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合 2"/>
          <p:cNvGrpSpPr/>
          <p:nvPr/>
        </p:nvGrpSpPr>
        <p:grpSpPr>
          <a:xfrm>
            <a:off x="0" y="0"/>
            <a:ext cx="5259240" cy="637920"/>
            <a:chOff x="0" y="0"/>
            <a:chExt cx="5259240" cy="637920"/>
          </a:xfrm>
        </p:grpSpPr>
        <p:pic>
          <p:nvPicPr>
            <p:cNvPr id="79" name="组合 1" descr=""/>
            <p:cNvPicPr/>
            <p:nvPr/>
          </p:nvPicPr>
          <p:blipFill>
            <a:blip r:embed="rId1">
              <a:alphaModFix amt="21000"/>
            </a:blip>
            <a:stretch/>
          </p:blipFill>
          <p:spPr>
            <a:xfrm flipH="1" rot="10800000">
              <a:off x="0" y="561960"/>
              <a:ext cx="525924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文本框 7"/>
            <p:cNvSpPr/>
            <p:nvPr/>
          </p:nvSpPr>
          <p:spPr>
            <a:xfrm>
              <a:off x="1077840" y="92160"/>
              <a:ext cx="402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Arial"/>
                </a:rPr>
                <a:t>一读诗歌，显韵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 41"/>
            <p:cNvSpPr/>
            <p:nvPr/>
          </p:nvSpPr>
          <p:spPr>
            <a:xfrm>
              <a:off x="0" y="0"/>
              <a:ext cx="876600" cy="581400"/>
            </a:xfrm>
            <a:prstGeom prst="ellipse">
              <a:avLst/>
            </a:prstGeom>
            <a:solidFill>
              <a:srgbClr val="bfbfb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4"/>
          <p:cNvSpPr/>
          <p:nvPr/>
        </p:nvSpPr>
        <p:spPr>
          <a:xfrm>
            <a:off x="363600" y="2104920"/>
            <a:ext cx="793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读好特殊句的节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千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万声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呼唤你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母亲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延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就在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这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二十里铺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送过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柳林铺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迎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分别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十年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又回家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老爷爷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进门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气喘得紧：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/“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我梦见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鸡毛信来——可真见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亲人…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对照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过去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我认不出了你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母亲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延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换新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　社会主义路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大踏步走，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光荣的延河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还要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在前头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"/>
          <p:cNvSpPr/>
          <p:nvPr/>
        </p:nvSpPr>
        <p:spPr>
          <a:xfrm>
            <a:off x="363600" y="1108080"/>
            <a:ext cx="74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首诗情感浓烈，深切动人，极度欢乐的字里行间渗出生活的气息和乡土的美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——臧克家谈《回延安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2"/>
          <p:cNvGrpSpPr/>
          <p:nvPr/>
        </p:nvGrpSpPr>
        <p:grpSpPr>
          <a:xfrm>
            <a:off x="0" y="0"/>
            <a:ext cx="5259240" cy="637920"/>
            <a:chOff x="0" y="0"/>
            <a:chExt cx="5259240" cy="637920"/>
          </a:xfrm>
        </p:grpSpPr>
        <p:pic>
          <p:nvPicPr>
            <p:cNvPr id="85" name="组合 1" descr=""/>
            <p:cNvPicPr/>
            <p:nvPr/>
          </p:nvPicPr>
          <p:blipFill>
            <a:blip r:embed="rId1">
              <a:alphaModFix amt="21000"/>
            </a:blip>
            <a:stretch/>
          </p:blipFill>
          <p:spPr>
            <a:xfrm flipH="1" rot="10800000">
              <a:off x="0" y="561960"/>
              <a:ext cx="5259240" cy="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文本框 7"/>
            <p:cNvSpPr/>
            <p:nvPr/>
          </p:nvSpPr>
          <p:spPr>
            <a:xfrm>
              <a:off x="877320" y="91440"/>
              <a:ext cx="40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方正仿宋简体"/>
                  <a:ea typeface="方正仿宋简体"/>
                </a:rPr>
                <a:t>二读诗歌，品美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41"/>
            <p:cNvSpPr/>
            <p:nvPr/>
          </p:nvSpPr>
          <p:spPr>
            <a:xfrm>
              <a:off x="0" y="0"/>
              <a:ext cx="876600" cy="581400"/>
            </a:xfrm>
            <a:prstGeom prst="ellipse">
              <a:avLst/>
            </a:prstGeom>
            <a:solidFill>
              <a:srgbClr val="bfbfb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4"/>
          <p:cNvSpPr/>
          <p:nvPr/>
        </p:nvSpPr>
        <p:spPr>
          <a:xfrm>
            <a:off x="325440" y="638280"/>
            <a:ext cx="846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句美丽、朴素，而又自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两行一节的小小诗句，它具有多么大的动人力量，它的内涵多么丰富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                                                                        ——臧克家谈《回延安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746280" y="1560600"/>
            <a:ext cx="725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语言美，品不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读出激情、恩情、盛情、喜情、豪情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品味比喻之妙、拟人之美、排比之势、夸张之奇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请用以下句式说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我喜爱这两句，你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它运用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生动地写出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从而表现了作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情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"/>
          <p:cNvSpPr/>
          <p:nvPr/>
        </p:nvSpPr>
        <p:spPr>
          <a:xfrm>
            <a:off x="555480" y="3581280"/>
            <a:ext cx="831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比兴。如第二部分中运用比兴、排比方法描写当年延安生活。“树梢树枝树根根，亲山亲水有亲人”，兴中兼比，以“树梢”“树枝”“树根根”的一体关系，引起并喻写出自己和延安山水、延安人民密不可分的关系。“羊羔羔吃奶眼望着妈，小米饭养活我长大”，兴中兼比，以“羊羔羔”吃“妈”的奶长大，引起并喻写出延安人民对自己的养育之恩。“东山的糜子西山的谷，肩膀上的红旗手中的书”，兴中兼比，以大生产运动中“东山”“西山”的茂盛庄稼，引起并喻写出自己投身其中锻炼、学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　　②排比。以上这三个兴中兼比的诗节，又构成排比的形式，逐节递进地表现出诗人和延安、延安人民的亲密关系。又如第四部分中“一条条……一座座……；一盏盏……，一排排……”写出了延安变化之大，突出了“延安精神”留给延安人民的财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2:49:00Z</dcterms:created>
  <dc:creator>zxxk</dc:creator>
  <dc:description/>
  <dc:language>en-US</dc:language>
  <cp:lastModifiedBy>张文省</cp:lastModifiedBy>
  <dcterms:modified xsi:type="dcterms:W3CDTF">2020-03-08T23:10:06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13</vt:lpwstr>
  </property>
</Properties>
</file>