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chimes.wav" ContentType="audio/x-wav"/>
  <Override PartName="/ppt/media/image8.gif" ContentType="image/gif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0CA-4B81-4BC2-9632-81F6BD83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383-4FE6-4E58-BDFD-42C1CB48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CB358-70A2-48F2-902D-18750987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B05DC-1A25-4C4D-BDF2-7B219FEF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0C505-1473-46B6-8958-433A9982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FCF49-D827-4404-92D5-C3A3F21A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587BD-0AE5-42EA-BBD6-975A6EDE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40690-A075-4CC5-A572-3A134B6D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C686D-048E-4212-A3B1-2A43C9CE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F632B-F79D-4404-8549-3AC96ABC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F684B-2762-4B9C-B72D-D883F6C3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7D09F-BBE6-4A67-A7F8-8D94F113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C25-EF74-49EA-81FE-E5C0B34A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99321-F188-40C0-B7E5-2FC62AA5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6FDE7-60F6-4FE5-8347-B91465DC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EF2D1-115A-4078-B2EB-6382BB96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374BF-3F7D-46E0-9204-37733DCD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CF542-25DE-47F4-ADE3-01CD28F3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5E4BA-594D-4FD6-9F2C-77A5E70E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C4B43-8176-4A0C-986E-F454BF96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18B1F-0136-41EC-9051-869677F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537F3-0E9D-4233-8A5C-7DB45414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95CA2-105C-4783-BB12-F3D008B2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133-0169-4932-A111-0BF14B90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04E89-A616-4B42-9E8D-10D7D512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82851-5D47-451F-9428-4F803500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9D30F-EC0C-402C-9B15-9F50A895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EAA20-7EDD-4001-921F-DEEC8A9B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9C349-0AB0-498E-9A3A-85070B92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AB347-BB46-4C88-9801-C8B4EC85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078D3-AB53-49EA-800F-55BE570E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9106B-496F-4DB4-B976-174E067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3740F-7A9B-4349-BBF2-011AF3F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A42F9-032C-4CAD-988A-FB05010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2475-BB1A-4CEA-A28B-33B90095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CBFE9-C206-4641-A600-EC898E35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48BDE-2CA4-4132-AB1D-C53894CC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B7FBD-92BA-4F6F-84AE-07D15687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D2381-5A4B-4819-8A1C-A2056AA9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EB724-7EAD-4984-BE44-1912D06B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AE8D3-0FA8-4CA0-A690-DF0A5474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427B5-2558-4528-A532-95072F20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5FB67-E6C0-443D-9ABC-EF396D16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05B7D-11DA-4841-AD17-5DD948BF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BEE83-281C-46D4-B12F-FEDF7D2C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C2D0-CD8D-4C9C-99E9-C16A27C6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08133-C86E-4338-8F87-D9E40B30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345EB-D49E-49F5-A632-85FD319F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2578F-8073-4890-8DF0-266047F9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93C01-00FD-4873-BB46-0ED67928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B9558-7238-48F7-97D0-9D02950B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DC451-5AFC-47EB-A0CF-F6FF74DD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187E8-9DAA-4D05-BEE3-701A2216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64CD2-F426-4774-94D7-7039E66B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58548-B8B4-4F95-8FA5-853EEE48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1AA83-4CF7-41E3-AF3B-AAD32B75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7682-36FF-4EA3-86A5-6CD89D3F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09156-4B60-4D50-86CE-5DB345AA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6222A-BAA8-461E-A701-45BC7AE3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97B3C-BDA5-48E6-A717-4C5DF431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15567-1336-47D6-8435-B39EF795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D6181-3133-4D54-A673-B54BF4A1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F0B54-C01E-4A2C-A39B-53C538AE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9BABA-42D0-46EA-8F43-8A53105D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4FE0A-D0F1-4D19-B05C-FDCD2E7E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ED1FC-96A8-4CA6-A765-0D257F21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5204B-9F90-462F-8959-B1AFB4AA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32B4-BA3E-4614-AF36-E95CE80C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66017-D3DF-4101-AE68-50915DBF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D9C29-05A8-4EE5-BCA8-F131283B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4033B-15B6-478C-AD07-43BD344A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F2C9C-6AE3-4360-88F5-7152F981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70754-3C46-40D7-9682-FAB3E9AF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A3B69-3511-4CEF-8E98-7F3719B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BC18B-E381-4D87-A3E7-FFE24320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A835A-C6D2-45DD-B5C7-CAC4A342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56F8E-F849-4665-97FD-E124CB28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ECDE73-823E-4F16-90D1-8F4BDE5B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50B9-DDAE-4E80-8567-F2CECC3A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B6774-AEA7-4E47-8B0A-5996EF1F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6B640-DBA1-48C9-907F-EB60E3DE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D34A9-4557-4A56-92FC-8C75EECC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8F31F-C5C2-4B72-87B1-C689F5DC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CC7AD-F69B-450D-B582-9D80F9F3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9345D-69C0-4EC4-B0FD-EF31D4B8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25448-FB7F-4C0D-91C4-010FF3B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9B8DF-E690-4C99-8807-4933320E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35EF2-BC2A-4EBD-A6D2-7B493CB8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5E6A05-57EB-4636-B5CB-405410AD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20DF-90AC-4D4F-A006-7CDFBD9F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4D497-8703-4EA3-B5FA-C9DC03BE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14BD-4791-4E70-991B-5E4A3630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92E-E41B-41A8-9AE4-496F5975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1086-5978-4F6C-88C2-97D9182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6779-E399-4DA5-8CC1-B875E413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3999-39DA-4F5F-BA23-5A42790E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14B2-185A-437A-BF95-6FB366A5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AC5F-9CCD-4F32-82F6-6B08E4ED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9CA2-C9FD-42E9-AE56-6BF049A5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D421-5E8A-418D-8060-2772693F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6A02-BCE3-4505-B721-1A5DAC52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53F4-9212-488E-ACA3-C2344211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DD353-9D11-477C-A377-23E78C43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925-AFA4-4A5B-A186-40FBE484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A57A-1CA0-46CB-BCCB-435ACEFC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2BBB-93E7-490A-9BCD-15FF639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D5C55-D894-4A73-8D81-4F94006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4925-0F25-464B-9123-B86BF15C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983C-ECF5-413A-ADF4-BD1FECA4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140C-87E4-4813-B813-BC0F56BE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7C75-A00C-4C4F-AAE6-1EF478F3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D6E7-72E1-4CB7-A6A2-BC78C112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20D9-ADC6-4DEA-A282-60CBCD06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84B3-235E-4662-A3F5-AC138BF0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733-F19D-4841-85C7-76ECB533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4C36-C176-402D-BC63-55958903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9222-99C9-42BC-8333-16DD6FA1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58F3A-FF36-417F-9081-A4173180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8E7B9-663C-4247-B6CC-A5D428BB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52AA2-0FC6-42F3-83AB-89D074B8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9BAAE-8EA8-4BAC-9032-CDF9D69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3FD8-F19E-4480-A527-12AD1543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27FFD-DE00-4FA8-BC54-8A15D7E1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1904-03F2-4C88-8034-9EA087FD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F82F-F998-4C09-B97D-F42178AB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718-E3BD-42F9-ABD7-CA1A32E3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E2776-0D66-4F40-A593-D4DA4FE5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ED16-03EF-4A0A-85FA-879A77FE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1149B-5930-4358-83BF-81E0EBB1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55CC-9DEA-47E6-AEFE-30C36D49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F71AF-C06F-4160-9A05-3D58216A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48709-2B80-47EA-B857-70C1655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A6AF1-1A79-403E-AA92-8BDF52F6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FD5E-B569-4638-82E8-C4D3D6CD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B656A-8B6E-479D-9FA4-94DF9709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E38A6-3B3F-4326-A32B-592A96AA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B49-54B7-4549-883D-096FF520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8D37-072E-4512-BB65-1E12A0F5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F4F4B-1659-44F4-8AA5-DED8D7EE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A91F5-A26B-4D3C-81C6-88FC0D9E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E89D6-A9E8-4EF2-9EFB-0B1D4C71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3FA65-2E80-48A5-9762-BFF6658A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B2350-3896-4F5F-84CB-B8BB2118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7A78B-34E4-4CC1-8641-EB239728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C2BFB-389B-4EAE-9DEC-0A76B90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1A9A1-9B39-45D4-8A46-645011BE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3BEC8-D97B-468F-A65D-45FF6EF9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0C6-0097-4955-8A65-2E65B9B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B97E-B5E0-4C93-982C-7EE9A110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74CEC-4DC6-4A25-8206-EFDFF8D3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C9F51-9C88-4862-8031-D81C2E4A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846B7-144A-4F6D-92F1-8718485D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7720A-6F19-4548-8CEB-F5D32B64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F6C3F-3FAC-45BD-BDC6-5BD83391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42744-92DE-4E88-AA71-4D8941A1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FD691-EFBD-4A55-B929-FC0B7FF0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11EA8-654A-4E66-9244-BF73FB2E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64636-D967-451D-8F5F-761739B9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CFA-087A-4FDF-AB16-92E84CD5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934D-618A-454F-BF88-A3DE5019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48D79-8CF4-495B-B592-29247C1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85BC4-CA23-475E-B4F3-A9E9B273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AB3C-9DA9-49A7-BB6A-F7AE4C6C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85854-A4C0-4DCC-97DF-2944AF1C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B5CA9-B1E4-4147-BFC4-493629F2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454D1-6744-4613-ADEA-19A88682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5F928-2726-42C6-8E2C-A8A9D514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71003-5A92-41F5-9DDD-85FA4440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71AB0-8FCD-40BD-A1E6-A922CC12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0EC-E1DD-4456-8957-792C0C27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3330-1B76-4ABC-BB07-5C199C80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48494-6F10-40D9-8AD7-7CD2B54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C230B-2A16-469A-978F-2073571B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38763-32E3-4E6C-AA91-24D4599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EB91-54B8-4C01-AAD3-490E4821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5DDC6-406A-45F9-96D2-CF2FA0F2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26D18-614D-44E4-8460-A3B9ECA3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EF777-E086-4993-B3D1-6CA0C619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B107F-8656-4FA2-86D3-FC2E4B0F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BF944-1A38-48A8-804F-F22CAA5D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88DD-FC09-4E98-B881-F8F161E4C6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E48F-CB87-4A7B-94E6-56B905B14B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C684-B0E1-4AAF-BDAD-4927C8DC03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3441-2838-4BD8-B9F5-792B1FDCFA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23B4-EF29-4C02-A665-1B05C1229C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BCF3-62BD-44AA-96DF-6DF63CF78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35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8"/>
            <p:cNvSpPr/>
            <p:nvPr/>
          </p:nvSpPr>
          <p:spPr>
            <a:xfrm>
              <a:off x="5141160" y="1036080"/>
              <a:ext cx="109152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9"/>
            <p:cNvSpPr/>
            <p:nvPr/>
          </p:nvSpPr>
          <p:spPr>
            <a:xfrm>
              <a:off x="6385680" y="2482920"/>
              <a:ext cx="79416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986960" y="2661840"/>
              <a:ext cx="93888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49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95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B4AD-5419-4F27-8681-B4EEC02FE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328C-887A-4163-8B54-40854F141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5D52-DAC0-4B65-B5AA-DD4A5B268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5F6C-A5F5-46F8-99A1-BBE033B19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3717-E3C4-4405-84CD-7529931B53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3EC2-C368-4402-A17E-EDE756CB9F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7DCC-CC70-456D-A4DC-99D0E14646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141A-74B9-4609-B85D-91D9D9CEBC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433B-5A1A-4D7F-B799-406362D5C9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9093-BCCA-4654-A046-00E6AAFA87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hyperlink" Target="-1,30,&#24187;&#28783;&#29255; 30" TargetMode="External"/><Relationship Id="rId3" Type="http://schemas.openxmlformats.org/officeDocument/2006/relationships/hyperlink" Target="-1,31,&#24187;&#28783;&#29255; 31" TargetMode="External"/><Relationship Id="rId4" Type="http://schemas.openxmlformats.org/officeDocument/2006/relationships/hyperlink" Target="-1,32,&#24187;&#28783;&#29255; 32" TargetMode="External"/><Relationship Id="rId5" Type="http://schemas.openxmlformats.org/officeDocument/2006/relationships/hyperlink" Target="-1,33,&#24187;&#28783;&#29255; 33" TargetMode="External"/><Relationship Id="rId6" Type="http://schemas.openxmlformats.org/officeDocument/2006/relationships/hyperlink" Target="-1,34,&#24187;&#28783;&#29255; 34" TargetMode="External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-1,30,&#24187;&#28783;&#29255; 30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af54d872df6c82d9eda6cdae944e786b"/>
          <p:cNvPicPr/>
          <p:nvPr/>
        </p:nvPicPr>
        <p:blipFill>
          <a:blip r:embed="rId1"/>
          <a:stretch/>
        </p:blipFill>
        <p:spPr>
          <a:xfrm>
            <a:off x="-147600" y="27000"/>
            <a:ext cx="7705800" cy="6804000"/>
          </a:xfrm>
          <a:prstGeom prst="rect">
            <a:avLst/>
          </a:prstGeom>
          <a:ln w="0">
            <a:noFill/>
          </a:ln>
        </p:spPr>
      </p:pic>
      <p:sp>
        <p:nvSpPr>
          <p:cNvPr id="793" name="WordArt 3"/>
          <p:cNvSpPr txBox="1"/>
          <p:nvPr/>
        </p:nvSpPr>
        <p:spPr>
          <a:xfrm rot="5400000">
            <a:off x="5911920" y="2663640"/>
            <a:ext cx="4914720" cy="126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木兰诗</a:t>
            </a:r>
            <a:endParaRPr b="1" lang="en-US" sz="9600" spc="1" strike="noStrike">
              <a:ln w="19080">
                <a:solidFill>
                  <a:srgbClr val="ff66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94" name="矩形 1" descr=""/>
          <p:cNvPicPr/>
          <p:nvPr/>
        </p:nvPicPr>
        <p:blipFill>
          <a:blip r:embed="rId2"/>
          <a:stretch/>
        </p:blipFill>
        <p:spPr>
          <a:xfrm>
            <a:off x="1639800" y="6508800"/>
            <a:ext cx="5994360" cy="365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图片 3" descr="20130516215833_wCAMc (1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17"/>
          <p:cNvSpPr/>
          <p:nvPr/>
        </p:nvSpPr>
        <p:spPr>
          <a:xfrm>
            <a:off x="250920" y="1916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详写女儿情态，略写英雄气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因为这首诗所要突出的是对木兰孝敬父母、深明大义、勇担重任的性格的颂扬。隐含作者对美好生活的向往和对战争的冷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2"/>
          <p:cNvSpPr/>
          <p:nvPr/>
        </p:nvSpPr>
        <p:spPr>
          <a:xfrm>
            <a:off x="3546720" y="333360"/>
            <a:ext cx="12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那些形象着墨较多一些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图片 10" descr="20130516215833_wCAMc (1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6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文学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4"/>
          <p:cNvSpPr/>
          <p:nvPr/>
        </p:nvSpPr>
        <p:spPr>
          <a:xfrm>
            <a:off x="0" y="692280"/>
            <a:ext cx="914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选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代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编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______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这是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南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北方）的 一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（体裁）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叙述了古代女英雄木兰代父从军故事，刻画出木兰这个古代的巾帼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3"/>
          <p:cNvSpPr/>
          <p:nvPr/>
        </p:nvSpPr>
        <p:spPr>
          <a:xfrm>
            <a:off x="845280" y="134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乐府诗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4"/>
          <p:cNvSpPr/>
          <p:nvPr/>
        </p:nvSpPr>
        <p:spPr>
          <a:xfrm>
            <a:off x="3659400" y="692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5"/>
          <p:cNvSpPr/>
          <p:nvPr/>
        </p:nvSpPr>
        <p:spPr>
          <a:xfrm>
            <a:off x="5471640" y="692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郭茂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6"/>
          <p:cNvSpPr/>
          <p:nvPr/>
        </p:nvSpPr>
        <p:spPr>
          <a:xfrm>
            <a:off x="4567680" y="141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南北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7"/>
          <p:cNvSpPr/>
          <p:nvPr/>
        </p:nvSpPr>
        <p:spPr>
          <a:xfrm>
            <a:off x="706464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北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9"/>
          <p:cNvSpPr/>
          <p:nvPr/>
        </p:nvSpPr>
        <p:spPr>
          <a:xfrm>
            <a:off x="4716360" y="2133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乐府诗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长篇叙事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1"/>
          <p:cNvSpPr/>
          <p:nvPr/>
        </p:nvSpPr>
        <p:spPr>
          <a:xfrm>
            <a:off x="0" y="4508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__________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与汉乐府中的长篇叙事诗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____________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同被誉为我国诗歌史上的“双璧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12"/>
          <p:cNvSpPr/>
          <p:nvPr/>
        </p:nvSpPr>
        <p:spPr>
          <a:xfrm>
            <a:off x="469080" y="4508640"/>
            <a:ext cx="15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木兰诗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13"/>
          <p:cNvSpPr/>
          <p:nvPr/>
        </p:nvSpPr>
        <p:spPr>
          <a:xfrm>
            <a:off x="406080" y="5373720"/>
            <a:ext cx="21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孔雀东南飞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611280" y="47628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理解性背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71280" y="12682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表现木兰出征前紧张、周密准备的句子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250920" y="256536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东市买骏马，西市买鞍鞯，南市买辔头，北市买长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71280" y="39337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夸张的表现木兰行进迅速，军情紧迫的句子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250920" y="530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旦辞爷娘去，暮宿黄河边。旦辞黄河去，暮至黑山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2"/>
          <p:cNvSpPr/>
          <p:nvPr/>
        </p:nvSpPr>
        <p:spPr>
          <a:xfrm>
            <a:off x="611280" y="476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环境衬托木兰思乡的句子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217440" y="1125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闻爷娘唤女声，但闻黄河流水鸣溅  溅。不闻爷娘唤女声，但闻燕山胡骑鸣啾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685800" y="298116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夸张手法表现木兰身跨战马，矫健雄姿的句子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368360" y="42400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万里赴戎机，关山度若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6"/>
          <p:cNvSpPr/>
          <p:nvPr/>
        </p:nvSpPr>
        <p:spPr>
          <a:xfrm>
            <a:off x="684360" y="50324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通过夜景描写征战生活艰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"/>
          <p:cNvSpPr/>
          <p:nvPr/>
        </p:nvSpPr>
        <p:spPr>
          <a:xfrm>
            <a:off x="1474920" y="5805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朔气传金柝，寒光照铁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2"/>
          <p:cNvSpPr/>
          <p:nvPr/>
        </p:nvSpPr>
        <p:spPr>
          <a:xfrm>
            <a:off x="611280" y="495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表现战争的残酷和持久的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1403280" y="134136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将军百战死，壮士十年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"/>
          <p:cNvSpPr/>
          <p:nvPr/>
        </p:nvSpPr>
        <p:spPr>
          <a:xfrm>
            <a:off x="611280" y="229536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侧面描写木兰战功显赫的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5"/>
          <p:cNvSpPr/>
          <p:nvPr/>
        </p:nvSpPr>
        <p:spPr>
          <a:xfrm>
            <a:off x="1401840" y="308772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策勋十二转，赏赐百千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6"/>
          <p:cNvSpPr/>
          <p:nvPr/>
        </p:nvSpPr>
        <p:spPr>
          <a:xfrm>
            <a:off x="611280" y="4095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木兰不图功名利禄，眷恋家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7"/>
          <p:cNvSpPr/>
          <p:nvPr/>
        </p:nvSpPr>
        <p:spPr>
          <a:xfrm>
            <a:off x="1403280" y="4875120"/>
            <a:ext cx="756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可汗问所欲，木兰不用尚书郎；愿驰千里足，送儿还故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2"/>
          <p:cNvSpPr/>
          <p:nvPr/>
        </p:nvSpPr>
        <p:spPr>
          <a:xfrm>
            <a:off x="611280" y="692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木兰归来后，喜不自禁的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612720" y="1341360"/>
            <a:ext cx="853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我东阁门，坐我西阁床，脱我战时袍，著我旧时裳，当窗理云鬓，对镜帖花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4"/>
          <p:cNvSpPr/>
          <p:nvPr/>
        </p:nvSpPr>
        <p:spPr>
          <a:xfrm>
            <a:off x="611280" y="3357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展现木兰恢复女装后，见到火伴的喜剧场面的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755640" y="4797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出门看火伴，火伴皆惊忙：同行十二年，不知木兰是女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684360" y="53352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木兰归来后，展现家中欢乐气氛的一组排比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973080" y="184464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爷娘闻女来，出郭相扶将；阿姊闻妹来，当户理红妆；小弟闻姊来，磨刀霍霍向猪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755640" y="3860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比喻的手法，表现木兰谨慎、机敏的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5"/>
          <p:cNvSpPr/>
          <p:nvPr/>
        </p:nvSpPr>
        <p:spPr>
          <a:xfrm>
            <a:off x="826920" y="515772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兔脚扑朔，雌兔眼迷离；双兔傍地走，安能辨我是雄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二、找一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互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顶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复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77964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排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对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夸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5" descr="127"/>
          <p:cNvPicPr/>
          <p:nvPr/>
        </p:nvPicPr>
        <p:blipFill>
          <a:blip r:embed="rId7"/>
          <a:stretch/>
        </p:blipFill>
        <p:spPr>
          <a:xfrm>
            <a:off x="6934320" y="2590920"/>
            <a:ext cx="914400" cy="731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2"/>
          <p:cNvSpPr/>
          <p:nvPr/>
        </p:nvSpPr>
        <p:spPr>
          <a:xfrm>
            <a:off x="324000" y="1268280"/>
            <a:ext cx="80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互文：指诗文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相邻句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中所用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词语互相补充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，结合起来表示一个完整意思的修辞方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3" descr="木兰4"/>
          <p:cNvPicPr/>
          <p:nvPr/>
        </p:nvPicPr>
        <p:blipFill>
          <a:blip r:embed="rId1"/>
          <a:stretch/>
        </p:blipFill>
        <p:spPr>
          <a:xfrm>
            <a:off x="7331040" y="3962520"/>
            <a:ext cx="1812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0" y="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翻译句子，注意上下句的意思是相互交错、补充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179280" y="1484280"/>
            <a:ext cx="864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东市买骏马，西市买鞍鞯，南市买辔头，北市买长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将军百战死，壮士十年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开我东阁门，坐我西阁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当窗理云鬓，对镜帖花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2" descr="木兰3"/>
          <p:cNvPicPr/>
          <p:nvPr/>
        </p:nvPicPr>
        <p:blipFill>
          <a:blip r:embed="rId1"/>
          <a:srcRect l="0" t="24008" r="0" b="239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"/>
          <p:cNvSpPr/>
          <p:nvPr/>
        </p:nvSpPr>
        <p:spPr>
          <a:xfrm>
            <a:off x="3348000" y="189000"/>
            <a:ext cx="47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Times New Roman"/>
                <a:ea typeface="华文行楷"/>
              </a:rPr>
              <a:t>谁说女子不如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250920" y="260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听过这首曲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0" y="1052640"/>
            <a:ext cx="8964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刘大哥讲话理太偏         谁说女子享清闲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男子打仗到边关            女子纺织在家园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白天去种地                    夜晚来纺棉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分昼夜辛勤把活干     将士们才能有这吃和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要不相信哪                  请往这身上看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咱们的鞋和袜                     还有衣和衫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千针万线都是她们连哪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许多女英雄                     也把功劳建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国杀敌                            是代代出英贤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女子们                            哪一点儿不如儿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常香玉-花木兰·谁说女子不如男.mp3" descr=""/>
          <p:cNvPicPr/>
          <p:nvPr/>
        </p:nvPicPr>
        <p:blipFill>
          <a:blip r:embed="rId2"/>
          <a:stretch/>
        </p:blipFill>
        <p:spPr>
          <a:xfrm>
            <a:off x="8551800" y="6265800"/>
            <a:ext cx="59220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46607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3"/>
          <p:cNvSpPr/>
          <p:nvPr/>
        </p:nvSpPr>
        <p:spPr>
          <a:xfrm>
            <a:off x="0" y="0"/>
            <a:ext cx="8640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东市买骏马，西市买鞍鞯，南市买辔头，北市买长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到各处街市备办骏马鞍鞯辔头长鞭战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将军百战死，壮士十年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将士们经过无数次战斗，十年之后有的战死沙场，有的得胜归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3"/>
          <p:cNvSpPr/>
          <p:nvPr/>
        </p:nvSpPr>
        <p:spPr>
          <a:xfrm>
            <a:off x="0" y="692280"/>
            <a:ext cx="8640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开我东阁门，坐我西阁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打开我东阁和西阁的门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坐在我的床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当窗理云鬓，对镜帖花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当着窗户，对着镜子，先理云鬓，后贴花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二、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复沓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沓与叠句的区别是，复沓可以更换少数词语，而叠句的词语完全相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77964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2"/>
          <p:cNvSpPr/>
          <p:nvPr/>
        </p:nvSpPr>
        <p:spPr>
          <a:xfrm>
            <a:off x="395280" y="476280"/>
            <a:ext cx="78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问女何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问女何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忆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3"/>
          <p:cNvSpPr/>
          <p:nvPr/>
        </p:nvSpPr>
        <p:spPr>
          <a:xfrm>
            <a:off x="395280" y="1125360"/>
            <a:ext cx="8085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两句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复沓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女亦无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思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女亦无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旦辞爷娘去，暮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黄河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闻爷娘唤女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闻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黄河流水鸣溅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旦辞黄河去，暮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黑山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闻爷娘唤女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闻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燕山胡骑鸣啾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4716360" y="2997360"/>
            <a:ext cx="1368360" cy="3384360"/>
          </a:xfrm>
          <a:custGeom>
            <a:avLst/>
            <a:gdLst>
              <a:gd name="textAreaLeft" fmla="*/ 0 w 1368360"/>
              <a:gd name="textAreaRight" fmla="*/ 493920 w 136836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8626"/>
                </a:lnTo>
                <a:cubicBezTo>
                  <a:pt x="10800" y="9526"/>
                  <a:pt x="16200" y="10425"/>
                  <a:pt x="21600" y="10425"/>
                </a:cubicBezTo>
                <a:cubicBezTo>
                  <a:pt x="16200" y="10425"/>
                  <a:pt x="10800" y="11325"/>
                  <a:pt x="10800" y="12224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"/>
          <p:cNvSpPr/>
          <p:nvPr/>
        </p:nvSpPr>
        <p:spPr>
          <a:xfrm>
            <a:off x="6653160" y="4116240"/>
            <a:ext cx="790200" cy="703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复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5"/>
          <p:cNvSpPr/>
          <p:nvPr/>
        </p:nvSpPr>
        <p:spPr>
          <a:xfrm>
            <a:off x="7956720" y="5445000"/>
            <a:ext cx="502920" cy="863640"/>
          </a:xfrm>
          <a:prstGeom prst="upArrow">
            <a:avLst>
              <a:gd name="adj1" fmla="val 50000"/>
              <a:gd name="adj2" fmla="val 429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二、找一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顶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77964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5" descr="127"/>
          <p:cNvPicPr/>
          <p:nvPr/>
        </p:nvPicPr>
        <p:blipFill>
          <a:blip r:embed="rId2"/>
          <a:stretch/>
        </p:blipFill>
        <p:spPr>
          <a:xfrm>
            <a:off x="6934320" y="2590920"/>
            <a:ext cx="914400" cy="731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2"/>
          <p:cNvSpPr/>
          <p:nvPr/>
        </p:nvSpPr>
        <p:spPr>
          <a:xfrm>
            <a:off x="179280" y="2602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、军书十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卷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卷卷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有爷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3"/>
          <p:cNvSpPr/>
          <p:nvPr/>
        </p:nvSpPr>
        <p:spPr>
          <a:xfrm>
            <a:off x="179280" y="1341360"/>
            <a:ext cx="8064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两句是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顶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句。顶真，又称“联珠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壮士十年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来见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天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天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坐明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出门看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火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火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皆惊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4"/>
          <p:cNvSpPr/>
          <p:nvPr/>
        </p:nvSpPr>
        <p:spPr>
          <a:xfrm>
            <a:off x="6804000" y="3645000"/>
            <a:ext cx="216000" cy="2016000"/>
          </a:xfrm>
          <a:custGeom>
            <a:avLst/>
            <a:gdLst>
              <a:gd name="textAreaLeft" fmla="*/ 0 w 216000"/>
              <a:gd name="textAreaRight" fmla="*/ 78120 w 216000"/>
              <a:gd name="textAreaTop" fmla="*/ 52200 h 2016000"/>
              <a:gd name="textAreaBottom" fmla="*/ 19638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"/>
          <p:cNvSpPr/>
          <p:nvPr/>
        </p:nvSpPr>
        <p:spPr>
          <a:xfrm>
            <a:off x="7451640" y="3716280"/>
            <a:ext cx="1187640" cy="1008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顶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雄兔脚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隶书"/>
              </a:rPr>
              <a:t>扑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，雌兔眼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隶书"/>
              </a:rPr>
              <a:t>迷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双兔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隶书"/>
              </a:rPr>
              <a:t>傍地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，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隶书"/>
              </a:rPr>
              <a:t>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能辨我是雄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3"/>
          <p:cNvSpPr/>
          <p:nvPr/>
        </p:nvSpPr>
        <p:spPr>
          <a:xfrm>
            <a:off x="447840" y="2492280"/>
            <a:ext cx="8156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这是一个生动的比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成语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扑朔迷离：原意指不易分辨是雌是雄，现比喻事情错综复杂，不易分辨清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4"/>
          <p:cNvSpPr/>
          <p:nvPr/>
        </p:nvSpPr>
        <p:spPr>
          <a:xfrm>
            <a:off x="8388360" y="5373720"/>
            <a:ext cx="485640" cy="976320"/>
          </a:xfrm>
          <a:prstGeom prst="upArrow">
            <a:avLst>
              <a:gd name="adj1" fmla="val 50000"/>
              <a:gd name="adj2" fmla="val 50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2"/>
          <p:cNvSpPr/>
          <p:nvPr/>
        </p:nvSpPr>
        <p:spPr>
          <a:xfrm>
            <a:off x="0" y="0"/>
            <a:ext cx="812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爷娘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女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出郭相扶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阿姊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妹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当户理红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弟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姊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磨刀霍霍向猪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0" y="2133720"/>
            <a:ext cx="9144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排比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东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骏马，西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鞍鞯，南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辔头，北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鞭。”也是排比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达效果：既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渲染了气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强调了所叙述的情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又使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语言流畅富有韵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体现了民歌中常用的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592200" y="4653000"/>
            <a:ext cx="779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6516720" y="189000"/>
            <a:ext cx="262728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渲染家中的欢乐气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5796000" y="3213000"/>
            <a:ext cx="268452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渲染紧张而周密地准备戎装的气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2"/>
          <p:cNvSpPr/>
          <p:nvPr/>
        </p:nvSpPr>
        <p:spPr>
          <a:xfrm>
            <a:off x="250920" y="476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对偶：字数相等、结构相同意义对称的一对短语或句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324000" y="3284640"/>
            <a:ext cx="7940520" cy="1099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Times New Roman"/>
              </a:rPr>
              <a:t>找出本文的对偶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对偶句有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0" y="907560"/>
            <a:ext cx="9144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万里赴戎机，关山度若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朔气传金柝，寒光照铁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将军百战死，壮士十年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6"/>
          <p:cNvSpPr/>
          <p:nvPr/>
        </p:nvSpPr>
        <p:spPr>
          <a:xfrm>
            <a:off x="0" y="3355920"/>
            <a:ext cx="914400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阿爷无大儿，木兰无长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开我东阁门，坐我西阁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脱我战时袍，著我旧时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当窗理云鬓，对镜帖花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雄兔脚扑朔，雌兔眼迷离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0" y="1557000"/>
            <a:ext cx="914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了解什么是乐府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有感情地朗读诗歌，感受诗歌的声韵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赏析花木兰这一人物形象，感受她的女儿情、英雄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2"/>
          <p:cNvSpPr/>
          <p:nvPr/>
        </p:nvSpPr>
        <p:spPr>
          <a:xfrm>
            <a:off x="519120" y="1413000"/>
            <a:ext cx="808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3"/>
          <p:cNvSpPr/>
          <p:nvPr/>
        </p:nvSpPr>
        <p:spPr>
          <a:xfrm>
            <a:off x="755640" y="2133720"/>
            <a:ext cx="75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诗通过对木兰代父从军，沙场征战和辞官还乡的叙述，塑造了木兰这一爱家、爱国，不慕名利，深明大义的巾帼英雄的形象，集中体现了中华民族勤劳、善良、机智、勇敢、刚毅、淳朴的优秀 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"/>
          <p:cNvSpPr/>
          <p:nvPr/>
        </p:nvSpPr>
        <p:spPr>
          <a:xfrm>
            <a:off x="663480" y="765000"/>
            <a:ext cx="23241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主题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2"/>
          <p:cNvSpPr/>
          <p:nvPr/>
        </p:nvSpPr>
        <p:spPr>
          <a:xfrm>
            <a:off x="1116000" y="134136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0" y="61920"/>
            <a:ext cx="8964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同学们，如果此时，木兰就站在你的面前，你最想对她说什么呢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"/>
          <p:cNvSpPr/>
          <p:nvPr/>
        </p:nvSpPr>
        <p:spPr>
          <a:xfrm>
            <a:off x="324000" y="2205000"/>
            <a:ext cx="84247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温馨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你可以选择其中一种身份，说出你最想对木兰说的话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假如你是木兰的伙伴：木兰啊，你。。。。。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假如你是木兰的父母：木兰啊，你。。。。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假如你是当朝的天子：木兰啊，你。。。。。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假如你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木兰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的读者：木兰啊你。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同学们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木兰诗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能代代流传，经千年而不衰，就在于花木兰这一普通女子身上蕴涵的人格的魅力、情感的力量。 在中国历史上，娇滴滴柔弱弱千娇百媚的美丽女子， 不胜枚举；气宇轩昂飒爽英姿能征战沙场的巾帼英雄，也有许多记载；而既有女儿的娇美可爱，又具有男儿的勇武矫健的女性，在中国文学史上，只有一个，那就是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木兰。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2195640" y="189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2" descr="20130516215833_wCAMc (1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 txBox="1"/>
          <p:nvPr/>
        </p:nvSpPr>
        <p:spPr>
          <a:xfrm>
            <a:off x="0" y="475920"/>
            <a:ext cx="9144000" cy="55054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2060"/>
                </a:solidFill>
                <a:latin typeface="黑体"/>
                <a:ea typeface="黑体"/>
              </a:rPr>
              <a:t>木兰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南北朝时期北朝民歌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的代表。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选自郭茂倩编的</a:t>
            </a: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乐府诗集</a:t>
            </a: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，属于叙事诗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又称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木兰辞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木兰歌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171745"/>
                </a:solidFill>
                <a:latin typeface="黑体"/>
                <a:ea typeface="黑体"/>
              </a:rPr>
              <a:t>叙述了古代女英雄木兰代父从军故事，刻画出木兰这个古代的巾帼英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木兰诗</a:t>
            </a: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与汉乐府中的长篇叙事诗</a:t>
            </a: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孔雀东南飞</a:t>
            </a: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同被誉为我国诗歌史上的“双璧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何为“乐府诗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乐府是汉朝的音乐机关，任务是制定乐谱、采集歌词和训练乐工。专门收集民歌，后来把乐府官署所采集、创作的歌词也称“乐府”或“乐府诗”，成为了一种音乐性的诗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学指导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900000" y="2060640"/>
            <a:ext cx="71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179280" y="206064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结合以前学的诗歌有关知识，请同学们谈谈该如何读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80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黑体"/>
                <a:ea typeface="黑体"/>
              </a:rPr>
              <a:t>合作探究</a:t>
            </a:r>
            <a:r>
              <a:rPr b="1" lang="en-US" sz="4400" spc="-1" strike="noStrike">
                <a:solidFill>
                  <a:srgbClr val="006600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66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0" y="2637000"/>
            <a:ext cx="932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、木兰既是一位传奇英雄，又是一个普通的女性，诗中哪些细节描写了她的女性心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那些形象着墨较多一些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0" y="149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木兰诗是人尽皆知的女英雄，诗中那些刻画了她这一人物形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矩形 1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、木兰诗是人尽皆知的女英雄，诗中那些刻画了她这一人物形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3"/>
          <p:cNvSpPr/>
          <p:nvPr/>
        </p:nvSpPr>
        <p:spPr>
          <a:xfrm>
            <a:off x="1688040" y="162864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万里赴戎机，关山度若飞。朔气传金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寒光照铁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归来见天子，天子坐明堂，策勋十二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赏赐百千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4"/>
          <p:cNvSpPr/>
          <p:nvPr/>
        </p:nvSpPr>
        <p:spPr>
          <a:xfrm>
            <a:off x="1770840" y="4005360"/>
            <a:ext cx="536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前期渲染了军旅生活的艰苦与灿烈，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正面塑造了一个勇敢刚强的战士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后者通过写天子的赏赐之多，侧面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出木兰是一位战功赫赫的女英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矩形 1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、木兰既是一位传奇英雄，又是一个普通的女性，诗中哪些细节描写了她的女性心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"/>
          <p:cNvSpPr/>
          <p:nvPr/>
        </p:nvSpPr>
        <p:spPr>
          <a:xfrm>
            <a:off x="1700280" y="2060640"/>
            <a:ext cx="60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停机叹息：即为家里着想，又为国家大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着想，女子特有的焦虑矛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远征沙场时思乡心理的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辞官还乡后“着我旧时裳”“对镜贴花黄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开”“脱”“坐”“着”“理”“帖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一系列欢快的动作描写，可以看出木兰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故居的亲切，对女儿妆的喜爱，一颗爱美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活的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3:53:52Z</dcterms:created>
  <dc:creator>thtfpc user</dc:creator>
  <dc:description/>
  <dc:language>en-US</dc:language>
  <cp:lastModifiedBy>Administrator</cp:lastModifiedBy>
  <dcterms:modified xsi:type="dcterms:W3CDTF">2017-03-13T15:49:20Z</dcterms:modified>
  <cp:revision>1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73</vt:lpwstr>
  </property>
</Properties>
</file>