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22.png" ContentType="image/png"/>
  <Override PartName="/ppt/media/camera.wav" ContentType="audio/x-wav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83BA-981E-4EE4-8CFA-55B8E50C4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49E1-4D7B-4E78-82E3-22A23A934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A891-47D8-4723-8073-20E11F41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F7F0-36E8-4F48-AA4A-FD09EC23F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D84C-B78C-4CA6-8C86-D536C9DE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2554-1C65-49CD-9817-B8095EA5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E850-D5CC-4EE8-BA5E-D6BB3EC71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A034-BEC8-4C90-AD4A-226FEFAA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97CA-C1F5-4F62-BFC2-8A00947A8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7BA0-F654-464D-85FD-DA2E7062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9AC6-0495-48BA-B77A-5E91FE04D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310E-4A38-44C4-A03B-CA5EFA91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44FEF-4323-48DA-BDF0-ABF1DF76C0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5"/>
          <p:cNvSpPr/>
          <p:nvPr/>
        </p:nvSpPr>
        <p:spPr>
          <a:xfrm>
            <a:off x="0" y="4365720"/>
            <a:ext cx="9144000" cy="1655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4130"/>
          <p:cNvSpPr/>
          <p:nvPr/>
        </p:nvSpPr>
        <p:spPr>
          <a:xfrm>
            <a:off x="1763640" y="451008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18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37"/>
          <p:cNvSpPr/>
          <p:nvPr/>
        </p:nvSpPr>
        <p:spPr>
          <a:xfrm>
            <a:off x="1547640" y="5373720"/>
            <a:ext cx="619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4130"/>
          <p:cNvSpPr/>
          <p:nvPr/>
        </p:nvSpPr>
        <p:spPr>
          <a:xfrm>
            <a:off x="3419640" y="547848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RJ·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七年级语文上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1"/>
          <a:stretch/>
        </p:blipFill>
        <p:spPr>
          <a:xfrm>
            <a:off x="1303200" y="212760"/>
            <a:ext cx="66438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2"/>
          <p:cNvSpPr/>
          <p:nvPr/>
        </p:nvSpPr>
        <p:spPr>
          <a:xfrm>
            <a:off x="2229120" y="18381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左大括号 3"/>
          <p:cNvSpPr/>
          <p:nvPr/>
        </p:nvSpPr>
        <p:spPr>
          <a:xfrm>
            <a:off x="2693880" y="1577880"/>
            <a:ext cx="287280" cy="1224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1224000"/>
              <a:gd name="textAreaBottom" fmla="*/ 12168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1"/>
                  <a:pt x="10800" y="422"/>
                </a:cubicBezTo>
                <a:lnTo>
                  <a:pt x="10800" y="10378"/>
                </a:lnTo>
                <a:cubicBezTo>
                  <a:pt x="10800" y="10589"/>
                  <a:pt x="5400" y="10800"/>
                  <a:pt x="0" y="10800"/>
                </a:cubicBezTo>
                <a:cubicBezTo>
                  <a:pt x="5400" y="10800"/>
                  <a:pt x="10800" y="11011"/>
                  <a:pt x="10800" y="11222"/>
                </a:cubicBezTo>
                <a:lnTo>
                  <a:pt x="10800" y="21178"/>
                </a:lnTo>
                <a:cubicBezTo>
                  <a:pt x="10800" y="21389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4"/>
          <p:cNvSpPr/>
          <p:nvPr/>
        </p:nvSpPr>
        <p:spPr>
          <a:xfrm>
            <a:off x="3400560" y="1568520"/>
            <a:ext cx="136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恐前后受其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3210840" y="229860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盖以诱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/>
          <p:cNvSpPr/>
          <p:nvPr/>
        </p:nvSpPr>
        <p:spPr>
          <a:xfrm>
            <a:off x="2232360" y="37101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左大括号 8"/>
          <p:cNvSpPr/>
          <p:nvPr/>
        </p:nvSpPr>
        <p:spPr>
          <a:xfrm>
            <a:off x="2697120" y="3449520"/>
            <a:ext cx="287280" cy="122580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1225800"/>
              <a:gd name="textAreaBottom" fmla="*/ 1218600 h 12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1"/>
                  <a:pt x="10800" y="422"/>
                </a:cubicBezTo>
                <a:lnTo>
                  <a:pt x="10800" y="10378"/>
                </a:lnTo>
                <a:cubicBezTo>
                  <a:pt x="10800" y="10589"/>
                  <a:pt x="5400" y="10800"/>
                  <a:pt x="0" y="10800"/>
                </a:cubicBezTo>
                <a:cubicBezTo>
                  <a:pt x="5400" y="10800"/>
                  <a:pt x="10800" y="11011"/>
                  <a:pt x="10800" y="11222"/>
                </a:cubicBezTo>
                <a:lnTo>
                  <a:pt x="10800" y="21178"/>
                </a:lnTo>
                <a:cubicBezTo>
                  <a:pt x="10800" y="21389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9"/>
          <p:cNvSpPr/>
          <p:nvPr/>
        </p:nvSpPr>
        <p:spPr>
          <a:xfrm>
            <a:off x="3392640" y="3362400"/>
            <a:ext cx="1454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恐前后受其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0"/>
          <p:cNvSpPr/>
          <p:nvPr/>
        </p:nvSpPr>
        <p:spPr>
          <a:xfrm>
            <a:off x="3213720" y="417024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狼不敢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5651640" y="1557360"/>
            <a:ext cx="144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攻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4859280" y="2276640"/>
            <a:ext cx="165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敌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3"/>
          <p:cNvSpPr/>
          <p:nvPr/>
        </p:nvSpPr>
        <p:spPr>
          <a:xfrm>
            <a:off x="5364000" y="3357720"/>
            <a:ext cx="172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前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4"/>
          <p:cNvSpPr/>
          <p:nvPr/>
        </p:nvSpPr>
        <p:spPr>
          <a:xfrm>
            <a:off x="5219640" y="4160880"/>
            <a:ext cx="208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向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"/>
          <p:cNvSpPr/>
          <p:nvPr/>
        </p:nvSpPr>
        <p:spPr>
          <a:xfrm>
            <a:off x="422280" y="692280"/>
            <a:ext cx="1400040" cy="5814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词类活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"/>
          <p:cNvSpPr/>
          <p:nvPr/>
        </p:nvSpPr>
        <p:spPr>
          <a:xfrm>
            <a:off x="620640" y="1628640"/>
            <a:ext cx="7191360" cy="48996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洞：名词用作动词，指挖洞。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  “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一狼洞其中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4"/>
          <p:cNvSpPr/>
          <p:nvPr/>
        </p:nvSpPr>
        <p:spPr>
          <a:xfrm>
            <a:off x="611280" y="4375080"/>
            <a:ext cx="7705800" cy="48996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犬：名词用作状语，像狗似的。 “其一犬坐于前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611280" y="2824200"/>
            <a:ext cx="8208720" cy="48996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隧：名词用作状语，“从通道”的意思 。“意将隧入以攻其后也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D:\图库\图标2\图标\整体感知.png"/>
          <p:cNvPicPr/>
          <p:nvPr/>
        </p:nvPicPr>
        <p:blipFill>
          <a:blip r:embed="rId1"/>
          <a:stretch/>
        </p:blipFill>
        <p:spPr>
          <a:xfrm>
            <a:off x="611280" y="620640"/>
            <a:ext cx="2247840" cy="4762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4"/>
          <p:cNvSpPr/>
          <p:nvPr/>
        </p:nvSpPr>
        <p:spPr>
          <a:xfrm>
            <a:off x="415800" y="1763640"/>
            <a:ext cx="822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屠晚归，担中肉尽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剩骨。途中两狼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缀行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屠惧，投以骨。一狼得骨止，一狼仍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从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投之，后狼止而前狼又至。骨已尽矣，而两狼之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并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驱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如故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573360" y="1717560"/>
            <a:ext cx="15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仅，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7782840" y="17953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连接、紧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7877160" y="2565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5924160" y="2708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跟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6558120" y="34290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又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5235480" y="4365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6635160" y="4365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跟原来一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文本框 11265"/>
          <p:cNvSpPr/>
          <p:nvPr/>
        </p:nvSpPr>
        <p:spPr>
          <a:xfrm>
            <a:off x="498600" y="1285920"/>
            <a:ext cx="83595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一个屠户晚回家，担子里的肉卖完了，只剩下一些骨头。路上遇到两只狼，紧跟着走了很远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屠夫害怕了，把骨头投给狼。一只狼得到骨头停下了，另一只狼仍然跟从。屠户又拿起一块骨头扔过去，后得到骨头的那只狼停下了，可是先得到骨头的那只狼又跟上来。骨头已经扔完了，然而两只狼像原来一样一起追赶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2"/>
          <p:cNvSpPr/>
          <p:nvPr/>
        </p:nvSpPr>
        <p:spPr>
          <a:xfrm>
            <a:off x="221040" y="692280"/>
            <a:ext cx="773640" cy="5814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翻 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文本框 1"/>
          <p:cNvSpPr/>
          <p:nvPr/>
        </p:nvSpPr>
        <p:spPr>
          <a:xfrm>
            <a:off x="471600" y="1801800"/>
            <a:ext cx="825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屠大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窘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恐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后受其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顾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野有麦场，场主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积薪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中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苫蔽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成丘。屠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奔倚其下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弛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担持刀。狼不敢前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眈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相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952920" y="18032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处境困迫，为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2323800" y="2739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担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3752640" y="1793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攻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4453920" y="27399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看，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6789240" y="1882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堆积柴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353880" y="295596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覆盖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遮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2249280" y="3963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于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3868560" y="397512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解除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卸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7053840" y="39099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凶狠注视的样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文本框 11265"/>
          <p:cNvSpPr/>
          <p:nvPr/>
        </p:nvSpPr>
        <p:spPr>
          <a:xfrm>
            <a:off x="498600" y="1125360"/>
            <a:ext cx="8359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屠户处境困迫，恐怕前后一起受到狼的攻击。看野地里有一个打麦场，场主人在那里堆积柴草，覆盖成小山一样。屠户于是奔过去倚靠在柴草堆下面，卸下担子拿起屠刀。两只狼都不敢上前，瞪眼朝着屠户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文本框 1"/>
          <p:cNvSpPr/>
          <p:nvPr/>
        </p:nvSpPr>
        <p:spPr>
          <a:xfrm>
            <a:off x="606600" y="1282680"/>
            <a:ext cx="8080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少时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狼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径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去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犬坐于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久之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目似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暝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意暇甚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屠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暴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起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刀劈狼首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数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毙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之。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方欲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转视积薪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狼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洞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中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意将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隧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攻其后也。身已半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止露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尾。屠自后断其股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亦毙之。乃悟前狼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假寐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盖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诱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968400" y="1252440"/>
            <a:ext cx="1960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一会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389320" y="1276200"/>
            <a:ext cx="81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径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587760" y="1263600"/>
            <a:ext cx="285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像狗似的蹲坐在前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5292720" y="2075040"/>
            <a:ext cx="151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时间长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6659640" y="981000"/>
            <a:ext cx="9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闭上眼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7466040" y="1276200"/>
            <a:ext cx="171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神情很悠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792000" y="2227320"/>
            <a:ext cx="797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突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1646280" y="2260440"/>
            <a:ext cx="49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4103640" y="2271600"/>
            <a:ext cx="797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杀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5187960" y="3016080"/>
            <a:ext cx="49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5589720" y="3005280"/>
            <a:ext cx="79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想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833400" y="3890880"/>
            <a:ext cx="797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挖洞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2100240" y="3965400"/>
            <a:ext cx="202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从通道进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6735600" y="3916440"/>
            <a:ext cx="797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屁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9"/>
          <p:cNvSpPr/>
          <p:nvPr/>
        </p:nvSpPr>
        <p:spPr>
          <a:xfrm>
            <a:off x="4243320" y="4898880"/>
            <a:ext cx="1408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假装睡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5580000" y="4890960"/>
            <a:ext cx="193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表示推测，大概，原来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文本框 11265"/>
          <p:cNvSpPr/>
          <p:nvPr/>
        </p:nvSpPr>
        <p:spPr>
          <a:xfrm>
            <a:off x="479520" y="674640"/>
            <a:ext cx="83595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一会儿，一只狼径直离开，另一只狼像狗似的蹲坐在前面。时间长了，那只狼好像闭上眼睛，神情很悠闲。屠户突然跳起来，用刀劈狼的脑袋，又连砍几刀把狼杀死。屠户正要上路，转到柴草堆后面一看，只见另一只狼正在柴草堆里挖洞，想要钻过去从背后对屠户进行攻击。狼的身子已经钻进一半，只有屁股和尾巴露在外面。屠户从后面砍断了狼的后腿，也把狼杀死。这才明白前面的那只狼假装睡觉，原来是用来诱惑敌方的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2"/>
          <p:cNvSpPr/>
          <p:nvPr/>
        </p:nvSpPr>
        <p:spPr>
          <a:xfrm>
            <a:off x="1332000" y="21034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狼亦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矣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顷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两毙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禽兽之变诈几何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止增笑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3"/>
          <p:cNvSpPr/>
          <p:nvPr/>
        </p:nvSpPr>
        <p:spPr>
          <a:xfrm>
            <a:off x="1712880" y="1671480"/>
            <a:ext cx="9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狡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1"/>
          <p:cNvSpPr/>
          <p:nvPr/>
        </p:nvSpPr>
        <p:spPr>
          <a:xfrm>
            <a:off x="468360" y="3284640"/>
            <a:ext cx="8169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狼也太狡猾了，可是一会儿两只狼都被杀死，禽兽的诡诈手段能有多少啊？只是增加笑料罢了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3059280" y="162864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会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文本框 11265"/>
          <p:cNvSpPr/>
          <p:nvPr/>
        </p:nvSpPr>
        <p:spPr>
          <a:xfrm>
            <a:off x="474840" y="1671480"/>
            <a:ext cx="82803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本文故事情节围绕屠户和狼展开，请填写下面的情节提纲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" descr="D:\图库\图标2\图标\重点解读.png"/>
          <p:cNvPicPr/>
          <p:nvPr/>
        </p:nvPicPr>
        <p:blipFill>
          <a:blip r:embed="rId1"/>
          <a:stretch/>
        </p:blipFill>
        <p:spPr>
          <a:xfrm>
            <a:off x="250920" y="692280"/>
            <a:ext cx="2247840" cy="4762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5"/>
          <p:cNvSpPr/>
          <p:nvPr/>
        </p:nvSpPr>
        <p:spPr>
          <a:xfrm>
            <a:off x="2948040" y="2924280"/>
            <a:ext cx="46483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　         　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狼；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　         　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狼；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　         　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狼；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　         　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狼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1"/>
          <p:cNvSpPr/>
          <p:nvPr/>
        </p:nvSpPr>
        <p:spPr>
          <a:xfrm>
            <a:off x="4297680" y="2924280"/>
            <a:ext cx="37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"/>
                <a:ea typeface="楷体"/>
              </a:rPr>
              <a:t>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2"/>
          <p:cNvSpPr/>
          <p:nvPr/>
        </p:nvSpPr>
        <p:spPr>
          <a:xfrm>
            <a:off x="4275360" y="3573360"/>
            <a:ext cx="37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"/>
                <a:ea typeface="楷体"/>
              </a:rPr>
              <a:t>惧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3"/>
          <p:cNvSpPr/>
          <p:nvPr/>
        </p:nvSpPr>
        <p:spPr>
          <a:xfrm>
            <a:off x="4242240" y="4156200"/>
            <a:ext cx="37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"/>
                <a:ea typeface="楷体"/>
              </a:rPr>
              <a:t>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4"/>
          <p:cNvSpPr/>
          <p:nvPr/>
        </p:nvSpPr>
        <p:spPr>
          <a:xfrm>
            <a:off x="4264200" y="4743360"/>
            <a:ext cx="37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"/>
                <a:ea typeface="楷体"/>
              </a:rPr>
              <a:t>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文本框 1"/>
          <p:cNvSpPr/>
          <p:nvPr/>
        </p:nvSpPr>
        <p:spPr>
          <a:xfrm>
            <a:off x="270000" y="1557360"/>
            <a:ext cx="864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积累文言词汇，正确理解、翻译、背诵课文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体会狼与屠户的形象，把握文章主旨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学习本文语言简炼生动、在记事基础上发表议论的写法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D:\图库\图标2\图标\学习目标.png"/>
          <p:cNvPicPr/>
          <p:nvPr/>
        </p:nvPicPr>
        <p:blipFill>
          <a:blip r:embed="rId1"/>
          <a:stretch/>
        </p:blipFill>
        <p:spPr>
          <a:xfrm>
            <a:off x="468360" y="692280"/>
            <a:ext cx="2247840" cy="476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http://p3.so.qhimgs1.com/bdr/_240_/t012ed7257a985079a3.jpg"/>
          <p:cNvPicPr/>
          <p:nvPr/>
        </p:nvPicPr>
        <p:blipFill>
          <a:blip r:embed="rId2"/>
          <a:srcRect l="0" t="15755" r="5764" b="0"/>
          <a:stretch/>
        </p:blipFill>
        <p:spPr>
          <a:xfrm>
            <a:off x="1332000" y="4365720"/>
            <a:ext cx="324000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文本框 11265"/>
          <p:cNvSpPr/>
          <p:nvPr/>
        </p:nvSpPr>
        <p:spPr>
          <a:xfrm>
            <a:off x="826920" y="1052640"/>
            <a:ext cx="4934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本文哪些语句表现了狼的狡猾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826920" y="1844640"/>
            <a:ext cx="777240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缀行甚远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一狼得骨止，一狼仍从</a:t>
            </a:r>
            <a:r>
              <a:rPr b="1" lang="en-US" sz="26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两狼之并驱如故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狼不敢前，眈眈相向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一狼径去，其一犬坐于前。久之，目似瞑，意暇甚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一狼洞其中，意将隧入以攻其后也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乃悟前狼假寐，盖以诱敌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1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6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1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6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1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文本框 11265"/>
          <p:cNvSpPr/>
          <p:nvPr/>
        </p:nvSpPr>
        <p:spPr>
          <a:xfrm>
            <a:off x="934920" y="1208160"/>
            <a:ext cx="493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屠户的机智表现在什么地方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684360" y="2136600"/>
            <a:ext cx="785016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顾野有麦场，乃奔倚其下，弛担持刀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暴起，以刀劈狼首，又数刀毙之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转视积薪后，一狼洞其中，</a:t>
            </a:r>
            <a:r>
              <a:rPr b="1" lang="en-US" sz="26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自后断其股，亦毙之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文本框 11265"/>
          <p:cNvSpPr/>
          <p:nvPr/>
        </p:nvSpPr>
        <p:spPr>
          <a:xfrm>
            <a:off x="934920" y="1052640"/>
            <a:ext cx="493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作者对此事发表了怎样的议论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96800" y="2060640"/>
            <a:ext cx="82296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狼亦黠矣，而顷刻两毙，禽兽之变诈几何哉？止增笑耳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260280" y="3645000"/>
            <a:ext cx="8640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面对像狼那样的恶势力，以退让求生存是无济于事的，必须敢于斗争，善于斗争，这正是此文的寓意所在（即主题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5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D:\图库\图标2\图标\随堂练习.png"/>
          <p:cNvPicPr/>
          <p:nvPr/>
        </p:nvPicPr>
        <p:blipFill>
          <a:blip r:embed="rId1"/>
          <a:stretch/>
        </p:blipFill>
        <p:spPr>
          <a:xfrm>
            <a:off x="395280" y="549360"/>
            <a:ext cx="2247840" cy="4762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9"/>
          <p:cNvSpPr/>
          <p:nvPr/>
        </p:nvSpPr>
        <p:spPr>
          <a:xfrm>
            <a:off x="468360" y="1125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请结合图片适当想象，将此文改编成一篇白话故事，注意环境、神态、动作、心理的描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hxx5"/>
          <p:cNvPicPr/>
          <p:nvPr/>
        </p:nvPicPr>
        <p:blipFill>
          <a:blip r:embed="rId2"/>
          <a:stretch/>
        </p:blipFill>
        <p:spPr>
          <a:xfrm>
            <a:off x="4470480" y="4489560"/>
            <a:ext cx="2286000" cy="1676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hxx1"/>
          <p:cNvPicPr/>
          <p:nvPr/>
        </p:nvPicPr>
        <p:blipFill>
          <a:blip r:embed="rId3"/>
          <a:stretch/>
        </p:blipFill>
        <p:spPr>
          <a:xfrm>
            <a:off x="1158840" y="2544840"/>
            <a:ext cx="2063880" cy="1511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hxx2"/>
          <p:cNvPicPr/>
          <p:nvPr/>
        </p:nvPicPr>
        <p:blipFill>
          <a:blip r:embed="rId4"/>
          <a:stretch/>
        </p:blipFill>
        <p:spPr>
          <a:xfrm>
            <a:off x="3537000" y="2544840"/>
            <a:ext cx="2127240" cy="1571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hxx3"/>
          <p:cNvPicPr/>
          <p:nvPr/>
        </p:nvPicPr>
        <p:blipFill>
          <a:blip r:embed="rId5"/>
          <a:stretch/>
        </p:blipFill>
        <p:spPr>
          <a:xfrm>
            <a:off x="5911920" y="2525760"/>
            <a:ext cx="2158920" cy="1549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hxx4"/>
          <p:cNvPicPr/>
          <p:nvPr/>
        </p:nvPicPr>
        <p:blipFill>
          <a:blip r:embed="rId6"/>
          <a:stretch/>
        </p:blipFill>
        <p:spPr>
          <a:xfrm>
            <a:off x="1590840" y="4489560"/>
            <a:ext cx="244764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图库\图标2\图标\新课导入.png"/>
          <p:cNvPicPr/>
          <p:nvPr/>
        </p:nvPicPr>
        <p:blipFill>
          <a:blip r:embed="rId1"/>
          <a:stretch/>
        </p:blipFill>
        <p:spPr>
          <a:xfrm>
            <a:off x="539640" y="692280"/>
            <a:ext cx="2247840" cy="476280"/>
          </a:xfrm>
          <a:prstGeom prst="rect">
            <a:avLst/>
          </a:prstGeom>
          <a:ln w="0">
            <a:noFill/>
          </a:ln>
        </p:spPr>
      </p:pic>
      <p:sp>
        <p:nvSpPr>
          <p:cNvPr id="50" name="矩形 2"/>
          <p:cNvSpPr/>
          <p:nvPr/>
        </p:nvSpPr>
        <p:spPr>
          <a:xfrm>
            <a:off x="324000" y="155736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昔日东郭先生遇见了危难中的中山狼，险些被它吃掉，幸亏农夫的帮助，才转危为安。今日屠夫又遇见了中山狼的“后代”，又会怎样呢？下面，让我们一起来看一篇发生在屠户和狼之间的故事，相信它会给你带来独特的感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://p0.so.qhmsg.com/bdr/_240_/t0128a7a8bd92e15095.jpg"/>
          <p:cNvPicPr/>
          <p:nvPr/>
        </p:nvPicPr>
        <p:blipFill>
          <a:blip r:embed="rId2"/>
          <a:stretch/>
        </p:blipFill>
        <p:spPr>
          <a:xfrm>
            <a:off x="914400" y="4149720"/>
            <a:ext cx="3657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p0.so.qhmsg.com/bdr/_240_/t0184db1a36b612624f.jpg"/>
          <p:cNvPicPr/>
          <p:nvPr/>
        </p:nvPicPr>
        <p:blipFill>
          <a:blip r:embed="rId1"/>
          <a:stretch/>
        </p:blipFill>
        <p:spPr>
          <a:xfrm>
            <a:off x="395280" y="1484280"/>
            <a:ext cx="4321080" cy="3240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http://p2.so.qhimgs1.com/bdr/_240_/t0189b7b47b9f8a99a2.jpg"/>
          <p:cNvPicPr/>
          <p:nvPr/>
        </p:nvPicPr>
        <p:blipFill>
          <a:blip r:embed="rId2"/>
          <a:stretch/>
        </p:blipFill>
        <p:spPr>
          <a:xfrm>
            <a:off x="4932360" y="3471840"/>
            <a:ext cx="3726000" cy="2478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p5.so.qhimgs1.com/bdr/_240_/t01ed8bf40e690c762b.jpg"/>
          <p:cNvPicPr/>
          <p:nvPr/>
        </p:nvPicPr>
        <p:blipFill>
          <a:blip r:embed="rId3"/>
          <a:srcRect l="34001" t="0" r="0" b="0"/>
          <a:stretch/>
        </p:blipFill>
        <p:spPr>
          <a:xfrm>
            <a:off x="5508720" y="692280"/>
            <a:ext cx="2376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4"/>
          <p:cNvSpPr/>
          <p:nvPr/>
        </p:nvSpPr>
        <p:spPr>
          <a:xfrm>
            <a:off x="492120" y="1644480"/>
            <a:ext cx="496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蒲松龄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164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171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），字留仙，别号柳泉居士，清代山东淄川（今山东淄博）人，著名文学家。代表作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聊斋志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b2"/>
          <p:cNvPicPr/>
          <p:nvPr/>
        </p:nvPicPr>
        <p:blipFill>
          <a:blip r:embed="rId1"/>
          <a:stretch/>
        </p:blipFill>
        <p:spPr>
          <a:xfrm>
            <a:off x="5724360" y="2205000"/>
            <a:ext cx="2870280" cy="331308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" descr=""/>
          <p:cNvPicPr/>
          <p:nvPr/>
        </p:nvPicPr>
        <p:blipFill>
          <a:blip r:embed="rId2"/>
          <a:stretch/>
        </p:blipFill>
        <p:spPr>
          <a:xfrm>
            <a:off x="492120" y="669960"/>
            <a:ext cx="224784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530280" y="1927080"/>
            <a:ext cx="8280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聊斋”是他的书屋名称，“志”是记述的意思，“异”指奇异的故事。《聊斋志异》共有短篇小说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49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篇，题材大多来自民间和下层知识分子的传说。多数故事通过描写妖狐神鬼来反映现实的社会生活。《聊斋志异》代表他文学创作的最高成就，是他一生心血的结晶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p5.so.qhimgs1.com/bdr/_240_/t018ce5fea53532ec9b.jpg"/>
          <p:cNvPicPr/>
          <p:nvPr/>
        </p:nvPicPr>
        <p:blipFill>
          <a:blip r:embed="rId1"/>
          <a:srcRect l="0" t="22047" r="0" b="30709"/>
          <a:stretch/>
        </p:blipFill>
        <p:spPr>
          <a:xfrm>
            <a:off x="611280" y="665280"/>
            <a:ext cx="296388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http://s4.sinaimg.cn/bmiddle/6290dc45h7f23c7553e13&amp;690"/>
          <p:cNvPicPr/>
          <p:nvPr/>
        </p:nvPicPr>
        <p:blipFill>
          <a:blip r:embed="rId1"/>
          <a:srcRect l="0" t="0" r="0" b="3870"/>
          <a:stretch/>
        </p:blipFill>
        <p:spPr>
          <a:xfrm>
            <a:off x="826920" y="549360"/>
            <a:ext cx="4300560" cy="3095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http://p0.so.qhimgs1.com/bdr/_240_/t01f89398fe2ae55200.jpg"/>
          <p:cNvPicPr/>
          <p:nvPr/>
        </p:nvPicPr>
        <p:blipFill>
          <a:blip r:embed="rId2"/>
          <a:stretch/>
        </p:blipFill>
        <p:spPr>
          <a:xfrm>
            <a:off x="2627280" y="3933720"/>
            <a:ext cx="5334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D:\图库\图标2\图标\字词积累.png"/>
          <p:cNvPicPr/>
          <p:nvPr/>
        </p:nvPicPr>
        <p:blipFill>
          <a:blip r:embed="rId1"/>
          <a:stretch/>
        </p:blipFill>
        <p:spPr>
          <a:xfrm>
            <a:off x="539640" y="765000"/>
            <a:ext cx="2247840" cy="476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1473480" y="1874880"/>
            <a:ext cx="65206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窘       苫        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弛       眈        瞑       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尻       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1333440" y="195264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zhu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3118320" y="1944720"/>
            <a:ext cx="107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jiǒ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4968720" y="1927080"/>
            <a:ext cx="10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sh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7219800" y="19065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bì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8"/>
          <p:cNvSpPr/>
          <p:nvPr/>
        </p:nvSpPr>
        <p:spPr>
          <a:xfrm>
            <a:off x="1485360" y="3168720"/>
            <a:ext cx="79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chí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9"/>
          <p:cNvSpPr/>
          <p:nvPr/>
        </p:nvSpPr>
        <p:spPr>
          <a:xfrm>
            <a:off x="3160800" y="3127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d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0"/>
          <p:cNvSpPr/>
          <p:nvPr/>
        </p:nvSpPr>
        <p:spPr>
          <a:xfrm>
            <a:off x="5172840" y="313200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míng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7094520" y="3124080"/>
            <a:ext cx="7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su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1393920" y="4387680"/>
            <a:ext cx="83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kāo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3"/>
          <p:cNvSpPr/>
          <p:nvPr/>
        </p:nvSpPr>
        <p:spPr>
          <a:xfrm>
            <a:off x="3216240" y="435780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xi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"/>
          <p:cNvSpPr/>
          <p:nvPr/>
        </p:nvSpPr>
        <p:spPr>
          <a:xfrm>
            <a:off x="622080" y="692280"/>
            <a:ext cx="587520" cy="5814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词多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4"/>
          <p:cNvSpPr/>
          <p:nvPr/>
        </p:nvSpPr>
        <p:spPr>
          <a:xfrm>
            <a:off x="2210040" y="21938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左大括号 5"/>
          <p:cNvSpPr/>
          <p:nvPr/>
        </p:nvSpPr>
        <p:spPr>
          <a:xfrm>
            <a:off x="2674800" y="1933560"/>
            <a:ext cx="287640" cy="1224000"/>
          </a:xfrm>
          <a:custGeom>
            <a:avLst/>
            <a:gdLst>
              <a:gd name="textAreaLeft" fmla="*/ 183960 w 287640"/>
              <a:gd name="textAreaRight" fmla="*/ 288000 w 287640"/>
              <a:gd name="textAreaTop" fmla="*/ 7200 h 1224000"/>
              <a:gd name="textAreaBottom" fmla="*/ 12168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1"/>
                  <a:pt x="10800" y="422"/>
                </a:cubicBezTo>
                <a:lnTo>
                  <a:pt x="10800" y="10378"/>
                </a:lnTo>
                <a:cubicBezTo>
                  <a:pt x="10800" y="10589"/>
                  <a:pt x="5400" y="10800"/>
                  <a:pt x="0" y="10800"/>
                </a:cubicBezTo>
                <a:cubicBezTo>
                  <a:pt x="5400" y="10800"/>
                  <a:pt x="10800" y="11011"/>
                  <a:pt x="10800" y="11222"/>
                </a:cubicBezTo>
                <a:lnTo>
                  <a:pt x="10800" y="21178"/>
                </a:lnTo>
                <a:cubicBezTo>
                  <a:pt x="10800" y="21389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3191760" y="184464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止有剩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7"/>
          <p:cNvSpPr/>
          <p:nvPr/>
        </p:nvSpPr>
        <p:spPr>
          <a:xfrm>
            <a:off x="3590640" y="2652840"/>
            <a:ext cx="511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一狼得骨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8"/>
          <p:cNvSpPr/>
          <p:nvPr/>
        </p:nvSpPr>
        <p:spPr>
          <a:xfrm>
            <a:off x="2229120" y="4336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左大括号 9"/>
          <p:cNvSpPr/>
          <p:nvPr/>
        </p:nvSpPr>
        <p:spPr>
          <a:xfrm>
            <a:off x="2693880" y="4076640"/>
            <a:ext cx="287280" cy="1224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1224000"/>
              <a:gd name="textAreaBottom" fmla="*/ 12168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1"/>
                  <a:pt x="10800" y="422"/>
                </a:cubicBezTo>
                <a:lnTo>
                  <a:pt x="10800" y="10378"/>
                </a:lnTo>
                <a:cubicBezTo>
                  <a:pt x="10800" y="10589"/>
                  <a:pt x="5400" y="10800"/>
                  <a:pt x="0" y="10800"/>
                </a:cubicBezTo>
                <a:cubicBezTo>
                  <a:pt x="5400" y="10800"/>
                  <a:pt x="10800" y="11011"/>
                  <a:pt x="10800" y="11222"/>
                </a:cubicBezTo>
                <a:lnTo>
                  <a:pt x="10800" y="21178"/>
                </a:lnTo>
                <a:cubicBezTo>
                  <a:pt x="10800" y="21389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0"/>
          <p:cNvSpPr/>
          <p:nvPr/>
        </p:nvSpPr>
        <p:spPr>
          <a:xfrm>
            <a:off x="3142080" y="398952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意暇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1"/>
          <p:cNvSpPr/>
          <p:nvPr/>
        </p:nvSpPr>
        <p:spPr>
          <a:xfrm>
            <a:off x="3553560" y="4797360"/>
            <a:ext cx="196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意将隧入以攻其后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4859280" y="1844640"/>
            <a:ext cx="187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仅，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5076720" y="2637000"/>
            <a:ext cx="158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停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4643280" y="3933720"/>
            <a:ext cx="28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这里指神情、态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5"/>
          <p:cNvSpPr/>
          <p:nvPr/>
        </p:nvSpPr>
        <p:spPr>
          <a:xfrm>
            <a:off x="6875640" y="4869000"/>
            <a:ext cx="158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8T06:44:12Z</dcterms:created>
  <dc:creator>Administrator</dc:creator>
  <dc:description/>
  <dc:language>en-US</dc:language>
  <cp:lastModifiedBy>微软用户</cp:lastModifiedBy>
  <dcterms:modified xsi:type="dcterms:W3CDTF">2020-07-06T01:20:41Z</dcterms:modified>
  <cp:revision>2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