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8059-80E8-4998-8FDE-08216AA3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7370-1BA2-499D-9851-657A2F54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5F20-7DBE-4C9B-AEFD-6D85B44F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BC24-B29B-446A-9D3F-796464BD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FCB9-6A7E-43AF-B76D-EE271C2C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6776-B015-4CC9-B12E-143B4596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D479-325C-41C1-B3C6-1345BAA5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79D0-80BF-4A2F-850C-5454DBCF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0A72-9ADA-4C70-8EBD-7641776E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CD8A-89BB-4A98-928A-A484FA62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D9C1-4C9C-461A-8C86-35AAFEA8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D4E3-FA8E-42B6-AA92-600D7B55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6576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462680" indent="-29232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048040" indent="-29268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633400" indent="-292680">
              <a:spcBef>
                <a:spcPts val="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633400" indent="-292680">
              <a:spcBef>
                <a:spcPts val="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633400" indent="-292680">
              <a:spcBef>
                <a:spcPts val="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636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636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636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DF77-64ED-44A9-B629-8D8072333C2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Arial"/>
              </a:rPr>
              <a:t>书信文书写作之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Arial"/>
              </a:rPr>
              <a:t>——</a:t>
            </a:r>
            <a:r>
              <a:rPr b="1" lang="zh-CN" sz="5400" spc="-1" strike="noStrike">
                <a:solidFill>
                  <a:srgbClr val="7030a0"/>
                </a:solidFill>
                <a:latin typeface="Arial"/>
              </a:rPr>
              <a:t>倡议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0409523I2-17[1]"/>
          <p:cNvPicPr/>
          <p:nvPr/>
        </p:nvPicPr>
        <p:blipFill>
          <a:blip r:embed="rId1"/>
          <a:stretch/>
        </p:blipFill>
        <p:spPr>
          <a:xfrm>
            <a:off x="1523880" y="868320"/>
            <a:ext cx="9144000" cy="5121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980720" y="1371240"/>
            <a:ext cx="8001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落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　　  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落款即在右下方写明发倡议的单位、集体或个人的名称或姓名，在署名下面另起一行右下方署上发倡议的日期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81080" y="26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倡议书练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50480" y="1406160"/>
            <a:ext cx="10409400" cy="35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4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7030a0"/>
                </a:solidFill>
                <a:latin typeface="黑体"/>
                <a:ea typeface="黑体"/>
              </a:rPr>
              <a:t>  </a:t>
            </a:r>
            <a:r>
              <a:rPr b="1" lang="zh-CN" sz="4200" spc="-1" strike="noStrike">
                <a:solidFill>
                  <a:srgbClr val="7030a0"/>
                </a:solidFill>
                <a:latin typeface="黑体"/>
                <a:ea typeface="黑体"/>
              </a:rPr>
              <a:t>校园里同学们乱扔纸屑、说脏话、损坏花草树木、着装怪异、染发等不文明现象时有发生，请你以</a:t>
            </a:r>
            <a:r>
              <a:rPr b="1" lang="en-US" sz="4200" spc="-1" strike="noStrike">
                <a:solidFill>
                  <a:srgbClr val="7030a0"/>
                </a:solidFill>
                <a:latin typeface="黑体"/>
                <a:ea typeface="黑体"/>
              </a:rPr>
              <a:t>XX</a:t>
            </a:r>
            <a:r>
              <a:rPr b="1" lang="zh-CN" sz="4200" spc="-1" strike="noStrike">
                <a:solidFill>
                  <a:srgbClr val="7030a0"/>
                </a:solidFill>
                <a:latin typeface="黑体"/>
                <a:ea typeface="黑体"/>
              </a:rPr>
              <a:t>学生会的名义向全校同学发出倡议，共建文明校园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mei"/>
          <p:cNvPicPr/>
          <p:nvPr/>
        </p:nvPicPr>
        <p:blipFill>
          <a:blip r:embed="rId1"/>
          <a:stretch/>
        </p:blipFill>
        <p:spPr>
          <a:xfrm>
            <a:off x="1523880" y="857160"/>
            <a:ext cx="9906120" cy="5143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523520" y="233280"/>
            <a:ext cx="9906120" cy="67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共建文明校园的倡议书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亲爱的同学们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走进我们可爱的学校，我们每个人都能感受到她的洁净和美丽，一株株绿树为我们提供新鲜的空气，一棵棵小草和一朵朵小花为我们装点校园。教学楼内，歌声萦绕，书声琅琅，使我们的校园充满生机、充满希望，但是，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乱扔纸屑、随手丢弃食品袋、说脏话、损坏花草树木等不良现象时有发生，这些不文明行为正一步步吞噬着我们丰富而纯洁的校园文化，污染着同学们美丽而纯洁的心灵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校是我家，美化靠大家，为了使同学们能够更好的学习、生活，需要一个优美、清净、和谐、温馨的文明校园。为此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校学生会向全体学生发出倡议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mei2"/>
          <p:cNvPicPr/>
          <p:nvPr/>
        </p:nvPicPr>
        <p:blipFill>
          <a:blip r:embed="rId1"/>
          <a:stretch/>
        </p:blipFill>
        <p:spPr>
          <a:xfrm>
            <a:off x="1523880" y="873000"/>
            <a:ext cx="9144000" cy="51278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487440" y="369720"/>
            <a:ext cx="11263320" cy="55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爱护校园环境，不随地吐痰，不乱扔果皮、纸屑、食品袋，不乱倒垃圾、不在墙壁、桌面上乱涂乱刻，不损坏花草树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言行举止文明，使用文明礼貌用语，不说脏话、谎话、不打架斗殴，不在走廊、楼梯通道打闹、高声叫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、尊敬师长，友爱同学、见到老师主动问好，不谩骂他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、自觉遵守校规、校纪，不迟到、不早退、不旷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五、讲究个人卫生、仪表整洁，不着怪装、不染发、不烫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六、增强安全意识，不攀爬围墙、大门、树木，不在楼梯扶栏上滑行，不带危险玩具进校园，不做危险性游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990099"/>
                </a:solidFill>
                <a:latin typeface="黑体"/>
                <a:ea typeface="黑体"/>
              </a:rPr>
              <a:t>同学们，让我们积极行动起来，从现在做起，从身边的小事做起，告别不文明行为，共建一个文明和谐的校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黑体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学生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18.3.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34880" y="39636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写作注意事项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】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8840" y="1417320"/>
            <a:ext cx="1132344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3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）内容应当符合时代精神，切实可行，与国家的路线方针政策相一致；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　  （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）交代清楚背景、目的，有充分的理由；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　   （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）措辞贴切，情感真挚，富有鼓动性；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　  （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）篇幅不宜过长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0760" y="106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1" lang="zh-CN" sz="5800" spc="-1" strike="noStrike">
                <a:solidFill>
                  <a:srgbClr val="c00000"/>
                </a:solidFill>
                <a:latin typeface="Arial"/>
              </a:rPr>
              <a:t>考情回顾</a:t>
            </a:r>
            <a:r>
              <a:rPr b="1" lang="en-US" sz="5800" spc="-1" strike="noStrike">
                <a:solidFill>
                  <a:srgbClr val="c00000"/>
                </a:solidFill>
                <a:latin typeface="Arial"/>
              </a:rPr>
              <a:t>】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0400" y="1314360"/>
            <a:ext cx="11490120" cy="5089680"/>
          </a:xfrm>
          <a:prstGeom prst="rect">
            <a:avLst/>
          </a:prstGeom>
          <a:noFill/>
          <a:ln w="12600">
            <a:solidFill>
              <a:srgbClr val="00863d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入冬以后，金阳中学团委会拟举办</a:t>
            </a:r>
            <a:r>
              <a:rPr b="1" lang="zh-CN" sz="4200" spc="-1" strike="noStrike">
                <a:solidFill>
                  <a:srgbClr val="0070c0"/>
                </a:solidFill>
                <a:latin typeface="黑体"/>
                <a:ea typeface="黑体"/>
              </a:rPr>
              <a:t>“为环卫工人送上一杯热水”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的暖心活动，请你替校团委向全体学生一封倡议书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要求：①紧扣活动主题，只写正文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内容完整，语言通顺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字数</a:t>
            </a: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90~120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。（</a:t>
            </a: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分）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" descr="789.jpg"/>
          <p:cNvPicPr/>
          <p:nvPr/>
        </p:nvPicPr>
        <p:blipFill>
          <a:blip r:embed="rId1"/>
          <a:stretch/>
        </p:blipFill>
        <p:spPr>
          <a:xfrm>
            <a:off x="152388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676160" y="857160"/>
            <a:ext cx="8839080" cy="514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452520" indent="-452520" algn="ctr">
              <a:lnSpc>
                <a:spcPct val="12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Arial"/>
              </a:rPr>
              <a:t>倡 议 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2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同学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在享受美好环境时，环卫工人仍奋战在凛凛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中。对他们而言，一杯热水，就是最好的回报。在此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希望同学们伸出友爱之手。在环卫工师傅们工作小憩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为他们递上一杯热水。赠人玫瑰，手有余香，让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动起来，送上一杯热水，暖身暖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2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金阳中学团委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2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18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7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3" descr="789.jpg"/>
          <p:cNvPicPr/>
          <p:nvPr/>
        </p:nvPicPr>
        <p:blipFill>
          <a:blip r:embed="rId1"/>
          <a:stretch/>
        </p:blipFill>
        <p:spPr>
          <a:xfrm>
            <a:off x="152388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600200" y="856800"/>
            <a:ext cx="90676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Arial"/>
              </a:rPr>
              <a:t>倡 议 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同学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在享受美好环境时，环卫工人仍奋战在凛凛寒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。对他们而言，一杯热水，就是最好的回报。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背景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原因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此，希望同学们伸出友爱之手。在环卫工师傅们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小憩时，请为他们递上一杯热水。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具体内容和要求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赠人玫瑰，手有余香，让我们行动起来，送上一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水，暖身暖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结束语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金阳中学团委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18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7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6324480" y="5257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落款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8534520" y="27432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正文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5791320" y="44956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结尾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6934320" y="9144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标题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3124080" y="1371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称呼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104952H25-14[1]"/>
          <p:cNvPicPr/>
          <p:nvPr/>
        </p:nvPicPr>
        <p:blipFill>
          <a:blip r:embed="rId2"/>
          <a:stretch/>
        </p:blipFill>
        <p:spPr>
          <a:xfrm>
            <a:off x="152388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13"/>
          <p:cNvSpPr/>
          <p:nvPr/>
        </p:nvSpPr>
        <p:spPr>
          <a:xfrm>
            <a:off x="3429000" y="3276720"/>
            <a:ext cx="3886200" cy="4572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2"/>
          <p:cNvSpPr/>
          <p:nvPr/>
        </p:nvSpPr>
        <p:spPr>
          <a:xfrm>
            <a:off x="3505320" y="2743200"/>
            <a:ext cx="3886200" cy="4572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1"/>
          <p:cNvSpPr/>
          <p:nvPr/>
        </p:nvSpPr>
        <p:spPr>
          <a:xfrm>
            <a:off x="3429000" y="2133720"/>
            <a:ext cx="3886200" cy="4572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0"/>
          <p:cNvSpPr/>
          <p:nvPr/>
        </p:nvSpPr>
        <p:spPr>
          <a:xfrm>
            <a:off x="3429000" y="1523880"/>
            <a:ext cx="3886200" cy="4572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429000" y="1447920"/>
            <a:ext cx="678168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一、倡议书的概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黑体"/>
                <a:ea typeface="黑体"/>
              </a:rPr>
              <a:t>二、倡议书的特点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三、倡议书的分类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黑体"/>
                <a:ea typeface="黑体"/>
              </a:rPr>
              <a:t>四、倡议书的写法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3200400" y="1905120"/>
            <a:ext cx="76320" cy="1771560"/>
          </a:xfrm>
          <a:custGeom>
            <a:avLst/>
            <a:gdLst>
              <a:gd name="textAreaLeft" fmla="*/ 48960 w 76320"/>
              <a:gd name="textAreaRight" fmla="*/ 76320 w 76320"/>
              <a:gd name="textAreaTop" fmla="*/ 61200 h 1771560"/>
              <a:gd name="textAreaBottom" fmla="*/ 1710360 h 1771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99"/>
                  <a:pt x="10800" y="2397"/>
                </a:cubicBezTo>
                <a:lnTo>
                  <a:pt x="10800" y="8247"/>
                </a:lnTo>
                <a:cubicBezTo>
                  <a:pt x="10800" y="9446"/>
                  <a:pt x="5400" y="10644"/>
                  <a:pt x="0" y="10644"/>
                </a:cubicBezTo>
                <a:cubicBezTo>
                  <a:pt x="5400" y="10644"/>
                  <a:pt x="10800" y="11843"/>
                  <a:pt x="10800" y="13041"/>
                </a:cubicBezTo>
                <a:lnTo>
                  <a:pt x="10800" y="19203"/>
                </a:lnTo>
                <a:cubicBezTo>
                  <a:pt x="10800" y="204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104952H25-14[1]"/>
          <p:cNvPicPr/>
          <p:nvPr/>
        </p:nvPicPr>
        <p:blipFill>
          <a:blip r:embed="rId1"/>
          <a:stretch/>
        </p:blipFill>
        <p:spPr>
          <a:xfrm>
            <a:off x="152388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121932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Arial"/>
              </a:rPr>
              <a:t>一、倡议书的概念</a:t>
            </a:r>
            <a:br>
              <a:rPr sz="5800"/>
            </a:b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981080" y="2362320"/>
            <a:ext cx="8305920" cy="28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倡议书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是个人或集体提出建议并公开发起，希望共同完成某项任务或开展某项公益活动所运用的一种专用书信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kll"/>
          <p:cNvPicPr/>
          <p:nvPr/>
        </p:nvPicPr>
        <p:blipFill>
          <a:blip r:embed="rId1"/>
          <a:stretch/>
        </p:blipFill>
        <p:spPr>
          <a:xfrm>
            <a:off x="152388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2438280" y="13716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752480" y="1143000"/>
            <a:ext cx="87631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676520" y="857160"/>
            <a:ext cx="86868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保护野生动物的倡议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县人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野生动物是人类的朋友，是自然生态系统的重要组成部分，是大自然赋予人类的宝贵资源。我国是一个野生动物资源丰富的国家，但是，这些年来许多种野生动物濒临灭绝，为了保护野生动物，创造人与动物和谐相处的美好家园，我倡议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关爱野生动物，保护森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一名保护野生动物的积极宣传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倡不食野生动物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劝说、阻止伤害野生动物的人和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朋友们，让我们大家行动起来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我做起，从现在做起，大家共同保护野生动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倡议人：张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8" descr="cc0f23e2a4a2e461b83820c8[1]"/>
          <p:cNvPicPr/>
          <p:nvPr/>
        </p:nvPicPr>
        <p:blipFill>
          <a:blip r:embed="rId1"/>
          <a:stretch/>
        </p:blipFill>
        <p:spPr>
          <a:xfrm>
            <a:off x="152388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7" name="Oval 16"/>
          <p:cNvSpPr/>
          <p:nvPr/>
        </p:nvSpPr>
        <p:spPr>
          <a:xfrm>
            <a:off x="6629400" y="4648320"/>
            <a:ext cx="13716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5"/>
          <p:cNvSpPr/>
          <p:nvPr/>
        </p:nvSpPr>
        <p:spPr>
          <a:xfrm>
            <a:off x="5715000" y="4038480"/>
            <a:ext cx="137160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4"/>
          <p:cNvSpPr/>
          <p:nvPr/>
        </p:nvSpPr>
        <p:spPr>
          <a:xfrm>
            <a:off x="4724280" y="3352680"/>
            <a:ext cx="137160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3"/>
          <p:cNvSpPr/>
          <p:nvPr/>
        </p:nvSpPr>
        <p:spPr>
          <a:xfrm>
            <a:off x="3962520" y="2666880"/>
            <a:ext cx="137160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2"/>
          <p:cNvSpPr/>
          <p:nvPr/>
        </p:nvSpPr>
        <p:spPr>
          <a:xfrm>
            <a:off x="2743200" y="1981080"/>
            <a:ext cx="137160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28440" y="1142640"/>
            <a:ext cx="85345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倡议书的写法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981080" y="198108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、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二、 称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三、正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四、结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五、落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612800" y="1111320"/>
            <a:ext cx="868680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倡议书标题一般</a:t>
            </a:r>
            <a:r>
              <a:rPr b="1" lang="zh-CN" sz="4200" spc="-1" strike="noStrike">
                <a:solidFill>
                  <a:srgbClr val="ff0000"/>
                </a:solidFill>
                <a:latin typeface="Arial"/>
              </a:rPr>
              <a:t>由文种名 单独组成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，即在第一行正中用较大的字体写</a:t>
            </a:r>
            <a:r>
              <a:rPr b="1" lang="zh-CN" sz="4200" spc="-1" strike="noStrike">
                <a:solidFill>
                  <a:srgbClr val="0070c0"/>
                </a:solidFill>
                <a:latin typeface="Arial"/>
              </a:rPr>
              <a:t>“倡议书”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三个字。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另外，标题还可以</a:t>
            </a:r>
            <a:r>
              <a:rPr b="1" lang="zh-CN" sz="4200" spc="-1" strike="noStrike">
                <a:solidFill>
                  <a:srgbClr val="ff0000"/>
                </a:solidFill>
                <a:latin typeface="Arial"/>
              </a:rPr>
              <a:t>由倡议内容和文种名共同组成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。如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“给电子游戏迷的一封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_x005F_x000B__x005F_x000C_"/>
              </a:rPr>
              <a:t>倡议书 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”“保护野生动物的倡议书 ”“关于环境保护的倡议书”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等。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cc0f23e2a4a2e461b83820c8[1]"/>
          <p:cNvPicPr/>
          <p:nvPr/>
        </p:nvPicPr>
        <p:blipFill>
          <a:blip r:embed="rId1"/>
          <a:stretch/>
        </p:blipFill>
        <p:spPr>
          <a:xfrm>
            <a:off x="152388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679400" y="1066320"/>
            <a:ext cx="8802720" cy="47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称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般顶格写在第二行开头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加冒号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倡议书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称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依据倡议的对象而选用适当的称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“广大的青少年朋友们：”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广大的妇女同胞们：”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国的叔叔阿姨”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亲爱的同学们：”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的倡议书也可不用称呼，而在正文中指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未标题-4"/>
          <p:cNvPicPr/>
          <p:nvPr/>
        </p:nvPicPr>
        <p:blipFill>
          <a:blip r:embed="rId1"/>
          <a:stretch/>
        </p:blipFill>
        <p:spPr>
          <a:xfrm>
            <a:off x="1523880" y="685800"/>
            <a:ext cx="9144000" cy="5168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371240" y="761760"/>
            <a:ext cx="929628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文（第三行空两格写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文内容一般包括以下两方面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首先，要写清楚发倡议的原因和目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倡议书的发出贵在引起广泛的响应，只有交代清楚发倡议的原因和目的，人们才会理解和信服，才会自觉的行动。这些因素交代不清就会使人觉得莫名其妙，难以响应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其次，要写明倡议的具体内容和要求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是正文的重点部分。倡议的内容一定要具体化。开展什么样的活动，要做哪些事情，具体要求是什么等等均需一一写明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倡议的具体内容一般是分条开列的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样写往往清晰明确，一目了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cc0f23e2a4a2e461b83820c8[1]"/>
          <p:cNvPicPr/>
          <p:nvPr/>
        </p:nvPicPr>
        <p:blipFill>
          <a:blip r:embed="rId1"/>
          <a:stretch/>
        </p:blipFill>
        <p:spPr>
          <a:xfrm>
            <a:off x="152388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904760" y="1294920"/>
            <a:ext cx="8305560" cy="35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尾要用一些富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鼓动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语言表示倡议者的决心和希望或者写出某种建议。如：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很年轻，困难是暂时的，我相信经过战胜这些困难后，我们会变得更加强大和获得内心的充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倡议，让我们积极就业和自主创业吧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倡议书一般不在结尾写表示敬意或祝愿的话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08:50:41Z</dcterms:created>
  <dc:creator>姜睿艳</dc:creator>
  <dc:description/>
  <dc:language>en-US</dc:language>
  <cp:lastModifiedBy>April</cp:lastModifiedBy>
  <dcterms:modified xsi:type="dcterms:W3CDTF">2018-06-12T05:20:27Z</dcterms:modified>
  <cp:revision>67</cp:revision>
  <dc:subject>2018安康市2调</dc:subject>
  <dc:title>倡议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00</vt:lpwstr>
  </property>
  <property fmtid="{D5CDD505-2E9C-101B-9397-08002B2CF9AE}" pid="3" name="Version">
    <vt:r8>1</vt:r8>
  </property>
</Properties>
</file>