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466-1C8A-40BD-AEE9-8E77E4AE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F24-1B91-4045-A1C5-3C118118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3DD-9EE4-4FE5-93A8-BDE12F81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90C-6274-4D4F-BDA7-B5D50042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5A3-524E-4E55-890C-F505AD78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26A-ADC6-4E1E-925F-9EF466A9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4AD-C663-4C1D-92D6-D3C0B2A3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5F7-6DB5-4EE7-9D17-C0746D65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DDE-EDE7-4EF1-A7B8-2F2895EA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396-7D0D-446E-A928-B6E24AD8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09D-B55A-42A9-A440-B62C1975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41B-67C8-4B5A-8263-6AEC3023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160D-9CB2-4CDF-A648-489362298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222268"/>
                </a:solidFill>
                <a:latin typeface="Arial"/>
              </a:rPr>
              <a:t>中考专题复习</a:t>
            </a:r>
            <a:br>
              <a:rPr sz="8000"/>
            </a:b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之</a:t>
            </a:r>
            <a:br>
              <a:rPr sz="8800"/>
            </a:b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名著阅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42920" y="5373360"/>
            <a:ext cx="604188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师宗县丹凤中学 杨应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484280"/>
            <a:ext cx="9144000" cy="82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一）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及时雨（          ）豹子头（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行者（          ）黑旋风（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智多星（          ）青面兽（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旋风（          ）一丈青（           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340000" y="23493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宋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443640" y="249228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林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908000" y="35002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武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311520" y="3500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李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340000" y="4508640"/>
            <a:ext cx="15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吴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588000" y="450864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杨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268360" y="5589720"/>
            <a:ext cx="22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柴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6624720" y="558972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扈三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12"/>
          <p:cNvSpPr txBox="1"/>
          <p:nvPr/>
        </p:nvSpPr>
        <p:spPr>
          <a:xfrm>
            <a:off x="0" y="836640"/>
            <a:ext cx="475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56000" y="47628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三、练习方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8360" y="259920"/>
            <a:ext cx="295272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曹操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杨志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林冲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李逵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猪八戒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武松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羽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宋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诸葛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560" y="93600"/>
            <a:ext cx="3492360" cy="667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汴京城卖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闹飞云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浔阳楼题反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误入白虎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沂岭杀四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义激美猴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败走华容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里走单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船借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489720" y="0"/>
            <a:ext cx="45864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419640" y="189000"/>
            <a:ext cx="27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2771640" y="476280"/>
            <a:ext cx="2519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2700360" y="1197000"/>
            <a:ext cx="252108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2987640" y="2133720"/>
            <a:ext cx="2303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 flipV="1">
            <a:off x="2771640" y="1989000"/>
            <a:ext cx="259092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 flipV="1">
            <a:off x="2771640" y="2636640"/>
            <a:ext cx="2592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 flipV="1">
            <a:off x="2627280" y="3284640"/>
            <a:ext cx="266400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 flipV="1">
            <a:off x="2700360" y="907920"/>
            <a:ext cx="2519280" cy="38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 flipV="1">
            <a:off x="2843280" y="4437000"/>
            <a:ext cx="251928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6847920" y="404640"/>
            <a:ext cx="182628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（二）连连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V="1">
            <a:off x="2484360" y="5589720"/>
            <a:ext cx="259092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三）抢答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字字看来皆是血，十年辛苦不寻常，说的是哪部小说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谁败走麦城？谁挥泪斩马谡？谁单骑救主？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“一个愿打，一个愿挨”说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国演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 上演空城计的是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“一个是阆苑仙葩，一个是美玉无瑕”说的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红楼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的谁和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“玉带林中挂，金钗雪里埋”说的是谁和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324000" y="0"/>
            <a:ext cx="2303280" cy="576360"/>
          </a:xfrm>
          <a:prstGeom prst="wedgeEllipseCallout">
            <a:avLst>
              <a:gd name="adj1" fmla="val 111064"/>
              <a:gd name="adj2" fmla="val 114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红楼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2124000" y="1268280"/>
            <a:ext cx="1440000" cy="719280"/>
          </a:xfrm>
          <a:prstGeom prst="wedgeEllipseCallout">
            <a:avLst>
              <a:gd name="adj1" fmla="val -82944"/>
              <a:gd name="adj2" fmla="val 619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关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356000" y="1341360"/>
            <a:ext cx="2087640" cy="576360"/>
          </a:xfrm>
          <a:prstGeom prst="wedgeEllipseCallout">
            <a:avLst>
              <a:gd name="adj1" fmla="val -64902"/>
              <a:gd name="adj2" fmla="val 59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诸葛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7775640" y="1197000"/>
            <a:ext cx="1368360" cy="719280"/>
          </a:xfrm>
          <a:prstGeom prst="wedgeEllipseCallout">
            <a:avLst>
              <a:gd name="adj1" fmla="val -99935"/>
              <a:gd name="adj2" fmla="val 48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赵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4211640" y="2637000"/>
            <a:ext cx="3240000" cy="576000"/>
          </a:xfrm>
          <a:prstGeom prst="wedgeEllipseCallout">
            <a:avLst>
              <a:gd name="adj1" fmla="val -69305"/>
              <a:gd name="adj2" fmla="val 21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周瑜打黄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7848720" y="3068640"/>
            <a:ext cx="1295280" cy="576360"/>
          </a:xfrm>
          <a:prstGeom prst="wedgeEllipseCallout">
            <a:avLst>
              <a:gd name="adj1" fmla="val -203555"/>
              <a:gd name="adj2" fmla="val 43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孔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6227640" y="4365720"/>
            <a:ext cx="2089440" cy="649080"/>
          </a:xfrm>
          <a:prstGeom prst="wedgeEllipseCallout">
            <a:avLst>
              <a:gd name="adj1" fmla="val -76138"/>
              <a:gd name="adj2" fmla="val -48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贾宝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"/>
          <p:cNvSpPr/>
          <p:nvPr/>
        </p:nvSpPr>
        <p:spPr>
          <a:xfrm>
            <a:off x="3203640" y="4365720"/>
            <a:ext cx="2016000" cy="576000"/>
          </a:xfrm>
          <a:prstGeom prst="wedgeEllipseCallout">
            <a:avLst>
              <a:gd name="adj1" fmla="val -72282"/>
              <a:gd name="adj2" fmla="val -65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林黛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5508720" y="5661000"/>
            <a:ext cx="2016000" cy="576360"/>
          </a:xfrm>
          <a:prstGeom prst="wedgeEllipseCallout">
            <a:avLst>
              <a:gd name="adj1" fmla="val -83574"/>
              <a:gd name="adj2" fmla="val -76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薛宝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2050920" y="6021360"/>
            <a:ext cx="2016360" cy="576360"/>
          </a:xfrm>
          <a:prstGeom prst="wedgeEllipseCallout">
            <a:avLst>
              <a:gd name="adj1" fmla="val -70708"/>
              <a:gd name="adj2" fmla="val -158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林黛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四）猜人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时迟，那时 快，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先把两个拳头去蒋门神脸上虚影一影，忽地转身便走。蒋门神大怒，抢将来，被他一飞脚踢起，踢中蒋门神小腹上，双手按了，便蹲下去。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傅雷家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音乐院院长说你的演奏像流水，像河；更令我想到克里斯朵夫的象征。天舅舅说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小时候常以克里斯朵夫自命，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个性居然和罗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兰的理想有些相像了。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流沙河的妖怪，因为在天有罪，堕落此河，忘形作怪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曾被菩萨劝化，愿归师父往西天去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离开牌桌走到后院，钻出后门，绕到前街，远远把靠在门边的张四悄悄招呼过来，打怀里摸出七块银元给了他，不等张四感激，转身打原道返回，进屋坐回牌桌，若无其事地接着打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选自冯骥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俗世奇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浙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916360" y="1628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4788000" y="1628640"/>
            <a:ext cx="1944720" cy="648000"/>
          </a:xfrm>
          <a:prstGeom prst="wedgeEllipseCallout">
            <a:avLst>
              <a:gd name="adj1" fmla="val -81402"/>
              <a:gd name="adj2" fmla="val -149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武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6588000" y="2924280"/>
            <a:ext cx="1800360" cy="649080"/>
          </a:xfrm>
          <a:prstGeom prst="wedgeEllipseCallout">
            <a:avLst>
              <a:gd name="adj1" fmla="val -180689"/>
              <a:gd name="adj2" fmla="val -27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傅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2411280" y="3716280"/>
            <a:ext cx="2160720" cy="647640"/>
          </a:xfrm>
          <a:prstGeom prst="wedgeEllipseCallout">
            <a:avLst>
              <a:gd name="adj1" fmla="val -92930"/>
              <a:gd name="adj2" fmla="val 4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沙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5877000"/>
            <a:ext cx="2592360" cy="792000"/>
          </a:xfrm>
          <a:prstGeom prst="wedgeEllipseCallout">
            <a:avLst>
              <a:gd name="adj1" fmla="val -17481"/>
              <a:gd name="adj2" fmla="val -216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牙医华大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拿出戒刀，把索子都割断了，便扶起林冲，叫：“兄弟，俺自从和你买刀那日相别之后，洒家忧得你苦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四家邻舍道：“小人因与哥哥报仇雪恨，犯罪正当其理，虽死而不怨。却才甚是惊吓了高邻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见说，亦垂泪道：“罢，罢，罢！生时服侍哥哥，死了也只是哥哥部下一个小鬼！”言讫泪下，便觉道身体有些沉重。当时洒泪，拜别了宋江下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月亮还没有落下，我们就已经完全在阴影里了；虽然我和罗切斯特离得很近，我却几乎看不见他的脸。七叶树在折腾着，呻吟着，是什么使它这么痛苦呢？狂风在月桂树的小径上呼啸，急速地从我们头上吹过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黄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987640" y="765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鲁智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775640" y="1844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武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443640" y="33577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李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476360" y="61657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简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-324000" y="141228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１、简述右图故事情节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五）看图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www.ziyuanku.com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084720" y="0"/>
            <a:ext cx="3059280" cy="2855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50920" y="198900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唐僧四人遇阻通天河，巧遇观音菩萨莲花池里的金鱼变成的妖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灵感大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孙悟空与其斗法。救得童男童女，师徒四人渡过此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20081107155004462"/>
          <p:cNvPicPr/>
          <p:nvPr/>
        </p:nvPicPr>
        <p:blipFill>
          <a:blip r:embed="rId2"/>
          <a:stretch/>
        </p:blipFill>
        <p:spPr>
          <a:xfrm>
            <a:off x="6156360" y="3357720"/>
            <a:ext cx="2808360" cy="3327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179280" y="41497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出右图的图书名及作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900000" y="51577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格列佛游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斯威夫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23338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１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中考广西桂林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著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得五庄观，那大仙又让道童抬一大锅油出来，架起干柴，发起烈火。顷刻间，那油锅热腾腾。大圣见那台下西边有一个石狮子，便咬破舌尖，把石狮子喷了一口，叫声“变”，变作他本身模样。油锅滚透后，大仙说：“把孙行者抬下去！”二十个小仙扛将起来，往锅里一掼，“砰”的一声响，溅起些滚油点子，把那小道士们脸上烫了几个燎浆大泡！只听得烧火的小童喊道：“锅漏了！”原来是一个石狮子在锅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文字出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这位大仙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名字），他惩治唐僧师徒四人是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0" y="579132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镇元大仙（镇元子）；    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孙悟空推倒（毁掉）了人参果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六）真题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94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中考湖南张家界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著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玄德回视其人：身长八尺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豹头环眼，燕颔虎须，声若巨雷，势如奔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智深正使得活泛，只见墙外一个官人喝采道：“端的使得好！”智深听得，收住了手看时，只见墙缺边立着一个官人。怎生打扮？但见：头戴一顶青纱抓角儿头巾，脑后两个白玉圈连珠鬓环。身穿一领单绿罗团花战袍，腰系一条双搭尾龟背银带。穿一对磕瓜头朝样皂靴，手中执一把折叠纸西川扇子。那官人生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豹头环眼，燕颔虎须，八尺长短身材，三十四五年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选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选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划线处分别描写的是哪个人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请任选一个人物说出其主要性格特征，并结合一个情节简单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张飞；林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张飞：①性格特征：威猛 粗犷  鲁莽 直爽  嫉恶如仇 敬爱君子  不体恤士卒。②相关情节：桃园三结义  当阳吓死夏侯杰  怒鞭督邮  智取瓦口隘大破张郃  酒醉误事  痛失徐州   义释严颜  命犯小人  含恨而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林冲：①性格特征：武艺高强 安分守己 委曲求全 逆来顺受 忍辱负重 循规蹈矩 上梁山之后精明果敢。 ②相关情节：误闯白虎堂 风雪山神庙 火烧草料场  雪夜上梁山 火并王伦棒打洪教头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中考山东临沂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骆驼祥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段，根据要求填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“不喝就滚出去！好心好意，不领情是怎着？你个傻骆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辣不死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我还能喝四两呢．不信，你看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把酒盅端起来，灌了多半盅，一闭眼，哈了一声，举着盅儿：“你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不我揪耳朵灌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述语段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中的“她”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人名），小说刻画了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性格特点（至少答出两点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826920" y="508464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虎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逸恶劳、粗俗刁泼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考点内涵阐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一）考点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著阅读和文学、文化常识（常识）是云南省历年考查的重点 ，可谓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年年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近年来加大考查力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以前，名著阅读和文学常识题合并在基础知识部分，以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微软雅黑"/>
              </a:rPr>
              <a:t>选择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形式呈现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后单独拿出放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口语交际与语文综合运用部分，以填空题的形式出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值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都涉及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预测，今年名著阅读依旧会涉及，分值题型不会变。从往年来看，这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得分率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要引起重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20" y="1285920"/>
          <a:ext cx="8991360" cy="3932280"/>
        </p:xfrm>
        <a:graphic>
          <a:graphicData uri="http://schemas.openxmlformats.org/drawingml/2006/table">
            <a:tbl>
              <a:tblPr/>
              <a:tblGrid>
                <a:gridCol w="3124080"/>
                <a:gridCol w="914400"/>
                <a:gridCol w="3332160"/>
                <a:gridCol w="1620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著作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文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作     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国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时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西  游  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 浒  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骆驼祥子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童        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铁是怎样炼成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爱的教育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44"/>
          <p:cNvSpPr/>
          <p:nvPr/>
        </p:nvSpPr>
        <p:spPr>
          <a:xfrm>
            <a:off x="3200400" y="23763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说    施耐庵                       元末明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3200400" y="28335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说   老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舒庆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  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6"/>
          <p:cNvSpPr/>
          <p:nvPr/>
        </p:nvSpPr>
        <p:spPr>
          <a:xfrm>
            <a:off x="320040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说    高尔基                          俄  国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7"/>
          <p:cNvSpPr/>
          <p:nvPr/>
        </p:nvSpPr>
        <p:spPr>
          <a:xfrm>
            <a:off x="3200400" y="3900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说    奥斯特洛夫斯基          俄  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8"/>
          <p:cNvSpPr/>
          <p:nvPr/>
        </p:nvSpPr>
        <p:spPr>
          <a:xfrm>
            <a:off x="3200400" y="44337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说    德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亚米契斯                意大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9"/>
          <p:cNvSpPr/>
          <p:nvPr/>
        </p:nvSpPr>
        <p:spPr>
          <a:xfrm>
            <a:off x="3200400" y="18432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说    吴承恩                          明  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50"/>
          <p:cNvSpPr txBox="1"/>
          <p:nvPr/>
        </p:nvSpPr>
        <p:spPr>
          <a:xfrm>
            <a:off x="457200" y="380880"/>
            <a:ext cx="6153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新课标推荐的名著篇目：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76320" y="879480"/>
          <a:ext cx="8991360" cy="4479840"/>
        </p:xfrm>
        <a:graphic>
          <a:graphicData uri="http://schemas.openxmlformats.org/drawingml/2006/table">
            <a:tbl>
              <a:tblPr/>
              <a:tblGrid>
                <a:gridCol w="3276360"/>
                <a:gridCol w="1067040"/>
                <a:gridCol w="3027240"/>
                <a:gridCol w="1620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著   作   名   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文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作     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国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时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格列佛游记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鲁滨逊漂流记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繁星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春水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朝花夕拾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伊索寓言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《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  人  传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44"/>
          <p:cNvSpPr/>
          <p:nvPr/>
        </p:nvSpPr>
        <p:spPr>
          <a:xfrm>
            <a:off x="3352680" y="260496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诗歌     冰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谢婉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  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4191120" y="3747960"/>
            <a:ext cx="480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6"/>
          <p:cNvSpPr/>
          <p:nvPr/>
        </p:nvSpPr>
        <p:spPr>
          <a:xfrm>
            <a:off x="3276720" y="42670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记    罗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罗兰                    法  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7"/>
          <p:cNvSpPr/>
          <p:nvPr/>
        </p:nvSpPr>
        <p:spPr>
          <a:xfrm>
            <a:off x="3352680" y="3733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寓言    伊索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主要是后人编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希  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8"/>
          <p:cNvSpPr/>
          <p:nvPr/>
        </p:nvSpPr>
        <p:spPr>
          <a:xfrm>
            <a:off x="3352680" y="3124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散文    鲁迅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周树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现  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3352680" y="1981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游记    笛福                        英  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0"/>
          <p:cNvSpPr/>
          <p:nvPr/>
        </p:nvSpPr>
        <p:spPr>
          <a:xfrm>
            <a:off x="3352680" y="1447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游记    斯威夫特                 英  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763640" y="1197000"/>
            <a:ext cx="597708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题目表述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云南，请写出下图故事的名称，并简述该故事情节。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345960" y="2276640"/>
            <a:ext cx="46087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晁盖心中欢喜，对六人说：“我等造下这弥天大罪，那里去安身！不是王头领如此错爱，我等皆已失所，此恩不可忘报！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是冷笑。晁盖道：“先生何故只是冷笑？有事可以通知。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道：“兄长性直，你道王伦肯收留我们？兄长不看他的心，只观他的颜色动静。”晁盖道：“观那王头领颜色怎地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道：“……只有林冲那人，原是京师禁军教头，大郡的人，诸事晓得，今不得已坐了第四位，早上林冲看王伦答应兄长模样，他自便有些顾眄之心，只是不得已，小生略放言，叫他本寨自相火并。晁盖道：“全仗先生妙策良谋，可以容身。”当夜七人安歇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次早天明，只见人报道：“林教头相访。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便对晁盖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人来相探，中俺计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段中加点的“他”是谁？选段表现了“他”怎样的性格特征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尔缓慢地，一行又一行，一页又一页地写着，他忘却一切，全部身心都沉浸在书中的人物形象当中，也初次尝到了创作的艰辛。有时候那些鲜明生动的景象清晰地重新浮现在他的脑海里，但他无法用笔墨表达。写出来的字句苍白无力，缺少生气和激情，已经写好的部分，他必须逐字逐句地记住，否则，线索一断，写作就要受到阻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选段出自《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》，作品中保尔身体瘫痪、双目失明后，在母亲和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帮助下仍然顽强地进行文学创作。这也是作者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生经历的写照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三）内容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省近三年的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名著阅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考题涉及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考作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云南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钢铁是怎样炼成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篇名），达雅（人物），奥斯特洛夫斯基（作者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考人物形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云南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吴用的性格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考情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云南，图文转化题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真假美猴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它省市的考试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考情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听得门首有两个承局叫道：“林教头，太尉钧旨，道你买一口好刀，就叫你将去比看，太尉在府里专等。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两个人让林冲带上刀到白虎节堂，两人借故离开后，发生了什么事？请简述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福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考人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流沙河的妖怪，因为在天有罪，堕落此河，忘形作怪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曾被菩萨劝化，愿归师父往西天去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考情节加人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文字出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这位大仙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名字），他惩治唐僧师徒四人是因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广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-25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四）今年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南学业水平考试说明上明确：识记课文涉及的重要作家、作品和文化常识；掌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义务教育语文课程标准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01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推荐名著的相关内容。（今年应该和去往年的要求相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371600" y="762120"/>
            <a:ext cx="622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二、名著复习的切入点：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828800" y="1844640"/>
            <a:ext cx="563868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、文学常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、故事情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、主要人物及性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、人物与情节关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黑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、精彩片断要记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黑体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、整体感悟评价品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90520" y="5877000"/>
            <a:ext cx="874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内容都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试题研究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9T12:47:26Z</dcterms:created>
  <dc:creator>yyc</dc:creator>
  <dc:description/>
  <dc:language>en-US</dc:language>
  <cp:lastModifiedBy>yyc</cp:lastModifiedBy>
  <dcterms:modified xsi:type="dcterms:W3CDTF">2020-02-28T12:15:02Z</dcterms:modified>
  <cp:revision>46</cp:revision>
  <dc:subject/>
  <dc:title>中考专题复习之 文学名著和文学常识</dc:title>
</cp:coreProperties>
</file>