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5.gif" ContentType="image/gif"/>
  <Override PartName="/ppt/media/image24.wmf" ContentType="image/x-wmf"/>
  <Override PartName="/ppt/media/image1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cashreg.wav" ContentType="audio/x-wav"/>
  <Override PartName="/ppt/media/image27.jpeg" ContentType="image/jpeg"/>
  <Override PartName="/ppt/media/image30.wmf" ContentType="image/x-wmf"/>
  <Override PartName="/ppt/media/image5.jpeg" ContentType="image/jpeg"/>
  <Override PartName="/ppt/media/image28.jpeg" ContentType="image/jpeg"/>
  <Override PartName="/ppt/media/image29.wmf" ContentType="image/x-wmf"/>
  <Override PartName="/ppt/media/image19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26.png" ContentType="image/png"/>
  <Override PartName="/ppt/media/carbrake.wav" ContentType="audio/x-wav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697-E8F6-45F1-9DC3-442ACC7C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607-9EA2-4B9B-9D94-926A98A4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815-805B-4364-8B47-CEAA515B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637-A08F-4208-9F46-CAE3BAE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FDBF-A2BC-47A1-9592-FEA2FEEF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6F0-E47A-4674-B763-48637A5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CB40-63F6-4DD2-A0D6-D625936C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BD9-A39B-4BF7-969C-46F9CD5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221-1246-45F0-B135-4FF20581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F67A-F08C-4241-BD39-CF155ED1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5660-394C-4603-9F5A-67EE8F0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EC5-3D72-4129-98B8-D8071E8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1A81-C7AC-46DB-B3A3-2818236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1ECD-8CC5-4320-A4B4-7E37E43D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9AFB-55C7-4E7B-9F89-8020F6D8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1987-6094-4D46-AB83-A6A49FE7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38F-08F3-421B-AAD9-C5023B03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126-94D5-43F2-8CD5-DC15C559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7E7-BB75-4DCA-8D89-27453787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6B7-32DC-464A-A291-F9A7F5C5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BA8-8533-4A07-B04C-386CA7A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B71-F5E7-41CD-8C79-2F087E9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9BA-9617-45E5-80F2-B6219A7E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510-3BE5-4BA3-B3EB-1FED2B4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-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8EE-6365-4414-A85B-992052BAD3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1A0-1BF7-4D57-9DD5-BAB1F7D3DE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325,22,&#12298;&#23665;&#28023;&#32463;&#12299;&#20107;&#20214;&#65306;&#12304;&#35814;&#20889;&#12305;" TargetMode="External"/><Relationship Id="rId2" Type="http://schemas.openxmlformats.org/officeDocument/2006/relationships/hyperlink" Target="325,22,&#12298;&#23665;&#28023;&#32463;&#12299;&#20107;&#20214;&#65306;&#12304;&#35814;&#20889;&#12305;" TargetMode="External"/><Relationship Id="rId3" Type="http://schemas.openxmlformats.org/officeDocument/2006/relationships/hyperlink" Target="325,22,&#12298;&#23665;&#28023;&#32463;&#12299;&#20107;&#20214;&#65306;&#12304;&#35814;&#20889;&#12305;" TargetMode="External"/><Relationship Id="rId4" Type="http://schemas.openxmlformats.org/officeDocument/2006/relationships/hyperlink" Target="325,22,&#12298;&#23665;&#28023;&#32463;&#12299;&#20107;&#20214;&#65306;&#12304;&#35814;&#20889;&#12305;" TargetMode="External"/><Relationship Id="rId5" Type="http://schemas.openxmlformats.org/officeDocument/2006/relationships/hyperlink" Target="325,22,&#12298;&#23665;&#28023;&#32463;&#12299;&#20107;&#20214;&#65306;&#12304;&#35814;&#20889;&#12305;" TargetMode="External"/><Relationship Id="rId6" Type="http://schemas.openxmlformats.org/officeDocument/2006/relationships/hyperlink" Target="325,22,&#12298;&#23665;&#28023;&#32463;&#12299;&#20107;&#20214;&#65306;&#12304;&#35814;&#20889;&#12305;" TargetMode="External"/><Relationship Id="rId7" Type="http://schemas.openxmlformats.org/officeDocument/2006/relationships/hyperlink" Target="325,22,&#12298;&#23665;&#28023;&#32463;&#12299;&#20107;&#20214;&#65306;&#12304;&#35814;&#20889;&#12305;" TargetMode="External"/><Relationship Id="rId8" Type="http://schemas.openxmlformats.org/officeDocument/2006/relationships/hyperlink" Target="325,22,&#12298;&#23665;&#28023;&#32463;&#12299;&#20107;&#20214;&#65306;&#12304;&#35814;&#20889;&#12305;" TargetMode="External"/><Relationship Id="rId9" Type="http://schemas.openxmlformats.org/officeDocument/2006/relationships/hyperlink" Target="277,14,&#24187;&#28783;&#29255; 14" TargetMode="External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349,-1,PRE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baike.so.com/doc/6350575-6564201.html" TargetMode="External"/><Relationship Id="rId2" Type="http://schemas.openxmlformats.org/officeDocument/2006/relationships/hyperlink" Target="http://baike.so.com/doc/4568227-4779263.html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283,27,&#24187;&#28783;&#29255; 27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2928960" y="3214800"/>
            <a:ext cx="309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来看课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鲁迅先生的散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个人，这个人是谁呢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40000" cy="549360"/>
          </a:xfrm>
          <a:prstGeom prst="rect">
            <a:avLst/>
          </a:prstGeom>
          <a:solidFill>
            <a:srgbClr val="99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鲁迅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iuxue1"/>
          <p:cNvPicPr/>
          <p:nvPr/>
        </p:nvPicPr>
        <p:blipFill>
          <a:blip r:embed="rId1"/>
          <a:stretch/>
        </p:blipFill>
        <p:spPr>
          <a:xfrm>
            <a:off x="108000" y="692280"/>
            <a:ext cx="2736720" cy="341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huwu4"/>
          <p:cNvPicPr/>
          <p:nvPr/>
        </p:nvPicPr>
        <p:blipFill>
          <a:blip r:embed="rId2"/>
          <a:stretch/>
        </p:blipFill>
        <p:spPr>
          <a:xfrm>
            <a:off x="2916360" y="692280"/>
            <a:ext cx="4197240" cy="31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50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53"/>
          <p:cNvPicPr/>
          <p:nvPr/>
        </p:nvPicPr>
        <p:blipFill>
          <a:blip r:embed="rId4"/>
          <a:stretch/>
        </p:blipFill>
        <p:spPr>
          <a:xfrm>
            <a:off x="0" y="3905280"/>
            <a:ext cx="2916360" cy="29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aiying100"/>
          <p:cNvPicPr/>
          <p:nvPr/>
        </p:nvPicPr>
        <p:blipFill>
          <a:blip r:embed="rId5"/>
          <a:stretch/>
        </p:blipFill>
        <p:spPr>
          <a:xfrm>
            <a:off x="3132000" y="4076640"/>
            <a:ext cx="388944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79280" y="909720"/>
            <a:ext cx="8458200" cy="3143520"/>
            <a:chOff x="179280" y="909720"/>
            <a:chExt cx="8458200" cy="3143520"/>
          </a:xfrm>
        </p:grpSpPr>
        <p:sp>
          <p:nvSpPr>
            <p:cNvPr id="122" name="Text Box 4"/>
            <p:cNvSpPr/>
            <p:nvPr/>
          </p:nvSpPr>
          <p:spPr>
            <a:xfrm>
              <a:off x="2388960" y="90972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鲁迅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原名周树人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Picture 5" descr=""/>
            <p:cNvPicPr/>
            <p:nvPr/>
          </p:nvPicPr>
          <p:blipFill>
            <a:blip r:embed="rId1"/>
            <a:stretch/>
          </p:blipFill>
          <p:spPr>
            <a:xfrm>
              <a:off x="179280" y="1010160"/>
              <a:ext cx="2133720" cy="304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08000" y="189000"/>
            <a:ext cx="8929800" cy="477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月，首次用“鲁迅”的笔名，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中国现代文学史上第一篇白话小说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小说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呐喊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彷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故事新编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。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散文诗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野草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杂文集《坟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热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、《二心集》、《三闲集》、《而已集》、《南腔北调集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中篇小说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_x000b__x000c_"/>
              </a:rPr>
              <a:t>《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自题小像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灵台无计逃神矢，风雨如磐暗故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寄意寒星荃不察，我以我血荐轩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2000" y="765000"/>
            <a:ext cx="8567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自嘲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交华盖欲何求，未敢翻身已碰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帽遮颜过闹市，漏船载酒泛中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横眉冷对千夫指，俯首甘为孺子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进小楼成一统，管他冬夏与春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94120" y="1428840"/>
            <a:ext cx="10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gē</a:t>
            </a:r>
            <a:r>
              <a:rPr b="1" lang="en-US" sz="4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86920" y="150012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ì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4"/>
          <p:cNvSpPr/>
          <p:nvPr/>
        </p:nvSpPr>
        <p:spPr>
          <a:xfrm>
            <a:off x="45252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231084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菩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27"/>
          <p:cNvSpPr/>
          <p:nvPr/>
        </p:nvSpPr>
        <p:spPr>
          <a:xfrm>
            <a:off x="24768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竹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28"/>
          <p:cNvSpPr/>
          <p:nvPr/>
        </p:nvSpPr>
        <p:spPr>
          <a:xfrm>
            <a:off x="4382280" y="20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29"/>
          <p:cNvSpPr/>
          <p:nvPr/>
        </p:nvSpPr>
        <p:spPr>
          <a:xfrm>
            <a:off x="44769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烦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憎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31"/>
          <p:cNvSpPr/>
          <p:nvPr/>
        </p:nvSpPr>
        <p:spPr>
          <a:xfrm>
            <a:off x="68346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土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32"/>
          <p:cNvSpPr/>
          <p:nvPr/>
        </p:nvSpPr>
        <p:spPr>
          <a:xfrm>
            <a:off x="69084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辫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33"/>
          <p:cNvSpPr/>
          <p:nvPr/>
        </p:nvSpPr>
        <p:spPr>
          <a:xfrm>
            <a:off x="254808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胸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矩形 34"/>
          <p:cNvSpPr/>
          <p:nvPr/>
        </p:nvSpPr>
        <p:spPr>
          <a:xfrm>
            <a:off x="447696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疮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35"/>
          <p:cNvSpPr/>
          <p:nvPr/>
        </p:nvSpPr>
        <p:spPr>
          <a:xfrm>
            <a:off x="7263000" y="5572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诘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179960" y="1500120"/>
            <a:ext cx="8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qí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234480" y="1500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ēngw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82880" y="3143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ú s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60840" y="307188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ú gān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144720" y="500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iàn z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834920" y="500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iōng p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998520" y="3071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fán su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956760" y="50007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huāng 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454080" y="30718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tǔ fěi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575400" y="49291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jié wè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-4320" y="1428840"/>
            <a:ext cx="213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āi dào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40120" y="150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ò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读读写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4"/>
          <p:cNvSpPr/>
          <p:nvPr/>
        </p:nvSpPr>
        <p:spPr>
          <a:xfrm>
            <a:off x="5479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哀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240552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茉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61956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震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27"/>
          <p:cNvSpPr/>
          <p:nvPr/>
        </p:nvSpPr>
        <p:spPr>
          <a:xfrm>
            <a:off x="3834000" y="36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粗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28"/>
          <p:cNvSpPr/>
          <p:nvPr/>
        </p:nvSpPr>
        <p:spPr>
          <a:xfrm>
            <a:off x="447696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书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6905880" y="3571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守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30"/>
          <p:cNvSpPr/>
          <p:nvPr/>
        </p:nvSpPr>
        <p:spPr>
          <a:xfrm>
            <a:off x="683460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霹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692520" y="1500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ū z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469200" y="14288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pī l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-186480" y="2928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zhèn sǒ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13000" y="3000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ū zhu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264000" y="2928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shǒu gu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57320" y="-360"/>
            <a:ext cx="2500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释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4200" y="8571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4275"/>
          <p:cNvSpPr/>
          <p:nvPr/>
        </p:nvSpPr>
        <p:spPr>
          <a:xfrm>
            <a:off x="1357200" y="21430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害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54276"/>
          <p:cNvSpPr/>
          <p:nvPr/>
        </p:nvSpPr>
        <p:spPr>
          <a:xfrm>
            <a:off x="1428840" y="28576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体因恐惧或过度兴奋而颤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文本框 54277"/>
          <p:cNvSpPr/>
          <p:nvPr/>
        </p:nvSpPr>
        <p:spPr>
          <a:xfrm>
            <a:off x="1285920" y="15001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追问、责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54278"/>
          <p:cNvSpPr/>
          <p:nvPr/>
        </p:nvSpPr>
        <p:spPr>
          <a:xfrm>
            <a:off x="1357200" y="7858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恐惧、着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39640" y="2709720"/>
            <a:ext cx="745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鲁迅的生活中，阿长是一个很有影响的人物，鲁迅在作品中几次提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是鲁迅家里的一个女工。她连真实姓都不为人知，也不会识字作文，作者却她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在了一起。那么，她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3"/>
          <p:cNvSpPr txBox="1"/>
          <p:nvPr/>
        </p:nvSpPr>
        <p:spPr>
          <a:xfrm rot="21478800">
            <a:off x="107640" y="117360"/>
            <a:ext cx="4803840" cy="477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703510"/>
                <a:gd name="adj2" fmla="val 4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请认真阅读课文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676520" y="13716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读懂课文了吗？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611280" y="2786040"/>
            <a:ext cx="8065800" cy="1396800"/>
            <a:chOff x="611280" y="2786040"/>
            <a:chExt cx="8065800" cy="1396800"/>
          </a:xfrm>
        </p:grpSpPr>
        <p:sp>
          <p:nvSpPr>
            <p:cNvPr id="177" name="Text Box 4"/>
            <p:cNvSpPr/>
            <p:nvPr/>
          </p:nvSpPr>
          <p:spPr>
            <a:xfrm>
              <a:off x="785160" y="2786040"/>
              <a:ext cx="53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那就请你回答几个问题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611280" y="3601440"/>
              <a:ext cx="80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文可分为几段？各段都说了写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90600" y="-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071720" y="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阿长与《山海经》</a:t>
            </a:r>
            <a:endParaRPr b="0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429240" y="2214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0" y="1000080"/>
            <a:ext cx="88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可分为四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—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介绍长妈妈的身份及名字的来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—1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“我”讨厌阿长的事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9—29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写阿长为“我”寻购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我对长妈妈产生“新的敬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、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，抒发了“我”对长妈妈的尊敬、感激、深沉的怀念之情。深化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08000" y="2422440"/>
            <a:ext cx="90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围绕阿长写了哪些事情，重点写了什么，从这些事情中，可以看出阿长是怎样的一个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88160" y="76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851ff"/>
                </a:solidFill>
                <a:latin typeface="黑体"/>
                <a:ea typeface="黑体"/>
              </a:rPr>
              <a:t>熟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03280" y="142920"/>
            <a:ext cx="8640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称呼的由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“切切察察”的毛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喜欢向母亲告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摆成“大”字的睡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元旦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规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一肚子烦琐的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讲“长毛”的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谋害“我”的隐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给我买来了《山海经》。（重点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ccccff"/>
                </a:solidFill>
                <a:latin typeface="Arial"/>
                <a:ea typeface="隶书"/>
              </a:rPr>
              <a:t>隐鼠”之典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中宋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鼠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文中，说到隐鼠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类小鼠大抵在地上走动，只有拇指那么大，也不畏惧人，我们那里叫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’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与专住在屋上的伟大者是两种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这种隐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时时跑到人面前来，而且缘腿而上，一直爬到膝髁。给放在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桌上，便捡吃些菜渣，舐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碗沿；放在我的书桌上，则从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地游行，看见砚台便舐吃了研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墨汁。这使我非常惊喜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有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回，隐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缘着长妈妈的腿要爬上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被她一脚踢死了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457200" y="304920"/>
            <a:ext cx="533520" cy="6248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62360 h 6248160"/>
              <a:gd name="textAreaBottom" fmla="*/ 608580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5640" y="333360"/>
            <a:ext cx="7467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们对阿长的称呼以及称呼的由来和她外形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些不好的习惯。如写她喜欢“切切察察”的毛病、喜欢“告状”、睡觉爱摆“大”字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她懂得的许多“我听不耐烦”的规矩。比如元旦说恭喜话吃福橘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教给我很多道理。比如：人死了要说“老掉了”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讲述“长毛”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谋害了我的隐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阿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买《山海经》的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8001000" y="380880"/>
            <a:ext cx="457200" cy="5029200"/>
          </a:xfrm>
          <a:custGeom>
            <a:avLst/>
            <a:gdLst>
              <a:gd name="textAreaLeft" fmla="*/ 0 w 457200"/>
              <a:gd name="textAreaRight" fmla="*/ 164880 w 457200"/>
              <a:gd name="textAreaTop" fmla="*/ 187200 h 5029200"/>
              <a:gd name="textAreaBottom" fmla="*/ 484200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6"/>
                  <a:pt x="10800" y="2572"/>
                </a:cubicBezTo>
                <a:lnTo>
                  <a:pt x="10800" y="8228"/>
                </a:lnTo>
                <a:cubicBezTo>
                  <a:pt x="10800" y="9514"/>
                  <a:pt x="16200" y="10800"/>
                  <a:pt x="21600" y="10800"/>
                </a:cubicBezTo>
                <a:cubicBezTo>
                  <a:pt x="16200" y="10800"/>
                  <a:pt x="10800" y="12086"/>
                  <a:pt x="10800" y="13372"/>
                </a:cubicBezTo>
                <a:lnTo>
                  <a:pt x="10800" y="19028"/>
                </a:lnTo>
                <a:cubicBezTo>
                  <a:pt x="10800" y="20314"/>
                  <a:pt x="5400" y="21600"/>
                  <a:pt x="0" y="2160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233200" y="243828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略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627084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详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00" y="1523880"/>
            <a:ext cx="667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围绕中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详细得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 rot="11015400">
            <a:off x="8522640" y="64828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7493"/>
                </a:moveTo>
                <a:lnTo>
                  <a:pt x="13761" y="7493"/>
                </a:lnTo>
                <a:lnTo>
                  <a:pt x="13761" y="12828"/>
                </a:lnTo>
                <a:cubicBezTo>
                  <a:pt x="13761" y="13751"/>
                  <a:pt x="14561" y="14482"/>
                  <a:pt x="15597" y="14482"/>
                </a:cubicBezTo>
                <a:lnTo>
                  <a:pt x="17260" y="14482"/>
                </a:lnTo>
                <a:cubicBezTo>
                  <a:pt x="18295" y="14482"/>
                  <a:pt x="19096" y="13751"/>
                  <a:pt x="19096" y="12828"/>
                </a:cubicBezTo>
                <a:lnTo>
                  <a:pt x="19096" y="7493"/>
                </a:lnTo>
                <a:lnTo>
                  <a:pt x="17260" y="7493"/>
                </a:lnTo>
                <a:lnTo>
                  <a:pt x="20767" y="3985"/>
                </a:lnTo>
                <a:lnTo>
                  <a:pt x="24440" y="7493"/>
                </a:lnTo>
                <a:lnTo>
                  <a:pt x="22604" y="7493"/>
                </a:lnTo>
                <a:lnTo>
                  <a:pt x="22604" y="12828"/>
                </a:lnTo>
                <a:cubicBezTo>
                  <a:pt x="22604" y="15596"/>
                  <a:pt x="20027" y="18155"/>
                  <a:pt x="17260" y="18155"/>
                </a:cubicBezTo>
                <a:lnTo>
                  <a:pt x="15597" y="18155"/>
                </a:lnTo>
                <a:cubicBezTo>
                  <a:pt x="12829" y="18155"/>
                  <a:pt x="10253" y="15596"/>
                  <a:pt x="10253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图片11"/>
          <p:cNvPicPr/>
          <p:nvPr/>
        </p:nvPicPr>
        <p:blipFill>
          <a:blip r:embed="rId1"/>
          <a:stretch/>
        </p:blipFill>
        <p:spPr>
          <a:xfrm>
            <a:off x="7020000" y="3933720"/>
            <a:ext cx="2752560" cy="12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-360" y="-360"/>
            <a:ext cx="8893080" cy="73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阿长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称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来历、“切切察察”的毛病、喜欢告状，摆成“大”字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睡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令人讨厌的种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规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“长毛”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谋死隐鼠，吃福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那些内容能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了为“我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事，却令人对长妈妈刮目相看，在作者看来“别人不肯做，或不能做的事情，她却能够做成功”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question"/>
          <p:cNvPicPr/>
          <p:nvPr/>
        </p:nvPicPr>
        <p:blipFill>
          <a:blip r:embed="rId1"/>
          <a:stretch/>
        </p:blipFill>
        <p:spPr>
          <a:xfrm>
            <a:off x="8099280" y="1284120"/>
            <a:ext cx="1009800" cy="4289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3205080" y="304920"/>
            <a:ext cx="2232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cc"/>
                </a:solidFill>
                <a:latin typeface="隶书"/>
              </a:rPr>
              <a:t>思考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66cc"/>
              </a:solidFill>
              <a:latin typeface="隶书"/>
              <a:ea typeface="隶书"/>
            </a:endParaRPr>
          </a:p>
        </p:txBody>
      </p:sp>
      <p:pic>
        <p:nvPicPr>
          <p:cNvPr id="196" name="WordArt 4" descr=""/>
          <p:cNvPicPr/>
          <p:nvPr/>
        </p:nvPicPr>
        <p:blipFill>
          <a:blip r:embed="rId2"/>
          <a:stretch/>
        </p:blipFill>
        <p:spPr>
          <a:xfrm>
            <a:off x="1374840" y="1763640"/>
            <a:ext cx="613404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915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华文中宋"/>
              </a:rPr>
              <a:t>评读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85800" y="45720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没有名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切切察察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元旦的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为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2"/>
              </a:rPr>
              <a:t>“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3"/>
              </a:rPr>
              <a:t>我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4"/>
              </a:rPr>
              <a:t>”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5"/>
              </a:rPr>
              <a:t>买回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6"/>
              </a:rPr>
              <a:t>《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7"/>
              </a:rPr>
              <a:t>山海经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黑体"/>
                <a:hlinkClick r:id="rId8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572160" y="21420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地位低下身世凄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643800" y="1357200"/>
            <a:ext cx="2500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饶舌多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封建迷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6643800" y="385776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淳朴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繁文缛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629400" y="521496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热情善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-78480" y="2133720"/>
            <a:ext cx="872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340000" y="189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华文中宋"/>
              </a:rPr>
              <a:t>品读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1080" y="1486080"/>
            <a:ext cx="892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阿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71680" y="99972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研读长妈妈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山海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的部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19-2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自然段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内容占位符 3" descr="山海经.jpg"/>
          <p:cNvPicPr/>
          <p:nvPr/>
        </p:nvPicPr>
        <p:blipFill>
          <a:blip r:embed="rId1"/>
          <a:stretch/>
        </p:blipFill>
        <p:spPr>
          <a:xfrm>
            <a:off x="714240" y="2610000"/>
            <a:ext cx="7596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143000"/>
            <a:ext cx="9144000" cy="261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2f2f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1"/>
              </a:rPr>
              <a:t>题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阿长”，人名‘鲁迅家的一个女工；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书名。题目为一并列词组，文章即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通过写阿长和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山海经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的关系来体现阿长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选自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cc0099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朝花夕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散文集，收录鲁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9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所作回忆性散文十篇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68360" y="468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28720" y="2276640"/>
            <a:ext cx="7391520" cy="58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并非学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表明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阿长心存隔膜乃至轻视。并没有把买书的希望寄托在阿长的身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33520" y="1066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33520" y="2536920"/>
            <a:ext cx="8167680" cy="228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反应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不能做的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却能够做成功。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隐鼠的怨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完全消灭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9800" y="8175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9800" y="2279520"/>
            <a:ext cx="8001000" cy="235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画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难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跑多少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听多少地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心费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且阿长不识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然买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写叔祖“疏懒”、别人都“不肯真实地回答我”，这同表现阿长有什么关系？请联系课文内容，简要说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857680"/>
            <a:ext cx="739116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后文写“连阿长也来问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怎么一回事”，而她竟然真的买来了作者渴慕已久的书。这同叔祖和其他人的漠不关心形成鲜明的对比，从侧面衬托阿长对“我”极其疼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71640" y="42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阿长买的《山海经》是一部刻印都非常拙劣的本子，但却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最为心爱的宝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28800" y="2857680"/>
            <a:ext cx="7391160" cy="1191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阿长买的《山海经》虽然粗拙，但那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渴慕已久的书，而且由一个意想不到的人买来，当时给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极大的震动，令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获至宝。所以成了“我”最为心爱的宝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0" y="642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阿长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笔墨并不多，为什么不写她是怎么买到的呢？为什么此前此后反倒写了不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0" y="2357280"/>
            <a:ext cx="9144000" cy="253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写怎么买到的，给读者留下一个想象的空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前大量笔墨写叔祖引起我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强烈渴慕，更能说明阿长买到后给我的惊喜与感激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后写我的心情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049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重点与难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28760" y="1285920"/>
            <a:ext cx="8381880" cy="582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57120" y="2000160"/>
            <a:ext cx="8497800" cy="106884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散文的“形散而神不散”说的是：主题集中。写散文时要放得开，但是要受到中心思想的制约，所以还得收得拢。在阅读散文时，要注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抓住文章的线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2147040" y="4786200"/>
            <a:ext cx="353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本文是以作者对长妈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感情变化为线索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透视鲁迅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28760" y="3929040"/>
            <a:ext cx="845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标出表明“我”对阿长感情变化的语句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5840" y="3714840"/>
            <a:ext cx="853416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写知道阿长谋害了“我”的隐鼠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42960" y="603252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最后以“仁厚黑暗的地母啊，愿在你怀里永安她的魂灵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结束，表达了作者                                   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071720" y="214200"/>
            <a:ext cx="7016760" cy="52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的平常举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928800" y="1357200"/>
            <a:ext cx="7613640" cy="46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阿长所懂得的许多规矩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71680" y="2357280"/>
            <a:ext cx="8001000" cy="82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管在阿长给“我”讲长毛的故事时，“我”也曾                                      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4786200"/>
            <a:ext cx="9001080" cy="101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长给“我”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才真正                                              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071960" y="42861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4143240" y="7858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143240" y="1928880"/>
            <a:ext cx="304920" cy="433440"/>
          </a:xfrm>
          <a:prstGeom prst="downArrow">
            <a:avLst>
              <a:gd name="adj1" fmla="val 50000"/>
              <a:gd name="adj2" fmla="val 3551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143240" y="328608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4071960" y="5786280"/>
            <a:ext cx="304920" cy="23832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5322240" y="214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13"/>
          <p:cNvSpPr/>
          <p:nvPr/>
        </p:nvSpPr>
        <p:spPr>
          <a:xfrm>
            <a:off x="5683320" y="13572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”也是‘不耐烦的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1716480" y="271476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发生过空前的敬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6404400" y="371484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708880" y="47862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使我发生新的敬意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17"/>
          <p:cNvSpPr/>
          <p:nvPr/>
        </p:nvSpPr>
        <p:spPr>
          <a:xfrm>
            <a:off x="4849200" y="6396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85616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15000" y="4214880"/>
            <a:ext cx="5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7093080" y="2637000"/>
            <a:ext cx="5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029400" y="3714840"/>
            <a:ext cx="21301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消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敬意淡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45080" y="2071800"/>
            <a:ext cx="16426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71680" y="3000240"/>
            <a:ext cx="792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5000760" y="471492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714680" y="3857760"/>
            <a:ext cx="59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1071720" y="464328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 flipV="1">
            <a:off x="2286000" y="3643200"/>
            <a:ext cx="68580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000240" y="3643200"/>
            <a:ext cx="990720" cy="1371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667640" y="364500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8101080" y="2997360"/>
            <a:ext cx="6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560" y="142560"/>
            <a:ext cx="1979640" cy="5619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阿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360" y="837720"/>
            <a:ext cx="8209080" cy="5472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阿长（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后果迅称她为长妈妈，浙江绍兴人，她是鲁迅儿时的保姆。长妈妈的夫家姓余，有一个过继的儿子，是做裁缝的，她有一个女儿，后来招进了一个女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89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“初六日雨中放舟至大树港看戏，长妈妈发病，辰刻身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0526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先写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不太佩服”、“讨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长，当长妈妈为我买来书籍时，又对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充满敬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在结尾处却说“仁厚黑暗的地母啊，愿在你怀里永安她的魂灵”，抒发出一种深沉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怀念之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你是怎样理解作者的感情的？这是什么写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57120" y="3714840"/>
            <a:ext cx="7977240" cy="180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运用了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写法，是为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突出作者对长妈妈的敬佩和怀念之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先写了她名字的来由，讨厌她的絮叨、对“我”的管束严格、繁多的礼节，其实这一切都是为了反衬后文“我”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图片10"/>
          <p:cNvPicPr/>
          <p:nvPr/>
        </p:nvPicPr>
        <p:blipFill>
          <a:blip r:embed="rId1"/>
          <a:stretch/>
        </p:blipFill>
        <p:spPr>
          <a:xfrm>
            <a:off x="3000240" y="214200"/>
            <a:ext cx="339120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142920" y="7855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抑后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作文中，采用这种手法，先表达对所描写的事物或人的不满之情。然后，一般来说，总是在一两件小事中，突然转变了看法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在转变过程中，情感自然，才能引起读者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共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种手法的好处是，能够很好的表达出作者充沛的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情节多变，形成波澜起伏，造成鲜明对比，容易使读者在阅读过程中，产生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图片9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346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8920" y="1485720"/>
            <a:ext cx="73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3200" spc="-1" strike="noStrike" u="sng">
                <a:solidFill>
                  <a:srgbClr val="3333cc"/>
                </a:solidFill>
                <a:uFillTx/>
                <a:latin typeface="黑体"/>
                <a:hlinkClick r:id="rId1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选材特点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39640" y="53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479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节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善于抓住富有特征性的细节，寥寥几笔，就勾勒出人物的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最有特征的细微之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长妈妈夜间在床中间摆成一个“大”字，经旁人提醒以后，依然如故，“一条臂膊还搁在我的颈子上”，表现了长妈妈的粗鲁和不拘小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5192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借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270080"/>
            <a:ext cx="7772400" cy="5184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）抓住生动形象的语言、动作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吃福橘时：“恭喜恭喜！大家恭喜！真聪明！恭喜恭喜！”她于是十分喜欢似的，笑将起来，同时将一点冰冷的东西，塞在我的嘴里。她希望孩子和自己能够“一年到头，顺顺流流”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是长妈妈对孩子真诚的关爱，虽然封建迷信，但也生动地表现了她的朴实和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040" y="785520"/>
            <a:ext cx="8083440" cy="5451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）抓住体现主旨的外貌、语言描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写她买来《山海经》时：她穿着新的蓝布衫回来了，一见面，就将一包书递给我，高兴地道：“哥儿，有画儿的‘三哼经’，我给你买来了！”这里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仅看到了一个衣着朴素、满脸笑容的劳动妇女，而且听到了她那亲切自然的语言。“三哼经”恰如其分地表现了她的身份和社会地位。这个细节，说明了为“我”办这件事情的不是学问人，而是连书名都说错的长妈妈，蕴含着长妈妈对“我”的关心和疼爱，同时把阿长和《山海经》连接在一起，表现了设题与构思的新颖巧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468360" y="981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：作者从多个层面、多个角度刻画了长妈妈的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00040" y="2286000"/>
            <a:ext cx="7848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阿长是一个很不幸而又渴望一生平安的劳动妇女，她没有文化，有点粗俗、迷信，饶舌多事，但心地善良，热心帮助孩子解决疑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57120" y="1071720"/>
            <a:ext cx="85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到憎恶她的时候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如知道了谋死我那因隐鼠的却是她的时候，就叫她阿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什么要用“憎恶”“谋死”这样的词语呢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28760" y="3357720"/>
            <a:ext cx="784836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“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憎恶”是“憎恨，厌恶”的意思，“谋死”是谋杀的意思，这两个词语表现出儿童天真的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938320" y="2858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语言特色：略带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357120" y="107172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而我有一时也对发生过空前的敬意。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里用“空前”来修饰“敬意”，给你什么感觉？你怎么理解“敬意”在文中的具体含义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28760" y="3357720"/>
            <a:ext cx="784836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</a:t>
            </a:r>
            <a:r>
              <a:rPr b="1" lang="zh-CN" sz="2800" spc="-1" strike="noStrike">
                <a:solidFill>
                  <a:srgbClr val="a851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用“空前”来修饰“敬意”，说明这种敬意“我”以前从未有过，让人感到“我”对阿长的印象和态度要发生转变。句子中的“敬意”指在阿长讲了长毛的故事后，作为小孩的“我”惊异于她有这样伟大的神力，但这种“敬意”不同于真正的尊敬，它是“特别的”，只是小孩的无知和好奇使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86040" y="213840"/>
            <a:ext cx="280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山海经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717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地理著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古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第一部神话传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汇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记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精卫填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夸父逐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工怒触不周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女娲补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后羿射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帝擒蚩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等神话传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反映了中华民族的英雄气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43760" y="1447920"/>
            <a:ext cx="274932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57120" y="107172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夜间的伸开手脚，占领全床，那当然是情有可原的了，到当然是情有可原的了，到应该我退让。（作者是否真的认为“情有可原”，“应该我退让”？你的理由是什么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00040" y="3214800"/>
            <a:ext cx="78487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67ff"/>
                </a:solidFill>
                <a:latin typeface="Times New Roman"/>
                <a:ea typeface="宋体"/>
              </a:rPr>
              <a:t>  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否。这只是一个孩子由于对阿长产生“特别的敬意”，进而产生的一种短暂的想法。随着“我”的这种敬意的逐渐淡薄，直至完全消失，这样的想法也将不复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000" y="1773000"/>
            <a:ext cx="8420040" cy="465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像阿长如何千辛万苦地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经过，用文字描述出那时那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假设阿长现在还健在，她读了鲁迅的这篇文章，会对鲁迅说些什么？请紧扣课文内容与人物性格特征，展开想像，赋予人物新的时代特色，代长妈妈与鲁迅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对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12720" y="692280"/>
            <a:ext cx="3960720" cy="765000"/>
          </a:xfrm>
          <a:prstGeom prst="rect">
            <a:avLst/>
          </a:prstGeom>
          <a:solidFill>
            <a:srgbClr val="a85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象创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矩形 3"/>
          <p:cNvSpPr/>
          <p:nvPr/>
        </p:nvSpPr>
        <p:spPr>
          <a:xfrm>
            <a:off x="3790440" y="31431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一个细节：阿长连书名也记不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长告假回家，给儿子添了一些东西，也没住多久便回来了。回来时天气不热，却没有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阿长那臃肿的身体开始冒出密密的汗珠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这时，走到一个分叉路口，右边的那条是去周家的近路。左边那的那条就远了些，还要绕一大段路，奇怪的是阿长没有丝毫的犹豫，擦了擦颈上，额头上的汗，向左边的那条路走去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件新的蓝布衫渐渐地显示出了深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久，她来到了两家书店门口，阿长停下了脚步，用手帕擦了擦汗，进了书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有什么需要帮忙吗？”伙计上下打量阿长，疑惑地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“哦，我要买三哼经！”阿长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伙计瞪大了眼睛，疑惑又似确定的说：“三哼经？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的眉毛不禁皱起连忙说“三哼经啊，那种有画的三哼经啊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伸出手比划着，身上的肉也跟着一颤一颤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计不耐烦地摆了摆手：“没有山哼经，没有山哼经，你到别家买吧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只见阿长一脸失望，走出了店门，她来到另一家书店门口，犹豫着，不知道该怎么开口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件新买的蓝布衫似乎也在烦恼，烦恼着怎么避开那粘乎乎的汗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这家书店里的伙计见到阿长，连忙走出门，讨好的说：“您里面请，我们这有许多各式各样的书，不知道您要什么书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阿长用手帕擦了擦汗，有些局促的说“山哼经，我要买山哼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哼经。”这位伙计也是听的一头雾水，“我们这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没有山哼经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阿长用手帕擦了擦又湿又粘的额手，牙齿咬着嘴唇，努力的回想鲁迅儿对她说的话：那种画着人面的兽，九头的蛇，三脚的鸟，生着翅膀的人还有，还有许许多多很奇怪的画得那种三哼经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伙计皱了皱眉头不过又舒展开了。“您说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吧，我们这有，不贵也就十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56760" y="428400"/>
            <a:ext cx="854388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紧贴着她的蓝布衫终于挣脱了汗水，阿长舒心的笑了“有就好。”她给伙计十文钱，揣着那本好不容易买来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天气依旧不热，却吹了习习的凉风。树上不时的有几只鸟儿欢快叫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0102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e55"/>
                </a:solidFill>
                <a:latin typeface="华文中宋"/>
                <a:ea typeface="华文中宋"/>
              </a:rPr>
              <a:t>想像创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456840"/>
            <a:ext cx="8077320" cy="5972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隶书"/>
                <a:ea typeface="隶书"/>
              </a:rPr>
              <a:t> </a:t>
            </a:r>
            <a:r>
              <a:rPr b="1" i="1" lang="zh-CN" sz="4000" spc="-1" strike="noStrike">
                <a:solidFill>
                  <a:srgbClr val="9900cc"/>
                </a:solidFill>
                <a:latin typeface="幼圆"/>
                <a:ea typeface="幼圆"/>
              </a:rPr>
              <a:t>阿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幼圆"/>
                <a:ea typeface="幼圆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</a:rPr>
              <a:t>哥儿啊，我虽无名无姓，但经你一写，现在也成了名人了，可是你说我无名无姓，生得黄胖而矮倒也罢了，怎么连颈上的灸疮疤也写进去了呢？说我规矩多、烦琐、迷信也罢了，那时谁不迷信啊？可是你，怎么连我睡相不好这种私事都写进去了呢？特别是给你讲长毛故事时，讲的将我们掳去后，让我们脱下裤子站在墙头，大炮就放不出来，你也照实写下来了，你不怕人笑话，我还怕人笑话呢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觉得阿长像身边的谁？是年迈不识字的老祖母，爱唠叨的母亲，还是爱管闲事的阿姨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图片7"/>
          <p:cNvPicPr/>
          <p:nvPr/>
        </p:nvPicPr>
        <p:blipFill>
          <a:blip r:embed="rId1"/>
          <a:stretch/>
        </p:blipFill>
        <p:spPr>
          <a:xfrm>
            <a:off x="-236520" y="0"/>
            <a:ext cx="9593280" cy="6864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85840" y="500040"/>
            <a:ext cx="835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84360" y="2708280"/>
            <a:ext cx="7391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以“读懂身边的爱”为话题，写一篇小短文。（不少于</a:t>
            </a: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0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字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www.chinataiwan.org/webportal/pics/108182190808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s://w5.sanwen8.cn/mmbiz/gSeTmn4EmpG6gruBGTVmnfBIADtbdKGbc503Y1ic1IWY6VfD9Ulv9Sy62jwc2AqX9Su1Rbj9WZ0n3PG8wK4ofiaA/0?wx_fmt=jpeg"/>
          <p:cNvPicPr/>
          <p:nvPr/>
        </p:nvPicPr>
        <p:blipFill>
          <a:blip r:embed="rId2"/>
          <a:srcRect l="0" t="0" r="0" b="7896"/>
          <a:stretch/>
        </p:blipFill>
        <p:spPr>
          <a:xfrm>
            <a:off x="4214880" y="0"/>
            <a:ext cx="492912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s://w5.sanwen8.cn/mmbiz/gSeTmn4EmpG6gruBGTVmnfBIADtbdKGbb3rZQzxLGoZpFM4rvUbuOW8SyPw8AibMiaUSzgtaOTHlH58wJH5HAsjw/0?wx_fmt=jpeg"/>
          <p:cNvPicPr/>
          <p:nvPr/>
        </p:nvPicPr>
        <p:blipFill>
          <a:blip r:embed="rId1"/>
          <a:srcRect l="0" t="0" r="968" b="10414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s://w5.sanwen8.cn/mmbiz/gSeTmn4EmpG6gruBGTVmnfBIADtbdKGbNDZsm1oRmJMGUmKhrZFdkZ5HHlQWwAtQJ8C1MXms6AYpG53ibDEklmg/0?wx_fmt=jpeg"/>
          <p:cNvPicPr/>
          <p:nvPr/>
        </p:nvPicPr>
        <p:blipFill>
          <a:blip r:embed="rId2"/>
          <a:srcRect l="0" t="0" r="0" b="5988"/>
          <a:stretch/>
        </p:blipFill>
        <p:spPr>
          <a:xfrm>
            <a:off x="4857840" y="0"/>
            <a:ext cx="4286160" cy="47862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4857840" y="50720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海外西经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西方蓐收，左耳有蛇，乘两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https://w5.sanwen8.cn/mmbiz/gSeTmn4EmpG6gruBGTVmnfBIADtbdKGbPhzC0DeqXLrDCshwpZ5R5fiaBlUV5b6CPWvMkl2lP5OBevn1HtRvGbw/0?wx_fmt=jpeg"/>
          <p:cNvPicPr/>
          <p:nvPr/>
        </p:nvPicPr>
        <p:blipFill>
          <a:blip r:embed="rId1"/>
          <a:srcRect l="0" t="0" r="0" b="7256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7" name="矩形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内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南祝融，兽身人面，乘两龙”，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海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海外东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：“东方句芒，鸟身人面，乘两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图片1"/>
          <p:cNvPicPr/>
          <p:nvPr/>
        </p:nvPicPr>
        <p:blipFill>
          <a:blip r:embed="rId1"/>
          <a:stretch/>
        </p:blipFill>
        <p:spPr>
          <a:xfrm>
            <a:off x="-212760" y="0"/>
            <a:ext cx="959328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青年鲁迅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鲁迅2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鲁迅1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2:36:03Z</dcterms:created>
  <dc:creator>Administrator</dc:creator>
  <dc:description/>
  <dc:language>en-US</dc:language>
  <cp:lastModifiedBy>90321</cp:lastModifiedBy>
  <dcterms:modified xsi:type="dcterms:W3CDTF">2020-03-15T09:50:19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