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E6FD5-7802-4DA9-9C81-234FA16213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6C33C-A0B3-4675-962F-8B2E42C51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F764-1357-4A9C-8E18-7FF847218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8BF7-2F85-4592-ACC0-9FB398474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3817-52E2-47D7-8BBA-892270EEB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4682-28CF-4231-BC62-FB48B3C71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F0B5-9BF4-4E48-B869-3A346D8B4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6806-18D5-4733-A8DA-A945B3A50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25D1-8E2B-4BE3-B3C1-DDB42A3EE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AF73-7E20-497E-88F6-75E3B7E91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3214-5D99-4CBC-B22C-4BCFDE268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22D4-8B1B-42F3-8D86-FA9C837C2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83B6-6A25-4CCE-AD47-5409F5110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DAD6-A9D4-4353-AF92-D1886B6D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2B830-7E5F-4760-95F0-0FABA486ED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3" descr=""/>
          <p:cNvPicPr/>
          <p:nvPr/>
        </p:nvPicPr>
        <p:blipFill>
          <a:blip r:embed="rId2"/>
          <a:stretch/>
        </p:blipFill>
        <p:spPr>
          <a:xfrm>
            <a:off x="-133200" y="-6480"/>
            <a:ext cx="5698800" cy="1176480"/>
          </a:xfrm>
          <a:prstGeom prst="rect">
            <a:avLst/>
          </a:prstGeom>
          <a:ln w="0">
            <a:noFill/>
          </a:ln>
        </p:spPr>
      </p:pic>
      <p:sp>
        <p:nvSpPr>
          <p:cNvPr id="49" name="TextBox 9"/>
          <p:cNvSpPr/>
          <p:nvPr/>
        </p:nvSpPr>
        <p:spPr>
          <a:xfrm>
            <a:off x="2700360" y="3573360"/>
            <a:ext cx="457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华文行楷"/>
                <a:ea typeface="华文行楷"/>
              </a:rPr>
              <a:t>初二语文备课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0"/>
          <p:cNvSpPr/>
          <p:nvPr/>
        </p:nvSpPr>
        <p:spPr>
          <a:xfrm>
            <a:off x="0" y="1989000"/>
            <a:ext cx="874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《</a:t>
            </a:r>
            <a:r>
              <a:rPr b="1" lang="zh-CN" sz="6600" spc="-1" strike="noStrike">
                <a:solidFill>
                  <a:srgbClr val="000000"/>
                </a:solidFill>
                <a:latin typeface="方正姚体"/>
                <a:ea typeface="方正姚体"/>
              </a:rPr>
              <a:t>成语误用解析</a:t>
            </a:r>
            <a:r>
              <a:rPr b="1" lang="en-US" sz="66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》</a:t>
            </a:r>
            <a:r>
              <a:rPr b="1" lang="zh-CN" sz="6600" spc="-1" strike="noStrike">
                <a:solidFill>
                  <a:srgbClr val="000000"/>
                </a:solidFill>
                <a:latin typeface="方正姚体"/>
                <a:ea typeface="方正姚体"/>
              </a:rPr>
              <a:t>微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7"/>
          <p:cNvSpPr/>
          <p:nvPr/>
        </p:nvSpPr>
        <p:spPr>
          <a:xfrm>
            <a:off x="1887480" y="409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1023840" y="1851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611280" y="1890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了救活这家濒临倒闭的工厂，新上任的厂领导积极开展市场调查，狠抓产品质量和开发，真可谓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处心积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950760" y="2354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755640" y="177336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处心积虑：千方百计地盘算，多用作贬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684360" y="285264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几乎所有造假者都是这样，随便找几间房子、拉上几个人就开始生产，于是大量的垃圾食品厂就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雨后春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般地冒出来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4"/>
          <p:cNvSpPr/>
          <p:nvPr/>
        </p:nvSpPr>
        <p:spPr>
          <a:xfrm>
            <a:off x="808200" y="4441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5"/>
          <p:cNvSpPr/>
          <p:nvPr/>
        </p:nvSpPr>
        <p:spPr>
          <a:xfrm>
            <a:off x="539640" y="4581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雨后春笋：比喻新事物大量出现，褒义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4911840" y="482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7"/>
          <p:cNvSpPr/>
          <p:nvPr/>
        </p:nvSpPr>
        <p:spPr>
          <a:xfrm>
            <a:off x="4479840" y="482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8"/>
          <p:cNvSpPr/>
          <p:nvPr/>
        </p:nvSpPr>
        <p:spPr>
          <a:xfrm>
            <a:off x="4695840" y="698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9"/>
          <p:cNvSpPr/>
          <p:nvPr/>
        </p:nvSpPr>
        <p:spPr>
          <a:xfrm>
            <a:off x="4911840" y="409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9"/>
          <p:cNvSpPr/>
          <p:nvPr/>
        </p:nvSpPr>
        <p:spPr>
          <a:xfrm>
            <a:off x="1023840" y="1851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950760" y="2354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4"/>
          <p:cNvSpPr/>
          <p:nvPr/>
        </p:nvSpPr>
        <p:spPr>
          <a:xfrm>
            <a:off x="808200" y="4441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5"/>
          <p:cNvSpPr/>
          <p:nvPr/>
        </p:nvSpPr>
        <p:spPr>
          <a:xfrm>
            <a:off x="755640" y="47628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张经理为了改进企业管理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异想天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地制定了许多规章制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6"/>
          <p:cNvSpPr/>
          <p:nvPr/>
        </p:nvSpPr>
        <p:spPr>
          <a:xfrm>
            <a:off x="4911840" y="482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7"/>
          <p:cNvSpPr/>
          <p:nvPr/>
        </p:nvSpPr>
        <p:spPr>
          <a:xfrm>
            <a:off x="4479840" y="482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8"/>
          <p:cNvSpPr/>
          <p:nvPr/>
        </p:nvSpPr>
        <p:spPr>
          <a:xfrm>
            <a:off x="4695840" y="698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9"/>
          <p:cNvSpPr/>
          <p:nvPr/>
        </p:nvSpPr>
        <p:spPr>
          <a:xfrm>
            <a:off x="4911840" y="409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3"/>
          <p:cNvSpPr/>
          <p:nvPr/>
        </p:nvSpPr>
        <p:spPr>
          <a:xfrm>
            <a:off x="900000" y="2637000"/>
            <a:ext cx="75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这些年轻的科学家决心以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无所不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勇气，克服重重困难，去探索大自然的奥秘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4"/>
          <p:cNvSpPr/>
          <p:nvPr/>
        </p:nvSpPr>
        <p:spPr>
          <a:xfrm>
            <a:off x="826920" y="1557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异想天开：指想法很不切实际，非常奇怪。含讽刺意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5"/>
          <p:cNvSpPr/>
          <p:nvPr/>
        </p:nvSpPr>
        <p:spPr>
          <a:xfrm>
            <a:off x="826920" y="429264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无所不为：指什么坏事都敢干，贬义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468360" y="90792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些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感情色彩相反的同义成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541440" y="33336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324000" y="836640"/>
            <a:ext cx="84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5"/>
          <p:cNvSpPr/>
          <p:nvPr/>
        </p:nvSpPr>
        <p:spPr>
          <a:xfrm>
            <a:off x="468360" y="1844640"/>
            <a:ext cx="8209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情投意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臭味相投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见机行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见风使舵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侃侃而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夸夸其谈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口若悬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巧舌如簧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无微不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无所不至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再接再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变本加厉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深思熟虑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处心积虑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绞尽脑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费尽心机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开山祖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始作俑者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昂首阔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趾高气扬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从容不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故作镇静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殚精竭虑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处心积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395280" y="18900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注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1095480" y="554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816200" y="1994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250920" y="333360"/>
            <a:ext cx="2808360" cy="1143000"/>
          </a:xfrm>
          <a:prstGeom prst="rect">
            <a:avLst/>
          </a:prstGeom>
          <a:gradFill rotWithShape="0">
            <a:gsLst>
              <a:gs pos="0">
                <a:srgbClr val="cfb7e7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成语误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2824200" y="2138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WordArt 6" descr=""/>
          <p:cNvPicPr/>
          <p:nvPr/>
        </p:nvPicPr>
        <p:blipFill>
          <a:blip r:embed="rId1"/>
          <a:stretch/>
        </p:blipFill>
        <p:spPr>
          <a:xfrm>
            <a:off x="2036880" y="1974960"/>
            <a:ext cx="5217840" cy="15429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7"/>
          <p:cNvSpPr/>
          <p:nvPr/>
        </p:nvSpPr>
        <p:spPr>
          <a:xfrm>
            <a:off x="2463840" y="3075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611280" y="26028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古人中不乏学习的楷模，悬梁刺股者、秉烛达旦者、闻鸡起舞者，在历史上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汗牛充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611280" y="400536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美轮美奂：轮，高大。奂，众多。形容建筑物高大华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5"/>
          <p:cNvSpPr/>
          <p:nvPr/>
        </p:nvSpPr>
        <p:spPr>
          <a:xfrm>
            <a:off x="684360" y="1773360"/>
            <a:ext cx="74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汗牛充栋：形容书籍极多。用错对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6"/>
          <p:cNvSpPr/>
          <p:nvPr/>
        </p:nvSpPr>
        <p:spPr>
          <a:xfrm>
            <a:off x="684360" y="2421000"/>
            <a:ext cx="81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博物馆里保存着大量的有艺术价值的石刻作品，上面的各种花鸟虫兽、人物形象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美轮美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6"/>
          <p:cNvSpPr/>
          <p:nvPr/>
        </p:nvSpPr>
        <p:spPr>
          <a:xfrm>
            <a:off x="468360" y="404640"/>
            <a:ext cx="79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本刊将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洗心革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继续提高稿件的编辑质量，决心向文学刊物的最高水平努力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539640" y="1628640"/>
            <a:ext cx="80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洗心革面：比喻彻底悔改。使用对象是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7"/>
          <p:cNvSpPr/>
          <p:nvPr/>
        </p:nvSpPr>
        <p:spPr>
          <a:xfrm>
            <a:off x="539640" y="234936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翘首西望，海面托着的就是披着银发的苍山。苍山如屏，洱海如镜，真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巧夺天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2"/>
          <p:cNvSpPr/>
          <p:nvPr/>
        </p:nvSpPr>
        <p:spPr>
          <a:xfrm>
            <a:off x="611280" y="4005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巧夺天工：人工的精巧胜过天然。形容技艺十分巧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3"/>
          <p:cNvSpPr/>
          <p:nvPr/>
        </p:nvSpPr>
        <p:spPr>
          <a:xfrm>
            <a:off x="395280" y="26028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注意成语的适用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对象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﹑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范围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﹑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情境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不要张冠李戴，用错对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3"/>
          <p:cNvSpPr/>
          <p:nvPr/>
        </p:nvSpPr>
        <p:spPr>
          <a:xfrm>
            <a:off x="395280" y="1349280"/>
            <a:ext cx="82072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鳞次栉比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形容房屋等建筑物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凤毛麟角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指的是罕见珍贵的人才或事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一挥而就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指写字、画画、作文很快就完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栩栩如生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形容画作、雕塑中的艺术形象等生动逼真，就像活的一样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5.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豆蔻年华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指女子十三四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6.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天伦之乐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泛指家庭的乐趣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7.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不耻下问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乐于向学问或地位比自己低的人学习，而不觉得不好意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250920" y="189000"/>
            <a:ext cx="8569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8.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别具匠心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指在技巧和艺术方面具有与众不同的巧妙构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9.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出神入化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形容技艺达到了绝妙的境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10.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荡气回肠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形容文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乐曲十分婉转动人。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11.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可歌可泣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值得歌颂、赞美，使人感动流泪。形容英勇悲壮的感人事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12.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入木三分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形容书法极有笔力。现多比喻分析问题很深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13.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惟妙惟肖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形容描写或模仿得非常逼真。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14.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富丽堂皇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形容房屋宏伟豪华，也形容诗文词藻华丽。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15.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鹤发童颜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形容老年人气色好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1095480" y="554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816200" y="1994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0" y="189000"/>
            <a:ext cx="2592360" cy="934920"/>
          </a:xfrm>
          <a:prstGeom prst="rect">
            <a:avLst/>
          </a:prstGeom>
          <a:gradFill rotWithShape="0">
            <a:gsLst>
              <a:gs pos="0">
                <a:srgbClr val="cfb7e7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成语误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2824200" y="2138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WordArt 6" descr=""/>
          <p:cNvPicPr/>
          <p:nvPr/>
        </p:nvPicPr>
        <p:blipFill>
          <a:blip r:embed="rId1"/>
          <a:stretch/>
        </p:blipFill>
        <p:spPr>
          <a:xfrm>
            <a:off x="1676520" y="1974960"/>
            <a:ext cx="5717880" cy="15429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7"/>
          <p:cNvSpPr/>
          <p:nvPr/>
        </p:nvSpPr>
        <p:spPr>
          <a:xfrm>
            <a:off x="2463840" y="3075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3"/>
          <p:cNvSpPr/>
          <p:nvPr/>
        </p:nvSpPr>
        <p:spPr>
          <a:xfrm>
            <a:off x="611280" y="18900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虽然已经是晚上了，但候车大厅里依然人来人往，热闹非凡，大喇叭的广播声、商贩的叫卖声、孩子的哭泣声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绝如缕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611280" y="1989000"/>
            <a:ext cx="77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绝如缕：声音或气息微弱，时断时续；也形容局面危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611280" y="350028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会议期间，农科院等单位在会场外摆出了鲜花盆景销售摊。休息时，摊前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车水马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产品供不应求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684360" y="5157720"/>
            <a:ext cx="77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车水马龙：形容车辆很多，来往不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185240" cy="6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广州中考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1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24000" y="907920"/>
            <a:ext cx="84960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依次填入下列句子横线处的词语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最恰当的一项是 （           ） 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）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开学在即，各种校外培训机构又在广州大大小小的中小学校及幼儿园门前上演“招生秀”。这些培训机构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  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，而培训机构的教学质量与广大学子的切身利益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    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，所以规范校外培训机构的发展已经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了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鱼龙混杂  息息相关  刻不容缓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鱼目混珠  息息相关  众望所归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鱼龙混杂  休戚与共  众望所归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鱼目混珠  休戚与共  刻不容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1692360" y="119700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矩形 2"/>
          <p:cNvSpPr/>
          <p:nvPr/>
        </p:nvSpPr>
        <p:spPr>
          <a:xfrm>
            <a:off x="395280" y="333360"/>
            <a:ext cx="8353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他们疼爱自己的孩子，孩子也喜欢他们，一家三口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相濡以沫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美满幸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如果不修这些水利工程，遇到严重的水旱灾害，其后果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可思议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3"/>
          <p:cNvSpPr/>
          <p:nvPr/>
        </p:nvSpPr>
        <p:spPr>
          <a:xfrm>
            <a:off x="468360" y="1268280"/>
            <a:ext cx="79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相濡以沫：泉水干了，鱼吐沫互相润湿。比喻一同在困难的处境里，用微薄的力量互相帮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4"/>
          <p:cNvSpPr/>
          <p:nvPr/>
        </p:nvSpPr>
        <p:spPr>
          <a:xfrm>
            <a:off x="395280" y="393372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可思议：指无法想象，难以理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1095480" y="554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1816200" y="1994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0" y="404640"/>
            <a:ext cx="2627280" cy="1143000"/>
          </a:xfrm>
          <a:prstGeom prst="rect">
            <a:avLst/>
          </a:prstGeom>
          <a:gradFill rotWithShape="0">
            <a:gsLst>
              <a:gs pos="0">
                <a:srgbClr val="cfb7e7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成语误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2824200" y="2138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WordArt 6" descr=""/>
          <p:cNvPicPr/>
          <p:nvPr/>
        </p:nvPicPr>
        <p:blipFill>
          <a:blip r:embed="rId1"/>
          <a:stretch/>
        </p:blipFill>
        <p:spPr>
          <a:xfrm>
            <a:off x="1962000" y="1755720"/>
            <a:ext cx="5505480" cy="14749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7"/>
          <p:cNvSpPr/>
          <p:nvPr/>
        </p:nvSpPr>
        <p:spPr>
          <a:xfrm>
            <a:off x="2463840" y="3075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8"/>
          <p:cNvSpPr/>
          <p:nvPr/>
        </p:nvSpPr>
        <p:spPr>
          <a:xfrm>
            <a:off x="324000" y="260280"/>
            <a:ext cx="835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您刚刚乔迁新居，房间宽敞明亮，只是摆设略嫌单调，建议你挂幅油画，一定会使居室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蓬荜生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395280" y="184464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蓬荜生辉：谦辞，编蓬草、荆竹为门，形容穷苦人家使寒门增添光辉。谦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468360" y="3284640"/>
            <a:ext cx="83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如果你需要我帮忙，我定当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鼎力相助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4"/>
          <p:cNvSpPr/>
          <p:nvPr/>
        </p:nvSpPr>
        <p:spPr>
          <a:xfrm>
            <a:off x="395280" y="414972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鼎力相助：大力相助，表示请求或感谢时用。敬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矩形 1"/>
          <p:cNvSpPr/>
          <p:nvPr/>
        </p:nvSpPr>
        <p:spPr>
          <a:xfrm>
            <a:off x="468360" y="26028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下面，我们就欢迎王市长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抛砖引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重要指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2"/>
          <p:cNvSpPr/>
          <p:nvPr/>
        </p:nvSpPr>
        <p:spPr>
          <a:xfrm>
            <a:off x="468360" y="134136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抛砖引玉：谦辞，抛出砖去，引回玉来。比喻用自己粗浅的、不成熟的意见或文章，引出别人高明的、成熟的意见或作品。谦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3"/>
          <p:cNvSpPr/>
          <p:nvPr/>
        </p:nvSpPr>
        <p:spPr>
          <a:xfrm>
            <a:off x="468360" y="292104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他从小就喜欢画画，常在纸上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信笔涂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现在他画的鸟已是栩栩如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611280" y="4076640"/>
            <a:ext cx="79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信笔涂鸦：随便书写，字迹如同鸦群一样凌乱，比喻字写得很稚拙或胡乱写作。常用为自谦之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1095480" y="554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1816200" y="1994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468360" y="333360"/>
            <a:ext cx="2521080" cy="1143000"/>
          </a:xfrm>
          <a:prstGeom prst="rect">
            <a:avLst/>
          </a:prstGeom>
          <a:gradFill rotWithShape="0">
            <a:gsLst>
              <a:gs pos="0">
                <a:srgbClr val="cfb7e7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成语误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2824200" y="2138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WordArt 6" descr=""/>
          <p:cNvPicPr/>
          <p:nvPr/>
        </p:nvPicPr>
        <p:blipFill>
          <a:blip r:embed="rId1"/>
          <a:stretch/>
        </p:blipFill>
        <p:spPr>
          <a:xfrm>
            <a:off x="1962000" y="1755720"/>
            <a:ext cx="5359680" cy="154152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7"/>
          <p:cNvSpPr/>
          <p:nvPr/>
        </p:nvSpPr>
        <p:spPr>
          <a:xfrm>
            <a:off x="2463840" y="3075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2176560" y="5234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1095480" y="554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1816200" y="1994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2824200" y="2138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2463840" y="3075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539640" y="260280"/>
            <a:ext cx="80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看到他这种滑稽的表情，坐在他身旁的一名外国记者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忍俊不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扑哧一声笑起来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539640" y="148428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忍俊不禁：忍不住笑。与“扑哧一声笑起来”重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2176560" y="5234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3"/>
          <p:cNvSpPr/>
          <p:nvPr/>
        </p:nvSpPr>
        <p:spPr>
          <a:xfrm>
            <a:off x="539640" y="2565360"/>
            <a:ext cx="7561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他在敌人监狱中受尽折磨，浑身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打得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遍体鳞伤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9"/>
          <p:cNvSpPr/>
          <p:nvPr/>
        </p:nvSpPr>
        <p:spPr>
          <a:xfrm>
            <a:off x="250920" y="400536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遍体鳞伤：浑身受伤，伤痕象鱼鳞一样密。形容受伤很重，与“浑身”重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1095480" y="554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1816200" y="1994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2824200" y="2138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2463840" y="3075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2176560" y="5234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684360" y="476280"/>
            <a:ext cx="7920000" cy="47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一个让人看不懂的店名，能招徕顾客吗？不能，只能让人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贻笑大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 这里有良好的水土条件，又有一个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结向上的领导班子，因而人民的生活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安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乐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7"/>
          <p:cNvSpPr/>
          <p:nvPr/>
        </p:nvSpPr>
        <p:spPr>
          <a:xfrm>
            <a:off x="250920" y="1484280"/>
            <a:ext cx="82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贻笑大方：被内行的人笑话， “大方”是指某种专长的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8"/>
          <p:cNvSpPr/>
          <p:nvPr/>
        </p:nvSpPr>
        <p:spPr>
          <a:xfrm>
            <a:off x="611280" y="4437000"/>
            <a:ext cx="813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安居乐业：安心地住在那儿，喜爱自己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职业。只能说“人民安居乐业”，不能说“生活安居乐业”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1095480" y="554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816200" y="1994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179280" y="333360"/>
            <a:ext cx="2737080" cy="1143000"/>
          </a:xfrm>
          <a:prstGeom prst="rect">
            <a:avLst/>
          </a:prstGeom>
          <a:gradFill rotWithShape="0">
            <a:gsLst>
              <a:gs pos="0">
                <a:srgbClr val="cfb7e7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成语误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2824200" y="2138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WordArt 6" descr=""/>
          <p:cNvPicPr/>
          <p:nvPr/>
        </p:nvPicPr>
        <p:blipFill>
          <a:blip r:embed="rId1"/>
          <a:stretch/>
        </p:blipFill>
        <p:spPr>
          <a:xfrm>
            <a:off x="1749600" y="2048040"/>
            <a:ext cx="5717880" cy="154296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7"/>
          <p:cNvSpPr/>
          <p:nvPr/>
        </p:nvSpPr>
        <p:spPr>
          <a:xfrm>
            <a:off x="2463840" y="3075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1095480" y="554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816200" y="1994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2824200" y="2138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2463840" y="3075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7"/>
          <p:cNvSpPr/>
          <p:nvPr/>
        </p:nvSpPr>
        <p:spPr>
          <a:xfrm>
            <a:off x="684360" y="836640"/>
            <a:ext cx="73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你这样做，真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漠不关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他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8"/>
          <p:cNvSpPr/>
          <p:nvPr/>
        </p:nvSpPr>
        <p:spPr>
          <a:xfrm>
            <a:off x="755640" y="170028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漠不关心：对人对事感情冷淡，不放在心上，不能带宾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9"/>
          <p:cNvSpPr/>
          <p:nvPr/>
        </p:nvSpPr>
        <p:spPr>
          <a:xfrm>
            <a:off x="826920" y="2997360"/>
            <a:ext cx="73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他刻苦努力，所以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蹴而就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有了今天的成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10"/>
          <p:cNvSpPr/>
          <p:nvPr/>
        </p:nvSpPr>
        <p:spPr>
          <a:xfrm>
            <a:off x="755640" y="414972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蹴而就：一下子就完成，只能用于否定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1095480" y="554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816200" y="1994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2824200" y="2138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2463840" y="3075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468360" y="765000"/>
            <a:ext cx="832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 全校同学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目不暇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地聆听着科学家精彩的学术报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755640" y="4292640"/>
            <a:ext cx="66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和颜悦色：形容态度和蔼亲切。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7"/>
          <p:cNvSpPr/>
          <p:nvPr/>
        </p:nvSpPr>
        <p:spPr>
          <a:xfrm>
            <a:off x="755640" y="191628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目不暇接：形容东西太多，眼睛看不过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8"/>
          <p:cNvSpPr/>
          <p:nvPr/>
        </p:nvSpPr>
        <p:spPr>
          <a:xfrm>
            <a:off x="539640" y="306864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用笑容迎接他老人家那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和颜悦色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目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0" y="549360"/>
            <a:ext cx="896472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依次填入下列句子横线处的词语，最恰当的一项是（         ）  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）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       端午时节，珠三角各地都会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             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组织龙舟竞赛，广州市也会举办国际龙舟邀请赛。邀请赛当日，竞赛河段封航，起点处的龙舟成队依次排列，等候比赛。一声锣响，早已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            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龙舟如离弦之箭，向终点飞驰。河岸上锣鼓喧天，人们 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         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 ，好不热闹！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因地制宜  迫在眉睫  拍手称快            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因地制宜  迫不及待  欢声雷动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因人而异  迫在眉睫  欢声雷动           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因人而异  迫不及待  拍手称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标题 1"/>
          <p:cNvSpPr/>
          <p:nvPr/>
        </p:nvSpPr>
        <p:spPr>
          <a:xfrm>
            <a:off x="900000" y="0"/>
            <a:ext cx="718524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广州中考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4"/>
          <p:cNvSpPr/>
          <p:nvPr/>
        </p:nvSpPr>
        <p:spPr>
          <a:xfrm>
            <a:off x="900000" y="836640"/>
            <a:ext cx="7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3"/>
          <p:cNvSpPr/>
          <p:nvPr/>
        </p:nvSpPr>
        <p:spPr>
          <a:xfrm>
            <a:off x="1476360" y="2349360"/>
            <a:ext cx="655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1" lang="zh-CN" sz="8000" spc="-1" strike="noStrike">
                <a:solidFill>
                  <a:srgbClr val="333399"/>
                </a:solidFill>
                <a:latin typeface="Arial"/>
              </a:rPr>
              <a:t>、近义混用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468360" y="404640"/>
            <a:ext cx="2590920" cy="1143000"/>
          </a:xfrm>
          <a:prstGeom prst="rect">
            <a:avLst/>
          </a:prstGeom>
          <a:gradFill rotWithShape="0">
            <a:gsLst>
              <a:gs pos="0">
                <a:srgbClr val="cfb7e7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成语误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Arial"/>
              </a:rPr>
              <a:t>近义混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-360" y="1125360"/>
            <a:ext cx="8893080" cy="11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36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我收到一封国外来信，上面的邮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胫而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不知被哪个集邮迷撕去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3"/>
          <p:cNvSpPr/>
          <p:nvPr/>
        </p:nvSpPr>
        <p:spPr>
          <a:xfrm>
            <a:off x="395280" y="220500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胫而走：指没有腿而能行走。侧重指事情、消息等用不着刻意宣传，就迅速流传开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468360" y="342900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仿制古画还有一种，决不置自己的姓名，以假乱真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鱼龙混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骗来金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539640" y="472428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鱼龙混杂：好人坏人混在一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3"/>
          <p:cNvSpPr/>
          <p:nvPr/>
        </p:nvSpPr>
        <p:spPr>
          <a:xfrm>
            <a:off x="324000" y="189000"/>
            <a:ext cx="842472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开始，人家送礼他都不收。时间长了，他就认为是小事一桩，犯不着太认真，也就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以为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"/>
          <p:cNvSpPr/>
          <p:nvPr/>
        </p:nvSpPr>
        <p:spPr>
          <a:xfrm>
            <a:off x="468360" y="191628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不以为然：不认为是对的，表示不同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3"/>
          <p:cNvSpPr/>
          <p:nvPr/>
        </p:nvSpPr>
        <p:spPr>
          <a:xfrm>
            <a:off x="501480" y="2708280"/>
            <a:ext cx="864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这篇游记写得很生动，读了以后仿佛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设身处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4"/>
          <p:cNvSpPr/>
          <p:nvPr/>
        </p:nvSpPr>
        <p:spPr>
          <a:xfrm>
            <a:off x="539640" y="4149720"/>
            <a:ext cx="79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设身处地：设想自己处在别人的那种境地。指替别人的处境着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1095480" y="554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1816200" y="1994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179280" y="333360"/>
            <a:ext cx="2592360" cy="1150920"/>
          </a:xfrm>
          <a:prstGeom prst="rect">
            <a:avLst/>
          </a:prstGeom>
          <a:gradFill rotWithShape="0">
            <a:gsLst>
              <a:gs pos="0">
                <a:srgbClr val="cfb7e7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成语误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2824200" y="2138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2463840" y="3075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8"/>
          <p:cNvSpPr/>
          <p:nvPr/>
        </p:nvSpPr>
        <p:spPr>
          <a:xfrm>
            <a:off x="-468360" y="2708280"/>
            <a:ext cx="879012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en-US" sz="8800" spc="-1" strike="noStrike">
                <a:solidFill>
                  <a:srgbClr val="333399"/>
                </a:solidFill>
                <a:latin typeface="Arial"/>
              </a:rPr>
              <a:t>9</a:t>
            </a:r>
            <a:r>
              <a:rPr b="1" lang="zh-CN" sz="8800" spc="-1" strike="noStrike">
                <a:solidFill>
                  <a:srgbClr val="333399"/>
                </a:solidFill>
                <a:latin typeface="Arial"/>
              </a:rPr>
              <a:t>、自相矛盾 </a:t>
            </a:r>
            <a:br>
              <a:rPr sz="2400"/>
            </a:br>
            <a:br>
              <a:rPr sz="2400"/>
            </a:b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9"/>
          <p:cNvSpPr/>
          <p:nvPr/>
        </p:nvSpPr>
        <p:spPr>
          <a:xfrm flipV="1">
            <a:off x="250920" y="5555880"/>
            <a:ext cx="8424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5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1095480" y="554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1816200" y="1994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2824200" y="2138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7"/>
          <p:cNvSpPr/>
          <p:nvPr/>
        </p:nvSpPr>
        <p:spPr>
          <a:xfrm>
            <a:off x="2463840" y="3075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8"/>
          <p:cNvSpPr/>
          <p:nvPr/>
        </p:nvSpPr>
        <p:spPr>
          <a:xfrm>
            <a:off x="250920" y="476280"/>
            <a:ext cx="8497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我本来就对那里的情况不熟悉，你却硬要派我去，这不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差强人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他对工作一向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拈轻怕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勇挑重担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7"/>
          <p:cNvSpPr/>
          <p:nvPr/>
        </p:nvSpPr>
        <p:spPr>
          <a:xfrm>
            <a:off x="468360" y="170028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差强人意：勉强让人满意，前后矛盾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8"/>
          <p:cNvSpPr/>
          <p:nvPr/>
        </p:nvSpPr>
        <p:spPr>
          <a:xfrm>
            <a:off x="468360" y="414972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拈轻怕重：指接受任务时拣轻的担子挑，怕挑重担。前后矛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1095480" y="554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1816200" y="1994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2824200" y="2138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2463840" y="3075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684360" y="0"/>
            <a:ext cx="77752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了让分别多年的劳同学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期而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我们精心组织了这次同学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那是一张两人的合影，左边是一位英俊的解放军战士，右边是一位文弱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莘莘学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7"/>
          <p:cNvSpPr/>
          <p:nvPr/>
        </p:nvSpPr>
        <p:spPr>
          <a:xfrm>
            <a:off x="611280" y="155736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期而遇：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没有约定就遇见了，与“精心组织”矛盾。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8"/>
          <p:cNvSpPr/>
          <p:nvPr/>
        </p:nvSpPr>
        <p:spPr>
          <a:xfrm>
            <a:off x="755640" y="443700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莘莘学子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众多的学生，与定语“一位”矛盾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4"/>
          <p:cNvSpPr/>
          <p:nvPr/>
        </p:nvSpPr>
        <p:spPr>
          <a:xfrm>
            <a:off x="971640" y="692280"/>
            <a:ext cx="720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971640" y="692280"/>
            <a:ext cx="763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179280" y="260280"/>
            <a:ext cx="4392720" cy="916920"/>
          </a:xfrm>
          <a:prstGeom prst="rect">
            <a:avLst/>
          </a:prstGeom>
          <a:gradFill rotWithShape="0">
            <a:gsLst>
              <a:gs pos="0">
                <a:srgbClr val="cfb7e7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成语误用情况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1187280" y="1628640"/>
            <a:ext cx="6696360" cy="40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望文生义（误解词义 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褒贬误用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对象不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不合语境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用错谦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重复用语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搭配不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近义混用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自相矛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0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5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6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7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692000" y="2852280"/>
            <a:ext cx="554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Verdana"/>
              </a:rPr>
              <a:t>练习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179280" y="0"/>
            <a:ext cx="875052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下列句子中划横线的成语使用正确的一项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、篮球比赛输了，不要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Verdana"/>
              </a:rPr>
              <a:t>怨天尤人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，而要吸取教训，加紧训练，提高技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、这份试卷中的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小题他花了十分钟时间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才做完，真是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Verdana"/>
              </a:rPr>
              <a:t>小题大做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、经过大家的努力，我们终于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Verdana"/>
              </a:rPr>
              <a:t>登峰造极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，在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山顶欣赏到了美好的景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这个建筑工地管理混乱，建筑材料随意堆放，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错落有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被责令限期整改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539640" y="40464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Verdana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868680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下列句子中画横线的成语使用错误的一项是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今年五一黄金周期间，清秀旖旎的瘦西湖风光令国内外游人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流连忘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为了在科技比赛中体现创新精神，许多同学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处心积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设计了各种造型的航空模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为了纪念安徒生诞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周年，国家邮政局发行了一套令人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赏心悦目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安徒生童话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邮票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在纪念反法西斯战争胜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周年之际，有识之士提醒人们，要警惕日本军国主义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死灰复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3995640" y="198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755640" y="62064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0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95280" y="691920"/>
            <a:ext cx="8569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依次填入下列句子横线处的词语，最恰当的一项是（    ） 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）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岭南艺术展开设了雕塑展览专场，展出的大量雕塑作品非常精美，尤其是木雕，以其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             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的雕刻技艺吸引了众多参观者。这些作品有的简练粗放，有的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             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，其中最为突出的是“三英战吕布”组雕，人物 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                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，令人惊叹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巧夺天工  具体而微  引人入胜   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美不胜收  精雕细刻  引人入胜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巧夺天工  精雕细刻  惟妙惟肖   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美不胜收  具体而微  惟妙惟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标题 1"/>
          <p:cNvSpPr/>
          <p:nvPr/>
        </p:nvSpPr>
        <p:spPr>
          <a:xfrm>
            <a:off x="900000" y="0"/>
            <a:ext cx="718524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广州中考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1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1476360" y="105264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395280" y="549360"/>
            <a:ext cx="820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179280" y="189000"/>
            <a:ext cx="864252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下列句子中划横线的成语使用正确的一项是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、目前的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Verdana"/>
              </a:rPr>
              <a:t>当务之急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是制止滥砍滥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、事情一件件、一桩桩地紧跟而至，人手反而减少了，让留守的人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Verdana"/>
              </a:rPr>
              <a:t>眼花缭乱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由于厂家对产品的设计和生产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吹毛求疵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因而产品销路越来越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、谁知细雨蒙蒙，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Verdana"/>
              </a:rPr>
              <a:t>连绵不断</a:t>
            </a:r>
            <a:r>
              <a:rPr b="1" lang="zh-CN" sz="3200" spc="-1" strike="noStrike">
                <a:solidFill>
                  <a:srgbClr val="ff3300"/>
                </a:solidFill>
                <a:latin typeface="Verdana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刮来秋风瑟瑟，让人遍体生凉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611280" y="620640"/>
            <a:ext cx="71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Verdana"/>
              </a:rPr>
              <a:t>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5343480" y="5713560"/>
            <a:ext cx="2613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179280" y="182520"/>
            <a:ext cx="856944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下列句子中划横线的成语使用正确的一项是（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、王帆竞选班长成功，就职演说那天，他精心准备后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Verdana"/>
              </a:rPr>
              <a:t>粉墨登场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、某厅长前不久因违纪受到处分，最近又因腐败丑行而被停职，真是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Verdana"/>
              </a:rPr>
              <a:t>雪上加霜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、他们疼爱孩子，孩子也孝敬他们，一家人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Verdana"/>
              </a:rPr>
              <a:t>相敬如宾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，生活美满幸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、这也许是一种取巧的写法，但也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Verdana"/>
              </a:rPr>
              <a:t>无可非议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，因为谁也不能规定作者应该怎样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755640" y="620640"/>
            <a:ext cx="533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Verdana"/>
              </a:rPr>
              <a:t>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8930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下列句子中画横线的成语使用正确的一项是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这篇作文没有中心，东拉西扯，内容空洞，语言贫乏，令人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叹为观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从高处眺望，辽阔的绿色大草原上，几座白色的毡房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星罗棋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煞是好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这两本成语词典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各得其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一本重视溯源，一本例句丰富，特色都很鲜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西子湖畔桃红柳绿，春色迷人，外地游客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纷至沓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领略秀美的湖光山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975240" y="69228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0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1692360" y="2276640"/>
            <a:ext cx="5914800" cy="13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正确使用成语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971640" y="692280"/>
            <a:ext cx="720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971640" y="692280"/>
            <a:ext cx="763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179280" y="260280"/>
            <a:ext cx="4392720" cy="916920"/>
          </a:xfrm>
          <a:prstGeom prst="rect">
            <a:avLst/>
          </a:prstGeom>
          <a:gradFill rotWithShape="0">
            <a:gsLst>
              <a:gs pos="0">
                <a:srgbClr val="cfb7e7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成语误用情况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1187280" y="1628640"/>
            <a:ext cx="6696360" cy="40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望文生义（误解词义 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褒贬误用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对象不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不合语境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用错谦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重复用语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搭配不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近义混用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自相矛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2987640" cy="1143000"/>
          </a:xfrm>
          <a:prstGeom prst="rect">
            <a:avLst/>
          </a:prstGeom>
          <a:gradFill rotWithShape="0">
            <a:gsLst>
              <a:gs pos="0">
                <a:srgbClr val="cfb7e7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成语误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WordArt 8" descr=""/>
          <p:cNvPicPr/>
          <p:nvPr/>
        </p:nvPicPr>
        <p:blipFill>
          <a:blip r:embed="rId1"/>
          <a:stretch/>
        </p:blipFill>
        <p:spPr>
          <a:xfrm>
            <a:off x="1530360" y="2048040"/>
            <a:ext cx="5791320" cy="13237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7"/>
          <p:cNvSpPr/>
          <p:nvPr/>
        </p:nvSpPr>
        <p:spPr>
          <a:xfrm>
            <a:off x="468360" y="189000"/>
            <a:ext cx="7848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这部精彩的电视剧播出时，几乎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万人空巷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人们在家里守着荧屏，街上显得静悄悄的。</a:t>
            </a:r>
            <a:br>
              <a:rPr sz="3200"/>
            </a:br>
            <a:br>
              <a:rPr sz="1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611280" y="184464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万人空巷：家家户户的人都从巷子里出来了，多用来形容庆祝、欢迎等盛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539640" y="2924280"/>
            <a:ext cx="79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今年初，上海鲜牛奶市场燃起竞相降价的烽火，销售价格甚至低于成本，这对消费者来说倒正好可以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火中取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684360" y="458136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火中取栗：比喻冒危险给别人出力，自己上了大当，一无所得。带有贬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10"/>
          <p:cNvSpPr/>
          <p:nvPr/>
        </p:nvSpPr>
        <p:spPr>
          <a:xfrm>
            <a:off x="684360" y="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疫情过后，恢复生产和正常社会秩序是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首当其冲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大事，是一切工作的重中之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5"/>
          <p:cNvSpPr/>
          <p:nvPr/>
        </p:nvSpPr>
        <p:spPr>
          <a:xfrm>
            <a:off x="826920" y="1557360"/>
            <a:ext cx="727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首当其冲：指首先受到冲击或遭遇灾难，最容易被误解为“首先、首要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6"/>
          <p:cNvSpPr/>
          <p:nvPr/>
        </p:nvSpPr>
        <p:spPr>
          <a:xfrm>
            <a:off x="826920" y="3789360"/>
            <a:ext cx="749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三人成虎：原指集市里本无虎，但只要有三个人谎传集市里有虎，听者就会以为真有虎了。后比喻流言惑众，蛊惑人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7"/>
          <p:cNvSpPr/>
          <p:nvPr/>
        </p:nvSpPr>
        <p:spPr>
          <a:xfrm>
            <a:off x="755640" y="263700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你应该和朋友合作搞这个课题，要知道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三人成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众志成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1095480" y="554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1816200" y="1994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0" y="189000"/>
            <a:ext cx="3168720" cy="1143000"/>
          </a:xfrm>
          <a:prstGeom prst="rect">
            <a:avLst/>
          </a:prstGeom>
          <a:gradFill rotWithShape="0">
            <a:gsLst>
              <a:gs pos="0">
                <a:srgbClr val="cfb7e7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成语误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2824200" y="2138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WordArt 11" descr=""/>
          <p:cNvPicPr/>
          <p:nvPr/>
        </p:nvPicPr>
        <p:blipFill>
          <a:blip r:embed="rId1"/>
          <a:stretch/>
        </p:blipFill>
        <p:spPr>
          <a:xfrm>
            <a:off x="1822320" y="2048040"/>
            <a:ext cx="5359680" cy="13968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2"/>
          <p:cNvSpPr/>
          <p:nvPr/>
        </p:nvSpPr>
        <p:spPr>
          <a:xfrm>
            <a:off x="2463840" y="3075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6T12:21:12Z</dcterms:created>
  <dc:creator>JSUser</dc:creator>
  <dc:description/>
  <dc:language>en-US</dc:language>
  <cp:lastModifiedBy>DENG</cp:lastModifiedBy>
  <dcterms:modified xsi:type="dcterms:W3CDTF">2020-05-03T09:40:37Z</dcterms:modified>
  <cp:revision>165</cp:revision>
  <dc:subject/>
  <dc:title>幻灯片 1</dc:title>
</cp:coreProperties>
</file>