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12.png" ContentType="image/png"/>
  <Override PartName="/ppt/media/image4.png" ContentType="image/png"/>
  <Override PartName="/ppt/media/image5.gif" ContentType="image/gif"/>
  <Override PartName="/ppt/media/image10.gif" ContentType="image/gif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3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4860-D5BF-4188-AAD8-6D611569A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CE37-25B0-4236-B733-4CDBCA1C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917D-4FD5-4B92-A705-8372B590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D58-E9AF-4E87-AE63-C5F62447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2C2-19E8-49EC-B066-E61A6627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1C3-C249-430C-A3A5-A6D2BA58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50B-8ABC-4D3A-9AE1-C45B3C19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FDB-4415-47E1-9240-5293BA5B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75E-0BB0-4E50-8683-9F659FFF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04F-D49D-47AC-ADA0-006C13A2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174-B4BB-40A2-B1E0-1456662E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0E4-F73B-41FB-AA68-25D875FA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6295-BA24-438D-8296-F39551F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B37-A583-48F2-B03C-75298EFE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90AE-3E1B-4334-B4D2-381188E8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22856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</a:rPr>
              <a:t>巧妇妙为有米之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6280" y="3633840"/>
            <a:ext cx="770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议论文中如何选用论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785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四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常言道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勤能补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事实正是如此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居里夫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法国读书时，每天早晨，总是第一个来到教室；每天晚上，几乎都在图书馆度过。图书馆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就关门了，她便回到自己的小屋子里，在煤油灯下读书，常常到半夜两点钟。正是她的勤奋，才为她后来的成功奠定了坚实的基础。我国第一个电子学女博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韦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西德进修期间，没有空暇到繁华的街头漫步，没有精力去剧场、影院欣赏艺术，她一心扑在专业学习上，就连生病也拒绝休息。正是刻苦，才使她为祖国赢得了荣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808200" y="5681520"/>
            <a:ext cx="78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这段文字中选用的这些人物本身就不“拙”，不能说她们的“勤”补了她们的“拙”，所以此段文字选用论据不准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33520" y="1143000"/>
            <a:ext cx="678168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有同学以“我们可以不欢迎挫折，但不应该回避挫折，畏惧挫折”为话题，以“挫折铸造成功”为中心，选了下面的论据，大家思考合适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挫折铸造成功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。我们学校一个女孩在学校踢足球，因表现很不理想而遭到老师的训斥。大家都说她并不适合这项运动，但她并没被挫折吓倒，更加发奋努力，终于考进了专业球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228600" y="22860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举例讨论（二）：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1114560" y="305280"/>
            <a:ext cx="581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明确：不合适。首先“我们学校的一个女孩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这种说法似乎不典型，还有体育似乎需要天资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而女孩在被认为是“不适合这项运动” 时，仍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了足球队，只能说明要么老师说的不对，要么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开始只是没有发挥好。她实际是适合这项运动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因此，用它做论据不典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304920" y="373392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结二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论据选择必须典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39640" y="476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黑体"/>
              </a:rPr>
              <a:t>典型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就是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代表性和普遍意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只有这样的论据才能以一当十，有说服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11280" y="2276640"/>
            <a:ext cx="77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  <a:ea typeface="黑体"/>
              </a:rPr>
              <a:t>选例角度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同的领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政治、经济、军事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思想、文化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同性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正面、反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同国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中国、外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同的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古代、近代、现当代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：如来佛祖抛除私欲，性格沉稳，终修成正果，普渡众生；诸葛孔明淡泊明志，宁静致远，终运筹帷幄，功成名就。有了私欲，心中自然无法沉稳下来，遇事则慌，处事则乱。霸王以一已私欲，赶走亚父，气走韩信，终被困垓下，遗憾千古，长使英雄泪满襟。霸王之败，后人哀之。后人哀之而不鉴之，则必使后人而复哀后人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稳中求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篇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高考作文巧以如来、孔明与项羽对比，孰是孰非，一目了然。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反事例组合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例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2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其实，只要我们稍加考察，就不难发现，古今中外像贝利和谢晋这样的成大事者，可谓不胜枚举，比比皆是。曹雪芹批阅十载增删五次，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字字看来皆是血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乃成世界不朽的文学巨著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红楼梦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；齐白石从成名及至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0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以后，五易画风，遂为一代国画宗师；比尔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·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盖茨的微软公司继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95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推出世界软件史上最为引人瞩目的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视窗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5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后，从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视窗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8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到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视窗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P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乃至即将上市的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视窗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ISTA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年年都有升级产品问世；爱迪生自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6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发明电话自动拨号机开始，平均每</a:t>
            </a:r>
            <a:r>
              <a:rPr b="1" lang="en-US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天就有一顼新发明；吴文俊继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拓扑学大地震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后再创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数学机械化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；张健挑战极限；刘翔超越梦想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仿宋_GB2312"/>
              </a:rPr>
              <a:t>……</a:t>
            </a:r>
            <a:r>
              <a:rPr b="1" lang="zh-CN" sz="27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有这些成功的秘诀，就在于不断地挑战自己，超越自己</a:t>
            </a:r>
            <a:r>
              <a:rPr b="1" lang="zh-CN" sz="2800" spc="-1" strike="noStrike">
                <a:solidFill>
                  <a:srgbClr val="d60093"/>
                </a:solidFill>
                <a:latin typeface="仿宋_GB2312"/>
                <a:ea typeface="仿宋_GB2312"/>
              </a:rPr>
              <a:t>。（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不同时空事例组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189000"/>
            <a:ext cx="8964720" cy="66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例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2.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、论点：跟着理智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论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古今中外，多少英雄豪杰、风流人物丧失理智，拜倒在感觉之中，铸成千古遗恨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秦王赢政，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开创了大秦帝国，何其壮哉！然而，令人痛心的是他利令智昏，认为基业已固，希望恩蒙万世，自号“始皇”，对人民实行野蛮残酷的政治压迫和经济剥削，丧心病狂地“焚书”、“坑儒”、“以愚黔首”，及至秦朝传到二世就灭亡了，多么可叹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被誉为世界物理界“伟人”，发现万有引力定律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杰出科学家牛顿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，晚年为“感觉”所左右，一味信奉神学，走了与科学背道而驰的道路，令人扼腕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代著名作家周而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声名显赫，身为共产党员，却为“感觉”左右，竟然丧失理智，不顾民族尊严凭吊靖国神社。跪倒在犯下滔天大罪的日本战犯的脚下，给国家和人民造成奇耻大辱，他本人也因此声名狼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36000" cy="54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这段文字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古今中外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的角度，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政治家、科学家、作家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的角度，从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反面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的角度来选取典型事例，说明了“</a:t>
            </a:r>
            <a:r>
              <a:rPr b="1" lang="zh-CN" sz="4400" spc="-1" strike="noStrike">
                <a:solidFill>
                  <a:srgbClr val="99cc00"/>
                </a:solidFill>
                <a:latin typeface="Arial"/>
                <a:ea typeface="黑体"/>
              </a:rPr>
              <a:t>跟着感觉走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”的危害性，从而论证了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要跟着理智走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的观点，具有很强的说服力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>
            <a:off x="0" y="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举例讨论（三）：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671760" y="610200"/>
            <a:ext cx="624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勤奋学习的是爱因斯坦，淡泊名利的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居里夫人，助人为乐的是雷锋，不畏死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是刘胡兰，身残志坚的是张海迪，鞠躬尽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的是周恩来，就这么几个死定的例子，光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地造就了上海乃至全国这么多考试和比赛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的作文高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———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韩寒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三重门</a:t>
            </a:r>
            <a:r>
              <a:rPr b="1" lang="en-US" sz="2800" spc="-1" strike="noStrike">
                <a:solidFill>
                  <a:srgbClr val="009999"/>
                </a:solidFill>
                <a:latin typeface="黑体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0" y="4876920"/>
            <a:ext cx="7620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结三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论据选择必须新颖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33520" y="3733920"/>
            <a:ext cx="6933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陈谷子烂芝麻”只会让人倒胃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不千人一面、千腔一调，不新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95280" y="1484280"/>
            <a:ext cx="84582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选择新鲜的别人尚未用过的论据是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仿宋_GB2312"/>
              </a:rPr>
              <a:t>金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别人已用的论据你能变换角度用是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仿宋_GB2312"/>
              </a:rPr>
              <a:t>银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99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别人经常用的而你又照搬照用的是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仿宋_GB2312"/>
              </a:rPr>
              <a:t>石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28600" y="8380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7800"/>
                </a:solidFill>
                <a:latin typeface="Times New Roman"/>
              </a:rPr>
              <a:t>新颖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2268360" y="1197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348000" y="9810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新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64000" y="98100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幼圆"/>
              </a:rPr>
              <a:t>引人注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兰花"/>
          <p:cNvPicPr/>
          <p:nvPr/>
        </p:nvPicPr>
        <p:blipFill>
          <a:blip r:embed="rId1"/>
          <a:stretch/>
        </p:blipFill>
        <p:spPr>
          <a:xfrm>
            <a:off x="6897600" y="4572000"/>
            <a:ext cx="224640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兰花"/>
          <p:cNvPicPr/>
          <p:nvPr/>
        </p:nvPicPr>
        <p:blipFill>
          <a:blip r:embed="rId2"/>
          <a:stretch/>
        </p:blipFill>
        <p:spPr>
          <a:xfrm>
            <a:off x="4716360" y="4572000"/>
            <a:ext cx="2246400" cy="228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兰花"/>
          <p:cNvPicPr/>
          <p:nvPr/>
        </p:nvPicPr>
        <p:blipFill>
          <a:blip r:embed="rId3"/>
          <a:stretch/>
        </p:blipFill>
        <p:spPr>
          <a:xfrm>
            <a:off x="2268360" y="4572000"/>
            <a:ext cx="224640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兰花"/>
          <p:cNvPicPr/>
          <p:nvPr/>
        </p:nvPicPr>
        <p:blipFill>
          <a:blip r:embed="rId4"/>
          <a:stretch/>
        </p:blipFill>
        <p:spPr>
          <a:xfrm>
            <a:off x="0" y="4572000"/>
            <a:ext cx="2246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2484360" y="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议论文写作指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论据的选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816200" y="429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755640" y="3357720"/>
            <a:ext cx="626436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选用论据有技巧</a:t>
            </a:r>
            <a:endParaRPr b="1" lang="en-US" sz="4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是</a:t>
            </a: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所引用的材料是新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如新事例、新人物，新思想、新理论、新观念等；如果选用的事实论据都是陈谷子、烂芝麻，都是老生常谈，游离于日新月异的生活，落伍于前进的时代，缺乏新鲜感和说服力，这样难免使人生厌。不能一谈到身残志坚，就写到张海迪，一谈到革命纪律性，就写邱少云，这些英雄人物固然不错，但用得太多太俗，就会影响文意的表达，所以使用事实论据要有时代特色，要有新鲜感，要在“新”字上下功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800"/>
                </a:solidFill>
                <a:latin typeface="Arial"/>
              </a:rPr>
              <a:t>（新生事物为我用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是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旧材料的新作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有时，我们找不到新的材料，当然也可以运用一些旧的材料，但是在运用的过程中要力求用旧材料写出新意，让人感到材料虽然是熟悉的，但你这样运用这样处理仍让人感到不同凡响。例如爱国诗人陆游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诗中写道：“王师北定中原日，家祭无忘告乃翁。”人们一直用这个事例，是因为它突出地反映了一种爱国思想，但是否能从教育子女的角度推陈出新呢？有的同学把领袖人物、著名人物、先进人物、名言警句当作“万能胶”，而且多年不变，没有从中挖掘出更有说服力的东西；也不注重平时的阅读积累，不善于从生活中选择新鲜的论据，说到这个论点，或者说到那个论点，都是常用的几个论据，让人味同嚼蜡。曾在报刊上看到这样的一句话：在议论文写作中，选择新鲜的别人尚未用过的论据是金子，别人已用的论据你能变换角度去用是银子，别人经常用的而你又照搬照用的是石子。我觉得说得很有道理。在论据的运用中，我们要力求用的都是金子是银子，而不是石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007800"/>
                </a:solidFill>
                <a:latin typeface="Arial"/>
              </a:rPr>
              <a:t>旧酒也要新瓶装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8" descr="课件29"/>
          <p:cNvPicPr/>
          <p:nvPr/>
        </p:nvPicPr>
        <p:blipFill>
          <a:blip r:embed="rId1"/>
          <a:stretch/>
        </p:blipFill>
        <p:spPr>
          <a:xfrm>
            <a:off x="0" y="4068720"/>
            <a:ext cx="3851280" cy="2789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457200" y="54936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从高考阅卷看，论据的新颖性、说服力的强弱，已成为作文得分高低的一个重要因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268360" y="3789360"/>
            <a:ext cx="29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新鲜论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08720" y="43657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508720" y="328464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隶书"/>
                <a:ea typeface="隶书"/>
              </a:rPr>
              <a:t>生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5219640" y="357336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001883"/>
          <p:cNvPicPr/>
          <p:nvPr/>
        </p:nvPicPr>
        <p:blipFill>
          <a:blip r:embed="rId2"/>
          <a:stretch/>
        </p:blipFill>
        <p:spPr>
          <a:xfrm>
            <a:off x="7020000" y="4653000"/>
            <a:ext cx="571320" cy="4572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0"/>
          <p:cNvSpPr/>
          <p:nvPr/>
        </p:nvSpPr>
        <p:spPr>
          <a:xfrm>
            <a:off x="7145280" y="3500280"/>
            <a:ext cx="15210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是真正的英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争时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董存瑞、黄继光、邱少云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类 ：（歌星、影星、体育明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周杰伦、蔡依林、姚明、刘翔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类：（和平时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杨利伟、任长霞、杨业功、吴天祥、洪战辉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析：第一类人是英雄，但他们是那个时代的英雄，不熟，写的可能不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准确的说，第二类人不能算是英雄，对他们比较崇拜，写的较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类人是和平时代的英雄，应举他们的事迹为论据，有较强的时代气息。可将吴天祥为民解忧的事迹，与当前建立和谐社会的精神联系起来，增强时代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27280" y="1268280"/>
            <a:ext cx="6121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点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人没有一股韧劲，是什么事也干不成的。”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23640" y="2205000"/>
            <a:ext cx="8569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例论据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张海迪在身体瘫痪三分之二的情况下，啃外语，钻医学，学文化，成为大家学习的楷模。她成功的秘诀是什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韧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居里夫人经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月不分昼夜的辛勤工作，才从成吨的矿渣中提炼出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0.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克镭。其坚忍不拔的毅力，令世人叹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411280" y="57340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黑体"/>
              </a:rPr>
              <a:t>陈旧、令人读之乏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539640" y="333360"/>
            <a:ext cx="1800360" cy="907920"/>
          </a:xfrm>
          <a:prstGeom prst="horizontalScroll">
            <a:avLst>
              <a:gd name="adj" fmla="val 12500"/>
            </a:avLst>
          </a:prstGeom>
          <a:solidFill>
            <a:srgbClr val="ff99cc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2007111513224662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395280" y="2859840"/>
            <a:ext cx="84247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乒坛名将王皓雅典奥运会惜败柳承敏。指责、非议一时四起，之后多次大赛屈居第二，与冠军无缘，被戏称‘乒坛老二’，但他始终没有放弃，坚持苦练技术，磨练意志，终于在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年多哈亚运会和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月的乒乓球世锦赛上两次以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的绝对优势完胜宿敌柳承敏，报雅典一箭之仇。是‘韧’的精神圆了他的王者之梦。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403280" y="54936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论点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人没有一股韧劲，是什么事也干不成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0" y="304920"/>
            <a:ext cx="3429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举例讨论（四）：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0666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文革时，讨论刘少奇终身开除党籍问题，让大家举起手来，方志敏硬是没举手。会后江青一伙人恶狠狠地问他；你为什么不举手？他回答：做人要有准则的，对不起良心的事我决不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324000" y="321300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战国时期的曹操，在赵文姬的帮助下一步一步走上历史政治舞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终于和赵文卓结为夫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395280" y="515772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宋江拜把子兄弟张飞把他从狱中救了出来，然后一起亡命天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95280" y="184464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年轻的警察与歹徒搏斗，身中十几颗铅弹，其中三十九颗射中他的头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611280" y="1052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高考作文中曾出现了这样的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我们的</a:t>
            </a:r>
            <a:r>
              <a:rPr b="1" lang="zh-CN" sz="4400" spc="-1" strike="noStrike">
                <a:solidFill>
                  <a:srgbClr val="99cc00"/>
                </a:solidFill>
                <a:latin typeface="黑体"/>
                <a:ea typeface="黑体"/>
              </a:rPr>
              <a:t>问题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br>
              <a:rPr sz="4000"/>
            </a:br>
            <a:br>
              <a:rPr sz="4000"/>
            </a:b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因为记忆不清知识混淆，张冠李戴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、因为没有素材而编造论据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914400" y="1875600"/>
            <a:ext cx="768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有一点值得提出的就是事实论据要确凿，也就是说用作论据的事实必须是准确无误的，不能胡编乱造；如果是虚假的，或个别事实不真实，都会导致论点经不住推敲的结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3"/>
          <p:cNvSpPr txBox="1"/>
          <p:nvPr/>
        </p:nvSpPr>
        <p:spPr>
          <a:xfrm>
            <a:off x="990720" y="4343400"/>
            <a:ext cx="72532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结四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论据选择必须真实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24000" y="0"/>
            <a:ext cx="842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经典中圆简"/>
                <a:ea typeface="经典中圆简"/>
              </a:rPr>
              <a:t>论据：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论据是作者用来证明自己论点的理由和依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事实论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包括具体事实，即现实生活中的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典型事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中外史实，还有科学数据。                               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</a:rPr>
              <a:t>用事实来说话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166760" y="3794040"/>
            <a:ext cx="542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00000" y="306864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519120" y="5234040"/>
            <a:ext cx="79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808200" y="5738760"/>
            <a:ext cx="75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376200" y="4005360"/>
            <a:ext cx="801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道理论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指的是用来作为论据的理论，它们来源于实践，且被实践证明是正确的。包括名言警句、科学道理以及成语俗语。                    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bbe0e3"/>
                </a:solidFill>
                <a:latin typeface="Arial"/>
              </a:rPr>
              <a:t>靠经典性取胜</a:t>
            </a:r>
            <a:r>
              <a:rPr b="1" lang="en-US" sz="3600" spc="-1" strike="noStrike">
                <a:solidFill>
                  <a:srgbClr val="bbe0e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BJ_039"/>
          <p:cNvPicPr/>
          <p:nvPr/>
        </p:nvPicPr>
        <p:blipFill>
          <a:blip r:embed="rId1"/>
          <a:stretch/>
        </p:blipFill>
        <p:spPr>
          <a:xfrm>
            <a:off x="6121440" y="3500280"/>
            <a:ext cx="302256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395280" y="2421000"/>
            <a:ext cx="74311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论据是保证论点坚实的基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250920" y="4076640"/>
            <a:ext cx="6629400" cy="1770120"/>
            <a:chOff x="250920" y="4076640"/>
            <a:chExt cx="6629400" cy="1770120"/>
          </a:xfrm>
        </p:grpSpPr>
        <p:sp>
          <p:nvSpPr>
            <p:cNvPr id="131" name="Text Box 4"/>
            <p:cNvSpPr/>
            <p:nvPr/>
          </p:nvSpPr>
          <p:spPr>
            <a:xfrm>
              <a:off x="250920" y="4076640"/>
              <a:ext cx="6096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800"/>
                  </a:solidFill>
                  <a:latin typeface="Times New Roman"/>
                </a:rPr>
                <a:t>注意：</a:t>
              </a: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人物    事件    地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1851120" y="5143320"/>
              <a:ext cx="5029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imes New Roman"/>
                </a:rPr>
                <a:t>时间    数字    引文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6"/>
          <p:cNvSpPr/>
          <p:nvPr/>
        </p:nvSpPr>
        <p:spPr>
          <a:xfrm>
            <a:off x="1730880" y="404640"/>
            <a:ext cx="446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所谓真实可靠的论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是生编乱造或捕风捉影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，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符合客观事物的本来面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围绕中心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B.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典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C.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新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Arial"/>
              </a:rPr>
              <a:t>D. </a:t>
            </a:r>
            <a:r>
              <a:rPr b="0" lang="zh-CN" sz="3200" spc="-1" strike="noStrike">
                <a:solidFill>
                  <a:srgbClr val="d60093"/>
                </a:solidFill>
                <a:latin typeface="Arial"/>
              </a:rPr>
              <a:t>真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议论文论据的选择注意：                     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136" name="Picture 3" descr="BJ_039"/>
          <p:cNvPicPr/>
          <p:nvPr/>
        </p:nvPicPr>
        <p:blipFill>
          <a:blip r:embed="rId3"/>
          <a:stretch/>
        </p:blipFill>
        <p:spPr>
          <a:xfrm>
            <a:off x="2971800" y="3352680"/>
            <a:ext cx="4800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2491920"/>
            <a:ext cx="822960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我的生活范围内寻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如课本中学到的，平时阅读到的等等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从历史人物那里寻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从当代的新闻人物中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3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论据的来源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5"/>
          <p:cNvSpPr txBox="1"/>
          <p:nvPr/>
        </p:nvSpPr>
        <p:spPr>
          <a:xfrm>
            <a:off x="1835280" y="1341360"/>
            <a:ext cx="5400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练习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60400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从下列材料中选出适合论点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通向理想的道路是充满艰辛的”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的论据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钱学森为航天事业，奉献终身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曹雪芹家道衰落，举家食粥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仍然坚持写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红楼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司马迁忍受宫刑，艰苦创作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史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　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6443640" y="549360"/>
            <a:ext cx="16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B</a:t>
            </a: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、</a:t>
            </a:r>
            <a:r>
              <a:rPr b="1" lang="en-US" sz="4800" spc="-1" strike="noStrike">
                <a:solidFill>
                  <a:srgbClr val="6600cc"/>
                </a:solidFill>
                <a:latin typeface="Arial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539640" y="333360"/>
            <a:ext cx="2232000" cy="1224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19080">
            <a:solidFill>
              <a:srgbClr val="99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练习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2124000" y="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0" y="0"/>
            <a:ext cx="830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练习二、假如以“只有懂理又懂文，成为全面发展之才，才能在事业上获得丰硕的成果”为论点，请在下面的论据中选出一个最好的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0" y="2133720"/>
            <a:ext cx="8820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巨匠华罗庚，从小喜欢文学。他写过几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首词，还写过散文和许多通俗、生动的科普读物。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还是个初中毕业生，就写出了有独到见解又颇有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采的数学论文，引起了当时清华大学数学系主任熊庆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授的注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李时珍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时，已读了几千种书，其中医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书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种，单摘下的笔记就装满了好几个柜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天文学家张衡在我国文学史上也有极高的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京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汉赋名篇，另外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篇赋作传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435640" y="836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练习三、分析下面论据的问题出在哪里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d6009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60093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d60093"/>
                </a:solidFill>
                <a:latin typeface="黑体"/>
                <a:ea typeface="黑体"/>
              </a:rPr>
              <a:t>、有的同学论述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d60093"/>
                </a:solidFill>
                <a:latin typeface="黑体"/>
                <a:ea typeface="黑体"/>
              </a:rPr>
              <a:t>机遇促使成才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d60093"/>
                </a:solidFill>
                <a:latin typeface="黑体"/>
                <a:ea typeface="黑体"/>
              </a:rPr>
              <a:t>的观点时说：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d60093"/>
                </a:solidFill>
                <a:latin typeface="黑体"/>
                <a:ea typeface="黑体"/>
              </a:rPr>
              <a:t>成才要靠机遇，没有机遇不能成才。陈景润若没有被华罗庚发现的机遇，他能成为数学家吗？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39640" y="522936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夸大了机遇的作用，忽略了陈景润本身成为数学家的条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练习三、分析下面论据的问题出在哪里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谈爱国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》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天下兴亡，匹夫有责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这是爱国诗人屈原的誓言，屈原以他的爱国行动实践了他的誓言，临死时还高喊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还我河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的口号。古人的爱国精神值得我们学习，今人的爱国精神更令人敬仰，如伟人毛泽东少年读书时就说过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为中华之崛起而读书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24000" y="508464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明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顾炎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话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岳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名言说成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屈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，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周恩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话说成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毛泽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的，这样就使论据失去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真实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成了虚假论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763640" y="1197000"/>
            <a:ext cx="547236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作业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鹅毛笔"/>
          <p:cNvPicPr/>
          <p:nvPr/>
        </p:nvPicPr>
        <p:blipFill>
          <a:blip r:embed="rId1"/>
          <a:stretch/>
        </p:blipFill>
        <p:spPr>
          <a:xfrm>
            <a:off x="6227640" y="5084640"/>
            <a:ext cx="2916360" cy="1773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"/>
          <p:cNvSpPr/>
          <p:nvPr/>
        </p:nvSpPr>
        <p:spPr>
          <a:xfrm>
            <a:off x="250920" y="119700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按下面的要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功需要有毅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寻找论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历史人物那里寻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请你说出不少于三个你耳熟能详的历史人物的事例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现、当代人物中寻找，请你说出不少于三个具有影响力的新闻人物的事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132000" y="189000"/>
            <a:ext cx="251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Arial"/>
              </a:rPr>
              <a:t>事实论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包括各方面的事例、史实、统计数据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论据的来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时写作文你是这样寻找论据的？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自己的积累中寻找，应该积累哪些方面的论据材料呢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 在我的生活范围内寻找（如课本中学到的，平时阅读到的等等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历史人物那里寻找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从当代的新闻人物中寻找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68360" y="765000"/>
            <a:ext cx="83818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以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一屋不扫何以扫天下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为中心论点，列出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提纲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（并列式、综合式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要求：合理运用事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提出论点：引用名言，提出论点“一屋不扫，不可扫天下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论证论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陈蕃事例，分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理论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事例：李承乾、周恩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入论证：事例：韩信、勾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联系生活：在生活中，我们也要做到扫一屋，把小事情做好，我们才可能做大事，才可扫天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总结：不注重小细节，哪会有大成就呢？ 所以，一屋不扫，不可扫天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根据寓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猴子磨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一篇议论文，要求：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立意自选，题目自拟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字左右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寓言故事：猴子磨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只猴子捡到一把刀，但这把刀很钝，连一棵小树也砍不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跑去请教砍柴的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告诉我，你的刀为啥那样锋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把它在石头上磨过的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磨过就行了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磨过就行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猴子高兴地跑回去，拿了刀就在石头上使劲地磨，磨着，磨着，一直把刀口磨得和刀背一样厚了。等它再拿去砍树时，不用说，就更加砍不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已经学习了别人的经验，还是毫无办法，如果不是经验本身不可靠，那一定就是这把刀子有问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猴子下了结论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WordArt 4"/>
          <p:cNvSpPr txBox="1"/>
          <p:nvPr/>
        </p:nvSpPr>
        <p:spPr>
          <a:xfrm>
            <a:off x="1979640" y="1989000"/>
            <a:ext cx="4824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作业示例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216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示例：（历史人物事迹）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王羲之每天坚持练字，练完后就在家边的一口池塘里洗笔。这样日复一日，竟将整口池塘的水染成了黑色，像墨一般。终成为东晋有名的书法家。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范仲淹从小丧父。尽管这样，他仍旧艰苦读书，不放过任何一个学习的机会，最终成为中国有名的文学家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玄奘为求取佛经原文，从长安万里跋涉，西行取经，历时十七年终于到达印度，为佛教和人类进步、世界文明作出了伟大的贡献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示例：   （现、当代人物事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童第周从小为自己设下要为中国的发展而努力读书的目标，从此，他发奋图强、废寝忘食地读书，常常三更半夜仍未眠，当宿舍里的灯被关掉时，他就拿着书到厕所附近的路灯下看。长大后，他从比利时留学归来，为中国生物学作出了巨大的贡献。童第周之所以发奋读书，源于他对目标孜孜不倦的坚持。所以说，在学习上要取得成功，就必须坚持为自己设下的目标毫不动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马克思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资本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达尔文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物种起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花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，焦耳解决热力功当量问题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陈景润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终于摘下数学皇冠上的一颗明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居里夫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几十吨的矿石中提取了几克的镭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……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屋不扫，不可扫天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引用名言                                         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（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提出论点“一屋不扫，不可扫天下。”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（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论证论点：                                      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（议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陈蕃事例，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道理论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事例：李承乾、周恩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、深入论证：事例：韩信、勾践           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（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五、联系生活：在生活中，我们也要做到扫一屋，把小事情做好，我们才可能做大事，才可扫天下。                                                            （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六、总结：不注重小细节，哪会有大成就呢？ 所以，一屋不扫，不可扫天下。                    </a:t>
            </a:r>
            <a:r>
              <a:rPr b="0" lang="zh-CN" sz="2800" spc="-1" strike="noStrike">
                <a:solidFill>
                  <a:srgbClr val="99cc00"/>
                </a:solidFill>
                <a:latin typeface="Arial"/>
              </a:rPr>
              <a:t>（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bbe0e3"/>
                </a:solidFill>
                <a:latin typeface="Arial"/>
              </a:rPr>
              <a:t>（达芬奇、秦始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1715400"/>
            <a:ext cx="867564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例文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屋不扫，不可扫天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子说：“合抱之木，生于毫末；九层之台，起于累土；千里之行，始于足下。”荀况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劝学篇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里说“故不积跬步，无以至千里，不积小流，无以成江海。”前苏联革命导师列宁也说过“人要成就一件大事，就得从小事做起。”          （引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说，一屋不扫，不可扫天下。  （量出观点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陈蕃是东汉时的名人，他少年是独居一室而庭院龌龊不堪。他父亲的朋友薛勤见状批评说：“孺子何不洒扫以待宾客？”他回答说：“大丈夫处事当扫除天下，安事一屋？”薛勤当即针锋相对地反问，“一屋不扫，何以扫天下？”诚然，大的成功都是有微小的成功堆砌起来的，如果一个人连小事都做不好，那么何谈成大事、就大业？ （议：例证）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0" y="197784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人有云，“千里之堤，毁于蚁穴”，讲的就是细小事情的重要性，告诫我们要防微杜渐，用小的“智慧”来装饰大的“智慧”。　（议：引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 其实，只要我们仔细观察，就会发现世界万物都遵循着一个规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小到大，由简单到复杂。正所谓“不积跬步，无以致千里，不积小流，无以诚江海”。如果没有众多细流的汇聚，就没有滚滚东逝的长江；如果没日积月累的尘土，就没有巍峨挺拔的山峰；如果没有丰富的文学沉淀，就写不出文采飞扬的文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试问，一个连家都不爱的人，可能爱国吗？同样，一个连屋都扫不了的人，可能扫天下吗？                                                                        （议：类比论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唐代明君李世民在内蒙古同可汗联盟时，太子李承乾为了救自己的妹妹，甘愿违背圣命。李世民归来时，不但没有责备太子，反而对他的行为给予了高度的赞扬。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50920" y="0"/>
            <a:ext cx="828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李世民觉得一个人能爱家才能爱国，才会对社会有所裨益。有一条缝没有处理好，古埃及人智慧的结晶金字塔就可能消失；有一段块砖没有砌好，世界奇迹万里长城就可能成为遗憾。因此，对小事情的忽略就是对大成功的毁灭。周恩来总理在共产党诞生之日起一直到新中国的成立，时时刻刻都在为党内的小事情着想，可谓是“鞠躬尽瘁，死而后已”，最后日积月累，为党的伟大事业做出了巨大的贡献。他又何尝不是先扫屋后扫天下，而且还扫得很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议：例证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然而，我们要从小事情做起，并不是说我们对任何小事情都要过分考虑，花费太多的时间，甚至因为一些不必要的细节而影响了真正的大事。这只是一种因小失大，固末伤本。这是我们就要懂得取舍，以大局为重。试想韩信如果拘泥小节，不受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302920" y="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经典中圆简"/>
              </a:rPr>
              <a:t>论据的选择和使用中存在的主要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8218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综艺体简"/>
              </a:rPr>
              <a:t>问题一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论据选用不当。主要是论据不符合观点和叙述论据角度不正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0" y="249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综艺体简"/>
              </a:rPr>
              <a:t>问题三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经典综艺体简"/>
              </a:rPr>
              <a:t>老生常谈，缺乏时代感，属于陈旧的论据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经典综艺体简"/>
              </a:rPr>
              <a:t>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  <a:ea typeface="经典综艺体简"/>
              </a:rPr>
              <a:t>（提醒大家：凡是你第一时间里想到的论据一定要慎用！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3840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经典综艺体简"/>
              </a:rPr>
              <a:t>问题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据缺乏真实感。主要是论据中涉及人物时张冠李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（我们有的同学在举例时要么是无名无姓，要么以“有这样一个人”等类似的字眼遮人耳目，给人以编造论据之嫌。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0" y="14479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问题二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据不典型。所选的事迹不是名人名事，难以让人信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5057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问题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论据不简练，缺乏概括性。（主要是叙述太长，描写性语言太多，其中不乏有凑字数之意。）论据堆砌，缺乏层次。（主要是作者对原材料的理解停留在事件表面，没有对原材料进行剖析、挖掘。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4"/>
          <p:cNvSpPr/>
          <p:nvPr/>
        </p:nvSpPr>
        <p:spPr>
          <a:xfrm>
            <a:off x="0" y="0"/>
            <a:ext cx="8705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下之辱，哪有后来的一蕃伟大抱负；勾践如果拘泥小节，不卧薪尝胆，哪有后来灭吴反胜的勋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深：辫证分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太史公曾曰，“众口铄金，积毁销骨”。小事情的作用虽然是隐形的，但力量是巨大的。我们可以像陈蕃一样有远大的抱负，但决不能忽略这实现抱负所必需的扎实努力。须知，小的成功成就了大的成功。成功是日积月累的金字塔，而不是一蹴而就的空中楼阁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生活中，我们也要做到扫一屋，把小事情做好，我们才可能做大事，才可扫天下。不注重小细节，哪会有大成就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所以，一屋不扫，不可扫天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示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论点并列式）      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扫一屋”与“扫天下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段： 点明中心论点，“扫一屋”与“扫天下”的关系，是做小事与创大业的关 系，二者密不可分，要想创大业，必须从做小事开始。（中心立意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段： 提出分论点（一）做平凡的小事，为将来创大业打下了坚实的思想基础。 引鲁迅的话：“巨大的建筑，总是一木一石迭起来的，我们何妨做做这一木一 石呢？我时常做些零碎事，就是为此。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4358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段： 提出分论点（二）做艰苦的小事，为将来创大业磨练了坚韧的意志品质。 举李白“铁杵磨成绣花针”的例子或祖逖“闻鸡起舞”的例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四段： 提出分论点（三）做繁琐的小事，为将来创大业培养了严谨的作风和良好 的习惯。举列宁小时写作文的例子。还可举反例与之对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五段：联系社会现实，批评当前青年中存在的好高务远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六段：总结收束全文，青年人要为创立共产主义大事业，要从我做起，要现在做起，要从小事做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示例：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猴子磨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首先，学学问不能一知半解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二，请教之后要认真思考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三，学习不能浅尝而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0" y="0"/>
          <a:ext cx="84582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补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、事例宜多不宜少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般以三个为宜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据充分，表现在例证方面就意味着必须多选用一些合适的事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图片3"/>
          <p:cNvPicPr/>
          <p:nvPr/>
        </p:nvPicPr>
        <p:blipFill>
          <a:blip r:embed="rId1"/>
          <a:stretch/>
        </p:blipFill>
        <p:spPr>
          <a:xfrm>
            <a:off x="5508720" y="4365720"/>
            <a:ext cx="2881080" cy="17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左思为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都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闭门谢客，数载耕耘。三九严冬，笔耕不辍；三伏酷暑，意兴犹酣。多少白日，三餐忘食；多少夜晚，独对孤灯。“衣带渐宽终不悔”的执着，换来了丰硕的成果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都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轰动全城，一时洛阳纸贵。英国物理学家法拉第，为了揭示电和磁的奥秘整整奋斗了十年，十年中，他不懈地努力，却不断地失败；不断地失败，却又不懈地努力。十年之后，他成为揭示电磁奥秘的第一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左思和法拉第，不同时代，不同国籍，不同的研究领域，而他们成功的道路却是相同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付出，无悔地付出。付出心血和汗水，付出精力和智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280" y="836640"/>
            <a:ext cx="7936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、事例宜叙议结合不宜简单罗列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议论可以放在事例之后，也可以放在事例之前，以分论点的形式出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而青史之上，举大业者亦莫不有择于苦痛挫折也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里奚之举，孙叔敖之仕，皆自其不辍于逆境之苦也。而史迁之心，笃大志而不易，遭酷刑而不馁，于大辱重挫之下毅然择生，终有绝唱之史，无韵之骚，令后世文客抚卷喟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692360" y="2852640"/>
            <a:ext cx="662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而青史之上，举大业者亦莫不有择于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26920" y="3284640"/>
            <a:ext cx="1729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痛挫折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136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）可以从内容方面分析，也可以从意义方面评说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四川考生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遭遇挫折，笑对痛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从内容上加以分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能摧眉折腰事权贵，使我不得开心颜”的诗仙李白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在遭遇仕途不顺的挫折后，他沉寂了吗？消沉了吗？没有。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安市上酒家眠”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笑对痛苦，面对挫折他拂袖而去，遍访名山，终于成就了那千古飘逸的浪漫情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611280" y="5516640"/>
            <a:ext cx="698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此段文字从内容上加以分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0" y="0"/>
            <a:ext cx="6156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举例讨论（一）：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245600" y="914400"/>
            <a:ext cx="5600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德国马普学会日前发布新闻公告介绍说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马普学会与奥地利格拉茨大学合作设计的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个实验表明，在各自的学科领域里，智力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素并非决定性因素。而且，通过后天的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可以弥补先天智力的缺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是的，我们不必再犹豫了。我们的智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可能是很普通的，但只要努力，我们便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做优秀的学生。我们便可以实现我们的宏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的抱负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有同学以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勤能补拙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为题作了一篇文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选了这两个论据。大家讨论，选择合适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888480" y="457200"/>
            <a:ext cx="5911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2800" spc="-1" strike="noStrike">
                <a:solidFill>
                  <a:srgbClr val="99cc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姚明作为世界体坛冉冉升起的巨星，已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为全世界年轻人的偶像。与其他</a:t>
            </a:r>
            <a:r>
              <a:rPr b="1" lang="en-US" sz="2800" spc="-1" strike="noStrike">
                <a:solidFill>
                  <a:srgbClr val="99cc00"/>
                </a:solidFill>
                <a:latin typeface="黑体"/>
                <a:ea typeface="黑体"/>
              </a:rPr>
              <a:t>NBA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球员相比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姚明身体条件偏差，在弹跳、肌肉方面跟没法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黑人比。但姚明相信勤能补拙。每次训练前，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都要自己先练上两个小时的体能。负责给他们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衣服的师傅说：姚明训练可真刻苦。大冬天，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出那么多汗，鞋子里倒得出水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    ②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我第一个电子学女博士韦钰在西德进修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间，没有空暇到繁华的街头漫步，没有精力去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场、影院欣赏艺术，她一心扑在专业学习上，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连生病也拒绝休息。正是刻苦，才使她为祖国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得了荣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380880" y="83808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en-US" sz="3600" spc="-1" strike="noStrike">
                <a:solidFill>
                  <a:srgbClr val="99cc00"/>
                </a:solidFill>
                <a:latin typeface="黑体"/>
                <a:ea typeface="黑体"/>
              </a:rPr>
              <a:t>③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王羲之经常在自己的衣服上写字，将衣服划破，终于成为一个有名的书法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    ④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梅兰芳小时候口吃，为了弥补这一缺陷，他坚持每天早上含沙练唱，最终改掉了口吃的毛病，成为一位闻名中外的艺术大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203480" y="609840"/>
            <a:ext cx="581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明确：论据①④合适，②③不合适。因为王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之确实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勤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，也取得了成功，但王羲之并不拙，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补拙毫无粘边，也并没有能表明韦钰是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拙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的。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梅兰芳天天口含沙粒练习这是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勤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，有口吃的毛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这是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拙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，经过刻苦努力最终改掉了毛病，取得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事业的成功，这是补了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拙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黑体"/>
                <a:ea typeface="黑体"/>
              </a:rPr>
              <a:t>这个例子紧扣了论点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52280" y="3962520"/>
            <a:ext cx="83440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小结一：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论据必须紧扣中心论点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2:02:25Z</dcterms:created>
  <dc:creator>a</dc:creator>
  <dc:description/>
  <dc:language>en-US</dc:language>
  <cp:lastModifiedBy>xb21cn</cp:lastModifiedBy>
  <dcterms:modified xsi:type="dcterms:W3CDTF">2020-02-11T04:03:39Z</dcterms:modified>
  <cp:revision>15</cp:revision>
  <dc:subject/>
  <dc:title>幻灯片 1</dc:title>
</cp:coreProperties>
</file>