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7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DB1-01D1-4C33-B8F7-ACEEBE03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90D-B7A1-4FCE-8A1D-96DCBDCE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8E0-AC28-4C07-AB3F-F0B47F6A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8A0-BC9F-4046-A74B-27E40C38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5EFB-C67F-4A4C-8B76-8B5BC602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7486-42E2-469F-9C80-1EE80369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8243-3ECA-4EE4-A5B3-2F9B5FB2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9CC9-91E4-4F13-88C6-7F17E1D9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462C-D623-4088-ACFA-F4AD3509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CFA8-2CDC-41D2-9C5B-34AC269F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2E10-5652-4F3A-9D70-C79480EF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551-78F5-425E-A4AC-9B4E61CD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3902-C535-4E1E-BCE0-03088FD4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7018-0FA9-404C-AB9F-92684F3E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05DF-F27B-4BBD-83D6-A6F19179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9AA7-76DB-4602-B6D4-D1B92E30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8B6A-5278-47D0-A077-8ACE57C0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415-7247-4A73-9356-9D14FA61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883-ACD1-4B68-BAA1-9C730C27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758-BC69-4508-9F34-015CFACF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F98-92DE-46BD-BC20-5F5B7C4D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330-0ADD-4BA6-823D-08DD17C3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3DD-E22E-4DD1-8145-5BD7A118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BF8-5DE9-4B17-88FC-6B3F15C1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F27A-C63C-46F6-8EBA-FA3C92FA863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BEC4-DD80-42D6-B0A5-6912E3C823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2010/04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《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孙权劝学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课件原创：乐中语文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A9BE-751F-49B5-B07F-267248B207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0431.com/hero/gdmr/gdmr-3/smg.htm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Image10808354341.jpg" descr=""/>
          <p:cNvPicPr/>
          <p:nvPr/>
        </p:nvPicPr>
        <p:blipFill>
          <a:blip r:embed="rId1"/>
          <a:stretch/>
        </p:blipFill>
        <p:spPr>
          <a:xfrm>
            <a:off x="0" y="2317680"/>
            <a:ext cx="3119400" cy="4552920"/>
          </a:xfrm>
          <a:prstGeom prst="rect">
            <a:avLst/>
          </a:prstGeom>
          <a:ln w="0">
            <a:noFill/>
          </a:ln>
        </p:spPr>
      </p:pic>
      <p:pic>
        <p:nvPicPr>
          <p:cNvPr id="83" name="fImage3871805428467.jpg" descr=""/>
          <p:cNvPicPr/>
          <p:nvPr/>
        </p:nvPicPr>
        <p:blipFill>
          <a:blip r:embed="rId2"/>
          <a:stretch/>
        </p:blipFill>
        <p:spPr>
          <a:xfrm>
            <a:off x="0" y="-46080"/>
            <a:ext cx="4707000" cy="2363760"/>
          </a:xfrm>
          <a:prstGeom prst="rect">
            <a:avLst/>
          </a:prstGeom>
          <a:ln w="0">
            <a:noFill/>
          </a:ln>
        </p:spPr>
      </p:pic>
      <p:pic>
        <p:nvPicPr>
          <p:cNvPr id="84" name="fImage1236685416500.jpg" descr=""/>
          <p:cNvPicPr/>
          <p:nvPr/>
        </p:nvPicPr>
        <p:blipFill>
          <a:blip r:embed="rId3"/>
          <a:stretch/>
        </p:blipFill>
        <p:spPr>
          <a:xfrm>
            <a:off x="4734000" y="0"/>
            <a:ext cx="4413240" cy="2314440"/>
          </a:xfrm>
          <a:prstGeom prst="rect">
            <a:avLst/>
          </a:prstGeom>
          <a:ln w="0">
            <a:noFill/>
          </a:ln>
        </p:spPr>
      </p:pic>
      <p:pic>
        <p:nvPicPr>
          <p:cNvPr id="85" name="fImage734875408467.jpg" descr=""/>
          <p:cNvPicPr/>
          <p:nvPr/>
        </p:nvPicPr>
        <p:blipFill>
          <a:blip r:embed="rId4"/>
          <a:stretch/>
        </p:blipFill>
        <p:spPr>
          <a:xfrm>
            <a:off x="3133800" y="2290680"/>
            <a:ext cx="6011640" cy="2359080"/>
          </a:xfrm>
          <a:prstGeom prst="rect">
            <a:avLst/>
          </a:prstGeom>
          <a:ln w="0">
            <a:noFill/>
          </a:ln>
        </p:spPr>
      </p:pic>
      <p:pic>
        <p:nvPicPr>
          <p:cNvPr id="86" name="fImage637855396334.jpg" descr=""/>
          <p:cNvPicPr/>
          <p:nvPr/>
        </p:nvPicPr>
        <p:blipFill>
          <a:blip r:embed="rId5"/>
          <a:stretch/>
        </p:blipFill>
        <p:spPr>
          <a:xfrm>
            <a:off x="3119400" y="4594320"/>
            <a:ext cx="6012000" cy="2325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295200" y="674640"/>
            <a:ext cx="9539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上联：</a:t>
            </a:r>
            <a:br>
              <a:rPr sz="4800"/>
            </a:br>
            <a:r>
              <a:rPr b="0" lang="ko-KR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火神山雷神山钟南山三山镇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2080" y="5357880"/>
            <a:ext cx="91519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横批：万众一心     中国必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480" y="3005280"/>
            <a:ext cx="88009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ff0000"/>
                </a:solidFill>
                <a:latin typeface="宋体"/>
                <a:ea typeface="华文琥珀"/>
              </a:rPr>
              <a:t>下联：</a:t>
            </a:r>
            <a:br>
              <a:rPr sz="4800"/>
            </a:br>
            <a:r>
              <a:rPr b="0" lang="ko-KR" sz="4800" spc="-1" strike="noStrike">
                <a:solidFill>
                  <a:srgbClr val="ff0000"/>
                </a:solidFill>
                <a:latin typeface="宋体"/>
                <a:ea typeface="华文琥珀"/>
              </a:rPr>
              <a:t>医者心仁者心中国心万心抗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.40129846432482E-0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.40129846432482E-0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83298"/>
          <p:cNvSpPr/>
          <p:nvPr/>
        </p:nvSpPr>
        <p:spPr>
          <a:xfrm>
            <a:off x="0" y="40464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初读—读准读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83299"/>
          <p:cNvSpPr/>
          <p:nvPr/>
        </p:nvSpPr>
        <p:spPr>
          <a:xfrm>
            <a:off x="34920" y="1628640"/>
            <a:ext cx="8893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初，权谓吕蒙曰：“卿今当涂掌事，不可不学！”蒙辞以军中多务。权曰：“孤岂欲卿治经为博士邪！但当涉猎，见往事耳。卿言多务，孰若孤？孤常读书，自以为大有所益。”蒙乃始就学。及鲁肃过寻阳，与蒙论议，大惊曰：“卿今者才略，非复吴下阿蒙！”蒙曰：“士别三日，即更刮目相待，大兄何见事之晚乎！”肃遂拜蒙母，结友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83297" descr="图片121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183298"/>
          <p:cNvSpPr/>
          <p:nvPr/>
        </p:nvSpPr>
        <p:spPr>
          <a:xfrm>
            <a:off x="0" y="33336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初读—读准读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1557360"/>
            <a:ext cx="9020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初，权谓吕蒙曰：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卿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qīng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dāng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涂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tú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掌事，不可不学！”蒙辞以军中多务。权曰：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孤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gū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岂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楷体"/>
              </a:rPr>
              <a:t>ǐ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欲卿治经为博士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邪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yé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！但当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涉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shè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猎，见往事耳。卿言多务，孰若孤？孤常读书，自以为大有所益。”蒙乃始就学。及鲁肃过寻阳，与蒙论议，大惊曰：“卿今者才略，非复吴下阿蒙！”蒙曰：“士别三日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即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jí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更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gēng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刮目相待，大兄何见事之晚乎！”肃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遂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suì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拜蒙母，结友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83298"/>
          <p:cNvSpPr/>
          <p:nvPr/>
        </p:nvSpPr>
        <p:spPr>
          <a:xfrm>
            <a:off x="0" y="40464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初读—读准读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83299"/>
          <p:cNvSpPr/>
          <p:nvPr/>
        </p:nvSpPr>
        <p:spPr>
          <a:xfrm>
            <a:off x="34920" y="1628640"/>
            <a:ext cx="8893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初，权谓吕蒙曰：“卿今当涂掌事，不可不学！”蒙辞以军中多务。权曰：“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孤岂欲卿治经为博士邪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！但当涉猎，见往事耳。卿言多务，孰若孤？孤常读书，自以为大有所益。”蒙乃始就学。及鲁肃过寻阳，与蒙论议，大惊曰：“卿今者才略，非复吴下阿蒙！”蒙曰：“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士别三日，即更刮目相待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大兄何见事之晚乎！”肃遂拜蒙母，结友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183298"/>
          <p:cNvSpPr/>
          <p:nvPr/>
        </p:nvSpPr>
        <p:spPr>
          <a:xfrm>
            <a:off x="0" y="33336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初读—读准读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15573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初，权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谓吕蒙曰：“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涂掌事，不可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学！”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辞以军中多务。权曰：“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孤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岂欲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卿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治经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为博士邪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！但当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涉猎，见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往事耳。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言多务，孰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若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孤？孤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常读书，自以为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有所益。”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乃始就学。及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鲁肃过寻阳，与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论议，大惊曰：“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者才略，非复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吴下阿蒙！”蒙曰：“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士别三日，即更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b050"/>
                </a:solidFill>
                <a:latin typeface="楷体"/>
                <a:ea typeface="楷体"/>
              </a:rPr>
              <a:t>刮目相待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大兄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何见事之晚乎！”肃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遂拜蒙母，结友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83298"/>
          <p:cNvSpPr/>
          <p:nvPr/>
        </p:nvSpPr>
        <p:spPr>
          <a:xfrm>
            <a:off x="0" y="33336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初读—读准读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15573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初，权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谓吕蒙曰：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卿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qīng)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dāng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涂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tú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掌事，不可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学！”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辞以军中多务。权曰：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孤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gū)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岂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楷体"/>
              </a:rPr>
              <a:t>ǐ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欲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经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为博士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邪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yé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！但当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涉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shè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猎，见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往事耳。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言多务，孰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若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孤？孤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常读书，自以为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有所益。”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乃始就学。及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鲁肃过寻阳，与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论议，大惊曰：“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者才略，非复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吴下阿蒙！”蒙曰：“士别三日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即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jí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更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gēng)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刮目相待，大兄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何见事之晚乎！”肃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遂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suì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拜蒙母，结友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183298"/>
          <p:cNvSpPr/>
          <p:nvPr/>
        </p:nvSpPr>
        <p:spPr>
          <a:xfrm>
            <a:off x="0" y="33336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译读—同组助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云形标注 5"/>
          <p:cNvSpPr/>
          <p:nvPr/>
        </p:nvSpPr>
        <p:spPr>
          <a:xfrm>
            <a:off x="252360" y="1555920"/>
            <a:ext cx="2857680" cy="1000080"/>
          </a:xfrm>
          <a:prstGeom prst="cloudCallout">
            <a:avLst>
              <a:gd name="adj1" fmla="val 41606"/>
              <a:gd name="adj2" fmla="val 60662"/>
            </a:avLst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2693880" cy="952560"/>
          </a:xfrm>
          <a:prstGeom prst="rect">
            <a:avLst/>
          </a:prstGeom>
          <a:ln w="0">
            <a:noFill/>
          </a:ln>
        </p:spPr>
      </p:pic>
      <p:pic>
        <p:nvPicPr>
          <p:cNvPr id="154" name="Text Box 5" descr=""/>
          <p:cNvPicPr/>
          <p:nvPr/>
        </p:nvPicPr>
        <p:blipFill>
          <a:blip r:embed="rId3"/>
          <a:stretch/>
        </p:blipFill>
        <p:spPr>
          <a:xfrm>
            <a:off x="-4680" y="2992320"/>
            <a:ext cx="9210600" cy="35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83297" descr="图片121"/>
          <p:cNvPicPr/>
          <p:nvPr/>
        </p:nvPicPr>
        <p:blipFill>
          <a:blip r:embed="rId1"/>
          <a:stretch/>
        </p:blipFill>
        <p:spPr>
          <a:xfrm>
            <a:off x="-209520" y="47520"/>
            <a:ext cx="9401040" cy="660240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183298"/>
          <p:cNvSpPr/>
          <p:nvPr/>
        </p:nvSpPr>
        <p:spPr>
          <a:xfrm>
            <a:off x="-41400" y="-3240"/>
            <a:ext cx="524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0000"/>
                </a:solidFill>
                <a:latin typeface="宋体"/>
                <a:ea typeface="华文新魏"/>
              </a:rPr>
              <a:t>译读—同组助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44480" y="0"/>
            <a:ext cx="8443800" cy="10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Calibri"/>
              </a:rPr>
              <a:t>     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初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，权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谓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吕蒙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Arial"/>
              </a:rPr>
              <a:t>  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曰：“卿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今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当涂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掌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不可不学！”蒙辞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以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军中多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务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。权曰：“孤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岂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卿治经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为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博士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Arial"/>
              </a:rPr>
              <a:t>    </a:t>
            </a:r>
            <a:r>
              <a:rPr b="1" lang="ko-KR" sz="3200" spc="-1" strike="noStrike">
                <a:solidFill>
                  <a:srgbClr val="1f497d"/>
                </a:solidFill>
                <a:latin typeface="宋体"/>
                <a:ea typeface="隶书"/>
              </a:rPr>
              <a:t>邪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！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        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但  当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 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猎，见往事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1f497d"/>
                </a:solidFill>
                <a:latin typeface="宋体"/>
                <a:ea typeface="隶书"/>
              </a:rPr>
              <a:t>耳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。卿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言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多务，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孰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若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  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孤常读书，自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 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以为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大有所益。”蒙乃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隶书"/>
              </a:rPr>
              <a:t>始</a:t>
            </a:r>
            <a:r>
              <a:rPr b="1" lang="ko-KR" sz="3200" spc="-1" strike="noStrike">
                <a:solidFill>
                  <a:srgbClr val="008000"/>
                </a:solidFill>
                <a:latin typeface="宋体"/>
                <a:ea typeface="Arial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隶书"/>
              </a:rPr>
              <a:t>就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174680" y="1413000"/>
            <a:ext cx="18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当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354400" y="1328760"/>
            <a:ext cx="23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353280" y="13287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7566120" y="134316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掌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038400" y="2306520"/>
            <a:ext cx="13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367160" y="229392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事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245360" y="230508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难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971640" y="3271680"/>
            <a:ext cx="13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2104920" y="3287880"/>
            <a:ext cx="42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通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耶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，表反问语气，吗</a:t>
            </a: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8265960" y="2305080"/>
            <a:ext cx="11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507000" y="331632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253280" y="3271680"/>
            <a:ext cx="14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应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434880" y="443880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表阻止语气，罢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3827520" y="436896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5997600" y="4425840"/>
            <a:ext cx="15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773760" y="442440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比，比得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2870280" y="5543640"/>
            <a:ext cx="12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认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386480" y="5529240"/>
            <a:ext cx="11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开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83297" descr="图片121"/>
          <p:cNvPicPr/>
          <p:nvPr/>
        </p:nvPicPr>
        <p:blipFill>
          <a:blip r:embed="rId1"/>
          <a:stretch/>
        </p:blipFill>
        <p:spPr>
          <a:xfrm>
            <a:off x="-307800" y="-36360"/>
            <a:ext cx="9415440" cy="658800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83298"/>
          <p:cNvSpPr/>
          <p:nvPr/>
        </p:nvSpPr>
        <p:spPr>
          <a:xfrm>
            <a:off x="-309600" y="-324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0000"/>
                </a:solidFill>
                <a:latin typeface="宋体"/>
                <a:ea typeface="华文新魏"/>
              </a:rPr>
              <a:t>译读—同组助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-57240" y="1165320"/>
            <a:ext cx="9118800" cy="56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及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鲁肃过寻阳，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与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蒙论议，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大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宋体"/>
              </a:rPr>
              <a:t>      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惊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“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卿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今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宋体"/>
              </a:rPr>
              <a:t> 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者才略，非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复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吴下阿蒙！”蒙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“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士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别三日，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即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更刮目相待，大兄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ko-KR" sz="36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何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宋体"/>
              </a:rPr>
              <a:t>  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见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之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晚</a:t>
            </a:r>
            <a:r>
              <a:rPr b="1" lang="ko-KR" sz="3600" spc="-1" strike="noStrike">
                <a:solidFill>
                  <a:srgbClr val="1f497d"/>
                </a:solidFill>
                <a:latin typeface="宋体"/>
                <a:ea typeface="隶书"/>
              </a:rPr>
              <a:t>乎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！”肃</a:t>
            </a:r>
            <a:r>
              <a:rPr b="1" lang="ko-KR" sz="36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遂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宋体"/>
              </a:rPr>
              <a:t>     </a:t>
            </a:r>
            <a:r>
              <a:rPr b="1" lang="ko-KR" sz="3600" spc="-1" strike="noStrike">
                <a:solidFill>
                  <a:srgbClr val="336600"/>
                </a:solidFill>
                <a:latin typeface="宋体"/>
                <a:ea typeface="宋体"/>
              </a:rPr>
              <a:t> </a:t>
            </a:r>
            <a:r>
              <a:rPr b="1" lang="ko-KR" sz="3600" spc="-1" strike="noStrike">
                <a:solidFill>
                  <a:srgbClr val="008000"/>
                </a:solidFill>
                <a:latin typeface="宋体"/>
                <a:ea typeface="隶书"/>
              </a:rPr>
              <a:t>拜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蒙母，结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而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454920" y="169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056200" y="169704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常，十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7601760" y="1712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4006800" y="281952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，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968400" y="282096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63360" y="38480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读书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2476440" y="3819600"/>
            <a:ext cx="11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6453360" y="3846600"/>
            <a:ext cx="26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什么，怎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1395360" y="514044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表感叹语气，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4313160" y="5070600"/>
            <a:ext cx="15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6109200" y="5043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拜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48840" y="1712880"/>
            <a:ext cx="220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到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....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3" presetSubtype="16">
                                  <p:stCondLst>
                                    <p:cond delay="0"/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183298"/>
          <p:cNvSpPr/>
          <p:nvPr/>
        </p:nvSpPr>
        <p:spPr>
          <a:xfrm>
            <a:off x="0" y="33336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译读—同组助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0" y="15573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初，权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谓吕蒙曰：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卿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qīng)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dāng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涂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tú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掌事，不可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学！”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辞以军中多务。权曰：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孤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gū)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岂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楷体"/>
              </a:rPr>
              <a:t>ǐ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欲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经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为博士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邪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yé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！但当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涉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shè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猎，见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往事耳。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言多务，孰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若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孤？孤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常读书，自以为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有所益。”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乃始就学。及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鲁肃过寻阳，与蒙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论议，大惊曰：“卿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者才略，非复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吴下阿蒙！”蒙曰：“士别三日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即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jí)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更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gēng)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刮目相待，大兄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何见事之晚乎！”肃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遂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(suì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拜蒙母，结友</a:t>
            </a:r>
            <a:r>
              <a:rPr b="1" lang="en-US" sz="3200" spc="-1" strike="noStrike">
                <a:solidFill>
                  <a:srgbClr val="00b05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83297" descr="图片12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183298"/>
          <p:cNvSpPr/>
          <p:nvPr/>
        </p:nvSpPr>
        <p:spPr>
          <a:xfrm>
            <a:off x="-36360" y="404640"/>
            <a:ext cx="91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整体感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"/>
          <p:cNvSpPr/>
          <p:nvPr/>
        </p:nvSpPr>
        <p:spPr>
          <a:xfrm>
            <a:off x="0" y="1773360"/>
            <a:ext cx="912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课围绕三个人物讲了一个什么样的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三个人物各自的语言中可以看出他们的语气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人物）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语言）中可看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式回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14640" y="2386080"/>
            <a:ext cx="8231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ff0000"/>
                </a:solidFill>
                <a:latin typeface="楷体"/>
                <a:ea typeface="楷体"/>
              </a:rPr>
              <a:t>萍草远逝随水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ff0000"/>
                </a:solidFill>
                <a:latin typeface="楷体"/>
                <a:ea typeface="楷体"/>
              </a:rPr>
              <a:t>抛弃宝玉寻仙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0" lang="ko-KR" sz="7200" spc="-1" strike="noStrike">
                <a:solidFill>
                  <a:srgbClr val="ff0000"/>
                </a:solidFill>
                <a:latin typeface="楷体"/>
                <a:ea typeface="楷体"/>
              </a:rPr>
              <a:t>打一词语</a:t>
            </a:r>
            <a:r>
              <a:rPr b="0" lang="ko-KR" sz="72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fImage817254941.png" descr=""/>
          <p:cNvPicPr/>
          <p:nvPr/>
        </p:nvPicPr>
        <p:blipFill>
          <a:blip r:embed="rId1"/>
          <a:stretch/>
        </p:blipFill>
        <p:spPr>
          <a:xfrm>
            <a:off x="871560" y="547560"/>
            <a:ext cx="5915160" cy="1839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16040" y="2722680"/>
            <a:ext cx="15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9900"/>
                </a:solidFill>
                <a:latin typeface="华文琥珀"/>
                <a:ea typeface="华文琥珀"/>
              </a:rPr>
              <a:t>灯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83297" descr="图片121"/>
          <p:cNvPicPr/>
          <p:nvPr/>
        </p:nvPicPr>
        <p:blipFill>
          <a:blip r:embed="rId1"/>
          <a:stretch/>
        </p:blipFill>
        <p:spPr>
          <a:xfrm>
            <a:off x="-27000" y="50760"/>
            <a:ext cx="9221760" cy="6781680"/>
          </a:xfrm>
          <a:prstGeom prst="rect">
            <a:avLst/>
          </a:prstGeom>
          <a:ln w="0">
            <a:noFill/>
          </a:ln>
        </p:spPr>
      </p:pic>
      <p:sp>
        <p:nvSpPr>
          <p:cNvPr id="20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2"/>
          <p:cNvSpPr/>
          <p:nvPr/>
        </p:nvSpPr>
        <p:spPr>
          <a:xfrm>
            <a:off x="50760" y="527040"/>
            <a:ext cx="358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83298"/>
          <p:cNvSpPr/>
          <p:nvPr/>
        </p:nvSpPr>
        <p:spPr>
          <a:xfrm>
            <a:off x="-36360" y="404640"/>
            <a:ext cx="91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整体感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"/>
          <p:cNvSpPr/>
          <p:nvPr/>
        </p:nvSpPr>
        <p:spPr>
          <a:xfrm>
            <a:off x="-58680" y="1787400"/>
            <a:ext cx="91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课围绕三个人物讲了一个什么样的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4"/>
          <p:cNvSpPr/>
          <p:nvPr/>
        </p:nvSpPr>
        <p:spPr>
          <a:xfrm>
            <a:off x="11160" y="3147840"/>
            <a:ext cx="89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ko-KR" sz="4800" spc="-1" strike="noStrike">
                <a:solidFill>
                  <a:srgbClr val="ff0000"/>
                </a:solidFill>
                <a:latin typeface="宋体"/>
                <a:ea typeface="宋体"/>
              </a:rPr>
              <a:t>讲了一个孙权劝学、吕蒙就学、鲁肃赞学的故事</a:t>
            </a:r>
            <a:r>
              <a:rPr b="1" lang="ko-KR" sz="72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83297" descr="图片12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6" name="文本框 183298"/>
          <p:cNvSpPr/>
          <p:nvPr/>
        </p:nvSpPr>
        <p:spPr>
          <a:xfrm>
            <a:off x="-36360" y="404640"/>
            <a:ext cx="91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整体感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3" descr=""/>
          <p:cNvPicPr/>
          <p:nvPr/>
        </p:nvPicPr>
        <p:blipFill>
          <a:blip r:embed="rId2"/>
          <a:stretch/>
        </p:blipFill>
        <p:spPr>
          <a:xfrm>
            <a:off x="0" y="2924280"/>
            <a:ext cx="1171440" cy="16761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1403280" y="5013360"/>
            <a:ext cx="444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卿言多务，孰若孤？孤常读书，自以为大有所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724360" y="2637000"/>
            <a:ext cx="34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宋体"/>
                <a:ea typeface="华文新魏"/>
              </a:rPr>
              <a:t>   </a:t>
            </a:r>
            <a:r>
              <a:rPr b="1" lang="ko-KR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语气坚决 、严厉中又可见关心、厚望。语重心长、谆谆告诫。</a:t>
            </a:r>
            <a:r>
              <a:rPr b="0" lang="ko-KR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5796000" y="4149720"/>
            <a:ext cx="30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不悦、责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722920" y="5300640"/>
            <a:ext cx="33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现身说法，言辞恳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204840" y="486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孙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2"/>
          <p:cNvSpPr/>
          <p:nvPr/>
        </p:nvSpPr>
        <p:spPr>
          <a:xfrm>
            <a:off x="3341520" y="2533680"/>
            <a:ext cx="22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4"/>
          <p:cNvSpPr/>
          <p:nvPr/>
        </p:nvSpPr>
        <p:spPr>
          <a:xfrm>
            <a:off x="1403280" y="2781360"/>
            <a:ext cx="43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卿今当涂掌事，不可不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5"/>
          <p:cNvSpPr/>
          <p:nvPr/>
        </p:nvSpPr>
        <p:spPr>
          <a:xfrm>
            <a:off x="1403280" y="3860640"/>
            <a:ext cx="44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孤岂欲卿治经为博士邪！但当涉猎，见往事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2"/>
          <p:cNvSpPr/>
          <p:nvPr/>
        </p:nvSpPr>
        <p:spPr>
          <a:xfrm>
            <a:off x="36360" y="1492200"/>
            <a:ext cx="90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Arial"/>
              </a:rPr>
              <a:t>        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Arial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宋体"/>
              </a:rPr>
              <a:t>从三个人物各自的语言中可以看出他们的语气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16">
                                  <p:stCondLst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5">
                                  <p:stCondLst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9">
                                  <p:stCondLst>
                                    <p:cond delay="0"/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83297" descr="图片12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83298"/>
          <p:cNvSpPr/>
          <p:nvPr/>
        </p:nvSpPr>
        <p:spPr>
          <a:xfrm>
            <a:off x="-36360" y="404640"/>
            <a:ext cx="91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整体感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2" descr=""/>
          <p:cNvPicPr/>
          <p:nvPr/>
        </p:nvPicPr>
        <p:blipFill>
          <a:blip r:embed="rId2"/>
          <a:stretch/>
        </p:blipFill>
        <p:spPr>
          <a:xfrm>
            <a:off x="1763640" y="2852640"/>
            <a:ext cx="1249560" cy="15400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682560" y="450864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卿今者才略，非复吴下阿蒙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3" descr=""/>
          <p:cNvPicPr/>
          <p:nvPr/>
        </p:nvPicPr>
        <p:blipFill>
          <a:blip r:embed="rId3"/>
          <a:stretch/>
        </p:blipFill>
        <p:spPr>
          <a:xfrm>
            <a:off x="5796000" y="2852640"/>
            <a:ext cx="1143000" cy="151452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4"/>
          <p:cNvSpPr/>
          <p:nvPr/>
        </p:nvSpPr>
        <p:spPr>
          <a:xfrm>
            <a:off x="-65880" y="2997360"/>
            <a:ext cx="1399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鲁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5"/>
          <p:cNvSpPr/>
          <p:nvPr/>
        </p:nvSpPr>
        <p:spPr>
          <a:xfrm>
            <a:off x="7382520" y="2852640"/>
            <a:ext cx="7898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吕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4211640" y="4581360"/>
            <a:ext cx="48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士别三日，即更刮目相待，大兄何见事之晚乎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971640" y="57326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吃惊，称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506920" y="58053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深感自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2"/>
          <p:cNvSpPr/>
          <p:nvPr/>
        </p:nvSpPr>
        <p:spPr>
          <a:xfrm>
            <a:off x="36360" y="1492200"/>
            <a:ext cx="90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三个人物各自的语言中可以看出他们的语气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8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5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.40129846432482E-0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.40129846432482E-045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2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5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.40129846432482E-0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.40129846432482E-045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fImage248924239358.jpg" descr=""/>
          <p:cNvPicPr/>
          <p:nvPr/>
        </p:nvPicPr>
        <p:blipFill>
          <a:blip r:embed="rId1"/>
          <a:stretch/>
        </p:blipFill>
        <p:spPr>
          <a:xfrm flipH="1">
            <a:off x="365040" y="2417760"/>
            <a:ext cx="3076560" cy="3076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16120" y="121608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ff0000"/>
                </a:solidFill>
                <a:latin typeface="宋体"/>
                <a:ea typeface="黑体"/>
              </a:rPr>
              <a:t>孙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79640" y="1773360"/>
            <a:ext cx="56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76680" y="1454040"/>
            <a:ext cx="68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33cc"/>
                </a:solidFill>
                <a:latin typeface="宋体"/>
                <a:ea typeface="黑体"/>
              </a:rPr>
              <a:t>卿今当涂掌事，不可不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95760" y="241308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33cc"/>
                </a:solidFill>
                <a:latin typeface="宋体"/>
                <a:ea typeface="黑体"/>
              </a:rPr>
              <a:t>    </a:t>
            </a:r>
            <a:r>
              <a:rPr b="0" lang="ko-KR" sz="3600" spc="-1" strike="noStrike">
                <a:solidFill>
                  <a:srgbClr val="0033cc"/>
                </a:solidFill>
                <a:latin typeface="宋体"/>
                <a:ea typeface="黑体"/>
              </a:rPr>
              <a:t>孤岂欲卿治经为博士邪！但当涉猎，见往事耳。卿言多务，孰若孤？孤常读书，自以为大有所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4800" y="5440320"/>
            <a:ext cx="87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黑体"/>
              </a:rPr>
              <a:t>善劝</a:t>
            </a: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Times New Roman"/>
              </a:rPr>
              <a:t>、</a:t>
            </a: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黑体"/>
              </a:rPr>
              <a:t>好学</a:t>
            </a: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Times New Roman"/>
              </a:rPr>
              <a:t>、</a:t>
            </a: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黑体"/>
              </a:rPr>
              <a:t>关爱部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60" y="-1440"/>
            <a:ext cx="87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</a:t>
            </a:r>
            <a:r>
              <a:rPr b="0" lang="ko-KR" sz="7200" spc="-1" strike="noStrike">
                <a:solidFill>
                  <a:srgbClr val="000000"/>
                </a:solidFill>
                <a:latin typeface="宋体"/>
                <a:ea typeface="隶书"/>
              </a:rPr>
              <a:t>分析人物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fImage135344306962.png" descr=""/>
          <p:cNvPicPr/>
          <p:nvPr/>
        </p:nvPicPr>
        <p:blipFill>
          <a:blip r:embed="rId1"/>
          <a:stretch/>
        </p:blipFill>
        <p:spPr>
          <a:xfrm>
            <a:off x="5353200" y="2649600"/>
            <a:ext cx="3595680" cy="4079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96920" y="1873080"/>
            <a:ext cx="507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33cc"/>
                </a:solidFill>
                <a:latin typeface="宋体"/>
                <a:ea typeface="黑体"/>
              </a:rPr>
              <a:t>    </a:t>
            </a:r>
            <a:r>
              <a:rPr b="0" lang="ko-KR" sz="4800" spc="-1" strike="noStrike">
                <a:solidFill>
                  <a:srgbClr val="0033cc"/>
                </a:solidFill>
                <a:latin typeface="宋体"/>
                <a:ea typeface="黑体"/>
              </a:rPr>
              <a:t>卿今者才略，非复吴下阿蒙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3840" y="963720"/>
            <a:ext cx="30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ff0000"/>
                </a:solidFill>
                <a:latin typeface="宋体"/>
                <a:ea typeface="黑体"/>
              </a:rPr>
              <a:t>鲁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6920" y="4076640"/>
            <a:ext cx="54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ff0000"/>
                </a:solidFill>
                <a:latin typeface="宋体"/>
                <a:ea typeface="黑体"/>
              </a:rPr>
              <a:t>爱才、敬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8280" y="195120"/>
            <a:ext cx="64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</a:t>
            </a:r>
            <a:r>
              <a:rPr b="0" lang="ko-KR" sz="7200" spc="-1" strike="noStrike">
                <a:solidFill>
                  <a:srgbClr val="000000"/>
                </a:solidFill>
                <a:latin typeface="宋体"/>
                <a:ea typeface="隶书"/>
              </a:rPr>
              <a:t>分析人物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fImage43474344464.jpg" descr=""/>
          <p:cNvPicPr/>
          <p:nvPr/>
        </p:nvPicPr>
        <p:blipFill>
          <a:blip r:embed="rId1"/>
          <a:stretch/>
        </p:blipFill>
        <p:spPr>
          <a:xfrm>
            <a:off x="368280" y="2771640"/>
            <a:ext cx="2989440" cy="4070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130640" y="1606680"/>
            <a:ext cx="45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0033cc"/>
                </a:solidFill>
                <a:latin typeface="宋体"/>
                <a:ea typeface="黑体"/>
              </a:rPr>
              <a:t>    </a:t>
            </a:r>
            <a:r>
              <a:rPr b="0" lang="ko-KR" sz="3600" spc="-1" strike="noStrike">
                <a:solidFill>
                  <a:srgbClr val="0033cc"/>
                </a:solidFill>
                <a:latin typeface="宋体"/>
                <a:ea typeface="黑体"/>
              </a:rPr>
              <a:t>士别三日，即更刮目相待，大兄何见事之晚乎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640" y="1382760"/>
            <a:ext cx="335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ff0000"/>
                </a:solidFill>
                <a:latin typeface="宋体"/>
                <a:ea typeface="黑体"/>
              </a:rPr>
              <a:t>吕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11600" y="4292640"/>
            <a:ext cx="560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黑体"/>
              </a:rPr>
              <a:t>听劝</a:t>
            </a: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Times New Roman"/>
              </a:rPr>
              <a:t>、</a:t>
            </a:r>
            <a:r>
              <a:rPr b="0" lang="ko-KR" sz="6000" spc="-1" strike="noStrike">
                <a:solidFill>
                  <a:srgbClr val="ff0000"/>
                </a:solidFill>
                <a:latin typeface="宋体"/>
                <a:ea typeface="黑体"/>
              </a:rPr>
              <a:t>学有所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57240" y="-144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</a:t>
            </a:r>
            <a:r>
              <a:rPr b="0" lang="ko-KR" sz="7200" spc="-1" strike="noStrike">
                <a:solidFill>
                  <a:srgbClr val="000000"/>
                </a:solidFill>
                <a:latin typeface="宋体"/>
                <a:ea typeface="隶书"/>
              </a:rPr>
              <a:t>分析人物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-125280" y="1306440"/>
            <a:ext cx="1277640" cy="51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三个人物各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92360" y="137160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ff"/>
                </a:solidFill>
                <a:latin typeface="宋体"/>
                <a:ea typeface="隶书"/>
              </a:rPr>
              <a:t>孙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2360" y="3517920"/>
            <a:ext cx="24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8000"/>
                </a:solidFill>
                <a:latin typeface="宋体"/>
                <a:ea typeface="隶书"/>
              </a:rPr>
              <a:t>吕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50800" y="5413320"/>
            <a:ext cx="265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c6600"/>
                </a:solidFill>
                <a:latin typeface="宋体"/>
                <a:ea typeface="Times New Roman"/>
              </a:rPr>
              <a:t>  </a:t>
            </a:r>
            <a:r>
              <a:rPr b="1" lang="ko-KR" sz="4000" spc="-1" strike="noStrike">
                <a:solidFill>
                  <a:srgbClr val="cc6600"/>
                </a:solidFill>
                <a:latin typeface="宋体"/>
                <a:ea typeface="隶书"/>
              </a:rPr>
              <a:t>鲁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20760" y="2392200"/>
            <a:ext cx="462240" cy="893880"/>
          </a:xfrm>
          <a:prstGeom prst="downArrow">
            <a:avLst>
              <a:gd name="adj1" fmla="val 50000"/>
              <a:gd name="adj2" fmla="val 48336"/>
            </a:avLst>
          </a:prstGeom>
          <a:solidFill>
            <a:srgbClr val="f0a22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50920" y="4292640"/>
            <a:ext cx="462240" cy="936720"/>
          </a:xfrm>
          <a:prstGeom prst="upArrow">
            <a:avLst>
              <a:gd name="adj1" fmla="val 50000"/>
              <a:gd name="adj2" fmla="val 50652"/>
            </a:avLst>
          </a:prstGeom>
          <a:solidFill>
            <a:srgbClr val="f0a22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22720" y="1414440"/>
            <a:ext cx="5383080" cy="1251000"/>
          </a:xfrm>
          <a:prstGeom prst="rect">
            <a:avLst/>
          </a:pr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66"/>
                </a:solidFill>
                <a:latin typeface="宋体"/>
                <a:ea typeface="隶书"/>
              </a:rPr>
              <a:t>对部下既严格要求，又能循循善诱，耐心教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66"/>
                </a:solidFill>
                <a:latin typeface="宋体"/>
                <a:ea typeface="隶书"/>
              </a:rPr>
              <a:t>好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92560" y="3573360"/>
            <a:ext cx="5400720" cy="1251000"/>
          </a:xfrm>
          <a:prstGeom prst="rect">
            <a:avLst/>
          </a:pr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00"/>
                </a:solidFill>
                <a:latin typeface="宋体"/>
                <a:ea typeface="隶书"/>
              </a:rPr>
              <a:t>知错能改，谦虚好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00"/>
                </a:solidFill>
                <a:latin typeface="宋体"/>
                <a:ea typeface="隶书"/>
              </a:rPr>
              <a:t>有军人的坦诚豪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157720"/>
            <a:ext cx="5398920" cy="642600"/>
          </a:xfrm>
          <a:prstGeom prst="rect">
            <a:avLst/>
          </a:pr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敬才爱才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豪爽而不失风度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隶书"/>
              </a:rPr>
              <a:t>对朋友的进步十分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45880" y="2435400"/>
            <a:ext cx="9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(</a:t>
            </a:r>
            <a:r>
              <a:rPr b="0" lang="ko-KR" sz="3600" spc="-1" strike="noStrike">
                <a:solidFill>
                  <a:srgbClr val="ff0000"/>
                </a:solidFill>
                <a:latin typeface="宋体"/>
                <a:ea typeface="隶书"/>
              </a:rPr>
              <a:t>劝</a:t>
            </a:r>
            <a:r>
              <a:rPr b="0" lang="ko-KR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45880" y="4578480"/>
            <a:ext cx="9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(</a:t>
            </a:r>
            <a:r>
              <a:rPr b="0" lang="ko-KR" sz="3600" spc="-1" strike="noStrike">
                <a:solidFill>
                  <a:srgbClr val="ff0000"/>
                </a:solidFill>
                <a:latin typeface="宋体"/>
                <a:ea typeface="隶书"/>
              </a:rPr>
              <a:t>赞</a:t>
            </a:r>
            <a:r>
              <a:rPr b="0" lang="ko-KR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6840" y="181080"/>
            <a:ext cx="720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宋体"/>
                <a:ea typeface="华文新魏"/>
              </a:rPr>
              <a:t>解读—</a:t>
            </a:r>
            <a:r>
              <a:rPr b="0" lang="ko-KR" sz="4800" spc="-1" strike="noStrike">
                <a:solidFill>
                  <a:srgbClr val="000000"/>
                </a:solidFill>
                <a:latin typeface="宋体"/>
                <a:ea typeface="隶书"/>
              </a:rPr>
              <a:t>分析人物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183297" descr="图片12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183298"/>
          <p:cNvSpPr/>
          <p:nvPr/>
        </p:nvSpPr>
        <p:spPr>
          <a:xfrm>
            <a:off x="-36360" y="404640"/>
            <a:ext cx="911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宋体"/>
                <a:ea typeface="华文新魏"/>
              </a:rPr>
              <a:t>悟读一——明道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"/>
          <p:cNvSpPr/>
          <p:nvPr/>
        </p:nvSpPr>
        <p:spPr>
          <a:xfrm>
            <a:off x="0" y="110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宋体"/>
                <a:ea typeface="楷体"/>
              </a:rPr>
              <a:t>     </a:t>
            </a:r>
            <a:r>
              <a:rPr b="1" lang="ko-KR" sz="3600" spc="-1" strike="noStrike">
                <a:solidFill>
                  <a:srgbClr val="385723"/>
                </a:solidFill>
                <a:latin typeface="宋体"/>
                <a:ea typeface="宋体"/>
              </a:rPr>
              <a:t>学了课文，你从孙权劝学、吕蒙就学、鲁肃赞学中明白了什么道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84240" y="2411280"/>
            <a:ext cx="914400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① </a:t>
            </a: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我们不要以一成不变的态度看待他人</a:t>
            </a: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,</a:t>
            </a: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要以发展的眼光看待一切人和事。 </a:t>
            </a:r>
            <a:br>
              <a:rPr sz="2800"/>
            </a:b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②求知可以改进人的天性。 学习对成长的重要性）</a:t>
            </a:r>
            <a:br>
              <a:rPr sz="2800"/>
            </a:b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③一个人即使基础差，只要端正态度，刻苦努力，就一定能学到东西，提高自己的认识水平和办事能力。 </a:t>
            </a:r>
            <a:br>
              <a:rPr sz="2800"/>
            </a:b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④告诉我们“开卷有益”的道理。读书有益于人的发展和完善。 </a:t>
            </a:r>
            <a:br>
              <a:rPr sz="2800"/>
            </a:b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⑤要虚心听取别人的正确意见，要虚心接受教育； </a:t>
            </a:r>
            <a:br>
              <a:rPr sz="2800"/>
            </a:br>
            <a:r>
              <a:rPr b="1" lang="ko-KR" sz="2800" spc="-1" strike="noStrike">
                <a:solidFill>
                  <a:srgbClr val="00007e"/>
                </a:solidFill>
                <a:latin typeface="宋体"/>
                <a:ea typeface="宋体"/>
              </a:rPr>
              <a:t>⑥活到老，学到老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7e"/>
                </a:solidFill>
                <a:latin typeface="宋体"/>
                <a:ea typeface="黑体"/>
              </a:rPr>
              <a:t>                 </a:t>
            </a:r>
            <a:r>
              <a:rPr b="1" lang="ko-KR" sz="3200" spc="-1" strike="noStrike">
                <a:solidFill>
                  <a:srgbClr val="ff0000"/>
                </a:solidFill>
                <a:latin typeface="宋体"/>
                <a:ea typeface="黑体"/>
              </a:rPr>
              <a:t>            ——</a:t>
            </a:r>
            <a:r>
              <a:rPr b="1" lang="ko-KR" sz="3200" spc="-1" strike="noStrike">
                <a:solidFill>
                  <a:srgbClr val="ff0000"/>
                </a:solidFill>
                <a:latin typeface="宋体"/>
                <a:ea typeface="黑体"/>
              </a:rPr>
              <a:t>参考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24000" y="143820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385723"/>
                </a:solidFill>
                <a:latin typeface="宋体"/>
                <a:ea typeface="宋体"/>
              </a:rPr>
              <a:t>课文是怎样表现吕蒙学识进步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1120" y="2924280"/>
            <a:ext cx="886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611f2"/>
                </a:solidFill>
                <a:latin typeface="宋体"/>
                <a:ea typeface="宋体"/>
              </a:rPr>
              <a:t>    </a:t>
            </a:r>
            <a:r>
              <a:rPr b="1" lang="ko-KR" sz="3600" spc="-1" strike="noStrike">
                <a:solidFill>
                  <a:srgbClr val="0611f2"/>
                </a:solidFill>
                <a:latin typeface="楷体"/>
                <a:ea typeface="楷体"/>
              </a:rPr>
              <a:t>运用侧面描写的手法，通过写吕蒙和鲁肃之间的论议，结友，侧面烘托了吕蒙的自信，来表现他取得的学习成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3920" y="250920"/>
            <a:ext cx="661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宋体"/>
                <a:ea typeface="华文新魏"/>
              </a:rPr>
              <a:t>悟读二——写法启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fImage375842619358.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0a22e"/>
            </a:solidFill>
            <a:round/>
          </a:ln>
        </p:spPr>
      </p:pic>
      <p:sp>
        <p:nvSpPr>
          <p:cNvPr id="268" name=""/>
          <p:cNvSpPr/>
          <p:nvPr/>
        </p:nvSpPr>
        <p:spPr>
          <a:xfrm>
            <a:off x="1619280" y="62064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5880" y="4032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 u="sng">
                <a:solidFill>
                  <a:srgbClr val="ffc42f"/>
                </a:solidFill>
                <a:uFillTx/>
                <a:latin typeface="宋体"/>
                <a:ea typeface="黑体"/>
              </a:rPr>
              <a:t>古代称呼表示的含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66560" y="1214280"/>
            <a:ext cx="72900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卿</a:t>
            </a: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</a:t>
            </a: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孤</a:t>
            </a: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</a:t>
            </a: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阿蒙</a:t>
            </a: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</a:t>
            </a: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大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03640" y="2276640"/>
            <a:ext cx="594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43080" y="128592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①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古代君对臣的爱称②古代对人的敬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28920" y="23796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古代王侯的自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0200" y="3605040"/>
            <a:ext cx="43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是吕蒙的小名。阿，名词词头，多用于亲属称呼或人名的前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71840" y="50594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长兄，这里是对朋友辈的敬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-171360"/>
            <a:ext cx="3313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1280" y="476280"/>
            <a:ext cx="352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sanguo"/>
          <p:cNvPicPr/>
          <p:nvPr/>
        </p:nvPicPr>
        <p:blipFill>
          <a:blip r:embed="rId2"/>
          <a:stretch/>
        </p:blipFill>
        <p:spPr>
          <a:xfrm>
            <a:off x="4211640" y="1123920"/>
            <a:ext cx="4653000" cy="3959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42760" y="907560"/>
            <a:ext cx="2783160" cy="416268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孙权劝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资治通鉴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4000" y="19080"/>
            <a:ext cx="831996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0000"/>
                </a:solidFill>
                <a:latin typeface="宋体"/>
                <a:ea typeface="黑体"/>
              </a:rPr>
              <a:t>古今异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800000"/>
                </a:solidFill>
                <a:latin typeface="宋体"/>
                <a:ea typeface="Times New Roman"/>
              </a:rPr>
              <a:t>    </a:t>
            </a:r>
            <a:r>
              <a:rPr b="1" lang="ko-KR" sz="3200" spc="-1" strike="noStrike">
                <a:solidFill>
                  <a:srgbClr val="800000"/>
                </a:solidFill>
                <a:latin typeface="宋体"/>
                <a:ea typeface="黑体"/>
              </a:rPr>
              <a:t>辞 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古：             </a:t>
            </a:r>
            <a:r>
              <a:rPr b="1" lang="ko-KR" sz="3200" spc="-1" strike="noStrike">
                <a:solidFill>
                  <a:srgbClr val="800000"/>
                </a:solidFill>
                <a:latin typeface="宋体"/>
                <a:ea typeface="黑体"/>
              </a:rPr>
              <a:t>及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黑体"/>
              </a:rPr>
              <a:t> 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        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今：                   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  </a:t>
            </a:r>
            <a:r>
              <a:rPr b="1" lang="ko-KR" sz="3200" spc="-1" strike="noStrike">
                <a:solidFill>
                  <a:srgbClr val="800000"/>
                </a:solidFill>
                <a:latin typeface="宋体"/>
                <a:ea typeface="黑体"/>
              </a:rPr>
              <a:t>孤</a:t>
            </a: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黑体"/>
              </a:rPr>
              <a:t> 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古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      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800000"/>
                </a:solidFill>
                <a:latin typeface="宋体"/>
                <a:ea typeface="黑体"/>
              </a:rPr>
              <a:t>  </a:t>
            </a:r>
            <a:r>
              <a:rPr b="1" lang="ko-KR" sz="3200" spc="-1" strike="noStrike">
                <a:solidFill>
                  <a:srgbClr val="800000"/>
                </a:solidFill>
                <a:latin typeface="宋体"/>
                <a:ea typeface="黑体"/>
              </a:rPr>
              <a:t>更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古：         </a:t>
            </a:r>
            <a:r>
              <a:rPr b="1" lang="ko-KR" sz="3200" spc="-1" strike="noStrike">
                <a:solidFill>
                  <a:srgbClr val="800000"/>
                </a:solidFill>
                <a:latin typeface="宋体"/>
                <a:ea typeface="黑体"/>
              </a:rPr>
              <a:t>但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      </a:t>
            </a:r>
            <a:r>
              <a:rPr b="1" lang="ko-KR" sz="2800" spc="-1" strike="noStrike">
                <a:solidFill>
                  <a:srgbClr val="000066"/>
                </a:solidFill>
                <a:latin typeface="宋体"/>
                <a:ea typeface="黑体"/>
              </a:rPr>
              <a:t>今：            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344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更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91280" y="4357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转折连词，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25400" y="3786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只，只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53440" y="380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重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98240" y="29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孤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85160" y="23432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古时王侯自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16880" y="1519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以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18720" y="907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到，等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75080" y="157176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美好的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18000" y="942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99"/>
                </a:solidFill>
                <a:latin typeface="宋体"/>
                <a:ea typeface="黑体"/>
              </a:rPr>
              <a:t>推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78040" y="1141560"/>
            <a:ext cx="73080" cy="7189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58920" y="256536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78480" y="1155600"/>
            <a:ext cx="76320" cy="719280"/>
          </a:xfrm>
          <a:custGeom>
            <a:avLst/>
            <a:gdLst>
              <a:gd name="textAreaLeft" fmla="*/ 48960 w 76320"/>
              <a:gd name="textAreaRight" fmla="*/ 76320 w 76320"/>
              <a:gd name="textAreaTop" fmla="*/ 19440 h 719280"/>
              <a:gd name="textAreaBottom" fmla="*/ 6998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39"/>
                  <a:pt x="10800" y="1877"/>
                </a:cubicBezTo>
                <a:lnTo>
                  <a:pt x="10800" y="8923"/>
                </a:lnTo>
                <a:cubicBezTo>
                  <a:pt x="10800" y="9862"/>
                  <a:pt x="5400" y="10800"/>
                  <a:pt x="0" y="10800"/>
                </a:cubicBezTo>
                <a:cubicBezTo>
                  <a:pt x="5400" y="10800"/>
                  <a:pt x="10800" y="11739"/>
                  <a:pt x="10800" y="12677"/>
                </a:cubicBezTo>
                <a:lnTo>
                  <a:pt x="10800" y="19723"/>
                </a:lnTo>
                <a:cubicBezTo>
                  <a:pt x="10800" y="2066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03640" y="402732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58920" y="4005360"/>
            <a:ext cx="73080" cy="7189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fImage234263036962.jpg" descr=""/>
          <p:cNvPicPr/>
          <p:nvPr/>
        </p:nvPicPr>
        <p:blipFill>
          <a:blip r:embed="rId1"/>
          <a:stretch/>
        </p:blipFill>
        <p:spPr>
          <a:xfrm>
            <a:off x="0" y="0"/>
            <a:ext cx="9091440" cy="6818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92360" y="189000"/>
            <a:ext cx="3313080" cy="64260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 u="sng">
                <a:solidFill>
                  <a:srgbClr val="ffc42f"/>
                </a:solidFill>
                <a:uFillTx/>
                <a:latin typeface="宋体"/>
                <a:ea typeface="黑体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79640" y="148428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0920" y="1484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50920" y="2997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50920" y="458136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43280" y="1125360"/>
            <a:ext cx="73080" cy="1366920"/>
          </a:xfrm>
          <a:custGeom>
            <a:avLst/>
            <a:gdLst>
              <a:gd name="textAreaLeft" fmla="*/ 46800 w 73080"/>
              <a:gd name="textAreaRight" fmla="*/ 73440 w 73080"/>
              <a:gd name="textAreaTop" fmla="*/ 35280 h 1366920"/>
              <a:gd name="textAreaBottom" fmla="*/ 133164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03640" y="981000"/>
            <a:ext cx="124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71640" y="2637000"/>
            <a:ext cx="144720" cy="13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71640" y="422100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112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当涂掌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03640" y="1916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但当涉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987640" y="2637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以军中多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3573360"/>
            <a:ext cx="352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3357720"/>
            <a:ext cx="453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2896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自以为大有所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59280" y="4221000"/>
            <a:ext cx="33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见往事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87640" y="5157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大兄何见事之晚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43640" y="1125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33cc"/>
                </a:solidFill>
                <a:uFillTx/>
                <a:latin typeface="宋体"/>
                <a:ea typeface="黑体"/>
              </a:rPr>
              <a:t>掌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88000" y="1773360"/>
            <a:ext cx="158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72360" y="1916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33cc"/>
                </a:solidFill>
                <a:uFillTx/>
                <a:latin typeface="宋体"/>
                <a:ea typeface="黑体"/>
              </a:rPr>
              <a:t>应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16720" y="2637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33cc"/>
                </a:solidFill>
                <a:uFillTx/>
                <a:latin typeface="宋体"/>
                <a:ea typeface="黑体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84720" y="350028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33cc"/>
                </a:solidFill>
                <a:uFillTx/>
                <a:latin typeface="宋体"/>
                <a:ea typeface="黑体"/>
              </a:rPr>
              <a:t>与“为”组成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500880" y="41432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33cc"/>
                </a:solidFill>
                <a:uFillTx/>
                <a:latin typeface="宋体"/>
                <a:ea typeface="黑体"/>
              </a:rPr>
              <a:t>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15080" y="5143680"/>
            <a:ext cx="17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33cc"/>
                </a:solidFill>
                <a:uFillTx/>
                <a:latin typeface="宋体"/>
                <a:ea typeface="黑体"/>
              </a:rPr>
              <a:t>知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89000"/>
            <a:ext cx="8388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宋体"/>
                <a:ea typeface="幼圆"/>
              </a:rPr>
              <a:t>有两个成语出自这篇文章，分别是哪两个？各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-20520" y="1946160"/>
            <a:ext cx="3786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0000"/>
                </a:solidFill>
                <a:latin typeface="宋体"/>
                <a:ea typeface="华文楷体"/>
              </a:rPr>
              <a:t>吴下阿蒙</a:t>
            </a:r>
            <a:r>
              <a:rPr b="1" lang="ko-KR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0000"/>
                </a:solidFill>
                <a:latin typeface="宋体"/>
                <a:ea typeface="华文楷体"/>
              </a:rPr>
              <a:t>刮目相待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25640" y="1131840"/>
            <a:ext cx="632160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770055"/>
                </a:solidFill>
                <a:latin typeface="楷体"/>
                <a:ea typeface="楷体"/>
              </a:rPr>
              <a:t>比喻才识尚浅，现在多用于指他人有转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770055"/>
                </a:solidFill>
                <a:latin typeface="宋体"/>
                <a:ea typeface="华文楷体"/>
              </a:rPr>
              <a:t>另眼相看，用新的眼光来看待</a:t>
            </a:r>
            <a:r>
              <a:rPr b="1" lang="ko-KR" sz="3600" spc="-1" strike="noStrike">
                <a:solidFill>
                  <a:srgbClr val="770055"/>
                </a:solidFill>
                <a:latin typeface="宋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fImage303254164464.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fImage770664185705.png" descr=""/>
          <p:cNvPicPr/>
          <p:nvPr/>
        </p:nvPicPr>
        <p:blipFill>
          <a:blip r:embed="rId2"/>
          <a:stretch/>
        </p:blipFill>
        <p:spPr>
          <a:xfrm>
            <a:off x="336600" y="1492200"/>
            <a:ext cx="8655120" cy="42116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977760" y="582480"/>
            <a:ext cx="358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83298"/>
          <p:cNvSpPr/>
          <p:nvPr/>
        </p:nvSpPr>
        <p:spPr>
          <a:xfrm>
            <a:off x="-36360" y="404640"/>
            <a:ext cx="60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学习目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83299"/>
          <p:cNvSpPr/>
          <p:nvPr/>
        </p:nvSpPr>
        <p:spPr>
          <a:xfrm>
            <a:off x="0" y="184464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了解有关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资治通鉴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的文学常识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积累本课重点文言字词，疏通本课文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通过人物的语言体会人物的心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fImage119123841.j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0000"/>
                </a:solidFill>
                <a:latin typeface="宋体"/>
                <a:ea typeface="宋体"/>
              </a:rPr>
              <a:t>课文重要人物资料快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676520"/>
            <a:ext cx="26668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一</a:t>
            </a:r>
            <a:r>
              <a:rPr b="0" lang="ko-KR" sz="4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、孙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124080"/>
            <a:ext cx="25905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二</a:t>
            </a:r>
            <a:r>
              <a:rPr b="0" lang="ko-KR" sz="4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、鲁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366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648320"/>
            <a:ext cx="26668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三</a:t>
            </a:r>
            <a:r>
              <a:rPr b="0" lang="ko-KR" sz="4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、吕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2200" y="0"/>
            <a:ext cx="6481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孙权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幼圆"/>
              </a:rPr>
              <a:t>（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宋体"/>
              </a:rPr>
              <a:t>182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幼圆"/>
              </a:rPr>
              <a:t>——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宋体"/>
              </a:rPr>
              <a:t>252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幼圆"/>
              </a:rPr>
              <a:t>），字仲谋，吴郡富春（现在浙江富阳）人，三国吴帝国的创建者。</a:t>
            </a:r>
            <a:r>
              <a:rPr b="1" lang="ko-KR" sz="2400" spc="-1" strike="noStrike">
                <a:solidFill>
                  <a:srgbClr val="a5644e"/>
                </a:solidFill>
                <a:latin typeface="宋体"/>
                <a:ea typeface="宋体"/>
              </a:rPr>
              <a:t>自称为春秋时大军事家</a:t>
            </a:r>
            <a:r>
              <a:rPr b="1" lang="ko-KR" sz="2400" spc="-1" strike="noStrike">
                <a:solidFill>
                  <a:srgbClr val="ff3399"/>
                </a:solidFill>
                <a:latin typeface="宋体"/>
                <a:ea typeface="宋体"/>
              </a:rPr>
              <a:t>孙武</a:t>
            </a:r>
            <a:r>
              <a:rPr b="1" lang="ko-KR" sz="2400" spc="-1" strike="noStrike">
                <a:solidFill>
                  <a:srgbClr val="a5644e"/>
                </a:solidFill>
                <a:latin typeface="宋体"/>
                <a:ea typeface="宋体"/>
              </a:rPr>
              <a:t>之后， 公元二二九年至二五二年在位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在五十多年的时间内占有江东。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宋体"/>
              </a:rPr>
              <a:t>公元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宋体"/>
              </a:rPr>
              <a:t>229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宋体"/>
              </a:rPr>
              <a:t>年，称帝与武昌，后迁都建业（今南京市），建立吴国，在位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宋体"/>
              </a:rPr>
              <a:t>23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宋体"/>
              </a:rPr>
              <a:t>年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其最大功绩就是开发了东南地区，促进了东南地区经济的繁荣发展。 </a:t>
            </a:r>
            <a:r>
              <a:rPr b="1" lang="ko-KR" sz="2400" spc="-1" strike="noStrike">
                <a:solidFill>
                  <a:srgbClr val="a5644e"/>
                </a:solidFill>
                <a:latin typeface="宋体"/>
                <a:ea typeface="宋体"/>
              </a:rPr>
              <a:t>在位时，曾派卫温率领万人船队与夷洲</a:t>
            </a:r>
            <a:r>
              <a:rPr b="1" lang="ko-KR" sz="2400" spc="-1" strike="noStrike">
                <a:solidFill>
                  <a:srgbClr val="a5644e"/>
                </a:solidFill>
                <a:latin typeface="宋体"/>
                <a:ea typeface="宋体"/>
              </a:rPr>
              <a:t>(</a:t>
            </a:r>
            <a:r>
              <a:rPr b="1" lang="ko-KR" sz="2400" spc="-1" strike="noStrike">
                <a:solidFill>
                  <a:srgbClr val="a5644e"/>
                </a:solidFill>
                <a:latin typeface="宋体"/>
                <a:ea typeface="宋体"/>
              </a:rPr>
              <a:t>今台湾省</a:t>
            </a:r>
            <a:r>
              <a:rPr b="1" lang="ko-KR" sz="2400" spc="-1" strike="noStrike">
                <a:solidFill>
                  <a:srgbClr val="a5644e"/>
                </a:solidFill>
                <a:latin typeface="宋体"/>
                <a:ea typeface="宋体"/>
              </a:rPr>
              <a:t>)</a:t>
            </a:r>
            <a:r>
              <a:rPr b="1" lang="ko-KR" sz="2400" spc="-1" strike="noStrike">
                <a:solidFill>
                  <a:srgbClr val="a5644e"/>
                </a:solidFill>
                <a:latin typeface="宋体"/>
                <a:ea typeface="宋体"/>
              </a:rPr>
              <a:t>取得联系。死后追封为吴大帝。</a:t>
            </a:r>
            <a:br>
              <a:rPr sz="2400"/>
            </a:b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幼圆"/>
              </a:rPr>
              <a:t>他在外交上能屈身忍辱，以柔克刚，有勾践之奇，这方面超过了曹操，刘备。东汉末，他</a:t>
            </a:r>
            <a:r>
              <a:rPr b="1" lang="ko-KR" sz="2400" spc="-1" strike="noStrike">
                <a:solidFill>
                  <a:srgbClr val="800000"/>
                </a:solidFill>
                <a:latin typeface="宋体"/>
                <a:ea typeface="宋体"/>
              </a:rPr>
              <a:t>从兄长孙策遇害身亡之日起，</a:t>
            </a:r>
            <a:r>
              <a:rPr b="1" lang="ko-KR" sz="2400" spc="-1" strike="noStrike">
                <a:solidFill>
                  <a:srgbClr val="0000ff"/>
                </a:solidFill>
                <a:latin typeface="宋体"/>
                <a:ea typeface="幼圆"/>
              </a:rPr>
              <a:t>继其兄孙策据江东六郡，后与刘备联合，大败曹操与赤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fImage247512478467.jpg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5484960"/>
            <a:ext cx="867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曹操与孙权对阵，曹操攻而不能破，且见吴军阵容整肃，孙权英武异常，深为羡慕。于是就发出了“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生子当如孙仲谋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黑体"/>
              </a:rPr>
              <a:t>”的赞语。后人常以此比喻希望晚辈英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fImage77292496334.jpg" descr=""/>
          <p:cNvPicPr/>
          <p:nvPr/>
        </p:nvPicPr>
        <p:blipFill>
          <a:blip r:embed="rId3"/>
          <a:stretch/>
        </p:blipFill>
        <p:spPr>
          <a:xfrm>
            <a:off x="0" y="0"/>
            <a:ext cx="262728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1920" y="0"/>
            <a:ext cx="701208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幼圆"/>
              </a:rPr>
              <a:t>鲁肃（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宋体"/>
              </a:rPr>
              <a:t>172-217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幼圆"/>
              </a:rPr>
              <a:t>），字子敬，临淮东城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宋体"/>
              </a:rPr>
              <a:t>(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幼圆"/>
              </a:rPr>
              <a:t>今安徽定远东南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宋体"/>
              </a:rPr>
              <a:t>)</a:t>
            </a:r>
            <a:r>
              <a:rPr b="1" lang="ko-KR" sz="3200" spc="-1" strike="noStrike">
                <a:solidFill>
                  <a:srgbClr val="000066"/>
                </a:solidFill>
                <a:latin typeface="宋体"/>
                <a:ea typeface="幼圆"/>
              </a:rPr>
              <a:t>人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从小丧父，靠祖母抚养。他少有大志，轻财好施，喜欢习武骑射。</a:t>
            </a:r>
            <a:r>
              <a:rPr b="1" lang="ko-KR" sz="2400" spc="-1" strike="noStrike">
                <a:solidFill>
                  <a:srgbClr val="000066"/>
                </a:solidFill>
                <a:latin typeface="宋体"/>
                <a:ea typeface="幼圆"/>
              </a:rPr>
              <a:t>三国时吴国名将、战略家、政治家和外交家。</a:t>
            </a:r>
            <a:r>
              <a:rPr b="1" lang="ko-KR" sz="24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东吴四英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周瑜、陆逊、鲁肃、吕蒙）将第二位，文武全才。</a:t>
            </a:r>
            <a:r>
              <a:rPr b="1" lang="ko-KR" sz="2400" spc="-1" strike="noStrike">
                <a:solidFill>
                  <a:srgbClr val="000066"/>
                </a:solidFill>
                <a:latin typeface="宋体"/>
                <a:ea typeface="幼圆"/>
              </a:rPr>
              <a:t>他不但治军有方，名闻遐迩，而且虑深思远，见解超人。他出身士族，为孙权所敬重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周瑜向孙权推荐了鲁肃。鲁肃见了孙权，明确提出了与曹操、袁绍三分天下的想法，这就是著名的《榻上策》。孙权非常敬重鲁肃，与他日夜交谈。赤壁之战中，鲁肃以武将身份出战，总领三军，立下了很大的</a:t>
            </a:r>
            <a:r>
              <a:rPr b="1" lang="ko-KR" sz="2400" spc="-1" strike="noStrike">
                <a:solidFill>
                  <a:srgbClr val="080808"/>
                </a:solidFill>
                <a:latin typeface="宋体"/>
                <a:ea typeface="宋体"/>
              </a:rPr>
              <a:t>功劳。赤壁之战后，鲁肃立主将荆州借给刘备，这一招使得曹操正在写字的笔吓得掉到了地上。周瑜临死前向孙权推荐鲁肃继任都督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他一生的最大功绩是倡导、促成并终身不易地竭力维护孙刘联盟，使三足鼎立之势能够形成。</a:t>
            </a:r>
            <a:r>
              <a:rPr b="1" lang="ko-KR" sz="2400" spc="-1" strike="noStrike">
                <a:solidFill>
                  <a:srgbClr val="080808"/>
                </a:solidFill>
                <a:latin typeface="宋体"/>
                <a:ea typeface="宋体"/>
              </a:rPr>
              <a:t>217</a:t>
            </a:r>
            <a:r>
              <a:rPr b="1" lang="ko-KR" sz="2400" spc="-1" strike="noStrike">
                <a:solidFill>
                  <a:srgbClr val="080808"/>
                </a:solidFill>
                <a:latin typeface="宋体"/>
                <a:ea typeface="宋体"/>
              </a:rPr>
              <a:t>年，鲁肃病逝，年仅</a:t>
            </a:r>
            <a:r>
              <a:rPr b="1" lang="ko-KR" sz="2400" spc="-1" strike="noStrike">
                <a:solidFill>
                  <a:srgbClr val="080808"/>
                </a:solidFill>
                <a:latin typeface="宋体"/>
                <a:ea typeface="宋体"/>
              </a:rPr>
              <a:t>46</a:t>
            </a:r>
            <a:r>
              <a:rPr b="1" lang="ko-KR" sz="2400" spc="-1" strike="noStrike">
                <a:solidFill>
                  <a:srgbClr val="080808"/>
                </a:solidFill>
                <a:latin typeface="宋体"/>
                <a:ea typeface="宋体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fImage224432526500.jpg" descr=""/>
          <p:cNvPicPr/>
          <p:nvPr/>
        </p:nvPicPr>
        <p:blipFill>
          <a:blip r:embed="rId2"/>
          <a:stretch/>
        </p:blipFill>
        <p:spPr>
          <a:xfrm>
            <a:off x="127080" y="3568680"/>
            <a:ext cx="2050920" cy="2921040"/>
          </a:xfrm>
          <a:prstGeom prst="rect">
            <a:avLst/>
          </a:prstGeom>
          <a:ln w="0">
            <a:noFill/>
          </a:ln>
        </p:spPr>
      </p:pic>
      <p:pic>
        <p:nvPicPr>
          <p:cNvPr id="114" name="fImage408542539169.jpg" descr=""/>
          <p:cNvPicPr/>
          <p:nvPr/>
        </p:nvPicPr>
        <p:blipFill>
          <a:blip r:embed="rId3"/>
          <a:stretch/>
        </p:blipFill>
        <p:spPr>
          <a:xfrm>
            <a:off x="139680" y="477720"/>
            <a:ext cx="20383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6360" y="0"/>
            <a:ext cx="7667640" cy="4543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宋体"/>
                <a:ea typeface="仿宋_GB2312"/>
              </a:rPr>
              <a:t>吕蒙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（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178-219</a:t>
            </a:r>
            <a:r>
              <a:rPr b="1" lang="ko-KR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），</a:t>
            </a:r>
            <a:r>
              <a:rPr b="1" lang="ko-KR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字子明，三国时吴国名将。</a:t>
            </a:r>
            <a:r>
              <a:rPr b="1" lang="ko-KR" sz="2800" spc="-1" strike="noStrike">
                <a:solidFill>
                  <a:srgbClr val="990000"/>
                </a:solidFill>
                <a:latin typeface="宋体"/>
                <a:ea typeface="宋体"/>
              </a:rPr>
              <a:t>汝南富陡</a:t>
            </a:r>
            <a:r>
              <a:rPr b="1" lang="ko-KR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安徽阜南人，</a:t>
            </a:r>
            <a:r>
              <a:rPr b="1" lang="ko-KR" sz="2800" spc="-1" strike="noStrike">
                <a:solidFill>
                  <a:srgbClr val="990000"/>
                </a:solidFill>
                <a:latin typeface="宋体"/>
                <a:ea typeface="宋体"/>
              </a:rPr>
              <a:t>少年时不读书，以胆气称，</a:t>
            </a:r>
            <a:r>
              <a:rPr b="1" lang="ko-KR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少依孙策部将邓当。邓当死代领其军。后从孙权攻占各地。曾随周瑜、程普等大破曹操于赤壁。后来他接受孙权劝告，多读史书、兵书，长进甚快。</a:t>
            </a:r>
            <a:r>
              <a:rPr b="1" lang="ko-KR" sz="2400" spc="-1" strike="noStrike">
                <a:solidFill>
                  <a:srgbClr val="3333cc"/>
                </a:solidFill>
                <a:latin typeface="宋体"/>
                <a:ea typeface="宋体"/>
              </a:rPr>
              <a:t>官拜虎威将军。倍受孙权，鲁肃的信赖。鲁肃死后，掌管东吴军事，率军暗袭荆州，擒杀关羽父子，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占领荆洲，</a:t>
            </a:r>
            <a:r>
              <a:rPr b="1" lang="ko-KR" sz="2400" spc="-1" strike="noStrike">
                <a:solidFill>
                  <a:srgbClr val="3333cc"/>
                </a:solidFill>
                <a:latin typeface="宋体"/>
                <a:ea typeface="宋体"/>
              </a:rPr>
              <a:t>名扬三国。杀关羽后不久病死。</a:t>
            </a:r>
            <a:r>
              <a:rPr b="1" lang="ko-KR" sz="2400" spc="-1" strike="noStrike">
                <a:solidFill>
                  <a:srgbClr val="3333cc"/>
                </a:solidFill>
                <a:latin typeface="宋体"/>
                <a:ea typeface="Times New Roman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建策：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. 208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年荊南战役获馬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00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匹（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54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回）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. 212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建濡须塢（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61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回）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. 214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急攻皖城（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67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回）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4. 215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巧詐郝普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5. 219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袭取荊州（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回）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代表性战役：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. 214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皖城会战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67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回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. 219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荊州战役。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7 </a:t>
            </a:r>
            <a:r>
              <a:rPr b="1" lang="ko-KR" sz="2400" spc="-1" strike="noStrike">
                <a:solidFill>
                  <a:srgbClr val="000000"/>
                </a:solidFill>
                <a:latin typeface="宋体"/>
                <a:ea typeface="宋体"/>
              </a:rPr>
              <a:t>回。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fImage192562565724.jpg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fImage61662571478.jpg" descr=""/>
          <p:cNvPicPr/>
          <p:nvPr/>
        </p:nvPicPr>
        <p:blipFill>
          <a:blip r:embed="rId3"/>
          <a:stretch/>
        </p:blipFill>
        <p:spPr>
          <a:xfrm>
            <a:off x="-541440" y="0"/>
            <a:ext cx="205596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83297" descr="图片12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183298"/>
          <p:cNvSpPr/>
          <p:nvPr/>
        </p:nvSpPr>
        <p:spPr>
          <a:xfrm>
            <a:off x="0" y="331920"/>
            <a:ext cx="90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预习检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240" y="1628640"/>
            <a:ext cx="2668680" cy="4738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3132000" y="2205000"/>
            <a:ext cx="595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资治通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主持编纂的一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记载了从战国到五代共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36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间的史事。作者，字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陕州夏县人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朝代）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家、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家。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732720" y="21319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司马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651640" y="2637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编年体通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"/>
          <p:cNvSpPr/>
          <p:nvPr/>
        </p:nvSpPr>
        <p:spPr>
          <a:xfrm>
            <a:off x="5132520" y="37018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君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"/>
          <p:cNvSpPr/>
          <p:nvPr/>
        </p:nvSpPr>
        <p:spPr>
          <a:xfrm>
            <a:off x="3433680" y="4175280"/>
            <a:ext cx="22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北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6303960" y="4173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政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3495600" y="4653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史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12:45:00Z</dcterms:created>
  <dc:creator/>
  <dc:description/>
  <dc:language>en-US</dc:language>
  <cp:lastModifiedBy/>
  <dcterms:modified xsi:type="dcterms:W3CDTF">2020-02-12T03:47:36Z</dcterms:modified>
  <cp:revision>0</cp:revision>
  <dc:subject/>
  <dc:title/>
</cp:coreProperties>
</file>