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558-3F7A-42E7-B9E6-C33405F782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7E5-4A56-40C0-BC51-7F5F8E044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679-6998-40D2-BE8F-99262B6E35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2B0-BD51-45A8-B753-0502A25628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141-8117-4A8D-824C-78829820F2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560-7168-4688-AF41-3179B07FED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9FA9-FE25-4168-A53C-150FCC1B74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2B72-7640-4874-AAA5-881C2AF671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E76-482C-4D38-A9FE-66CB416CBD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FF7-0B13-46E0-A241-FC3D432141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BFC-277D-41A1-AC75-CD0EC9F75A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93B-33C9-4617-83C0-DD7B16205C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4F7-3A84-427E-8A8E-4535D119C5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A16-B224-4A8F-85D9-BE16AD201C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923-8593-4212-A94C-830E7AE504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940-E702-41D0-ADFB-CABC563D5B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CB31-DB14-4668-AB25-9CBA0BB446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E6F-21A4-4D9B-B182-F8C9B996AE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AAF-8438-469E-B15A-C97FE72EDC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214-23F7-4790-857B-166624D661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6364-D997-4843-ACEC-4709B010FE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BF3-727A-4BCD-AE35-7AB77EE7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C45-A7B0-4E89-945E-E8408A78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DDA-2EB4-4CFC-8CDE-1DC0FCC4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B0E-78FC-4D29-A2D4-9576F3A8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977-521D-4848-9881-90FE754F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951-4E0F-4D16-9259-F90E9B0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61FF-0C30-4141-B27B-24D97BA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0C7-5DA7-48AB-AFC3-DB7440C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660-5035-4B63-AC74-2136DE3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F96-B179-460C-B87C-17A8ED6E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8DBB-B996-4822-9541-0866C94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160-FF8F-4318-A9F6-51F13803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9E21-420F-4BDA-8762-5A3AD50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E9D-B915-42D7-8AAE-E2668D5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259-453D-408C-9E2F-3AF8F5E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09D3-DB99-4F42-BF1D-8F307712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CED5-72D6-4115-AB70-85B06BCC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574-2724-4950-AB2C-C56EBBA1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296-AC55-43D9-BF89-B70C0DF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4FF-ABB8-408B-BBF4-4CE6A6D7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0E5-58EA-45B8-A873-0A7E5A9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E1D-5E00-4175-B10B-16340B6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03B-3CB8-4932-A380-AF34D52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B27-86CF-4C7D-A75E-C1B4360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C07-6F87-4BD7-A85C-09489D0EE6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huichen3\Desktop\Pictures\QQ截图2014071116432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CB3A-AAB3-462B-BABB-BA6400FB9C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2034360" y="27147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天晴了的时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huichen3\Desktop\图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0"/>
            <a:ext cx="4857840" cy="3146040"/>
          </a:xfrm>
          <a:prstGeom prst="rect">
            <a:avLst/>
          </a:prstGeom>
          <a:solidFill>
            <a:srgbClr val="cc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alibri"/>
                <a:ea typeface="楷体"/>
              </a:rPr>
              <a:t>抖去水珠的凤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alibri"/>
                <a:ea typeface="楷体"/>
              </a:rPr>
              <a:t>在木叶间自在闲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alibri"/>
                <a:ea typeface="楷体"/>
              </a:rPr>
              <a:t>把它饰彩的智慧书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alibri"/>
                <a:ea typeface="楷体"/>
              </a:rPr>
              <a:t>曝着阳光一开一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0" y="0"/>
            <a:ext cx="4643280" cy="31460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"/>
              </a:rPr>
              <a:t>到小径中去走走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"/>
              </a:rPr>
              <a:t>在天晴了的时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"/>
              </a:rPr>
              <a:t>赤着脚，携着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"/>
              </a:rPr>
              <a:t>踏着新泥，涉过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huichen3\Desktop\图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85800" y="0"/>
            <a:ext cx="5672160" cy="34844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新阳推开阴霾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溪水在温风中晕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看山间移动的暗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云的脚迹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它也在闲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2060280" y="9288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中描写了雨过天晴后的哪些景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1214280" y="2071800"/>
            <a:ext cx="3286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小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小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小白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凤蝶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57120" y="50004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诗人的描述，雨后的小路、小草、小白菊、凤蝶儿给你留下了怎样的印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428760" y="19288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路：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湿润的、散发泥土芳香的、空气新鲜的、让人心旷神怡的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草：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新绿的、充满生机的、干净的、顶着小雨滴的、戴着珍珠的、活泼的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白菊：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小心翼翼的、文静的、美丽的、自信的、绽放的、幸福的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凤蝶：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自由自在的、美丽的、穿着五彩衣服的、快乐的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571680" y="235728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诗人通过拟人化的手法，用“动态化”的表达方式，为我们绘出一幅幅雨后放晴的乡村画卷。“泥路”是温柔的、“小草”在炫耀、“小白菊”大胆地试寒试暖、“凤蝶儿”在悠然地闲游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这些普通的景物，在雨后似乎都焕然一新，让人陶醉和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428760" y="357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读了诗人描写天晴后的小路、小草、小白菊、凤蝶儿的句子后，你们发现了诗歌在表达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42960" y="21430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新阳”象征胜利的阳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温风”象征解放的和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泥路”象征新生的国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小草、小白菊、凤蝶儿” 象征着解放的各阶层人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42876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中的“新阳、温风、泥路、小草、小白菊、凤蝶儿”分别象征了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何深刻含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深刻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500040" y="4786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6228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4f6228"/>
                </a:solidFill>
                <a:latin typeface="楷体"/>
                <a:ea typeface="楷体"/>
              </a:rPr>
              <a:t>这首诗用象征的手法，歌颂光明和解放，表达了诗人对抗战必胜的坚定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1500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在天晴了的时候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整首诗用拟人手法、形象的语言生动地描写了雨过天晴的景色，给我们勾画出一幅富有诗意的自然风光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诗歌依次描写了雨后的小路、小草、小白菊、凤蝶等景物，最后写了雨后走小径的独特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全诗分为两小节，语言清新明快，优美形象，结构完整紧凑，感情抒发真挚自然，富有韵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634320" y="428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诗歌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1679400" y="642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拓展欣赏：关于雨的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428760" y="19288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雨急山溪涨，云迷岭树低。（戴叔伦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宿灵岩寺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春潮带雨晚来急，野渡无人舟自横。（韦应物</a:t>
            </a:r>
            <a:r>
              <a:rPr b="1" lang="en-US" sz="2800" spc="-1" strike="noStrike">
                <a:solidFill>
                  <a:srgbClr val="00808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滁州西涧</a:t>
            </a:r>
            <a:r>
              <a:rPr b="1" lang="en-US" sz="2800" spc="-1" strike="noStrike">
                <a:solidFill>
                  <a:srgbClr val="00808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好雨知时节，当春乃发生。（杜甫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春夜喜雨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夜来风雨声，花落知多少。（孟浩然</a:t>
            </a:r>
            <a:r>
              <a:rPr b="1" lang="en-US" sz="2800" spc="-1" strike="noStrike">
                <a:solidFill>
                  <a:srgbClr val="00808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春晓</a:t>
            </a:r>
            <a:r>
              <a:rPr b="1" lang="en-US" sz="2800" spc="-1" strike="noStrike">
                <a:solidFill>
                  <a:srgbClr val="00808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808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空山新雨后，天气晚来秋（王维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山居秋暝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134360" y="8571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拓展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428760" y="228600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最喜欢哪句诗，为什么喜欢？说说读了这首诗后的感受和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还见过哪些雨后的自然景象？说一说，并模仿这首诗的写法，把你观察到的雨过天晴的景象写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714240" y="1714680"/>
            <a:ext cx="6993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楷体"/>
                <a:ea typeface="楷体"/>
              </a:rPr>
              <a:t>炫耀   胆怯   尘垢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楷体"/>
                <a:ea typeface="楷体"/>
              </a:rPr>
              <a:t>凤蝶   智慧   晕皱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楷体"/>
                <a:ea typeface="楷体"/>
              </a:rPr>
              <a:t>阴霾   携着手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楷体"/>
                <a:ea typeface="楷体"/>
              </a:rPr>
              <a:t>涉过溪流    曝着阳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206000" y="5000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词语学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2"/>
          <p:cNvSpPr/>
          <p:nvPr/>
        </p:nvSpPr>
        <p:spPr>
          <a:xfrm>
            <a:off x="2497320" y="23572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714240" y="207180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同学们，在下过雨、天放晴之后，你们有没有到郊外、田间去过呢？看到了什么？听到了什么？你们还记得在空气中充满的泥土味儿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277280" y="8571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课前引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雨后叶3"/>
          <p:cNvPicPr/>
          <p:nvPr/>
        </p:nvPicPr>
        <p:blipFill>
          <a:blip r:embed="rId1"/>
          <a:stretch/>
        </p:blipFill>
        <p:spPr>
          <a:xfrm>
            <a:off x="500040" y="1357200"/>
            <a:ext cx="3887640" cy="252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雨后叶2"/>
          <p:cNvPicPr/>
          <p:nvPr/>
        </p:nvPicPr>
        <p:blipFill>
          <a:blip r:embed="rId2"/>
          <a:stretch/>
        </p:blipFill>
        <p:spPr>
          <a:xfrm>
            <a:off x="500040" y="4214880"/>
            <a:ext cx="3887640" cy="241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雨后花"/>
          <p:cNvPicPr/>
          <p:nvPr/>
        </p:nvPicPr>
        <p:blipFill>
          <a:blip r:embed="rId3"/>
          <a:stretch/>
        </p:blipFill>
        <p:spPr>
          <a:xfrm>
            <a:off x="4714920" y="1357200"/>
            <a:ext cx="4103640" cy="252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雨后花"/>
          <p:cNvPicPr/>
          <p:nvPr/>
        </p:nvPicPr>
        <p:blipFill>
          <a:blip r:embed="rId4"/>
          <a:stretch/>
        </p:blipFill>
        <p:spPr>
          <a:xfrm>
            <a:off x="4714920" y="4143240"/>
            <a:ext cx="4140000" cy="252432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3245040" y="285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雨后初晴的景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85840" y="428760"/>
            <a:ext cx="392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仿宋"/>
                <a:ea typeface="仿宋"/>
              </a:rPr>
              <a:t>介绍作者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10053112416295"/>
          <p:cNvPicPr/>
          <p:nvPr/>
        </p:nvPicPr>
        <p:blipFill>
          <a:blip r:embed="rId1"/>
          <a:stretch/>
        </p:blipFill>
        <p:spPr>
          <a:xfrm>
            <a:off x="5357880" y="1714680"/>
            <a:ext cx="3214800" cy="431316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357120" y="1714680"/>
            <a:ext cx="50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戴望舒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浙江杭县人，中国现代派象征主义诗人，又称“雨巷诗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戴望舒早年就读于上海大学、复旦大学，曾因宣传革命被捕。无论理论还是创作实践，都对中国新诗的发展产生过相当大的影响。诗集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的记忆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望舒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望舒诗稿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，另有译著多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筐2 副本"/>
          <p:cNvPicPr/>
          <p:nvPr/>
        </p:nvPicPr>
        <p:blipFill>
          <a:blip r:embed="rId1"/>
          <a:stretch/>
        </p:blipFill>
        <p:spPr>
          <a:xfrm>
            <a:off x="571680" y="714240"/>
            <a:ext cx="7127640" cy="540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143000" y="1643040"/>
            <a:ext cx="612144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宋体"/>
              </a:rPr>
              <a:t>课文初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朗读课文，思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诗人在雨后初晴的小径上看到了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img3.douban.com/view/note/large/public/p100261399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0" y="0"/>
            <a:ext cx="4286160" cy="2806200"/>
          </a:xfrm>
          <a:prstGeom prst="rect">
            <a:avLst/>
          </a:prstGeom>
          <a:solidFill>
            <a:srgbClr val="ebf1de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"/>
                <a:ea typeface="楷体"/>
              </a:rPr>
              <a:t>在天晴了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"/>
                <a:ea typeface="楷体"/>
              </a:rPr>
              <a:t>该到小径中去走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"/>
                <a:ea typeface="楷体"/>
              </a:rPr>
              <a:t>给雨润过的泥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"/>
                <a:ea typeface="楷体"/>
              </a:rPr>
              <a:t>一定是凉爽又温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523880" y="4267080"/>
            <a:ext cx="5691240" cy="1783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  <a:ea typeface="楷体"/>
              </a:rPr>
              <a:t>炫耀着新绿的小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  <a:ea typeface="楷体"/>
              </a:rPr>
              <a:t>已一下子洗净了尘垢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huichen3\Desktop\图片5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362320" y="7621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0"/>
            <a:ext cx="4143240" cy="2806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不再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  <a:ea typeface="楷体"/>
              </a:rPr>
              <a:t>胆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的小白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Calibri"/>
                <a:ea typeface="楷体"/>
              </a:rPr>
              <a:t>慢慢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地抬起它们的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Calibri"/>
                <a:ea typeface="楷体"/>
              </a:rPr>
              <a:t>试试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寒，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  <a:ea typeface="楷体"/>
              </a:rPr>
              <a:t>试试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然后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  <a:ea typeface="楷体"/>
              </a:rPr>
              <a:t>一瓣瓣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"/>
              </a:rPr>
              <a:t>地绽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8:16:43Z</dcterms:created>
  <dc:creator/>
  <dc:description/>
  <dc:language>en-US</dc:language>
  <cp:lastModifiedBy/>
  <dcterms:modified xsi:type="dcterms:W3CDTF">2014-08-18T08:16:48Z</dcterms:modified>
  <cp:revision>1</cp:revision>
  <dc:subject/>
  <dc:title/>
</cp:coreProperties>
</file>