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gif" ContentType="image/gif"/>
  <Override PartName="/ppt/media/image6.wmf" ContentType="image/x-wmf"/>
  <Override PartName="/ppt/media/image4.gif" ContentType="image/gif"/>
  <Override PartName="/ppt/media/chimes.wav" ContentType="audio/x-wav"/>
  <Override PartName="/ppt/media/image7.wmf" ContentType="image/x-wmf"/>
  <Override PartName="/ppt/media/image5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666E-757D-4C9E-9734-D67D064F8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CACD-9780-47C4-B0A8-F35AD823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8953-7DEB-4A3A-BF93-793BE4ABA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EFDD-9D3A-45D7-898C-A14DC9AE3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F7F1-3D00-43AF-9512-BB4787E1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544E-9F9B-44CC-9D90-264F0ABC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0325-F0F9-4C29-821C-C9514A76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D16C-F52E-4262-AD9B-D57992F7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2BE4-1445-4B13-9DA5-8DF27AB3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2287-974B-43A5-8F52-79FBCF40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3334-878C-49CD-8AEB-BA09B401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4D2F-5EE3-4379-8AC6-7F1BEB89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5051A-D0D6-4A37-8C54-AEDDEF0D648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翻译下列句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18436"/>
          <p:cNvSpPr/>
          <p:nvPr/>
        </p:nvSpPr>
        <p:spPr>
          <a:xfrm>
            <a:off x="900000" y="1700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甚矣，汝之不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8437"/>
          <p:cNvSpPr/>
          <p:nvPr/>
        </p:nvSpPr>
        <p:spPr>
          <a:xfrm>
            <a:off x="1042920" y="256536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且焉置土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18438"/>
          <p:cNvSpPr/>
          <p:nvPr/>
        </p:nvSpPr>
        <p:spPr>
          <a:xfrm>
            <a:off x="1042920" y="342900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遂率子孙荷担者三夫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18439"/>
          <p:cNvSpPr/>
          <p:nvPr/>
        </p:nvSpPr>
        <p:spPr>
          <a:xfrm>
            <a:off x="1116000" y="436572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告之于帝。帝感其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什么是愚公精神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?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我们这个时代还需要愚公精神吗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谈谈你自己的看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愚公移山的精神就是一种面对困难、乐观进取、坚韧不拔，用顽强意志战胜困难的精神。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我们这个时代仍然需要这种精神，如果人人都只求眼前利益，哪里会有“神舟”五号的发射成功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哪里会有我国近年的辉煌成就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哪里会有时代的发展、人类的进步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让我们从愚公手里接过精神火把，点燃智慧之灯，照亮前行的路，去追寻明天的太阳吧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27649" descr="b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962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歌曲欣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图片 27651" descr="r150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2590920" y="304920"/>
            <a:ext cx="2286000" cy="1676160"/>
          </a:xfrm>
          <a:prstGeom prst="rect">
            <a:avLst/>
          </a:prstGeom>
          <a:ln w="0">
            <a:noFill/>
          </a:ln>
        </p:spPr>
      </p:pic>
      <p:pic>
        <p:nvPicPr>
          <p:cNvPr id="91" name="图片 27652" descr="s002"/>
          <p:cNvPicPr/>
          <p:nvPr/>
        </p:nvPicPr>
        <p:blipFill>
          <a:blip r:embed="rId3"/>
          <a:stretch/>
        </p:blipFill>
        <p:spPr>
          <a:xfrm>
            <a:off x="228600" y="304920"/>
            <a:ext cx="1981080" cy="169848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27653"/>
          <p:cNvSpPr/>
          <p:nvPr/>
        </p:nvSpPr>
        <p:spPr>
          <a:xfrm>
            <a:off x="5977440" y="1295280"/>
            <a:ext cx="31665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请体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愚公移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歌曲的感人魅力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心感悟愚公精神的不朽力量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27654"/>
          <p:cNvSpPr/>
          <p:nvPr/>
        </p:nvSpPr>
        <p:spPr>
          <a:xfrm>
            <a:off x="228600" y="2362320"/>
            <a:ext cx="3962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歌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听起来是奇闻，讲起来是笑谈，任凭那扁担把脊背压弯，任凭那木屐把脚板磨穿。面对着太行与王屋，凭的是一身肝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讲起来不是那奇闻，谈起来不是笑谈，望望头上天外天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走走脚下一马平川，面对着满堂儿孙，了却了心中祈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无路难呀开路更难，所以后来人为你感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江涛 - 愚公移山.mp3" descr=""/>
          <p:cNvPicPr/>
          <p:nvPr/>
        </p:nvPicPr>
        <p:blipFill>
          <a:blip r:embed="rId4"/>
          <a:stretch/>
        </p:blipFill>
        <p:spPr>
          <a:xfrm>
            <a:off x="466560" y="333360"/>
            <a:ext cx="1522440" cy="987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  <p:sndAc>
      <p:stSnd>
        <p:snd r:embed="rId5" name="chimes.wav"/>
      </p:stSnd>
    </p:sndAc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8" dur="298562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文本框 1"/>
          <p:cNvSpPr/>
          <p:nvPr/>
        </p:nvSpPr>
        <p:spPr>
          <a:xfrm>
            <a:off x="179280" y="44280"/>
            <a:ext cx="8772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歧路亡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杨子之邻人亡羊，既率其党，又请杨子之竖追之。杨子曰：“嘻！亡一羊，何追者之众？”邻人曰：“多歧路。”既反，问：“获羊乎？”曰：“亡之矣。” 曰：“奚亡之？”曰：“歧路之中又有歧焉，吾不知所之，所以反也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杨子戚然变容，不言者移时，不笑者竟日。门人怪之，请曰：“羊，贱畜，又非夫子之有，而损言笑者，何哉？”杨子不答。门人不获所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文本框 1"/>
          <p:cNvSpPr/>
          <p:nvPr/>
        </p:nvSpPr>
        <p:spPr>
          <a:xfrm>
            <a:off x="108000" y="117360"/>
            <a:ext cx="8891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杨子的邻居家丢失了一只羊。这位邻居已经带领了他的家属亲友等人去追寻，又来请求杨子的童仆帮忙去追寻。杨子问道：“嘻，丢了一只羊。为什么要这么多人去追呢？”邻居回答说：“岔路太多了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追羊的人回来后，杨子问邻居：“找到羊了吗？”邻居回答说：“没有追到，还是让它跑掉了。”杨子问：“为什么会让它跑掉呢？”邻居回答说：“岔路之中又有岔路，我们不知道它到底从哪条路上跑了，所以只好回来了。”杨子听了，脸色变得很忧伤，很长时间不说话，整天没有笑容。杨子的门徒觉得奇怪，问他说：“羊是不值钱的牲口，又不是您自己的，而您却不说不笑，为什么呢？”杨子不回答，门徒们不知道杨子要教导什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1" descr=""/>
          <p:cNvPicPr/>
          <p:nvPr/>
        </p:nvPicPr>
        <p:blipFill>
          <a:blip r:embed="rId1"/>
          <a:stretch/>
        </p:blipFill>
        <p:spPr>
          <a:xfrm>
            <a:off x="19080" y="14400"/>
            <a:ext cx="8597880" cy="644976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1"/>
          <p:cNvSpPr/>
          <p:nvPr/>
        </p:nvSpPr>
        <p:spPr>
          <a:xfrm>
            <a:off x="826920" y="4941720"/>
            <a:ext cx="773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多歧亡羊”，比喻因情况复杂多变或用心不专而迷失本性、迷失方向，误入歧途，一无所成，后果严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1" descr=""/>
          <p:cNvPicPr/>
          <p:nvPr/>
        </p:nvPicPr>
        <p:blipFill>
          <a:blip r:embed="rId1"/>
          <a:stretch/>
        </p:blipFill>
        <p:spPr>
          <a:xfrm>
            <a:off x="36360" y="119160"/>
            <a:ext cx="8571240" cy="64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1" descr=""/>
          <p:cNvPicPr/>
          <p:nvPr/>
        </p:nvPicPr>
        <p:blipFill>
          <a:blip r:embed="rId1"/>
          <a:stretch/>
        </p:blipFill>
        <p:spPr>
          <a:xfrm>
            <a:off x="395280" y="262080"/>
            <a:ext cx="8532720" cy="63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1" descr=""/>
          <p:cNvPicPr/>
          <p:nvPr/>
        </p:nvPicPr>
        <p:blipFill>
          <a:blip r:embed="rId1"/>
          <a:stretch/>
        </p:blipFill>
        <p:spPr>
          <a:xfrm>
            <a:off x="395280" y="406440"/>
            <a:ext cx="8532720" cy="63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标题 15361"/>
          <p:cNvSpPr/>
          <p:nvPr/>
        </p:nvSpPr>
        <p:spPr>
          <a:xfrm>
            <a:off x="179280" y="260280"/>
            <a:ext cx="830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一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隶书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讲讲故事情节，把握文章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1"/>
          <p:cNvSpPr/>
          <p:nvPr/>
        </p:nvSpPr>
        <p:spPr>
          <a:xfrm>
            <a:off x="324000" y="1125360"/>
            <a:ext cx="32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交代故事背景（二山的面积、高度、地理位置）为下文移山、负山做铺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2"/>
          <p:cNvSpPr/>
          <p:nvPr/>
        </p:nvSpPr>
        <p:spPr>
          <a:xfrm>
            <a:off x="395280" y="2925720"/>
            <a:ext cx="33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愚公提出移山主张、全家人讨论决定运土方案、而后叩石垦壤，立即行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右箭头 3"/>
          <p:cNvSpPr/>
          <p:nvPr/>
        </p:nvSpPr>
        <p:spPr>
          <a:xfrm>
            <a:off x="4788000" y="1413000"/>
            <a:ext cx="979560" cy="4856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"/>
          <p:cNvSpPr/>
          <p:nvPr/>
        </p:nvSpPr>
        <p:spPr>
          <a:xfrm>
            <a:off x="6084720" y="1413000"/>
            <a:ext cx="225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背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右箭头 5"/>
          <p:cNvSpPr/>
          <p:nvPr/>
        </p:nvSpPr>
        <p:spPr>
          <a:xfrm>
            <a:off x="4788000" y="3357720"/>
            <a:ext cx="979560" cy="4856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6"/>
          <p:cNvSpPr/>
          <p:nvPr/>
        </p:nvSpPr>
        <p:spPr>
          <a:xfrm>
            <a:off x="6300720" y="3286080"/>
            <a:ext cx="17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开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7"/>
          <p:cNvSpPr/>
          <p:nvPr/>
        </p:nvSpPr>
        <p:spPr>
          <a:xfrm>
            <a:off x="466560" y="4437000"/>
            <a:ext cx="271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愚公驳斥前来阻止的智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右箭头 8"/>
          <p:cNvSpPr/>
          <p:nvPr/>
        </p:nvSpPr>
        <p:spPr>
          <a:xfrm>
            <a:off x="4788000" y="4653000"/>
            <a:ext cx="979560" cy="4856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9"/>
          <p:cNvSpPr/>
          <p:nvPr/>
        </p:nvSpPr>
        <p:spPr>
          <a:xfrm>
            <a:off x="6445080" y="4653000"/>
            <a:ext cx="15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发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11"/>
          <p:cNvSpPr/>
          <p:nvPr/>
        </p:nvSpPr>
        <p:spPr>
          <a:xfrm>
            <a:off x="395280" y="5589720"/>
            <a:ext cx="311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操蛇之神报告天帝，山被移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右箭头 12"/>
          <p:cNvSpPr/>
          <p:nvPr/>
        </p:nvSpPr>
        <p:spPr>
          <a:xfrm>
            <a:off x="4788000" y="5877000"/>
            <a:ext cx="979560" cy="4856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13"/>
          <p:cNvSpPr/>
          <p:nvPr/>
        </p:nvSpPr>
        <p:spPr>
          <a:xfrm>
            <a:off x="6445080" y="580536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高潮、结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63120" y="856800"/>
            <a:ext cx="7753320" cy="72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探究思考以下问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82844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愚公为什么要移山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愚公移山要实现的目的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愚公认为山是可移的，理由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311120" y="223524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惩山北之塞，出入之迂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179360" y="439884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子子孙孙无穷匮也，而山不加增，何苦而不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1187280" y="34020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指通豫南，达于汉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文本框 1"/>
          <p:cNvSpPr/>
          <p:nvPr/>
        </p:nvSpPr>
        <p:spPr>
          <a:xfrm>
            <a:off x="612720" y="334800"/>
            <a:ext cx="719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对于愚公来说移山是艰难的，难在何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2"/>
          <p:cNvSpPr/>
          <p:nvPr/>
        </p:nvSpPr>
        <p:spPr>
          <a:xfrm>
            <a:off x="684360" y="1557360"/>
            <a:ext cx="77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太行、王屋二山，方七百里，高万仞（要移走的土石量大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3"/>
          <p:cNvSpPr/>
          <p:nvPr/>
        </p:nvSpPr>
        <p:spPr>
          <a:xfrm>
            <a:off x="684360" y="2637000"/>
            <a:ext cx="596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且九十（残年余力）年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4"/>
          <p:cNvSpPr/>
          <p:nvPr/>
        </p:nvSpPr>
        <p:spPr>
          <a:xfrm>
            <a:off x="684360" y="3429000"/>
            <a:ext cx="724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指通豫南，达于汉阴”（说明移山目标之宏伟）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5"/>
          <p:cNvSpPr/>
          <p:nvPr/>
        </p:nvSpPr>
        <p:spPr>
          <a:xfrm>
            <a:off x="-252360" y="5589720"/>
            <a:ext cx="741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寒暑易节，始一反焉”（说明搬运土石路途遥远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6"/>
          <p:cNvSpPr/>
          <p:nvPr/>
        </p:nvSpPr>
        <p:spPr>
          <a:xfrm>
            <a:off x="682560" y="4508640"/>
            <a:ext cx="668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叩石垦壤，箕畚运于渤海之尾（移山方法简单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文本框 1"/>
          <p:cNvSpPr/>
          <p:nvPr/>
        </p:nvSpPr>
        <p:spPr>
          <a:xfrm>
            <a:off x="250920" y="117360"/>
            <a:ext cx="864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文中人物（包括天神）对愚公移山的态度是不同的，从文中找一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2"/>
          <p:cNvSpPr/>
          <p:nvPr/>
        </p:nvSpPr>
        <p:spPr>
          <a:xfrm>
            <a:off x="179280" y="1486080"/>
            <a:ext cx="786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部分家人：支持移山，解决移山中存在的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3"/>
          <p:cNvSpPr/>
          <p:nvPr/>
        </p:nvSpPr>
        <p:spPr>
          <a:xfrm>
            <a:off x="179280" y="2133720"/>
            <a:ext cx="836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愚公妻子：对移山存有疑虑，担心愚公力量和土石的安放地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4"/>
          <p:cNvSpPr/>
          <p:nvPr/>
        </p:nvSpPr>
        <p:spPr>
          <a:xfrm>
            <a:off x="324000" y="3213000"/>
            <a:ext cx="67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邻人之孀妻弱子：支持移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5"/>
          <p:cNvSpPr/>
          <p:nvPr/>
        </p:nvSpPr>
        <p:spPr>
          <a:xfrm>
            <a:off x="250920" y="4221000"/>
            <a:ext cx="69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智叟：嘲笑愚公很愚蠢，认为移山不能成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6"/>
          <p:cNvSpPr/>
          <p:nvPr/>
        </p:nvSpPr>
        <p:spPr>
          <a:xfrm>
            <a:off x="250920" y="4941720"/>
            <a:ext cx="712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操蛇之神：对愚公的决心和勇气感到畏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7"/>
          <p:cNvSpPr/>
          <p:nvPr/>
        </p:nvSpPr>
        <p:spPr>
          <a:xfrm>
            <a:off x="250920" y="5734080"/>
            <a:ext cx="833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天帝：被愚公移山的行为、精神感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文本框 1"/>
          <p:cNvSpPr/>
          <p:nvPr/>
        </p:nvSpPr>
        <p:spPr>
          <a:xfrm>
            <a:off x="611280" y="334800"/>
            <a:ext cx="71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探究愚公的人物形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2"/>
          <p:cNvSpPr/>
          <p:nvPr/>
        </p:nvSpPr>
        <p:spPr>
          <a:xfrm>
            <a:off x="641520" y="1233360"/>
            <a:ext cx="778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从以上情节中，你感受到愚公是个怎样的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文用了哪些方法来写愚公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3"/>
          <p:cNvSpPr/>
          <p:nvPr/>
        </p:nvSpPr>
        <p:spPr>
          <a:xfrm>
            <a:off x="990720" y="2374920"/>
            <a:ext cx="58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语言描写刻画愚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4"/>
          <p:cNvSpPr/>
          <p:nvPr/>
        </p:nvSpPr>
        <p:spPr>
          <a:xfrm>
            <a:off x="971640" y="3860640"/>
            <a:ext cx="445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智叟对比烘托愚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5"/>
          <p:cNvSpPr/>
          <p:nvPr/>
        </p:nvSpPr>
        <p:spPr>
          <a:xfrm>
            <a:off x="755640" y="5013360"/>
            <a:ext cx="73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家人，邻家孩子、天神衬托愚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"/>
          <p:cNvPicPr/>
          <p:nvPr/>
        </p:nvPicPr>
        <p:blipFill>
          <a:blip r:embed="rId1"/>
          <a:stretch/>
        </p:blipFill>
        <p:spPr>
          <a:xfrm>
            <a:off x="57240" y="42840"/>
            <a:ext cx="8864640" cy="66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结：愚公是一个有远大理想，不惧怕任何困难，能用发展的眼光看问题，有坚定的意志和顽强的毅力，不怕吃苦，敢于斗争的令人尊敬的老人形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文本框 1"/>
          <p:cNvSpPr/>
          <p:nvPr/>
        </p:nvSpPr>
        <p:spPr>
          <a:xfrm>
            <a:off x="395280" y="404640"/>
            <a:ext cx="78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探究：从愚公移山和愚公的形象中，你感悟到本文的寓意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2"/>
          <p:cNvSpPr/>
          <p:nvPr/>
        </p:nvSpPr>
        <p:spPr>
          <a:xfrm>
            <a:off x="179280" y="2709720"/>
            <a:ext cx="839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作品通过塑造愚公这一形象，反映了我国古代劳动人民改造自然的伟大气魄和坚强毅力。也说明要克服困难，就必须下定决心、坚持不懈地奋斗的道理。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09T08:16:21Z</dcterms:created>
  <dc:creator>liyunhe</dc:creator>
  <dc:description/>
  <dc:language>en-US</dc:language>
  <cp:lastModifiedBy>liyunhe</cp:lastModifiedBy>
  <dcterms:modified xsi:type="dcterms:W3CDTF">2019-12-10T08:38:07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5</vt:lpwstr>
  </property>
</Properties>
</file>