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0.jpeg" ContentType="image/jpeg"/>
  <Override PartName="/ppt/media/image25.gif" ContentType="image/gif"/>
  <Override PartName="/ppt/media/camera.wav" ContentType="audio/x-wav"/>
  <Override PartName="/ppt/media/image17.gif" ContentType="image/gif"/>
  <Override PartName="/ppt/media/image22.png" ContentType="image/png"/>
  <Override PartName="/ppt/media/image7.jpeg" ContentType="image/jpeg"/>
  <Override PartName="/ppt/media/image15.gif" ContentType="image/gif"/>
  <Override PartName="/ppt/media/image5.jpeg" ContentType="image/jpeg"/>
  <Override PartName="/ppt/media/image26.jpeg" ContentType="image/jpeg"/>
  <Override PartName="/ppt/media/image3.jpeg" ContentType="image/jpeg"/>
  <Override PartName="/ppt/media/image12.gif" ContentType="image/gif"/>
  <Override PartName="/ppt/media/image6.jpeg" ContentType="image/jpeg"/>
  <Override PartName="/ppt/media/chimes.wav" ContentType="audio/x-wav"/>
  <Override PartName="/ppt/media/image13.gif" ContentType="image/gif"/>
  <Override PartName="/ppt/media/image23.gif" ContentType="image/gif"/>
  <Override PartName="/ppt/media/image11.gif" ContentType="image/gif"/>
  <Override PartName="/ppt/media/image19.jpeg" ContentType="image/jpeg"/>
  <Override PartName="/ppt/media/image1.jpeg" ContentType="image/jpeg"/>
  <Override PartName="/ppt/media/image4.wmf" ContentType="image/x-wmf"/>
  <Override PartName="/ppt/media/image20.gif" ContentType="image/gif"/>
  <Override PartName="/ppt/media/image18.gif" ContentType="image/gif"/>
  <Override PartName="/ppt/media/image21.png" ContentType="image/png"/>
  <Override PartName="/ppt/media/image16.gif" ContentType="image/gif"/>
  <Override PartName="/ppt/media/image14.gif" ContentType="image/gif"/>
  <Override PartName="/ppt/media/image2.jpeg" ContentType="image/jpeg"/>
  <Override PartName="/ppt/media/image24.gif" ContentType="image/gif"/>
  <Override PartName="/ppt/media/laser.wav" ContentType="audio/x-wav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  <p:sldId id="297" r:id="rId59"/>
    <p:sldId id="298" r:id="rId60"/>
  </p:sldIdLst>
  <p:sldSz cx="9144000" cy="6858000"/>
  <p:notesSz cx="6858000" cy="9144000"/>
  <p:custShowLst>
    <p:custShow name="自定义放映 1" id="0">
      <p:sldLst>
        <p:sld r:id="rId28"/>
        <p:sld r:id="rId2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slide" Target="slides/slide42.xml"/><Relationship Id="rId60" Type="http://schemas.openxmlformats.org/officeDocument/2006/relationships/slide" Target="slides/slide43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373F-A8AB-4633-A4D2-D7167DD97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3E9A-3D78-4400-9FAA-FA8AD597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9B17F6-1E6D-4112-85EE-4CE328B4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6BA268-C632-4CCB-AD05-25CBD47E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3473A-D8F6-4F23-8503-8FA1421F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9F26A-83DE-45D8-9AE4-17F1E12E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EB1BE-C23A-4B50-AA47-A00F7DEC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C700EB-DCE3-4C1F-8BC8-791812E6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587858-2A49-4D1A-8255-22B7CC97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410B8-6500-4ABB-8424-202BE063A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A28F3-0EBE-479C-8F2A-03C0FDB03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4E192A-9F1A-4C53-BD78-31EF8522F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BC14-629F-473D-B4EB-5BE07F268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40E431-9BD6-489C-BAE1-29217F5B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CEF06D-8392-41F2-9F7B-E30180E9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C9AF81-E10C-439C-8E2E-83C0CD50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C98049-63A6-493C-A176-2C08944F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468A02-C6BD-445C-8692-93CD59B9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A5045-F87B-451E-A2A4-663FB7BB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37053C-5D75-46D6-BD01-F42BA865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2C22B9-E5E5-43DB-9468-9D05D514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547164-DF54-4672-827E-BBB714B5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FCF073-4457-4628-9B90-2FF96181D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3CD1-7F37-4F67-BCC7-118FABA08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ABC344-0E56-4EB0-A520-F27DCE0A7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07059-41E7-45C2-9481-52613FEA7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69486-6715-42A1-AC6C-7F0627FE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FE493-0A71-4794-8BE0-8665F63B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AB7CF-41B0-4D55-9674-0FFF0848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DDAA4-3D9A-4A8A-A779-9FD29131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05B7A-9F1F-4AC7-99AF-B4501EDD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ACA257-90A8-4504-BEF2-20111D72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16B4C-1353-49F2-8DB9-37128EE7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99297-28C8-4518-BAFA-7D599D4B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EC84-7F39-4C3B-9017-F7C91350A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411D2-D22B-439A-AD11-842452D2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4742C-5D6F-4556-B56E-FBAB45DC2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C9A21D-A5B7-4314-97AE-99F6BB5A2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61195D-389E-48EB-BC42-DB0EDFCBE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2247F1-7C10-428C-97BB-7CB5E757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894F29-A072-43BB-BBBA-277F638B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5FE47A-9DE8-49A2-AE05-10A9F2E0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2BC78F-EB31-4E7C-A8A8-17D36769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D4B4BD-5F75-4ED2-ACEB-AAD6228E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50E7C7-0831-4E58-BCDF-9BC3754D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EA48-63CC-400D-9A9E-3C1CBB6A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0A0118-FC89-48A0-BAC1-B8DE0194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818918-90CC-4434-959B-9D062F7E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19A10A-A38C-4858-94CC-AF825F93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4D7027-5082-4938-B7AF-EB7662D70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2DA152-844F-427E-A942-D17F33B78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A2131A-5A57-4C0B-93C8-208CE19C6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3F5623-F266-45B7-A9C2-02EAE9F0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033992-E877-4B6A-9013-9659C201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3C0639-210C-4C0A-BF30-53A864FB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694AD8-BB5F-4EBA-8794-9ADB825A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3950-CEB5-4245-9C38-C3099CDE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3F71BF-4B9A-4E1E-8E37-12C09EF9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B72459-5425-43E3-9944-92D063F8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489480-D963-4CFF-B57A-FB61BCD0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4E72D4-D060-4348-98F2-D886937C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11FD7F-0137-4959-BD15-6400D497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4C6BD8-5D9E-4DB1-B5FA-3053D3CDD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977301-98C1-4B1C-A018-A0C00BC48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A24F1F-EEA3-4756-8FCB-C1A6682B9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3C4E64-6295-4FA2-A627-2DF27666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78B0F0-18CC-4EF7-8909-6822D595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7575-F75E-4BAF-A093-CC4B6FAB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FBBAE7-6C1F-4916-854E-73B9F28E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7BD544-E7E5-443C-817A-C415805C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6BEF5F-D7CF-4E73-A4F0-37146294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4DD664-1F3A-44A3-B092-47A9F239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3FF071-3EEA-461E-AAF3-006B2D06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05B188-02E6-4F80-BB62-77D0090F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4FA074-0A7C-45B0-A276-F7269C36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D9FB1A-003C-4833-BCE2-A379FD4F3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390936-1142-4642-95CF-9E92BA0E9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CC7E4A-1205-43B6-BE6D-3ADEF74A9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04EC-A530-44FB-9C3C-5743963C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5D4BDE-6180-4DFF-B344-557DB4BF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0F3C01-B392-4775-BC91-EC1132B2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B5D6A5-D0B6-4E2A-942D-3B0857AA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649452-72FB-4338-AEEB-64BA9D03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1D58B8-C4D0-40C6-AB7C-A2C0BFC5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D19649-EB81-4D80-844E-35220D6D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2DE598-DBAA-4BCD-B009-90F3AA14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945A4C-3C74-4686-9BEA-C6F34EDD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28500E-ABA6-4BD8-9CA0-95EA8F21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1D4BC5-350B-4E91-B0CA-E3F35BF40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BF46-E30E-46B4-8191-40F77CB0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995B99-CBD8-4060-B5F8-389DF59DA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DE7401-CF72-49EF-AAD3-51EA39CA2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33F2DD-CA95-4FD5-A758-7290CB3D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333271-B7F8-44F6-A3EE-15B0771B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B8BAC9-4A7B-496C-A6C3-45166477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3A99F9-190E-4D93-8653-CE97D4D6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BB4EE8-0033-45FA-BA33-BFAD5880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AEF526-427F-42E2-8F6A-3104A9D0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2EA838-A296-4300-BD93-D6DBA7C5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E620AB-75FD-47D4-92CE-D3F6515F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8FD4-3696-4B96-8867-A19CA748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6CFE30-5F94-4997-B2F1-745680E7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16474A-115A-4229-8CC5-BCE1FB6DD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F3DCC7-F802-4114-B467-0C07D06D5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7198-8C73-44A4-BF3E-E64D175B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26CB-D124-4439-BD3D-D4F8C76C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1F00-09B0-4BC7-994C-FC73E7B6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E62E-AE03-4563-B863-3A165FF5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70F3-C2A5-4C20-83AA-9AFF9361D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D6CF-3EFD-4496-8F8C-69537DC0D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1044B-EDD3-4FE6-A453-0C6CB68A8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F15AD-64DC-4387-95F7-4015B6CE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6F7C6-BEFF-4A5E-9621-8A906BF4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F29C8-C262-4A68-99C9-C60BA9C6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6BC87-2D9B-4DE8-8E6A-F1D7E9BC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6F1F-336C-4E53-B7D1-093E8F28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02F11-DBC1-490A-8171-30A87C7E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9BD30-B312-430B-B6FA-5BB0ACDA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4BA29-1471-425D-ADF2-AAAD013B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6C495-ADEE-4CCA-A3CD-D8F19310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C2CC2-726D-4A8B-93FA-864590C8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7EB2D-DFB5-4088-B724-5B26D0D5E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B7A36-9B7B-43FD-ABB3-BD4776B98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0A406-E2B5-499D-97D6-E6DE6D36E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38C68-7BBD-4F49-A9D0-8581DF74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105C4-09A1-455A-9471-BE43BC3B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1E67-979B-43DB-B1AB-C522D3B1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5B3F4-495B-4800-A35C-979D3D1F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DADFE-B236-410F-A00E-C434CAB6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18884-F2DF-42E0-B2BB-3E4F2BEF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3273D-8561-478A-9082-6D778500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A05F0-B006-4EF9-A499-7045BB93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1BC5A-B624-41E7-ACC9-935A5804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CDD80-55DD-4E92-B26F-98E05A19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B5E6E-FB96-4967-A154-8FC34521C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5B830-E093-40C7-8090-25AFBBC6D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7CB2D-85CD-4269-9390-9A80890C7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04E6-6D19-4082-92E4-6F08C6BD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0E62E-1212-44A3-83A3-72819A8C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5591F-3EFF-4680-BE2D-8483E9EA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1FD47-8A24-4A7F-BF5C-A43F1AD2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59A87-88AD-46DF-B273-B9F9336F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D9187-1E4E-46BB-8498-177189C9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8F5CB-DB71-49F8-8DD7-6F9BD759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B5020-246A-4EF0-99B2-7846D37D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45813-1CC1-4DFC-B3CC-7106A285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5EA11-54E5-4A06-976E-AFC1ADB3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3EA16-1CE8-4290-94DF-0CD2A243A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7952-912F-475B-9E00-1112CD61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EB442-DBF6-4DBE-924C-757975EC2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C380A-DBBC-4E9E-B4D8-25988E559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7B985-1B3D-4759-A90A-833F5E4E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DB78F-7D4F-44FC-8205-8BB7D63C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CB457-6DBB-4628-A323-98C269B9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BF95A-89D7-446C-8B80-7BF11C62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A5EE7-4397-4B6C-87B3-E6FC290D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157B3-8306-4937-8A49-1B76D15B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A9951-2090-4CF4-AF54-8A42026E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3FFD6-4EBE-49B0-BB2C-7B1DF494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2064-ED4F-4D6E-99B7-01DD416C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4197A-609F-4BFD-829F-6B04A2CF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6FE53-2CD9-4A69-8BC2-4A03462ED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E917C-A6F5-400D-87C0-F27031B62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5D08F-441D-4017-897A-88F07286A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51082-F25C-4D1E-9B0F-99774D39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FA0DA-4781-4C32-8A04-2881B865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0D572-8A7B-47D9-B6EE-6F45BE1C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3C891-5F67-4FA4-AFB9-C5CAF7D3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458AE-A283-4C9E-B000-55F90888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6E4FE-2503-4D3E-90E9-3F3D51EB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F253-EE3D-47E9-A9FC-977A8148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24C74-BE0B-4729-A75A-C5F64E09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6B578-11C8-4617-AC36-4A5A9062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EB021-D1CC-4DE3-B4F0-D0BE2036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46613-2921-403C-B4AF-4B7AF96A0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CE696-0FB6-4F46-BA5D-CED1C803E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1296A-97CD-4D18-A182-3EE6D7279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9CA17-FDC5-4603-9022-660A66FB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B9F9A-2946-4E04-AE30-46ECD52E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E93CA-652A-453C-8330-CBDB927C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011AA-8327-4C98-B77C-6B0154FB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B9C0-3741-41C4-BFFA-446B180C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D99E1-A601-4A64-A61F-92C0F2DD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AF8C6-11B7-4BB5-A27F-915ABEAF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55824-61B5-4ABB-92D7-A9281952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38661-D44D-4FD2-9C90-F8F04A60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4D758-DFD9-47C6-9943-F4AEDFBD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C0524-092D-47E1-B432-856E036B1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8C269-A33F-4151-B573-6338C28E5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F222B3-66C9-41C9-9C80-D66FED35C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5C8D9-65A1-404F-ACF8-DF37F4A8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4FC65-5099-46D8-B4ED-AB0C8452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23C1-3A3E-41E0-B9DA-F373C31119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C171-10CF-469E-B193-FBCB41720A5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2F39-B84C-432E-A4E9-D26E5483561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2EB2-BB51-4538-AF9A-3AE0EB7418E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5027-B6D9-483E-B9D7-CE646656D3F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0769-39A7-4F93-9C6E-DE053E5572B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5A7C-2085-4565-B173-D6A95CE5E67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7dbe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任意多边形 63489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2" name="组合 63495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63" name="任意多边形 63496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任意多边形 63497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任意多边形 63498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6" name="组合 63499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67" name="任意多边形 63500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任意多边形 63501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任意多边形 63502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任意多边形 63503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任意多边形 63504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2" name="组合 63505"/>
          <p:cNvGrpSpPr/>
          <p:nvPr/>
        </p:nvGrpSpPr>
        <p:grpSpPr>
          <a:xfrm>
            <a:off x="7797600" y="4319640"/>
            <a:ext cx="978840" cy="1158120"/>
            <a:chOff x="7797600" y="4319640"/>
            <a:chExt cx="978840" cy="1158120"/>
          </a:xfrm>
        </p:grpSpPr>
        <p:sp>
          <p:nvSpPr>
            <p:cNvPr id="673" name="任意多边形 63506"/>
            <p:cNvSpPr/>
            <p:nvPr/>
          </p:nvSpPr>
          <p:spPr>
            <a:xfrm rot="7320000">
              <a:off x="7788600" y="4656600"/>
              <a:ext cx="9968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任意多边形 63507"/>
            <p:cNvSpPr/>
            <p:nvPr/>
          </p:nvSpPr>
          <p:spPr>
            <a:xfrm rot="7320000">
              <a:off x="7764120" y="4635000"/>
              <a:ext cx="9936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任意多边形 63508"/>
            <p:cNvSpPr/>
            <p:nvPr/>
          </p:nvSpPr>
          <p:spPr>
            <a:xfrm rot="7320000">
              <a:off x="7931880" y="4619520"/>
              <a:ext cx="65916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6" name="组合 63509"/>
            <p:cNvGrpSpPr/>
            <p:nvPr/>
          </p:nvGrpSpPr>
          <p:grpSpPr>
            <a:xfrm>
              <a:off x="7797600" y="4319640"/>
              <a:ext cx="978840" cy="1158120"/>
              <a:chOff x="7797600" y="4319640"/>
              <a:chExt cx="978840" cy="1158120"/>
            </a:xfrm>
          </p:grpSpPr>
          <p:sp>
            <p:nvSpPr>
              <p:cNvPr id="677" name="任意多边形 63510"/>
              <p:cNvSpPr/>
              <p:nvPr/>
            </p:nvSpPr>
            <p:spPr>
              <a:xfrm rot="7320000">
                <a:off x="7916400" y="5064120"/>
                <a:ext cx="9324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任意多边形 63511"/>
              <p:cNvSpPr/>
              <p:nvPr/>
            </p:nvSpPr>
            <p:spPr>
              <a:xfrm rot="7320000">
                <a:off x="7758360" y="4651920"/>
                <a:ext cx="1056960" cy="4935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任意多边形 63512"/>
              <p:cNvSpPr/>
              <p:nvPr/>
            </p:nvSpPr>
            <p:spPr>
              <a:xfrm rot="7320000">
                <a:off x="8041320" y="4762800"/>
                <a:ext cx="7477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任意多边形 63513"/>
              <p:cNvSpPr/>
              <p:nvPr/>
            </p:nvSpPr>
            <p:spPr>
              <a:xfrm rot="7320000">
                <a:off x="8514360" y="4562280"/>
                <a:ext cx="99720" cy="18720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任意多边形 63514"/>
              <p:cNvSpPr/>
              <p:nvPr/>
            </p:nvSpPr>
            <p:spPr>
              <a:xfrm rot="7320000">
                <a:off x="8154360" y="4762440"/>
                <a:ext cx="30564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2" name="任意多边形 63515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任意多边形 63516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02120" indent="4021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804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06720" indent="-4021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1348-705B-4176-845D-18C6B1F64324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A37E-9AEA-4746-877C-CFE41DC2382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F65E-C93F-41EF-9342-B5591FCE973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B7A4-21F7-4C95-8723-B7514B0BA36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50A2-C70D-4DF6-BEEE-3B252A924B9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7dbe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任意多边形 62465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02120" indent="4021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804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06720" indent="-4021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B067-9197-4882-AD87-3EE8E7CA3F16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任意多边形 62471"/>
          <p:cNvSpPr/>
          <p:nvPr/>
        </p:nvSpPr>
        <p:spPr>
          <a:xfrm rot="18427200">
            <a:off x="7862760" y="20160"/>
            <a:ext cx="1165320" cy="20988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任意多边形 62472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组合 62473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73" name="任意多边形 62474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任意多边形 62475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任意多边形 62476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任意多边形 62477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任意多边形 62478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任意多边形 62479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任意多边形 62480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任意多边形 62481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任意多边形 62482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组合 62483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83" name="组合 62484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84" name="任意多边形 62485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任意多边形 62486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任意多边形 62487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" name="任意多边形 62488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任意多边形 62489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任意多边形 62490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0" name="组合 62491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91" name="任意多边形 62492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任意多边形 62493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任意多边形 62494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任意多边形 62495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任意多边形 62496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任意多边形 62497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任意多边形 62498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任意多边形 62499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9" name="组合 62500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00" name="任意多边形 62501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任意多边形 62502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组合 62503"/>
          <p:cNvGrpSpPr/>
          <p:nvPr/>
        </p:nvGrpSpPr>
        <p:grpSpPr>
          <a:xfrm>
            <a:off x="7171560" y="-82800"/>
            <a:ext cx="2427480" cy="2247120"/>
            <a:chOff x="7171560" y="-82800"/>
            <a:chExt cx="2427480" cy="2247120"/>
          </a:xfrm>
        </p:grpSpPr>
        <p:grpSp>
          <p:nvGrpSpPr>
            <p:cNvPr id="203" name="组合 62504"/>
            <p:cNvGrpSpPr/>
            <p:nvPr/>
          </p:nvGrpSpPr>
          <p:grpSpPr>
            <a:xfrm>
              <a:off x="7171560" y="-82800"/>
              <a:ext cx="2427480" cy="2247120"/>
              <a:chOff x="7171560" y="-82800"/>
              <a:chExt cx="2427480" cy="2247120"/>
            </a:xfrm>
          </p:grpSpPr>
          <p:sp>
            <p:nvSpPr>
              <p:cNvPr id="204" name="任意多边形 62505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组合 62506"/>
              <p:cNvGrpSpPr/>
              <p:nvPr/>
            </p:nvGrpSpPr>
            <p:grpSpPr>
              <a:xfrm>
                <a:off x="7171560" y="-82800"/>
                <a:ext cx="2427480" cy="2247120"/>
                <a:chOff x="7171560" y="-82800"/>
                <a:chExt cx="2427480" cy="2247120"/>
              </a:xfrm>
            </p:grpSpPr>
            <p:sp>
              <p:nvSpPr>
                <p:cNvPr id="206" name="任意多边形 62507"/>
                <p:cNvSpPr/>
                <p:nvPr/>
              </p:nvSpPr>
              <p:spPr>
                <a:xfrm rot="18427200">
                  <a:off x="7878240" y="112320"/>
                  <a:ext cx="24300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任意多边形 62508"/>
                <p:cNvSpPr/>
                <p:nvPr/>
              </p:nvSpPr>
              <p:spPr>
                <a:xfrm rot="18427200">
                  <a:off x="8009640" y="525960"/>
                  <a:ext cx="42696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任意多边形 62509"/>
                <p:cNvSpPr/>
                <p:nvPr/>
              </p:nvSpPr>
              <p:spPr>
                <a:xfrm rot="18427200">
                  <a:off x="770832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任意多边形 62510"/>
                <p:cNvSpPr/>
                <p:nvPr/>
              </p:nvSpPr>
              <p:spPr>
                <a:xfrm rot="18427200">
                  <a:off x="7783200" y="-2556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任意多边形 62511"/>
                <p:cNvSpPr/>
                <p:nvPr/>
              </p:nvSpPr>
              <p:spPr>
                <a:xfrm rot="18427200">
                  <a:off x="8404560" y="142272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任意多边形 62512"/>
                <p:cNvSpPr/>
                <p:nvPr/>
              </p:nvSpPr>
              <p:spPr>
                <a:xfrm rot="18427200">
                  <a:off x="8334720" y="127836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任意多边形 62513"/>
                <p:cNvSpPr/>
                <p:nvPr/>
              </p:nvSpPr>
              <p:spPr>
                <a:xfrm rot="18427200">
                  <a:off x="7908840" y="333360"/>
                  <a:ext cx="28728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任意多边形 62514"/>
                <p:cNvSpPr/>
                <p:nvPr/>
              </p:nvSpPr>
              <p:spPr>
                <a:xfrm rot="18427200">
                  <a:off x="7850520" y="224640"/>
                  <a:ext cx="28440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4" name="直接连接符 62515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D61C-1E6A-476B-A8F7-5BD790074DF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AF54-F6E6-4D59-A95B-3593A6D68E2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107B-03AD-4ABD-A95A-6BEA83E8252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19B5-6239-40B0-8443-2AA1326D77A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laser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2C57-0B25-48E8-B495-2E12CE7EB5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矩形 38913"/>
          <p:cNvSpPr/>
          <p:nvPr/>
        </p:nvSpPr>
        <p:spPr>
          <a:xfrm>
            <a:off x="609480" y="762120"/>
            <a:ext cx="8153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文本框 38914"/>
          <p:cNvSpPr/>
          <p:nvPr/>
        </p:nvSpPr>
        <p:spPr>
          <a:xfrm>
            <a:off x="6172200" y="2743200"/>
            <a:ext cx="1066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80"/>
                </a:solidFill>
                <a:latin typeface="Times New Roman"/>
                <a:ea typeface="华文隶书"/>
              </a:rPr>
              <a:t>[</a:t>
            </a:r>
            <a:r>
              <a:rPr b="1" lang="zh-CN" sz="4400" spc="-1" strike="noStrike">
                <a:solidFill>
                  <a:srgbClr val="008080"/>
                </a:solidFill>
                <a:latin typeface="Times New Roman"/>
                <a:ea typeface="华文隶书"/>
              </a:rPr>
              <a:t>汉</a:t>
            </a:r>
            <a:r>
              <a:rPr b="1" lang="en-US" sz="4400" spc="-1" strike="noStrike">
                <a:solidFill>
                  <a:srgbClr val="008080"/>
                </a:solidFill>
                <a:latin typeface="Times New Roman"/>
                <a:ea typeface="华文隶书"/>
              </a:rPr>
              <a:t>]  </a:t>
            </a:r>
            <a:r>
              <a:rPr b="1" lang="zh-CN" sz="4400" spc="-1" strike="noStrike">
                <a:solidFill>
                  <a:srgbClr val="008080"/>
                </a:solidFill>
                <a:latin typeface="Times New Roman"/>
                <a:ea typeface="华文隶书"/>
              </a:rPr>
              <a:t>司马迁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图片 38915" descr="simaqian"/>
          <p:cNvPicPr/>
          <p:nvPr/>
        </p:nvPicPr>
        <p:blipFill>
          <a:blip r:embed="rId1"/>
          <a:stretch/>
        </p:blipFill>
        <p:spPr>
          <a:xfrm>
            <a:off x="657360" y="0"/>
            <a:ext cx="4068720" cy="6858000"/>
          </a:xfrm>
          <a:prstGeom prst="rect">
            <a:avLst/>
          </a:prstGeom>
          <a:ln w="0">
            <a:noFill/>
          </a:ln>
        </p:spPr>
      </p:pic>
      <p:sp>
        <p:nvSpPr>
          <p:cNvPr id="729" name="文本框 38916"/>
          <p:cNvSpPr/>
          <p:nvPr/>
        </p:nvSpPr>
        <p:spPr>
          <a:xfrm>
            <a:off x="3184560" y="329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文本框 38917"/>
          <p:cNvSpPr/>
          <p:nvPr/>
        </p:nvSpPr>
        <p:spPr>
          <a:xfrm>
            <a:off x="7238880" y="0"/>
            <a:ext cx="1067040" cy="40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5050"/>
                </a:solidFill>
                <a:latin typeface="Times New Roman"/>
                <a:ea typeface="华文行楷"/>
              </a:rPr>
              <a:t>   </a:t>
            </a:r>
            <a:r>
              <a:rPr b="1" lang="zh-CN" sz="6600" spc="-1" strike="noStrike">
                <a:solidFill>
                  <a:srgbClr val="ff5050"/>
                </a:solidFill>
                <a:latin typeface="Times New Roman"/>
                <a:ea typeface="华文行楷"/>
              </a:rPr>
              <a:t>细柳营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文本框 38918"/>
          <p:cNvSpPr/>
          <p:nvPr/>
        </p:nvSpPr>
        <p:spPr>
          <a:xfrm>
            <a:off x="5076720" y="5516640"/>
            <a:ext cx="3810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40A8-D789-4623-AB73-FEF13A7A222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文本框 2"/>
          <p:cNvSpPr/>
          <p:nvPr/>
        </p:nvSpPr>
        <p:spPr>
          <a:xfrm>
            <a:off x="1339920" y="2751120"/>
            <a:ext cx="646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词义，疏通文意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文本框 3"/>
          <p:cNvSpPr/>
          <p:nvPr/>
        </p:nvSpPr>
        <p:spPr>
          <a:xfrm>
            <a:off x="1193760" y="1182600"/>
            <a:ext cx="646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朗读课文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9A85-C95A-4134-8531-141D5F81C6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文本框 3076"/>
          <p:cNvSpPr/>
          <p:nvPr/>
        </p:nvSpPr>
        <p:spPr>
          <a:xfrm>
            <a:off x="457200" y="3352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j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文本框 3081"/>
          <p:cNvSpPr/>
          <p:nvPr/>
        </p:nvSpPr>
        <p:spPr>
          <a:xfrm>
            <a:off x="0" y="692280"/>
            <a:ext cx="9144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文帝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六年，匈奴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大        入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边。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以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宗正刘礼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将军，军霸上；祝兹侯徐厉为将军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军棘门；以河内守亚夫为将军，军细柳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（之） 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胡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文本框 3086"/>
          <p:cNvSpPr/>
          <p:nvPr/>
        </p:nvSpPr>
        <p:spPr>
          <a:xfrm>
            <a:off x="4068720" y="1125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大规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文本框 3087"/>
          <p:cNvSpPr/>
          <p:nvPr/>
        </p:nvSpPr>
        <p:spPr>
          <a:xfrm>
            <a:off x="5148360" y="105264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入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文本框 3089"/>
          <p:cNvSpPr/>
          <p:nvPr/>
        </p:nvSpPr>
        <p:spPr>
          <a:xfrm>
            <a:off x="7020000" y="981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于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文本框 3090"/>
          <p:cNvSpPr/>
          <p:nvPr/>
        </p:nvSpPr>
        <p:spPr>
          <a:xfrm>
            <a:off x="8001000" y="11253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文本框 3091"/>
          <p:cNvSpPr/>
          <p:nvPr/>
        </p:nvSpPr>
        <p:spPr>
          <a:xfrm>
            <a:off x="539640" y="551664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用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文本框 3092"/>
          <p:cNvSpPr/>
          <p:nvPr/>
        </p:nvSpPr>
        <p:spPr>
          <a:xfrm>
            <a:off x="1619280" y="5589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指代三支军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文本框 3093"/>
          <p:cNvSpPr/>
          <p:nvPr/>
        </p:nvSpPr>
        <p:spPr>
          <a:xfrm>
            <a:off x="4211640" y="55897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防备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文本框 3095"/>
          <p:cNvSpPr/>
          <p:nvPr/>
        </p:nvSpPr>
        <p:spPr>
          <a:xfrm>
            <a:off x="1258920" y="2637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作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矩形 3096"/>
          <p:cNvSpPr/>
          <p:nvPr/>
        </p:nvSpPr>
        <p:spPr>
          <a:xfrm>
            <a:off x="1332000" y="44355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任命河内太守周亚夫为将军，驻守细柳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用以防备匈奴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矩形 3097"/>
          <p:cNvSpPr/>
          <p:nvPr/>
        </p:nvSpPr>
        <p:spPr>
          <a:xfrm>
            <a:off x="3380040" y="1557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汉文帝继位之后第六年，匈奴大举入侵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矩形 3098"/>
          <p:cNvSpPr/>
          <p:nvPr/>
        </p:nvSpPr>
        <p:spPr>
          <a:xfrm>
            <a:off x="15840" y="3213000"/>
            <a:ext cx="78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于是（文帝）任命宗正刘礼为将军，驻守霸上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矩形 3099"/>
          <p:cNvSpPr/>
          <p:nvPr/>
        </p:nvSpPr>
        <p:spPr>
          <a:xfrm>
            <a:off x="3276720" y="278136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（任命）祝兹侯徐厉为将军，驻守棘门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文本框 3100"/>
          <p:cNvSpPr/>
          <p:nvPr/>
        </p:nvSpPr>
        <p:spPr>
          <a:xfrm>
            <a:off x="3257280" y="2565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驻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5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0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5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5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0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5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0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5563-6068-484D-91AB-895A11B6B7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文本框 28673"/>
          <p:cNvSpPr/>
          <p:nvPr/>
        </p:nvSpPr>
        <p:spPr>
          <a:xfrm>
            <a:off x="0" y="566640"/>
            <a:ext cx="95407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上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自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劳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至霸上及棘门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驰 入，                  将以下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送迎。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已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细柳军，          军士吏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甲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锐兵刃，  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弓</a:t>
            </a:r>
            <a:r>
              <a:rPr b="1" lang="zh-CN" sz="3200" spc="-1" strike="noStrike" u="sng">
                <a:solidFill>
                  <a:srgbClr val="3366cc"/>
                </a:solidFill>
                <a:uFillTx/>
                <a:latin typeface="Times New Roman"/>
              </a:rPr>
              <a:t>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  持满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文本框 28675"/>
          <p:cNvSpPr/>
          <p:nvPr/>
        </p:nvSpPr>
        <p:spPr>
          <a:xfrm>
            <a:off x="838080" y="9144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亲自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文本框 28677"/>
          <p:cNvSpPr/>
          <p:nvPr/>
        </p:nvSpPr>
        <p:spPr>
          <a:xfrm>
            <a:off x="2819520" y="914400"/>
            <a:ext cx="96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名词，军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文本框 28679"/>
          <p:cNvSpPr/>
          <p:nvPr/>
        </p:nvSpPr>
        <p:spPr>
          <a:xfrm>
            <a:off x="6019920" y="9907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军营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文本框 28680"/>
          <p:cNvSpPr/>
          <p:nvPr/>
        </p:nvSpPr>
        <p:spPr>
          <a:xfrm>
            <a:off x="0" y="1916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直接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文本框 28681"/>
          <p:cNvSpPr/>
          <p:nvPr/>
        </p:nvSpPr>
        <p:spPr>
          <a:xfrm>
            <a:off x="3708360" y="256536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将军及其属下都骑着马迎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文本框 28682"/>
          <p:cNvSpPr/>
          <p:nvPr/>
        </p:nvSpPr>
        <p:spPr>
          <a:xfrm>
            <a:off x="539640" y="39337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不久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文本框 28683"/>
          <p:cNvSpPr/>
          <p:nvPr/>
        </p:nvSpPr>
        <p:spPr>
          <a:xfrm>
            <a:off x="1332000" y="33577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往，到</a:t>
            </a:r>
            <a:r>
              <a:rPr b="1" lang="zh-CN" sz="16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文本框 28684"/>
          <p:cNvSpPr/>
          <p:nvPr/>
        </p:nvSpPr>
        <p:spPr>
          <a:xfrm>
            <a:off x="6732720" y="2708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文本框 28685"/>
          <p:cNvSpPr/>
          <p:nvPr/>
        </p:nvSpPr>
        <p:spPr>
          <a:xfrm>
            <a:off x="6516720" y="285264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同“披”，穿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文本框 28687"/>
          <p:cNvSpPr/>
          <p:nvPr/>
        </p:nvSpPr>
        <p:spPr>
          <a:xfrm>
            <a:off x="291636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ò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文本框 28689"/>
          <p:cNvSpPr/>
          <p:nvPr/>
        </p:nvSpPr>
        <p:spPr>
          <a:xfrm>
            <a:off x="6012000" y="458136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ŭ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文本框 28692"/>
          <p:cNvSpPr/>
          <p:nvPr/>
        </p:nvSpPr>
        <p:spPr>
          <a:xfrm>
            <a:off x="6300720" y="45813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用机械发射的箭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矩形 28699"/>
          <p:cNvSpPr/>
          <p:nvPr/>
        </p:nvSpPr>
        <p:spPr>
          <a:xfrm>
            <a:off x="2089080" y="14842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皇帝亲自去慰问犒劳守军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矩形 28700"/>
          <p:cNvSpPr/>
          <p:nvPr/>
        </p:nvSpPr>
        <p:spPr>
          <a:xfrm>
            <a:off x="3924360" y="126828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到霸上和棘门军营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矩形 28701"/>
          <p:cNvSpPr/>
          <p:nvPr/>
        </p:nvSpPr>
        <p:spPr>
          <a:xfrm>
            <a:off x="5569920" y="40766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军营将士都身披铠甲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矩形 28702"/>
          <p:cNvSpPr/>
          <p:nvPr/>
        </p:nvSpPr>
        <p:spPr>
          <a:xfrm>
            <a:off x="250920" y="4365720"/>
            <a:ext cx="54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随后，（皇帝的车队）前往细柳军营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矩形 28703"/>
          <p:cNvSpPr/>
          <p:nvPr/>
        </p:nvSpPr>
        <p:spPr>
          <a:xfrm>
            <a:off x="-181080" y="256536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皇帝的车队）长驱直入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圆角矩形标注 28704"/>
          <p:cNvSpPr/>
          <p:nvPr/>
        </p:nvSpPr>
        <p:spPr>
          <a:xfrm>
            <a:off x="6804000" y="2852640"/>
            <a:ext cx="2016000" cy="360360"/>
          </a:xfrm>
          <a:prstGeom prst="wedgeRoundRectCallout">
            <a:avLst>
              <a:gd name="adj1" fmla="val -75277"/>
              <a:gd name="adj2" fmla="val 161013"/>
              <a:gd name="adj3" fmla="val 16667"/>
            </a:avLst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圆角矩形标注 28705"/>
          <p:cNvSpPr/>
          <p:nvPr/>
        </p:nvSpPr>
        <p:spPr>
          <a:xfrm>
            <a:off x="6156360" y="4653000"/>
            <a:ext cx="2663640" cy="360360"/>
          </a:xfrm>
          <a:prstGeom prst="wedgeRoundRectCallout">
            <a:avLst>
              <a:gd name="adj1" fmla="val -119689"/>
              <a:gd name="adj2" fmla="val 104624"/>
              <a:gd name="adj3" fmla="val 16667"/>
            </a:avLst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矩形 28706"/>
          <p:cNvSpPr/>
          <p:nvPr/>
        </p:nvSpPr>
        <p:spPr>
          <a:xfrm>
            <a:off x="250920" y="5664240"/>
            <a:ext cx="53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刀出鞘，张开弓弩并拉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2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7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2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7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2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7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7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E304-6772-422B-8972-B3546A2C2D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子先驱至，不得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先驱曰：“天子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至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军门都尉曰：“将军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曰：‘军中闻将军令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闻天子之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’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文本框 36870"/>
          <p:cNvSpPr/>
          <p:nvPr/>
        </p:nvSpPr>
        <p:spPr>
          <a:xfrm>
            <a:off x="3780000" y="378936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命令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矩形标注 36872"/>
          <p:cNvSpPr/>
          <p:nvPr/>
        </p:nvSpPr>
        <p:spPr>
          <a:xfrm>
            <a:off x="3564000" y="4869000"/>
            <a:ext cx="1871640" cy="144360"/>
          </a:xfrm>
          <a:prstGeom prst="wedgeRect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圆角矩形标注 36873"/>
          <p:cNvSpPr/>
          <p:nvPr/>
        </p:nvSpPr>
        <p:spPr>
          <a:xfrm>
            <a:off x="3851280" y="4869000"/>
            <a:ext cx="1512720" cy="50472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圆角矩形标注 36874"/>
          <p:cNvSpPr/>
          <p:nvPr/>
        </p:nvSpPr>
        <p:spPr>
          <a:xfrm>
            <a:off x="5003640" y="5950080"/>
            <a:ext cx="1656000" cy="43164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矩形 36880"/>
          <p:cNvSpPr/>
          <p:nvPr/>
        </p:nvSpPr>
        <p:spPr>
          <a:xfrm>
            <a:off x="4347000" y="24400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天子的先行卫队来到军营前，（却被拦住）不得进入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矩形 36882"/>
          <p:cNvSpPr/>
          <p:nvPr/>
        </p:nvSpPr>
        <p:spPr>
          <a:xfrm>
            <a:off x="468360" y="335772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先行官说：“天子将要驾到。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矩形 36883"/>
          <p:cNvSpPr/>
          <p:nvPr/>
        </p:nvSpPr>
        <p:spPr>
          <a:xfrm>
            <a:off x="2099160" y="4457880"/>
            <a:ext cx="55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军门都尉说：“周将军有令：‘军营中只听从将军的命令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矩形 36884"/>
          <p:cNvSpPr/>
          <p:nvPr/>
        </p:nvSpPr>
        <p:spPr>
          <a:xfrm>
            <a:off x="2192760" y="5610240"/>
            <a:ext cx="5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不听从天子的诏令。’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6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1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6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DD1C-A1C9-4D6C-8780-18A3553226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文本框 29697"/>
          <p:cNvSpPr/>
          <p:nvPr/>
        </p:nvSpPr>
        <p:spPr>
          <a:xfrm>
            <a:off x="0" y="685800"/>
            <a:ext cx="8763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文本框 29698"/>
          <p:cNvSpPr/>
          <p:nvPr/>
        </p:nvSpPr>
        <p:spPr>
          <a:xfrm>
            <a:off x="2438280" y="990720"/>
            <a:ext cx="1219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文本框 29699"/>
          <p:cNvSpPr/>
          <p:nvPr/>
        </p:nvSpPr>
        <p:spPr>
          <a:xfrm>
            <a:off x="0" y="685800"/>
            <a:ext cx="914400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居无何，上至，又不得入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于是上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将军：“吾欲入劳军。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亚夫乃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传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开壁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文本框 29701"/>
          <p:cNvSpPr/>
          <p:nvPr/>
        </p:nvSpPr>
        <p:spPr>
          <a:xfrm>
            <a:off x="1187280" y="184464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就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文本框 29702"/>
          <p:cNvSpPr/>
          <p:nvPr/>
        </p:nvSpPr>
        <p:spPr>
          <a:xfrm>
            <a:off x="2556000" y="198900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动词，派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文本框 29703"/>
          <p:cNvSpPr/>
          <p:nvPr/>
        </p:nvSpPr>
        <p:spPr>
          <a:xfrm>
            <a:off x="4211640" y="1916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名词，使臣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文本框 29704"/>
          <p:cNvSpPr/>
          <p:nvPr/>
        </p:nvSpPr>
        <p:spPr>
          <a:xfrm>
            <a:off x="0" y="3429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符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文本框 29707"/>
          <p:cNvSpPr/>
          <p:nvPr/>
        </p:nvSpPr>
        <p:spPr>
          <a:xfrm>
            <a:off x="1332000" y="4869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传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圆角矩形标注 29718"/>
          <p:cNvSpPr/>
          <p:nvPr/>
        </p:nvSpPr>
        <p:spPr>
          <a:xfrm>
            <a:off x="2411280" y="1989000"/>
            <a:ext cx="1009800" cy="648000"/>
          </a:xfrm>
          <a:prstGeom prst="wedgeRoundRectCallout">
            <a:avLst>
              <a:gd name="adj1" fmla="val -70754"/>
              <a:gd name="adj2" fmla="val 17648"/>
              <a:gd name="adj3" fmla="val 16667"/>
            </a:avLst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圆角矩形标注 29720"/>
          <p:cNvSpPr/>
          <p:nvPr/>
        </p:nvSpPr>
        <p:spPr>
          <a:xfrm>
            <a:off x="4211640" y="1916280"/>
            <a:ext cx="2016000" cy="360360"/>
          </a:xfrm>
          <a:prstGeom prst="wedgeRoundRectCallout">
            <a:avLst>
              <a:gd name="adj1" fmla="val -77717"/>
              <a:gd name="adj2" fmla="val 94935"/>
              <a:gd name="adj3" fmla="val 16667"/>
            </a:avLst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矩形 29722"/>
          <p:cNvSpPr/>
          <p:nvPr/>
        </p:nvSpPr>
        <p:spPr>
          <a:xfrm>
            <a:off x="4181760" y="1413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过了不久，皇帝来到军营前，也（被拦住）不得进入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矩形 29723"/>
          <p:cNvSpPr/>
          <p:nvPr/>
        </p:nvSpPr>
        <p:spPr>
          <a:xfrm>
            <a:off x="697680" y="27288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于是皇帝就派使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矩形 29724"/>
          <p:cNvSpPr/>
          <p:nvPr/>
        </p:nvSpPr>
        <p:spPr>
          <a:xfrm>
            <a:off x="2543760" y="4098960"/>
            <a:ext cx="28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手持符节下诏给周将军：“我要进军营慰劳三军。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矩形 29725"/>
          <p:cNvSpPr/>
          <p:nvPr/>
        </p:nvSpPr>
        <p:spPr>
          <a:xfrm>
            <a:off x="3826440" y="558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周亚夫这才传令打开营门（让皇帝的车队进来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3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8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8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3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8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3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5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F2DD-0B10-46A4-BE50-EE6C0EB8B3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684000" y="1125360"/>
            <a:ext cx="892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壁门士吏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谓 从属车骑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“将军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军中不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驱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”  于是天子乃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文本框 35843"/>
          <p:cNvSpPr/>
          <p:nvPr/>
        </p:nvSpPr>
        <p:spPr>
          <a:xfrm>
            <a:off x="2050920" y="836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告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文本框 35844"/>
          <p:cNvSpPr/>
          <p:nvPr/>
        </p:nvSpPr>
        <p:spPr>
          <a:xfrm>
            <a:off x="4284720" y="5493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跟随皇帝的车马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文本框 35845"/>
          <p:cNvSpPr/>
          <p:nvPr/>
        </p:nvSpPr>
        <p:spPr>
          <a:xfrm>
            <a:off x="5033880" y="2379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规定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文本框 35846"/>
          <p:cNvSpPr/>
          <p:nvPr/>
        </p:nvSpPr>
        <p:spPr>
          <a:xfrm>
            <a:off x="539640" y="38606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驱马奔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文本框 35847"/>
          <p:cNvSpPr/>
          <p:nvPr/>
        </p:nvSpPr>
        <p:spPr>
          <a:xfrm>
            <a:off x="4643280" y="1052640"/>
            <a:ext cx="68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jì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文本框 35848"/>
          <p:cNvSpPr/>
          <p:nvPr/>
        </p:nvSpPr>
        <p:spPr>
          <a:xfrm>
            <a:off x="4284720" y="378936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控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文本框 35850"/>
          <p:cNvSpPr/>
          <p:nvPr/>
        </p:nvSpPr>
        <p:spPr>
          <a:xfrm>
            <a:off x="6013800" y="3933720"/>
            <a:ext cx="10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(pèi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文本框 35851"/>
          <p:cNvSpPr/>
          <p:nvPr/>
        </p:nvSpPr>
        <p:spPr>
          <a:xfrm>
            <a:off x="5651640" y="3500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驾驭马的缰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文本框 35852"/>
          <p:cNvSpPr/>
          <p:nvPr/>
        </p:nvSpPr>
        <p:spPr>
          <a:xfrm>
            <a:off x="7093080" y="3716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慢慢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矩形 35853"/>
          <p:cNvSpPr/>
          <p:nvPr/>
        </p:nvSpPr>
        <p:spPr>
          <a:xfrm>
            <a:off x="539640" y="1700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守营门的官兵对随从的军队说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矩形 35854"/>
          <p:cNvSpPr/>
          <p:nvPr/>
        </p:nvSpPr>
        <p:spPr>
          <a:xfrm>
            <a:off x="539640" y="47242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于是，天子的车队就按住缰绳慢慢前行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矩形标注 35856"/>
          <p:cNvSpPr/>
          <p:nvPr/>
        </p:nvSpPr>
        <p:spPr>
          <a:xfrm>
            <a:off x="4140360" y="476280"/>
            <a:ext cx="3528720" cy="576360"/>
          </a:xfrm>
          <a:prstGeom prst="wedgeRectCallout">
            <a:avLst>
              <a:gd name="adj1" fmla="val -47569"/>
              <a:gd name="adj2" fmla="val 70111"/>
            </a:avLst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矩形 35857"/>
          <p:cNvSpPr/>
          <p:nvPr/>
        </p:nvSpPr>
        <p:spPr>
          <a:xfrm>
            <a:off x="1789920" y="2997360"/>
            <a:ext cx="38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：“将军规定，军营中不能驱马快跑。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2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7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2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7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2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7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2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0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522B-6C4E-4F22-8CD8-7CB353D15F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文本框 30721"/>
          <p:cNvSpPr/>
          <p:nvPr/>
        </p:nvSpPr>
        <p:spPr>
          <a:xfrm>
            <a:off x="0" y="762120"/>
            <a:ext cx="95407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至营，将军亚夫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揖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士不拜，请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(           )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军礼见。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子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为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改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车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称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“皇帝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劳将军。”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成        礼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文本框 30722"/>
          <p:cNvSpPr/>
          <p:nvPr/>
        </p:nvSpPr>
        <p:spPr>
          <a:xfrm>
            <a:off x="4067280" y="40464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yī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文本框 30723"/>
          <p:cNvSpPr/>
          <p:nvPr/>
        </p:nvSpPr>
        <p:spPr>
          <a:xfrm>
            <a:off x="826920" y="1844640"/>
            <a:ext cx="121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zhòu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文本框 30724"/>
          <p:cNvSpPr/>
          <p:nvPr/>
        </p:nvSpPr>
        <p:spPr>
          <a:xfrm>
            <a:off x="2843280" y="33336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兵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文本框 30729"/>
          <p:cNvSpPr/>
          <p:nvPr/>
        </p:nvSpPr>
        <p:spPr>
          <a:xfrm>
            <a:off x="3851280" y="2276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让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文本框 30730"/>
          <p:cNvSpPr/>
          <p:nvPr/>
        </p:nvSpPr>
        <p:spPr>
          <a:xfrm>
            <a:off x="472428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文本框 30731"/>
          <p:cNvSpPr/>
          <p:nvPr/>
        </p:nvSpPr>
        <p:spPr>
          <a:xfrm>
            <a:off x="395280" y="33577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被感动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文本框 30732"/>
          <p:cNvSpPr/>
          <p:nvPr/>
        </p:nvSpPr>
        <p:spPr>
          <a:xfrm>
            <a:off x="2411280" y="321300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神情改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文本框 30733"/>
          <p:cNvSpPr/>
          <p:nvPr/>
        </p:nvSpPr>
        <p:spPr>
          <a:xfrm>
            <a:off x="3851280" y="3284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同“轼”，车前横木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文本框 30734"/>
          <p:cNvSpPr/>
          <p:nvPr/>
        </p:nvSpPr>
        <p:spPr>
          <a:xfrm>
            <a:off x="-252360" y="479736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动词，派遣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文本框 30736"/>
          <p:cNvSpPr/>
          <p:nvPr/>
        </p:nvSpPr>
        <p:spPr>
          <a:xfrm>
            <a:off x="2627280" y="4797360"/>
            <a:ext cx="22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表示敬意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文本框 30737"/>
          <p:cNvSpPr/>
          <p:nvPr/>
        </p:nvSpPr>
        <p:spPr>
          <a:xfrm>
            <a:off x="8077320" y="479736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离开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文本框 30738"/>
          <p:cNvSpPr/>
          <p:nvPr/>
        </p:nvSpPr>
        <p:spPr>
          <a:xfrm>
            <a:off x="5003640" y="46530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完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文本框 30741"/>
          <p:cNvSpPr/>
          <p:nvPr/>
        </p:nvSpPr>
        <p:spPr>
          <a:xfrm>
            <a:off x="5148360" y="1700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文本框 30742"/>
          <p:cNvSpPr/>
          <p:nvPr/>
        </p:nvSpPr>
        <p:spPr>
          <a:xfrm>
            <a:off x="6300720" y="47242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劳军之礼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矩形标注 30743"/>
          <p:cNvSpPr/>
          <p:nvPr/>
        </p:nvSpPr>
        <p:spPr>
          <a:xfrm>
            <a:off x="2843280" y="260280"/>
            <a:ext cx="1512720" cy="504720"/>
          </a:xfrm>
          <a:prstGeom prst="wedgeRectCallout">
            <a:avLst>
              <a:gd name="adj1" fmla="val 6874"/>
              <a:gd name="adj2" fmla="val 89620"/>
            </a:avLst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矩形标注 30747"/>
          <p:cNvSpPr/>
          <p:nvPr/>
        </p:nvSpPr>
        <p:spPr>
          <a:xfrm>
            <a:off x="4211640" y="3357720"/>
            <a:ext cx="2376360" cy="360360"/>
          </a:xfrm>
          <a:prstGeom prst="wedgeRectCallout">
            <a:avLst>
              <a:gd name="adj1" fmla="val -48194"/>
              <a:gd name="adj2" fmla="val 91851"/>
            </a:avLst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矩形标注 30748"/>
          <p:cNvSpPr/>
          <p:nvPr/>
        </p:nvSpPr>
        <p:spPr>
          <a:xfrm>
            <a:off x="2484360" y="3284640"/>
            <a:ext cx="1295640" cy="288720"/>
          </a:xfrm>
          <a:prstGeom prst="wedgeRectCallout">
            <a:avLst>
              <a:gd name="adj1" fmla="val -31129"/>
              <a:gd name="adj2" fmla="val 142305"/>
            </a:avLst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矩形标注 30749"/>
          <p:cNvSpPr/>
          <p:nvPr/>
        </p:nvSpPr>
        <p:spPr>
          <a:xfrm>
            <a:off x="826920" y="3429000"/>
            <a:ext cx="1513080" cy="289080"/>
          </a:xfrm>
          <a:prstGeom prst="wedgeRectCallout">
            <a:avLst>
              <a:gd name="adj1" fmla="val -12750"/>
              <a:gd name="adj2" fmla="val 109342"/>
            </a:avLst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矩形标注 30750"/>
          <p:cNvSpPr/>
          <p:nvPr/>
        </p:nvSpPr>
        <p:spPr>
          <a:xfrm>
            <a:off x="0" y="4797360"/>
            <a:ext cx="1476360" cy="360360"/>
          </a:xfrm>
          <a:prstGeom prst="wedgeRectCallout">
            <a:avLst>
              <a:gd name="adj1" fmla="val -5699"/>
              <a:gd name="adj2" fmla="val 94495"/>
            </a:avLst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矩形标注 30752"/>
          <p:cNvSpPr/>
          <p:nvPr/>
        </p:nvSpPr>
        <p:spPr>
          <a:xfrm>
            <a:off x="2987640" y="4797360"/>
            <a:ext cx="1295280" cy="360360"/>
          </a:xfrm>
          <a:prstGeom prst="wedgeRectCallout">
            <a:avLst>
              <a:gd name="adj1" fmla="val -19731"/>
              <a:gd name="adj2" fmla="val 90527"/>
            </a:avLst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矩形 30753"/>
          <p:cNvSpPr/>
          <p:nvPr/>
        </p:nvSpPr>
        <p:spPr>
          <a:xfrm>
            <a:off x="1795680" y="119700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来到营中大账前，将军周亚夫手执兵器，双手抱拳行礼说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矩形 30754"/>
          <p:cNvSpPr/>
          <p:nvPr/>
        </p:nvSpPr>
        <p:spPr>
          <a:xfrm>
            <a:off x="1798920" y="2781360"/>
            <a:ext cx="46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99"/>
                </a:solidFill>
                <a:latin typeface="Times New Roman"/>
              </a:rPr>
              <a:t>：“穿戴着盔甲的将士不行跪拜之礼，请允许我行军礼拜见皇上。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矩形 30755"/>
          <p:cNvSpPr/>
          <p:nvPr/>
        </p:nvSpPr>
        <p:spPr>
          <a:xfrm>
            <a:off x="1820880" y="4221000"/>
            <a:ext cx="55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99"/>
                </a:solidFill>
                <a:latin typeface="Times New Roman"/>
              </a:rPr>
              <a:t>天子被感动了，脸的神情也改变了，俯身扶着车前的横木（向亚夫表示敬意），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矩形 30757"/>
          <p:cNvSpPr/>
          <p:nvPr/>
        </p:nvSpPr>
        <p:spPr>
          <a:xfrm>
            <a:off x="250920" y="580536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并命人宣告：“皇帝敬重、慰劳将军。”礼仪完毕就离去了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矩形标注 30758"/>
          <p:cNvSpPr/>
          <p:nvPr/>
        </p:nvSpPr>
        <p:spPr>
          <a:xfrm>
            <a:off x="5364000" y="1700280"/>
            <a:ext cx="720720" cy="433440"/>
          </a:xfrm>
          <a:prstGeom prst="wedgeRectCallout">
            <a:avLst>
              <a:gd name="adj1" fmla="val 27532"/>
              <a:gd name="adj2" fmla="val 91759"/>
            </a:avLst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矩形标注 30759"/>
          <p:cNvSpPr/>
          <p:nvPr/>
        </p:nvSpPr>
        <p:spPr>
          <a:xfrm>
            <a:off x="8244000" y="4724280"/>
            <a:ext cx="900000" cy="362160"/>
          </a:xfrm>
          <a:prstGeom prst="wedgeRectCallout">
            <a:avLst>
              <a:gd name="adj1" fmla="val -8731"/>
              <a:gd name="adj2" fmla="val 105703"/>
            </a:avLst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矩形标注 30760"/>
          <p:cNvSpPr/>
          <p:nvPr/>
        </p:nvSpPr>
        <p:spPr>
          <a:xfrm>
            <a:off x="6588000" y="4724280"/>
            <a:ext cx="1368720" cy="362160"/>
          </a:xfrm>
          <a:prstGeom prst="wedgeRectCallout">
            <a:avLst>
              <a:gd name="adj1" fmla="val -8120"/>
              <a:gd name="adj2" fmla="val 105263"/>
            </a:avLst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矩形标注 30761"/>
          <p:cNvSpPr/>
          <p:nvPr/>
        </p:nvSpPr>
        <p:spPr>
          <a:xfrm>
            <a:off x="5292720" y="4724280"/>
            <a:ext cx="792000" cy="289080"/>
          </a:xfrm>
          <a:prstGeom prst="wedgeRectCallout">
            <a:avLst>
              <a:gd name="adj1" fmla="val 21745"/>
              <a:gd name="adj2" fmla="val 148902"/>
            </a:avLst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7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8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3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8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3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8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3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8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3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8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72" dur="500" fill="hold"/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73" dur="500" fill="hold"/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74" dur="500" fill="hold"/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75" dur="500" fill="hold"/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0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55E8-C80F-47A4-9337-96C0530313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文本框 31745"/>
          <p:cNvSpPr/>
          <p:nvPr/>
        </p:nvSpPr>
        <p:spPr>
          <a:xfrm>
            <a:off x="304920" y="981000"/>
            <a:ext cx="88390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出军门，群臣皆惊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文帝曰：“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嗟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      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乎！此真将军矣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曩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         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者霸上、棘门军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儿戏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！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文本框 31746"/>
          <p:cNvSpPr/>
          <p:nvPr/>
        </p:nvSpPr>
        <p:spPr>
          <a:xfrm>
            <a:off x="179280" y="476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以后 ，已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文本框 31747"/>
          <p:cNvSpPr/>
          <p:nvPr/>
        </p:nvSpPr>
        <p:spPr>
          <a:xfrm>
            <a:off x="2700360" y="2421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ji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文本框 31748"/>
          <p:cNvSpPr/>
          <p:nvPr/>
        </p:nvSpPr>
        <p:spPr>
          <a:xfrm>
            <a:off x="6156360" y="177336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文本框 31750"/>
          <p:cNvSpPr/>
          <p:nvPr/>
        </p:nvSpPr>
        <p:spPr>
          <a:xfrm>
            <a:off x="971640" y="3933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nǎ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文本框 31751"/>
          <p:cNvSpPr/>
          <p:nvPr/>
        </p:nvSpPr>
        <p:spPr>
          <a:xfrm>
            <a:off x="514836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文本框 31752"/>
          <p:cNvSpPr/>
          <p:nvPr/>
        </p:nvSpPr>
        <p:spPr>
          <a:xfrm>
            <a:off x="6732720" y="3284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罢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矩形 31758"/>
          <p:cNvSpPr/>
          <p:nvPr/>
        </p:nvSpPr>
        <p:spPr>
          <a:xfrm>
            <a:off x="1508760" y="170028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出军营大门后，随从的大臣们都很惊愕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矩形 31759"/>
          <p:cNvSpPr/>
          <p:nvPr/>
        </p:nvSpPr>
        <p:spPr>
          <a:xfrm>
            <a:off x="1109160" y="292428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文帝说：“啊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!</a:t>
            </a: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这才是真将军啊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矩形 31760"/>
          <p:cNvSpPr/>
          <p:nvPr/>
        </p:nvSpPr>
        <p:spPr>
          <a:xfrm>
            <a:off x="3443040" y="4602240"/>
            <a:ext cx="111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先前（看到的）霸上、棘门的军队，像儿戏罢了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简直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儿戏一样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矩形标注 31761"/>
          <p:cNvSpPr/>
          <p:nvPr/>
        </p:nvSpPr>
        <p:spPr>
          <a:xfrm>
            <a:off x="826920" y="549360"/>
            <a:ext cx="1295640" cy="358560"/>
          </a:xfrm>
          <a:prstGeom prst="wedgeRectCallout">
            <a:avLst>
              <a:gd name="adj1" fmla="val -13236"/>
              <a:gd name="adj2" fmla="val 97347"/>
            </a:avLst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矩形标注 31762"/>
          <p:cNvSpPr/>
          <p:nvPr/>
        </p:nvSpPr>
        <p:spPr>
          <a:xfrm>
            <a:off x="6659640" y="1844640"/>
            <a:ext cx="720720" cy="433440"/>
          </a:xfrm>
          <a:prstGeom prst="wedgeRectCallout">
            <a:avLst>
              <a:gd name="adj1" fmla="val -585902"/>
              <a:gd name="adj2" fmla="val 123990"/>
            </a:avLst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矩形标注 31764"/>
          <p:cNvSpPr/>
          <p:nvPr/>
        </p:nvSpPr>
        <p:spPr>
          <a:xfrm>
            <a:off x="5076720" y="3429000"/>
            <a:ext cx="720720" cy="433440"/>
          </a:xfrm>
          <a:prstGeom prst="wedgeRectCallout">
            <a:avLst>
              <a:gd name="adj1" fmla="val 27532"/>
              <a:gd name="adj2" fmla="val 91759"/>
            </a:avLst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矩形标注 31765"/>
          <p:cNvSpPr/>
          <p:nvPr/>
        </p:nvSpPr>
        <p:spPr>
          <a:xfrm>
            <a:off x="6877080" y="3284640"/>
            <a:ext cx="720720" cy="433440"/>
          </a:xfrm>
          <a:prstGeom prst="wedgeRectCallout">
            <a:avLst>
              <a:gd name="adj1" fmla="val -31717"/>
              <a:gd name="adj2" fmla="val 120328"/>
            </a:avLst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2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7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2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2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7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3EE1-0602-437F-A4EA-2C10959B71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将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袭而虏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至于亚夫，可得而犯邪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  )?”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称善者久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文本框 51203"/>
          <p:cNvSpPr/>
          <p:nvPr/>
        </p:nvSpPr>
        <p:spPr>
          <a:xfrm>
            <a:off x="1619280" y="1268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必定，当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文本框 51205"/>
          <p:cNvSpPr/>
          <p:nvPr/>
        </p:nvSpPr>
        <p:spPr>
          <a:xfrm>
            <a:off x="4500720" y="407664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补足音节，无实义，不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文本框 51207"/>
          <p:cNvSpPr/>
          <p:nvPr/>
        </p:nvSpPr>
        <p:spPr>
          <a:xfrm>
            <a:off x="5148360" y="3141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y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矩形 51208"/>
          <p:cNvSpPr/>
          <p:nvPr/>
        </p:nvSpPr>
        <p:spPr>
          <a:xfrm>
            <a:off x="3111840" y="24400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其将士必定会遭到袭击而被俘获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矩形 51209"/>
          <p:cNvSpPr/>
          <p:nvPr/>
        </p:nvSpPr>
        <p:spPr>
          <a:xfrm>
            <a:off x="1225080" y="3738600"/>
            <a:ext cx="275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至于亚夫，岂能被侵犯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?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矩形 51210"/>
          <p:cNvSpPr/>
          <p:nvPr/>
        </p:nvSpPr>
        <p:spPr>
          <a:xfrm>
            <a:off x="1364400" y="501336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（说罢）连连称赞不已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矩形标注 51211"/>
          <p:cNvSpPr/>
          <p:nvPr/>
        </p:nvSpPr>
        <p:spPr>
          <a:xfrm>
            <a:off x="1835280" y="1268280"/>
            <a:ext cx="2160360" cy="433440"/>
          </a:xfrm>
          <a:prstGeom prst="wedgeRectCallout">
            <a:avLst>
              <a:gd name="adj1" fmla="val -13407"/>
              <a:gd name="adj2" fmla="val 152199"/>
            </a:avLst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矩形标注 51212"/>
          <p:cNvSpPr/>
          <p:nvPr/>
        </p:nvSpPr>
        <p:spPr>
          <a:xfrm>
            <a:off x="4859280" y="4076640"/>
            <a:ext cx="1081080" cy="433440"/>
          </a:xfrm>
          <a:prstGeom prst="wedgeRectCallout">
            <a:avLst>
              <a:gd name="adj1" fmla="val -171439"/>
              <a:gd name="adj2" fmla="val 58425"/>
            </a:avLst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9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4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2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350640" y="132840"/>
            <a:ext cx="52275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词汇、句式积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 通假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军士吏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被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甲（“被”同“披”，穿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改容式车（“式” 同“轼”，车前横木，这里用作动词，指扶轼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5" name="图片 37891" descr="t01e5e4bd24de49ad29"/>
          <p:cNvPicPr/>
          <p:nvPr/>
        </p:nvPicPr>
        <p:blipFill>
          <a:blip r:embed="rId1"/>
          <a:stretch/>
        </p:blipFill>
        <p:spPr>
          <a:xfrm>
            <a:off x="0" y="4724280"/>
            <a:ext cx="914400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6117-D299-48F4-81E1-FC846E5FB3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3" name="图片 39937" descr="WB0210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矩形 3993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图片 39939" descr="BD05845_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4190760"/>
          </a:xfrm>
          <a:prstGeom prst="rect">
            <a:avLst/>
          </a:prstGeom>
          <a:ln w="0">
            <a:noFill/>
          </a:ln>
        </p:spPr>
      </p:pic>
      <p:pic>
        <p:nvPicPr>
          <p:cNvPr id="736" name="图片 39940" descr="史记"/>
          <p:cNvPicPr/>
          <p:nvPr/>
        </p:nvPicPr>
        <p:blipFill>
          <a:blip r:embed="rId3"/>
          <a:stretch/>
        </p:blipFill>
        <p:spPr>
          <a:xfrm>
            <a:off x="2411280" y="1341360"/>
            <a:ext cx="4091040" cy="4967280"/>
          </a:xfrm>
          <a:prstGeom prst="rect">
            <a:avLst/>
          </a:prstGeom>
          <a:ln w="0">
            <a:noFill/>
          </a:ln>
        </p:spPr>
      </p:pic>
      <p:sp>
        <p:nvSpPr>
          <p:cNvPr id="737" name="文本框 39941"/>
          <p:cNvSpPr/>
          <p:nvPr/>
        </p:nvSpPr>
        <p:spPr>
          <a:xfrm>
            <a:off x="6236640" y="1628640"/>
            <a:ext cx="1399320" cy="4248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史  家  之  绝  唱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文本框 39942"/>
          <p:cNvSpPr/>
          <p:nvPr/>
        </p:nvSpPr>
        <p:spPr>
          <a:xfrm>
            <a:off x="653400" y="1700280"/>
            <a:ext cx="1399320" cy="4176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无  韵  之  离  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图片 39943" descr="030_JPG"/>
          <p:cNvPicPr/>
          <p:nvPr/>
        </p:nvPicPr>
        <p:blipFill>
          <a:blip r:embed="rId4"/>
          <a:stretch/>
        </p:blipFill>
        <p:spPr>
          <a:xfrm>
            <a:off x="8172360" y="5950080"/>
            <a:ext cx="971640" cy="907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0755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一词多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于是上乃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使持节诏将军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派遣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于是上乃使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持节诏将军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使臣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军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霸上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驻军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上自劳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军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军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8" name="图片 38915" descr="t01256d217c2e6a8313"/>
          <p:cNvPicPr/>
          <p:nvPr/>
        </p:nvPicPr>
        <p:blipFill>
          <a:blip r:embed="rId1"/>
          <a:stretch/>
        </p:blipFill>
        <p:spPr>
          <a:xfrm>
            <a:off x="5435640" y="3357720"/>
            <a:ext cx="3708360" cy="3500280"/>
          </a:xfrm>
          <a:prstGeom prst="rect">
            <a:avLst/>
          </a:prstGeom>
          <a:ln w="0">
            <a:noFill/>
          </a:ln>
        </p:spPr>
      </p:pic>
      <p:sp>
        <p:nvSpPr>
          <p:cNvPr id="919" name="文本框 98332"/>
          <p:cNvSpPr/>
          <p:nvPr/>
        </p:nvSpPr>
        <p:spPr>
          <a:xfrm>
            <a:off x="611280" y="6046920"/>
            <a:ext cx="330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至霸上及棘门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文本框 1"/>
          <p:cNvSpPr/>
          <p:nvPr/>
        </p:nvSpPr>
        <p:spPr>
          <a:xfrm>
            <a:off x="4075200" y="604692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军：军营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已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细柳军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闻天子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诏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助词，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称善者久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无意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以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河内守亚夫为将军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任命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请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军礼见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3" name="图片 39939" descr="t01d91beb6ebccfe6be"/>
          <p:cNvPicPr/>
          <p:nvPr/>
        </p:nvPicPr>
        <p:blipFill>
          <a:blip r:embed="rId1"/>
          <a:stretch/>
        </p:blipFill>
        <p:spPr>
          <a:xfrm>
            <a:off x="8028000" y="0"/>
            <a:ext cx="801720" cy="65786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闻天子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名词，皇帝发布的命令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于是上乃使使持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将军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动词，下诏，下命令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劳军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名词，特指皇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受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赏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形容词，上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" name="图片 40963" descr="t01a1b39b6e2c1ddcf5"/>
          <p:cNvPicPr/>
          <p:nvPr/>
        </p:nvPicPr>
        <p:blipFill>
          <a:blip r:embed="rId1"/>
          <a:stretch/>
        </p:blipFill>
        <p:spPr>
          <a:xfrm>
            <a:off x="0" y="3500280"/>
            <a:ext cx="1258920" cy="3357720"/>
          </a:xfrm>
          <a:prstGeom prst="rect">
            <a:avLst/>
          </a:prstGeom>
          <a:ln w="0">
            <a:noFill/>
          </a:ln>
        </p:spPr>
      </p:pic>
      <p:pic>
        <p:nvPicPr>
          <p:cNvPr id="927" name="图片 40964" descr="t01c1e58abfde53607b"/>
          <p:cNvPicPr/>
          <p:nvPr/>
        </p:nvPicPr>
        <p:blipFill>
          <a:blip r:embed="rId2"/>
          <a:stretch/>
        </p:blipFill>
        <p:spPr>
          <a:xfrm>
            <a:off x="5364000" y="3068640"/>
            <a:ext cx="3780000" cy="16556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将军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令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曰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动词，下令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军中闻将军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令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名词，命令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匈奴大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边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动词，侵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直驰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动词，进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41987" descr="t017075b62c11b4ec86"/>
          <p:cNvPicPr/>
          <p:nvPr/>
        </p:nvPicPr>
        <p:blipFill>
          <a:blip r:embed="rId1"/>
          <a:stretch/>
        </p:blipFill>
        <p:spPr>
          <a:xfrm>
            <a:off x="0" y="5273640"/>
            <a:ext cx="9144000" cy="1584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以河内守亚夫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将军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动词，作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子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动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介词，被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于是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使使持节诏将军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副词，就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亚夫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传言开壁门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副词，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3" name="图片 43011" descr="t0147ecb4a0fa838c25"/>
          <p:cNvPicPr/>
          <p:nvPr/>
        </p:nvPicPr>
        <p:blipFill>
          <a:blip r:embed="rId1"/>
          <a:stretch/>
        </p:blipFill>
        <p:spPr>
          <a:xfrm>
            <a:off x="7020000" y="1628640"/>
            <a:ext cx="2124000" cy="2521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古今异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天子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先驱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至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古义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先行引导的人员；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今义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走在前面引导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军中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将军令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古义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听从；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今义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用鼻子嗅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诏将军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古义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符节，皇帝派遣使者或调动军队的凭证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今义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节日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6" name="图片 44035" descr="t01223dcb4b9a11f3f1"/>
          <p:cNvPicPr/>
          <p:nvPr/>
        </p:nvPicPr>
        <p:blipFill>
          <a:blip r:embed="rId1"/>
          <a:stretch/>
        </p:blipFill>
        <p:spPr>
          <a:xfrm>
            <a:off x="3995640" y="4986360"/>
            <a:ext cx="5148360" cy="18716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亚夫乃传言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门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古义：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营垒；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今义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墙壁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以军礼见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古义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请允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；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今义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希望对方做某事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使人称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谢（古义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告知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今义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感谢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9" name="图片 45059" descr="风景"/>
          <p:cNvPicPr/>
          <p:nvPr/>
        </p:nvPicPr>
        <p:blipFill>
          <a:blip r:embed="rId1"/>
          <a:stretch/>
        </p:blipFill>
        <p:spPr>
          <a:xfrm>
            <a:off x="0" y="4581360"/>
            <a:ext cx="9144000" cy="22766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词类活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军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棘门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名词用作动词，驻军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介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之士（名词用作动词，披甲戴盔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于是上乃使使持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将军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名词用作动词，下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兵刃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形容词使动用法，使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锋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文言句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子为动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被动句，“为”表被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2" name="图片 46083" descr="t018f0a99de9aeb01c7"/>
          <p:cNvPicPr/>
          <p:nvPr/>
        </p:nvPicPr>
        <p:blipFill>
          <a:blip r:embed="rId1"/>
          <a:stretch/>
        </p:blipFill>
        <p:spPr>
          <a:xfrm>
            <a:off x="7791480" y="4941720"/>
            <a:ext cx="1352520" cy="1916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EA04-80EF-41E7-8663-CCB89F42EDD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矩形 101377"/>
          <p:cNvSpPr txBox="1"/>
          <p:nvPr/>
        </p:nvSpPr>
        <p:spPr>
          <a:xfrm>
            <a:off x="762120" y="609480"/>
            <a:ext cx="30477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6600"/>
                </a:solidFill>
                <a:latin typeface="隶书"/>
              </a:rPr>
              <a:t>课文内容分析</a:t>
            </a:r>
            <a:endParaRPr b="1" lang="en-US" sz="2400" spc="1" strike="noStrike">
              <a:ln w="9360">
                <a:solidFill>
                  <a:srgbClr val="ffff00"/>
                </a:solidFill>
                <a:round/>
              </a:ln>
              <a:solidFill>
                <a:srgbClr val="ff6600"/>
              </a:solidFill>
              <a:latin typeface="隶书"/>
              <a:ea typeface="隶书"/>
            </a:endParaRPr>
          </a:p>
        </p:txBody>
      </p:sp>
      <p:sp>
        <p:nvSpPr>
          <p:cNvPr id="945" name="文本框 101378"/>
          <p:cNvSpPr/>
          <p:nvPr/>
        </p:nvSpPr>
        <p:spPr>
          <a:xfrm>
            <a:off x="762120" y="167652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复述故事情节（把故事的起因、经过、结果串起来）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文本框 1"/>
          <p:cNvSpPr/>
          <p:nvPr/>
        </p:nvSpPr>
        <p:spPr>
          <a:xfrm>
            <a:off x="603360" y="3346560"/>
            <a:ext cx="816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汉文帝称周亚夫为真将军，那些内容可以看出周亚夫真将军的风范，从相关的内容可以看出周亚夫是一个怎样的人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8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8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8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8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矩形 104449"/>
          <p:cNvSpPr/>
          <p:nvPr/>
        </p:nvSpPr>
        <p:spPr>
          <a:xfrm>
            <a:off x="343080" y="80496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军士吏被甲，锐兵刃，彀弓弩，持满。” “不得入”“又不得入”“乃传言”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矩形 104450"/>
          <p:cNvSpPr/>
          <p:nvPr/>
        </p:nvSpPr>
        <p:spPr>
          <a:xfrm>
            <a:off x="152280" y="27367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文帝到细柳营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驱至，不得入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至，又不得入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至文帝正式派使臣持节下诏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亚夫乃传言开壁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将军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军中不得驱驰”“天子乃按辔徐行”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矩形 104451"/>
          <p:cNvSpPr/>
          <p:nvPr/>
        </p:nvSpPr>
        <p:spPr>
          <a:xfrm>
            <a:off x="0" y="464328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持兵揖”、“以军礼见” “将以下骑送迎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0" name="文本框 1" descr=""/>
          <p:cNvPicPr/>
          <p:nvPr/>
        </p:nvPicPr>
        <p:blipFill>
          <a:blip r:embed="rId1"/>
          <a:stretch/>
        </p:blipFill>
        <p:spPr>
          <a:xfrm>
            <a:off x="-7920" y="158760"/>
            <a:ext cx="5665680" cy="646200"/>
          </a:xfrm>
          <a:prstGeom prst="rect">
            <a:avLst/>
          </a:prstGeom>
          <a:ln w="0">
            <a:noFill/>
          </a:ln>
        </p:spPr>
      </p:pic>
      <p:sp>
        <p:nvSpPr>
          <p:cNvPr id="951" name="矩形 2"/>
          <p:cNvSpPr/>
          <p:nvPr/>
        </p:nvSpPr>
        <p:spPr>
          <a:xfrm>
            <a:off x="228600" y="175752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军容严整，常备不懈，严阵以待，军纪严明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治军有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矩形 3"/>
          <p:cNvSpPr/>
          <p:nvPr/>
        </p:nvSpPr>
        <p:spPr>
          <a:xfrm>
            <a:off x="152280" y="4121280"/>
            <a:ext cx="85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治军有方，令行禁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矩形 4"/>
          <p:cNvSpPr/>
          <p:nvPr/>
        </p:nvSpPr>
        <p:spPr>
          <a:xfrm>
            <a:off x="228600" y="5246640"/>
            <a:ext cx="92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周亚夫恪尽职守、刚正不阿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4" name="矩形 5" descr=""/>
          <p:cNvPicPr/>
          <p:nvPr/>
        </p:nvPicPr>
        <p:blipFill>
          <a:blip r:embed="rId2"/>
          <a:stretch/>
        </p:blipFill>
        <p:spPr>
          <a:xfrm>
            <a:off x="-15840" y="5884920"/>
            <a:ext cx="9175680" cy="5824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D1A7-4125-4A17-830D-4D98A7F112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图片 43009" descr="WB0210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2" name="矩形 430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3" name="图片 43011" descr="司马迁"/>
          <p:cNvPicPr/>
          <p:nvPr/>
        </p:nvPicPr>
        <p:blipFill>
          <a:blip r:embed="rId2"/>
          <a:stretch/>
        </p:blipFill>
        <p:spPr>
          <a:xfrm>
            <a:off x="1979640" y="0"/>
            <a:ext cx="491328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26F8-C111-43A9-88C5-94CB6C97C46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矩形 101377"/>
          <p:cNvSpPr txBox="1"/>
          <p:nvPr/>
        </p:nvSpPr>
        <p:spPr>
          <a:xfrm>
            <a:off x="762120" y="609480"/>
            <a:ext cx="30477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6600"/>
                </a:solidFill>
                <a:latin typeface="隶书"/>
              </a:rPr>
              <a:t>深入探究</a:t>
            </a:r>
            <a:endParaRPr b="1" lang="en-US" sz="2400" spc="1" strike="noStrike">
              <a:ln w="9360">
                <a:solidFill>
                  <a:srgbClr val="ffff00"/>
                </a:solidFill>
                <a:round/>
              </a:ln>
              <a:solidFill>
                <a:srgbClr val="ff6600"/>
              </a:solidFill>
              <a:latin typeface="隶书"/>
              <a:ea typeface="隶书"/>
            </a:endParaRPr>
          </a:p>
        </p:txBody>
      </p:sp>
      <p:sp>
        <p:nvSpPr>
          <p:cNvPr id="957" name="文本框 101378"/>
          <p:cNvSpPr/>
          <p:nvPr/>
        </p:nvSpPr>
        <p:spPr>
          <a:xfrm>
            <a:off x="355680" y="1984320"/>
            <a:ext cx="843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文中在塑造周亚夫形象时，运用了哪些方法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文本框 1"/>
          <p:cNvSpPr/>
          <p:nvPr/>
        </p:nvSpPr>
        <p:spPr>
          <a:xfrm>
            <a:off x="355680" y="3672000"/>
            <a:ext cx="8432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知识回顾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刻画人物形象的方法有什么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8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8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8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8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29E1-60DF-4D33-A430-4CBCCEDEED4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矩形 102401"/>
          <p:cNvSpPr txBox="1"/>
          <p:nvPr/>
        </p:nvSpPr>
        <p:spPr>
          <a:xfrm>
            <a:off x="5486400" y="1676520"/>
            <a:ext cx="32004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ffff"/>
                  </a:solidFill>
                  <a:round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正面描写</a:t>
            </a:r>
            <a:endParaRPr b="1" lang="en-US" sz="2400" spc="1" strike="noStrike">
              <a:ln w="12600">
                <a:solidFill>
                  <a:srgbClr val="00ffff"/>
                </a:solidFill>
                <a:round/>
              </a:ln>
              <a:solidFill>
                <a:srgbClr val="80008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61" name="矩形 102402"/>
          <p:cNvSpPr txBox="1"/>
          <p:nvPr/>
        </p:nvSpPr>
        <p:spPr>
          <a:xfrm>
            <a:off x="5486400" y="3733920"/>
            <a:ext cx="32767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ffff"/>
                  </a:solidFill>
                  <a:round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侧面描写</a:t>
            </a:r>
            <a:endParaRPr b="1" lang="en-US" sz="2400" spc="1" strike="noStrike">
              <a:ln w="12600">
                <a:solidFill>
                  <a:srgbClr val="00ffff"/>
                </a:solidFill>
                <a:round/>
              </a:ln>
              <a:solidFill>
                <a:srgbClr val="80008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62" name="文本框 102403"/>
          <p:cNvSpPr/>
          <p:nvPr/>
        </p:nvSpPr>
        <p:spPr>
          <a:xfrm>
            <a:off x="457200" y="129528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亚夫乃传言开壁门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文本框 102404"/>
          <p:cNvSpPr/>
          <p:nvPr/>
        </p:nvSpPr>
        <p:spPr>
          <a:xfrm>
            <a:off x="457200" y="198108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将军亚夫持兵揖曰： “介胄之士不拜，请以军礼见。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文本框 102405"/>
          <p:cNvSpPr/>
          <p:nvPr/>
        </p:nvSpPr>
        <p:spPr>
          <a:xfrm>
            <a:off x="1219320" y="3733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将军令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文本框 102406"/>
          <p:cNvSpPr/>
          <p:nvPr/>
        </p:nvSpPr>
        <p:spPr>
          <a:xfrm>
            <a:off x="1295280" y="45720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将军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矩形 102407"/>
          <p:cNvSpPr txBox="1"/>
          <p:nvPr/>
        </p:nvSpPr>
        <p:spPr>
          <a:xfrm>
            <a:off x="6172200" y="457200"/>
            <a:ext cx="236232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80"/>
                  </a:solidFill>
                  <a:round/>
                </a:ln>
                <a:solidFill>
                  <a:srgbClr val="ff0000"/>
                </a:solidFill>
                <a:latin typeface="华文行楷"/>
              </a:rPr>
              <a:t>画龙点睛</a:t>
            </a:r>
            <a:endParaRPr b="1" lang="en-US" sz="2400" spc="1" strike="noStrike">
              <a:ln w="9360">
                <a:solidFill>
                  <a:srgbClr val="000080"/>
                </a:solidFill>
                <a:round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  <p:sp>
        <p:nvSpPr>
          <p:cNvPr id="967" name="矩形 102408"/>
          <p:cNvSpPr txBox="1"/>
          <p:nvPr/>
        </p:nvSpPr>
        <p:spPr>
          <a:xfrm>
            <a:off x="5791320" y="525780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800080"/>
                  </a:solidFill>
                  <a:round/>
                </a:ln>
                <a:solidFill>
                  <a:srgbClr val="ff0000"/>
                </a:solidFill>
                <a:latin typeface="华文行楷"/>
              </a:rPr>
              <a:t>有力烘托</a:t>
            </a:r>
            <a:endParaRPr b="1" lang="en-US" sz="2400" spc="1" strike="noStrike">
              <a:ln w="9360">
                <a:solidFill>
                  <a:srgbClr val="800080"/>
                </a:solidFill>
                <a:round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</p:spTree>
  </p:cSld>
  <p:transition>
    <p:blinds dir="horz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9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4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20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1" dur="2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8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51ACB-9A55-4A32-9D80-9C64EB10EA4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577440" y="4311360"/>
            <a:ext cx="823932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借文帝之口再作对比，进一步从侧面衬托出周亚夫“真将军”的风范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椭圆形标注 105474"/>
          <p:cNvSpPr/>
          <p:nvPr/>
        </p:nvSpPr>
        <p:spPr>
          <a:xfrm>
            <a:off x="1290600" y="733320"/>
            <a:ext cx="6808680" cy="3353040"/>
          </a:xfrm>
          <a:prstGeom prst="wedgeEllipseCallout">
            <a:avLst>
              <a:gd name="adj1" fmla="val -70833"/>
              <a:gd name="adj2" fmla="val 367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文本框 105475"/>
          <p:cNvSpPr/>
          <p:nvPr/>
        </p:nvSpPr>
        <p:spPr>
          <a:xfrm>
            <a:off x="2057400" y="130500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宋体"/>
              </a:rPr>
              <a:t>嗟乎，此真将军矣！曩者霸上、棘门军，若儿戏耳，其将固可袭而虏也。至于亚夫，可得而犯邪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3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8" dur="1000"/>
                                        <p:tgtEl>
                                          <p:spTgt spid="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4150-F2DE-4215-BD43-D6725172756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矩形 104449"/>
          <p:cNvSpPr/>
          <p:nvPr/>
        </p:nvSpPr>
        <p:spPr>
          <a:xfrm>
            <a:off x="380880" y="1295280"/>
            <a:ext cx="853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比一：细柳军与霸上军及棘门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军士吏被甲，锐兵刃，彀弓弩，持满。” “不得入”“又不得入”“乃传言”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军容严整，常备不懈，严阵以待，军纪严明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驰入”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军规松垮，守备松懈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矩形 104450"/>
          <p:cNvSpPr/>
          <p:nvPr/>
        </p:nvSpPr>
        <p:spPr>
          <a:xfrm>
            <a:off x="228600" y="335268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比二：文帝及随从入营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将军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军中不得驱驰”“天子乃按辔徐行”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治军有方，令行禁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“直驰入”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军纪松弛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矩形 104451"/>
          <p:cNvSpPr/>
          <p:nvPr/>
        </p:nvSpPr>
        <p:spPr>
          <a:xfrm>
            <a:off x="0" y="5057640"/>
            <a:ext cx="9220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比三：三营将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持兵揖”、“以军礼见”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周亚夫恪尽职守、刚正不阿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将以下骑送迎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众将士受宠若惊，竭尽逢迎之能事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矩形 104452"/>
          <p:cNvSpPr txBox="1"/>
          <p:nvPr/>
        </p:nvSpPr>
        <p:spPr>
          <a:xfrm>
            <a:off x="1676520" y="76320"/>
            <a:ext cx="39621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对比、衬托</a:t>
            </a:r>
            <a:endParaRPr b="1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blinds dir="horz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8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8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8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8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B905-4B4C-4BFD-9C6D-417842E191E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文本框 32769"/>
          <p:cNvSpPr/>
          <p:nvPr/>
        </p:nvSpPr>
        <p:spPr>
          <a:xfrm>
            <a:off x="0" y="24685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宋体"/>
              </a:rPr>
              <a:t>直驰入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文本框 32770"/>
          <p:cNvSpPr/>
          <p:nvPr/>
        </p:nvSpPr>
        <p:spPr>
          <a:xfrm>
            <a:off x="0" y="838080"/>
            <a:ext cx="26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皇帝到霸上、棘门军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文本框 32771"/>
          <p:cNvSpPr/>
          <p:nvPr/>
        </p:nvSpPr>
        <p:spPr>
          <a:xfrm>
            <a:off x="4724280" y="76212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皇帝到细柳军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文本框 32773"/>
          <p:cNvSpPr/>
          <p:nvPr/>
        </p:nvSpPr>
        <p:spPr>
          <a:xfrm>
            <a:off x="-228600" y="38257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将以下骑送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文本框 32774"/>
          <p:cNvSpPr/>
          <p:nvPr/>
        </p:nvSpPr>
        <p:spPr>
          <a:xfrm>
            <a:off x="3851280" y="134136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99"/>
                </a:solidFill>
                <a:latin typeface="Times New Roman"/>
                <a:ea typeface="宋体"/>
              </a:rPr>
              <a:t>军士吏被甲，锐兵刃， 彀弓弩，持满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文本框 32775"/>
          <p:cNvSpPr/>
          <p:nvPr/>
        </p:nvSpPr>
        <p:spPr>
          <a:xfrm>
            <a:off x="3924360" y="170028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99"/>
                </a:solidFill>
                <a:latin typeface="Times New Roman"/>
                <a:ea typeface="宋体"/>
              </a:rPr>
              <a:t>天子先驱至，不得入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文本框 32776"/>
          <p:cNvSpPr/>
          <p:nvPr/>
        </p:nvSpPr>
        <p:spPr>
          <a:xfrm>
            <a:off x="3780000" y="21337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99"/>
                </a:solidFill>
                <a:latin typeface="Times New Roman"/>
                <a:ea typeface="宋体"/>
              </a:rPr>
              <a:t>将军令曰：‘军中闻将军令，不闻天子之诏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文本框 32777"/>
          <p:cNvSpPr/>
          <p:nvPr/>
        </p:nvSpPr>
        <p:spPr>
          <a:xfrm>
            <a:off x="2971800" y="25909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99"/>
                </a:solidFill>
                <a:latin typeface="Times New Roman"/>
                <a:ea typeface="宋体"/>
              </a:rPr>
              <a:t>上至，又不得入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文本框 32778"/>
          <p:cNvSpPr/>
          <p:nvPr/>
        </p:nvSpPr>
        <p:spPr>
          <a:xfrm>
            <a:off x="3851280" y="29973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壁门士吏谓从属车骑曰：“将军约，军中不得驱驰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文本框 32779"/>
          <p:cNvSpPr/>
          <p:nvPr/>
        </p:nvSpPr>
        <p:spPr>
          <a:xfrm>
            <a:off x="5553000" y="3335400"/>
            <a:ext cx="32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天子乃按辔徐行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文本框 32780"/>
          <p:cNvSpPr/>
          <p:nvPr/>
        </p:nvSpPr>
        <p:spPr>
          <a:xfrm>
            <a:off x="3843360" y="3733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将军亚夫持兵揖曰：“  介胄之士不拜，请以军礼见。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文本框 32781"/>
          <p:cNvSpPr/>
          <p:nvPr/>
        </p:nvSpPr>
        <p:spPr>
          <a:xfrm>
            <a:off x="3851280" y="472428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天子为动，  改容式车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矩形 32782"/>
          <p:cNvSpPr txBox="1"/>
          <p:nvPr/>
        </p:nvSpPr>
        <p:spPr>
          <a:xfrm rot="5400000">
            <a:off x="1870920" y="1017360"/>
            <a:ext cx="2160720" cy="136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对比</a:t>
            </a:r>
            <a:endParaRPr b="1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991" name="文本框 32783"/>
          <p:cNvSpPr/>
          <p:nvPr/>
        </p:nvSpPr>
        <p:spPr>
          <a:xfrm>
            <a:off x="3635280" y="5229360"/>
            <a:ext cx="486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宋体"/>
              </a:rPr>
              <a:t>周亚夫</a:t>
            </a:r>
            <a:r>
              <a:rPr b="1" lang="en-US" sz="4000" spc="-1" strike="noStrike">
                <a:solidFill>
                  <a:srgbClr val="ff3399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宋体"/>
              </a:rPr>
              <a:t>真”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宋体"/>
              </a:rPr>
              <a:t>将军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矩形 32787"/>
          <p:cNvSpPr/>
          <p:nvPr/>
        </p:nvSpPr>
        <p:spPr>
          <a:xfrm>
            <a:off x="981000" y="494172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宋体"/>
              </a:rPr>
              <a:t>若儿戏 耳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宋体"/>
              </a:rPr>
              <a:t>其将 固可袭而虏也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矩形 32789"/>
          <p:cNvSpPr txBox="1"/>
          <p:nvPr/>
        </p:nvSpPr>
        <p:spPr>
          <a:xfrm rot="5400000">
            <a:off x="2229840" y="5094000"/>
            <a:ext cx="2160720" cy="136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衬托</a:t>
            </a:r>
            <a:endParaRPr b="1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blinds dir="horz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6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1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8586-7002-47F5-8C26-74FC7B7042A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矩形 106497"/>
          <p:cNvSpPr txBox="1"/>
          <p:nvPr/>
        </p:nvSpPr>
        <p:spPr>
          <a:xfrm>
            <a:off x="1143000" y="2133720"/>
            <a:ext cx="3733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一个场面</a:t>
            </a:r>
            <a:endParaRPr b="1" lang="en-US" sz="2400" spc="1" strike="noStrike">
              <a:ln w="12600">
                <a:solidFill>
                  <a:srgbClr val="3333cc"/>
                </a:solidFill>
                <a:round/>
              </a:ln>
              <a:solidFill>
                <a:srgbClr val="99336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96" name="矩形 106498"/>
          <p:cNvSpPr txBox="1"/>
          <p:nvPr/>
        </p:nvSpPr>
        <p:spPr>
          <a:xfrm>
            <a:off x="1295280" y="3505320"/>
            <a:ext cx="35816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两种方法</a:t>
            </a:r>
            <a:endParaRPr b="1" lang="en-US" sz="2400" spc="1" strike="noStrike">
              <a:ln w="12600">
                <a:solidFill>
                  <a:srgbClr val="3333cc"/>
                </a:solidFill>
                <a:round/>
              </a:ln>
              <a:solidFill>
                <a:srgbClr val="99336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97" name="矩形 106499"/>
          <p:cNvSpPr txBox="1"/>
          <p:nvPr/>
        </p:nvSpPr>
        <p:spPr>
          <a:xfrm>
            <a:off x="1219320" y="4724280"/>
            <a:ext cx="36576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三处对比</a:t>
            </a:r>
            <a:endParaRPr b="1" lang="en-US" sz="2400" spc="1" strike="noStrike">
              <a:ln w="12600">
                <a:solidFill>
                  <a:srgbClr val="3333cc"/>
                </a:solidFill>
                <a:round/>
              </a:ln>
              <a:solidFill>
                <a:srgbClr val="99336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98" name="矩形 106500"/>
          <p:cNvSpPr txBox="1"/>
          <p:nvPr/>
        </p:nvSpPr>
        <p:spPr>
          <a:xfrm>
            <a:off x="5638680" y="3200400"/>
            <a:ext cx="3124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真将军</a:t>
            </a:r>
            <a:endParaRPr b="1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blinds dir="horz"/>
  </p:transition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8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3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8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5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8AF0-D437-45F3-B643-58B222AE61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247680" y="68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评价汉文帝是一个怎样的人？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标题 73729"/>
          <p:cNvSpPr/>
          <p:nvPr/>
        </p:nvSpPr>
        <p:spPr>
          <a:xfrm>
            <a:off x="-961920" y="2511360"/>
            <a:ext cx="9816840" cy="32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182880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cc"/>
                </a:solidFill>
                <a:latin typeface="Verdana"/>
                <a:ea typeface="宋体"/>
              </a:rPr>
              <a:t>汉文帝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  <a:ea typeface="宋体"/>
              </a:rPr>
              <a:t>是</a:t>
            </a:r>
            <a:r>
              <a:rPr b="1" lang="zh-CN" sz="3400" spc="-1" strike="noStrike">
                <a:solidFill>
                  <a:srgbClr val="ff3399"/>
                </a:solidFill>
                <a:latin typeface="Verdana"/>
                <a:ea typeface="宋体"/>
              </a:rPr>
              <a:t>慧眼识英雄的人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  <a:ea typeface="宋体"/>
              </a:rPr>
              <a:t>。大敌当前，他亲自劳军，在细柳营接连受到“非礼”，不但没有发龙威，贬谪周亚夫，反而“称善者久之”，足见汉文帝</a:t>
            </a:r>
            <a:r>
              <a:rPr b="1" lang="zh-CN" sz="3400" spc="-1" strike="noStrike">
                <a:solidFill>
                  <a:srgbClr val="ff3399"/>
                </a:solidFill>
                <a:latin typeface="Verdana"/>
                <a:ea typeface="宋体"/>
              </a:rPr>
              <a:t>是个具有雄才大略，深明大义、爱才、识才、任才、胸怀宽广的明君。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77F2-2285-484E-B7D7-6DF6A1587F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826560" y="556920"/>
            <a:ext cx="3441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7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中心思想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文本框 80898"/>
          <p:cNvSpPr/>
          <p:nvPr/>
        </p:nvSpPr>
        <p:spPr>
          <a:xfrm>
            <a:off x="652320" y="2003400"/>
            <a:ext cx="8167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       </a:t>
            </a:r>
            <a:r>
              <a:rPr b="1" lang="zh-CN" sz="4400" spc="-1" strike="noStrike">
                <a:solidFill>
                  <a:srgbClr val="0000ff"/>
                </a:solidFill>
                <a:latin typeface="Verdana"/>
                <a:ea typeface="楷体_GB2312"/>
              </a:rPr>
              <a:t>通过汉文帝巡视、慰劳细柳营的场面，表现了周亚夫治军有方、刚正不阿、恪尽职守的“真将军”形象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灯片编号占位符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23DC-3F38-4F3A-A587-5AD6A1668922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755280" y="-387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Comic Sans MS"/>
              </a:rPr>
              <a:t>概括各段大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文本框 64514"/>
          <p:cNvSpPr/>
          <p:nvPr/>
        </p:nvSpPr>
        <p:spPr>
          <a:xfrm flipV="1">
            <a:off x="468360" y="1487880"/>
            <a:ext cx="719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文本框 64515"/>
          <p:cNvSpPr/>
          <p:nvPr/>
        </p:nvSpPr>
        <p:spPr>
          <a:xfrm>
            <a:off x="817920" y="1557360"/>
            <a:ext cx="1003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Arial"/>
                <a:ea typeface="宋体"/>
              </a:rPr>
              <a:t>第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宋体"/>
              </a:rPr>
              <a:t>一段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宋体"/>
              </a:rPr>
              <a:t>第二段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宋体"/>
              </a:rPr>
              <a:t>第三段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文本框 64516"/>
          <p:cNvSpPr/>
          <p:nvPr/>
        </p:nvSpPr>
        <p:spPr>
          <a:xfrm>
            <a:off x="2195640" y="1641600"/>
            <a:ext cx="64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宋体"/>
              </a:rPr>
              <a:t>点明背景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宋体"/>
              </a:rPr>
              <a:t>匈奴大举入侵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宋体"/>
              </a:rPr>
              <a:t>边关吃紧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宋体"/>
              </a:rPr>
              <a:t>周亚夫等将奉命备战戍边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文本框 64517"/>
          <p:cNvSpPr/>
          <p:nvPr/>
        </p:nvSpPr>
        <p:spPr>
          <a:xfrm>
            <a:off x="2124000" y="3141720"/>
            <a:ext cx="613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宋体"/>
              </a:rPr>
              <a:t>课文的中心段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宋体"/>
              </a:rPr>
              <a:t>集中表现了周亚夫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宋体"/>
              </a:rPr>
              <a:t>的性格特点。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汉文帝劳军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文本框 64518"/>
          <p:cNvSpPr/>
          <p:nvPr/>
        </p:nvSpPr>
        <p:spPr>
          <a:xfrm>
            <a:off x="4065480" y="4869000"/>
            <a:ext cx="270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借文帝之口将霸上、棘门军与周亚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再作对比，进一步衬托了周亚夫“真将军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的风范。（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宋体"/>
              </a:rPr>
              <a:t>汉文帝对周亚夫的评价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4" dur="2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9" dur="2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4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文本框 55299"/>
          <p:cNvSpPr/>
          <p:nvPr/>
        </p:nvSpPr>
        <p:spPr>
          <a:xfrm>
            <a:off x="-544320" y="2060640"/>
            <a:ext cx="127764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周亚夫军细柳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左大括号 55300"/>
          <p:cNvSpPr/>
          <p:nvPr/>
        </p:nvSpPr>
        <p:spPr>
          <a:xfrm>
            <a:off x="250920" y="549360"/>
            <a:ext cx="1368360" cy="5473440"/>
          </a:xfrm>
          <a:custGeom>
            <a:avLst/>
            <a:gdLst>
              <a:gd name="textAreaLeft" fmla="*/ 874440 w 1368360"/>
              <a:gd name="textAreaRight" fmla="*/ 1368720 w 1368360"/>
              <a:gd name="textAreaTop" fmla="*/ 142560 h 5473440"/>
              <a:gd name="textAreaBottom" fmla="*/ 5330880 h 547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1"/>
                  <a:pt x="10800" y="1802"/>
                </a:cubicBezTo>
                <a:lnTo>
                  <a:pt x="10800" y="8998"/>
                </a:lnTo>
                <a:cubicBezTo>
                  <a:pt x="10800" y="9899"/>
                  <a:pt x="5400" y="10800"/>
                  <a:pt x="0" y="10800"/>
                </a:cubicBezTo>
                <a:cubicBezTo>
                  <a:pt x="5400" y="10800"/>
                  <a:pt x="10800" y="11701"/>
                  <a:pt x="10800" y="12602"/>
                </a:cubicBezTo>
                <a:lnTo>
                  <a:pt x="10800" y="19798"/>
                </a:lnTo>
                <a:cubicBezTo>
                  <a:pt x="10800" y="2069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文本框 55301"/>
          <p:cNvSpPr/>
          <p:nvPr/>
        </p:nvSpPr>
        <p:spPr>
          <a:xfrm>
            <a:off x="714600" y="189000"/>
            <a:ext cx="127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点明背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左大括号 55302"/>
          <p:cNvSpPr/>
          <p:nvPr/>
        </p:nvSpPr>
        <p:spPr>
          <a:xfrm>
            <a:off x="1763640" y="0"/>
            <a:ext cx="719280" cy="2205000"/>
          </a:xfrm>
          <a:custGeom>
            <a:avLst/>
            <a:gdLst>
              <a:gd name="textAreaLeft" fmla="*/ 459720 w 719280"/>
              <a:gd name="textAreaRight" fmla="*/ 719640 w 719280"/>
              <a:gd name="textAreaTop" fmla="*/ 57240 h 2205000"/>
              <a:gd name="textAreaBottom" fmla="*/ 2147760 h 220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文本框 55303"/>
          <p:cNvSpPr/>
          <p:nvPr/>
        </p:nvSpPr>
        <p:spPr>
          <a:xfrm>
            <a:off x="2124000" y="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匈奴进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文本框 55304"/>
          <p:cNvSpPr/>
          <p:nvPr/>
        </p:nvSpPr>
        <p:spPr>
          <a:xfrm>
            <a:off x="2124000" y="1484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边关吃紧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右大括号 55306"/>
          <p:cNvSpPr/>
          <p:nvPr/>
        </p:nvSpPr>
        <p:spPr>
          <a:xfrm>
            <a:off x="4140360" y="0"/>
            <a:ext cx="144360" cy="2060640"/>
          </a:xfrm>
          <a:custGeom>
            <a:avLst/>
            <a:gdLst>
              <a:gd name="textAreaLeft" fmla="*/ 0 w 144360"/>
              <a:gd name="textAreaRight" fmla="*/ 52200 w 144360"/>
              <a:gd name="textAreaTop" fmla="*/ 53640 h 2060640"/>
              <a:gd name="textAreaBottom" fmla="*/ 2007000 h 206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文本框 55307"/>
          <p:cNvSpPr/>
          <p:nvPr/>
        </p:nvSpPr>
        <p:spPr>
          <a:xfrm>
            <a:off x="4211640" y="404640"/>
            <a:ext cx="1942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奉命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备战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文本框 55308"/>
          <p:cNvSpPr/>
          <p:nvPr/>
        </p:nvSpPr>
        <p:spPr>
          <a:xfrm>
            <a:off x="557640" y="2924280"/>
            <a:ext cx="1277640" cy="20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上自劳军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左大括号 55309"/>
          <p:cNvSpPr/>
          <p:nvPr/>
        </p:nvSpPr>
        <p:spPr>
          <a:xfrm>
            <a:off x="1547640" y="2492280"/>
            <a:ext cx="720720" cy="2881440"/>
          </a:xfrm>
          <a:custGeom>
            <a:avLst/>
            <a:gdLst>
              <a:gd name="textAreaLeft" fmla="*/ 460440 w 720720"/>
              <a:gd name="textAreaRight" fmla="*/ 721080 w 720720"/>
              <a:gd name="textAreaTop" fmla="*/ 74880 h 2881440"/>
              <a:gd name="textAreaBottom" fmla="*/ 2806560 h 28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文本框 55310"/>
          <p:cNvSpPr/>
          <p:nvPr/>
        </p:nvSpPr>
        <p:spPr>
          <a:xfrm>
            <a:off x="1979640" y="220500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霸上、棘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长驱直入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文本框 55311"/>
          <p:cNvSpPr/>
          <p:nvPr/>
        </p:nvSpPr>
        <p:spPr>
          <a:xfrm>
            <a:off x="1364040" y="3573360"/>
            <a:ext cx="1277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细柳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左大括号 55312"/>
          <p:cNvSpPr/>
          <p:nvPr/>
        </p:nvSpPr>
        <p:spPr>
          <a:xfrm>
            <a:off x="2411280" y="2852640"/>
            <a:ext cx="792360" cy="2592360"/>
          </a:xfrm>
          <a:custGeom>
            <a:avLst/>
            <a:gdLst>
              <a:gd name="textAreaLeft" fmla="*/ 506160 w 792360"/>
              <a:gd name="textAreaRight" fmla="*/ 792720 w 79236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文本框 55313"/>
          <p:cNvSpPr/>
          <p:nvPr/>
        </p:nvSpPr>
        <p:spPr>
          <a:xfrm>
            <a:off x="2916360" y="2708280"/>
            <a:ext cx="39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先驱不得入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文本框 55314"/>
          <p:cNvSpPr/>
          <p:nvPr/>
        </p:nvSpPr>
        <p:spPr>
          <a:xfrm>
            <a:off x="2843280" y="3284640"/>
            <a:ext cx="42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不闻天子之诏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文本框 55315"/>
          <p:cNvSpPr/>
          <p:nvPr/>
        </p:nvSpPr>
        <p:spPr>
          <a:xfrm>
            <a:off x="2771640" y="3860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天子不得入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文本框 55316"/>
          <p:cNvSpPr/>
          <p:nvPr/>
        </p:nvSpPr>
        <p:spPr>
          <a:xfrm>
            <a:off x="2700360" y="44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天子按辔徐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文本框 55317"/>
          <p:cNvSpPr/>
          <p:nvPr/>
        </p:nvSpPr>
        <p:spPr>
          <a:xfrm>
            <a:off x="2987640" y="508464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亚夫持兵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右大括号 55318"/>
          <p:cNvSpPr/>
          <p:nvPr/>
        </p:nvSpPr>
        <p:spPr>
          <a:xfrm>
            <a:off x="7093080" y="2421000"/>
            <a:ext cx="215640" cy="2952720"/>
          </a:xfrm>
          <a:custGeom>
            <a:avLst/>
            <a:gdLst>
              <a:gd name="textAreaLeft" fmla="*/ 0 w 215640"/>
              <a:gd name="textAreaRight" fmla="*/ 77760 w 21564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文本框 55319"/>
          <p:cNvSpPr/>
          <p:nvPr/>
        </p:nvSpPr>
        <p:spPr>
          <a:xfrm>
            <a:off x="7240320" y="3141720"/>
            <a:ext cx="729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对比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文本框 55320"/>
          <p:cNvSpPr/>
          <p:nvPr/>
        </p:nvSpPr>
        <p:spPr>
          <a:xfrm>
            <a:off x="1547640" y="566100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文帝之口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赞周亚夫“此真将军矣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右大括号 55321"/>
          <p:cNvSpPr/>
          <p:nvPr/>
        </p:nvSpPr>
        <p:spPr>
          <a:xfrm>
            <a:off x="7667640" y="549360"/>
            <a:ext cx="576360" cy="5688000"/>
          </a:xfrm>
          <a:custGeom>
            <a:avLst/>
            <a:gdLst>
              <a:gd name="textAreaLeft" fmla="*/ 0 w 576360"/>
              <a:gd name="textAreaRight" fmla="*/ 208080 w 576360"/>
              <a:gd name="textAreaTop" fmla="*/ 147960 h 5688000"/>
              <a:gd name="textAreaBottom" fmla="*/ 5540040 h 568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文本框 55322"/>
          <p:cNvSpPr/>
          <p:nvPr/>
        </p:nvSpPr>
        <p:spPr>
          <a:xfrm>
            <a:off x="7699680" y="0"/>
            <a:ext cx="127764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治军有方，刚正不阿，恪尽职守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2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3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500"/>
                                        <p:tgtEl>
                                          <p:spTgt spid="10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9" dur="2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4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5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0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6" dur="2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1" dur="2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2" dur="2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7" dur="2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文本框 52225"/>
          <p:cNvSpPr/>
          <p:nvPr/>
        </p:nvSpPr>
        <p:spPr>
          <a:xfrm>
            <a:off x="0" y="53352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司马迁，字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子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西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，是伟大的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历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史学家和文学家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他年轻时漫游全国各地，丰富了阅历，了解了社会。汉武帝元封三年，其父司马谈去世，他继任太史令，开始广泛阅读史料，着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史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写作。后因替投降匈奴的汉将李陵辩护被捕下狱，受到宫刑。出狱后，满怀悲愤，以极大的毅力，继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史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编写，公元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书成。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史记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是我国第一部纪传体通史，又是文学名著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鲁迅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史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史家之绝唱，无韵之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离骚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7FC4-22EB-469F-92D2-60F6940F15E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文本框 110593"/>
          <p:cNvSpPr/>
          <p:nvPr/>
        </p:nvSpPr>
        <p:spPr>
          <a:xfrm>
            <a:off x="762120" y="213372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“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细柳”、“细柳营”、“细柳兵”等成了后人用来比喻军纪严明的典故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文本框 110594"/>
          <p:cNvSpPr/>
          <p:nvPr/>
        </p:nvSpPr>
        <p:spPr>
          <a:xfrm>
            <a:off x="838080" y="41148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       “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棘门霸上”则成了比喻军纪松弛的典故。</a:t>
            </a:r>
            <a:r>
              <a:rPr b="0" lang="zh-CN" sz="4000" spc="-1" strike="noStrike">
                <a:solidFill>
                  <a:srgbClr val="ffff99"/>
                </a:solidFill>
                <a:latin typeface="Times New Roman"/>
                <a:ea typeface="华文行楷"/>
              </a:rPr>
              <a:t> 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矩形 110595"/>
          <p:cNvSpPr txBox="1"/>
          <p:nvPr/>
        </p:nvSpPr>
        <p:spPr>
          <a:xfrm>
            <a:off x="762120" y="609480"/>
            <a:ext cx="30477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6600"/>
                </a:solidFill>
                <a:latin typeface="隶书"/>
              </a:rPr>
              <a:t>知识延展</a:t>
            </a:r>
            <a:endParaRPr b="1" lang="en-US" sz="2400" spc="1" strike="noStrike">
              <a:ln w="9360">
                <a:solidFill>
                  <a:srgbClr val="ffff00"/>
                </a:solidFill>
                <a:round/>
              </a:ln>
              <a:solidFill>
                <a:srgbClr val="ff6600"/>
              </a:solidFill>
              <a:latin typeface="隶书"/>
              <a:ea typeface="隶书"/>
            </a:endParaRPr>
          </a:p>
        </p:txBody>
      </p:sp>
    </p:spTree>
  </p:cSld>
  <p:transition>
    <p:blinds dir="horz"/>
  </p:transition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8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7" dur="8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8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8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6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从周亚夫 身上你学到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谈谈周亚夫精神的现实意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当今时代，每一位领导干部、国家公务员，甚至工程设计师、一线工人等等他们的工作岗位就是一道“防线”，只要发扬周亚夫的这种敬业精神，恪尽职守，敬业乐业，我们的事业终会取得辉煌的成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3" name="图片 34819" descr="t015541dc247caaf7f1"/>
          <p:cNvPicPr/>
          <p:nvPr/>
        </p:nvPicPr>
        <p:blipFill>
          <a:blip r:embed="rId1"/>
          <a:stretch/>
        </p:blipFill>
        <p:spPr>
          <a:xfrm>
            <a:off x="0" y="5445000"/>
            <a:ext cx="9144000" cy="141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6" dur="500"/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新时期也不乏周亚夫式的人物。无论是在领导岗位上的孔繁森、郑培民、谷文昌，还是在平凡工作岗位上的李素丽、张秉贵、徐虎，以及千千万万个默默无闻的“周亚夫”，他们忧国忧民，是中华民族的中流砥柱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6" name="图片 35843" descr="t01a5f009956a8795d0"/>
          <p:cNvPicPr/>
          <p:nvPr/>
        </p:nvPicPr>
        <p:blipFill>
          <a:blip r:embed="rId1"/>
          <a:stretch/>
        </p:blipFill>
        <p:spPr>
          <a:xfrm>
            <a:off x="0" y="4221000"/>
            <a:ext cx="9144000" cy="2637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阅读感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自古以来，不论哪一代君王，要想治国安民，立法严纪是他们的首要之选。如果没有纪律，国家何以繁荣昌盛；如果没有纪律，社会何以安定有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俗话说：“没有规矩，不成方圆。”我们在校应认真遵守纪律，做一名优秀的中学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9" name="图片 36867" descr="t01681dc9f9801f6c37"/>
          <p:cNvPicPr/>
          <p:nvPr/>
        </p:nvPicPr>
        <p:blipFill>
          <a:blip r:embed="rId1"/>
          <a:stretch/>
        </p:blipFill>
        <p:spPr>
          <a:xfrm>
            <a:off x="4859280" y="5373720"/>
            <a:ext cx="4284720" cy="1484280"/>
          </a:xfrm>
          <a:prstGeom prst="rect">
            <a:avLst/>
          </a:prstGeom>
          <a:ln w="0">
            <a:noFill/>
          </a:ln>
        </p:spPr>
      </p:pic>
      <p:pic>
        <p:nvPicPr>
          <p:cNvPr id="1050" name="图片 36868" descr="t01a0e476fbf64dfda5"/>
          <p:cNvPicPr/>
          <p:nvPr/>
        </p:nvPicPr>
        <p:blipFill>
          <a:blip r:embed="rId2"/>
          <a:stretch/>
        </p:blipFill>
        <p:spPr>
          <a:xfrm>
            <a:off x="0" y="0"/>
            <a:ext cx="1258920" cy="1197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矩形 4505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矩形 45059"/>
          <p:cNvSpPr/>
          <p:nvPr/>
        </p:nvSpPr>
        <p:spPr>
          <a:xfrm>
            <a:off x="0" y="3195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史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是我国第一部纪传体通史，开创了纪传体和书表的编写体例。全书一百三十篇，包括十二本纪（记历代帝王政迹）、八书（记各种典章制度）、十表（记大事年月）、三十世家（主要叙述贵族侯王的历史）、七十列传（主要是各种不同类型、不同阶层人物的传记）五个部分，共五十二万字。记载了从黄帝到汉武帝长达三千年的政治、经济和文化的历史，比较全面而深刻地反映了我国古代的社会面貌，对后世史学研究有深远影响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文本框 44034"/>
          <p:cNvSpPr/>
          <p:nvPr/>
        </p:nvSpPr>
        <p:spPr>
          <a:xfrm>
            <a:off x="3706200" y="98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作品介绍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DDF6-174D-46D2-9829-C25BE07584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9" name="图片 46081" descr="WB0210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0" name="矩形 4608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矩形 46083"/>
          <p:cNvSpPr/>
          <p:nvPr/>
        </p:nvSpPr>
        <p:spPr>
          <a:xfrm>
            <a:off x="3699360" y="259560"/>
            <a:ext cx="117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【题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 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解】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矩形 46084"/>
          <p:cNvSpPr/>
          <p:nvPr/>
        </p:nvSpPr>
        <p:spPr>
          <a:xfrm>
            <a:off x="0" y="31190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本文是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史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绛侯周勃世家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中的一节。绛侯周勃是汉开国功臣。诸吕危刘时，他与丞相陈平共谋诛诸吕，立孝文皇帝。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周亚夫是周勃之子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，先为河内守，以贤封为侯。历仕文帝、景帝两朝，曾任河内郡太守、中尉、太尉、丞相等职。以善于将兵、直言持正著称。后因得罪景帝下狱，绝食而死。本文即记载他为河内守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驻军细柳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时的一段事迹。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AF38-1066-4F47-AE38-20C06F48DC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4" name="图片 47105" descr="WB0210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5" name="矩形 4710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文本框 47107"/>
          <p:cNvSpPr/>
          <p:nvPr/>
        </p:nvSpPr>
        <p:spPr>
          <a:xfrm>
            <a:off x="1335960" y="1528200"/>
            <a:ext cx="789840" cy="3553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Times New Roman"/>
              </a:rPr>
              <a:t>将军周亚夫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图片 47108" descr="周亚夫"/>
          <p:cNvPicPr/>
          <p:nvPr/>
        </p:nvPicPr>
        <p:blipFill>
          <a:blip r:embed="rId2"/>
          <a:stretch/>
        </p:blipFill>
        <p:spPr>
          <a:xfrm>
            <a:off x="2771640" y="333360"/>
            <a:ext cx="4646880" cy="6264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0C9D-AF26-4D0E-9769-F8BAD58A301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66ff"/>
                </a:solidFill>
                <a:latin typeface="Times New Roman"/>
              </a:rPr>
              <a:t>背景介绍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汉文帝后六年（公元前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158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年），匈奴入侵，烧杀劫掠，形势严峻。为了加强防卫，汉朝委派刘、徐、周三位将军分别驻扎在霸上、棘门、细柳。这三处地方离国都长安较近，汉文帝就到这三处慰劳军队。本文就是汉文帝劳军的记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8035-27FA-4F21-BB72-8163EC0B5B3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2" name="图片 94209" descr="EJ076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3" name="文本框 94210"/>
          <p:cNvSpPr/>
          <p:nvPr/>
        </p:nvSpPr>
        <p:spPr>
          <a:xfrm>
            <a:off x="2032920" y="5223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Times New Roman"/>
                <a:ea typeface="隶书"/>
              </a:rPr>
              <a:t>读准字音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文本框 94211"/>
          <p:cNvSpPr/>
          <p:nvPr/>
        </p:nvSpPr>
        <p:spPr>
          <a:xfrm>
            <a:off x="1219320" y="1752480"/>
            <a:ext cx="594360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棘                        彀                         弩                        辔                          胄 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     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    嗟                      曩                        被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诏                       车骑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文本框 94212"/>
          <p:cNvSpPr/>
          <p:nvPr/>
        </p:nvSpPr>
        <p:spPr>
          <a:xfrm>
            <a:off x="2057400" y="175248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GungsuhChe"/>
                <a:ea typeface="GungsuhChe"/>
              </a:rPr>
              <a:t>（</a:t>
            </a:r>
            <a:r>
              <a:rPr b="0" lang="en-US" sz="4400" spc="-1" strike="noStrike">
                <a:solidFill>
                  <a:srgbClr val="ff0000"/>
                </a:solidFill>
                <a:latin typeface="GungsuhChe"/>
                <a:ea typeface="GungsuhChe"/>
              </a:rPr>
              <a:t>jí</a:t>
            </a:r>
            <a:r>
              <a:rPr b="0" lang="zh-CN" sz="4400" spc="-1" strike="noStrike">
                <a:solidFill>
                  <a:srgbClr val="ff0000"/>
                </a:solidFill>
                <a:latin typeface="GungsuhChe"/>
                <a:ea typeface="GungsuhChe"/>
              </a:rPr>
              <a:t>）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文本框 94213"/>
          <p:cNvSpPr/>
          <p:nvPr/>
        </p:nvSpPr>
        <p:spPr>
          <a:xfrm>
            <a:off x="6324480" y="167652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Gungsuh"/>
                <a:ea typeface="Gungsuh"/>
              </a:rPr>
              <a:t>(gòu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文本框 94214"/>
          <p:cNvSpPr/>
          <p:nvPr/>
        </p:nvSpPr>
        <p:spPr>
          <a:xfrm>
            <a:off x="2057400" y="251460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Gungsuh"/>
                <a:ea typeface="Gungsuh"/>
              </a:rPr>
              <a:t>（</a:t>
            </a:r>
            <a:r>
              <a:rPr b="0" lang="en-US" sz="4400" spc="-1" strike="noStrike">
                <a:solidFill>
                  <a:srgbClr val="ff0000"/>
                </a:solidFill>
                <a:latin typeface="Gungsuh"/>
                <a:ea typeface="Gungsuh"/>
              </a:rPr>
              <a:t>n</a:t>
            </a:r>
            <a:r>
              <a:rPr b="1" lang="en-US" sz="4400" spc="-1" strike="noStrike">
                <a:solidFill>
                  <a:srgbClr val="ff0000"/>
                </a:solidFill>
                <a:latin typeface="Gungsuh"/>
                <a:ea typeface="Gungsuh"/>
              </a:rPr>
              <a:t>ǔ</a:t>
            </a:r>
            <a:r>
              <a:rPr b="0" lang="zh-CN" sz="4400" spc="-1" strike="noStrike">
                <a:solidFill>
                  <a:srgbClr val="ff0000"/>
                </a:solidFill>
                <a:latin typeface="Gungsuh"/>
                <a:ea typeface="Gungsuh"/>
              </a:rPr>
              <a:t>）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文本框 94215"/>
          <p:cNvSpPr/>
          <p:nvPr/>
        </p:nvSpPr>
        <p:spPr>
          <a:xfrm>
            <a:off x="6477120" y="2438280"/>
            <a:ext cx="144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ungsuh"/>
                <a:ea typeface="Gungsuh"/>
              </a:rPr>
              <a:t>(pè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文本框 94216"/>
          <p:cNvSpPr/>
          <p:nvPr/>
        </p:nvSpPr>
        <p:spPr>
          <a:xfrm>
            <a:off x="2057400" y="320040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ungsuh"/>
                <a:ea typeface="Gungsuh"/>
              </a:rPr>
              <a:t>(zhòu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文本框 94217"/>
          <p:cNvSpPr/>
          <p:nvPr/>
        </p:nvSpPr>
        <p:spPr>
          <a:xfrm>
            <a:off x="6553080" y="320040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ungsuh"/>
                <a:ea typeface="Gungsuh"/>
              </a:rPr>
              <a:t>(jiē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文本框 94218"/>
          <p:cNvSpPr/>
          <p:nvPr/>
        </p:nvSpPr>
        <p:spPr>
          <a:xfrm>
            <a:off x="1981080" y="403848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Gungsuh"/>
                <a:ea typeface="Gungsuh"/>
              </a:rPr>
              <a:t>(nǎng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文本框 94219"/>
          <p:cNvSpPr/>
          <p:nvPr/>
        </p:nvSpPr>
        <p:spPr>
          <a:xfrm>
            <a:off x="6692400" y="3962520"/>
            <a:ext cx="98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(pī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文本框 94220"/>
          <p:cNvSpPr/>
          <p:nvPr/>
        </p:nvSpPr>
        <p:spPr>
          <a:xfrm>
            <a:off x="2210040" y="5105520"/>
            <a:ext cx="167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(zh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à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o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文本框 94221"/>
          <p:cNvSpPr/>
          <p:nvPr/>
        </p:nvSpPr>
        <p:spPr>
          <a:xfrm>
            <a:off x="6783120" y="510552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(jì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矩形 94222"/>
          <p:cNvSpPr/>
          <p:nvPr/>
        </p:nvSpPr>
        <p:spPr>
          <a:xfrm>
            <a:off x="1235160" y="5753160"/>
            <a:ext cx="127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祝兹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zī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矩形 94223"/>
          <p:cNvSpPr/>
          <p:nvPr/>
        </p:nvSpPr>
        <p:spPr>
          <a:xfrm>
            <a:off x="3389040" y="5753160"/>
            <a:ext cx="130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作揖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yī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3T10:08:00Z</dcterms:created>
  <dc:creator>office1</dc:creator>
  <dc:description/>
  <dc:language>en-US</dc:language>
  <cp:lastModifiedBy>Administrator</cp:lastModifiedBy>
  <dcterms:modified xsi:type="dcterms:W3CDTF">2019-11-26T14:18:52Z</dcterms:modified>
  <cp:revision>201</cp:revision>
  <dc:subject/>
  <dc:title>周亚夫军细柳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175</vt:lpwstr>
  </property>
</Properties>
</file>