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camera.wav" ContentType="audio/x-wav"/>
  <Override PartName="/ppt/media/image17.gif" ContentType="image/gif"/>
  <Override PartName="/ppt/media/image22.png" ContentType="image/png"/>
  <Override PartName="/ppt/media/image7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.jpeg" ContentType="image/jpeg"/>
  <Override PartName="/ppt/media/image12.gif" ContentType="image/gif"/>
  <Override PartName="/ppt/media/image6.jpeg" ContentType="image/jpeg"/>
  <Override PartName="/ppt/media/chimes.wav" ContentType="audio/x-wav"/>
  <Override PartName="/ppt/media/image13.gif" ContentType="image/gif"/>
  <Override PartName="/ppt/media/image23.gif" ContentType="image/gif"/>
  <Override PartName="/ppt/media/image11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jpeg" ContentType="image/jpeg"/>
  <Override PartName="/ppt/media/image24.gif" ContentType="image/gif"/>
  <Override PartName="/ppt/media/laser.wav" ContentType="audio/x-wav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</p:sldIdLst>
  <p:sldSz cx="9144000" cy="6858000"/>
  <p:notesSz cx="6858000" cy="9144000"/>
  <p:custShowLst>
    <p:custShow name="自定义放映 1" id="0">
      <p:sldLst>
        <p:sld r:id="rId28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BE6-1441-4705-AB21-52E2DBB1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F44-3221-4220-A7FE-D7357062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4A81B-2A08-48AC-9032-AD908A9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DF388-500A-4709-A8B8-8F10284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4D918-7E91-43B3-87ED-9C47890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708F9-70E5-4850-8A75-8AD68246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73B17-246F-4B0F-AE35-23C6B27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88594-5537-4EA7-AA22-BF4D141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61867-583B-42FB-9A16-868D5B0B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A07FD-F906-41C8-AF2E-0F32BA33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5095A-8AF8-4177-B5A9-605EE273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92ADF-E6E9-48F3-8285-DF3345B3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23B-4249-435D-9293-FCDA7645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DCB3A-F1D5-45B9-AB59-78D194C3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AAC38-B521-4FAC-8D77-3441699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73C2C-1B90-4C48-81B2-7761CAA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75E93-3536-451B-8452-7D5DB601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6DF3E-FC82-4E9E-BBBD-682482F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F9923-C3C5-4108-9F9D-64068CA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FCB70-0348-47B5-A7DB-D8737DA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DC124-E107-44F5-A29D-CB486831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A55BC-38BF-4965-AECC-732B194F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16DB7-0A3B-40AF-ACE8-A32074E2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99A-5CAE-436E-8F87-DAF042FE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D73C3-E79C-474A-BFE2-580E40ED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36EAE-E250-4629-9F07-5C212956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67353-8912-4A23-B278-45CBEF2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66812-11B9-449B-BF20-7364D9D2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416B1-467C-4CD2-8C7B-A40F1907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23954-7C5B-43B9-AB0C-2F665FC7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36763-4704-4C63-8982-4661325C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383B-17B1-466D-AD53-8B2E226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94803-7B99-4D2E-BC90-1868456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27ED5-4DD0-47B3-8E3E-C8C7F7F9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4290-C66E-42E1-99E6-C3E5E7D5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92A77-BD2A-4264-B596-D924FB5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0EE72-AEE4-4675-BB29-3876DD7F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BA971-1548-4734-871C-3BE08BE3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30502-650A-478C-85B3-8195D0EC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99EFF-3797-46C6-97BF-F3112DEE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ABB8C-A7BB-494B-8CD9-3BC2D33E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AEBF3-A883-4D22-8BB0-F872C99F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AF1E3-3557-42AC-8104-BC048EF2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48718-CB8D-4EB9-B140-F79C931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8D8D9-BF31-4625-8EF4-BEF1445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199-91E8-43A8-A1DB-FFCDB727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90453-62C7-4DDB-AE07-D5E6005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F3823-78AC-4A13-B26C-B2D738E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CA4D4-6BC9-4676-A96B-7E1E7B5C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84FD-D450-4013-A448-AA835431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01E5E-45A2-4501-9E7A-3A842187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255DC-E378-489B-926A-B8B01CBA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4DF2B-ECEF-49A2-A3BA-F7F80CB8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C33FB-31FF-4A5B-8F2C-3D8DC6D7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342FA-A490-49FC-B388-0749989A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00A47-5976-4A6F-B663-623E401B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86C0-1C92-4615-8EAE-B5FB3E6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7998B-06CF-49FA-B840-59F60C19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1E1C3-E83A-4ECC-B2DF-CB497A3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FC2E1-74C2-460D-AC88-9E09B2A9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86D07-0BE8-4475-ABF2-068E8C4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98A39-633D-4516-9F2D-D2EA591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75705-CCEC-4740-998B-64C93FA9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CD52F-7265-4098-807B-5306E596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129E7-D0F8-46C6-B7FE-3C3C502A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81242-AEEF-42B0-85FF-AFF5204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9CA7E-C91E-4105-88DD-5ED6E639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B86-4327-4749-A0FE-ABD2427F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EAF8D-93F4-445D-A9E8-F439E7E1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F8517-57C0-4E0C-9697-45D6507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9923B-C8B8-47DE-BC0D-F343F8B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1363B-0187-4EB2-B0F7-521B580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7E786-78E8-46B9-8DAF-EA10DDAB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4B220-9432-42B5-9301-9B8916B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754FC-A677-4927-B662-65A2C9AC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869D4-72CA-4FC9-B678-58F834C0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1B731-4FA3-4DA7-B92C-654B41FB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D3E69-D4CB-4949-B6C9-87CB5E30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EAB2-7DB3-4485-AAD0-CF9CB364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CE0D3-775F-499A-B62A-9CE9041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4A21F-0CEB-4EFA-8040-DDC9DE2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CA154-EC99-4262-A346-8DCA082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D62E0-9799-4968-B06E-72C7768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86677-602A-4DAF-A74F-DFE9F062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5640D-06D5-4741-A72E-F9B7AC71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0D7FA-CE88-4A43-A4FD-733D848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B4FC6-3953-4667-B2CD-CFA5564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861B2-0F2C-4453-9037-20DFE8E2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C94FE-E77F-486F-A649-E330E04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1BB-6E5D-48DC-B693-4763604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CC939-16A6-4B5C-88AA-1AAFCF5A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A7C8C-E9AA-4593-9297-25BDB0E5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CBBAA-2692-4FD7-94B7-20C762FE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C989B-7548-4E53-9316-A8BC9AC8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0B24A-8093-45A6-9A46-E8D3088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9CF96-09F0-4BEE-A2DF-6A2171C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0B955-BFD4-4DC6-9A3E-F42479B5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8EDC9-0291-42CD-85B9-F24019F5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89DBC-5E81-4BDC-8310-2BD09CF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02100-F0D6-4C35-9533-A969B761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70B6-EF36-481E-B92C-6AA29E0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84628-177D-4EA5-9D20-8FD745B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82321-2B08-44EB-A1C0-3949704A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6AC7A-982F-4668-B8B5-C504FD48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3F1-B72D-448C-A5B2-C9E8F3EC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7E6D-30FE-47AF-BE96-F9796D3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EE4-7861-4B8D-A0A1-98DAF8F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EBC8-EC2B-4B04-A411-92F768D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60E-DA19-4A79-97F4-8EAEFDC7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B2A-CF67-4F50-8143-5DE8C02D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1154-FC3D-4FC7-908D-66537CFA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2987-855C-451F-BE0A-0FF5B086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CC7D-47D7-47E6-BD7E-6E5648B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3AED-F6EB-4F40-867E-82DA8988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3CE7-96C2-4570-9AE7-3706D2B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F0F-4866-4797-BC92-65C550F6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7499-BACE-4D8C-8626-CE5F1A0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6D17-7769-4500-BABE-D104B544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A449-8EC2-4AC1-8D78-2D15F57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2E67-3F4E-42D9-9A87-BB1913D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4B69-8D94-4BFB-AFE2-24BBD5BF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1723-C949-4A1C-96EC-786A8037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1557-0BAE-4781-B194-F9B8C139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E459-7905-45BA-9820-3D945570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BDE7-6B2A-494E-9D7F-922CCC5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48FC-BD96-42E6-819E-ACB9B77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BA2-27F6-4558-B283-E262E2A0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2DB8-3207-459F-B3B6-55146897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3FB5D-A836-4A66-94B9-CB326324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DE16-F95C-4ABB-9D9C-EB70697F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EC2B-FFB3-4416-A39D-14D880B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53E7-079E-41C0-A5C5-1E5E782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0AF1-28A0-4C59-92E7-89D7C1F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0070-DCB5-4E86-B65D-D2C21FD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CE80-171A-4E03-BDD0-C464C404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9606-677B-447F-8F2E-61DE3FED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6A4D2-8C8D-48F2-A316-F263F696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AE5-265D-4235-9C94-8B063D3A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8B71-1E54-4733-8CD8-21DD7EFA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55CB6-1A31-494D-9FBD-357BAE6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9220-0F92-4EA5-A050-D28C757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9013-01EE-4264-86E1-87142E6A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0BF3-C266-4E4E-8B62-AB0FD45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F197-91B7-4A67-BE6A-CD5D4B64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ED70-0E21-43D0-8414-A260D8D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619B-A3B2-454F-A1B1-E726877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107B-3765-4703-8B46-5209C34D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0806-F8F5-42F7-A107-8936C2EE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A4F-8770-4F03-B83A-579A0D0C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6170-4B22-4700-A152-3234814E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B0323-0B5F-45C7-AAE0-003AF1C4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641D-8180-4C18-8DEC-F6338A1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6009-B6C3-46FA-8463-E60493F6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04E9-4E4F-485A-BF8B-FBBBBD0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65959-5EA3-4FDD-911A-90D74E2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D14A-4056-4F9A-92BA-C2539107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EC0FB-4FBA-4881-BE6B-5D984BD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3205-D3F4-48EA-87AF-C50F214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F42D-893B-4E55-AC54-C6926341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B7D-6305-46AE-A803-B3C1846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E2CC-E47C-422A-9500-C2D69922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08E6-63BC-424C-A75C-E3190608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43547-4685-4A14-AE95-649A6EB2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3A6C-DD2D-466A-94C9-7E547813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CEC6-600F-41BE-BDD2-DAC1BCCD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D204-15F7-4ABB-85E9-E253358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BCA8-4131-4BCB-9DD8-E3C119B1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22E42-1120-43F8-8197-69868727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270A-9DCA-4418-A66D-328AA396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5D20-A865-4DA6-998C-90CBDAF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6C5-D8E6-48FA-A842-37EEF45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BA3FB-763D-43A1-8E01-953B945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6A9D-7757-4011-97CD-700FBA8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48B04-13DF-4D8C-AE8F-75A6E0A0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4A57B-6122-4537-9C80-9D7507B8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3715-3A5D-49EC-A0D1-ABC175FA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CA8C-88E6-4ECD-B6C9-9B345CFA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C2CB-8AEA-4869-A212-52ED6511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6AE0-9ED4-4295-A382-E8E02BAE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B40E-86BE-4794-A7F9-7F56C461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E0D4-6719-4BAB-8DD1-FFB0B4E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4FF-F70E-42F4-825A-C29AD7D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8E939-D446-42D0-B026-294B29C5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14B24-994F-49F9-A80F-4F7EEA5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144C-1401-4167-B9E4-B50B63E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AC20-C0FD-48C3-9160-5AB9A30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C15C5-2946-4683-A8DE-9589F2D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0B09-0920-4940-AE22-BD93BBCB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ABACB-EED9-4FF3-B7D5-1D170A0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4FF71-777A-45C9-8C8B-8EF86F85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CB95D-584A-486B-B4A8-5AA71043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91084-F7C3-4D69-BA6E-CD74A629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57F8-AA2D-497A-B4E4-67FFF179FE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1A2B-00F7-4D64-A0F7-E13F53E047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8C1D-AF68-43EC-BF55-69BF304562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9E9-A069-4B9B-8B7C-BF98C8615D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8FB8-9C05-41A0-AD73-395E132D69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95B-2875-4EBE-92D1-78EA17D0B5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4D6A-B8BA-43D1-843F-17E9E460C6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7dbe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任意多边形 63489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组合 63495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3" name="任意多边形 63496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任意多边形 63497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任意多边形 63498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组合 63499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7" name="任意多边形 63500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任意多边形 63501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任意多边形 63502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任意多边形 63503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任意多边形 63504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组合 63505"/>
          <p:cNvGrpSpPr/>
          <p:nvPr/>
        </p:nvGrpSpPr>
        <p:grpSpPr>
          <a:xfrm>
            <a:off x="7797600" y="4319640"/>
            <a:ext cx="978840" cy="1158120"/>
            <a:chOff x="7797600" y="4319640"/>
            <a:chExt cx="978840" cy="1158120"/>
          </a:xfrm>
        </p:grpSpPr>
        <p:sp>
          <p:nvSpPr>
            <p:cNvPr id="673" name="任意多边形 63506"/>
            <p:cNvSpPr/>
            <p:nvPr/>
          </p:nvSpPr>
          <p:spPr>
            <a:xfrm rot="7320000">
              <a:off x="7788600" y="4656600"/>
              <a:ext cx="9968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任意多边形 63507"/>
            <p:cNvSpPr/>
            <p:nvPr/>
          </p:nvSpPr>
          <p:spPr>
            <a:xfrm rot="7320000">
              <a:off x="7764120" y="4635000"/>
              <a:ext cx="9936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任意多边形 63508"/>
            <p:cNvSpPr/>
            <p:nvPr/>
          </p:nvSpPr>
          <p:spPr>
            <a:xfrm rot="7320000">
              <a:off x="7931880" y="4619520"/>
              <a:ext cx="65916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组合 63509"/>
            <p:cNvGrpSpPr/>
            <p:nvPr/>
          </p:nvGrpSpPr>
          <p:grpSpPr>
            <a:xfrm>
              <a:off x="7797600" y="4319640"/>
              <a:ext cx="978840" cy="1158120"/>
              <a:chOff x="7797600" y="4319640"/>
              <a:chExt cx="978840" cy="1158120"/>
            </a:xfrm>
          </p:grpSpPr>
          <p:sp>
            <p:nvSpPr>
              <p:cNvPr id="677" name="任意多边形 63510"/>
              <p:cNvSpPr/>
              <p:nvPr/>
            </p:nvSpPr>
            <p:spPr>
              <a:xfrm rot="7320000">
                <a:off x="7916400" y="5064120"/>
                <a:ext cx="9324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任意多边形 63511"/>
              <p:cNvSpPr/>
              <p:nvPr/>
            </p:nvSpPr>
            <p:spPr>
              <a:xfrm rot="7320000">
                <a:off x="7758360" y="4651920"/>
                <a:ext cx="10569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任意多边形 63512"/>
              <p:cNvSpPr/>
              <p:nvPr/>
            </p:nvSpPr>
            <p:spPr>
              <a:xfrm rot="7320000">
                <a:off x="8041320" y="4762800"/>
                <a:ext cx="7477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任意多边形 63513"/>
              <p:cNvSpPr/>
              <p:nvPr/>
            </p:nvSpPr>
            <p:spPr>
              <a:xfrm rot="7320000">
                <a:off x="8514360" y="4562280"/>
                <a:ext cx="9972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任意多边形 63514"/>
              <p:cNvSpPr/>
              <p:nvPr/>
            </p:nvSpPr>
            <p:spPr>
              <a:xfrm rot="7320000">
                <a:off x="8154360" y="4762440"/>
                <a:ext cx="30564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任意多边形 6351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任意多边形 63516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D3CA-5054-491F-BB0C-4DF523C805D9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1881-6190-4219-A03F-6A16B69099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E36-EEA9-4B54-9B52-0C49F91806D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3F04-C887-4EBB-9557-035D91BC0F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7BE8-ECDF-48C6-A62D-F3886AD675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7dbe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任意多边形 62465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F40-C801-4B47-B6E2-A86F07AFE363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任意多边形 62471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任意多边形 62472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组合 62473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3" name="任意多边形 62474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任意多边形 62475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62476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任意多边形 62477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62478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任意多边形 62479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任意多边形 62480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任意多边形 62481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任意多边形 62482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组合 62483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3" name="组合 62484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4" name="任意多边形 62485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任意多边形 62486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任意多边形 62487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任意多边形 62488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任意多边形 62489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任意多边形 62490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组合 62491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1" name="任意多边形 6249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任意多边形 62493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任意多边形 62494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任意多边形 62495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任意多边形 62496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任意多边形 62497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任意多边形 62498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任意多边形 62499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9" name="组合 62500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0" name="任意多边形 62501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任意多边形 62502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组合 62503"/>
          <p:cNvGrpSpPr/>
          <p:nvPr/>
        </p:nvGrpSpPr>
        <p:grpSpPr>
          <a:xfrm>
            <a:off x="7171560" y="-82800"/>
            <a:ext cx="2427480" cy="2247120"/>
            <a:chOff x="7171560" y="-82800"/>
            <a:chExt cx="2427480" cy="2247120"/>
          </a:xfrm>
        </p:grpSpPr>
        <p:grpSp>
          <p:nvGrpSpPr>
            <p:cNvPr id="203" name="组合 62504"/>
            <p:cNvGrpSpPr/>
            <p:nvPr/>
          </p:nvGrpSpPr>
          <p:grpSpPr>
            <a:xfrm>
              <a:off x="7171560" y="-82800"/>
              <a:ext cx="2427480" cy="2247120"/>
              <a:chOff x="7171560" y="-82800"/>
              <a:chExt cx="2427480" cy="2247120"/>
            </a:xfrm>
          </p:grpSpPr>
          <p:sp>
            <p:nvSpPr>
              <p:cNvPr id="204" name="任意多边形 62505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组合 62506"/>
              <p:cNvGrpSpPr/>
              <p:nvPr/>
            </p:nvGrpSpPr>
            <p:grpSpPr>
              <a:xfrm>
                <a:off x="7171560" y="-82800"/>
                <a:ext cx="2427480" cy="2247120"/>
                <a:chOff x="7171560" y="-82800"/>
                <a:chExt cx="2427480" cy="2247120"/>
              </a:xfrm>
            </p:grpSpPr>
            <p:sp>
              <p:nvSpPr>
                <p:cNvPr id="206" name="任意多边形 62507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任意多边形 62508"/>
                <p:cNvSpPr/>
                <p:nvPr/>
              </p:nvSpPr>
              <p:spPr>
                <a:xfrm rot="18427200">
                  <a:off x="8009640" y="52596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任意多边形 62509"/>
                <p:cNvSpPr/>
                <p:nvPr/>
              </p:nvSpPr>
              <p:spPr>
                <a:xfrm rot="18427200">
                  <a:off x="770832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任意多边形 62510"/>
                <p:cNvSpPr/>
                <p:nvPr/>
              </p:nvSpPr>
              <p:spPr>
                <a:xfrm rot="18427200">
                  <a:off x="7783200" y="-255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任意多边形 62511"/>
                <p:cNvSpPr/>
                <p:nvPr/>
              </p:nvSpPr>
              <p:spPr>
                <a:xfrm rot="18427200">
                  <a:off x="840456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任意多边形 62512"/>
                <p:cNvSpPr/>
                <p:nvPr/>
              </p:nvSpPr>
              <p:spPr>
                <a:xfrm rot="18427200">
                  <a:off x="833472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任意多边形 62513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任意多边形 62514"/>
                <p:cNvSpPr/>
                <p:nvPr/>
              </p:nvSpPr>
              <p:spPr>
                <a:xfrm rot="18427200">
                  <a:off x="785052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直接连接符 62515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64BF-BBF3-42EF-BFE1-D87A4D9B04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EC11-52E5-433C-849F-364740A84B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E40-9512-41FD-AF2A-E1082705E4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91E0-F18F-4C24-B26B-08D65B3A8F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BEE-6367-42E6-81C4-0E8B839F7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矩形 38913"/>
          <p:cNvSpPr/>
          <p:nvPr/>
        </p:nvSpPr>
        <p:spPr>
          <a:xfrm>
            <a:off x="609480" y="762120"/>
            <a:ext cx="815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文本框 38914"/>
          <p:cNvSpPr/>
          <p:nvPr/>
        </p:nvSpPr>
        <p:spPr>
          <a:xfrm>
            <a:off x="6172200" y="2743200"/>
            <a:ext cx="1066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[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汉</a:t>
            </a:r>
            <a:r>
              <a:rPr b="1" lang="en-US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]  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司马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图片 38915" descr="simaqian"/>
          <p:cNvPicPr/>
          <p:nvPr/>
        </p:nvPicPr>
        <p:blipFill>
          <a:blip r:embed="rId1"/>
          <a:stretch/>
        </p:blipFill>
        <p:spPr>
          <a:xfrm>
            <a:off x="657360" y="0"/>
            <a:ext cx="4068720" cy="685800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38916"/>
          <p:cNvSpPr/>
          <p:nvPr/>
        </p:nvSpPr>
        <p:spPr>
          <a:xfrm>
            <a:off x="31845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文本框 38917"/>
          <p:cNvSpPr/>
          <p:nvPr/>
        </p:nvSpPr>
        <p:spPr>
          <a:xfrm>
            <a:off x="7238880" y="0"/>
            <a:ext cx="10670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   </a:t>
            </a:r>
            <a:r>
              <a:rPr b="1" lang="zh-CN" sz="66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细柳营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文本框 38918"/>
          <p:cNvSpPr/>
          <p:nvPr/>
        </p:nvSpPr>
        <p:spPr>
          <a:xfrm>
            <a:off x="5076720" y="5516640"/>
            <a:ext cx="381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969F-97AF-4272-840F-293C738206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文本框 2"/>
          <p:cNvSpPr/>
          <p:nvPr/>
        </p:nvSpPr>
        <p:spPr>
          <a:xfrm>
            <a:off x="1339920" y="2751120"/>
            <a:ext cx="64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词义，疏通文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文本框 3"/>
          <p:cNvSpPr/>
          <p:nvPr/>
        </p:nvSpPr>
        <p:spPr>
          <a:xfrm>
            <a:off x="1193760" y="1182600"/>
            <a:ext cx="64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朗读课文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F005-65A6-4E9D-9D09-C1D5CC546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文本框 3076"/>
          <p:cNvSpPr/>
          <p:nvPr/>
        </p:nvSpPr>
        <p:spPr>
          <a:xfrm>
            <a:off x="457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j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文本框 3081"/>
          <p:cNvSpPr/>
          <p:nvPr/>
        </p:nvSpPr>
        <p:spPr>
          <a:xfrm>
            <a:off x="0" y="69228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六年，匈奴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        入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。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宗正刘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，军霸上；祝兹侯徐厉为将军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棘门；以河内守亚夫为将军，军细柳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（之）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文本框 3086"/>
          <p:cNvSpPr/>
          <p:nvPr/>
        </p:nvSpPr>
        <p:spPr>
          <a:xfrm>
            <a:off x="4068720" y="112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规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文本框 3087"/>
          <p:cNvSpPr/>
          <p:nvPr/>
        </p:nvSpPr>
        <p:spPr>
          <a:xfrm>
            <a:off x="5148360" y="10526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入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文本框 3089"/>
          <p:cNvSpPr/>
          <p:nvPr/>
        </p:nvSpPr>
        <p:spPr>
          <a:xfrm>
            <a:off x="702000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文本框 3090"/>
          <p:cNvSpPr/>
          <p:nvPr/>
        </p:nvSpPr>
        <p:spPr>
          <a:xfrm>
            <a:off x="8001000" y="1125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文本框 3091"/>
          <p:cNvSpPr/>
          <p:nvPr/>
        </p:nvSpPr>
        <p:spPr>
          <a:xfrm>
            <a:off x="539640" y="55166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用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文本框 3092"/>
          <p:cNvSpPr/>
          <p:nvPr/>
        </p:nvSpPr>
        <p:spPr>
          <a:xfrm>
            <a:off x="1619280" y="558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代三支军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文本框 3093"/>
          <p:cNvSpPr/>
          <p:nvPr/>
        </p:nvSpPr>
        <p:spPr>
          <a:xfrm>
            <a:off x="4211640" y="558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防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文本框 3095"/>
          <p:cNvSpPr/>
          <p:nvPr/>
        </p:nvSpPr>
        <p:spPr>
          <a:xfrm>
            <a:off x="1258920" y="26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作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矩形 3096"/>
          <p:cNvSpPr/>
          <p:nvPr/>
        </p:nvSpPr>
        <p:spPr>
          <a:xfrm>
            <a:off x="1332000" y="44355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任命河内太守周亚夫为将军，驻守细柳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用以防备匈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矩形 3097"/>
          <p:cNvSpPr/>
          <p:nvPr/>
        </p:nvSpPr>
        <p:spPr>
          <a:xfrm>
            <a:off x="3380040" y="155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汉文帝继位之后第六年，匈奴大举入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矩形 3098"/>
          <p:cNvSpPr/>
          <p:nvPr/>
        </p:nvSpPr>
        <p:spPr>
          <a:xfrm>
            <a:off x="15840" y="321300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于是（文帝）任命宗正刘礼为将军，驻守霸上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矩形 3099"/>
          <p:cNvSpPr/>
          <p:nvPr/>
        </p:nvSpPr>
        <p:spPr>
          <a:xfrm>
            <a:off x="3276720" y="27813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任命）祝兹侯徐厉为将军，驻守棘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文本框 3100"/>
          <p:cNvSpPr/>
          <p:nvPr/>
        </p:nvSpPr>
        <p:spPr>
          <a:xfrm>
            <a:off x="325728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驻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84D-4643-496E-8A08-3709B7F76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文本框 28673"/>
          <p:cNvSpPr/>
          <p:nvPr/>
        </p:nvSpPr>
        <p:spPr>
          <a:xfrm>
            <a:off x="0" y="566640"/>
            <a:ext cx="954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自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劳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至霸上及棘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驰 入，                  将以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送迎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柳军，          军士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锐兵刃，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弓</a:t>
            </a:r>
            <a:r>
              <a:rPr b="1" lang="zh-CN" sz="3200" spc="-1" strike="noStrike" u="sng">
                <a:solidFill>
                  <a:srgbClr val="3366cc"/>
                </a:solidFill>
                <a:uFillTx/>
                <a:latin typeface="Times New Roman"/>
              </a:rPr>
              <a:t>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持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文本框 28675"/>
          <p:cNvSpPr/>
          <p:nvPr/>
        </p:nvSpPr>
        <p:spPr>
          <a:xfrm>
            <a:off x="838080" y="914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亲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文本框 28677"/>
          <p:cNvSpPr/>
          <p:nvPr/>
        </p:nvSpPr>
        <p:spPr>
          <a:xfrm>
            <a:off x="2819520" y="914400"/>
            <a:ext cx="9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名词，军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文本框 28679"/>
          <p:cNvSpPr/>
          <p:nvPr/>
        </p:nvSpPr>
        <p:spPr>
          <a:xfrm>
            <a:off x="6019920" y="990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军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文本框 28680"/>
          <p:cNvSpPr/>
          <p:nvPr/>
        </p:nvSpPr>
        <p:spPr>
          <a:xfrm>
            <a:off x="0" y="1916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直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文本框 28681"/>
          <p:cNvSpPr/>
          <p:nvPr/>
        </p:nvSpPr>
        <p:spPr>
          <a:xfrm>
            <a:off x="3708360" y="25653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将军及其属下都骑着马迎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文本框 28682"/>
          <p:cNvSpPr/>
          <p:nvPr/>
        </p:nvSpPr>
        <p:spPr>
          <a:xfrm>
            <a:off x="539640" y="3933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不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文本框 28683"/>
          <p:cNvSpPr/>
          <p:nvPr/>
        </p:nvSpPr>
        <p:spPr>
          <a:xfrm>
            <a:off x="1332000" y="3357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往，到</a:t>
            </a: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文本框 28684"/>
          <p:cNvSpPr/>
          <p:nvPr/>
        </p:nvSpPr>
        <p:spPr>
          <a:xfrm>
            <a:off x="6732720" y="270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文本框 28685"/>
          <p:cNvSpPr/>
          <p:nvPr/>
        </p:nvSpPr>
        <p:spPr>
          <a:xfrm>
            <a:off x="6516720" y="28526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同“披”，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文本框 28687"/>
          <p:cNvSpPr/>
          <p:nvPr/>
        </p:nvSpPr>
        <p:spPr>
          <a:xfrm>
            <a:off x="291636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ò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文本框 28689"/>
          <p:cNvSpPr/>
          <p:nvPr/>
        </p:nvSpPr>
        <p:spPr>
          <a:xfrm>
            <a:off x="6012000" y="4581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文本框 28692"/>
          <p:cNvSpPr/>
          <p:nvPr/>
        </p:nvSpPr>
        <p:spPr>
          <a:xfrm>
            <a:off x="6300720" y="458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用机械发射的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矩形 28699"/>
          <p:cNvSpPr/>
          <p:nvPr/>
        </p:nvSpPr>
        <p:spPr>
          <a:xfrm>
            <a:off x="2089080" y="148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皇帝亲自去慰问犒劳守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矩形 28700"/>
          <p:cNvSpPr/>
          <p:nvPr/>
        </p:nvSpPr>
        <p:spPr>
          <a:xfrm>
            <a:off x="3924360" y="126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到霸上和棘门军营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矩形 28701"/>
          <p:cNvSpPr/>
          <p:nvPr/>
        </p:nvSpPr>
        <p:spPr>
          <a:xfrm>
            <a:off x="5569920" y="4076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军营将士都身披铠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矩形 28702"/>
          <p:cNvSpPr/>
          <p:nvPr/>
        </p:nvSpPr>
        <p:spPr>
          <a:xfrm>
            <a:off x="250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随后，（皇帝的车队）前往细柳军营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矩形 28703"/>
          <p:cNvSpPr/>
          <p:nvPr/>
        </p:nvSpPr>
        <p:spPr>
          <a:xfrm>
            <a:off x="-18108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皇帝的车队）长驱直入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圆角矩形标注 28704"/>
          <p:cNvSpPr/>
          <p:nvPr/>
        </p:nvSpPr>
        <p:spPr>
          <a:xfrm>
            <a:off x="6804000" y="2852640"/>
            <a:ext cx="2016000" cy="360360"/>
          </a:xfrm>
          <a:prstGeom prst="wedgeRoundRectCallout">
            <a:avLst>
              <a:gd name="adj1" fmla="val -75277"/>
              <a:gd name="adj2" fmla="val 161013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圆角矩形标注 28705"/>
          <p:cNvSpPr/>
          <p:nvPr/>
        </p:nvSpPr>
        <p:spPr>
          <a:xfrm>
            <a:off x="6156360" y="4653000"/>
            <a:ext cx="2663640" cy="360360"/>
          </a:xfrm>
          <a:prstGeom prst="wedgeRoundRectCallout">
            <a:avLst>
              <a:gd name="adj1" fmla="val -119689"/>
              <a:gd name="adj2" fmla="val 104624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矩形 28706"/>
          <p:cNvSpPr/>
          <p:nvPr/>
        </p:nvSpPr>
        <p:spPr>
          <a:xfrm>
            <a:off x="250920" y="5664240"/>
            <a:ext cx="53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刀出鞘，张开弓弩并拉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F45-6436-4991-A5EF-19AB83F20D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子先驱至，不得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驱曰：“天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军门都尉曰：“将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曰：‘军中闻将军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闻天子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文本框 36870"/>
          <p:cNvSpPr/>
          <p:nvPr/>
        </p:nvSpPr>
        <p:spPr>
          <a:xfrm>
            <a:off x="3780000" y="37893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命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矩形标注 36872"/>
          <p:cNvSpPr/>
          <p:nvPr/>
        </p:nvSpPr>
        <p:spPr>
          <a:xfrm>
            <a:off x="3564000" y="4869000"/>
            <a:ext cx="1871640" cy="14436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圆角矩形标注 36873"/>
          <p:cNvSpPr/>
          <p:nvPr/>
        </p:nvSpPr>
        <p:spPr>
          <a:xfrm>
            <a:off x="3851280" y="4869000"/>
            <a:ext cx="1512720" cy="504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圆角矩形标注 36874"/>
          <p:cNvSpPr/>
          <p:nvPr/>
        </p:nvSpPr>
        <p:spPr>
          <a:xfrm>
            <a:off x="5003640" y="5950080"/>
            <a:ext cx="1656000" cy="431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矩形 36880"/>
          <p:cNvSpPr/>
          <p:nvPr/>
        </p:nvSpPr>
        <p:spPr>
          <a:xfrm>
            <a:off x="4347000" y="244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天子的先行卫队来到军营前，（却被拦住）不得进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矩形 36882"/>
          <p:cNvSpPr/>
          <p:nvPr/>
        </p:nvSpPr>
        <p:spPr>
          <a:xfrm>
            <a:off x="468360" y="3357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先行官说：“天子将要驾到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矩形 36883"/>
          <p:cNvSpPr/>
          <p:nvPr/>
        </p:nvSpPr>
        <p:spPr>
          <a:xfrm>
            <a:off x="2099160" y="445788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军门都尉说：“周将军有令：‘军营中只听从将军的命令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矩形 36884"/>
          <p:cNvSpPr/>
          <p:nvPr/>
        </p:nvSpPr>
        <p:spPr>
          <a:xfrm>
            <a:off x="2192760" y="561024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不听从天子的诏令。’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162F-539A-44FB-88C9-B25B4ECDD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文本框 29697"/>
          <p:cNvSpPr/>
          <p:nvPr/>
        </p:nvSpPr>
        <p:spPr>
          <a:xfrm>
            <a:off x="0" y="6858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文本框 29698"/>
          <p:cNvSpPr/>
          <p:nvPr/>
        </p:nvSpPr>
        <p:spPr>
          <a:xfrm>
            <a:off x="2438280" y="990720"/>
            <a:ext cx="121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文本框 29699"/>
          <p:cNvSpPr/>
          <p:nvPr/>
        </p:nvSpPr>
        <p:spPr>
          <a:xfrm>
            <a:off x="0" y="685800"/>
            <a:ext cx="914400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无何，上至，又不得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：“吾欲入劳军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亚夫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传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壁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文本框 29701"/>
          <p:cNvSpPr/>
          <p:nvPr/>
        </p:nvSpPr>
        <p:spPr>
          <a:xfrm>
            <a:off x="1187280" y="18446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文本框 29702"/>
          <p:cNvSpPr/>
          <p:nvPr/>
        </p:nvSpPr>
        <p:spPr>
          <a:xfrm>
            <a:off x="2556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动词，派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文本框 29703"/>
          <p:cNvSpPr/>
          <p:nvPr/>
        </p:nvSpPr>
        <p:spPr>
          <a:xfrm>
            <a:off x="421164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名词，使臣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文本框 29704"/>
          <p:cNvSpPr/>
          <p:nvPr/>
        </p:nvSpPr>
        <p:spPr>
          <a:xfrm>
            <a:off x="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符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文本框 29707"/>
          <p:cNvSpPr/>
          <p:nvPr/>
        </p:nvSpPr>
        <p:spPr>
          <a:xfrm>
            <a:off x="1332000" y="486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传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圆角矩形标注 29718"/>
          <p:cNvSpPr/>
          <p:nvPr/>
        </p:nvSpPr>
        <p:spPr>
          <a:xfrm>
            <a:off x="2411280" y="1989000"/>
            <a:ext cx="1009800" cy="648000"/>
          </a:xfrm>
          <a:prstGeom prst="wedgeRoundRectCallout">
            <a:avLst>
              <a:gd name="adj1" fmla="val -70754"/>
              <a:gd name="adj2" fmla="val 17648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圆角矩形标注 29720"/>
          <p:cNvSpPr/>
          <p:nvPr/>
        </p:nvSpPr>
        <p:spPr>
          <a:xfrm>
            <a:off x="4211640" y="1916280"/>
            <a:ext cx="2016000" cy="360360"/>
          </a:xfrm>
          <a:prstGeom prst="wedgeRoundRectCallout">
            <a:avLst>
              <a:gd name="adj1" fmla="val -77717"/>
              <a:gd name="adj2" fmla="val 94935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矩形 29722"/>
          <p:cNvSpPr/>
          <p:nvPr/>
        </p:nvSpPr>
        <p:spPr>
          <a:xfrm>
            <a:off x="4181760" y="141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过了不久，皇帝来到军营前，也（被拦住）不得进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矩形 29723"/>
          <p:cNvSpPr/>
          <p:nvPr/>
        </p:nvSpPr>
        <p:spPr>
          <a:xfrm>
            <a:off x="697680" y="2728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于是皇帝就派使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矩形 29724"/>
          <p:cNvSpPr/>
          <p:nvPr/>
        </p:nvSpPr>
        <p:spPr>
          <a:xfrm>
            <a:off x="2543760" y="409896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手持符节下诏给周将军：“我要进军营慰劳三军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矩形 29725"/>
          <p:cNvSpPr/>
          <p:nvPr/>
        </p:nvSpPr>
        <p:spPr>
          <a:xfrm>
            <a:off x="3826440" y="558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周亚夫这才传令打开营门（让皇帝的车队进来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CA6A-7AE1-4F5D-8055-CA4E144722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4000" y="1125360"/>
            <a:ext cx="89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壁门士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谓 从属车骑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将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军中不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驱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  于是天子乃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文本框 35843"/>
          <p:cNvSpPr/>
          <p:nvPr/>
        </p:nvSpPr>
        <p:spPr>
          <a:xfrm>
            <a:off x="2050920" y="836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告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文本框 35844"/>
          <p:cNvSpPr/>
          <p:nvPr/>
        </p:nvSpPr>
        <p:spPr>
          <a:xfrm>
            <a:off x="4284720" y="549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跟随皇帝的车马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文本框 35845"/>
          <p:cNvSpPr/>
          <p:nvPr/>
        </p:nvSpPr>
        <p:spPr>
          <a:xfrm>
            <a:off x="5033880" y="2379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规定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文本框 35846"/>
          <p:cNvSpPr/>
          <p:nvPr/>
        </p:nvSpPr>
        <p:spPr>
          <a:xfrm>
            <a:off x="539640" y="3860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驱马奔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文本框 35847"/>
          <p:cNvSpPr/>
          <p:nvPr/>
        </p:nvSpPr>
        <p:spPr>
          <a:xfrm>
            <a:off x="4643280" y="105264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jì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文本框 35848"/>
          <p:cNvSpPr/>
          <p:nvPr/>
        </p:nvSpPr>
        <p:spPr>
          <a:xfrm>
            <a:off x="4284720" y="3789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控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文本框 35850"/>
          <p:cNvSpPr/>
          <p:nvPr/>
        </p:nvSpPr>
        <p:spPr>
          <a:xfrm>
            <a:off x="6013800" y="3933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pèi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文本框 35851"/>
          <p:cNvSpPr/>
          <p:nvPr/>
        </p:nvSpPr>
        <p:spPr>
          <a:xfrm>
            <a:off x="565164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驾驭马的缰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文本框 35852"/>
          <p:cNvSpPr/>
          <p:nvPr/>
        </p:nvSpPr>
        <p:spPr>
          <a:xfrm>
            <a:off x="7093080" y="3716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慢慢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矩形 35853"/>
          <p:cNvSpPr/>
          <p:nvPr/>
        </p:nvSpPr>
        <p:spPr>
          <a:xfrm>
            <a:off x="539640" y="1700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守营门的官兵对随从的军队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矩形 35854"/>
          <p:cNvSpPr/>
          <p:nvPr/>
        </p:nvSpPr>
        <p:spPr>
          <a:xfrm>
            <a:off x="539640" y="472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于是，天子的车队就按住缰绳慢慢前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矩形标注 35856"/>
          <p:cNvSpPr/>
          <p:nvPr/>
        </p:nvSpPr>
        <p:spPr>
          <a:xfrm>
            <a:off x="4140360" y="476280"/>
            <a:ext cx="3528720" cy="576360"/>
          </a:xfrm>
          <a:prstGeom prst="wedgeRectCallout">
            <a:avLst>
              <a:gd name="adj1" fmla="val -47569"/>
              <a:gd name="adj2" fmla="val 70111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矩形 35857"/>
          <p:cNvSpPr/>
          <p:nvPr/>
        </p:nvSpPr>
        <p:spPr>
          <a:xfrm>
            <a:off x="1789920" y="299736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：“将军规定，军营中不能驱马快跑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BBA2-3EBE-43CE-921F-AC9AE3FC7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文本框 30721"/>
          <p:cNvSpPr/>
          <p:nvPr/>
        </p:nvSpPr>
        <p:spPr>
          <a:xfrm>
            <a:off x="0" y="762120"/>
            <a:ext cx="954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营，将军亚夫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士不拜，请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           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礼见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改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皇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劳将军。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        礼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文本框 30722"/>
          <p:cNvSpPr/>
          <p:nvPr/>
        </p:nvSpPr>
        <p:spPr>
          <a:xfrm>
            <a:off x="4067280" y="404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文本框 30723"/>
          <p:cNvSpPr/>
          <p:nvPr/>
        </p:nvSpPr>
        <p:spPr>
          <a:xfrm>
            <a:off x="826920" y="184464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zhòu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文本框 30724"/>
          <p:cNvSpPr/>
          <p:nvPr/>
        </p:nvSpPr>
        <p:spPr>
          <a:xfrm>
            <a:off x="2843280" y="333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兵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文本框 30729"/>
          <p:cNvSpPr/>
          <p:nvPr/>
        </p:nvSpPr>
        <p:spPr>
          <a:xfrm>
            <a:off x="3851280" y="227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让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文本框 30730"/>
          <p:cNvSpPr/>
          <p:nvPr/>
        </p:nvSpPr>
        <p:spPr>
          <a:xfrm>
            <a:off x="47242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文本框 30731"/>
          <p:cNvSpPr/>
          <p:nvPr/>
        </p:nvSpPr>
        <p:spPr>
          <a:xfrm>
            <a:off x="395280" y="3357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被感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30732"/>
          <p:cNvSpPr/>
          <p:nvPr/>
        </p:nvSpPr>
        <p:spPr>
          <a:xfrm>
            <a:off x="2411280" y="32130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神情改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文本框 30733"/>
          <p:cNvSpPr/>
          <p:nvPr/>
        </p:nvSpPr>
        <p:spPr>
          <a:xfrm>
            <a:off x="3851280" y="328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同“轼”，车前横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文本框 30734"/>
          <p:cNvSpPr/>
          <p:nvPr/>
        </p:nvSpPr>
        <p:spPr>
          <a:xfrm>
            <a:off x="-252360" y="479736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动词，派遣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文本框 30736"/>
          <p:cNvSpPr/>
          <p:nvPr/>
        </p:nvSpPr>
        <p:spPr>
          <a:xfrm>
            <a:off x="2627280" y="47973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表示敬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文本框 30737"/>
          <p:cNvSpPr/>
          <p:nvPr/>
        </p:nvSpPr>
        <p:spPr>
          <a:xfrm>
            <a:off x="8077320" y="4797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离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文本框 30738"/>
          <p:cNvSpPr/>
          <p:nvPr/>
        </p:nvSpPr>
        <p:spPr>
          <a:xfrm>
            <a:off x="5003640" y="465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完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文本框 30741"/>
          <p:cNvSpPr/>
          <p:nvPr/>
        </p:nvSpPr>
        <p:spPr>
          <a:xfrm>
            <a:off x="5148360" y="1700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文本框 30742"/>
          <p:cNvSpPr/>
          <p:nvPr/>
        </p:nvSpPr>
        <p:spPr>
          <a:xfrm>
            <a:off x="6300720" y="4724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劳军之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矩形标注 30743"/>
          <p:cNvSpPr/>
          <p:nvPr/>
        </p:nvSpPr>
        <p:spPr>
          <a:xfrm>
            <a:off x="2843280" y="260280"/>
            <a:ext cx="1512720" cy="504720"/>
          </a:xfrm>
          <a:prstGeom prst="wedgeRectCallout">
            <a:avLst>
              <a:gd name="adj1" fmla="val 6874"/>
              <a:gd name="adj2" fmla="val 89620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矩形标注 30747"/>
          <p:cNvSpPr/>
          <p:nvPr/>
        </p:nvSpPr>
        <p:spPr>
          <a:xfrm>
            <a:off x="4211640" y="3357720"/>
            <a:ext cx="2376360" cy="360360"/>
          </a:xfrm>
          <a:prstGeom prst="wedgeRectCallout">
            <a:avLst>
              <a:gd name="adj1" fmla="val -48194"/>
              <a:gd name="adj2" fmla="val 91851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矩形标注 30748"/>
          <p:cNvSpPr/>
          <p:nvPr/>
        </p:nvSpPr>
        <p:spPr>
          <a:xfrm>
            <a:off x="2484360" y="3284640"/>
            <a:ext cx="1295640" cy="288720"/>
          </a:xfrm>
          <a:prstGeom prst="wedgeRectCallout">
            <a:avLst>
              <a:gd name="adj1" fmla="val -31129"/>
              <a:gd name="adj2" fmla="val 142305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矩形标注 30749"/>
          <p:cNvSpPr/>
          <p:nvPr/>
        </p:nvSpPr>
        <p:spPr>
          <a:xfrm>
            <a:off x="826920" y="3429000"/>
            <a:ext cx="1513080" cy="289080"/>
          </a:xfrm>
          <a:prstGeom prst="wedgeRectCallout">
            <a:avLst>
              <a:gd name="adj1" fmla="val -12750"/>
              <a:gd name="adj2" fmla="val 109342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矩形标注 30750"/>
          <p:cNvSpPr/>
          <p:nvPr/>
        </p:nvSpPr>
        <p:spPr>
          <a:xfrm>
            <a:off x="0" y="4797360"/>
            <a:ext cx="1476360" cy="360360"/>
          </a:xfrm>
          <a:prstGeom prst="wedgeRectCallout">
            <a:avLst>
              <a:gd name="adj1" fmla="val -5699"/>
              <a:gd name="adj2" fmla="val 94495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矩形标注 30752"/>
          <p:cNvSpPr/>
          <p:nvPr/>
        </p:nvSpPr>
        <p:spPr>
          <a:xfrm>
            <a:off x="2987640" y="4797360"/>
            <a:ext cx="1295280" cy="360360"/>
          </a:xfrm>
          <a:prstGeom prst="wedgeRectCallout">
            <a:avLst>
              <a:gd name="adj1" fmla="val -19731"/>
              <a:gd name="adj2" fmla="val 9052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矩形 30753"/>
          <p:cNvSpPr/>
          <p:nvPr/>
        </p:nvSpPr>
        <p:spPr>
          <a:xfrm>
            <a:off x="1795680" y="1197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来到营中大账前，将军周亚夫手执兵器，双手抱拳行礼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矩形 30754"/>
          <p:cNvSpPr/>
          <p:nvPr/>
        </p:nvSpPr>
        <p:spPr>
          <a:xfrm>
            <a:off x="1798920" y="2781360"/>
            <a:ext cx="46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：“穿戴着盔甲的将士不行跪拜之礼，请允许我行军礼拜见皇上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矩形 30755"/>
          <p:cNvSpPr/>
          <p:nvPr/>
        </p:nvSpPr>
        <p:spPr>
          <a:xfrm>
            <a:off x="1820880" y="422100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天子被感动了，脸的神情也改变了，俯身扶着车前的横木（向亚夫表示敬意）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矩形 30757"/>
          <p:cNvSpPr/>
          <p:nvPr/>
        </p:nvSpPr>
        <p:spPr>
          <a:xfrm>
            <a:off x="250920" y="5805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并命人宣告：“皇帝敬重、慰劳将军。”礼仪完毕就离去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矩形标注 30758"/>
          <p:cNvSpPr/>
          <p:nvPr/>
        </p:nvSpPr>
        <p:spPr>
          <a:xfrm>
            <a:off x="5364000" y="1700280"/>
            <a:ext cx="720720" cy="433440"/>
          </a:xfrm>
          <a:prstGeom prst="wedgeRectCallout">
            <a:avLst>
              <a:gd name="adj1" fmla="val 27532"/>
              <a:gd name="adj2" fmla="val 9175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矩形标注 30759"/>
          <p:cNvSpPr/>
          <p:nvPr/>
        </p:nvSpPr>
        <p:spPr>
          <a:xfrm>
            <a:off x="8244000" y="4724280"/>
            <a:ext cx="900000" cy="362160"/>
          </a:xfrm>
          <a:prstGeom prst="wedgeRectCallout">
            <a:avLst>
              <a:gd name="adj1" fmla="val -8731"/>
              <a:gd name="adj2" fmla="val 105703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矩形标注 30760"/>
          <p:cNvSpPr/>
          <p:nvPr/>
        </p:nvSpPr>
        <p:spPr>
          <a:xfrm>
            <a:off x="6588000" y="4724280"/>
            <a:ext cx="1368720" cy="362160"/>
          </a:xfrm>
          <a:prstGeom prst="wedgeRectCallout">
            <a:avLst>
              <a:gd name="adj1" fmla="val -8120"/>
              <a:gd name="adj2" fmla="val 105263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矩形标注 30761"/>
          <p:cNvSpPr/>
          <p:nvPr/>
        </p:nvSpPr>
        <p:spPr>
          <a:xfrm>
            <a:off x="5292720" y="4724280"/>
            <a:ext cx="792000" cy="289080"/>
          </a:xfrm>
          <a:prstGeom prst="wedgeRectCallout">
            <a:avLst>
              <a:gd name="adj1" fmla="val 21745"/>
              <a:gd name="adj2" fmla="val 148902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2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923-90E2-4BD9-9D02-8BF1BE1CAA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文本框 31745"/>
          <p:cNvSpPr/>
          <p:nvPr/>
        </p:nvSpPr>
        <p:spPr>
          <a:xfrm>
            <a:off x="304920" y="98100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出军门，群臣皆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帝曰：“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嗟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！此真将军矣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曩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霸上、棘门军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戏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文本框 31746"/>
          <p:cNvSpPr/>
          <p:nvPr/>
        </p:nvSpPr>
        <p:spPr>
          <a:xfrm>
            <a:off x="179280" y="476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以后 ，已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文本框 31747"/>
          <p:cNvSpPr/>
          <p:nvPr/>
        </p:nvSpPr>
        <p:spPr>
          <a:xfrm>
            <a:off x="2700360" y="24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i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文本框 31748"/>
          <p:cNvSpPr/>
          <p:nvPr/>
        </p:nvSpPr>
        <p:spPr>
          <a:xfrm>
            <a:off x="6156360" y="1773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文本框 31750"/>
          <p:cNvSpPr/>
          <p:nvPr/>
        </p:nvSpPr>
        <p:spPr>
          <a:xfrm>
            <a:off x="971640" y="39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ǎ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文本框 31751"/>
          <p:cNvSpPr/>
          <p:nvPr/>
        </p:nvSpPr>
        <p:spPr>
          <a:xfrm>
            <a:off x="514836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文本框 31752"/>
          <p:cNvSpPr/>
          <p:nvPr/>
        </p:nvSpPr>
        <p:spPr>
          <a:xfrm>
            <a:off x="6732720" y="3284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罢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矩形 31758"/>
          <p:cNvSpPr/>
          <p:nvPr/>
        </p:nvSpPr>
        <p:spPr>
          <a:xfrm>
            <a:off x="1508760" y="1700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出军营大门后，随从的大臣们都很惊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矩形 31759"/>
          <p:cNvSpPr/>
          <p:nvPr/>
        </p:nvSpPr>
        <p:spPr>
          <a:xfrm>
            <a:off x="1109160" y="2924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文帝说：“啊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这才是真将军啊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矩形 31760"/>
          <p:cNvSpPr/>
          <p:nvPr/>
        </p:nvSpPr>
        <p:spPr>
          <a:xfrm>
            <a:off x="3443040" y="4602240"/>
            <a:ext cx="11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先前（看到的）霸上、棘门的军队，像儿戏罢了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简直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儿戏一样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矩形标注 31761"/>
          <p:cNvSpPr/>
          <p:nvPr/>
        </p:nvSpPr>
        <p:spPr>
          <a:xfrm>
            <a:off x="826920" y="549360"/>
            <a:ext cx="1295640" cy="358560"/>
          </a:xfrm>
          <a:prstGeom prst="wedgeRectCallout">
            <a:avLst>
              <a:gd name="adj1" fmla="val -13236"/>
              <a:gd name="adj2" fmla="val 9734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矩形标注 31762"/>
          <p:cNvSpPr/>
          <p:nvPr/>
        </p:nvSpPr>
        <p:spPr>
          <a:xfrm>
            <a:off x="6659640" y="1844640"/>
            <a:ext cx="720720" cy="433440"/>
          </a:xfrm>
          <a:prstGeom prst="wedgeRectCallout">
            <a:avLst>
              <a:gd name="adj1" fmla="val -585902"/>
              <a:gd name="adj2" fmla="val 123990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矩形标注 31764"/>
          <p:cNvSpPr/>
          <p:nvPr/>
        </p:nvSpPr>
        <p:spPr>
          <a:xfrm>
            <a:off x="5076720" y="3429000"/>
            <a:ext cx="720720" cy="433440"/>
          </a:xfrm>
          <a:prstGeom prst="wedgeRectCallout">
            <a:avLst>
              <a:gd name="adj1" fmla="val 27532"/>
              <a:gd name="adj2" fmla="val 9175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矩形标注 31765"/>
          <p:cNvSpPr/>
          <p:nvPr/>
        </p:nvSpPr>
        <p:spPr>
          <a:xfrm>
            <a:off x="6877080" y="3284640"/>
            <a:ext cx="720720" cy="433440"/>
          </a:xfrm>
          <a:prstGeom prst="wedgeRectCallout">
            <a:avLst>
              <a:gd name="adj1" fmla="val -31717"/>
              <a:gd name="adj2" fmla="val 120328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63AA-ED58-4912-B51C-20F16BB794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将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袭而虏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于亚夫，可得而犯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)?”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善者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文本框 51203"/>
          <p:cNvSpPr/>
          <p:nvPr/>
        </p:nvSpPr>
        <p:spPr>
          <a:xfrm>
            <a:off x="1619280" y="126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必定，当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文本框 51205"/>
          <p:cNvSpPr/>
          <p:nvPr/>
        </p:nvSpPr>
        <p:spPr>
          <a:xfrm>
            <a:off x="4500720" y="4076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补足音节，无实义，不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文本框 51207"/>
          <p:cNvSpPr/>
          <p:nvPr/>
        </p:nvSpPr>
        <p:spPr>
          <a:xfrm>
            <a:off x="5148360" y="3141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矩形 51208"/>
          <p:cNvSpPr/>
          <p:nvPr/>
        </p:nvSpPr>
        <p:spPr>
          <a:xfrm>
            <a:off x="3111840" y="244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其将士必定会遭到袭击而被俘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矩形 51209"/>
          <p:cNvSpPr/>
          <p:nvPr/>
        </p:nvSpPr>
        <p:spPr>
          <a:xfrm>
            <a:off x="1225080" y="3738600"/>
            <a:ext cx="27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至于亚夫，岂能被侵犯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?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矩形 51210"/>
          <p:cNvSpPr/>
          <p:nvPr/>
        </p:nvSpPr>
        <p:spPr>
          <a:xfrm>
            <a:off x="1364400" y="5013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（说罢）连连称赞不已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矩形标注 51211"/>
          <p:cNvSpPr/>
          <p:nvPr/>
        </p:nvSpPr>
        <p:spPr>
          <a:xfrm>
            <a:off x="1835280" y="1268280"/>
            <a:ext cx="2160360" cy="433440"/>
          </a:xfrm>
          <a:prstGeom prst="wedgeRectCallout">
            <a:avLst>
              <a:gd name="adj1" fmla="val -13407"/>
              <a:gd name="adj2" fmla="val 15219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矩形标注 51212"/>
          <p:cNvSpPr/>
          <p:nvPr/>
        </p:nvSpPr>
        <p:spPr>
          <a:xfrm>
            <a:off x="4859280" y="4076640"/>
            <a:ext cx="1081080" cy="433440"/>
          </a:xfrm>
          <a:prstGeom prst="wedgeRectCallout">
            <a:avLst>
              <a:gd name="adj1" fmla="val -171439"/>
              <a:gd name="adj2" fmla="val 58425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0640" y="132840"/>
            <a:ext cx="52275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汇、句式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军士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甲（“被”同“披”，穿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改容式车（“式” 同“轼”，车前横木，这里用作动词，指扶轼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图片 37891" descr="t01e5e4bd24de49ad29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7F1E-527C-4CB6-95A7-3AF204C181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图片 39937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矩形 399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图片 39939" descr="BD05845_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419076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9940" descr="史记"/>
          <p:cNvPicPr/>
          <p:nvPr/>
        </p:nvPicPr>
        <p:blipFill>
          <a:blip r:embed="rId3"/>
          <a:stretch/>
        </p:blipFill>
        <p:spPr>
          <a:xfrm>
            <a:off x="2411280" y="1341360"/>
            <a:ext cx="4091040" cy="4967280"/>
          </a:xfrm>
          <a:prstGeom prst="rect">
            <a:avLst/>
          </a:prstGeom>
          <a:ln w="0">
            <a:noFill/>
          </a:ln>
        </p:spPr>
      </p:pic>
      <p:sp>
        <p:nvSpPr>
          <p:cNvPr id="737" name="文本框 39941"/>
          <p:cNvSpPr/>
          <p:nvPr/>
        </p:nvSpPr>
        <p:spPr>
          <a:xfrm>
            <a:off x="6236640" y="1628640"/>
            <a:ext cx="1399320" cy="424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史  家  之  绝  唱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39942"/>
          <p:cNvSpPr/>
          <p:nvPr/>
        </p:nvSpPr>
        <p:spPr>
          <a:xfrm>
            <a:off x="653400" y="1700280"/>
            <a:ext cx="1399320" cy="417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无  韵  之  离  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图片 39943" descr="030_JPG"/>
          <p:cNvPicPr/>
          <p:nvPr/>
        </p:nvPicPr>
        <p:blipFill>
          <a:blip r:embed="rId4"/>
          <a:stretch/>
        </p:blipFill>
        <p:spPr>
          <a:xfrm>
            <a:off x="8172360" y="5950080"/>
            <a:ext cx="971640" cy="907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词多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持节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派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乃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持节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霸上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驻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自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38915" descr="t01256d217c2e6a8313"/>
          <p:cNvPicPr/>
          <p:nvPr/>
        </p:nvPicPr>
        <p:blipFill>
          <a:blip r:embed="rId1"/>
          <a:stretch/>
        </p:blipFill>
        <p:spPr>
          <a:xfrm>
            <a:off x="5435640" y="3357720"/>
            <a:ext cx="3708360" cy="350028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98332"/>
          <p:cNvSpPr/>
          <p:nvPr/>
        </p:nvSpPr>
        <p:spPr>
          <a:xfrm>
            <a:off x="611280" y="604692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至霸上及棘门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文本框 1"/>
          <p:cNvSpPr/>
          <p:nvPr/>
        </p:nvSpPr>
        <p:spPr>
          <a:xfrm>
            <a:off x="4075200" y="604692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营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柳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闻天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诏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助词，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善者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意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以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内守亚夫为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任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礼见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图片 39939" descr="t01d91beb6ebccfe6be"/>
          <p:cNvPicPr/>
          <p:nvPr/>
        </p:nvPicPr>
        <p:blipFill>
          <a:blip r:embed="rId1"/>
          <a:stretch/>
        </p:blipFill>
        <p:spPr>
          <a:xfrm>
            <a:off x="8028000" y="0"/>
            <a:ext cx="801720" cy="657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闻天子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，皇帝发布的命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乃使使持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下诏，下命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劳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，特指皇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赏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容词，上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40963" descr="t01a1b39b6e2c1ddcf5"/>
          <p:cNvPicPr/>
          <p:nvPr/>
        </p:nvPicPr>
        <p:blipFill>
          <a:blip r:embed="rId1"/>
          <a:stretch/>
        </p:blipFill>
        <p:spPr>
          <a:xfrm>
            <a:off x="0" y="3500280"/>
            <a:ext cx="1258920" cy="335772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40964" descr="t01c1e58abfde53607b"/>
          <p:cNvPicPr/>
          <p:nvPr/>
        </p:nvPicPr>
        <p:blipFill>
          <a:blip r:embed="rId2"/>
          <a:stretch/>
        </p:blipFill>
        <p:spPr>
          <a:xfrm>
            <a:off x="5364000" y="3068640"/>
            <a:ext cx="378000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曰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下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中闻将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，命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匈奴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边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侵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进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41987" descr="t017075b62c11b4ec86"/>
          <p:cNvPicPr/>
          <p:nvPr/>
        </p:nvPicPr>
        <p:blipFill>
          <a:blip r:embed="rId1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河内守亚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作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词，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使持节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副词，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亚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言开壁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副词，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43011" descr="t0147ecb4a0fa838c25"/>
          <p:cNvPicPr/>
          <p:nvPr/>
        </p:nvPicPr>
        <p:blipFill>
          <a:blip r:embed="rId1"/>
          <a:stretch/>
        </p:blipFill>
        <p:spPr>
          <a:xfrm>
            <a:off x="7020000" y="1628640"/>
            <a:ext cx="212400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天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至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行引导的人员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在前面引导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军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令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从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鼻子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符节，皇帝派遣使者或调动军队的凭证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节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44035" descr="t01223dcb4b9a11f3f1"/>
          <p:cNvPicPr/>
          <p:nvPr/>
        </p:nvPicPr>
        <p:blipFill>
          <a:blip r:embed="rId1"/>
          <a:stretch/>
        </p:blipFill>
        <p:spPr>
          <a:xfrm>
            <a:off x="3995640" y="4986360"/>
            <a:ext cx="51483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亚夫乃传言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营垒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墙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军礼见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允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希望对方做某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使人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谢（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告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图片 45059" descr="风景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棘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用作动词，驻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士（名词用作动词，披甲戴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于是上乃使使持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用作动词，下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兵刃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容词使动用法，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锋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言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子为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被动句，“为”表被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图片 46083" descr="t018f0a99de9aeb01c7"/>
          <p:cNvPicPr/>
          <p:nvPr/>
        </p:nvPicPr>
        <p:blipFill>
          <a:blip r:embed="rId1"/>
          <a:stretch/>
        </p:blipFill>
        <p:spPr>
          <a:xfrm>
            <a:off x="7791480" y="4941720"/>
            <a:ext cx="135252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A70-809A-48E1-BE6D-7FE98DDE5C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矩形 101377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课文内容分析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945" name="文本框 101378"/>
          <p:cNvSpPr/>
          <p:nvPr/>
        </p:nvSpPr>
        <p:spPr>
          <a:xfrm>
            <a:off x="762120" y="16765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复述故事情节（把故事的起因、经过、结果串起来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文本框 1"/>
          <p:cNvSpPr/>
          <p:nvPr/>
        </p:nvSpPr>
        <p:spPr>
          <a:xfrm>
            <a:off x="603360" y="3346560"/>
            <a:ext cx="81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汉文帝称周亚夫为真将军，那些内容可以看出周亚夫真将军的风范，从相关的内容可以看出周亚夫是一个怎样的人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矩形 104449"/>
          <p:cNvSpPr/>
          <p:nvPr/>
        </p:nvSpPr>
        <p:spPr>
          <a:xfrm>
            <a:off x="343080" y="8049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军士吏被甲，锐兵刃，彀弓弩，持满。” “不得入”“又不得入”“乃传言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矩形 104450"/>
          <p:cNvSpPr/>
          <p:nvPr/>
        </p:nvSpPr>
        <p:spPr>
          <a:xfrm>
            <a:off x="152280" y="2736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帝到细柳营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驱至，不得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至，又不得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至文帝正式派使臣持节下诏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夫乃传言开壁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军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中不得驱驰”“天子乃按辔徐行”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矩形 104451"/>
          <p:cNvSpPr/>
          <p:nvPr/>
        </p:nvSpPr>
        <p:spPr>
          <a:xfrm>
            <a:off x="0" y="4643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持兵揖”、“以军礼见” “将以下骑送迎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文本框 1" descr=""/>
          <p:cNvPicPr/>
          <p:nvPr/>
        </p:nvPicPr>
        <p:blipFill>
          <a:blip r:embed="rId1"/>
          <a:stretch/>
        </p:blipFill>
        <p:spPr>
          <a:xfrm>
            <a:off x="-7920" y="158760"/>
            <a:ext cx="5665680" cy="646200"/>
          </a:xfrm>
          <a:prstGeom prst="rect">
            <a:avLst/>
          </a:prstGeom>
          <a:ln w="0">
            <a:noFill/>
          </a:ln>
        </p:spPr>
      </p:pic>
      <p:sp>
        <p:nvSpPr>
          <p:cNvPr id="951" name="矩形 2"/>
          <p:cNvSpPr/>
          <p:nvPr/>
        </p:nvSpPr>
        <p:spPr>
          <a:xfrm>
            <a:off x="228600" y="1757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容严整，常备不懈，严阵以待，军纪严明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治军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矩形 3"/>
          <p:cNvSpPr/>
          <p:nvPr/>
        </p:nvSpPr>
        <p:spPr>
          <a:xfrm>
            <a:off x="152280" y="4121280"/>
            <a:ext cx="85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军有方，令行禁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矩形 4"/>
          <p:cNvSpPr/>
          <p:nvPr/>
        </p:nvSpPr>
        <p:spPr>
          <a:xfrm>
            <a:off x="228600" y="524664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亚夫恪尽职守、刚正不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矩形 5" descr=""/>
          <p:cNvPicPr/>
          <p:nvPr/>
        </p:nvPicPr>
        <p:blipFill>
          <a:blip r:embed="rId2"/>
          <a:stretch/>
        </p:blipFill>
        <p:spPr>
          <a:xfrm>
            <a:off x="-15840" y="5884920"/>
            <a:ext cx="9175680" cy="58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8A3-2CDF-41ED-92C0-E8D2AA0472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图片 43009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" name="矩形 430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图片 43011" descr="司马迁"/>
          <p:cNvPicPr/>
          <p:nvPr/>
        </p:nvPicPr>
        <p:blipFill>
          <a:blip r:embed="rId2"/>
          <a:stretch/>
        </p:blipFill>
        <p:spPr>
          <a:xfrm>
            <a:off x="197964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5773-86A7-4170-87E5-CD90DBF573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矩形 101377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深入探究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957" name="文本框 101378"/>
          <p:cNvSpPr/>
          <p:nvPr/>
        </p:nvSpPr>
        <p:spPr>
          <a:xfrm>
            <a:off x="355680" y="1984320"/>
            <a:ext cx="84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文中在塑造周亚夫形象时，运用了哪些方法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文本框 1"/>
          <p:cNvSpPr/>
          <p:nvPr/>
        </p:nvSpPr>
        <p:spPr>
          <a:xfrm>
            <a:off x="355680" y="3672000"/>
            <a:ext cx="8432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知识回顾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刻画人物形象的方法有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BDED-F523-4E40-8E51-CAA6325872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矩形 102401"/>
          <p:cNvSpPr txBox="1"/>
          <p:nvPr/>
        </p:nvSpPr>
        <p:spPr>
          <a:xfrm>
            <a:off x="5486400" y="16765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正面描写</a:t>
            </a:r>
            <a:endParaRPr b="1" lang="en-US" sz="24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1" name="矩形 102402"/>
          <p:cNvSpPr txBox="1"/>
          <p:nvPr/>
        </p:nvSpPr>
        <p:spPr>
          <a:xfrm>
            <a:off x="5486400" y="3733920"/>
            <a:ext cx="3276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侧面描写</a:t>
            </a:r>
            <a:endParaRPr b="1" lang="en-US" sz="24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2" name="文本框 102403"/>
          <p:cNvSpPr/>
          <p:nvPr/>
        </p:nvSpPr>
        <p:spPr>
          <a:xfrm>
            <a:off x="457200" y="1295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亚夫乃传言开壁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文本框 102404"/>
          <p:cNvSpPr/>
          <p:nvPr/>
        </p:nvSpPr>
        <p:spPr>
          <a:xfrm>
            <a:off x="457200" y="1981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将军亚夫持兵揖曰： “介胄之士不拜，请以军礼见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文本框 102405"/>
          <p:cNvSpPr/>
          <p:nvPr/>
        </p:nvSpPr>
        <p:spPr>
          <a:xfrm>
            <a:off x="12193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将军令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文本框 102406"/>
          <p:cNvSpPr/>
          <p:nvPr/>
        </p:nvSpPr>
        <p:spPr>
          <a:xfrm>
            <a:off x="1295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将军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矩形 102407"/>
          <p:cNvSpPr txBox="1"/>
          <p:nvPr/>
        </p:nvSpPr>
        <p:spPr>
          <a:xfrm>
            <a:off x="6172200" y="457200"/>
            <a:ext cx="23623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画龙点睛</a:t>
            </a:r>
            <a:endParaRPr b="1" lang="en-US" sz="2400" spc="1" strike="noStrike">
              <a:ln w="9360">
                <a:solidFill>
                  <a:srgbClr val="0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967" name="矩形 102408"/>
          <p:cNvSpPr txBox="1"/>
          <p:nvPr/>
        </p:nvSpPr>
        <p:spPr>
          <a:xfrm>
            <a:off x="5791320" y="52578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有力烘托</a:t>
            </a:r>
            <a:endParaRPr b="1" lang="en-US" sz="2400" spc="1" strike="noStrike">
              <a:ln w="9360">
                <a:solidFill>
                  <a:srgbClr val="8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F663-1367-4E0A-A1B3-E33A8455D2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77440" y="4311360"/>
            <a:ext cx="82393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借文帝之口再作对比，进一步从侧面衬托出周亚夫“真将军”的风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椭圆形标注 105474"/>
          <p:cNvSpPr/>
          <p:nvPr/>
        </p:nvSpPr>
        <p:spPr>
          <a:xfrm>
            <a:off x="1290600" y="733320"/>
            <a:ext cx="6808680" cy="3353040"/>
          </a:xfrm>
          <a:prstGeom prst="wedgeEllipseCallout">
            <a:avLst>
              <a:gd name="adj1" fmla="val -70833"/>
              <a:gd name="adj2" fmla="val 36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文本框 105475"/>
          <p:cNvSpPr/>
          <p:nvPr/>
        </p:nvSpPr>
        <p:spPr>
          <a:xfrm>
            <a:off x="2057400" y="1305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宋体"/>
              </a:rPr>
              <a:t>嗟乎，此真将军矣！曩者霸上、棘门军，若儿戏耳，其将固可袭而虏也。至于亚夫，可得而犯邪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100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AB2E-1070-4DD0-93C7-654EC5C139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矩形 104449"/>
          <p:cNvSpPr/>
          <p:nvPr/>
        </p:nvSpPr>
        <p:spPr>
          <a:xfrm>
            <a:off x="380880" y="1295280"/>
            <a:ext cx="85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一：细柳军与霸上军及棘门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军士吏被甲，锐兵刃，彀弓弩，持满。” “不得入”“又不得入”“乃传言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容严整，常备不懈，严阵以待，军纪严明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规松垮，守备松懈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矩形 104450"/>
          <p:cNvSpPr/>
          <p:nvPr/>
        </p:nvSpPr>
        <p:spPr>
          <a:xfrm>
            <a:off x="228600" y="33526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二：文帝及随从入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军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中不得驱驰”“天子乃按辔徐行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军有方，令行禁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纪松弛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矩形 104451"/>
          <p:cNvSpPr/>
          <p:nvPr/>
        </p:nvSpPr>
        <p:spPr>
          <a:xfrm>
            <a:off x="0" y="5057640"/>
            <a:ext cx="922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三：三营将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兵揖”、“以军礼见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亚夫恪尽职守、刚正不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以下骑送迎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将士受宠若惊，竭尽逢迎之能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矩形 104452"/>
          <p:cNvSpPr txBox="1"/>
          <p:nvPr/>
        </p:nvSpPr>
        <p:spPr>
          <a:xfrm>
            <a:off x="1676520" y="76320"/>
            <a:ext cx="3962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对比、衬托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AFAF-ACA5-4368-BA21-A83E2FDB3F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文本框 32769"/>
          <p:cNvSpPr/>
          <p:nvPr/>
        </p:nvSpPr>
        <p:spPr>
          <a:xfrm>
            <a:off x="0" y="246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宋体"/>
              </a:rPr>
              <a:t>直驰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文本框 32770"/>
          <p:cNvSpPr/>
          <p:nvPr/>
        </p:nvSpPr>
        <p:spPr>
          <a:xfrm>
            <a:off x="0" y="83808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皇帝到霸上、棘门军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文本框 32771"/>
          <p:cNvSpPr/>
          <p:nvPr/>
        </p:nvSpPr>
        <p:spPr>
          <a:xfrm>
            <a:off x="4724280" y="762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皇帝到细柳军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文本框 32773"/>
          <p:cNvSpPr/>
          <p:nvPr/>
        </p:nvSpPr>
        <p:spPr>
          <a:xfrm>
            <a:off x="-228600" y="3825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以下骑送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文本框 32774"/>
          <p:cNvSpPr/>
          <p:nvPr/>
        </p:nvSpPr>
        <p:spPr>
          <a:xfrm>
            <a:off x="3851280" y="134136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军士吏被甲，锐兵刃， 彀弓弩，持满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文本框 32775"/>
          <p:cNvSpPr/>
          <p:nvPr/>
        </p:nvSpPr>
        <p:spPr>
          <a:xfrm>
            <a:off x="3924360" y="1700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天子先驱至，不得入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文本框 32776"/>
          <p:cNvSpPr/>
          <p:nvPr/>
        </p:nvSpPr>
        <p:spPr>
          <a:xfrm>
            <a:off x="3780000" y="2133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将军令曰：‘军中闻将军令，不闻天子之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文本框 32777"/>
          <p:cNvSpPr/>
          <p:nvPr/>
        </p:nvSpPr>
        <p:spPr>
          <a:xfrm>
            <a:off x="2971800" y="2590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上至，又不得入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文本框 32778"/>
          <p:cNvSpPr/>
          <p:nvPr/>
        </p:nvSpPr>
        <p:spPr>
          <a:xfrm>
            <a:off x="3851280" y="2997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壁门士吏谓从属车骑曰：“将军约，军中不得驱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文本框 32779"/>
          <p:cNvSpPr/>
          <p:nvPr/>
        </p:nvSpPr>
        <p:spPr>
          <a:xfrm>
            <a:off x="5553000" y="333540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天子乃按辔徐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文本框 32780"/>
          <p:cNvSpPr/>
          <p:nvPr/>
        </p:nvSpPr>
        <p:spPr>
          <a:xfrm>
            <a:off x="3843360" y="3733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将军亚夫持兵揖曰：“  介胄之士不拜，请以军礼见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文本框 32781"/>
          <p:cNvSpPr/>
          <p:nvPr/>
        </p:nvSpPr>
        <p:spPr>
          <a:xfrm>
            <a:off x="3851280" y="4724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天子为动，  改容式车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矩形 32782"/>
          <p:cNvSpPr txBox="1"/>
          <p:nvPr/>
        </p:nvSpPr>
        <p:spPr>
          <a:xfrm rot="5400000">
            <a:off x="1870920" y="1017360"/>
            <a:ext cx="216072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对比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91" name="文本框 32783"/>
          <p:cNvSpPr/>
          <p:nvPr/>
        </p:nvSpPr>
        <p:spPr>
          <a:xfrm>
            <a:off x="3635280" y="5229360"/>
            <a:ext cx="48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周亚夫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真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将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矩形 32787"/>
          <p:cNvSpPr/>
          <p:nvPr/>
        </p:nvSpPr>
        <p:spPr>
          <a:xfrm>
            <a:off x="981000" y="49417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若儿戏 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其将 固可袭而虏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矩形 32789"/>
          <p:cNvSpPr txBox="1"/>
          <p:nvPr/>
        </p:nvSpPr>
        <p:spPr>
          <a:xfrm rot="5400000">
            <a:off x="2229840" y="5094000"/>
            <a:ext cx="216072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衬托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82CA-A1D8-45ED-829F-7AE3946DD7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矩形 106497"/>
          <p:cNvSpPr txBox="1"/>
          <p:nvPr/>
        </p:nvSpPr>
        <p:spPr>
          <a:xfrm>
            <a:off x="1143000" y="213372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场面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96" name="矩形 106498"/>
          <p:cNvSpPr txBox="1"/>
          <p:nvPr/>
        </p:nvSpPr>
        <p:spPr>
          <a:xfrm>
            <a:off x="1295280" y="35053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两种方法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97" name="矩形 106499"/>
          <p:cNvSpPr txBox="1"/>
          <p:nvPr/>
        </p:nvSpPr>
        <p:spPr>
          <a:xfrm>
            <a:off x="1219320" y="4724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三处对比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98" name="矩形 106500"/>
          <p:cNvSpPr txBox="1"/>
          <p:nvPr/>
        </p:nvSpPr>
        <p:spPr>
          <a:xfrm>
            <a:off x="5638680" y="3200400"/>
            <a:ext cx="3124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真将军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1EC-5685-4324-BCD9-0D70FD6335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47680" y="68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评价汉文帝是一个怎样的人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标题 73729"/>
          <p:cNvSpPr/>
          <p:nvPr/>
        </p:nvSpPr>
        <p:spPr>
          <a:xfrm>
            <a:off x="-961920" y="2511360"/>
            <a:ext cx="981684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Verdana"/>
                <a:ea typeface="宋体"/>
              </a:rPr>
              <a:t>汉文帝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r>
              <a:rPr b="1" lang="zh-CN" sz="3400" spc="-1" strike="noStrike">
                <a:solidFill>
                  <a:srgbClr val="ff3399"/>
                </a:solidFill>
                <a:latin typeface="Verdana"/>
                <a:ea typeface="宋体"/>
              </a:rPr>
              <a:t>慧眼识英雄的人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宋体"/>
              </a:rPr>
              <a:t>。大敌当前，他亲自劳军，在细柳营接连受到“非礼”，不但没有发龙威，贬谪周亚夫，反而“称善者久之”，足见汉文帝</a:t>
            </a:r>
            <a:r>
              <a:rPr b="1" lang="zh-CN" sz="3400" spc="-1" strike="noStrike">
                <a:solidFill>
                  <a:srgbClr val="ff3399"/>
                </a:solidFill>
                <a:latin typeface="Verdana"/>
                <a:ea typeface="宋体"/>
              </a:rPr>
              <a:t>是个具有雄才大略，深明大义、爱才、识才、任才、胸怀宽广的明君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B818-DA0E-4657-A6E5-D283E17116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26560" y="556920"/>
            <a:ext cx="344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中心思想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文本框 80898"/>
          <p:cNvSpPr/>
          <p:nvPr/>
        </p:nvSpPr>
        <p:spPr>
          <a:xfrm>
            <a:off x="652320" y="2003400"/>
            <a:ext cx="81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通过汉文帝巡视、慰劳细柳营的场面，表现了周亚夫治军有方、刚正不阿、恪尽职守的“真将军”形象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25CA-C1DB-44CF-8343-86CBB36A3489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528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概括各段大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文本框 64514"/>
          <p:cNvSpPr/>
          <p:nvPr/>
        </p:nvSpPr>
        <p:spPr>
          <a:xfrm flipV="1">
            <a:off x="468360" y="1487880"/>
            <a:ext cx="719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文本框 64515"/>
          <p:cNvSpPr/>
          <p:nvPr/>
        </p:nvSpPr>
        <p:spPr>
          <a:xfrm>
            <a:off x="817920" y="1557360"/>
            <a:ext cx="1003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第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一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第二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第三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文本框 64516"/>
          <p:cNvSpPr/>
          <p:nvPr/>
        </p:nvSpPr>
        <p:spPr>
          <a:xfrm>
            <a:off x="2195640" y="164160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点明背景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匈奴大举入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边关吃紧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周亚夫等将奉命备战戍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64517"/>
          <p:cNvSpPr/>
          <p:nvPr/>
        </p:nvSpPr>
        <p:spPr>
          <a:xfrm>
            <a:off x="2124000" y="3141720"/>
            <a:ext cx="61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课文的中心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集中表现了周亚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的性格特点。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汉文帝劳军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文本框 64518"/>
          <p:cNvSpPr/>
          <p:nvPr/>
        </p:nvSpPr>
        <p:spPr>
          <a:xfrm>
            <a:off x="4065480" y="4869000"/>
            <a:ext cx="270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借文帝之口将霸上、棘门军与周亚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再作对比，进一步衬托了周亚夫“真将军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的风范。（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宋体"/>
              </a:rPr>
              <a:t>汉文帝对周亚夫的评价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55299"/>
          <p:cNvSpPr/>
          <p:nvPr/>
        </p:nvSpPr>
        <p:spPr>
          <a:xfrm>
            <a:off x="-544320" y="2060640"/>
            <a:ext cx="127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周亚夫军细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左大括号 55300"/>
          <p:cNvSpPr/>
          <p:nvPr/>
        </p:nvSpPr>
        <p:spPr>
          <a:xfrm>
            <a:off x="250920" y="549360"/>
            <a:ext cx="1368360" cy="547344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1"/>
                  <a:pt x="10800" y="1802"/>
                </a:cubicBezTo>
                <a:lnTo>
                  <a:pt x="10800" y="8998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1"/>
                  <a:pt x="10800" y="12602"/>
                </a:cubicBezTo>
                <a:lnTo>
                  <a:pt x="10800" y="19798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文本框 55301"/>
          <p:cNvSpPr/>
          <p:nvPr/>
        </p:nvSpPr>
        <p:spPr>
          <a:xfrm>
            <a:off x="714600" y="18900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点明背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左大括号 55302"/>
          <p:cNvSpPr/>
          <p:nvPr/>
        </p:nvSpPr>
        <p:spPr>
          <a:xfrm>
            <a:off x="1763640" y="0"/>
            <a:ext cx="719280" cy="2205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57240 h 2205000"/>
              <a:gd name="textAreaBottom" fmla="*/ 214776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文本框 55303"/>
          <p:cNvSpPr/>
          <p:nvPr/>
        </p:nvSpPr>
        <p:spPr>
          <a:xfrm>
            <a:off x="2124000" y="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匈奴进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文本框 55304"/>
          <p:cNvSpPr/>
          <p:nvPr/>
        </p:nvSpPr>
        <p:spPr>
          <a:xfrm>
            <a:off x="2124000" y="148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边关吃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右大括号 55306"/>
          <p:cNvSpPr/>
          <p:nvPr/>
        </p:nvSpPr>
        <p:spPr>
          <a:xfrm>
            <a:off x="4140360" y="0"/>
            <a:ext cx="144360" cy="2060640"/>
          </a:xfrm>
          <a:custGeom>
            <a:avLst/>
            <a:gdLst>
              <a:gd name="textAreaLeft" fmla="*/ 0 w 144360"/>
              <a:gd name="textAreaRight" fmla="*/ 52200 w 144360"/>
              <a:gd name="textAreaTop" fmla="*/ 53640 h 2060640"/>
              <a:gd name="textAreaBottom" fmla="*/ 2007000 h 20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文本框 55307"/>
          <p:cNvSpPr/>
          <p:nvPr/>
        </p:nvSpPr>
        <p:spPr>
          <a:xfrm>
            <a:off x="4211640" y="404640"/>
            <a:ext cx="194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奉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备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文本框 55308"/>
          <p:cNvSpPr/>
          <p:nvPr/>
        </p:nvSpPr>
        <p:spPr>
          <a:xfrm>
            <a:off x="557640" y="2924280"/>
            <a:ext cx="1277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自劳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左大括号 55309"/>
          <p:cNvSpPr/>
          <p:nvPr/>
        </p:nvSpPr>
        <p:spPr>
          <a:xfrm>
            <a:off x="1547640" y="2492280"/>
            <a:ext cx="720720" cy="2881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文本框 55310"/>
          <p:cNvSpPr/>
          <p:nvPr/>
        </p:nvSpPr>
        <p:spPr>
          <a:xfrm>
            <a:off x="1979640" y="2205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霸上、棘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驱直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文本框 55311"/>
          <p:cNvSpPr/>
          <p:nvPr/>
        </p:nvSpPr>
        <p:spPr>
          <a:xfrm>
            <a:off x="1364040" y="357336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细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左大括号 55312"/>
          <p:cNvSpPr/>
          <p:nvPr/>
        </p:nvSpPr>
        <p:spPr>
          <a:xfrm>
            <a:off x="2411280" y="2852640"/>
            <a:ext cx="792360" cy="2592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文本框 55313"/>
          <p:cNvSpPr/>
          <p:nvPr/>
        </p:nvSpPr>
        <p:spPr>
          <a:xfrm>
            <a:off x="2916360" y="270828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先驱不得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文本框 55314"/>
          <p:cNvSpPr/>
          <p:nvPr/>
        </p:nvSpPr>
        <p:spPr>
          <a:xfrm>
            <a:off x="2843280" y="3284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不闻天子之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55315"/>
          <p:cNvSpPr/>
          <p:nvPr/>
        </p:nvSpPr>
        <p:spPr>
          <a:xfrm>
            <a:off x="2771640" y="38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天子不得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文本框 55316"/>
          <p:cNvSpPr/>
          <p:nvPr/>
        </p:nvSpPr>
        <p:spPr>
          <a:xfrm>
            <a:off x="2700360" y="44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天子按辔徐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文本框 55317"/>
          <p:cNvSpPr/>
          <p:nvPr/>
        </p:nvSpPr>
        <p:spPr>
          <a:xfrm>
            <a:off x="2987640" y="508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亚夫持兵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右大括号 55318"/>
          <p:cNvSpPr/>
          <p:nvPr/>
        </p:nvSpPr>
        <p:spPr>
          <a:xfrm>
            <a:off x="7093080" y="2421000"/>
            <a:ext cx="215640" cy="2952720"/>
          </a:xfrm>
          <a:custGeom>
            <a:avLst/>
            <a:gdLst>
              <a:gd name="textAreaLeft" fmla="*/ 0 w 215640"/>
              <a:gd name="textAreaRight" fmla="*/ 77760 w 2156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文本框 55319"/>
          <p:cNvSpPr/>
          <p:nvPr/>
        </p:nvSpPr>
        <p:spPr>
          <a:xfrm>
            <a:off x="7240320" y="31417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对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文本框 55320"/>
          <p:cNvSpPr/>
          <p:nvPr/>
        </p:nvSpPr>
        <p:spPr>
          <a:xfrm>
            <a:off x="1547640" y="566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帝之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赞周亚夫“此真将军矣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右大括号 55321"/>
          <p:cNvSpPr/>
          <p:nvPr/>
        </p:nvSpPr>
        <p:spPr>
          <a:xfrm>
            <a:off x="7667640" y="549360"/>
            <a:ext cx="576360" cy="5688000"/>
          </a:xfrm>
          <a:custGeom>
            <a:avLst/>
            <a:gdLst>
              <a:gd name="textAreaLeft" fmla="*/ 0 w 576360"/>
              <a:gd name="textAreaRight" fmla="*/ 208080 w 576360"/>
              <a:gd name="textAreaTop" fmla="*/ 147960 h 5688000"/>
              <a:gd name="textAreaBottom" fmla="*/ 554004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文本框 55322"/>
          <p:cNvSpPr/>
          <p:nvPr/>
        </p:nvSpPr>
        <p:spPr>
          <a:xfrm>
            <a:off x="7699680" y="0"/>
            <a:ext cx="12776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治军有方，刚正不阿，恪尽职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52225"/>
          <p:cNvSpPr/>
          <p:nvPr/>
        </p:nvSpPr>
        <p:spPr>
          <a:xfrm>
            <a:off x="0" y="533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司马迁，字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子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西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，是伟大的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历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史学家和文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他年轻时漫游全国各地，丰富了阅历，了解了社会。汉武帝元封三年，其父司马谈去世，他继任太史令，开始广泛阅读史料，着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写作。后因替投降匈奴的汉将李陵辩护被捕下狱，受到宫刑。出狱后，满怀悲愤，以极大的毅力，继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编写，公元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书成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是我国第一部纪传体通史，又是文学名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史家之绝唱，无韵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离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9E58-B085-4C94-B824-9C767D3FDB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文本框 110593"/>
          <p:cNvSpPr/>
          <p:nvPr/>
        </p:nvSpPr>
        <p:spPr>
          <a:xfrm>
            <a:off x="762120" y="21337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细柳”、“细柳营”、“细柳兵”等成了后人用来比喻军纪严明的典故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文本框 110594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棘门霸上”则成了比喻军纪松弛的典故。</a:t>
            </a:r>
            <a:r>
              <a:rPr b="0" lang="zh-CN" sz="40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矩形 110595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知识延展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周亚夫 身上你学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谈谈周亚夫精神的现实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今时代，每一位领导干部、国家公务员，甚至工程设计师、一线工人等等他们的工作岗位就是一道“防线”，只要发扬周亚夫的这种敬业精神，恪尽职守，敬业乐业，我们的事业终会取得辉煌的成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图片 34819" descr="t015541dc247caaf7f1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时期也不乏周亚夫式的人物。无论是在领导岗位上的孔繁森、郑培民、谷文昌，还是在平凡工作岗位上的李素丽、张秉贵、徐虎，以及千千万万个默默无闻的“周亚夫”，他们忧国忧民，是中华民族的中流砥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图片 35843" descr="t01a5f009956a8795d0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自古以来，不论哪一代君王，要想治国安民，立法严纪是他们的首要之选。如果没有纪律，国家何以繁荣昌盛；如果没有纪律，社会何以安定有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俗话说：“没有规矩，不成方圆。”我们在校应认真遵守纪律，做一名优秀的中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图片 36867" descr="t01681dc9f9801f6c37"/>
          <p:cNvPicPr/>
          <p:nvPr/>
        </p:nvPicPr>
        <p:blipFill>
          <a:blip r:embed="rId1"/>
          <a:stretch/>
        </p:blipFill>
        <p:spPr>
          <a:xfrm>
            <a:off x="4859280" y="5373720"/>
            <a:ext cx="4284720" cy="14842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36868" descr="t01a0e476fbf64dfda5"/>
          <p:cNvPicPr/>
          <p:nvPr/>
        </p:nvPicPr>
        <p:blipFill>
          <a:blip r:embed="rId2"/>
          <a:stretch/>
        </p:blipFill>
        <p:spPr>
          <a:xfrm>
            <a:off x="0" y="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4505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矩形 45059"/>
          <p:cNvSpPr/>
          <p:nvPr/>
        </p:nvSpPr>
        <p:spPr>
          <a:xfrm>
            <a:off x="0" y="319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是我国第一部纪传体通史，开创了纪传体和书表的编写体例。全书一百三十篇，包括十二本纪（记历代帝王政迹）、八书（记各种典章制度）、十表（记大事年月）、三十世家（主要叙述贵族侯王的历史）、七十列传（主要是各种不同类型、不同阶层人物的传记）五个部分，共五十二万字。记载了从黄帝到汉武帝长达三千年的政治、经济和文化的历史，比较全面而深刻地反映了我国古代的社会面貌，对后世史学研究有深远影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文本框 44034"/>
          <p:cNvSpPr/>
          <p:nvPr/>
        </p:nvSpPr>
        <p:spPr>
          <a:xfrm>
            <a:off x="3706200" y="98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作品介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A28-BCAA-4A51-9A31-109E77B41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图片 46081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矩形 4608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矩形 46083"/>
          <p:cNvSpPr/>
          <p:nvPr/>
        </p:nvSpPr>
        <p:spPr>
          <a:xfrm>
            <a:off x="3699360" y="259560"/>
            <a:ext cx="11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【题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解】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矩形 46084"/>
          <p:cNvSpPr/>
          <p:nvPr/>
        </p:nvSpPr>
        <p:spPr>
          <a:xfrm>
            <a:off x="0" y="3119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本文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史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绛侯周勃世家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的一节。绛侯周勃是汉开国功臣。诸吕危刘时，他与丞相陈平共谋诛诸吕，立孝文皇帝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周亚夫是周勃之子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，先为河内守，以贤封为侯。历仕文帝、景帝两朝，曾任河内郡太守、中尉、太尉、丞相等职。以善于将兵、直言持正著称。后因得罪景帝下狱，绝食而死。本文即记载他为河内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驻军细柳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的一段事迹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09A-0288-4A2D-8BB9-4E2E745EAB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图片 47105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矩形 4710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文本框 47107"/>
          <p:cNvSpPr/>
          <p:nvPr/>
        </p:nvSpPr>
        <p:spPr>
          <a:xfrm>
            <a:off x="1335960" y="1528200"/>
            <a:ext cx="789840" cy="355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将军周亚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图片 47108" descr="周亚夫"/>
          <p:cNvPicPr/>
          <p:nvPr/>
        </p:nvPicPr>
        <p:blipFill>
          <a:blip r:embed="rId2"/>
          <a:stretch/>
        </p:blipFill>
        <p:spPr>
          <a:xfrm>
            <a:off x="2771640" y="333360"/>
            <a:ext cx="464688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5C9D-00DD-478C-A243-54209613CE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背景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汉文帝后六年（公元前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158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年），匈奴入侵，烧杀劫掠，形势严峻。为了加强防卫，汉朝委派刘、徐、周三位将军分别驻扎在霸上、棘门、细柳。这三处地方离国都长安较近，汉文帝就到这三处慰劳军队。本文就是汉文帝劳军的记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7CE4-91F2-43CE-A874-57787CFD2B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图片 94209" descr="EJ076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4210"/>
          <p:cNvSpPr/>
          <p:nvPr/>
        </p:nvSpPr>
        <p:spPr>
          <a:xfrm>
            <a:off x="2032920" y="522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读准字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文本框 94211"/>
          <p:cNvSpPr/>
          <p:nvPr/>
        </p:nvSpPr>
        <p:spPr>
          <a:xfrm>
            <a:off x="1219320" y="1752480"/>
            <a:ext cx="59436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棘                        彀                         弩                        辔                          胄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嗟                      曩                        被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诏                       车骑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文本框 94212"/>
          <p:cNvSpPr/>
          <p:nvPr/>
        </p:nvSpPr>
        <p:spPr>
          <a:xfrm>
            <a:off x="2057400" y="17524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ungsuhChe"/>
                <a:ea typeface="GungsuhChe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GungsuhChe"/>
                <a:ea typeface="GungsuhChe"/>
              </a:rPr>
              <a:t>jí</a:t>
            </a:r>
            <a:r>
              <a:rPr b="0" lang="zh-CN" sz="4400" spc="-1" strike="noStrike">
                <a:solidFill>
                  <a:srgbClr val="ff0000"/>
                </a:solidFill>
                <a:latin typeface="GungsuhChe"/>
                <a:ea typeface="GungsuhChe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文本框 94213"/>
          <p:cNvSpPr/>
          <p:nvPr/>
        </p:nvSpPr>
        <p:spPr>
          <a:xfrm>
            <a:off x="6324480" y="1676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ungsuh"/>
                <a:ea typeface="Gungsuh"/>
              </a:rPr>
              <a:t>(gòu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文本框 94214"/>
          <p:cNvSpPr/>
          <p:nvPr/>
        </p:nvSpPr>
        <p:spPr>
          <a:xfrm>
            <a:off x="2057400" y="25146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ungsuh"/>
                <a:ea typeface="Gungsuh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ǔ</a:t>
            </a:r>
            <a:r>
              <a:rPr b="0" lang="zh-CN" sz="4400" spc="-1" strike="noStrike">
                <a:solidFill>
                  <a:srgbClr val="ff0000"/>
                </a:solidFill>
                <a:latin typeface="Gungsuh"/>
                <a:ea typeface="Gungsuh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文本框 94215"/>
          <p:cNvSpPr/>
          <p:nvPr/>
        </p:nvSpPr>
        <p:spPr>
          <a:xfrm>
            <a:off x="6477120" y="24382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(pè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文本框 94216"/>
          <p:cNvSpPr/>
          <p:nvPr/>
        </p:nvSpPr>
        <p:spPr>
          <a:xfrm>
            <a:off x="2057400" y="3200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(zhòu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文本框 94217"/>
          <p:cNvSpPr/>
          <p:nvPr/>
        </p:nvSpPr>
        <p:spPr>
          <a:xfrm>
            <a:off x="6553080" y="32004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(jiē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文本框 94218"/>
          <p:cNvSpPr/>
          <p:nvPr/>
        </p:nvSpPr>
        <p:spPr>
          <a:xfrm>
            <a:off x="1981080" y="40384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ungsuh"/>
                <a:ea typeface="Gungsuh"/>
              </a:rPr>
              <a:t>(nǎng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文本框 94219"/>
          <p:cNvSpPr/>
          <p:nvPr/>
        </p:nvSpPr>
        <p:spPr>
          <a:xfrm>
            <a:off x="6692400" y="396252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pī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文本框 94220"/>
          <p:cNvSpPr/>
          <p:nvPr/>
        </p:nvSpPr>
        <p:spPr>
          <a:xfrm>
            <a:off x="2210040" y="5105520"/>
            <a:ext cx="16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(zh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文本框 94221"/>
          <p:cNvSpPr/>
          <p:nvPr/>
        </p:nvSpPr>
        <p:spPr>
          <a:xfrm>
            <a:off x="6783120" y="5105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jì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矩形 94222"/>
          <p:cNvSpPr/>
          <p:nvPr/>
        </p:nvSpPr>
        <p:spPr>
          <a:xfrm>
            <a:off x="1235160" y="5753160"/>
            <a:ext cx="12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祝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矩形 94223"/>
          <p:cNvSpPr/>
          <p:nvPr/>
        </p:nvSpPr>
        <p:spPr>
          <a:xfrm>
            <a:off x="3389040" y="5753160"/>
            <a:ext cx="13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作揖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y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0:08:00Z</dcterms:created>
  <dc:creator>office1</dc:creator>
  <dc:description/>
  <dc:language>en-US</dc:language>
  <cp:lastModifiedBy>Administrator</cp:lastModifiedBy>
  <dcterms:modified xsi:type="dcterms:W3CDTF">2019-11-26T14:18:52Z</dcterms:modified>
  <cp:revision>201</cp:revision>
  <dc:subject/>
  <dc:title>周亚夫军细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75</vt:lpwstr>
  </property>
</Properties>
</file>