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13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11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6BAD-1385-4CD6-A750-6B48B7074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C8EE-7966-4FC4-9B18-B25E7DEED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608-D3C1-4221-8454-3D9ACA32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3D3-ABAB-4F7A-9F9F-3234FB0D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CA5-09F7-4F27-BB74-527F9B88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52E-7CB7-40F0-BE84-24948012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0DE-9F5A-4793-B448-9553F20A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D5D-592E-4779-8C93-DA678F04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236-B337-4315-A42D-855A82F2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25F-F9B2-42E3-95DC-3775CCB8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E2C-1147-474D-849E-7FCFB8B0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301-E20F-46B1-83D7-B3A549C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B14-A490-40BA-A4E8-D9C26001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1D9-02D2-4967-B40F-391D8691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DA89-869E-4668-97EA-2DA9E2D02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托尔斯泰1"/>
          <p:cNvPicPr/>
          <p:nvPr/>
        </p:nvPicPr>
        <p:blipFill>
          <a:blip r:embed="rId1"/>
          <a:stretch/>
        </p:blipFill>
        <p:spPr>
          <a:xfrm>
            <a:off x="304920" y="228600"/>
            <a:ext cx="4033800" cy="5589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826920" y="60213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842080" y="0"/>
            <a:ext cx="4586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托尔斯泰2"/>
          <p:cNvPicPr/>
          <p:nvPr/>
        </p:nvPicPr>
        <p:blipFill>
          <a:blip r:embed="rId2"/>
          <a:stretch/>
        </p:blipFill>
        <p:spPr>
          <a:xfrm>
            <a:off x="4343400" y="228600"/>
            <a:ext cx="4521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333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遵照他的遗言，遗体安葬在森林中，坟上没有竖立墓碑和十字架，茨威格称之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界最美丽的坟墓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托尔斯泰墓"/>
          <p:cNvPicPr/>
          <p:nvPr/>
        </p:nvPicPr>
        <p:blipFill>
          <a:blip r:embed="rId1"/>
          <a:stretch/>
        </p:blipFill>
        <p:spPr>
          <a:xfrm>
            <a:off x="3162240" y="2373480"/>
            <a:ext cx="5518080" cy="340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ome0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5965920"/>
            <a:ext cx="914400" cy="89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xin_3ed1d8a4ba4a4f5a9ae3329958207e03_c5s606bs"/>
          <p:cNvPicPr/>
          <p:nvPr/>
        </p:nvPicPr>
        <p:blipFill>
          <a:blip r:embed="rId4"/>
          <a:stretch/>
        </p:blipFill>
        <p:spPr>
          <a:xfrm>
            <a:off x="131760" y="2190600"/>
            <a:ext cx="2705040" cy="377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4920" y="380880"/>
            <a:ext cx="7467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、掌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肖像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托尔斯泰的伟大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094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tolstoy"/>
          <p:cNvPicPr/>
          <p:nvPr/>
        </p:nvPicPr>
        <p:blipFill>
          <a:blip r:embed="rId1"/>
          <a:stretch/>
        </p:blipFill>
        <p:spPr>
          <a:xfrm>
            <a:off x="5486400" y="762120"/>
            <a:ext cx="350532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251000" y="4114800"/>
            <a:ext cx="296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速读课文，找出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托尔斯泰的外貌描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28600" y="3124080"/>
            <a:ext cx="3962520" cy="685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即行动快速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026"/>
          <p:cNvSpPr/>
          <p:nvPr/>
        </p:nvSpPr>
        <p:spPr>
          <a:xfrm>
            <a:off x="0" y="260280"/>
            <a:ext cx="9144000" cy="63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须发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 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浓密的胡髭        长髯覆盖了两颊，遮住了嘴唇，遮住了皱似树皮的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脸膛，一根根迎风飘动，颇有长者风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绺绺灰白的鬈发像泡沫一样堆在额头上，不管从哪个角度看，你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见到热带森林般茂密的须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那天父般的犹如卷起的滔滔白浪的大胡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眉毛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宽约一指的眉毛像纠缠不清的树根，朝上倒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额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是用枝条扎成的村舍外墙那样粗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皮肤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皮肤藏污纳垢，缺少光泽，就像用枝条扎成的村舍外墙那样粗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鼻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只宽宽的、两孔朝天的狮子鼻，仿佛被人一拳打塌了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表情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副劳动者的忧郁面孔上笼罩着消沉的阴影，滞留着愚钝和压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面容没有一点光彩可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长相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拥有一张俄国普通大众的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身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矮小敦实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目光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豹似的目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枪弹穿透了伪装的甲胄，它像金刚刀切开了玻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是出现在人类面部最富有感情的一对眼睛，可以抒发各种各样的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29"/>
          <p:cNvSpPr/>
          <p:nvPr/>
        </p:nvSpPr>
        <p:spPr>
          <a:xfrm>
            <a:off x="6443640" y="1628640"/>
            <a:ext cx="2700360" cy="13737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托尔斯泰外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各部分最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的特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50920" y="189000"/>
            <a:ext cx="12967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09600" y="990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209600" y="15238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174680" y="20574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209600" y="2637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197000" y="3581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274760" y="5029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2298600" y="4343400"/>
            <a:ext cx="216000" cy="187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2643120" y="838080"/>
            <a:ext cx="352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毛的脸庞、浓密的胡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666880" y="1476360"/>
            <a:ext cx="35053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调、崎岖、平庸、粗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2666880" y="2133720"/>
            <a:ext cx="350532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、消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2666880" y="2771640"/>
            <a:ext cx="350532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大众的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2716200" y="3581280"/>
            <a:ext cx="345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小敦实、侏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2759040" y="441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2819520" y="56386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丰富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1"/>
          <p:cNvSpPr/>
          <p:nvPr/>
        </p:nvSpPr>
        <p:spPr>
          <a:xfrm>
            <a:off x="6629400" y="152280"/>
            <a:ext cx="2362320" cy="1676520"/>
          </a:xfrm>
          <a:prstGeom prst="cloudCallout">
            <a:avLst>
              <a:gd name="adj1" fmla="val -31990"/>
              <a:gd name="adj2" fmla="val 75472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6934320" y="457200"/>
            <a:ext cx="19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托尔斯泰外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各部分最突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姚体"/>
              </a:rPr>
              <a:t>的特点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026"/>
          <p:cNvSpPr/>
          <p:nvPr/>
        </p:nvSpPr>
        <p:spPr>
          <a:xfrm>
            <a:off x="152280" y="228600"/>
            <a:ext cx="8915400" cy="63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须发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 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浓密的胡髭        长髯覆盖了两颊，遮住了嘴唇，遮住了皱似树皮的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脸膛，一根根迎风飘动，颇有长者风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绺绺灰白的鬈发像泡沫一样堆在额头上，不管从哪个角度看，你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见到热带森林般茂密的须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那天父般的犹如卷起的滔滔白浪的大胡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眉毛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宽约一指的眉毛像纠缠不清的树根，朝上倒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额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是用枝条扎成的村舍外墙那样粗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皮肤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皮肤藏污纳垢，缺少光泽，就像用枝条扎成的村舍外墙那样粗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鼻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只宽宽的、两孔朝天的狮子鼻，仿佛被人一拳打塌了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表情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副劳动者的忧郁面孔上笼罩着消沉的阴影，滞留着愚钝和压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面容没有一点光彩可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长相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拥有一张俄国普通大众的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身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矮小敦实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目光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豹似的目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枪弹穿透了伪装的甲胄，它像金刚刀切开了玻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是出现在人类面部最富有感情的一对眼睛，可以抒发各种各样的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6400800" y="1598760"/>
            <a:ext cx="2514600" cy="520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画出外貌描写中运用修辞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755640" y="981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夸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描写人或事物时，故意言过其实，尽量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扩大或缩小的描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152280" y="76320"/>
            <a:ext cx="1944720" cy="907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喻、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79280" y="1773360"/>
            <a:ext cx="87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眉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宽约一指的眉毛像纠缠不清的树根，朝上倒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须发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绺绺灰白的鬈发像泡沫一样堆在额头上，不管从哪个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度看，你都能见到热带森林般茂密的须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那天父般的犹如卷起的滔滔白浪的大胡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额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是用枝条扎成的村舍外墙那样粗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皮肤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皮肤藏污纳垢，缺少光泽，就像用枝条扎成的村舍外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样粗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鼻子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只宽宽的、两孔朝天的狮子鼻，仿佛被人一拳打塌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目光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枪弹穿透了伪装的甲胄，它像金刚刀切开了玻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340000" y="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修辞效果：形象鲜明，特征突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	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方正综艺简体"/>
              </a:rPr>
              <a:t>喻意深刻，韵味无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50920" y="189000"/>
            <a:ext cx="12967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23800" y="990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33520" y="15238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20574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26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3520" y="3581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09480" y="49528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1523880" y="4343400"/>
            <a:ext cx="216000" cy="187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676520" y="838080"/>
            <a:ext cx="352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毛的脸庞、浓密的胡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676520" y="1476360"/>
            <a:ext cx="35049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调、崎岖、平庸、粗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676520" y="2133720"/>
            <a:ext cx="350496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、消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676520" y="2743200"/>
            <a:ext cx="35049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大众的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1725480" y="3581280"/>
            <a:ext cx="345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小敦实、侏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073240" y="43434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057400" y="56386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丰富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5486400" y="685800"/>
            <a:ext cx="3276720" cy="1828800"/>
          </a:xfrm>
          <a:prstGeom prst="cloudCallout">
            <a:avLst>
              <a:gd name="adj1" fmla="val -32750"/>
              <a:gd name="adj2" fmla="val 88629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6440040" y="1095480"/>
            <a:ext cx="14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在课文前半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描写托尔斯泰平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甚至丑陋的外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5302080" y="3809880"/>
            <a:ext cx="3613320" cy="11912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他平庸甚至丑陋的外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为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反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灵魂的高贵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衬他的眼睛精美绝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50920" y="189000"/>
            <a:ext cx="173016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3800" y="990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33520" y="15238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3520" y="20574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33520" y="26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3520" y="3581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9480" y="49528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1523880" y="4343400"/>
            <a:ext cx="216000" cy="187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676520" y="838080"/>
            <a:ext cx="352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毛的脸庞、浓密的胡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676520" y="1476360"/>
            <a:ext cx="35049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调、崎岖、平庸、粗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676520" y="2133720"/>
            <a:ext cx="350496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、消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1676520" y="2743200"/>
            <a:ext cx="35049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大众的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1725480" y="3581280"/>
            <a:ext cx="345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小敦实、侏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2073240" y="43434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057400" y="56386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丰富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6019920" y="152280"/>
            <a:ext cx="167616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写手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6172200" y="1600200"/>
            <a:ext cx="1150920" cy="115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172200" y="4800600"/>
            <a:ext cx="1150920" cy="122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6553080" y="2971800"/>
            <a:ext cx="360360" cy="1584360"/>
          </a:xfrm>
          <a:prstGeom prst="downArrow">
            <a:avLst>
              <a:gd name="adj1" fmla="val 50000"/>
              <a:gd name="adj2" fmla="val 10991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5562720" y="762120"/>
            <a:ext cx="304560" cy="3200400"/>
          </a:xfrm>
          <a:custGeom>
            <a:avLst/>
            <a:gdLst>
              <a:gd name="textAreaLeft" fmla="*/ 0 w 304560"/>
              <a:gd name="textAreaRight" fmla="*/ 109800 w 3045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托尔斯泰"/>
          <p:cNvPicPr/>
          <p:nvPr/>
        </p:nvPicPr>
        <p:blipFill>
          <a:blip r:embed="rId1"/>
          <a:stretch/>
        </p:blipFill>
        <p:spPr>
          <a:xfrm>
            <a:off x="179280" y="1268280"/>
            <a:ext cx="2487600" cy="4523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1"/>
          <p:cNvSpPr/>
          <p:nvPr/>
        </p:nvSpPr>
        <p:spPr>
          <a:xfrm>
            <a:off x="179280" y="260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肖像描写的技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3945240" y="1600200"/>
            <a:ext cx="3472560" cy="22885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一、运用了大量的比喻和夸张的修辞手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二、先抑后扬的手法：用伟人平庸丑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的外表来反衬其眼睛的神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98560" y="838080"/>
            <a:ext cx="1247400" cy="520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研读与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52800" y="19810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第二部分是从哪几个方面来描写托尔斯泰的眼睛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31920" y="312408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犀利的目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眼睛里蕴藏着丰富的感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眼睛的威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赞美他犀利的目光，同时揭示他人生的不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茨威格2"/>
          <p:cNvPicPr/>
          <p:nvPr/>
        </p:nvPicPr>
        <p:blipFill>
          <a:blip r:embed="rId1"/>
          <a:stretch/>
        </p:blipFill>
        <p:spPr>
          <a:xfrm>
            <a:off x="179280" y="3284640"/>
            <a:ext cx="1573200" cy="250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茨威格1"/>
          <p:cNvPicPr/>
          <p:nvPr/>
        </p:nvPicPr>
        <p:blipFill>
          <a:blip r:embed="rId2"/>
          <a:stretch/>
        </p:blipFill>
        <p:spPr>
          <a:xfrm>
            <a:off x="5724360" y="404640"/>
            <a:ext cx="2657520" cy="3786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638680" y="441972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斯蒂芬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华文行楷"/>
              </a:rPr>
              <a:t>·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茨威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05120" y="2819520"/>
            <a:ext cx="38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的写作成就以小说和人物传记见著。他为著名文学和历史人物所作的评论和传记，使他享有很高的声誉。代表作有小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最初的经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11280" y="62064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斯蒂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茨威格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8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奥地利著名小说家、传记作家，出身于富裕的犹太家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726360" y="5445000"/>
            <a:ext cx="226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陌生女人的来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84360" y="5943600"/>
            <a:ext cx="84596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位大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罗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罗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505320" cy="990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疑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心灵感受 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用头脑思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道目光就像一把锃亮的钢刀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来，又稳又准，击中要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托尔斯泰这对眼睛里有一百只眼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对珠宝有魔力，有磁性，可以把人世间的物质吸进去，然后向我们这个时代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放射出精确无误的频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这一副寒光四射的匕首转而对它们的主人时是十分可怕的，因为锋刃无情，直戳要害，正好刺中了他的心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638680" y="0"/>
            <a:ext cx="2743200" cy="1676520"/>
          </a:xfrm>
          <a:prstGeom prst="cloudCallout">
            <a:avLst>
              <a:gd name="adj1" fmla="val -75578"/>
              <a:gd name="adj2" fmla="val 7395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458760" y="228600"/>
            <a:ext cx="11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师的语言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且含义深刻，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否都懂了，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出你的疑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781280" y="3784680"/>
            <a:ext cx="547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写出托尔斯泰目光犀利深刻，具有准确的洞察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高尔基这句话运用夸张恰当地，很好地道出了托尔斯泰那种能把万事万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尽收眼底的全方位的观察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托尔斯泰的文学创作，既来自于对社会生活，人间世态的观察、研究，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时又用他的艺术巨笔把它们准确地表现出来，展示了时代的本质和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这句话写出了托尔斯泰作为“清醒的现实主义”作家，对现实的批判是极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深刻而准确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8"/>
          <p:cNvSpPr/>
          <p:nvPr/>
        </p:nvSpPr>
        <p:spPr>
          <a:xfrm>
            <a:off x="533520" y="838080"/>
            <a:ext cx="1828800" cy="5814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俄罗斯1"/>
          <p:cNvPicPr/>
          <p:nvPr/>
        </p:nvPicPr>
        <p:blipFill>
          <a:blip r:embed="rId1"/>
          <a:stretch/>
        </p:blipFill>
        <p:spPr>
          <a:xfrm>
            <a:off x="5029200" y="228600"/>
            <a:ext cx="3886200" cy="1523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2125440" y="1992240"/>
            <a:ext cx="47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一方面说托尔斯泰“可以任意支配整个世界及其知识财富”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见他是幸福的；但另一方面又说他得不到“属于自已的那一份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福”，这是否矛盾？你怎样理解作者所说的“幸福”的含义？联系托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斯泰的生平（主要是晚年的思想变化）讨论明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124000" y="3505320"/>
            <a:ext cx="4673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具有这种犀利目光，能够看清真相的人，可以任意支配整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世界及其知识财富”，这是说这样的人可以成为整个世界及其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财富的主宰和主人。而”能够看清真相的人“常常是痛苦的，如托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斯泰看透了暴政、丑恶、虚伪和苦难，也看清了造成人间种种罪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的原因，并尽其自己毕生的努力去改变它，但总是事与愿违，所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他痛苦。晚年的托尔斯泰厌弃贵族生活，决然放弃财产，以致和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人产生矛盾，最后毅然离家出走，而客死于途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7238880" y="5715000"/>
            <a:ext cx="9144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>
            <a:hlinkClick r:id="rId2" action="ppaction://hlinksldjump"/>
          </p:cNvPr>
          <p:cNvSpPr/>
          <p:nvPr/>
        </p:nvSpPr>
        <p:spPr>
          <a:xfrm>
            <a:off x="7438680" y="5722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生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茨威格2"/>
          <p:cNvPicPr/>
          <p:nvPr/>
        </p:nvPicPr>
        <p:blipFill>
          <a:blip r:embed="rId1"/>
          <a:stretch/>
        </p:blipFill>
        <p:spPr>
          <a:xfrm>
            <a:off x="6880320" y="171360"/>
            <a:ext cx="2012760" cy="28098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Picture 3" descr="茨威格4"/>
          <p:cNvPicPr/>
          <p:nvPr/>
        </p:nvPicPr>
        <p:blipFill>
          <a:blip r:embed="rId2"/>
          <a:stretch/>
        </p:blipFill>
        <p:spPr>
          <a:xfrm>
            <a:off x="181080" y="171360"/>
            <a:ext cx="1815840" cy="279576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" name="Rectangle 4"/>
          <p:cNvSpPr/>
          <p:nvPr/>
        </p:nvSpPr>
        <p:spPr>
          <a:xfrm>
            <a:off x="2203560" y="282600"/>
            <a:ext cx="45720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后去世界各地游历，结识罗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罗兰和罗丹等人，并受到他们的影响。第一次世界大战时从事反战工作，成为著名的和平主义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81080" y="3635280"/>
            <a:ext cx="460044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十年代赴苏联，认识了高尔基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遭纳粹驱逐，先后流亡英国、巴西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94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在孤寂与感觉理想破灭中与妻子双双自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茨威格与高尔基"/>
          <p:cNvPicPr/>
          <p:nvPr/>
        </p:nvPicPr>
        <p:blipFill>
          <a:blip r:embed="rId3"/>
          <a:srcRect l="0" t="0" r="20" b="92"/>
          <a:stretch/>
        </p:blipFill>
        <p:spPr>
          <a:xfrm>
            <a:off x="5240160" y="3417840"/>
            <a:ext cx="3375360" cy="301644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世俄国最伟大的作家。出生于贵族家庭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4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退学回故乡在自己领地上作改革农奴制的尝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在高加索军队中服役并开始写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五、六十年代托尔斯泰看到资本主义社会重重矛盾，但找不到消灭社会罪恶的途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52280" y="1676520"/>
            <a:ext cx="75438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6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托尔斯泰创作了长篇历史小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战争与和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这是其          创作历程中的第一个里程碑。小说结构宏大，人物众多，典型形象鲜活饱满，是一部具有史诗和编年史特色的鸿篇巨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他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修改，完成其第二部里程碑式巨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安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卡列尼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小说艺术已达炉火纯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52280" y="3352680"/>
            <a:ext cx="7315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托尔斯泰晚年力求过简朴的平民生活，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代中期开始，托尔斯泰增强了对社会现实的批判态度，对自己宣传的博爱而不抗恶的思想也常常感到怀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创作的长篇小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他长期思想、艺术探索的总结，也是对俄国社会批判最全面深刻、有力的一部著作，成为世界文学不朽名著之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皇政府早就因他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论饥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文而企图将他监禁或流放，但摄于他的声望和社会舆论而中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52280" y="52578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写信给日皇和沙皇反对日俄战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决意放弃财产，从家中独自出走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病逝于一个小站，享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，一代文学巨匠走完其人生旅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638480" y="228600"/>
            <a:ext cx="911880" cy="44496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列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托尔斯泰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828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910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托尔斯泰2"/>
          <p:cNvPicPr/>
          <p:nvPr/>
        </p:nvPicPr>
        <p:blipFill>
          <a:blip r:embed="rId1"/>
          <a:stretch/>
        </p:blipFill>
        <p:spPr>
          <a:xfrm>
            <a:off x="7772400" y="5029200"/>
            <a:ext cx="13716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花边2"/>
          <p:cNvPicPr/>
          <p:nvPr/>
        </p:nvPicPr>
        <p:blipFill>
          <a:blip r:embed="rId1"/>
          <a:stretch/>
        </p:blipFill>
        <p:spPr>
          <a:xfrm>
            <a:off x="3200400" y="304920"/>
            <a:ext cx="4826160" cy="380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花边1"/>
          <p:cNvPicPr/>
          <p:nvPr/>
        </p:nvPicPr>
        <p:blipFill>
          <a:blip r:embed="rId2"/>
          <a:stretch/>
        </p:blipFill>
        <p:spPr>
          <a:xfrm rot="454800">
            <a:off x="152280" y="2663640"/>
            <a:ext cx="5042160" cy="4041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2628000" y="1814400"/>
            <a:ext cx="31068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隶书"/>
              </a:rPr>
              <a:t>《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重读大师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隶书"/>
              </a:rPr>
              <a:t>》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一书中王祥夫著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说：“读托尔斯泰的小说，总似乎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人能听到一种深深的叹息，感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作家在无情地鞭挞着人类的灵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而同时，也能让你感到他对人的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隶书"/>
              </a:rPr>
              <a:t>深的爱，一切都基于深深的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85480" y="285480"/>
            <a:ext cx="8443800" cy="72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出生在俄国的土地上，他的家族有暄赫的历史，父亲有世袭的爵位，母亲是公爵的独生女儿，所以他是个天生的贵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他的一生并不因他的贵族身份而骄傲，反而受此困扰并无比痛苦。他的信仰注定了他的痛苦。他渴望改革俄国不合理的农奴制度，他想把自己的私人财产分给农民，然后像一个普通人那样去生活，他是这样想的，也是这样做的。他放弃了上流社会生活的风雅和排场，像一个农民一样亲自参加劳动。他的信仰和行为直接导致了妻子的不解，最终爆发了家庭危机，夫妇分家，因此他有了一段不幸的婚姻。分家后他把自己现有的著作权和稿费无条件转让或捐出，自己几乎身无分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的家曾经是革命者的避难所，是难民的收容所，是改革家的聚会所，也因此他不仅失去了家庭的幸福，更遭到了几乎整个贵族阶级的排斥，因为他的特立独行是对贵族阶层和统治阶级的反叛和宣战，因此他差点被流放，幸亏是民众的舆论阻止了政府荒唐的行为，然而他最终没有逃脱被开除教籍的命运。他在民众心中是一座丰碑，在统治者眼中却是一颗危险的炸弹，是一把锋利的匕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是一个贵族中的一个精神叛逆者，又是一个觉醒了的精神贵族。列宁曾经评价他“是俄国革命的镜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资产阶级虚伪腐化的认识和批判，对自身信仰的追寻和探索，使得他痛苦，矛盾，孤独，曾经两次离家出走，一次走到一半就回来了，因为他的妻子要生他们最后一个女儿，最后一次离家出走，却让他永远的离开了这个世界。生命的最后一个黎明他看到的不是家乡的风景，而是孤零零躺在异乡一个小火车站站长家的小床上，看着窗外那将亮未亮的天空。他生命的最后遗言不是说给妻子儿女的，是说给这个世界的，他说：“我爱真理。”他的一生，就是在焦虑与不安、对真理紧张不断地求索和勤奋创作中度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他走完了自己的一生。留给我们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的文集，驰骋俄国文坛六十年的记忆，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战争与和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娜卡列尼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他不以暴力抗恶的思想。他是世界十大文豪之一，美国文学评论家哈洛称他是“从文艺复兴以来唯一能挑战荷马，但丁与莎士比亚的伟大作家。”列宁也认为“他的艺术标志着全人类的艺术发展上的一大进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生前放弃了自己的贵族身份和生活方式，他死后更是安静而朴素，在他家乡的森林中无声的长眠，坟前没有墓碑，没有十字架，没有墓志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奥地利传记作家茨威格说“他的墓成了世间最美的、给人印象最深刻的、最感人的坟墓。”保护他得以安息的没有任何别的东西，唯有人们的敬意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4:34:21Z</dcterms:created>
  <dc:creator/>
  <dc:description/>
  <dc:language>en-US</dc:language>
  <cp:lastModifiedBy>Windows 用户</cp:lastModifiedBy>
  <dcterms:modified xsi:type="dcterms:W3CDTF">2019-10-10T01:51:06Z</dcterms:modified>
  <cp:revision>35</cp:revision>
  <dc:subject/>
  <dc:title>幻灯片 1</dc:title>
</cp:coreProperties>
</file>