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camera.wav" ContentType="audio/x-wav"/>
  <Override PartName="/ppt/media/image8.gif" ContentType="image/gif"/>
  <Override PartName="/ppt/media/image6.gif" ContentType="image/gif"/>
  <Override PartName="/ppt/media/image9.png" ContentType="image/pn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C602-E819-4C77-B6B1-0D30E7A1AB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导学达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介绍和写作背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成都十四中学 刘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3380-3AFD-4FF7-B81D-D8D65DFA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F322-7609-453D-87DC-1B1B8747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D539-4919-40FA-A55A-E2E5C555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CE21-519F-469D-A7C0-713529E3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E45A-FCF3-41B9-8463-C4F22FEE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D445-290E-499B-8B95-A8712CE8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7CE2-15D3-46EB-8084-A102E59B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A5D2-2F44-4983-8B01-287227D9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969C-FB57-4A81-A0D9-DCEC3D39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D09B-F10B-4343-97DA-6EE17CF9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3405-A197-4F54-8605-9BA9E8B7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3F96-F630-4725-BBFA-4E22C52F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CA30-2BB1-42BA-AFEE-70C8AD2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1098-05FC-4A32-B217-369F3205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9680-0C17-4F70-B5D1-6BFDA52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85B9-39A4-4A1A-ADD5-B1BCF2D9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11A3-321E-4C5A-AE6E-1924D873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C53A-1C59-4FE1-AC21-A4155DBE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9309-3494-4B91-9009-8EC3B5FF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766C-7265-4416-A337-D38AF995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CD3D2-FBD4-43DD-BD38-C13EC673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4F39-D4C8-44C9-8B9D-B4D9690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6EEF-45B6-4FFB-89D1-E919D941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6601-66F7-4E54-8F6E-6AEC7CEA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9F49-BD85-4D47-B40C-F1CD02071184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5D53-5E67-49A3-8166-5D505DF4185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" Target="slide11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16000" y="977760"/>
            <a:ext cx="9009000" cy="1052640"/>
            <a:chOff x="216000" y="977760"/>
            <a:chExt cx="9009000" cy="1052640"/>
          </a:xfrm>
        </p:grpSpPr>
        <p:grpSp>
          <p:nvGrpSpPr>
            <p:cNvPr id="114" name=""/>
            <p:cNvGrpSpPr/>
            <p:nvPr/>
          </p:nvGrpSpPr>
          <p:grpSpPr>
            <a:xfrm>
              <a:off x="506520" y="1085760"/>
              <a:ext cx="711360" cy="474840"/>
              <a:chOff x="506520" y="1085760"/>
              <a:chExt cx="711360" cy="474840"/>
            </a:xfrm>
          </p:grpSpPr>
          <p:sp>
            <p:nvSpPr>
              <p:cNvPr id="115" name=""/>
              <p:cNvSpPr/>
              <p:nvPr/>
            </p:nvSpPr>
            <p:spPr>
              <a:xfrm>
                <a:off x="506520" y="1085760"/>
                <a:ext cx="437400" cy="474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89560" y="10857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30360" y="1508040"/>
              <a:ext cx="737640" cy="474840"/>
              <a:chOff x="630360" y="1508040"/>
              <a:chExt cx="737640" cy="474840"/>
            </a:xfrm>
          </p:grpSpPr>
          <p:sp>
            <p:nvSpPr>
              <p:cNvPr id="118" name=""/>
              <p:cNvSpPr/>
              <p:nvPr/>
            </p:nvSpPr>
            <p:spPr>
              <a:xfrm>
                <a:off x="630360" y="1508040"/>
                <a:ext cx="421560" cy="4748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9000" y="15080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6000" y="14349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1040" y="977760"/>
              <a:ext cx="31680" cy="10526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32080" y="18000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0" y="1054080"/>
            <a:ext cx="9131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正音练习：给加底线的词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）  奔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） 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晶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）  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腐（     ） 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琐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栏（    ）  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（     ） 照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Times New Roman"/>
              </a:rPr>
              <a:t>踌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          )           </a:t>
            </a:r>
            <a:r>
              <a:rPr b="1" lang="zh-CN" sz="3200" spc="-1" strike="noStrike">
                <a:solidFill>
                  <a:srgbClr val="666699"/>
                </a:solidFill>
                <a:latin typeface="Times New Roman"/>
              </a:rPr>
              <a:t>蹒 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        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Times New Roman"/>
              </a:rPr>
              <a:t>颓</a:t>
            </a:r>
            <a:r>
              <a:rPr b="1" lang="zh-CN" sz="3200" spc="-1" strike="noStrike">
                <a:solidFill>
                  <a:srgbClr val="260000"/>
                </a:solidFill>
                <a:latin typeface="Times New Roman"/>
              </a:rPr>
              <a:t>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举</a:t>
            </a:r>
            <a:r>
              <a:rPr b="0" lang="zh-CN" sz="3200" spc="-1" strike="noStrike">
                <a:solidFill>
                  <a:srgbClr val="666699"/>
                </a:solidFill>
                <a:latin typeface="Times New Roman"/>
                <a:ea typeface="黑体"/>
              </a:rPr>
              <a:t>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260000"/>
                </a:solidFill>
                <a:latin typeface="Times New Roman"/>
                <a:ea typeface="黑体"/>
              </a:rPr>
              <a:t>(         )      </a:t>
            </a:r>
            <a:r>
              <a:rPr b="0" lang="zh-CN" sz="3200" spc="-1" strike="noStrike">
                <a:solidFill>
                  <a:srgbClr val="666699"/>
                </a:solidFill>
                <a:latin typeface="Times New Roman"/>
                <a:ea typeface="黑体"/>
              </a:rPr>
              <a:t>簌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260000"/>
                </a:solidFill>
                <a:latin typeface="Times New Roman"/>
                <a:ea typeface="黑体"/>
              </a:rPr>
              <a:t>(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4600" y="4803840"/>
            <a:ext cx="8001000" cy="2269800"/>
            <a:chOff x="444600" y="4803840"/>
            <a:chExt cx="8001000" cy="2269800"/>
          </a:xfrm>
        </p:grpSpPr>
        <p:sp>
          <p:nvSpPr>
            <p:cNvPr id="125" name=""/>
            <p:cNvSpPr/>
            <p:nvPr/>
          </p:nvSpPr>
          <p:spPr>
            <a:xfrm>
              <a:off x="444600" y="48182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30600" y="48038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11680" y="4803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45400" y="4803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600" y="637200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5400" y="637200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30600" y="63720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11680" y="63576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4600" y="2044800"/>
            <a:ext cx="8533800" cy="3597120"/>
            <a:chOff x="444600" y="2044800"/>
            <a:chExt cx="8533800" cy="3597120"/>
          </a:xfrm>
        </p:grpSpPr>
        <p:sp>
          <p:nvSpPr>
            <p:cNvPr id="134" name=""/>
            <p:cNvSpPr/>
            <p:nvPr/>
          </p:nvSpPr>
          <p:spPr>
            <a:xfrm>
              <a:off x="1434960" y="2044800"/>
              <a:ext cx="129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9720" y="2044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59040" y="2044800"/>
              <a:ext cx="2361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73640" y="2044800"/>
              <a:ext cx="1294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4600" y="3568680"/>
              <a:ext cx="2361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58840" y="3568680"/>
              <a:ext cx="1294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63960" y="3568680"/>
              <a:ext cx="1675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3120" y="36450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0560" y="4940280"/>
              <a:ext cx="1294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96920" y="4940280"/>
              <a:ext cx="609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16240" y="4940280"/>
              <a:ext cx="761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54520" y="486432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587600" y="2197080"/>
            <a:ext cx="12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06760" y="21207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26280" y="2197080"/>
            <a:ext cx="9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j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18840" y="292428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yíng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47520" y="2897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ū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26280" y="2806560"/>
            <a:ext cx="15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uǒ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11280" y="341640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zh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72280" y="34164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hā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12080" y="3416400"/>
            <a:ext cx="12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06360" y="39495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Times New Roman"/>
              </a:rPr>
              <a:t>chóu  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45200" y="394956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Times New Roman"/>
              </a:rPr>
              <a:t>pánsh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37120" y="448308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u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03280" y="45594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Times New Roman"/>
                <a:ea typeface="黑体"/>
              </a:rPr>
              <a:t>z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5440" y="458136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0000"/>
                </a:solidFill>
                <a:latin typeface="Times New Roman"/>
                <a:ea typeface="黑体"/>
              </a:rPr>
              <a:t>sù s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24000" y="1125360"/>
          <a:ext cx="28796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28796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276720" y="1268280"/>
            <a:ext cx="532764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我看见他戴着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黑布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小帽，穿着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黑布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大马褂，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深青布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棉袍，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蹒跚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地走到铁道边，慢慢探身下去，尚不大难。可是他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穿过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铁道，要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爬上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那边月台，就不容易了。他用两手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攀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着上面，两脚再向上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缩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；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肥胖的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身子向左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微倾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，显出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努力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952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213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214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217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160020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找出父亲送儿子上车的过程说的四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话，并体会它所含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黑体"/>
                <a:ea typeface="黑体"/>
              </a:rPr>
              <a:t>&lt;1&gt;</a:t>
            </a:r>
            <a:r>
              <a:rPr b="1" lang="zh-CN" sz="2800" spc="-1" strike="noStrike">
                <a:solidFill>
                  <a:srgbClr val="666699"/>
                </a:solidFill>
                <a:latin typeface="Tahoma"/>
                <a:ea typeface="黑体"/>
              </a:rPr>
              <a:t>不要紧，他们去不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黑体"/>
                <a:ea typeface="黑体"/>
              </a:rPr>
              <a:t>&lt;2&gt;</a:t>
            </a:r>
            <a:r>
              <a:rPr b="1" lang="zh-CN" sz="2800" spc="-1" strike="noStrike">
                <a:solidFill>
                  <a:srgbClr val="666699"/>
                </a:solidFill>
                <a:latin typeface="Tahoma"/>
                <a:ea typeface="黑体"/>
              </a:rPr>
              <a:t>我买几个橘子去。你就在此地，不要走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黑体"/>
                <a:ea typeface="黑体"/>
              </a:rPr>
              <a:t>&lt;3&gt;</a:t>
            </a:r>
            <a:r>
              <a:rPr b="1" lang="zh-CN" sz="2800" spc="-1" strike="noStrike">
                <a:solidFill>
                  <a:srgbClr val="666699"/>
                </a:solidFill>
                <a:latin typeface="Tahoma"/>
                <a:ea typeface="黑体"/>
              </a:rPr>
              <a:t>我走了，到那边来信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黑体"/>
                <a:ea typeface="黑体"/>
              </a:rPr>
              <a:t>&lt;4&gt;</a:t>
            </a:r>
            <a:r>
              <a:rPr b="1" lang="zh-CN" sz="2800" spc="-1" strike="noStrike">
                <a:solidFill>
                  <a:srgbClr val="666699"/>
                </a:solidFill>
                <a:latin typeface="Tahoma"/>
                <a:ea typeface="黑体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14a7"/>
                </a:solidFill>
                <a:latin typeface="Tahoma"/>
                <a:ea typeface="黑体"/>
              </a:rPr>
              <a:t>（这些话含蓄着许多怜惜、体贴、依依不舍的意思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0"/>
            <a:ext cx="489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场景细节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60320" y="754200"/>
            <a:ext cx="77724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这</a:t>
            </a:r>
            <a:r>
              <a:rPr b="1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200" y="2492280"/>
            <a:ext cx="8065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紧，他们去不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9810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②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我买几个橘子去。你就在此地，不要走动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235584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cc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黑体"/>
              </a:rPr>
              <a:t>父亲已经把儿子送上车，已经关照得无微不至，儿子也劝父亲可以走了，而父亲还觉得没有尽够心意，看见站上有卖橘子的，便要去给儿子买橘子。过铁道不容易，自己受点累，能让儿子受用，他是心甘情愿的。他还生怕儿子跟着出来，忘了行李。父亲的关怀真是无微不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走了，到那边来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19320"/>
            <a:ext cx="80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590920"/>
            <a:ext cx="8229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④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进去吧，里边没人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352680"/>
            <a:ext cx="82533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黑体"/>
              </a:rPr>
              <a:t>走了几步就回头，可见心里还是惦记着儿子，依依不舍。又想到儿子所带的行李，叫儿子小心，什么都为儿子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6e73"/>
                </a:solidFill>
                <a:latin typeface="方正琥珀简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黑体"/>
              </a:rPr>
              <a:t>写作，要善于用朴素的语言写出深挚的感情；选材，也要善于选择那些平常而又饱含深情的素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77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     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有一句话，值得你铭记一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70080" y="2050920"/>
            <a:ext cx="65944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世界上最大的是海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海洋更大的是天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天空更大的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是父母对儿女的恩情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0"/>
            <a:ext cx="489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场景细节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4920" y="16002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写了“我”几次流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5105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，父子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513540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50920" y="1700280"/>
          <a:ext cx="295272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29527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76720" y="1484280"/>
            <a:ext cx="5327640" cy="192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身体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平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惟膀子疼痛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利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举箸提笔，诸多不便，大约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大去之期不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矣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0"/>
            <a:ext cx="489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场景细节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1603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6398280" y="3645000"/>
            <a:ext cx="2719800" cy="2860920"/>
            <a:chOff x="6398280" y="3645000"/>
            <a:chExt cx="2719800" cy="2860920"/>
          </a:xfrm>
        </p:grpSpPr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7011720" y="3645000"/>
              <a:ext cx="1560240" cy="227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398280" y="5995800"/>
              <a:ext cx="271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zh-CN" sz="2400" spc="-1" strike="noStrike" u="sng">
                  <a:solidFill>
                    <a:srgbClr val="666699"/>
                  </a:solidFill>
                  <a:uFillTx/>
                  <a:latin typeface="Verdana"/>
                  <a:hlinkClick r:id="rId3" action="ppaction://hlinksldjump"/>
                </a:rPr>
                <a:t>1898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0" lang="zh-CN" sz="2400" spc="-1" strike="noStrike" u="sng">
                  <a:solidFill>
                    <a:srgbClr val="666699"/>
                  </a:solidFill>
                  <a:uFillTx/>
                  <a:latin typeface="Verdana"/>
                  <a:hlinkClick r:id="rId4" action="ppaction://hlinksldjump"/>
                </a:rPr>
                <a:t>1948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56000" y="83664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276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的表达和期待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3429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儿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92360" y="4724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的理解和延续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09680" y="1676520"/>
            <a:ext cx="6019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失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悲哀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见父亲 睹家境 想祖母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感动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望亲买橘 父子离别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伤心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再现背影 泪光莹莹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思念父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别后怀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000" y="700200"/>
            <a:ext cx="9009000" cy="1052280"/>
            <a:chOff x="135000" y="700200"/>
            <a:chExt cx="9009000" cy="1052280"/>
          </a:xfrm>
        </p:grpSpPr>
        <p:grpSp>
          <p:nvGrpSpPr>
            <p:cNvPr id="259" name=""/>
            <p:cNvGrpSpPr/>
            <p:nvPr/>
          </p:nvGrpSpPr>
          <p:grpSpPr>
            <a:xfrm>
              <a:off x="425520" y="807840"/>
              <a:ext cx="711360" cy="474480"/>
              <a:chOff x="425520" y="807840"/>
              <a:chExt cx="711360" cy="4744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520" y="807840"/>
                <a:ext cx="437400" cy="474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8560" y="80784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9360" y="1230120"/>
              <a:ext cx="737640" cy="474480"/>
              <a:chOff x="549360" y="1230120"/>
              <a:chExt cx="737640" cy="474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49360" y="1230120"/>
                <a:ext cx="421560" cy="474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18000" y="123012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35000" y="115704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0040" y="700200"/>
              <a:ext cx="31680" cy="1052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51080" y="152136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826920" y="54936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905120"/>
            <a:ext cx="1295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见面背景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320040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三次流泪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191120" y="175248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黑体"/>
              </a:rPr>
              <a:t>(</a:t>
            </a: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黑体"/>
              </a:rPr>
              <a:t>祸不单行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黑体"/>
              </a:rPr>
              <a:t>,</a:t>
            </a: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黑体"/>
              </a:rPr>
              <a:t>家境惨淡）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黑体"/>
              <a:ea typeface="黑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495288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6666ff"/>
                </a:solidFill>
                <a:latin typeface="Verdana"/>
              </a:rPr>
              <a:t>看意思说出相应的词语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981000"/>
            <a:ext cx="82375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乱七八糟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纷纷落下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凄惨暗淡，不景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失业在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短时间停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言行守旧，不合时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衰颓败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看到某种情况，心里感到悲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感情积在心里不得发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细小而繁多（的事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914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狼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4479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簌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9810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惨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438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赋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0481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勾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3505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迂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4038480"/>
            <a:ext cx="12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颓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64832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目伤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2578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郁于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791320"/>
            <a:ext cx="13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琐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儿子眼中的父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8229600" cy="5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好像有时候说得也不对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48428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爸爸真了不起，什么都懂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149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老头子一无所知，陈腐不堪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141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爸爸有点落伍了，他的理论和时代格格不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79736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如果爸爸当年像我这样老练，他今天肯定是个百万富翁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0536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我不知道是否该和老头子商量商量，或许他能帮我出出主意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148428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真可惜爸爸去世了。说实在话，他的看法相当高明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30686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可怜的爸爸！您简直是位无所不知的学者！遗憾的是我了解您太晚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403280" y="1773360"/>
            <a:ext cx="691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请学习本文的抓住场景细节的写法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以“爸爸的手”、“妈妈的笑” 等为写作对象，写一篇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29000" y="60948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99cc"/>
                  </a:outerShdw>
                </a:effectLst>
                <a:latin typeface="华文行楷"/>
              </a:rPr>
              <a:t>背   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99cc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1905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5238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朱自清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(1898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－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1948),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字佩弦，江苏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扬州市人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黑体"/>
                <a:ea typeface="黑体"/>
              </a:rPr>
              <a:t>散文家、诗人、学者、民主战士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有诗文集</a:t>
            </a: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《踪迹》、《欧旅杂记》</a:t>
            </a: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以及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些文艺论著，收在《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朱自清文集</a:t>
            </a: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》里 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背影》是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  <a:ea typeface="黑体"/>
              </a:rPr>
              <a:t>记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散文，写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9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者曾说：“我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背影》，就因为文中所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父亲的来信那句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当时读了父亲的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真是泪如泉涌。我父亲待我的许多好处，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别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背影》里所叙述的那一回，想起来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眼前一般无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我这篇文只是写实，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324480" y="1752480"/>
            <a:ext cx="2498760" cy="340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781680" y="9144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300a"/>
                </a:solidFill>
                <a:latin typeface="Tahoma"/>
                <a:ea typeface="隶书"/>
              </a:rPr>
              <a:t>朱自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35053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060640"/>
            <a:ext cx="7620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《背影》写于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月，当时作者在清华大学任教。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beike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15242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187280" y="0"/>
            <a:ext cx="439272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宋体"/>
              </a:rPr>
              <a:t>背影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宋体"/>
              <a:ea typeface="宋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40360" y="5300640"/>
            <a:ext cx="1873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宋体"/>
              </a:rPr>
              <a:t>朱自清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95280" y="549360"/>
          <a:ext cx="142884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14288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48320" y="746280"/>
            <a:ext cx="3886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769080" cy="2808360"/>
          </a:xfrm>
          <a:prstGeom prst="rect">
            <a:avLst/>
          </a:prstGeom>
          <a:noFill/>
          <a:ln w="9360">
            <a:solidFill>
              <a:srgbClr val="78160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781606"/>
                </a:solidFill>
                <a:latin typeface="Arial"/>
                <a:ea typeface="楷体_GB2312"/>
              </a:rPr>
              <a:t>这是一个普通的中学国文教员的永恒记忆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一九四八年八月十三日，走出家门，就看见一群小学生在争着抢着地看一张当天的报纸，其中一个惊慌地喊道：‘老师，作《背影》的朱自清先生昨天死了！’看到孩子们那种怆惶悲戚的神情，我不禁无言地流下泪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2970360"/>
            <a:ext cx="8353440" cy="1775880"/>
          </a:xfrm>
          <a:prstGeom prst="rect">
            <a:avLst/>
          </a:prstGeom>
          <a:noFill/>
          <a:ln w="9360">
            <a:solidFill>
              <a:srgbClr val="781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－－父亲节那天，“百度”随意搜索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,7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中国网站或博客转载了朱自清的《背影》，把它作为对父亲最好的感谢和祝福，共有几十万人回了帖子。有个“雪帘栊”的网友说“今天是父亲节，友人在空间转发了朱自清的《背影》，我不敢看，也用不着看了。每看一次，感触就多出几分。</a:t>
            </a: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许是经历生死离别后，再看才有了切实的痛感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　“谨以朱自清的《背影》，献给天下所有的父亲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26920" y="1052640"/>
            <a:ext cx="78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隶书"/>
              </a:rPr>
              <a:t>本文文眼是什么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9135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眼”是窥看主题思想的窗口，理清全文脉络的筋节，掌握文章各部分相互联系的关键。清代学者刘熙载说：“揭全文之旨，或在篇首，或在篇中，或在篇末。在篇首则后者必顾之，在篇末则前者必注之，在篇中则前注之，后顾之。顾注，抑所谓文眼者也。”也就是说，文眼是文章的精神凝聚点，能点出文眼，就是读懂文章的一个标志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中一共写了父亲哪四个背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e6"/>
              </a:gs>
              <a:gs pos="50000">
                <a:srgbClr val="ffccff"/>
              </a:gs>
              <a:gs pos="100000">
                <a:srgbClr val="cccce6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2514600"/>
            <a:ext cx="106704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e6"/>
              </a:gs>
              <a:gs pos="50000">
                <a:srgbClr val="ffccff"/>
              </a:gs>
              <a:gs pos="100000">
                <a:srgbClr val="cccce6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e6"/>
              </a:gs>
              <a:gs pos="50000">
                <a:srgbClr val="ffccff"/>
              </a:gs>
              <a:gs pos="100000">
                <a:srgbClr val="cccce6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e6"/>
              </a:gs>
              <a:gs pos="50000">
                <a:srgbClr val="ffccff"/>
              </a:gs>
              <a:gs pos="100000">
                <a:srgbClr val="cccce6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480" y="0"/>
            <a:ext cx="489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场景细节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9280" y="1197000"/>
          <a:ext cx="29527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2952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76720" y="907920"/>
            <a:ext cx="5327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  <a:ea typeface="楷体_GB2312"/>
              </a:rPr>
              <a:t>我看见他戴着黑布小帽，穿着黑布大马褂，深青布棉袍，蹒跚地走到铁道边，慢慢探身下去，尚不大难。可是他穿过铁道，要爬上那边月台，就不容易了。他用两手攀着上面，两脚再向上缩；他肥胖的身子向左微倾，显出努力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11640" y="458136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　　这是一个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　　　</a:t>
            </a: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的背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我是从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ea typeface="楷体_GB2312"/>
              </a:rPr>
              <a:t>　　　　　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看出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993300"/>
                </a:solidFill>
                <a:uFillTx/>
                <a:latin typeface="Arial"/>
              </a:rPr>
              <a:t>　　　　　　　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7:28:47Z</dcterms:created>
  <dc:creator>Billgates</dc:creator>
  <dc:description/>
  <dc:language>en-US</dc:language>
  <cp:lastModifiedBy>微软用户</cp:lastModifiedBy>
  <dcterms:modified xsi:type="dcterms:W3CDTF">2013-10-20T09:14:24Z</dcterms:modified>
  <cp:revision>132</cp:revision>
  <dc:subject/>
  <dc:title>幻灯片 1</dc:title>
</cp:coreProperties>
</file>