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D3E-AE28-4EF6-A157-CB05F3B8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862-416E-45F3-B07C-2C4DAC3F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CF8-B340-43D1-AA84-E8D8EEFD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44D-E894-4ED1-BD6E-0D20A88D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6A0-F254-4FDE-BE19-AF7176B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C74-413B-4F4D-9D89-16AC2C62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55F-9AF9-48FE-AD23-27584C6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656-4CEF-462D-A608-711D4522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E6C-67AD-4048-BA6F-3559C5C2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71E-C8FF-4C05-A371-7E5C9C6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5EA-1F09-4814-B648-599CE47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B79-868D-4F4F-9505-F077F92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F659-139D-43C7-A94A-901FCACC53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808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念奴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昆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空出世，莽昆仑，阅尽人间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起玉龙三百万，搅得周天寒彻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夏日消溶，江河横溢，人或为鱼鳖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秋功罪，谁人曾与评说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今我谓昆仑：不要这高，不要这多雪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得倚天抽宝剑，把汝裁为三截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截遗欧，一截赠美，一截还东国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平世界，环球同此凉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6680" y="1080"/>
            <a:ext cx="2870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菩萨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黄鹤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茫茫九派流中国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沉沉一线穿南北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烟雨莽苍苍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龟蛇锁大江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鹤知何去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剩有游人处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酒酹滔滔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潮逐浪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5120" y="-45720"/>
            <a:ext cx="3533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蝶恋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答李淑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失骄杨君失柳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柳轻扬直上重霄九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讯吴刚何所有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吴刚捧出桂花酒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寂寞嫦娥舒广袖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里长空且为忠魂舞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忽报人间曾伏虎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泪飞顿作倾盆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680"/>
            <a:ext cx="914400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满江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和郭沫若同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小寰球，有几个苍蝇碰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嗡嗡叫，几声凄厉，几声抽泣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缘槐夸大国，蚍蜉撼树谈何易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西风落叶下长安，飞鸣镝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少事，从来急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地转，光阴迫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万年太久，只争朝夕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海翻腾云水怒，五洲震荡风雷激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扫除一切害人虫，全无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21320" y="1130400"/>
            <a:ext cx="5301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七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李进同志题所摄庐山仙人洞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暮色苍茫看劲松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乱云飞渡仍从容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生一个仙人洞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限风光在险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18600" y="459000"/>
            <a:ext cx="310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七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咏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独坐池塘如虎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绿荫树下养精神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春来我不先开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哪个虫儿敢作声。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36680" y="-720"/>
            <a:ext cx="2870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Dotum"/>
              </a:rPr>
              <a:t>清平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Dotum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Dotum"/>
              </a:rPr>
              <a:t>六盘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高云淡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断南飞雁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到长城非好汉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屈指行程两万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盘山上高峰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旗漫卷西风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今日长缨在手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何时缚住苍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七律　人民解放军占领南京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钟山风雨起苍黄，百万雄师过大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虎踞龙盘今胜昔，天翻地覆慨而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宜将剩勇追穷寇，不可沽名学霸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若有情天亦老，人间正道是沧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36:56Z</dcterms:created>
  <dc:creator>y</dc:creator>
  <dc:description/>
  <dc:language>en-US</dc:language>
  <cp:lastModifiedBy>y</cp:lastModifiedBy>
  <dcterms:modified xsi:type="dcterms:W3CDTF">2009-09-12T01:40:47Z</dcterms:modified>
  <cp:revision>3</cp:revision>
  <dc:subject/>
  <dc:title>幻灯片 1</dc:title>
</cp:coreProperties>
</file>