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7380-9D38-479A-831C-BE0D3B04C9E4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1D5F-C833-4A30-BA34-72E6484533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slide" Target="../slides/slide4.xml"/><Relationship Id="rId17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75A2-70C5-486F-B99A-1C48FB13E6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C312-0520-4523-8B4E-42EAB428B95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美术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meish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科学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kexue/ 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物理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wuli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化学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huaxue/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生物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shengw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地理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dili/          </a:t>
            </a:r>
            <a:r>
              <a:rPr b="0" lang="zh-CN" sz="1200" spc="-1" strike="noStrike">
                <a:solidFill>
                  <a:srgbClr val="eeece1"/>
                </a:solidFill>
                <a:latin typeface="Calibri"/>
              </a:rPr>
              <a:t>历史课件：</a:t>
            </a:r>
            <a:r>
              <a:rPr b="0" lang="en-US" sz="1200" spc="-1" strike="noStrike">
                <a:solidFill>
                  <a:srgbClr val="eeece1"/>
                </a:solidFill>
                <a:latin typeface="Calibri"/>
              </a:rPr>
              <a:t>www.1ppt.com/kejian/lishi/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AFFE-5256-4303-AD1E-B957C41640B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0E2-2E42-467C-83AB-298E8168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E6C-4930-4856-9872-8A2209D3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358-9085-4EDD-908B-890F8AB0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414-D9A6-475C-BBCC-B246C138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826-F59B-46EB-9510-C6186C17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57F-2BE9-4BFC-8432-F99A5587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4A7-5093-4EB7-BDB2-54ECD915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5BCF-ABD5-4E9C-B3B1-ABD548B2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AF5-4E52-4E39-BBD8-57357E41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854-F460-4C75-A18D-55E98A84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2A5-CB8E-4D47-9A52-4970CDC3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77E-DE30-4B1E-9C9C-60082C3F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0386-CD85-4682-84D0-AE68395287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95280" y="1571760"/>
            <a:ext cx="83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罗马速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403280" y="2492280"/>
            <a:ext cx="574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标出第四、第五自然段各自围绕哪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罗马还是一座用雕塑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装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起来的城市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319560" y="3141720"/>
            <a:ext cx="37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标出表示“雕塑多”“ 喷泉多”的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内容占位符 4" descr="mxcpu=2780162850,755297076&amp;fm=23&amp;gp=0.jpg"/>
          <p:cNvPicPr/>
          <p:nvPr/>
        </p:nvPicPr>
        <p:blipFill>
          <a:blip r:embed="rId1"/>
          <a:stretch/>
        </p:blipFill>
        <p:spPr>
          <a:xfrm>
            <a:off x="324000" y="2421000"/>
            <a:ext cx="2663640" cy="2282760"/>
          </a:xfrm>
          <a:prstGeom prst="rect">
            <a:avLst/>
          </a:prstGeom>
          <a:ln w="0">
            <a:noFill/>
          </a:ln>
        </p:spPr>
      </p:pic>
      <p:pic>
        <p:nvPicPr>
          <p:cNvPr id="92" name="内容占位符 5" descr="mxcpu=3208021163,303235324&amp;fm=3&amp;gp=0.jpg"/>
          <p:cNvPicPr/>
          <p:nvPr/>
        </p:nvPicPr>
        <p:blipFill>
          <a:blip r:embed="rId2"/>
          <a:stretch/>
        </p:blipFill>
        <p:spPr>
          <a:xfrm>
            <a:off x="6012000" y="765000"/>
            <a:ext cx="2636640" cy="23734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6" descr="mxcpu=1349484012,502912830&amp;fm=52&amp;gp=0.jpg"/>
          <p:cNvPicPr/>
          <p:nvPr/>
        </p:nvPicPr>
        <p:blipFill>
          <a:blip r:embed="rId3"/>
          <a:stretch/>
        </p:blipFill>
        <p:spPr>
          <a:xfrm>
            <a:off x="5076720" y="3933720"/>
            <a:ext cx="3571920" cy="2357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3708360" y="306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街头巷尾的雕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F:\七彩课堂插图板式封面\排版用图标、页眉页脚\标题图（终-排版用）共29个\语文大课堂.jpg"/>
          <p:cNvPicPr/>
          <p:nvPr/>
        </p:nvPicPr>
        <p:blipFill>
          <a:blip r:embed="rId1"/>
          <a:stretch/>
        </p:blipFill>
        <p:spPr>
          <a:xfrm>
            <a:off x="6000840" y="1000080"/>
            <a:ext cx="2768400" cy="1936800"/>
          </a:xfrm>
          <a:prstGeom prst="rect">
            <a:avLst/>
          </a:prstGeom>
          <a:ln w="0">
            <a:noFill/>
          </a:ln>
        </p:spPr>
      </p:pic>
      <p:pic>
        <p:nvPicPr>
          <p:cNvPr id="98" name="内容占位符 4" descr="mxcpu=2323445617,1510590159&amp;fm=52&amp;gp=0.jpg"/>
          <p:cNvPicPr/>
          <p:nvPr/>
        </p:nvPicPr>
        <p:blipFill>
          <a:blip r:embed="rId2"/>
          <a:stretch/>
        </p:blipFill>
        <p:spPr>
          <a:xfrm>
            <a:off x="3492360" y="1268280"/>
            <a:ext cx="2200320" cy="1650960"/>
          </a:xfrm>
          <a:prstGeom prst="rect">
            <a:avLst/>
          </a:prstGeom>
          <a:ln w="0">
            <a:noFill/>
          </a:ln>
        </p:spPr>
      </p:pic>
      <p:pic>
        <p:nvPicPr>
          <p:cNvPr id="99" name="内容占位符 5" descr="mxcpu=1895503073,3061985085&amp;fm=23&amp;gp=0.jpg"/>
          <p:cNvPicPr/>
          <p:nvPr/>
        </p:nvPicPr>
        <p:blipFill>
          <a:blip r:embed="rId3"/>
          <a:stretch/>
        </p:blipFill>
        <p:spPr>
          <a:xfrm>
            <a:off x="6012000" y="1214280"/>
            <a:ext cx="239364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" descr="mxcpu=3051476367,3180486543&amp;fm=52&amp;gp=0.jpg"/>
          <p:cNvPicPr/>
          <p:nvPr/>
        </p:nvPicPr>
        <p:blipFill>
          <a:blip r:embed="rId4"/>
          <a:stretch/>
        </p:blipFill>
        <p:spPr>
          <a:xfrm>
            <a:off x="3132000" y="3860640"/>
            <a:ext cx="2519640" cy="186372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7" descr="mxcpu=1026877436,3518135139&amp;fm=12&amp;gp=0.jpg"/>
          <p:cNvPicPr/>
          <p:nvPr/>
        </p:nvPicPr>
        <p:blipFill>
          <a:blip r:embed="rId5"/>
          <a:stretch/>
        </p:blipFill>
        <p:spPr>
          <a:xfrm>
            <a:off x="6084720" y="4071960"/>
            <a:ext cx="2416320" cy="18129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9"/>
          <p:cNvSpPr/>
          <p:nvPr/>
        </p:nvSpPr>
        <p:spPr>
          <a:xfrm>
            <a:off x="900000" y="3141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屋顶门廊的雕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684360" y="2276640"/>
            <a:ext cx="64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标出第三、第四自然段各自围绕哪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罗马还是一座用雕塑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装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起来的城市。喷泉是罗马城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点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标出表示“雕塑多”“ 喷泉多”的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内容占位符 4" descr="mxcpeee45ff47ba0c652700eec4a.jpg"/>
          <p:cNvPicPr/>
          <p:nvPr/>
        </p:nvPicPr>
        <p:blipFill>
          <a:blip r:embed="rId1"/>
          <a:stretch/>
        </p:blipFill>
        <p:spPr>
          <a:xfrm>
            <a:off x="4716360" y="2205000"/>
            <a:ext cx="3129120" cy="2886120"/>
          </a:xfrm>
          <a:prstGeom prst="rect">
            <a:avLst/>
          </a:prstGeom>
          <a:ln w="0">
            <a:noFill/>
          </a:ln>
        </p:spPr>
      </p:pic>
      <p:pic>
        <p:nvPicPr>
          <p:cNvPr id="109" name="内容占位符 5" descr="mxcp12020622498a288d006008bd01.jpg"/>
          <p:cNvPicPr/>
          <p:nvPr/>
        </p:nvPicPr>
        <p:blipFill>
          <a:blip r:embed="rId2"/>
          <a:stretch/>
        </p:blipFill>
        <p:spPr>
          <a:xfrm>
            <a:off x="1116000" y="2421000"/>
            <a:ext cx="2989440" cy="2636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243240" y="5445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少女喷泉和蜜蜂喷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内容占位符 4" descr="mxcp97247preview2.jpg"/>
          <p:cNvPicPr/>
          <p:nvPr/>
        </p:nvPicPr>
        <p:blipFill>
          <a:blip r:embed="rId1"/>
          <a:stretch/>
        </p:blipFill>
        <p:spPr>
          <a:xfrm>
            <a:off x="1547640" y="2276640"/>
            <a:ext cx="3191040" cy="3441600"/>
          </a:xfrm>
          <a:prstGeom prst="rect">
            <a:avLst/>
          </a:prstGeom>
          <a:ln w="0">
            <a:noFill/>
          </a:ln>
        </p:spPr>
      </p:pic>
      <p:pic>
        <p:nvPicPr>
          <p:cNvPr id="114" name="内容占位符 5" descr="mxcp9814112238.jpg"/>
          <p:cNvPicPr/>
          <p:nvPr/>
        </p:nvPicPr>
        <p:blipFill>
          <a:blip r:embed="rId2"/>
          <a:stretch/>
        </p:blipFill>
        <p:spPr>
          <a:xfrm>
            <a:off x="5148360" y="2276640"/>
            <a:ext cx="3000240" cy="3297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4664520" y="1125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破船喷泉和四河喷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1214280" y="3143160"/>
            <a:ext cx="59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68360" y="2492280"/>
            <a:ext cx="73105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马这座城市很特别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遗址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雕塑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喷泉也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遗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雕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喷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装点了罗马城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丰富了这座城市的内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-1189080" y="2974680"/>
            <a:ext cx="993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址　比比皆是、令人惊叹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          罗马速写　｛雕塑　超过罗马人口｝丰富内涵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　　　　　  喷泉　千姿百态、星罗棋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11280" y="2772000"/>
            <a:ext cx="762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大利首都罗马是有着辉煌历史的欧洲文明古城，由于它建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座山丘之上并有悠久的历史，故被称为“七丘城”和“永恒之城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0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395280" y="206064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意大利古罗马竞技场罗马斗兽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losseum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古罗马帝国专供奴隶主、贵族和自由民观看斗兽或奴隶角斗的地方。从外观上看，它呈正圆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俯瞰时，它是椭圆形的。它的占地面积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平方米，长轴长约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，短轴长约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，圆周长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，围墙高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米，这座庞大的建筑可以容纳近九万人数的观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内容占位符 4" descr="mxcpu=2206376494,3362626794&amp;fm=52&amp;gp=0.jpg"/>
          <p:cNvPicPr/>
          <p:nvPr/>
        </p:nvPicPr>
        <p:blipFill>
          <a:blip r:embed="rId1"/>
          <a:stretch/>
        </p:blipFill>
        <p:spPr>
          <a:xfrm>
            <a:off x="5770440" y="907920"/>
            <a:ext cx="2481480" cy="2521080"/>
          </a:xfrm>
          <a:prstGeom prst="rect">
            <a:avLst/>
          </a:prstGeom>
          <a:ln w="0">
            <a:noFill/>
          </a:ln>
        </p:spPr>
      </p:pic>
      <p:pic>
        <p:nvPicPr>
          <p:cNvPr id="55" name="内容占位符 5" descr="mxcpu=1361623490,4173660164&amp;fm=52&amp;gp=0.jpg"/>
          <p:cNvPicPr/>
          <p:nvPr/>
        </p:nvPicPr>
        <p:blipFill>
          <a:blip r:embed="rId2"/>
          <a:stretch/>
        </p:blipFill>
        <p:spPr>
          <a:xfrm>
            <a:off x="5724360" y="3645000"/>
            <a:ext cx="25038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971640" y="3137040"/>
            <a:ext cx="75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篇课文在写法上有什么特点？你在这方面有什么收获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216080" y="2955240"/>
            <a:ext cx="71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同学们有机会时，通过网络再去深切了解一下罗马这个城市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回家当“小导游”，向爸爸、妈妈介绍罗马的风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68360" y="2276640"/>
            <a:ext cx="845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城的建筑大多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以上的历史，一砖一石，一街一巷，都是百岁以上的“老人”。古罗马的斗兽场，是遗址中的老祖宗。凡是到罗马游览的人，如果不去斗兽场看看，就好像到了北京没游长城，到了西安没看兵马俑一样。这座宏伟的圆形建筑，已有两三千的历史，现在大部分已坍塌，只留下一个完整无缺的外壳，但看上去仍令人惊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3286080" y="12142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332000" y="2501280"/>
            <a:ext cx="7416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照样子，写一写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：（ 艳丽 ）的蔷薇     （ 发现 ）秘密      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（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美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世界      （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勘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路线      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（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皎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月光      （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欣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风光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7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预习检查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928800" y="1785960"/>
            <a:ext cx="77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326840" y="2565360"/>
            <a:ext cx="7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罗马城给你印象最深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罗马的雕塑给你什么印象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罗马的喷泉又给你留下什么印象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5"/>
          <p:cNvSpPr/>
          <p:nvPr/>
        </p:nvSpPr>
        <p:spPr>
          <a:xfrm>
            <a:off x="1503360" y="3068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42920" y="2060640"/>
            <a:ext cx="7056360" cy="31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读一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址  一街一巷  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比比皆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坍塌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坍塌的废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斗兽场 残毁的廊柱 兵马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宏伟 点缀   媲美  内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说一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罗马  废墟  祖宗 外壳  恐怕   仍然    具有  星罗棋布  千姿百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67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同侧圆角矩形 7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47640" y="2781360"/>
            <a:ext cx="617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罗马分新城和老城。古老的建筑大多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以上的历史，一砖一石，一街一巷，都是百岁以上的“老人”。古老的建筑、坍塌的建筑、残毁的廊柱，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比比皆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187280" y="270828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座宏伟的圆形建筑，已有两三千年的历史，现在大部分已坍塌，只留下一个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完整无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外壳，但看上去仍令人惊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42920" y="3213000"/>
            <a:ext cx="673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街头巷尾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还是屋顶门廊，看不到雕塑才是不正常的。罗马城的雕塑，超过了罗马城的人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11280" y="2276640"/>
            <a:ext cx="603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喷泉是罗马城的点缀。世界上恐怕没有哪个城市能与其媲美。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3000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多处大大小小的喷泉，星罗棋布地散落在一些广场和街巷里。它们千姿百态，极具观赏性，使罗马城别具一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73000" y="3102120"/>
            <a:ext cx="72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遗址、雕塑、喷泉，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不仅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装点了罗马城，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而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丰富了这座城市的内涵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5T11:26:00Z</dcterms:created>
  <dc:creator/>
  <dc:description/>
  <cp:keywords/>
  <dc:language>en-US</dc:language>
  <cp:lastModifiedBy>微软用户</cp:lastModifiedBy>
  <dcterms:modified xsi:type="dcterms:W3CDTF">2019-07-14T12:11:43Z</dcterms:modified>
  <cp:revision>1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