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32F-EF51-4527-8987-934CE5D8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DCD-EF99-48FA-9406-79075BE3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7ED-BCA1-4E25-B379-1B106115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AF7-5500-4460-A312-154DB1D8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690-4A4D-43CE-BFF3-104AA998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148-2E7E-4C52-BAA6-F3844CDE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1B0-0426-4287-ABD0-D7DF4FAC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E5E-B5D3-4135-B286-3B43E815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A2B-A1DE-47B8-B6A9-38A23258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DCC-29B0-48DD-B6C4-100F3293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DA2-606D-4CFC-AC55-44BC4DEB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86A-7DC6-40D4-8191-B754E6D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7327-B0A7-4443-A022-E26B2B4D4E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ad5ad6eddc451da3e90205eb6fd5266d01632246"/>
          <p:cNvPicPr/>
          <p:nvPr/>
        </p:nvPicPr>
        <p:blipFill>
          <a:blip r:embed="rId1"/>
          <a:stretch/>
        </p:blipFill>
        <p:spPr>
          <a:xfrm>
            <a:off x="0" y="4724280"/>
            <a:ext cx="1525680" cy="21337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3" descr="纸袋"/>
          <p:cNvPicPr/>
          <p:nvPr/>
        </p:nvPicPr>
        <p:blipFill>
          <a:blip r:embed="rId2"/>
          <a:stretch/>
        </p:blipFill>
        <p:spPr>
          <a:xfrm>
            <a:off x="171360" y="768240"/>
            <a:ext cx="5985000" cy="1944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20090114080806169"/>
          <p:cNvPicPr/>
          <p:nvPr/>
        </p:nvPicPr>
        <p:blipFill>
          <a:blip r:embed="rId3"/>
          <a:stretch/>
        </p:blipFill>
        <p:spPr>
          <a:xfrm>
            <a:off x="7924680" y="5919840"/>
            <a:ext cx="1219320" cy="93816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5" descr="纸袋"/>
          <p:cNvPicPr/>
          <p:nvPr/>
        </p:nvPicPr>
        <p:blipFill>
          <a:blip r:embed="rId4"/>
          <a:stretch/>
        </p:blipFill>
        <p:spPr>
          <a:xfrm>
            <a:off x="1311120" y="3486240"/>
            <a:ext cx="5193000" cy="155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0" y="260280"/>
            <a:ext cx="923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28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尼摩船长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---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鹦鹉螺”号艇长，温和、热情、冷酷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危险、暴躁、任性，是一个带有浪漫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神秘色彩，非常吸引人的人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阿龙纳斯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----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生物学家，勇敢且博古通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康塞尔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----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阿罗纳克斯的仆人，生性沉稳，为人随和，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不着急上火，入迷于分类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尼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兰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----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性情火暴，是个比较原始的人，一个野性十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的捕鲸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法拉格特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---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亚伯拉罕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林肯”号驱逐舰舰长，只在小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开头部分昙花一现 ，是个热心肠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4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7293240" y="2514600"/>
            <a:ext cx="9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太平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312160" y="3962520"/>
            <a:ext cx="9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印度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73800" y="3048120"/>
            <a:ext cx="7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红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169160" y="2514600"/>
            <a:ext cx="9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中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635640" y="3657600"/>
            <a:ext cx="9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西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993480" y="6324480"/>
            <a:ext cx="10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南极海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2568960" y="2209680"/>
            <a:ext cx="9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西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3635640" y="1066680"/>
            <a:ext cx="9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冰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3.jpg"/>
          <p:cNvPicPr/>
          <p:nvPr/>
        </p:nvPicPr>
        <p:blipFill>
          <a:blip r:embed="rId1"/>
          <a:stretch/>
        </p:blipFill>
        <p:spPr>
          <a:xfrm>
            <a:off x="450720" y="304920"/>
            <a:ext cx="824256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0430080018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xin_40306051910563902620432"/>
          <p:cNvPicPr/>
          <p:nvPr/>
        </p:nvPicPr>
        <p:blipFill>
          <a:blip r:embed="rId2"/>
          <a:stretch/>
        </p:blipFill>
        <p:spPr>
          <a:xfrm>
            <a:off x="228600" y="1523880"/>
            <a:ext cx="8839080" cy="5278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5122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阿龙纳斯及其同伴乘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诺第留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太平洋出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了海底探险旅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008748394061105"/>
          <p:cNvPicPr/>
          <p:nvPr/>
        </p:nvPicPr>
        <p:blipFill>
          <a:blip r:embed="rId1"/>
          <a:stretch/>
        </p:blipFill>
        <p:spPr>
          <a:xfrm>
            <a:off x="76320" y="1523880"/>
            <a:ext cx="8915400" cy="5200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52280" y="228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透过潜艇玻璃窗，海洋把各种光怪陆离的景象展现在他们面前：应有尽有的海底植物，空中飞鸟般的各种鱼类，以及到处皆是的形形色色的节肢动物、软体动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人目不暇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xin_49306052015525461599013"/>
          <p:cNvPicPr/>
          <p:nvPr/>
        </p:nvPicPr>
        <p:blipFill>
          <a:blip r:embed="rId1"/>
          <a:stretch/>
        </p:blipFill>
        <p:spPr>
          <a:xfrm>
            <a:off x="0" y="7632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1809370-lp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62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810060-lp"/>
          <p:cNvPicPr/>
          <p:nvPr/>
        </p:nvPicPr>
        <p:blipFill>
          <a:blip r:embed="rId3"/>
          <a:stretch/>
        </p:blipFill>
        <p:spPr>
          <a:xfrm>
            <a:off x="4788000" y="3605040"/>
            <a:ext cx="4356000" cy="3252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8f69265151cba22841a528aca3fd098c"/>
          <p:cNvPicPr/>
          <p:nvPr/>
        </p:nvPicPr>
        <p:blipFill>
          <a:blip r:embed="rId4"/>
          <a:stretch/>
        </p:blipFill>
        <p:spPr>
          <a:xfrm>
            <a:off x="0" y="3589200"/>
            <a:ext cx="435600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3"/>
          <p:cNvPicPr/>
          <p:nvPr/>
        </p:nvPicPr>
        <p:blipFill>
          <a:blip r:embed="rId1"/>
          <a:stretch/>
        </p:blipFill>
        <p:spPr>
          <a:xfrm>
            <a:off x="990720" y="38862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2"/>
          <p:cNvPicPr/>
          <p:nvPr/>
        </p:nvPicPr>
        <p:blipFill>
          <a:blip r:embed="rId2"/>
          <a:stretch/>
        </p:blipFill>
        <p:spPr>
          <a:xfrm>
            <a:off x="533520" y="10666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4"/>
          <p:cNvPicPr/>
          <p:nvPr/>
        </p:nvPicPr>
        <p:blipFill>
          <a:blip r:embed="rId3"/>
          <a:stretch/>
        </p:blipFill>
        <p:spPr>
          <a:xfrm>
            <a:off x="4648320" y="36576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1"/>
          <p:cNvPicPr/>
          <p:nvPr/>
        </p:nvPicPr>
        <p:blipFill>
          <a:blip r:embed="rId4"/>
          <a:stretch/>
        </p:blipFill>
        <p:spPr>
          <a:xfrm>
            <a:off x="4648320" y="6094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5"/>
          <p:cNvPicPr/>
          <p:nvPr/>
        </p:nvPicPr>
        <p:blipFill>
          <a:blip r:embed="rId5"/>
          <a:stretch/>
        </p:blipFill>
        <p:spPr>
          <a:xfrm>
            <a:off x="2895480" y="2362320"/>
            <a:ext cx="3124440" cy="203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4"/>
          <p:cNvPicPr/>
          <p:nvPr/>
        </p:nvPicPr>
        <p:blipFill>
          <a:blip r:embed="rId1"/>
          <a:stretch/>
        </p:blipFill>
        <p:spPr>
          <a:xfrm>
            <a:off x="1371600" y="1219320"/>
            <a:ext cx="2895480" cy="27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01"/>
          <p:cNvPicPr/>
          <p:nvPr/>
        </p:nvPicPr>
        <p:blipFill>
          <a:blip r:embed="rId2"/>
          <a:stretch/>
        </p:blipFill>
        <p:spPr>
          <a:xfrm>
            <a:off x="4114800" y="611280"/>
            <a:ext cx="2895480" cy="2498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02"/>
          <p:cNvPicPr/>
          <p:nvPr/>
        </p:nvPicPr>
        <p:blipFill>
          <a:blip r:embed="rId3"/>
          <a:stretch/>
        </p:blipFill>
        <p:spPr>
          <a:xfrm>
            <a:off x="1143000" y="37339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3"/>
          <p:cNvPicPr/>
          <p:nvPr/>
        </p:nvPicPr>
        <p:blipFill>
          <a:blip r:embed="rId4"/>
          <a:stretch/>
        </p:blipFill>
        <p:spPr>
          <a:xfrm>
            <a:off x="4114800" y="3048120"/>
            <a:ext cx="3759120" cy="281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y_20100831195959267050"/>
          <p:cNvPicPr/>
          <p:nvPr/>
        </p:nvPicPr>
        <p:blipFill>
          <a:blip r:embed="rId5"/>
          <a:stretch/>
        </p:blipFill>
        <p:spPr>
          <a:xfrm>
            <a:off x="7872480" y="5410080"/>
            <a:ext cx="127152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2280" y="609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途经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宋体"/>
              </a:rPr>
              <a:t>克利斯波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岛时，船长派人送来纸条，邀请他们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三人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宋体"/>
              </a:rPr>
              <a:t>到海底森林打猎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。于是他们穿上潜水服，背上氧气瓶，手持特别猎枪，穿过换压舱，走在海底平原上。船长举枪射中一只大海獭，然后又杀了两条海豚似的动物，满载而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2280" y="1522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潜艇到达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加里曼丹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附近时，食品告缺。阿龙纳斯他们三人决定上岸寻找蔬菜和野味。起初，他们运气不错，打死了几头野猪，采摘了不少水果。正当他们在沙滩上架起篝火准备烤肉时，突然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受到土著人的袭击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。他们慌忙逃进小艇，驶向停泊在海中的潜艇。可是土著人乘上木筏，紧追不舍。即使阿龙纳斯他们爬上潜艇，下了底舱，土著人仍然围着潜艇，不肯散去，再加上之后康塞尔又激怒了他们。第二天一早，潜艇开舱换气时，土著人纷纷爬上船来进攻。可是他们的手一碰到栏杆，就惊叫着退缩了回去，原来金属栏杆全部通了电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2133720" cy="3124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6743880" y="380880"/>
            <a:ext cx="24001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《海底两万里》诺第留斯号"/>
          <p:cNvPicPr/>
          <p:nvPr/>
        </p:nvPicPr>
        <p:blipFill>
          <a:blip r:embed="rId1"/>
          <a:stretch/>
        </p:blipFill>
        <p:spPr>
          <a:xfrm>
            <a:off x="1428840" y="500040"/>
            <a:ext cx="7553160" cy="635796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3" descr=""/>
          <p:cNvPicPr/>
          <p:nvPr/>
        </p:nvPicPr>
        <p:blipFill>
          <a:blip r:embed="rId2"/>
          <a:stretch/>
        </p:blipFill>
        <p:spPr>
          <a:xfrm>
            <a:off x="-6480" y="49320"/>
            <a:ext cx="4797720" cy="305424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5228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S UI Gothic"/>
              </a:rPr>
              <a:t>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MS UI Gothic"/>
                <a:ea typeface="MS UI Gothic"/>
              </a:rPr>
              <a:t>潜艇驶入印度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这时发生了一件离奇的事。尼摩船长从海面上望见了什么，突然充满了愤怒和仇恨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在所有的海面上，人们也正在追逐这可怕的毁灭性机器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他粗暴地把阿龙纳斯及其同伴们禁闭在小房间里，并强迫他们人睡。翌日，阿龙纳斯醒来，尼摩船长请他治疗一个身受重伤的船员。船员不治身死。尼摩船长哀痛地带着送葬队伍，把死者埋在海底光彩夺目、瑰丽无比的珊瑚树林里。他说：在这里，珊瑚虫会把死者永远封闭起来，不受鲨鱼和人的欺负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葬在珊瑚墓地的人，正是诺第留斯号引起的冲突的牺牲者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553080" y="4114800"/>
            <a:ext cx="2514600" cy="249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553080" y="380880"/>
            <a:ext cx="24195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304920"/>
            <a:ext cx="647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Arial"/>
              </a:rPr>
              <a:t>而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斯里兰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附近，船长邀请阿龙纳斯他们到海底参观采珠场。这里盛产珍珠，最大的价值可达二百万美元。阿龙纳斯兴趣盎然地观看印度人在海底采珠。突然，一条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巨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着血盆大口向印度人袭去，船长当即手执短刀，挺身上前与鲨鱼展开搏斗，尼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兰举叉相助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正中鲨鱼心脏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船长随即把采珠人托出水面，还从自己口袋里取出一包珍珠送他。阿龙纳斯从心底敬佩尼摩舍己救人的精神，并由此知道船长事实上没有断绝与人类的交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438280" cy="3124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6705720" y="3809880"/>
            <a:ext cx="23619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28600" y="76212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他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们在</a:t>
            </a:r>
            <a:r>
              <a:rPr b="1" lang="zh-CN" sz="3200" spc="-1" strike="noStrike">
                <a:solidFill>
                  <a:srgbClr val="009999"/>
                </a:solidFill>
                <a:latin typeface="MS UI Gothic"/>
                <a:ea typeface="MS UI Gothic"/>
              </a:rPr>
              <a:t>红海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里追捕过一条濒于绝种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Arial"/>
              </a:rPr>
              <a:t>儒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ú,gèn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，儒艮肉当晚就被端上了餐桌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68680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457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在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Arial"/>
              </a:rPr>
              <a:t>大西洋海底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，阿龙纳斯随尼摩船长去做了一次新奇旅行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他们脚踩在沉没了的大陆——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一大西洋洲的一座山峰上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观赏一座火山的海底喷火口喷出硫磺火石的奇景。眺望山脚下一座破坏了的城市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一整个沉没水底的庞贝城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333360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6320" y="76212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然后，诺第留斯号大胆</a:t>
            </a:r>
            <a:r>
              <a:rPr b="1" lang="zh-CN" sz="3200" spc="-1" strike="noStrike">
                <a:solidFill>
                  <a:srgbClr val="ff0000"/>
                </a:solidFill>
                <a:latin typeface="MS UI Gothic"/>
                <a:ea typeface="MS UI Gothic"/>
              </a:rPr>
              <a:t>向南极进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潜艇航行在成群的鲸鱼中间。尼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兰要求追打鲸鱼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尼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长不同意伤害这些善良无害的长须鲸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当海面上出现残酷的大头鲸向长须鲸进攻时，尼摩船长决定援救的长须鲸。诺第留斯号用它那钢制冲角，直穿大头鲸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经过一场恶斗，海上满浮着大头鲸的尸体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2286000" cy="221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6858000" y="3657600"/>
            <a:ext cx="228600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5228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Arial"/>
              </a:rPr>
              <a:t>穿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南极点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Arial"/>
              </a:rPr>
              <a:t>后，潜艇又历经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Arial"/>
              </a:rPr>
              <a:t>冰山封路、章鱼袭击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Arial"/>
              </a:rPr>
              <a:t>等险情，都是尼摩船长以惊人的冷静和毅力，带领船员战胜了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（在南极他们被困在厚厚的冰下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船上极度缺氧，但船上所有人轮流用工具和开水把底部厚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米的冰盖砸开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逃上大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在大西洋，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鹦鹉螺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号被章鱼所困扰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他们拿斧头和章鱼展开肉搏战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一名船员惨死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7115040" y="457200"/>
            <a:ext cx="202896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6629400" y="4210200"/>
            <a:ext cx="251460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0880" y="763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Arial"/>
              </a:rPr>
              <a:t>在挪威沿岸一带的危险海域中，阿龙纳斯和尼德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Arial"/>
              </a:rPr>
              <a:t>•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兰、康塞尔，乘坐小艇脱离了诺第留斯号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束了这次穿过太平洋、经过珊瑚岛，印度洋、红海、地中海、进入大西洋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南北两极海洋的海底两万里环球旅行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29718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阿龙纳斯无法知道潜艇卷入大漩涡之后的遭遇，因为他和他的同伴被漩涡抛入水里后，在挪威的一个小岛上侥幸脱险，而潜艇已毫无踪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精心动魄的场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印度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珠场和鲨鱼展开过搏斗，捕鲸手尼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兰手刃了一条凶恶的巨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红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里追捕过一条濒于绝种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儒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儒艮肉当晚就被端上了餐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大西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里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章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行过血战，一名船员惨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场面，都十分惊心动魄。此外，书中还描写了抹香鲸（大头鲸）如何残杀长须鲸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鹦鹉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潜艇又是如何杀死成群的抹香鲸的，那情景也十分罕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险象环生的情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26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鹦鹉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曾遇险，在珊瑚礁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搁过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受到过巴布亚土著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袭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最可怕的是，在南极被厚厚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冰层困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艇内缺氧，艇上的人几乎不能生还。但是，凭着潜艇的精良构造和艇长的超人智慧，种种险境，均被化解，终于完成了海底行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填空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3160" y="18288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儒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凡尔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            （国家）科幻小说家，他是现代科幻小说的重要奠基人。他被公认为                                                           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14800" y="1828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法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523880" y="297180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现代科学幻想小说的之父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</a:rPr>
              <a:t>”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《海底两万里》诺第留斯号"/>
          <p:cNvPicPr/>
          <p:nvPr/>
        </p:nvPicPr>
        <p:blipFill>
          <a:blip r:embed="rId1"/>
          <a:stretch/>
        </p:blipFill>
        <p:spPr>
          <a:xfrm rot="1496400">
            <a:off x="1860120" y="2782440"/>
            <a:ext cx="4903920" cy="4125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071720"/>
            <a:ext cx="2433600" cy="540072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14680" y="642960"/>
            <a:ext cx="70005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作者及作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掌握作品的主要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握尼摩船长等人物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底两万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凡尔纳的的三部曲之二，其余两部是：第一部是                           ，第三部是      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凡尔纳的作品形象夸张地反映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世纪“                  ”人们征服自然，改造世界的意志和幻想，并成为              现代        小说的先河，我国的科幻小说大多也受到他作品的启发和影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0" y="25909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格兰特船长的儿女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105520" y="2209680"/>
            <a:ext cx="19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神秘岛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27160" y="3657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机器时代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267080" y="4267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西方和日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553080" y="4267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科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底两万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讲述诺第留斯号（“鹦鹉螺号”）潜艇的故事。凡尔纳的小说之所以动人，原因在于                    ，       还在于它们是           和              巧妙结合的成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底两万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书中人物寥寥，有名有姓的只有四个半即： 船长         、自然科学家           、 仆人          、捕鲸手              ，“亚伯拉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林肯”号驱逐舰舰长                 ，只在小说开头部分昙花一现，姑且算半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09680" y="2438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构思巧妙、情节惊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219320" y="29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科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895480" y="28954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幻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88620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尼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781680" y="38098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阿龙纳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600200" y="426708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康塞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886200" y="42670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尼德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•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048120" y="472428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法拉格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底两万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诺第留斯号潜艇是船长尼莫在大洋中的一座荒岛上秘密建造的，船身坚固，利用           发电。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底两万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人物在印度洋的珠场和           展开过搏斗，捕鲸手尼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兰手刃了一条凶恶的巨鲨；他们在红海里追捕过一条濒于绝种的           ，      它肉当晚就被端上了餐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09880" y="24382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海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79440" y="365760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鲨  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733920" y="45720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儒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ú,gè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底两万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书，情节跌宕起伏，悬念丛生，具有强烈的可读性，而且书中还包含了大量     、      、      、      、      、         方面的知识，小读者在阅读引人入胜的历险故事的同时，还能够轻松地获取科学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底两万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尼摩船长说了一句话来形容人类的进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你还知道作者的那些作品？写出其中几部：     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295280" y="12193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地理、历史、生物、物理、地质、气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971800" y="32767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人类进步的实在是太慢了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219320" y="434340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气球上的五星期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八十天环游地球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机器岛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大木筏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隐身新娘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352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答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尼摩船长和阿龙纳斯在海底环球探险旅行时，经历了许多险情，请概括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险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搁浅、土人围攻、同鲨鱼搏斗、冰山封路、章鱼袭击等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请说出尼摩船长与阿龙纳斯在海底环球旅行的路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从太平洋出发，经过珊瑚岛、印度洋、红海、地中海、进入大西洋、南极、北极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52280" y="3352680"/>
            <a:ext cx="8991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你认为尼摩船长是一个怎么样的人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尼摩船长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逃避人类，蛰居海底，而又隐隐约约和陆地上的某些人有一种特殊联系。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他富有同情心，性格阴郁、知识渊博、带有浪漫、神秘色彩，非常吸引人的人物。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28600" y="15228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儒勒</a:t>
            </a:r>
            <a:r>
              <a:rPr b="1" lang="en-US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华文仿宋"/>
                <a:ea typeface="华文仿宋"/>
              </a:rPr>
              <a:t>凡尔纳</a:t>
            </a: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1828.2.8</a:t>
            </a: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－</a:t>
            </a:r>
            <a:r>
              <a:rPr b="1" lang="en-US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1905.3.25</a:t>
            </a: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）是</a:t>
            </a:r>
            <a:r>
              <a:rPr b="1" lang="en-US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19</a:t>
            </a: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世纪</a:t>
            </a:r>
            <a:r>
              <a:rPr b="1" lang="zh-CN" sz="2800" spc="-1" strike="noStrike">
                <a:solidFill>
                  <a:srgbClr val="ff3300"/>
                </a:solidFill>
                <a:latin typeface="华文仿宋"/>
                <a:ea typeface="华文仿宋"/>
              </a:rPr>
              <a:t>法国</a:t>
            </a: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作家，著名的科幻小说和冒险小说作家，被誉为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华文仿宋"/>
                <a:ea typeface="华文仿宋"/>
              </a:rPr>
              <a:t>现代科学幻想小说之父</a:t>
            </a: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海底两万里</a:t>
            </a:r>
            <a:r>
              <a:rPr b="1" lang="en-US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华文仿宋"/>
                <a:ea typeface="华文仿宋"/>
              </a:rPr>
              <a:t>是他的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华文仿宋"/>
                <a:ea typeface="华文仿宋"/>
              </a:rPr>
              <a:t>幻想小说三部曲之一，也是他的名篇佳作之首。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雅坊美工04"/>
                <a:ea typeface="雅坊美工04"/>
              </a:rPr>
              <a:t>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第一部是《格兰特船长的儿女》，第三部是《神秘岛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389aa8fda0ae053208244d4a"/>
          <p:cNvPicPr/>
          <p:nvPr/>
        </p:nvPicPr>
        <p:blipFill>
          <a:blip r:embed="rId1"/>
          <a:stretch/>
        </p:blipFill>
        <p:spPr>
          <a:xfrm>
            <a:off x="7391520" y="4876920"/>
            <a:ext cx="1565280" cy="1743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609480" y="41148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作品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气球上的五星期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八十天环游地球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机器岛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大木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隐身新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等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68544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底两万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讲述诺第留斯号（“鹦鹉螺号”）潜艇的故事。凡尔纳的小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之所以动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原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在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构思巧妙、情节惊险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还在于它们是 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幻想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和 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科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巧妙结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成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中人物寥寥，有名有姓的只有四个半即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亚伯拉罕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•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林肯”号驱逐舰舰长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法拉格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在小说开头部分昙花一现，姑且算半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船长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尼摩（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设计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仿宋"/>
                <a:ea typeface="华文仿宋"/>
              </a:rPr>
              <a:t>建造了“鹦鹉螺”号潜水艇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自然科学家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阿龙纳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、 仆人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康塞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、捕鲸手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尼德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•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简介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:   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故事发生在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1866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年，法国人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阿龙纳斯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，一位生物学家，应邀赴美参加一项科学考察活动。这时，海上出了个怪物，在全世界闹得沸沸扬扬。科考活动结束之后，生物学家正准备束装就道，返回法国，却接到美国海军部的邀请，登上了一艘驱逐舰，参与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把那个怪物从海洋中清除出去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的活动。 经过千辛万苦，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怪物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未被清除，驱逐舰反被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怪物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重创，生物学家和他的仆人以及为清除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怪物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被特意请到驱逐舰上来的一名捕鲸手，都成了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怪物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的俘虏！结果发现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怪物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是一艘尚不为世人所知的潜水艇，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鹦鹉螺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号。 潜艇对俘虏倒也优待；只是，为了保守自己的秘密，潜艇艇长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尼摩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从此永远不许他们离开。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他们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别无选择，只能跟着潜水艇周游各大洋。十个月之后，这三个人终于在极其险恶的情况下逃脱，生物学家才得以把这件海底秘密公诸于世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雅坊美工04"/>
                <a:ea typeface="雅坊美工0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0" y="152280"/>
            <a:ext cx="8991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人物评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　　</a:t>
            </a:r>
            <a:r>
              <a:rPr b="1" lang="en-US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海底两万里</a:t>
            </a:r>
            <a:r>
              <a:rPr b="1" lang="en-US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中的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尼摩船长</a:t>
            </a:r>
            <a:r>
              <a:rPr b="1" lang="zh-CN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是小说里一个居主要地位的人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　　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尼摩船长</a:t>
            </a:r>
            <a:r>
              <a:rPr b="1" lang="zh-CN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是一个带有浪漫、神秘色彩，非常吸引人的人物。他如大海一般兼具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热情、冷酷、和善、危险、温和、暴躁、随和、任性</a:t>
            </a:r>
            <a:r>
              <a:rPr b="1" lang="en-US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……</a:t>
            </a:r>
            <a:r>
              <a:rPr b="1" lang="zh-CN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他根据自己的设计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建造了“鹦鹉螺”号潜水艇</a:t>
            </a:r>
            <a:r>
              <a:rPr b="1" lang="zh-CN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，潜航在海底进行大规模的科学研究，但这好像又不是他这种孤独生活的惟一目的。他躲避开他的敌人和迫害者，在海底探寻自由，又对自己孤独的生活深深感到悲痛。但他的良心从没有被残酷的生活经历磨灭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阿龙纳斯   </a:t>
            </a:r>
            <a:r>
              <a:rPr b="1" lang="zh-CN" sz="2000" spc="-1" strike="noStrike">
                <a:solidFill>
                  <a:srgbClr val="ff0000"/>
                </a:solidFill>
                <a:latin typeface="华文仿宋"/>
                <a:ea typeface="华文仿宋"/>
              </a:rPr>
              <a:t>　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华文仿宋"/>
                <a:ea typeface="华文仿宋"/>
              </a:rPr>
              <a:t>生物学家</a:t>
            </a:r>
            <a:r>
              <a:rPr b="1" lang="zh-CN" sz="2400" spc="-1" strike="noStrike" u="sng">
                <a:solidFill>
                  <a:srgbClr val="003399"/>
                </a:solidFill>
                <a:uFillTx/>
                <a:latin typeface="华文仿宋"/>
                <a:ea typeface="华文仿宋"/>
              </a:rPr>
              <a:t>，博古通今，</a:t>
            </a:r>
            <a:r>
              <a:rPr b="1" lang="zh-CN" sz="2400" spc="-1" strike="noStrike">
                <a:solidFill>
                  <a:srgbClr val="003399"/>
                </a:solidFill>
                <a:latin typeface="华文仿宋"/>
                <a:ea typeface="华文仿宋"/>
              </a:rPr>
              <a:t>乘潜艇在水下航行，使他饱览了海洋里的 各种动植物；他和他那位对分类学入了迷的仆人康塞尔，将这些海洋生物向我们做了详实的介绍，界、门、纲、目、科、属、种，说得井井有条，使读者认识了许多海洋生物；阿龙纳斯还把在海洋中见到的种种奇观，娓娓道来，令读者大开眼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2895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康尔塞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华文仿宋"/>
              </a:rPr>
              <a:t>阿龙纳斯教授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仆人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华文仿宋"/>
              </a:rPr>
              <a:t>，生性沉稳，他从不大惊小怪。总是那么气定神闲，为人随和，从不着急上火</a:t>
            </a:r>
            <a:r>
              <a:rPr b="1" lang="en-US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华文仿宋"/>
              </a:rPr>
              <a:t>至少你看不出他着急上火。他精通分类理论，遇到什么总是认认真真或者说一本正经地把它们分类，但是对那些东西的名字却一无所知，可以说他是个分类狂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28600" y="30492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尼德</a:t>
            </a:r>
            <a:r>
              <a:rPr b="1" lang="en-US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华文仿宋"/>
                <a:ea typeface="华文仿宋"/>
              </a:rPr>
              <a:t>　　是个比较原始的人，一个野性十足的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捕鲸手</a:t>
            </a:r>
            <a:r>
              <a:rPr b="1" lang="zh-CN" sz="2800" spc="-1" strike="noStrike">
                <a:solidFill>
                  <a:srgbClr val="003399"/>
                </a:solidFill>
                <a:latin typeface="华文仿宋"/>
                <a:ea typeface="华文仿宋"/>
              </a:rPr>
              <a:t>。他也会赞叹极地的美，但对他来说更重要的是牛排，小牛肉，小酒馆里的酒，在陆地上自由地行走。他性情火暴，受不了被监禁，总是计划逃脱，如果没有他，教授和康塞尔最后不可能回到陆地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d7c9ca3f95630da37c1e71fd"/>
          <p:cNvPicPr/>
          <p:nvPr/>
        </p:nvPicPr>
        <p:blipFill>
          <a:blip r:embed="rId1"/>
          <a:stretch/>
        </p:blipFill>
        <p:spPr>
          <a:xfrm>
            <a:off x="6705720" y="228600"/>
            <a:ext cx="2114280" cy="2616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04920" y="3886200"/>
            <a:ext cx="7848360" cy="1068840"/>
          </a:xfrm>
          <a:prstGeom prst="rect">
            <a:avLst/>
          </a:prstGeom>
          <a:solidFill>
            <a:srgbClr val="bbe0e3">
              <a:alpha val="32000"/>
            </a:srgbClr>
          </a:solidFill>
          <a:ln w="28440">
            <a:solidFill>
              <a:srgbClr val="ccff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法拉格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　　“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亚伯拉罕</a:t>
            </a:r>
            <a:r>
              <a:rPr b="1" lang="en-US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林肯”号驱逐舰舰长</a:t>
            </a:r>
            <a:r>
              <a:rPr b="1" lang="zh-CN" sz="3200" spc="-1" strike="noStrike">
                <a:solidFill>
                  <a:srgbClr val="003399"/>
                </a:solidFill>
                <a:latin typeface="华文仿宋"/>
                <a:ea typeface="华文仿宋"/>
              </a:rPr>
              <a:t>，只在小说开头部分昙花一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8:56:39Z</dcterms:created>
  <dc:creator>Administrator</dc:creator>
  <dc:description/>
  <dc:language>en-US</dc:language>
  <cp:lastModifiedBy>微软用户</cp:lastModifiedBy>
  <dcterms:modified xsi:type="dcterms:W3CDTF">2019-06-13T05:11:2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