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49.jpeg" ContentType="image/jpeg"/>
  <Override PartName="/ppt/media/image1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8.png" ContentType="image/png"/>
  <Override PartName="/ppt/media/image20.png" ContentType="image/png"/>
  <Override PartName="/ppt/media/image24.png" ContentType="image/png"/>
  <Override PartName="/ppt/media/image23.png" ContentType="image/png"/>
  <Override PartName="/ppt/media/image32.jpeg" ContentType="image/jpeg"/>
  <Override PartName="/ppt/media/image9.png" ContentType="image/png"/>
  <Override PartName="/ppt/media/image22.jpeg" ContentType="image/jpeg"/>
  <Override PartName="/ppt/media/image38.jpeg" ContentType="image/jpeg"/>
  <Override PartName="/ppt/media/image28.png" ContentType="image/png"/>
  <Override PartName="/ppt/media/image35.jpeg" ContentType="image/jpeg"/>
  <Override PartName="/ppt/media/image36.jpeg" ContentType="image/jpeg"/>
  <Override PartName="/ppt/media/image10.png" ContentType="image/png"/>
  <Override PartName="/ppt/media/image29.jpeg" ContentType="image/jpeg"/>
  <Override PartName="/ppt/media/image58.jpeg" ContentType="image/jpeg"/>
  <Override PartName="/ppt/media/image1.jpeg" ContentType="image/jpeg"/>
  <Override PartName="/ppt/media/image21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8.png" ContentType="image/png"/>
  <Override PartName="/ppt/media/image17.png" ContentType="image/png"/>
  <Override PartName="/ppt/media/image39.jpeg" ContentType="image/jpeg"/>
  <Override PartName="/ppt/media/image5.png" ContentType="image/png"/>
  <Override PartName="/ppt/media/image52.jpeg" ContentType="image/jpeg"/>
  <Override PartName="/ppt/media/image13.png" ContentType="image/png"/>
  <Override PartName="/ppt/media/image57.gif" ContentType="image/gif"/>
  <Override PartName="/ppt/media/image30.jpeg" ContentType="image/jpe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46.png" ContentType="image/png"/>
  <Override PartName="/ppt/media/image56.png" ContentType="image/png"/>
  <Override PartName="/ppt/media/image53.gif" ContentType="image/gif"/>
  <Override PartName="/ppt/media/image47.jpeg" ContentType="image/jpeg"/>
  <Override PartName="/ppt/media/image48.gif" ContentType="image/gif"/>
  <Override PartName="/ppt/media/image50.jpeg" ContentType="image/jpeg"/>
  <Override PartName="/ppt/media/image51.jpeg" ContentType="image/jpeg"/>
  <Override PartName="/ppt/media/bomb.wav" ContentType="audio/x-wav"/>
  <Override PartName="/ppt/media/chimes.wav" ContentType="audio/x-wav"/>
  <Override PartName="/ppt/media/image5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</p:sld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  <p:sldId id="267" r:id="rId76"/>
    <p:sldId id="268" r:id="rId77"/>
    <p:sldId id="269" r:id="rId78"/>
    <p:sldId id="270" r:id="rId79"/>
    <p:sldId id="271" r:id="rId80"/>
    <p:sldId id="272" r:id="rId81"/>
    <p:sldId id="273" r:id="rId82"/>
    <p:sldId id="274" r:id="rId83"/>
    <p:sldId id="275" r:id="rId84"/>
    <p:sldId id="276" r:id="rId85"/>
    <p:sldId id="277" r:id="rId86"/>
    <p:sldId id="278" r:id="rId87"/>
    <p:sldId id="279" r:id="rId88"/>
    <p:sldId id="280" r:id="rId89"/>
    <p:sldId id="281" r:id="rId90"/>
    <p:sldId id="282" r:id="rId91"/>
    <p:sldId id="283" r:id="rId92"/>
    <p:sldId id="284" r:id="rId93"/>
    <p:sldId id="285" r:id="rId94"/>
    <p:sldId id="286" r:id="rId95"/>
    <p:sldId id="287" r:id="rId96"/>
    <p:sldId id="288" r:id="rId97"/>
    <p:sldId id="289" r:id="rId98"/>
    <p:sldId id="290" r:id="rId99"/>
    <p:sldId id="291" r:id="rId100"/>
    <p:sldId id="292" r:id="rId101"/>
    <p:sldId id="293" r:id="rId102"/>
    <p:sldId id="294" r:id="rId103"/>
    <p:sldId id="295" r:id="rId104"/>
    <p:sldId id="296" r:id="rId105"/>
    <p:sldId id="297" r:id="rId106"/>
    <p:sldId id="298" r:id="rId107"/>
    <p:sldId id="299" r:id="rId108"/>
    <p:sldId id="300" r:id="rId109"/>
    <p:sldId id="301" r:id="rId110"/>
    <p:sldId id="302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slide" Target="slides/slide12.xml"/><Relationship Id="rId77" Type="http://schemas.openxmlformats.org/officeDocument/2006/relationships/slide" Target="slides/slide13.xml"/><Relationship Id="rId78" Type="http://schemas.openxmlformats.org/officeDocument/2006/relationships/slide" Target="slides/slide14.xml"/><Relationship Id="rId79" Type="http://schemas.openxmlformats.org/officeDocument/2006/relationships/slide" Target="slides/slide15.xml"/><Relationship Id="rId80" Type="http://schemas.openxmlformats.org/officeDocument/2006/relationships/slide" Target="slides/slide16.xml"/><Relationship Id="rId81" Type="http://schemas.openxmlformats.org/officeDocument/2006/relationships/slide" Target="slides/slide17.xml"/><Relationship Id="rId82" Type="http://schemas.openxmlformats.org/officeDocument/2006/relationships/slide" Target="slides/slide18.xml"/><Relationship Id="rId83" Type="http://schemas.openxmlformats.org/officeDocument/2006/relationships/slide" Target="slides/slide19.xml"/><Relationship Id="rId84" Type="http://schemas.openxmlformats.org/officeDocument/2006/relationships/slide" Target="slides/slide20.xml"/><Relationship Id="rId85" Type="http://schemas.openxmlformats.org/officeDocument/2006/relationships/slide" Target="slides/slide21.xml"/><Relationship Id="rId86" Type="http://schemas.openxmlformats.org/officeDocument/2006/relationships/slide" Target="slides/slide22.xml"/><Relationship Id="rId87" Type="http://schemas.openxmlformats.org/officeDocument/2006/relationships/slide" Target="slides/slide23.xml"/><Relationship Id="rId88" Type="http://schemas.openxmlformats.org/officeDocument/2006/relationships/slide" Target="slides/slide24.xml"/><Relationship Id="rId89" Type="http://schemas.openxmlformats.org/officeDocument/2006/relationships/slide" Target="slides/slide25.xml"/><Relationship Id="rId90" Type="http://schemas.openxmlformats.org/officeDocument/2006/relationships/slide" Target="slides/slide26.xml"/><Relationship Id="rId91" Type="http://schemas.openxmlformats.org/officeDocument/2006/relationships/slide" Target="slides/slide27.xml"/><Relationship Id="rId92" Type="http://schemas.openxmlformats.org/officeDocument/2006/relationships/slide" Target="slides/slide28.xml"/><Relationship Id="rId93" Type="http://schemas.openxmlformats.org/officeDocument/2006/relationships/slide" Target="slides/slide29.xml"/><Relationship Id="rId94" Type="http://schemas.openxmlformats.org/officeDocument/2006/relationships/slide" Target="slides/slide30.xml"/><Relationship Id="rId95" Type="http://schemas.openxmlformats.org/officeDocument/2006/relationships/slide" Target="slides/slide31.xml"/><Relationship Id="rId96" Type="http://schemas.openxmlformats.org/officeDocument/2006/relationships/slide" Target="slides/slide32.xml"/><Relationship Id="rId97" Type="http://schemas.openxmlformats.org/officeDocument/2006/relationships/slide" Target="slides/slide33.xml"/><Relationship Id="rId98" Type="http://schemas.openxmlformats.org/officeDocument/2006/relationships/slide" Target="slides/slide34.xml"/><Relationship Id="rId99" Type="http://schemas.openxmlformats.org/officeDocument/2006/relationships/slide" Target="slides/slide35.xml"/><Relationship Id="rId100" Type="http://schemas.openxmlformats.org/officeDocument/2006/relationships/slide" Target="slides/slide36.xml"/><Relationship Id="rId101" Type="http://schemas.openxmlformats.org/officeDocument/2006/relationships/slide" Target="slides/slide37.xml"/><Relationship Id="rId102" Type="http://schemas.openxmlformats.org/officeDocument/2006/relationships/slide" Target="slides/slide38.xml"/><Relationship Id="rId103" Type="http://schemas.openxmlformats.org/officeDocument/2006/relationships/slide" Target="slides/slide39.xml"/><Relationship Id="rId104" Type="http://schemas.openxmlformats.org/officeDocument/2006/relationships/slide" Target="slides/slide40.xml"/><Relationship Id="rId105" Type="http://schemas.openxmlformats.org/officeDocument/2006/relationships/slide" Target="slides/slide41.xml"/><Relationship Id="rId106" Type="http://schemas.openxmlformats.org/officeDocument/2006/relationships/slide" Target="slides/slide42.xml"/><Relationship Id="rId107" Type="http://schemas.openxmlformats.org/officeDocument/2006/relationships/slide" Target="slides/slide43.xml"/><Relationship Id="rId108" Type="http://schemas.openxmlformats.org/officeDocument/2006/relationships/slide" Target="slides/slide44.xml"/><Relationship Id="rId109" Type="http://schemas.openxmlformats.org/officeDocument/2006/relationships/slide" Target="slides/slide45.xml"/><Relationship Id="rId110" Type="http://schemas.openxmlformats.org/officeDocument/2006/relationships/slide" Target="slides/slide46.xml"/><Relationship Id="rId111" Type="http://schemas.openxmlformats.org/officeDocument/2006/relationships/slide" Target="slides/slide47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97FD-F7C7-4217-AC09-36F3567C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F8B8C-A283-4347-A456-35EC805F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C5D7F-DE3B-482A-97EA-5AE138F2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FFE7B-FB9F-49AA-980F-2E9BA51B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2C7C8-ED03-4F06-88DF-F1F795B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92565-3734-462C-8E90-E162585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11A83-B64C-4952-87D3-6BAA990E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53032-DC1D-4BE2-BE1C-10C6DA3F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8A0B2-3F02-4456-A9C9-2F9ECA20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9B6DE-FC1D-44CC-B457-BCC290DB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F36F8-2EDA-4E44-9E1E-79D9BBD0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DD023-CFCC-45A5-8A62-7415B5F1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1B244-52EA-426D-9FD9-812E1C10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4419E-7FF5-47F8-81BB-AEC2A9BA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5389E-E3FC-4C37-B7F9-BA2B6098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EEB81-663F-4091-ABBF-5DAA7BA0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F4C1B-75D7-4F8F-9B6F-A18D9FD3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715A0-FB71-4203-81B9-ED0FCA1F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CD02F-EDD2-4674-9F4A-31E94C1D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48238-9987-42BB-B61D-8FC6076B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853F3-5008-4F9D-8A5A-0CF8C8AD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CE93B-E086-4A6F-9B37-14A4760B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8FB2F-B41D-4B33-AF38-BB5883E7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3E697-1418-42DE-85B8-8AE31E5B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FAEC6-A860-4CBD-BBE8-289AF14D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A12AF-D84B-460C-AA38-49F49FAD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93AAD-C5C1-44B6-BC44-5D970F8A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AB816-45B2-47AE-8980-297CE4E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41484-F73D-435F-A450-93C8398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B3740-0C5F-4260-A82D-FAAF6BAE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ABA-EB76-4904-AAE1-DF99D519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12E4B-BE70-41BA-9122-BAD489D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02C0B-F9C0-4FAB-A142-5608DB9E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FDEA1-FC57-4A2E-A8B7-8467D4E1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49E9C-4520-4A37-B42E-218B734C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F0FAE-7A24-4DCB-A1E8-E8DBBCBE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5F3C0-62FC-4279-97E5-289F7E16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18BAE-8FDF-4DD7-AFDF-375635A6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01F60-8A18-42D3-B79D-2A3E7313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751C7-9DE4-404E-A438-2FA147B5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E9DBC-F4F6-4284-A93E-B752E2EF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2F4-B34C-440A-BF6C-8F1AFD1D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E3330-2124-4DE0-9109-D30E4403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EFEEF-0D86-47C9-9A60-1A006BF4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1B93F-B581-4230-B0E1-5D24621B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8C5BE-4E93-4994-A94A-29C8EF6F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707F7-A3D1-405D-93F6-980CE2D3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3E803-5F39-4E81-9CBC-742F4743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BBA2C-D06E-41B2-892F-68F6215A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1D3A2-0001-4146-92CD-E9D328DC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0B0B2-440B-4B10-A6CF-DB07955B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720E6-D983-467F-9219-7363963C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9FE-2D98-4BEE-A57C-5C554AD7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409E0-21EE-40A2-B55E-3955D8BD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B8B5A-4EB9-410D-88C0-8B43627A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E4B16-3D04-4218-B4EE-93065015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878CE-5C6F-40F1-9B15-96BD4F68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FD834-B2AF-4B45-A6C7-ACFF2BF2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B4E93-FE56-4CA7-B5E0-09F13285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A9EEE-FFA2-4E93-B982-B1959D5C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9CF18-81E3-46B5-9077-CD59CC79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B3144-5261-4D77-82C6-43C206AB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89CCA-7D12-4C75-A0DA-ED9A3310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5EA-8EE5-4FE4-9E0F-2C548087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050BC-3064-472A-9CD9-3C037964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D9CE7-8878-45C0-9DC7-6BABF8F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AF126-E150-493A-B77D-6E8F4C2F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92713-E664-445B-A6A9-494E004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D066B-2FF1-4E11-A88A-11C1AAA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21FFD-B63D-43D3-B1A6-BD75B1D9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FA37D-878D-4095-B2C9-31C064FB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DD8EA-7FDA-488D-9C0C-E6CA8D10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0D133-81F7-4955-949B-14E26742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255FE-5EB3-47D2-AFBE-D4BE83F6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43F-8FCF-447B-A48D-D746C199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965D3-A3BD-4414-92CA-4DD20959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E50A5-5920-4C4E-9A76-783B5BC5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41FF7-D4ED-4F6E-B8C0-2381ADB5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DF937-2564-4E6F-8C61-0FC1DAF5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7A94B-EEF4-4C8D-B8FC-E16E6FAB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6172E-9A05-4073-B42C-FA0AC3D8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6E0E6-0F28-4E46-8CE2-079A5D9C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F9EEA-1643-4B0B-BC46-3F512BF6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EBB9D-A110-4C93-9FF5-D4FB8D21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5E9C2-F3F7-4CE2-8D0F-9D2DFE7E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914-9A2F-48AB-A6BA-C1903C64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4BA88-CA78-4C67-B6BB-0BE6DDAC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4E24C-29F4-43DF-B655-C176AC10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38958-ABC1-44B1-AD1B-4900B9E9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B4A14-3EA6-480E-B847-363D4813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6496C-FE03-49A8-90D4-DA423A43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1CA5B-04C9-41EF-A1C8-D338239B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339EB-696A-413E-A453-52060636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7B287-5037-4EDB-A1CD-BE98D2CD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F2E49-5CD6-4523-BB30-EC9C93E3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16EA4-C505-49AC-96BA-A9A46EA2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218-EFCC-4A18-A583-67E01815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075C2-E5B4-4C93-805D-87329E1E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6F802-3263-4DDE-9655-EF6B9713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319A9-D74B-4537-8925-3E8A28F2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CB977-F99F-4EFF-ACD1-5DD0B903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E9AB5-443D-4B80-907C-22007E8F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850D9-2D1C-46C2-A31A-1B363E17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32BD0-FE8E-40CE-828E-AF7217E5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A412CC-AE7D-4A63-BE79-93CC1ED0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5F338-BC83-4486-8570-3F17BDFF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8E0F1-B203-4773-BD6A-B51EF8C1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26F-3579-4F8D-AA22-CAEC1F4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43EA4-0E17-444A-A0AC-2668EECF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F9455-F2B8-47A7-BBAB-4F5BEE4B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EC5C1-9825-4D4D-9F56-1F03CA42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E7920-D9BA-4FC1-B533-0DD8B7F6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E3B42-EAF8-4563-BC79-9FDAA598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1EB6E-ECDB-429F-92A8-9729140F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0EDF8-EF63-4C0C-A751-17DB8D36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B4334-CFA2-409D-9CDA-CFAFB17C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30A6E-D825-4DC6-B77C-46C60E9B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C81B9-4F24-4B75-8659-06C52F39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15E-91B7-4E38-8B70-3B6A16E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426E8-4736-4568-9A08-5FDCE78C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C2C266-8767-476D-92F5-B774F856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5A3AB-FBB5-4300-BEA2-21D43376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8AA14-8FAE-4AD9-BFCE-418466F5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6807C-6C6A-4903-B1BF-3DFADF53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80057-1326-47F1-9BF5-316C2E21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E0DA5-5AC5-40BD-A332-594C76B4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2594B-C613-407D-9483-5A1B183F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2B5EF-F96B-43C3-A082-BE55DB14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4512E-ED09-434C-BBB7-08CCD71F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8E5-A527-4C59-965D-2E873CD3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2E966-872E-4FDB-96E4-39B05C72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DE7DB-57C5-4514-913A-5B62D6C1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DCAF0-1D20-4C14-9F71-085426CF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BA04A-9A9E-4EA6-AB20-092BABBB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CE0F1-FF04-4BF1-9F42-0C792126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032C9C-2F0B-466A-8223-5769D5D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69D8D-B86A-47FA-A350-6F749983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0C07F-C01B-4288-9975-CE0E0A1E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81E39-2931-43C5-9957-1E2DA37B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37D4C-79D8-4E44-81C2-1DDB3745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F70-AC4E-4888-AD88-AD781086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E027ED-7E37-4007-A125-84132123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3E2A3-4C8A-4F29-BD66-28F9BE41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FABFA3-7A1F-4423-AB07-3E26521C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C96B95-59B4-489A-904A-74733B3D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EDFBF7-9E06-4E88-AE72-0C074C3D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87312-24B6-4AA9-98B5-F73D9E5F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3DBF0-5F99-416B-86F9-639E2275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F87EB-49C3-4480-90DA-8A880087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4EC08-0B2F-4A11-979D-588F3D30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6F088-33AE-48EB-8E53-2D7706A6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340-E0AF-4F18-8935-FD87217E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42CF6-A180-4CBB-9576-8E7F1111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78296E-79AA-421B-8454-D711B5E7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EF50E2-8A5F-4B41-A801-89A3F9D6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AD7DE-C7FE-4AA0-B0C1-8A644075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6EF99-51D6-40F5-A747-3317E523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A8C52-01BA-4179-8842-B3A86CBA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2516D-5A6F-4CA8-A700-5116B09A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2ADBD-BB6C-4CFA-A114-7405423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27381-1D2B-4C72-9292-834F0928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5C757-5401-4642-8F92-08FE0226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55949-1964-4F95-97D8-EA6A89D5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35FFBD-4C29-44CF-AB10-334D2FAE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56430A-A0F8-4B25-8283-D655E043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A88C61-CABC-4FCA-BAD5-9D849717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E53584-9544-4A66-939B-6B74FBB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E4EA73-61C4-4FC4-8D5B-35F0CAEF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B7461-B097-4401-BA38-35F75A01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133E92-0850-4499-B747-554275E6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2A1FD-EBAD-4A4F-802D-6CC1629F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21372-EBD3-4DB8-8241-49DE0218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49FF2-E62A-4243-96B7-C148846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DA410-DFE9-48EE-9941-04787CAE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1E228-C61A-411C-BC65-929A191D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83BD15-3A3E-43C5-A369-1BBDD2AC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C464B3-821B-4DA7-B70F-8A2506DB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20D4DC-DAC2-4A88-9E7D-62F8692E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1FDDB1-906C-4FD7-B212-F7AFF45E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A1B168-9FF2-44D2-BB20-1A5E17A4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DBA2C3-FA59-4B62-B45D-F7D9ABE4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D3D830-A5A4-4CA6-BED4-357CC802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39FA18-3E3E-4BF6-9281-8563EEDF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BE1396-1847-4D11-AAE6-AD4D623B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D378E-64D7-43C2-BC53-256396BC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76BC8-5E2C-41DD-95F0-207ACBD9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3426FD-3F8B-4F0E-8B11-6B0EC8B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97811A-5B3C-46AD-A796-447DE8D8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F324FC-5FFF-46E2-82B3-5F5F7A5A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CEE790-CC3C-4EE8-86FE-F17A8999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DFE161-9061-40E9-9223-BCD66EDE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8E8592-5FC4-43E5-87D5-2E9E4679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353352-5BFD-4BD0-99C1-59CAF372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9F1027-5B2E-4A33-B326-7D2C60CC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2E841E-3418-4346-B5C9-9BED85A7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11C7F3-1AFC-4696-A3A5-2DEAB32B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45C6D6-DEF5-404A-A24C-EE2B1CCF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7DB42A-3524-4551-AAFF-0C7C3BE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1651DC-5DA0-42F0-81BB-1B9D121B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6BE084-1746-4FF5-9FE4-A77DA3F8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03B287-7782-41E1-8E3A-EBA281D2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7508AF-CCCD-4CE5-9AD2-B046218B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C85603-E97E-4030-98B6-ACCABDF8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BD5704-D1D5-4DB8-BC57-E580BDE4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DE041B-E73D-45B6-8A2C-16BD4AEA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52152A-DA08-49A6-9341-BC0638A4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82E4CC-39A0-4D4A-B715-98D7920F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E7E6BF-EBB3-49CF-BC21-2863A75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8C58A3-5185-44B6-AA3B-94E57D6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D127DB-0683-4E3B-BF47-FAB1DA4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1EDEE5-74EC-4AF5-BD08-AD908C36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1903CC-C4BB-4DF7-9C21-5CBFA5AF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8FF4BD-B471-4A57-8CF5-346EDA8A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F274D6-1781-43C6-BCC8-BBCC1E25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A5A27F-2E84-42D7-B52C-B928E50D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8D492F-9E04-4AF6-8101-E6955299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3E4C58-A9B5-47A2-9B19-07CDFFB0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73337B-F00B-4C33-B4FC-BD2BD88F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4735B6-0D73-4371-A5FB-96811E84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8186ED-B261-47F1-ABFD-0C330B6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E5C3CE-D432-4A95-9AE1-05095906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AFD488-5DB6-4052-93A8-3134BE05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89AB60-2E12-414D-B1D9-68E2B91B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CA0470-10B1-4006-B4C0-C6470746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0C9657-CDA1-4C43-9070-90234B0D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39D3D4-1117-4CA9-87F4-3D83A025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CAC713-B33B-417A-8146-04006B38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CBFCC9-6E23-43E3-B52B-8271541F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2B05D7-B256-4FD7-AB8A-14E00AC4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8A5F68-858E-42D5-9502-E63FA5FC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62178B-1E93-42A9-A503-8FE4D0DA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2A7516-D106-4CC8-9232-EFA3EEE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DA7E98-43B4-43BD-903F-FE6FD1CB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3B29AA-3F0B-403F-824F-EADEC7A3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626062-29EE-4E32-A69B-698F439A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568310-9BF6-4400-8BD5-AB4BDFBB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473E19-40DB-4526-9567-0CE49080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D9B88C-30C4-4BA1-BA93-C1909398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2C00A1-5CF4-4805-AAA3-721C29C8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BF0475-B634-4877-99AE-68B78C0C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042A7B-4225-471E-8163-214EF55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D4EB6B-CF91-4923-BBCC-6C77F955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5FF213-C063-431D-B20A-F5C25470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4F5298-C5FD-442D-8825-D18EF314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3EFA03-7A0F-4C1A-88E9-6D84363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A7F4D7-7DDF-4750-AB7E-C2A2D527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116EBE-E9D9-44BF-81AF-C81DE19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F1E4BB-322D-45E6-B0AE-EB66B894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F5A0D4-D464-445C-81A4-09DF2702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C5F19F-222B-404E-84FE-2908395C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B6D184-74C5-4447-9639-1CB3E32D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7D5A5C-A7BB-4023-9B4E-4D70C15D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B040F6-3224-47C3-8565-687EC365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0A0AC7-E02E-4728-8227-455D66E3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68E6FD-263A-40AB-8FAE-B90FFB3E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46F352-B89B-4DB9-A877-515BF131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2D003B-DE5B-41DE-925C-6B952DD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310858-3F91-4886-8932-992179B2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2AD4F7-38F5-43D4-9470-DAD2F7DA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CD21F5-FCE3-4075-BCB6-C229892F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0A4AEB-6C7A-443C-988F-B7237B2D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D4C72F-0EE0-488D-B62B-844382E6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1D3B98-0A67-4F7C-A46A-5ED6FBA5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CD7754-EBFF-4FEF-AE1D-911D800A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1D8EA1-694E-4FA6-A278-C3254EB2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27337F-1B8C-4E18-9FC6-81633ED3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C9B5BA-7FEF-4408-B0FE-911E2DDB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C14E1A-D8C0-4793-AAAA-3796D33F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C104FD-6512-4E7A-90A1-7B16034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271927-A187-4588-98CB-636624EA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ACD947-3C21-41F0-B43C-94227D04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A378FF-6FF7-4A0A-B2E6-6A3911DF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FCAB88-7606-4328-B4E2-D991E7A2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954566-470E-4829-AC96-1A0D680F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DED6D3-910B-40AB-8561-6F5DD40E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32FA85-CD92-4B01-B998-7995023F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4EC61C-380F-4044-8CD2-01ED0CC9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909E90-7543-4F7A-9675-65EB89F4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F3A245-AD76-42FF-A633-83E0DCA9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D6C128-ABAA-4D6D-AFCF-638AF041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44C573-54EE-4463-9A83-B04BD122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4FD02E-D70D-417C-B756-33789C33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49C3-2DA1-4981-AE14-0671EA93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0CA287-7045-4655-B618-677C552D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6A67B9-0A0F-4571-A704-2EBF4356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12D88F-C02C-45FD-891D-6C89D5FE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B9E099-9817-4683-AF0A-95CC42BF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521F65-8EEB-437E-8B4E-11BC8C8F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984906-5DFD-4716-9504-0A69CEFA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66EBC1-EF3D-4D11-AF4D-2F9EBBC4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B975CB-F7A8-4A22-B9A9-99698BD2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ECB12D-33E3-497D-B018-980A67DF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D77789-AC98-4F6B-9B70-9DA8BD0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67E4-8E8F-46F1-BB70-809C4B8B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847C60-9CC1-4975-970A-E2287C26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1E9B9A-4014-46E4-B131-696D8DC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14A059-C751-4E2E-A469-13644641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F8334E-DFA9-442C-837F-9E70A03F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447536-8EF3-48C4-9D6A-7EDB0D2F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612ABE-1FA4-4296-B485-87808C7C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C0DE4B-040C-4394-8602-B8FCFB40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6E99DE-37FB-47A6-8B67-AD9B6E3C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A79047-D3D4-4F7B-9D8D-3D2D9B56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00487F-47F3-4635-8CEC-A85AAD69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F1D6-93BC-48FE-BDA7-FA519FFF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D189E1-AD78-4E0F-9082-EC61C0CB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442309-C78E-4415-BF97-91A29A8C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B2F324-53F9-461D-8775-B7C99842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3E82F2-1EB4-4E14-8607-C420D3E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518D0C-484D-48E3-96B0-0D4D442D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92C633-51D7-4048-AD53-203584AE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47F406-A412-486C-934C-8DE3B9F4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57164D-9079-40F7-99AF-A08E4FA6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6711DE-3E69-4A6F-BCB6-0922E732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BF4D8D-574C-4179-88AA-4CF83FDD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F855-69AA-4E96-B645-3A005429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E8A3EF-D506-48B9-90DD-0669470F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F6ABBC-E351-4F78-9815-E3043393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AF1009-DD18-43B5-823E-FBCC281D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D486F0-C8A3-4DDD-9AF2-25C7958F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3664BC-3950-4379-8FE7-4238555D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8786A4-0B07-4239-9496-E45380C3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D0D39B-4813-44A5-983E-7AE779AC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FD49C4-7D82-439B-B9D6-41F8AA79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B3F3F1-30B9-4F25-A280-477BE208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2D8D1A-F26A-4B41-B835-DC59F733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325B-6E2A-408C-8142-75E3E6C2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F7DD75-4E27-495A-95D7-5C64043E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25D8EB-1998-402E-A896-AEBBABD9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D26413-0B74-48B9-8751-4EDFD906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F92E86-D8C6-4FFC-93A5-6EE6A6B3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EE80D0-B7A3-4B1F-A456-459BEA20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9BEE73-8861-4CC8-8F83-2A117340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124065-4725-4479-8BEB-4B7D2E6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7F1E49-0BB3-4193-A651-C779EBE2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5209E5-7AE0-4101-9D35-11D66878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1A44C8-F32C-41AA-BB9B-6F9A1706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4335-3CB5-4B14-B1F0-C8399C85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49E06F-E1FF-4E2E-AB60-A33D05BF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F28439-2F39-471E-886F-7A9526E1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3BD39A-5C7E-4B16-B40A-2D716EBA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BC31DA-BC2B-48D8-ADF0-44BF974B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910F72-2557-447D-AF54-6ABBA2B6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E7D324-065D-43B9-823C-4CAFCE5A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EA2DA0-04AA-4DE5-8FE8-34A7CACF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2DACF0-0E74-4077-A236-E9D42D3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400C85-32AC-411F-95CD-71EC4728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81CC67-25A0-482A-8E92-ADC5E80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1BCC-FDC6-40AA-9D1C-62E1FF9F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066FE9-3780-4C85-B36E-4FD130E3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358BAC-7333-4A36-BCAD-E185D1A4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D0A440-53E3-4363-A55C-3D1AC3A7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5F31F8-51DC-4797-9A12-F2DF663A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A41558-0E0C-4A9E-9B60-AD7DA570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66C70E-AB9A-415A-BFE3-FD63C6EF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A27DCF-1F0A-49FC-89CC-255762A3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4309B8-4D55-4CF3-AEC1-15E3EC16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F7CBB9-8C6F-42BD-B10F-CCECF70A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FA4E1D-FD3B-4137-87D6-291B2766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276E-17FA-4D36-A9E1-B747DDCD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D64FE0-17AF-4CC0-904E-0FF960FF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5CF0A5-E571-444B-BD43-66FE1FB3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0329E8-7390-4A16-ABB7-F5D1BDFE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2FE30B-07D4-4FBE-A5D8-FB771E23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103D7B-2B1E-4B68-9B7E-1590D285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0FEC36-1F9C-43AB-B0E9-EF8EF47A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CE358C-BFE8-49CE-9912-621B770E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1C98B6-0462-451F-BDB0-E9416996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6F93E6-AB61-4077-ABC1-8E039C50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811DF1-1CFE-4E12-909F-32620CD9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E672-E50A-403A-AE80-95E1B011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26B0EC-EA7D-4666-85F8-389B20D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CBF3DC-8C63-42DC-9655-83669DE1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AF44F9-BDED-4BE6-9E26-2397A96E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D89BAC-FB72-4692-B6E9-EC2EA7D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3D9254-B83A-47E6-A6B9-4BAC79E5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C55D32-4FC5-49B2-80CA-CEC701B8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5D1B76-F596-4C14-92CB-BE3A1F1B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8A57AB-AB17-421A-A8D3-FA3FE70B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6378F7-BD40-4C76-BCC6-E6E58D0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C82358-37B0-417B-A581-3C58764F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60E9-B8A0-4871-B4F4-62EF2E1D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8BB05AE-8945-40F1-A7FA-D65649FD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3FB0784-2FEA-4E20-9B38-BCAB3DA7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0AD0B0-3D03-43A3-B1BF-229E608B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CC5DAA-A25F-4437-B96D-1894E927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57B262-3FF2-4A50-B5B9-289DF3BD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94F822-A15B-4570-B144-4B702E71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7E0EB9-CB9F-4B06-A9E0-F1719C9E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E9F281-80AF-47D2-AAFB-21005E98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44E5A2-5E86-40C0-A791-BE44FA5B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600A6D-6C17-4FA3-B567-30668C2C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9165-907C-4537-8F83-943F208D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76DF88-BCB3-4627-B9B9-52C1FD26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7F72BE-4D26-4CCC-A33E-D7EC2537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19FEB8-6AB7-4F2A-A4DC-AB639201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128D03-EFB4-4251-B6AA-F5490FF8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1DA4BE-33DE-49B8-9359-3D8C92B4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9D64F0-1B85-47E3-83C2-5FB496CF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363B4E-8558-45C3-84C7-EDC2D1B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A628DDF-115F-48BC-9969-097B0C0C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3CCA6C-AFAD-4392-9961-526488A7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5DF0F7-5BD2-420D-9398-80E65689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DF30-9A9F-4A4F-BCAD-6C863B5F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242373-1AA6-4C6E-8FFC-77477789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DDE6B0-5616-46BE-B5FA-52273E96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5A4E06-5F4A-4B52-B028-40DB7D8C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92E167-13EE-49AD-B367-84EC3D0F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3B96C9-1CA5-42D0-A928-99895FB5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62ABC1-F411-424F-B7AE-77C06972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A3DD6C-F161-4E4D-AEF3-6C05D2CB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CF552A-ACF5-4A2B-934B-67A8C18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7EFEF9A-A7DC-4739-B417-99B5327C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FE31C1-5EE6-4808-9CD0-F52875F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014A-9C84-45CC-A168-40685E54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C78CEDB-C1AD-4C80-8E21-01A743E6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85C0817-6DEC-4700-8F23-AD294841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0FD6BF-74B8-4A70-B9FC-04631E3E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2247E3F-DAF4-4925-BA0B-0B51FDDA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5CAA090-FD56-4E02-8D66-234A7B32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1612781-D378-40D7-AB7A-8CC48945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C2737E-8025-4A16-9EE6-A4EB7741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7A2A199-EEA7-458B-9585-5E2846BE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6697AF-E4BB-4E0B-8AE6-EE1BA8CB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16CB14-4016-496E-9687-C4F5D661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194A-6FBE-4B6A-A7C3-329E2FE3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589ED7-EF07-4736-AE00-52A0AA64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4E46D5-8A10-4799-9659-190CBFED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25518F-248F-4CE4-BDB1-57DE9A5D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4E667F-66C6-4A57-835B-61250B58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7EB5E4-D9C3-4453-A13C-22EBE729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AA08A6-D9BA-4748-A4EE-92BF3A16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D5CBDA-FAC4-44A3-A490-19367F90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0F30AC-8F06-4BAA-836A-2FEB5433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0CC2D86-4054-485E-BBD9-23F0F5CA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CD8231-257D-40FB-8302-BE6C70CA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7DAF-5C40-4509-B751-A119CEE0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62B655-97E2-426B-A6EE-AA090DC9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E064F9-2F17-4405-8C22-DD8D9865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FB178A2-DFB2-4D64-9597-FB3BD7F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FB3FD4-C6C5-4402-8148-A0AC1C16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255C318-C2A0-4E35-8D33-2AD08997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0D3EF5-8A3A-4664-9F6B-0A41BA6E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998173-1FCC-40D7-A7BC-00B24C11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1E2AC1B-21C3-473B-93F2-A42801D8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BDCE3B-29F5-4B2C-A208-73D099B4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73734F-CA5B-40A2-B24C-20A0AC7A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DAFBE-E3AA-4DB5-AB17-88562F35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7BF7CB-0AE6-443C-AE9C-9ED11F0B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9EF28E-76E6-409A-957F-86DAB895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915BAE-5553-4331-9502-CB80A14D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AAE223-4BBC-490A-92DE-19D47BC9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C5DD17-405B-423F-8104-37421B21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59C1D5-1D8B-465E-A096-2702D026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F270DD-9F74-4FC1-A1A1-8305263E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93C7C2-88E5-4B4E-A6DE-CC320C18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F8238F-CAE4-4BD7-A258-FA0FB6CC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A03EA95-AE38-495E-BA53-C49B592C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5426-8606-4E96-A19B-A8EFDEC9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B2F686F-8169-4070-8A7B-89A6CBE2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9F7E26-1ADB-4EF3-885B-3CF2C81E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BB2A08F-FA50-4839-A77E-DA2A9396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47A714C-172D-4B3A-91CD-1E707958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48DB40-668B-4346-A46B-B8DC18A5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5121DE1-93D0-4117-99E9-76FCF2F5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3715CE-9D2F-4E09-AC60-08E161AA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CA8EC6C-0553-4AF1-B7AC-B826CD5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38E9E3B-3B1F-44D3-B20C-7F689FC2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E97329B-8EC1-4EA2-AFE8-AE93724A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C633-FD73-49E5-948A-E41D21E5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73B2936-473B-41F2-AD33-2D1F29B8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2BEEAE-0C31-4945-9FA9-80E3EB11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18C8F26-7CD3-4D9D-8E84-ED8C74A5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E000AD-5C30-415D-97B0-7380E826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47B7A8-4FFC-45F9-9644-D52C34F4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40F7053-63E9-414F-B66A-78B4FADC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17D76B-E3A8-42D9-9F15-4C9F5B76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A2302E-8431-4C36-96A5-16C3016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EE8D65-EDE6-4140-BE7D-DADB4F7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79612F-51F5-43AF-85AD-261DA7A9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F04D-A8D3-4BB0-8EF6-A727DBCA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517D3F-8530-4AD5-8EF1-8C723B83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149F085-6114-408C-9427-D668EEB4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8AFF6C3-6609-4B4A-8CB7-F7035F3D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C824DB-CA06-462D-A300-1614BA57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54E9631-E001-4F6D-9458-700A128F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8BE46DD-C2C5-4565-98A4-924B0648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2CEEA09-E14B-4506-B725-ECEC8E6A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A6231A-54DA-4358-ABB3-4DC073E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2A142D3-775F-4D2A-A208-278E4686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36807C2-DACB-4D65-9FBF-F948019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9153-EB8D-4E02-B73C-E4CEB265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35EBEF1-F56A-4C6A-8370-A283C7B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5C3DEC1-14E2-45F8-A8EE-44A696A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1E3AA6F-E6E5-40CA-9C96-E4E9FF01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9471E6-4A75-42E8-9D99-9F8F6292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F86A865-E7C9-414E-BBC2-1E0D295F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4DB1142-05C2-4349-AAA7-6D3BDA73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E5EFBC1-22C2-4EB0-B108-8DC7292B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2BE59E-93F8-4C54-BA28-92700D51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BB88CE-CA96-42FA-A8F7-2F7487F7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2292CEF-FFBD-4FF7-B3B3-370FAEC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345F-A1DA-433D-BCCF-11879C7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4C7CA3-5675-4B55-82A2-7C89897E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CCEF29-6ED9-4478-A726-496604B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BEDB0F0-B127-4662-9418-D6C49D8B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44042B2-CE07-4DD6-B1DF-09E7CD85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AFE6A02-EBAC-4B91-AAA4-DCBAD5F3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5A03B4D-0CE7-45E3-B54D-8AC081E1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EA8F1C-59E5-4C50-914D-D84C8986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C01823C-E92D-47F0-8B2E-9FADFC5E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4F9372C-5824-4CE2-B574-F290535B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14704FF-F343-462E-BBF2-AFAFB472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B886-31E7-41CE-86D1-21FFE29E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F329602-9A15-4A08-9F0E-06EFC169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91FF982-FD4B-4C72-AF44-E11F195F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36A120-7405-483D-9BB6-1805D767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5DF1FA-5BD3-4056-9871-EEC3E480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4DA7368-AA23-4527-8842-BD85F972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2E7CEE-AD54-4B37-A670-08B2FE0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25A9BF7-1C7A-44F9-8E1E-ED1FD6FC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F005D3-231E-4A8A-AB75-93CD6C1E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42EF22-0671-4DDD-838C-CCCB91F8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0A40E6B-FE2F-4C61-80CA-D5E8446E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BA9F-58D0-42B3-8733-3108068E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576887F-61A8-4358-BBD2-CEF7078D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48EF61D-3D74-47F0-A2D6-FE1B908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B269DC-AEC2-446A-BACB-B5964CB0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2B7381D-1443-42B0-A98D-DBF03AEF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2291074-A492-45CA-9BB3-337E82CA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825E13-3332-4BF9-8183-E7A8E729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03A8D5-024A-4FF9-8922-ACBC7455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2BBD041-2C7B-4CB4-B5E9-F786F16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668EE95-A19E-49A6-A2B7-108D6034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5012330-6FC9-4CE3-89AC-E826FDAD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7968-6F2D-4881-A4A9-CF35FA37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79609C3-74D0-491B-BBD4-3D150936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04F1F65-FDED-4625-A148-7059242E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082040-6772-45C4-9A43-6D0DEE12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31E2BE1-0DF0-4B93-BBA1-8957EA93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FF55D3F-A393-4F5C-839F-36EF4FF4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2C5DA2B-62BD-45AD-A1DF-1DB85260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B3F0D16-A01B-4D0A-A24A-BCED9AC8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19018A4-D044-463D-8FF8-6DEDA09D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81B55CF-1624-4213-9823-BFAA08B0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8F5BFD-A833-4712-A213-84093C95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EDD3-41CE-41D5-8C53-63D20F75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D32BC6E-6733-4534-A3C5-27E3AE9C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9FE41D5-64E4-42DB-B53A-7E9C99C7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F16448E-89E4-45C3-8C13-0AB1A33E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117B721-A72D-42CA-A01E-93DE90CB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F2391F4-D8AE-41CF-A611-D1377E0F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D3D6955-E03B-4D20-8552-EE47D820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1EED07-D79A-48B4-A922-3EEF8216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26B346-269A-4E09-BA05-C8F84785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AD8E4F7-536F-4903-B517-35A8649D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ACBB6C-E807-470E-ABCE-6839A574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9D822-A216-4203-A791-AD623B72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DD0D0B1-0A99-4ABE-B98F-4F1E4AFC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2A29D3C-CF34-4BC1-9596-5E7B79E2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543D237-4876-455B-A40A-C2141A0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FC40AF-1DDD-4C37-8D1D-D934465D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581E9B-CE7F-4CC6-9E22-8D4E6CF4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6CB7BB9-1DD4-4873-9314-918EE9A3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1B85338-2AA9-46A1-9D04-F1B14AEB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DF14599-A329-46B1-847A-E18551A5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11FBBE5-80A8-4AA2-8120-5889E245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A72B195-5F49-408D-8900-2288373C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BA83-6709-41A9-995C-2CAF4A4C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6D56CF-AF40-422C-B697-4C593A8A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D8445DF-CDA7-46E7-95FB-5DB0DE2E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6985E21-AEBA-4F01-9599-11A23DC8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A0DE38-0347-4B22-819B-BDFAE71A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9941C87-4208-4530-8FDD-31488732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4DBCEFF-EA77-42E4-9C0E-0B9813F3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B0EA974-4B75-493E-B21A-24DE93D1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ACA8A11-C535-414F-8E1F-18EB384E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8E497F8-8FF7-47CD-BFAF-13C162ED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4EBDF4A-DF73-4033-B9AD-24D32687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A61B-F56E-4AF2-8C64-3AADE5FE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621A2BC-F27F-452E-BAC4-366D962A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4C4D56-BA20-44AE-AC5A-62DB60CB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4CAC16D-AF76-4A6B-920F-6403DA55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3883519-EF41-4800-A880-62C9F9B6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6ECCD14-9A4F-404D-8BA4-AB03543E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5BCEB55-EBE4-41E4-B969-495BEA0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722E0D5-AC3F-4911-B274-BC3D0CAF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343D1F0-C8C7-4B6C-98BF-65FB1869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C720C00-A0A9-45E4-B52A-4EA5AB35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7198DF-6188-409A-B657-AE7397E8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42C46-BA01-48C2-836E-AB1984A4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63A2B9C-56DE-456A-82E4-B83F1505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D9FE9A8-78AB-4327-A1BE-83CFC300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0F900F1-E8FF-48CD-8DCA-1C9491DA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FF87A9D-8BC0-40C5-B858-6B54856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1834A17-149C-4E69-80EB-3C67D419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BED56C-C30E-422D-86BE-389996F5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2269F5-D17D-451A-841E-00611A63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6523F6-ACFC-4385-8BFB-B7E64B6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433867E-F5E9-463D-9DAD-7353809D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05533B0-E213-4677-B0B5-DE5A3F26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24B28-2955-4FE7-BBD3-0C881BBB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9DE21CA-8784-4655-9B61-28E2B56B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F06694C-8F66-46DD-B50F-8AC0EF3A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3753D1B-9BEC-40E7-A106-5BEA409B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4B539D9-4BCC-45C9-8300-E0D98C2F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AE2DDB8-6FF7-479B-A77C-0CF8D093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F575156-4FAD-425B-BF58-97F2F04A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B7B950A-2952-4F1E-B787-27380E53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122B22A-8C5A-46F7-B8CB-E25B918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E7B7862-AB44-4DA8-9EB4-FF5F67B4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C316F43-157B-4129-9CD7-BF6B9D41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78176-8D34-4780-AC57-D99A0EAA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1C1A082-FEF3-4073-992D-73183D3F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CC169F1-99FB-497A-BDE5-29EA3F1D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3C7559-A0A2-435D-AF93-3F7CBCF7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011D87A-B0C1-44D2-A4F3-9838AF17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2937EE7-AB84-4589-98F0-FC739976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81B1013-910E-49A0-B8C0-D32B7540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7D5BA1-DE21-488C-8ADB-41CAE65B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9FE7DC3-761C-489E-A385-0F76A46B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9E0252E-1238-4209-A2D2-91E81034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2B0ABB7-736F-468B-9AF9-1FE42F8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A455C-18E9-4BB5-A231-07AFCB5D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90AFC3C-A831-48CA-AF12-D7521938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3BE15EE-9C18-4B3C-BF3E-FEDDD7A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AD07EB8-7100-47DD-9C90-7884A37B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03457F4-DE9D-4A44-9B01-DA490C3E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F99A06C-181F-4389-A2B3-0E63BF1A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38B36B0-930C-4B1F-BCE8-6D225C7E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03AB276-57DC-4F53-9F8C-A0E5DBAE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F99B1D0-ED26-4098-B94F-10EBF985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785FC43-36FD-4A04-B754-26F17F31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25BFEDC-E230-4C03-838C-4C2201EC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9BB15-FF91-4E62-9A69-93525A2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8FA626-8B64-40D6-A96B-BE8529BC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35BCDB-EDD1-40F0-BB21-9D8B082E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682F58A-D19F-41C0-AA42-BE5CADD9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BFB5449-C899-4274-8AF2-AE99C0D8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E05013-CE4B-4454-A2F6-308FE654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A7056B4-9A88-4041-AADB-CA69930D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9190368-A6AC-4A68-985B-C7674A6A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21749FB-8889-43B3-B2D8-30977D9A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61E2A5E-80B2-4691-AABA-4D158C6D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E99C8A8-F805-4AA8-9E1C-8D318239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E242-81D7-4A6A-8975-0396B101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BB53479-6C02-4F70-83DF-CEA65172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930A06E-937B-40BA-901C-D1ED90EF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A47363A-53FF-49F9-90AE-710346F5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EF506FD-9697-44CF-B6F5-CB41DB4C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75E31BC-F0A5-4C3F-90D1-50CB4C3C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6AB648D-BCD1-45E2-A640-667E599E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0F03670-988A-4AA4-9059-A8368621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8E12DB7-F409-48A7-B95F-9ECE46A4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84B9638-2542-46E7-96B4-D4656144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6883382-0653-4FF3-8E55-D59470B0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AD805-2AF6-475E-AF8C-599FBF9F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184C88B-0277-40C4-9857-8FBECFF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5E67F71-B60B-4599-9E5C-9F0CA463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3CDE260-0B98-44DF-8DCE-ECE7EEB5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5792801-AF3B-4104-AFEE-C1FA4A3B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B9D6A8A-CAA4-4C68-862D-C1BE4CBE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818BED1-2BB5-4469-898A-21257EC6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8719EEE-564D-4252-9CBE-CA7C1DB8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95F258A-4D7B-4391-8688-B232575E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E4D8981-B980-445B-8CC2-62528C75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70AC9ED-18A4-49A1-84BA-562915FC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33F1F-6AA9-40CA-AD51-B769F00A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783CF4C-E9EC-471C-B302-82BDBA5B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6C249CD-F77A-4496-9393-41E2CA54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E965499-ED9F-49A5-93DC-E53E1933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56B724F-57C0-42F8-9382-C80C6B16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12757E-8AE4-46AE-970C-FB078E82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7E8975E-94DE-47D8-B2A4-8FC42054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638CD71-18F9-4F6C-A186-9D256C45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83E587D-2429-474E-920C-75096F5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E93910B-6747-453D-8C34-6F11B6E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88ACFF3-55A8-4F56-A514-EB215D6E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18EEC-9D77-44B3-85D5-67CBD02B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CFCC77F-CD8A-44F6-8245-1130F16D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F8E8E01-C5BD-4581-8491-165BBEF5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7F2EA4B-46DB-4599-BACA-47021DE6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C27CCB6-C2FE-43B9-B582-936644B7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70915AF-D206-4515-B443-79DBFB47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5BEAC1A-7C9E-41C7-8E75-C929B365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3419A90-0956-4676-9A35-68E8358C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506A0A9-50A3-4604-B3E2-9C683834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134EEC3-9AD4-4F15-95FD-CE1C34C0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72C7B58-FE7A-4AA3-B763-9E9A0759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B0DA3-21F8-4DA8-A1BA-275B7FB3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F1F534B-37F4-4FEC-9DA5-271223A2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E11E265-2082-4B11-A4C6-AC74591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24684BD-C2A2-4971-A28B-F60D3476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DBF6A19-FB5C-49C5-B101-13490C9D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7CBFDDC-9023-4DEE-8BCF-DBB53A25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CFE48FD-DF2E-42DD-BE09-0015E986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F4504B9-7598-41DA-9BB8-DA91DF8B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4615532-0186-49AE-833D-7B000F99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D7777D2-2D28-4689-B30F-A6DDF387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1D6D024-4F58-4FA2-AAA0-4E291D24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DED53-D98A-416E-91C8-25D36194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E05BB81-C6D8-4B9F-9E2C-BE3621C8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A7A2236-CF47-40D2-B6D0-5741CE12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5F6201A-38DD-4FD2-A59F-0EB37C76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B14D6BA-9333-4A69-B5AD-D8AEE3C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E9EE27F-C439-4A9C-84D1-69A8716A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022537D-BA7B-4407-8C31-66F17715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0C6EB28-A06B-46B4-81FD-B2F4A464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83EFE-4B0D-455C-B64A-EECC146E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0DA8-ED42-4E4E-B99B-6E1C7BD6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2CA3F-3B5D-4BE5-844C-2074683D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2F908-54FA-4016-A88C-3F7DA9CD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D44F2-0075-4357-837E-65714660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D9989-E913-4AAE-952A-4E7D031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130E-9C3B-40AE-95EA-F3960383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8415D-D624-474C-B9DA-ECC8BF67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3056-B943-4708-AB14-01ADB387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EC722-6F07-437B-908D-8DE76A96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9DF5-31DD-4698-992D-B4361E5C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F4D0E-2BF4-4863-AEF7-2E2D46B6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73874-9353-4965-A0F3-0F4C7932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69F4-66AF-40E3-91C3-5DFCD7C5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A2604-73E4-441D-BE7D-2936D9B5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ECBBF-D606-45DF-9B97-CD6DF6D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0DC3-2FA9-4879-BD40-17C7FC5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2F7B2-4C5E-4668-A0AA-72D0661D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B346-5905-411E-81D4-460302F2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783D7-7DA2-456D-8876-C9396B96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33E98-4B2D-46F6-B584-09154274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099F5-AF62-4E22-93DA-C0860403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3DFB0-5821-4D05-BBC9-99B0C4E2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03E78-7D7D-4740-A7A1-6BCF9F5B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9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409.xml"/><Relationship Id="rId7" Type="http://schemas.openxmlformats.org/officeDocument/2006/relationships/slideLayout" Target="../slideLayouts/slideLayout410.xml"/><Relationship Id="rId8" Type="http://schemas.openxmlformats.org/officeDocument/2006/relationships/slideLayout" Target="../slideLayouts/slideLayout411.xml"/><Relationship Id="rId9" Type="http://schemas.openxmlformats.org/officeDocument/2006/relationships/slideLayout" Target="../slideLayouts/slideLayout412.xml"/><Relationship Id="rId10" Type="http://schemas.openxmlformats.org/officeDocument/2006/relationships/slideLayout" Target="../slideLayouts/slideLayout413.xml"/><Relationship Id="rId11" Type="http://schemas.openxmlformats.org/officeDocument/2006/relationships/slideLayout" Target="../slideLayouts/slideLayout414.xml"/><Relationship Id="rId12" Type="http://schemas.openxmlformats.org/officeDocument/2006/relationships/slideLayout" Target="../slideLayouts/slideLayout415.xml"/><Relationship Id="rId13" Type="http://schemas.openxmlformats.org/officeDocument/2006/relationships/slideLayout" Target="../slideLayouts/slideLayout416.xml"/><Relationship Id="rId14" Type="http://schemas.openxmlformats.org/officeDocument/2006/relationships/slideLayout" Target="../slideLayouts/slideLayout417.xml"/><Relationship Id="rId15" Type="http://schemas.openxmlformats.org/officeDocument/2006/relationships/slideLayout" Target="../slideLayouts/slideLayout418.xml"/><Relationship Id="rId16" Type="http://schemas.openxmlformats.org/officeDocument/2006/relationships/slideLayout" Target="../slideLayouts/slideLayout419.xml"/><Relationship Id="rId17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slideLayout" Target="../slideLayouts/slideLayout49.xml"/><Relationship Id="rId40" Type="http://schemas.openxmlformats.org/officeDocument/2006/relationships/slideLayout" Target="../slideLayouts/slideLayout50.xml"/><Relationship Id="rId41" Type="http://schemas.openxmlformats.org/officeDocument/2006/relationships/slideLayout" Target="../slideLayouts/slideLayout51.xml"/><Relationship Id="rId42" Type="http://schemas.openxmlformats.org/officeDocument/2006/relationships/slideLayout" Target="../slideLayouts/slideLayout52.xml"/><Relationship Id="rId43" Type="http://schemas.openxmlformats.org/officeDocument/2006/relationships/slideLayout" Target="../slideLayouts/slideLayout53.xml"/><Relationship Id="rId44" Type="http://schemas.openxmlformats.org/officeDocument/2006/relationships/slideLayout" Target="../slideLayouts/slideLayout54.xml"/><Relationship Id="rId45" Type="http://schemas.openxmlformats.org/officeDocument/2006/relationships/slideLayout" Target="../slideLayouts/slideLayout55.xml"/><Relationship Id="rId46" Type="http://schemas.openxmlformats.org/officeDocument/2006/relationships/slideLayout" Target="../slideLayouts/slideLayout56.xml"/><Relationship Id="rId47" Type="http://schemas.openxmlformats.org/officeDocument/2006/relationships/slideLayout" Target="../slideLayouts/slideLayout57.xml"/><Relationship Id="rId48" Type="http://schemas.openxmlformats.org/officeDocument/2006/relationships/slideLayout" Target="../slideLayouts/slideLayout58.xml"/><Relationship Id="rId49" Type="http://schemas.openxmlformats.org/officeDocument/2006/relationships/slideLayout" Target="../slideLayouts/slideLayout59.xml"/><Relationship Id="rId50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3632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68360" y="133632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995A-D17E-4611-9A7A-08987827FC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0898-1CF6-45FE-BF92-FF41ED6C826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1855-0CDC-4725-85B8-E04AE438430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F8EC-EAE3-4E16-A349-71FE44C5030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3EC9-3AFB-4FC2-BEB2-5329838D52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BFA2-6965-4700-9EE3-4A93EF6BC5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1D31-C9F2-4CF8-BF13-B6E6C0C1C0B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F885-3E4A-4875-A24F-E826FA13A8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3F0F-BD5F-428D-BAC3-C305D1FE30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A76B-DD5A-4949-BD57-FE2BE85E896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494B-DB92-4827-B734-E8DC089E5E4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3A88-B91D-48B5-95E2-A05C7FC23F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4A14-F131-4D14-AF62-4FF9BAD5F5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图片 20" descr=""/>
          <p:cNvPicPr/>
          <p:nvPr/>
        </p:nvPicPr>
        <p:blipFill>
          <a:blip r:embed="rId2"/>
          <a:stretch/>
        </p:blipFill>
        <p:spPr>
          <a:xfrm>
            <a:off x="0" y="5643720"/>
            <a:ext cx="9144000" cy="121428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23" descr=""/>
          <p:cNvPicPr/>
          <p:nvPr/>
        </p:nvPicPr>
        <p:blipFill>
          <a:blip r:embed="rId3"/>
          <a:stretch/>
        </p:blipFill>
        <p:spPr>
          <a:xfrm>
            <a:off x="6072120" y="5214960"/>
            <a:ext cx="1103400" cy="90468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22" descr=""/>
          <p:cNvPicPr/>
          <p:nvPr/>
        </p:nvPicPr>
        <p:blipFill>
          <a:blip r:embed="rId4"/>
          <a:stretch/>
        </p:blipFill>
        <p:spPr>
          <a:xfrm rot="20560200">
            <a:off x="3429000" y="5500440"/>
            <a:ext cx="800280" cy="92052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19" descr=""/>
          <p:cNvPicPr/>
          <p:nvPr/>
        </p:nvPicPr>
        <p:blipFill>
          <a:blip r:embed="rId5"/>
          <a:stretch/>
        </p:blipFill>
        <p:spPr>
          <a:xfrm>
            <a:off x="8072280" y="5357880"/>
            <a:ext cx="865440" cy="1171440"/>
          </a:xfrm>
          <a:prstGeom prst="rect">
            <a:avLst/>
          </a:prstGeom>
          <a:ln w="0">
            <a:noFill/>
          </a:ln>
        </p:spPr>
      </p:pic>
      <p:pic>
        <p:nvPicPr>
          <p:cNvPr id="906" name="图片 18" descr=""/>
          <p:cNvPicPr/>
          <p:nvPr/>
        </p:nvPicPr>
        <p:blipFill>
          <a:blip r:embed="rId6"/>
          <a:stretch/>
        </p:blipFill>
        <p:spPr>
          <a:xfrm>
            <a:off x="-169920" y="4381560"/>
            <a:ext cx="1968480" cy="178272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7" descr=""/>
          <p:cNvPicPr/>
          <p:nvPr/>
        </p:nvPicPr>
        <p:blipFill>
          <a:blip r:embed="rId7"/>
          <a:stretch/>
        </p:blipFill>
        <p:spPr>
          <a:xfrm>
            <a:off x="2643120" y="5929200"/>
            <a:ext cx="1366920" cy="308160"/>
          </a:xfrm>
          <a:prstGeom prst="rect">
            <a:avLst/>
          </a:prstGeom>
          <a:ln w="0">
            <a:noFill/>
          </a:ln>
        </p:spPr>
      </p:pic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1175-3DD5-463E-B3EA-409BEC35BE1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6" descr="鱼儿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BFA2-0B41-40F7-BB9D-E6364E78B71F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图片 6" descr="莲花.jpg"/>
          <p:cNvPicPr/>
          <p:nvPr/>
        </p:nvPicPr>
        <p:blipFill>
          <a:blip r:embed="rId2"/>
          <a:stretch/>
        </p:blipFill>
        <p:spPr>
          <a:xfrm>
            <a:off x="0" y="1598760"/>
            <a:ext cx="9144000" cy="525924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2348-7AE9-474F-8F3C-691B97B90052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7" descr="鱼儿.jpg"/>
          <p:cNvPicPr/>
          <p:nvPr/>
        </p:nvPicPr>
        <p:blipFill>
          <a:blip r:embed="rId2"/>
          <a:srcRect l="0" t="89389" r="46875" b="0"/>
          <a:stretch/>
        </p:blipFill>
        <p:spPr>
          <a:xfrm>
            <a:off x="2928960" y="6127920"/>
            <a:ext cx="4857840" cy="73008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6" descr="5361558_091526021140_2.jpg"/>
          <p:cNvPicPr/>
          <p:nvPr/>
        </p:nvPicPr>
        <p:blipFill>
          <a:blip r:embed="rId3"/>
          <a:srcRect l="0" t="0" r="0" b="7331"/>
          <a:stretch/>
        </p:blipFill>
        <p:spPr>
          <a:xfrm>
            <a:off x="0" y="4929120"/>
            <a:ext cx="3643200" cy="192888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F5FE-AFA2-4021-A1A7-9E066552C403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6" descr="泛舟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D19F-EFC7-4C72-BA91-DB937A580B67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7" descr="建筑.jpg"/>
          <p:cNvPicPr/>
          <p:nvPr/>
        </p:nvPicPr>
        <p:blipFill>
          <a:blip r:embed="rId2"/>
          <a:srcRect l="0" t="0" r="0" b="3623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703-E93D-437E-83A5-40A3F8241FEF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图片 9" descr="壳体.jpg"/>
          <p:cNvPicPr/>
          <p:nvPr/>
        </p:nvPicPr>
        <p:blipFill>
          <a:blip r:embed="rId2"/>
          <a:srcRect l="0" t="13488" r="0" b="0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3FF4-4FBC-4AA5-A8DE-1B3FAA27ABAB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图片 5" descr="兰花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109F-82CF-4A97-8C4C-3EF33965C04A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图片 7" descr="山水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4F09-F0B1-4A60-B2F1-D55A791E47FE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78BA-FA4D-4234-A080-33EE8E4AC070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73E9-372F-4D46-B7D7-BEB3C64722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图片 6" descr="亭亭玉立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72AE-D9ED-4B5B-AE01-81B80155DBB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图片 6" descr="小船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0B44-35E0-4F72-9538-C243D9A6184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Picture 20" descr="png-1835"/>
          <p:cNvPicPr/>
          <p:nvPr/>
        </p:nvPicPr>
        <p:blipFill>
          <a:blip r:embed="rId2"/>
          <a:stretch/>
        </p:blipFill>
        <p:spPr>
          <a:xfrm>
            <a:off x="1714680" y="2500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10" descr="png-1823"/>
          <p:cNvPicPr/>
          <p:nvPr/>
        </p:nvPicPr>
        <p:blipFill>
          <a:blip r:embed="rId3"/>
          <a:stretch/>
        </p:blipFill>
        <p:spPr>
          <a:xfrm>
            <a:off x="2928960" y="285768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11" descr="中国风图标下载50"/>
          <p:cNvPicPr/>
          <p:nvPr/>
        </p:nvPicPr>
        <p:blipFill>
          <a:blip r:embed="rId4"/>
          <a:stretch/>
        </p:blipFill>
        <p:spPr>
          <a:xfrm rot="19947000">
            <a:off x="512280" y="2941560"/>
            <a:ext cx="1305000" cy="1305000"/>
          </a:xfrm>
          <a:prstGeom prst="rect">
            <a:avLst/>
          </a:prstGeom>
          <a:ln w="0">
            <a:noFill/>
          </a:ln>
        </p:spPr>
      </p:pic>
      <p:grpSp>
        <p:nvGrpSpPr>
          <p:cNvPr id="1456" name="组合 33"/>
          <p:cNvGrpSpPr/>
          <p:nvPr/>
        </p:nvGrpSpPr>
        <p:grpSpPr>
          <a:xfrm>
            <a:off x="2928960" y="2571840"/>
            <a:ext cx="3429000" cy="1000080"/>
            <a:chOff x="2928960" y="2571840"/>
            <a:chExt cx="3429000" cy="1000080"/>
          </a:xfrm>
        </p:grpSpPr>
        <p:grpSp>
          <p:nvGrpSpPr>
            <p:cNvPr id="1457" name="组合 42"/>
            <p:cNvGrpSpPr/>
            <p:nvPr/>
          </p:nvGrpSpPr>
          <p:grpSpPr>
            <a:xfrm>
              <a:off x="2928960" y="2671560"/>
              <a:ext cx="768240" cy="600120"/>
              <a:chOff x="2928960" y="2671560"/>
              <a:chExt cx="768240" cy="600120"/>
            </a:xfrm>
          </p:grpSpPr>
          <p:grpSp>
            <p:nvGrpSpPr>
              <p:cNvPr id="1458" name="组合 33"/>
              <p:cNvGrpSpPr/>
              <p:nvPr/>
            </p:nvGrpSpPr>
            <p:grpSpPr>
              <a:xfrm>
                <a:off x="3049200" y="2671560"/>
                <a:ext cx="522720" cy="600120"/>
                <a:chOff x="3049200" y="2671560"/>
                <a:chExt cx="522720" cy="600120"/>
              </a:xfrm>
            </p:grpSpPr>
            <p:grpSp>
              <p:nvGrpSpPr>
                <p:cNvPr id="1459" name="组合 32"/>
                <p:cNvGrpSpPr/>
                <p:nvPr/>
              </p:nvGrpSpPr>
              <p:grpSpPr>
                <a:xfrm>
                  <a:off x="3333600" y="2671560"/>
                  <a:ext cx="238320" cy="600120"/>
                  <a:chOff x="3333600" y="2671560"/>
                  <a:chExt cx="238320" cy="600120"/>
                </a:xfrm>
              </p:grpSpPr>
              <p:sp>
                <p:nvSpPr>
                  <p:cNvPr id="1460" name="直角三角形 18"/>
                  <p:cNvSpPr/>
                  <p:nvPr/>
                </p:nvSpPr>
                <p:spPr>
                  <a:xfrm>
                    <a:off x="3333600" y="2671560"/>
                    <a:ext cx="238320" cy="190440"/>
                  </a:xfrm>
                  <a:prstGeom prst="rtTriangle">
                    <a:avLst/>
                  </a:prstGeom>
                  <a:solidFill>
                    <a:srgbClr val="b8580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矩形 19"/>
                  <p:cNvSpPr/>
                  <p:nvPr/>
                </p:nvSpPr>
                <p:spPr>
                  <a:xfrm>
                    <a:off x="3333600" y="2862000"/>
                    <a:ext cx="120600" cy="272880"/>
                  </a:xfrm>
                  <a:prstGeom prst="rect">
                    <a:avLst/>
                  </a:prstGeom>
                  <a:solidFill>
                    <a:srgbClr val="b8580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矩形 20"/>
                  <p:cNvSpPr/>
                  <p:nvPr/>
                </p:nvSpPr>
                <p:spPr>
                  <a:xfrm>
                    <a:off x="3333600" y="3135240"/>
                    <a:ext cx="232200" cy="136440"/>
                  </a:xfrm>
                  <a:prstGeom prst="rect">
                    <a:avLst/>
                  </a:prstGeom>
                  <a:solidFill>
                    <a:srgbClr val="b8580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3" name="组合 31"/>
                <p:cNvGrpSpPr/>
                <p:nvPr/>
              </p:nvGrpSpPr>
              <p:grpSpPr>
                <a:xfrm>
                  <a:off x="3049200" y="2671560"/>
                  <a:ext cx="237960" cy="600120"/>
                  <a:chOff x="3049200" y="2671560"/>
                  <a:chExt cx="237960" cy="600120"/>
                </a:xfrm>
              </p:grpSpPr>
              <p:pic>
                <p:nvPicPr>
                  <p:cNvPr id="1464" name="直角三角形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0" y="2671560"/>
                    <a:ext cx="237960" cy="27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5" name="矩形 17"/>
                  <p:cNvSpPr/>
                  <p:nvPr/>
                </p:nvSpPr>
                <p:spPr>
                  <a:xfrm rot="10800000">
                    <a:off x="3166560" y="2862000"/>
                    <a:ext cx="120600" cy="409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66" name="任意多边形 13"/>
              <p:cNvSpPr/>
              <p:nvPr/>
            </p:nvSpPr>
            <p:spPr>
              <a:xfrm>
                <a:off x="2928960" y="2842920"/>
                <a:ext cx="768240" cy="345960"/>
              </a:xfrm>
              <a:custGeom>
                <a:avLst/>
                <a:gdLst/>
                <a:ahLst/>
                <a:rect l="l" t="t" r="r" b="b"/>
                <a:pathLst>
                  <a:path w="2636044" h="1078706">
                    <a:moveTo>
                      <a:pt x="19050" y="866775"/>
                    </a:moveTo>
                    <a:cubicBezTo>
                      <a:pt x="0" y="847725"/>
                      <a:pt x="226219" y="940594"/>
                      <a:pt x="319088" y="952500"/>
                    </a:cubicBezTo>
                    <a:cubicBezTo>
                      <a:pt x="411957" y="964406"/>
                      <a:pt x="466726" y="952500"/>
                      <a:pt x="576263" y="938213"/>
                    </a:cubicBezTo>
                    <a:cubicBezTo>
                      <a:pt x="685800" y="923926"/>
                      <a:pt x="800101" y="912019"/>
                      <a:pt x="976313" y="866775"/>
                    </a:cubicBezTo>
                    <a:cubicBezTo>
                      <a:pt x="1152526" y="821531"/>
                      <a:pt x="1469232" y="721519"/>
                      <a:pt x="1633538" y="666750"/>
                    </a:cubicBezTo>
                    <a:cubicBezTo>
                      <a:pt x="1797844" y="611981"/>
                      <a:pt x="1878806" y="578644"/>
                      <a:pt x="1962150" y="538163"/>
                    </a:cubicBezTo>
                    <a:cubicBezTo>
                      <a:pt x="2045494" y="497682"/>
                      <a:pt x="2093119" y="471488"/>
                      <a:pt x="2133600" y="423863"/>
                    </a:cubicBezTo>
                    <a:cubicBezTo>
                      <a:pt x="2174081" y="376238"/>
                      <a:pt x="2195513" y="304800"/>
                      <a:pt x="2205038" y="252413"/>
                    </a:cubicBezTo>
                    <a:cubicBezTo>
                      <a:pt x="2214563" y="200026"/>
                      <a:pt x="2200275" y="145257"/>
                      <a:pt x="2190750" y="109538"/>
                    </a:cubicBezTo>
                    <a:cubicBezTo>
                      <a:pt x="2181225" y="73819"/>
                      <a:pt x="2138363" y="38100"/>
                      <a:pt x="2147888" y="38100"/>
                    </a:cubicBezTo>
                    <a:cubicBezTo>
                      <a:pt x="2157413" y="38100"/>
                      <a:pt x="2224088" y="76201"/>
                      <a:pt x="2247900" y="109538"/>
                    </a:cubicBezTo>
                    <a:cubicBezTo>
                      <a:pt x="2271712" y="142875"/>
                      <a:pt x="2283619" y="200025"/>
                      <a:pt x="2290763" y="238125"/>
                    </a:cubicBezTo>
                    <a:cubicBezTo>
                      <a:pt x="2297907" y="276225"/>
                      <a:pt x="2297907" y="309563"/>
                      <a:pt x="2290763" y="338138"/>
                    </a:cubicBezTo>
                    <a:cubicBezTo>
                      <a:pt x="2283619" y="366713"/>
                      <a:pt x="2274094" y="383381"/>
                      <a:pt x="2247900" y="409575"/>
                    </a:cubicBezTo>
                    <a:cubicBezTo>
                      <a:pt x="2221706" y="435769"/>
                      <a:pt x="2193131" y="461963"/>
                      <a:pt x="2133600" y="495300"/>
                    </a:cubicBezTo>
                    <a:cubicBezTo>
                      <a:pt x="2074069" y="528637"/>
                      <a:pt x="1957388" y="581025"/>
                      <a:pt x="1890713" y="609600"/>
                    </a:cubicBezTo>
                    <a:cubicBezTo>
                      <a:pt x="1824038" y="638175"/>
                      <a:pt x="1738312" y="659606"/>
                      <a:pt x="1733550" y="666750"/>
                    </a:cubicBezTo>
                    <a:cubicBezTo>
                      <a:pt x="1728788" y="673894"/>
                      <a:pt x="1814513" y="664369"/>
                      <a:pt x="1862138" y="652463"/>
                    </a:cubicBezTo>
                    <a:cubicBezTo>
                      <a:pt x="1909763" y="640557"/>
                      <a:pt x="1974056" y="614363"/>
                      <a:pt x="2019300" y="595313"/>
                    </a:cubicBezTo>
                    <a:cubicBezTo>
                      <a:pt x="2064544" y="576263"/>
                      <a:pt x="2090738" y="564357"/>
                      <a:pt x="2133600" y="538163"/>
                    </a:cubicBezTo>
                    <a:cubicBezTo>
                      <a:pt x="2176463" y="511969"/>
                      <a:pt x="2238375" y="476250"/>
                      <a:pt x="2276475" y="438150"/>
                    </a:cubicBezTo>
                    <a:cubicBezTo>
                      <a:pt x="2314575" y="400050"/>
                      <a:pt x="2347913" y="350044"/>
                      <a:pt x="2362200" y="309563"/>
                    </a:cubicBezTo>
                    <a:cubicBezTo>
                      <a:pt x="2376487" y="269082"/>
                      <a:pt x="2364581" y="230982"/>
                      <a:pt x="2362200" y="195263"/>
                    </a:cubicBezTo>
                    <a:cubicBezTo>
                      <a:pt x="2359819" y="159544"/>
                      <a:pt x="2357438" y="121444"/>
                      <a:pt x="2347913" y="95250"/>
                    </a:cubicBezTo>
                    <a:cubicBezTo>
                      <a:pt x="2338388" y="69056"/>
                      <a:pt x="2314575" y="52387"/>
                      <a:pt x="2305050" y="38100"/>
                    </a:cubicBezTo>
                    <a:cubicBezTo>
                      <a:pt x="2295525" y="23813"/>
                      <a:pt x="2274094" y="0"/>
                      <a:pt x="2290763" y="9525"/>
                    </a:cubicBezTo>
                    <a:cubicBezTo>
                      <a:pt x="2307432" y="19050"/>
                      <a:pt x="2376488" y="61913"/>
                      <a:pt x="2405063" y="95250"/>
                    </a:cubicBezTo>
                    <a:cubicBezTo>
                      <a:pt x="2433638" y="128588"/>
                      <a:pt x="2450307" y="178594"/>
                      <a:pt x="2462213" y="209550"/>
                    </a:cubicBezTo>
                    <a:cubicBezTo>
                      <a:pt x="2474119" y="240506"/>
                      <a:pt x="2483644" y="250032"/>
                      <a:pt x="2476500" y="280988"/>
                    </a:cubicBezTo>
                    <a:cubicBezTo>
                      <a:pt x="2469356" y="311944"/>
                      <a:pt x="2438400" y="366713"/>
                      <a:pt x="2419350" y="395288"/>
                    </a:cubicBezTo>
                    <a:cubicBezTo>
                      <a:pt x="2400300" y="423863"/>
                      <a:pt x="2388394" y="428626"/>
                      <a:pt x="2362200" y="452438"/>
                    </a:cubicBezTo>
                    <a:cubicBezTo>
                      <a:pt x="2336006" y="476250"/>
                      <a:pt x="2314576" y="504825"/>
                      <a:pt x="2262188" y="538163"/>
                    </a:cubicBezTo>
                    <a:cubicBezTo>
                      <a:pt x="2209800" y="571501"/>
                      <a:pt x="2131219" y="619126"/>
                      <a:pt x="2047875" y="652463"/>
                    </a:cubicBezTo>
                    <a:cubicBezTo>
                      <a:pt x="1964531" y="685800"/>
                      <a:pt x="1828800" y="719138"/>
                      <a:pt x="1762125" y="738188"/>
                    </a:cubicBezTo>
                    <a:cubicBezTo>
                      <a:pt x="1695450" y="757238"/>
                      <a:pt x="1609725" y="771526"/>
                      <a:pt x="1647825" y="766763"/>
                    </a:cubicBezTo>
                    <a:cubicBezTo>
                      <a:pt x="1685925" y="762001"/>
                      <a:pt x="1885950" y="735807"/>
                      <a:pt x="1990725" y="709613"/>
                    </a:cubicBezTo>
                    <a:cubicBezTo>
                      <a:pt x="2095500" y="683419"/>
                      <a:pt x="2195513" y="654844"/>
                      <a:pt x="2276475" y="609600"/>
                    </a:cubicBezTo>
                    <a:cubicBezTo>
                      <a:pt x="2357438" y="564356"/>
                      <a:pt x="2428875" y="497681"/>
                      <a:pt x="2476500" y="438150"/>
                    </a:cubicBezTo>
                    <a:cubicBezTo>
                      <a:pt x="2524125" y="378619"/>
                      <a:pt x="2552700" y="311944"/>
                      <a:pt x="2562225" y="252413"/>
                    </a:cubicBezTo>
                    <a:cubicBezTo>
                      <a:pt x="2571750" y="192882"/>
                      <a:pt x="2545556" y="119063"/>
                      <a:pt x="2533650" y="80963"/>
                    </a:cubicBezTo>
                    <a:cubicBezTo>
                      <a:pt x="2521744" y="42863"/>
                      <a:pt x="2478882" y="16669"/>
                      <a:pt x="2490788" y="23813"/>
                    </a:cubicBezTo>
                    <a:cubicBezTo>
                      <a:pt x="2502694" y="30957"/>
                      <a:pt x="2581276" y="80963"/>
                      <a:pt x="2605088" y="123825"/>
                    </a:cubicBezTo>
                    <a:cubicBezTo>
                      <a:pt x="2628901" y="166688"/>
                      <a:pt x="2636044" y="230982"/>
                      <a:pt x="2633663" y="280988"/>
                    </a:cubicBezTo>
                    <a:cubicBezTo>
                      <a:pt x="2631282" y="330994"/>
                      <a:pt x="2621756" y="373857"/>
                      <a:pt x="2590800" y="423863"/>
                    </a:cubicBezTo>
                    <a:cubicBezTo>
                      <a:pt x="2559844" y="473869"/>
                      <a:pt x="2509838" y="533400"/>
                      <a:pt x="2447925" y="581025"/>
                    </a:cubicBezTo>
                    <a:cubicBezTo>
                      <a:pt x="2386012" y="628650"/>
                      <a:pt x="2331244" y="669132"/>
                      <a:pt x="2219325" y="709613"/>
                    </a:cubicBezTo>
                    <a:cubicBezTo>
                      <a:pt x="2107406" y="750094"/>
                      <a:pt x="1776413" y="823913"/>
                      <a:pt x="1776413" y="823913"/>
                    </a:cubicBezTo>
                    <a:cubicBezTo>
                      <a:pt x="1626394" y="862013"/>
                      <a:pt x="1543051" y="897732"/>
                      <a:pt x="1319213" y="938213"/>
                    </a:cubicBezTo>
                    <a:cubicBezTo>
                      <a:pt x="1095376" y="978694"/>
                      <a:pt x="650082" y="1078706"/>
                      <a:pt x="433388" y="1066800"/>
                    </a:cubicBezTo>
                    <a:cubicBezTo>
                      <a:pt x="216694" y="1054894"/>
                      <a:pt x="38100" y="885825"/>
                      <a:pt x="19050" y="866775"/>
                    </a:cubicBezTo>
                    <a:close/>
                  </a:path>
                </a:pathLst>
              </a:custGeom>
              <a:solidFill>
                <a:srgbClr val="f57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矩形 11"/>
            <p:cNvSpPr/>
            <p:nvPr/>
          </p:nvSpPr>
          <p:spPr>
            <a:xfrm>
              <a:off x="3697200" y="2571840"/>
              <a:ext cx="26607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方正舒体"/>
                  <a:ea typeface="方正舒体"/>
                </a:rPr>
                <a:t>华 恒 化 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HUAHENGHUAG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299E-B28F-4DC3-92B4-F230011799C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6"/>
    <p:sldLayoutId id="2147484092" r:id="rId7"/>
    <p:sldLayoutId id="2147484093" r:id="rId8"/>
    <p:sldLayoutId id="2147484094" r:id="rId9"/>
    <p:sldLayoutId id="2147484095" r:id="rId10"/>
    <p:sldLayoutId id="2147484096" r:id="rId11"/>
    <p:sldLayoutId id="2147484097" r:id="rId12"/>
    <p:sldLayoutId id="2147484098" r:id="rId13"/>
    <p:sldLayoutId id="2147484099" r:id="rId14"/>
    <p:sldLayoutId id="2147484100" r:id="rId15"/>
    <p:sldLayoutId id="2147484101" r:id="rId16"/>
    <p:sldLayoutId id="2147484102" r:id="rId17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Picture 10" descr="图片2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1510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352D-0FE4-4844-B34C-C4EE593CDD41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B82D-5577-43E0-8477-F0C4E441F8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3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CC36-CE3B-4F56-B795-3861C0FF3CEC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1BB3-CA4E-4391-8C9F-8B49A577A64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8EB1-12A8-443E-9D87-1805D670B8E8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DF24-CD63-4EA0-8927-BA230A04C3D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9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9604-A86F-47C4-8E59-A7492D52322A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60EC-BD71-43A1-822E-D887665EE8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7E0B-BBE1-488A-85EE-A69D1F52A0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2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4BE3-619B-4293-8358-5C639AA25EF9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5B2D-F33F-4172-85D6-65C2336C9D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5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EF0F-4A84-4238-95D7-8F12CC867131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CB14-2FB0-4347-81D7-D360991428C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7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8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A29F-5D4A-4825-843E-8DF57370AB0C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0FFA-DEFE-440D-8514-2FD30885FF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0" name="Picture 10" descr="图片2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1811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EDA4-3154-4E79-BBF5-5F646163ED38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A059-2FBC-4627-B321-711C84AF81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3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7F08-0E1A-4BA8-8079-FDF6631352B5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E6D7-025B-4FF8-82DF-46499E9EE2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6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7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1E8A-58E1-4371-BF44-7DC6816891CC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5F34-084A-4114-9EFF-FA6A9B32194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9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0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6897-E7D3-494C-B2F8-BDFA04D3EB7F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E694-6C62-490E-BADB-C6746EBD14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2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3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A42A-AFF5-46C5-9858-DEE0DBF9CBC3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3558-99DF-44FA-90E1-BB715E03BF9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0474-10A1-4637-9C6A-9C2B4E0C29FB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408A-816B-491B-B20C-53A6CF415B3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8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9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BCE2-CD9B-42F3-A8F1-55F522FE35A2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D6AA-63A7-4C6D-8EE3-648C2C6AE29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E3F9-07DC-4FE8-B628-B315CCBC867D}" type="slidenum"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图片 101" descr="2-3.png"/>
          <p:cNvPicPr/>
          <p:nvPr/>
        </p:nvPicPr>
        <p:blipFill>
          <a:blip r:embed="rId2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副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04" descr="7-3.png"/>
          <p:cNvPicPr/>
          <p:nvPr/>
        </p:nvPicPr>
        <p:blipFill>
          <a:blip r:embed="rId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06" descr="7-2.png"/>
          <p:cNvPicPr/>
          <p:nvPr/>
        </p:nvPicPr>
        <p:blipFill>
          <a:blip r:embed="rId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05" descr="7-1.png"/>
          <p:cNvPicPr/>
          <p:nvPr/>
        </p:nvPicPr>
        <p:blipFill>
          <a:blip r:embed="rId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07" descr="7-3.png"/>
          <p:cNvPicPr/>
          <p:nvPr/>
        </p:nvPicPr>
        <p:blipFill>
          <a:blip r:embed="rId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08" descr="7-1.png"/>
          <p:cNvPicPr/>
          <p:nvPr/>
        </p:nvPicPr>
        <p:blipFill>
          <a:blip r:embed="rId1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109" descr="7-2.png"/>
          <p:cNvPicPr/>
          <p:nvPr/>
        </p:nvPicPr>
        <p:blipFill>
          <a:blip r:embed="rId1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10" descr="7-1.png"/>
          <p:cNvPicPr/>
          <p:nvPr/>
        </p:nvPicPr>
        <p:blipFill>
          <a:blip r:embed="rId1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11" descr="7-3.png"/>
          <p:cNvPicPr/>
          <p:nvPr/>
        </p:nvPicPr>
        <p:blipFill>
          <a:blip r:embed="rId1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12" descr="7-3.png"/>
          <p:cNvPicPr/>
          <p:nvPr/>
        </p:nvPicPr>
        <p:blipFill>
          <a:blip r:embed="rId1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13" descr="7-2.png"/>
          <p:cNvPicPr/>
          <p:nvPr/>
        </p:nvPicPr>
        <p:blipFill>
          <a:blip r:embed="rId1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14" descr="7-3.png"/>
          <p:cNvPicPr/>
          <p:nvPr/>
        </p:nvPicPr>
        <p:blipFill>
          <a:blip r:embed="rId1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15" descr="7-2.png"/>
          <p:cNvPicPr/>
          <p:nvPr/>
        </p:nvPicPr>
        <p:blipFill>
          <a:blip r:embed="rId1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6" descr="7-1.png"/>
          <p:cNvPicPr/>
          <p:nvPr/>
        </p:nvPicPr>
        <p:blipFill>
          <a:blip r:embed="rId1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7" descr="7-3.png"/>
          <p:cNvPicPr/>
          <p:nvPr/>
        </p:nvPicPr>
        <p:blipFill>
          <a:blip r:embed="rId1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18" descr="7-1.png"/>
          <p:cNvPicPr/>
          <p:nvPr/>
        </p:nvPicPr>
        <p:blipFill>
          <a:blip r:embed="rId2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19" descr="7-2.png"/>
          <p:cNvPicPr/>
          <p:nvPr/>
        </p:nvPicPr>
        <p:blipFill>
          <a:blip r:embed="rId2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20" descr="7-1.png"/>
          <p:cNvPicPr/>
          <p:nvPr/>
        </p:nvPicPr>
        <p:blipFill>
          <a:blip r:embed="rId2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21" descr="7-3.png"/>
          <p:cNvPicPr/>
          <p:nvPr/>
        </p:nvPicPr>
        <p:blipFill>
          <a:blip r:embed="rId2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22" descr="7-3.png"/>
          <p:cNvPicPr/>
          <p:nvPr/>
        </p:nvPicPr>
        <p:blipFill>
          <a:blip r:embed="rId2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23" descr="7-2.png"/>
          <p:cNvPicPr/>
          <p:nvPr/>
        </p:nvPicPr>
        <p:blipFill>
          <a:blip r:embed="rId2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3" descr="3-2.png"/>
          <p:cNvPicPr/>
          <p:nvPr/>
        </p:nvPicPr>
        <p:blipFill>
          <a:blip r:embed="rId26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37" descr="4-5.png"/>
          <p:cNvPicPr/>
          <p:nvPr/>
        </p:nvPicPr>
        <p:blipFill>
          <a:blip r:embed="rId27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34" descr="4-1.png"/>
          <p:cNvPicPr/>
          <p:nvPr/>
        </p:nvPicPr>
        <p:blipFill>
          <a:blip r:embed="rId28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35" descr="4-2.png"/>
          <p:cNvPicPr/>
          <p:nvPr/>
        </p:nvPicPr>
        <p:blipFill>
          <a:blip r:embed="rId29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36" descr="4-3.png"/>
          <p:cNvPicPr/>
          <p:nvPr/>
        </p:nvPicPr>
        <p:blipFill>
          <a:blip r:embed="rId30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38" descr="4-6.png"/>
          <p:cNvPicPr/>
          <p:nvPr/>
        </p:nvPicPr>
        <p:blipFill>
          <a:blip r:embed="rId31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9" descr="4-7.png"/>
          <p:cNvPicPr/>
          <p:nvPr/>
        </p:nvPicPr>
        <p:blipFill>
          <a:blip r:embed="rId32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0" descr="4-8.png"/>
          <p:cNvPicPr/>
          <p:nvPr/>
        </p:nvPicPr>
        <p:blipFill>
          <a:blip r:embed="rId33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1" descr="4-9.png"/>
          <p:cNvPicPr/>
          <p:nvPr/>
        </p:nvPicPr>
        <p:blipFill>
          <a:blip r:embed="rId34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42" descr="4-10.png"/>
          <p:cNvPicPr/>
          <p:nvPr/>
        </p:nvPicPr>
        <p:blipFill>
          <a:blip r:embed="rId35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44" descr="5-2.png"/>
          <p:cNvPicPr/>
          <p:nvPr/>
        </p:nvPicPr>
        <p:blipFill>
          <a:blip r:embed="rId36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43" descr="5-1.png"/>
          <p:cNvPicPr/>
          <p:nvPr/>
        </p:nvPicPr>
        <p:blipFill>
          <a:blip r:embed="rId37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1" descr="6.png"/>
          <p:cNvPicPr/>
          <p:nvPr/>
        </p:nvPicPr>
        <p:blipFill>
          <a:blip r:embed="rId38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9"/>
    <p:sldLayoutId id="2147483702" r:id="rId40"/>
    <p:sldLayoutId id="2147483703" r:id="rId41"/>
    <p:sldLayoutId id="2147483704" r:id="rId42"/>
    <p:sldLayoutId id="2147483705" r:id="rId43"/>
    <p:sldLayoutId id="2147483706" r:id="rId44"/>
    <p:sldLayoutId id="2147483707" r:id="rId45"/>
    <p:sldLayoutId id="2147483708" r:id="rId46"/>
    <p:sldLayoutId id="2147483709" r:id="rId47"/>
    <p:sldLayoutId id="2147483710" r:id="rId48"/>
    <p:sldLayoutId id="2147483711" r:id="rId49"/>
    <p:sldLayoutId id="2147483712" r:id="rId50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1" name="Picture 10" descr="图片2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2112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323A-95EB-4FB6-80BA-ABBDBAAA4FBD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7C79-485A-409F-A98C-5FC27705D8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4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5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7E17-BC8D-4090-ABA9-330AB31255FF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EE91-76E5-421B-A562-4FCE3571630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7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8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89BD-F6FE-4957-A350-97CA8EB6DD4D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9F99-69FD-4B19-990A-2701E1FEFE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0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1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542A-4F6F-450E-A893-923CF86A14D4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FE2C-5E2B-42C7-AF49-3A7C60B555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3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9E1D-302C-4A0F-AD88-C083A7457D4F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382E-EC4E-49EC-87C7-35A766AB37C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6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7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38BD-4EC7-43F3-BEFE-E872C9AB6E77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6335-5944-4A7E-AE81-8986C958623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9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0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5EF-D5EE-4331-8A31-C65CEA173249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AD65-1603-4708-91C3-A3751200264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2" name="Picture 10" descr="图片2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2413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A99E-65BB-4DD5-BA84-6B024EE85F3F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DB60-9E8A-428C-9E87-83A260D602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9890-0028-476F-8DCF-4DBB42A20C70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5F4C-2C82-4C1A-9863-4A1513E285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8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9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EFEA-0B36-4E72-8882-314DD8DD6869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ADB6-5A41-4401-AE41-BCFE3B32D6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4283-F7F8-4AAD-BC07-0605B90ADF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930A-A947-4574-BCE9-08285557AF8C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1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2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77C5-602D-474E-9934-9C9A02A0554B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5C22-816A-409F-BD5F-DDBC48BDF9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4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5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2CB2-633B-40D3-960E-8D9663E14C61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8972-2A5D-4ECD-BBCD-910DA2F0B8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7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8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4245-4F86-41C5-88B5-EE0A3A048550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A5FF-7621-4506-8AE2-282911EA1B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0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1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3160-7762-411E-A8D7-4BA75DA5CF45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 type="dt" idx="1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BD03-894B-40A1-B190-9433C5BABC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C009-68CD-4BCA-A6B8-810A4F9842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8B7-EA3F-4909-BC31-13C4E82E17D4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0DF4-BE58-43AF-9ADB-575E326445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2A22-D69A-414B-91B2-02B3360F97D5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7777-501E-410D-8F52-FB7B35C392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E2AD-E865-4D91-A1C1-8E9C26BC64A7}" type="slidenum"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7.gif"/><Relationship Id="rId4" Type="http://schemas.openxmlformats.org/officeDocument/2006/relationships/image" Target="../media/image58.jpeg"/><Relationship Id="rId5" Type="http://schemas.openxmlformats.org/officeDocument/2006/relationships/image" Target="../media/image58.jpe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WordArt 5"/>
          <p:cNvSpPr txBox="1"/>
          <p:nvPr/>
        </p:nvSpPr>
        <p:spPr>
          <a:xfrm>
            <a:off x="1752480" y="2133720"/>
            <a:ext cx="5639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</a:rPr>
              <a:t>河中石兽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2714" name="WordArt 6"/>
          <p:cNvSpPr txBox="1"/>
          <p:nvPr/>
        </p:nvSpPr>
        <p:spPr>
          <a:xfrm>
            <a:off x="6324480" y="41148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</a:rPr>
              <a:t>纪 昀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2715" name="矩形 6"/>
          <p:cNvSpPr/>
          <p:nvPr/>
        </p:nvSpPr>
        <p:spPr>
          <a:xfrm>
            <a:off x="0" y="0"/>
            <a:ext cx="1676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矩形 12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TextBox 1"/>
          <p:cNvSpPr/>
          <p:nvPr/>
        </p:nvSpPr>
        <p:spPr>
          <a:xfrm>
            <a:off x="519120" y="22780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读懂文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矩形 7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矩形 3"/>
          <p:cNvSpPr/>
          <p:nvPr/>
        </p:nvSpPr>
        <p:spPr>
          <a:xfrm>
            <a:off x="304920" y="3886200"/>
            <a:ext cx="85341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矩形 2"/>
          <p:cNvSpPr/>
          <p:nvPr/>
        </p:nvSpPr>
        <p:spPr>
          <a:xfrm>
            <a:off x="609480" y="2819520"/>
            <a:ext cx="14479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Rectangle 2"/>
          <p:cNvSpPr/>
          <p:nvPr/>
        </p:nvSpPr>
        <p:spPr>
          <a:xfrm>
            <a:off x="-50760" y="380880"/>
            <a:ext cx="922032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沧州南一寺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临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河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山门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 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河，二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沉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十余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岁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僧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金重修，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兽于水中，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可得，以为顺流下矣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数小舟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铁钯，寻十余里无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Text Box 3"/>
          <p:cNvSpPr/>
          <p:nvPr/>
        </p:nvSpPr>
        <p:spPr>
          <a:xfrm>
            <a:off x="2666880" y="914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靠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Text Box 4"/>
          <p:cNvSpPr/>
          <p:nvPr/>
        </p:nvSpPr>
        <p:spPr>
          <a:xfrm>
            <a:off x="3868560" y="90000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河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5"/>
          <p:cNvSpPr/>
          <p:nvPr/>
        </p:nvSpPr>
        <p:spPr>
          <a:xfrm>
            <a:off x="6124680" y="-1047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p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Text Box 6"/>
          <p:cNvSpPr/>
          <p:nvPr/>
        </p:nvSpPr>
        <p:spPr>
          <a:xfrm>
            <a:off x="6041880" y="900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倒塌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Text Box 7"/>
          <p:cNvSpPr/>
          <p:nvPr/>
        </p:nvSpPr>
        <p:spPr>
          <a:xfrm>
            <a:off x="63360" y="2730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Text Box 8"/>
          <p:cNvSpPr/>
          <p:nvPr/>
        </p:nvSpPr>
        <p:spPr>
          <a:xfrm>
            <a:off x="2286000" y="2743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Text Box 9"/>
          <p:cNvSpPr/>
          <p:nvPr/>
        </p:nvSpPr>
        <p:spPr>
          <a:xfrm>
            <a:off x="3868560" y="2743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10"/>
          <p:cNvSpPr/>
          <p:nvPr/>
        </p:nvSpPr>
        <p:spPr>
          <a:xfrm>
            <a:off x="5105520" y="2666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募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Text Box 11"/>
          <p:cNvSpPr/>
          <p:nvPr/>
        </p:nvSpPr>
        <p:spPr>
          <a:xfrm>
            <a:off x="7543800" y="2666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寻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Text Box 12"/>
          <p:cNvSpPr/>
          <p:nvPr/>
        </p:nvSpPr>
        <p:spPr>
          <a:xfrm>
            <a:off x="2743200" y="4495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终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Text Box 13"/>
          <p:cNvSpPr/>
          <p:nvPr/>
        </p:nvSpPr>
        <p:spPr>
          <a:xfrm>
            <a:off x="7848720" y="3473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z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Text Box 14"/>
          <p:cNvSpPr/>
          <p:nvPr/>
        </p:nvSpPr>
        <p:spPr>
          <a:xfrm>
            <a:off x="6821640" y="4572000"/>
            <a:ext cx="22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船桨，这里指划（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Text Box 15"/>
          <p:cNvSpPr/>
          <p:nvPr/>
        </p:nvSpPr>
        <p:spPr>
          <a:xfrm>
            <a:off x="1905120" y="4844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Text Box 16"/>
          <p:cNvSpPr/>
          <p:nvPr/>
        </p:nvSpPr>
        <p:spPr>
          <a:xfrm>
            <a:off x="1905120" y="5410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拖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Text Box 17"/>
          <p:cNvSpPr/>
          <p:nvPr/>
        </p:nvSpPr>
        <p:spPr>
          <a:xfrm>
            <a:off x="54864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踪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Text Box 7"/>
          <p:cNvSpPr/>
          <p:nvPr/>
        </p:nvSpPr>
        <p:spPr>
          <a:xfrm>
            <a:off x="857160" y="1687680"/>
            <a:ext cx="36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于此。在这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" dur="500"/>
                                        <p:tgtEl>
                                          <p:spTgt spid="2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" dur="500"/>
                                        <p:tgtEl>
                                          <p:spTgt spid="2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矩形 4"/>
          <p:cNvSpPr/>
          <p:nvPr/>
        </p:nvSpPr>
        <p:spPr>
          <a:xfrm>
            <a:off x="190440" y="3898800"/>
            <a:ext cx="8763120" cy="29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矩形 1"/>
          <p:cNvSpPr/>
          <p:nvPr/>
        </p:nvSpPr>
        <p:spPr>
          <a:xfrm>
            <a:off x="685800" y="2819520"/>
            <a:ext cx="14479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Rectangle 2"/>
          <p:cNvSpPr/>
          <p:nvPr/>
        </p:nvSpPr>
        <p:spPr>
          <a:xfrm>
            <a:off x="228600" y="228600"/>
            <a:ext cx="9448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讲学家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设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寺中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闻  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笑曰：“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尔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究   物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非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木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暴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去？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</a:t>
            </a:r>
            <a:r>
              <a:rPr b="1" i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黑体"/>
              </a:rPr>
              <a:t>坚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   沙性</a:t>
            </a:r>
            <a:r>
              <a:rPr b="1" i="1" lang="zh-CN" sz="3600" spc="-1" strike="noStrike" u="sng">
                <a:solidFill>
                  <a:srgbClr val="cc0099"/>
                </a:solidFill>
                <a:uFillTx/>
                <a:latin typeface="Times New Roman"/>
                <a:ea typeface="黑体"/>
              </a:rPr>
              <a:t>松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沙上，渐沉渐深耳。  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河求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亦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乎？”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众服为确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Text Box 3"/>
          <p:cNvSpPr/>
          <p:nvPr/>
        </p:nvSpPr>
        <p:spPr>
          <a:xfrm>
            <a:off x="758880" y="727200"/>
            <a:ext cx="30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设馆授徒，即教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Text Box 4"/>
          <p:cNvSpPr/>
          <p:nvPr/>
        </p:nvSpPr>
        <p:spPr>
          <a:xfrm>
            <a:off x="3962520" y="808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听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Text Box 5"/>
          <p:cNvSpPr/>
          <p:nvPr/>
        </p:nvSpPr>
        <p:spPr>
          <a:xfrm>
            <a:off x="4876920" y="7272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顺流打捞石兽这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Text Box 6"/>
          <p:cNvSpPr/>
          <p:nvPr/>
        </p:nvSpPr>
        <p:spPr>
          <a:xfrm>
            <a:off x="7467480" y="609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你们这些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Text Box 7"/>
          <p:cNvSpPr/>
          <p:nvPr/>
        </p:nvSpPr>
        <p:spPr>
          <a:xfrm>
            <a:off x="22860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推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Text Box 8"/>
          <p:cNvSpPr/>
          <p:nvPr/>
        </p:nvSpPr>
        <p:spPr>
          <a:xfrm>
            <a:off x="1584360" y="1447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事物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Text Box 9"/>
          <p:cNvSpPr/>
          <p:nvPr/>
        </p:nvSpPr>
        <p:spPr>
          <a:xfrm>
            <a:off x="3962520" y="2286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Text Box 10"/>
          <p:cNvSpPr/>
          <p:nvPr/>
        </p:nvSpPr>
        <p:spPr>
          <a:xfrm>
            <a:off x="5410080" y="1523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Text Box 11"/>
          <p:cNvSpPr/>
          <p:nvPr/>
        </p:nvSpPr>
        <p:spPr>
          <a:xfrm>
            <a:off x="5105520" y="2286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木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Text Box 12"/>
          <p:cNvSpPr/>
          <p:nvPr/>
        </p:nvSpPr>
        <p:spPr>
          <a:xfrm>
            <a:off x="6172200" y="2286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Text Box 13"/>
          <p:cNvSpPr/>
          <p:nvPr/>
        </p:nvSpPr>
        <p:spPr>
          <a:xfrm>
            <a:off x="7391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Text Box 14"/>
          <p:cNvSpPr/>
          <p:nvPr/>
        </p:nvSpPr>
        <p:spPr>
          <a:xfrm>
            <a:off x="2286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Text Box 15"/>
          <p:cNvSpPr/>
          <p:nvPr/>
        </p:nvSpPr>
        <p:spPr>
          <a:xfrm>
            <a:off x="19810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Text Box 16"/>
          <p:cNvSpPr/>
          <p:nvPr/>
        </p:nvSpPr>
        <p:spPr>
          <a:xfrm>
            <a:off x="3124080" y="3429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坚硬沉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Text Box 17"/>
          <p:cNvSpPr/>
          <p:nvPr/>
        </p:nvSpPr>
        <p:spPr>
          <a:xfrm>
            <a:off x="6705720" y="3505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松散轻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Text Box 18"/>
          <p:cNvSpPr/>
          <p:nvPr/>
        </p:nvSpPr>
        <p:spPr>
          <a:xfrm>
            <a:off x="83808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Text Box 19"/>
          <p:cNvSpPr/>
          <p:nvPr/>
        </p:nvSpPr>
        <p:spPr>
          <a:xfrm>
            <a:off x="6094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埋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Text Box 20"/>
          <p:cNvSpPr/>
          <p:nvPr/>
        </p:nvSpPr>
        <p:spPr>
          <a:xfrm>
            <a:off x="36360" y="5638680"/>
            <a:ext cx="25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颠倒，错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21"/>
          <p:cNvSpPr/>
          <p:nvPr/>
        </p:nvSpPr>
        <p:spPr>
          <a:xfrm>
            <a:off x="2514600" y="5667480"/>
            <a:ext cx="55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众人信服他的话，认为是精当的言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Text Box 20"/>
          <p:cNvSpPr/>
          <p:nvPr/>
        </p:nvSpPr>
        <p:spPr>
          <a:xfrm>
            <a:off x="6107040" y="4546440"/>
            <a:ext cx="25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顺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" dur="500"/>
                                        <p:tgtEl>
                                          <p:spTgt spid="2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" dur="5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2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" dur="5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矩形 2"/>
          <p:cNvSpPr/>
          <p:nvPr/>
        </p:nvSpPr>
        <p:spPr>
          <a:xfrm>
            <a:off x="304920" y="2666880"/>
            <a:ext cx="85341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Rectangle 2"/>
          <p:cNvSpPr/>
          <p:nvPr/>
        </p:nvSpPr>
        <p:spPr>
          <a:xfrm>
            <a:off x="457200" y="38088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老河兵闻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又笑曰：“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河中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于上游。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坚重，沙性松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水不能冲石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激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力，必于石下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水处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啮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沙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为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坎穴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渐激渐深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之半，石必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倒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坎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Text Box 3"/>
          <p:cNvSpPr/>
          <p:nvPr/>
        </p:nvSpPr>
        <p:spPr>
          <a:xfrm>
            <a:off x="1676520" y="8380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讲学家的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Text Box 4"/>
          <p:cNvSpPr/>
          <p:nvPr/>
        </p:nvSpPr>
        <p:spPr>
          <a:xfrm>
            <a:off x="5562720" y="914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凡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Text Box 5"/>
          <p:cNvSpPr/>
          <p:nvPr/>
        </p:nvSpPr>
        <p:spPr>
          <a:xfrm>
            <a:off x="701028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Text Box 6"/>
          <p:cNvSpPr/>
          <p:nvPr/>
        </p:nvSpPr>
        <p:spPr>
          <a:xfrm>
            <a:off x="45720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应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7"/>
          <p:cNvSpPr/>
          <p:nvPr/>
        </p:nvSpPr>
        <p:spPr>
          <a:xfrm>
            <a:off x="3276720" y="20574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上下句之间表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8"/>
          <p:cNvSpPr/>
          <p:nvPr/>
        </p:nvSpPr>
        <p:spPr>
          <a:xfrm>
            <a:off x="327672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9"/>
          <p:cNvSpPr/>
          <p:nvPr/>
        </p:nvSpPr>
        <p:spPr>
          <a:xfrm>
            <a:off x="46483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1"/>
          <p:cNvSpPr/>
          <p:nvPr/>
        </p:nvSpPr>
        <p:spPr>
          <a:xfrm>
            <a:off x="259092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2"/>
          <p:cNvSpPr/>
          <p:nvPr/>
        </p:nvSpPr>
        <p:spPr>
          <a:xfrm>
            <a:off x="38098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坑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3"/>
          <p:cNvSpPr/>
          <p:nvPr/>
        </p:nvSpPr>
        <p:spPr>
          <a:xfrm>
            <a:off x="73152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等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4"/>
          <p:cNvSpPr/>
          <p:nvPr/>
        </p:nvSpPr>
        <p:spPr>
          <a:xfrm>
            <a:off x="3352680" y="5410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倾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Text Box 14"/>
          <p:cNvSpPr/>
          <p:nvPr/>
        </p:nvSpPr>
        <p:spPr>
          <a:xfrm>
            <a:off x="105264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冲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矩形 3"/>
          <p:cNvSpPr/>
          <p:nvPr/>
        </p:nvSpPr>
        <p:spPr>
          <a:xfrm>
            <a:off x="193680" y="6553080"/>
            <a:ext cx="872172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2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5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" dur="500"/>
                                        <p:tgtEl>
                                          <p:spTgt spid="2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" dur="5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矩形 1"/>
          <p:cNvSpPr/>
          <p:nvPr/>
        </p:nvSpPr>
        <p:spPr>
          <a:xfrm>
            <a:off x="152280" y="2895480"/>
            <a:ext cx="883944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Rectangle 2"/>
          <p:cNvSpPr/>
          <p:nvPr/>
        </p:nvSpPr>
        <p:spPr>
          <a:xfrm>
            <a:off x="457200" y="53352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如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再啮，石又再转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转转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流逆上矣。求之下流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地中，不更颠乎？”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如   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言，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数里外。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然则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天下之事，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知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，不知其二者多矣，可据理</a:t>
            </a: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臆断    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Text Box 3"/>
          <p:cNvSpPr/>
          <p:nvPr/>
        </p:nvSpPr>
        <p:spPr>
          <a:xfrm>
            <a:off x="228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像这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4"/>
          <p:cNvSpPr/>
          <p:nvPr/>
        </p:nvSpPr>
        <p:spPr>
          <a:xfrm>
            <a:off x="4495680" y="990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一再翻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Text Box 5"/>
          <p:cNvSpPr/>
          <p:nvPr/>
        </p:nvSpPr>
        <p:spPr>
          <a:xfrm>
            <a:off x="670572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Text Box 6"/>
          <p:cNvSpPr/>
          <p:nvPr/>
        </p:nvSpPr>
        <p:spPr>
          <a:xfrm>
            <a:off x="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于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 Box 7"/>
          <p:cNvSpPr/>
          <p:nvPr/>
        </p:nvSpPr>
        <p:spPr>
          <a:xfrm>
            <a:off x="1523880" y="1219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Text Box 8"/>
          <p:cNvSpPr/>
          <p:nvPr/>
        </p:nvSpPr>
        <p:spPr>
          <a:xfrm>
            <a:off x="12193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逆流而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Text Box 9"/>
          <p:cNvSpPr/>
          <p:nvPr/>
        </p:nvSpPr>
        <p:spPr>
          <a:xfrm>
            <a:off x="624852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固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Text Box 10"/>
          <p:cNvSpPr/>
          <p:nvPr/>
        </p:nvSpPr>
        <p:spPr>
          <a:xfrm>
            <a:off x="49528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按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Text Box 11"/>
          <p:cNvSpPr/>
          <p:nvPr/>
        </p:nvSpPr>
        <p:spPr>
          <a:xfrm>
            <a:off x="6019920" y="3200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他，指老河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Text Box 12"/>
          <p:cNvSpPr/>
          <p:nvPr/>
        </p:nvSpPr>
        <p:spPr>
          <a:xfrm>
            <a:off x="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找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Text Box 13"/>
          <p:cNvSpPr/>
          <p:nvPr/>
        </p:nvSpPr>
        <p:spPr>
          <a:xfrm>
            <a:off x="205740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既然这样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Text Box 14"/>
          <p:cNvSpPr/>
          <p:nvPr/>
        </p:nvSpPr>
        <p:spPr>
          <a:xfrm>
            <a:off x="685800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Text Box 15"/>
          <p:cNvSpPr/>
          <p:nvPr/>
        </p:nvSpPr>
        <p:spPr>
          <a:xfrm>
            <a:off x="5638680" y="5410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主观武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Text Box 16"/>
          <p:cNvSpPr/>
          <p:nvPr/>
        </p:nvSpPr>
        <p:spPr>
          <a:xfrm>
            <a:off x="1371600" y="5572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" dur="5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" dur="5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" dur="5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1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TextBox 1"/>
          <p:cNvSpPr/>
          <p:nvPr/>
        </p:nvSpPr>
        <p:spPr>
          <a:xfrm>
            <a:off x="519120" y="22780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彩云"/>
                <a:ea typeface="华文彩云"/>
              </a:rPr>
              <a:t>重点词句检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矩形 7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文本框 2"/>
          <p:cNvSpPr/>
          <p:nvPr/>
        </p:nvSpPr>
        <p:spPr>
          <a:xfrm>
            <a:off x="2517840" y="366840"/>
            <a:ext cx="47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重点词语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文本框 3"/>
          <p:cNvSpPr/>
          <p:nvPr/>
        </p:nvSpPr>
        <p:spPr>
          <a:xfrm>
            <a:off x="1065240" y="1073160"/>
            <a:ext cx="26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山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文本框 4"/>
          <p:cNvSpPr/>
          <p:nvPr/>
        </p:nvSpPr>
        <p:spPr>
          <a:xfrm>
            <a:off x="4513320" y="1073160"/>
            <a:ext cx="15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倒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文本框 5"/>
          <p:cNvSpPr/>
          <p:nvPr/>
        </p:nvSpPr>
        <p:spPr>
          <a:xfrm>
            <a:off x="1160640" y="1595520"/>
            <a:ext cx="28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阅十余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文本框 6"/>
          <p:cNvSpPr/>
          <p:nvPr/>
        </p:nvSpPr>
        <p:spPr>
          <a:xfrm>
            <a:off x="4513320" y="159552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文本框 7"/>
          <p:cNvSpPr/>
          <p:nvPr/>
        </p:nvSpPr>
        <p:spPr>
          <a:xfrm>
            <a:off x="1160640" y="211788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铁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文本框 8"/>
          <p:cNvSpPr/>
          <p:nvPr/>
        </p:nvSpPr>
        <p:spPr>
          <a:xfrm>
            <a:off x="4581360" y="2117880"/>
            <a:ext cx="33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文本框 9"/>
          <p:cNvSpPr/>
          <p:nvPr/>
        </p:nvSpPr>
        <p:spPr>
          <a:xfrm>
            <a:off x="1065240" y="2701800"/>
            <a:ext cx="24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于沙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文本框 10"/>
          <p:cNvSpPr/>
          <p:nvPr/>
        </p:nvSpPr>
        <p:spPr>
          <a:xfrm>
            <a:off x="4511520" y="2781360"/>
            <a:ext cx="15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埋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文本框 11"/>
          <p:cNvSpPr/>
          <p:nvPr/>
        </p:nvSpPr>
        <p:spPr>
          <a:xfrm>
            <a:off x="1065240" y="3284640"/>
            <a:ext cx="24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是再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文本框 12"/>
          <p:cNvSpPr/>
          <p:nvPr/>
        </p:nvSpPr>
        <p:spPr>
          <a:xfrm>
            <a:off x="3990960" y="3284640"/>
            <a:ext cx="45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咬，这里是冲刷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文本框 13"/>
          <p:cNvSpPr/>
          <p:nvPr/>
        </p:nvSpPr>
        <p:spPr>
          <a:xfrm>
            <a:off x="900000" y="3965400"/>
            <a:ext cx="36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尔辈不能究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物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文本框 14"/>
          <p:cNvSpPr/>
          <p:nvPr/>
        </p:nvSpPr>
        <p:spPr>
          <a:xfrm>
            <a:off x="4581360" y="3965400"/>
            <a:ext cx="38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事物的道理、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文本框 16"/>
          <p:cNvSpPr/>
          <p:nvPr/>
        </p:nvSpPr>
        <p:spPr>
          <a:xfrm>
            <a:off x="1009800" y="45496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更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文本框 17"/>
          <p:cNvSpPr/>
          <p:nvPr/>
        </p:nvSpPr>
        <p:spPr>
          <a:xfrm>
            <a:off x="4581360" y="4667400"/>
            <a:ext cx="31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颠倒、错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文本框 18"/>
          <p:cNvSpPr/>
          <p:nvPr/>
        </p:nvSpPr>
        <p:spPr>
          <a:xfrm>
            <a:off x="1382760" y="5133960"/>
            <a:ext cx="26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言，果得于数里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文本框 19"/>
          <p:cNvSpPr/>
          <p:nvPr/>
        </p:nvSpPr>
        <p:spPr>
          <a:xfrm>
            <a:off x="4645080" y="551016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照、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矩形 7"/>
          <p:cNvSpPr/>
          <p:nvPr/>
        </p:nvSpPr>
        <p:spPr>
          <a:xfrm>
            <a:off x="0" y="-1440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矩形 7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Rectangle 3"/>
          <p:cNvSpPr/>
          <p:nvPr/>
        </p:nvSpPr>
        <p:spPr>
          <a:xfrm>
            <a:off x="2562120" y="149400"/>
            <a:ext cx="434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重点句子翻译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Rectangle 4"/>
          <p:cNvSpPr/>
          <p:nvPr/>
        </p:nvSpPr>
        <p:spPr>
          <a:xfrm>
            <a:off x="647640" y="1017720"/>
            <a:ext cx="82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1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、山门圮于河，二石兽并沉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Rectangle 5"/>
          <p:cNvSpPr/>
          <p:nvPr/>
        </p:nvSpPr>
        <p:spPr>
          <a:xfrm>
            <a:off x="809640" y="2664000"/>
            <a:ext cx="78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佛寺的外门倒塌在河水里，门前的两个石兽一起沉入这条河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矩形 7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684360" y="333360"/>
            <a:ext cx="719928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、尔辈不能究 物理。是非木杮（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fèi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），岂能为暴涨携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Rectangle 3"/>
          <p:cNvSpPr/>
          <p:nvPr/>
        </p:nvSpPr>
        <p:spPr>
          <a:xfrm>
            <a:off x="468360" y="1341360"/>
            <a:ext cx="8353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这些人不能推究客观事物的道理。这（石兽）不是木片，怎么能被洪水带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Rectangle 6"/>
          <p:cNvSpPr/>
          <p:nvPr/>
        </p:nvSpPr>
        <p:spPr>
          <a:xfrm>
            <a:off x="611280" y="3027240"/>
            <a:ext cx="7920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、然则天下之事，但知其一，不知其二者多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可据理臆断欤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Rectangle 7"/>
          <p:cNvSpPr/>
          <p:nvPr/>
        </p:nvSpPr>
        <p:spPr>
          <a:xfrm>
            <a:off x="826920" y="4487760"/>
            <a:ext cx="74883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然这样，那么天下的事，只知道表面现象，不知道其中根本道理的人太多了，怎么可以根据某个道理就主观地判断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7" name="Picture 21" descr="p_large_rr63_04a6000191a32d12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878" name="Text Box 2"/>
          <p:cNvSpPr/>
          <p:nvPr/>
        </p:nvSpPr>
        <p:spPr>
          <a:xfrm>
            <a:off x="297180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Text Box 3"/>
          <p:cNvSpPr/>
          <p:nvPr/>
        </p:nvSpPr>
        <p:spPr>
          <a:xfrm>
            <a:off x="38088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AutoShape 4"/>
          <p:cNvSpPr/>
          <p:nvPr/>
        </p:nvSpPr>
        <p:spPr>
          <a:xfrm>
            <a:off x="838080" y="990720"/>
            <a:ext cx="381240" cy="5105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Text Box 5"/>
          <p:cNvSpPr/>
          <p:nvPr/>
        </p:nvSpPr>
        <p:spPr>
          <a:xfrm>
            <a:off x="1143000" y="685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笑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6"/>
          <p:cNvSpPr/>
          <p:nvPr/>
        </p:nvSpPr>
        <p:spPr>
          <a:xfrm>
            <a:off x="3733920" y="7621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代顺流而下寻找石兽这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7"/>
          <p:cNvSpPr/>
          <p:nvPr/>
        </p:nvSpPr>
        <p:spPr>
          <a:xfrm>
            <a:off x="114300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沿河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3733920" y="17524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代石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Text Box 9"/>
          <p:cNvSpPr/>
          <p:nvPr/>
        </p:nvSpPr>
        <p:spPr>
          <a:xfrm>
            <a:off x="99072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老河兵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0"/>
          <p:cNvSpPr/>
          <p:nvPr/>
        </p:nvSpPr>
        <p:spPr>
          <a:xfrm>
            <a:off x="3733920" y="2286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代讲学家的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11"/>
          <p:cNvSpPr/>
          <p:nvPr/>
        </p:nvSpPr>
        <p:spPr>
          <a:xfrm>
            <a:off x="990720" y="2819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当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于上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12"/>
          <p:cNvSpPr/>
          <p:nvPr/>
        </p:nvSpPr>
        <p:spPr>
          <a:xfrm>
            <a:off x="3733920" y="2819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代石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Text Box 13"/>
          <p:cNvSpPr/>
          <p:nvPr/>
        </p:nvSpPr>
        <p:spPr>
          <a:xfrm>
            <a:off x="106668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其反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 Box 14"/>
          <p:cNvSpPr/>
          <p:nvPr/>
        </p:nvSpPr>
        <p:spPr>
          <a:xfrm>
            <a:off x="3809880" y="3352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 Box 15"/>
          <p:cNvSpPr/>
          <p:nvPr/>
        </p:nvSpPr>
        <p:spPr>
          <a:xfrm>
            <a:off x="1066680" y="39625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至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Text Box 16"/>
          <p:cNvSpPr/>
          <p:nvPr/>
        </p:nvSpPr>
        <p:spPr>
          <a:xfrm>
            <a:off x="3809880" y="388620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Text Box 17"/>
          <p:cNvSpPr/>
          <p:nvPr/>
        </p:nvSpPr>
        <p:spPr>
          <a:xfrm>
            <a:off x="99072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流、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地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Text Box 18"/>
          <p:cNvSpPr/>
          <p:nvPr/>
        </p:nvSpPr>
        <p:spPr>
          <a:xfrm>
            <a:off x="3657600" y="4724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代石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Text Box 19"/>
          <p:cNvSpPr/>
          <p:nvPr/>
        </p:nvSpPr>
        <p:spPr>
          <a:xfrm>
            <a:off x="1066680" y="55627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然则天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Text Box 20"/>
          <p:cNvSpPr/>
          <p:nvPr/>
        </p:nvSpPr>
        <p:spPr>
          <a:xfrm>
            <a:off x="3809880" y="5562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Text Box 7"/>
          <p:cNvSpPr/>
          <p:nvPr/>
        </p:nvSpPr>
        <p:spPr>
          <a:xfrm>
            <a:off x="380880" y="28954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Text Box 10"/>
          <p:cNvSpPr/>
          <p:nvPr/>
        </p:nvSpPr>
        <p:spPr>
          <a:xfrm>
            <a:off x="2921040" y="208080"/>
            <a:ext cx="48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Text Box 11"/>
          <p:cNvSpPr/>
          <p:nvPr/>
        </p:nvSpPr>
        <p:spPr>
          <a:xfrm>
            <a:off x="669960" y="1335240"/>
            <a:ext cx="77277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理解文章的基本内容，掌握重要的文言诗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初步掌握阅读文言文的方法，理解文章蕴含的道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理解实践出真知的道理、并能从实际出发分析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矩形 10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Text Box 2"/>
          <p:cNvSpPr/>
          <p:nvPr/>
        </p:nvSpPr>
        <p:spPr>
          <a:xfrm>
            <a:off x="2684520" y="-698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Text Box 3"/>
          <p:cNvSpPr/>
          <p:nvPr/>
        </p:nvSpPr>
        <p:spPr>
          <a:xfrm>
            <a:off x="573120" y="1338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AutoShape 4"/>
          <p:cNvSpPr/>
          <p:nvPr/>
        </p:nvSpPr>
        <p:spPr>
          <a:xfrm>
            <a:off x="1166760" y="1052640"/>
            <a:ext cx="309600" cy="1368360"/>
          </a:xfrm>
          <a:custGeom>
            <a:avLst/>
            <a:gdLst>
              <a:gd name="textAreaLeft" fmla="*/ 198000 w 309600"/>
              <a:gd name="textAreaRight" fmla="*/ 309960 w 3096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Text Box 5"/>
          <p:cNvSpPr/>
          <p:nvPr/>
        </p:nvSpPr>
        <p:spPr>
          <a:xfrm>
            <a:off x="1403280" y="692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岂能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暴涨携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Text Box 6"/>
          <p:cNvSpPr/>
          <p:nvPr/>
        </p:nvSpPr>
        <p:spPr>
          <a:xfrm>
            <a:off x="4859280" y="692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Text Box 7"/>
          <p:cNvSpPr/>
          <p:nvPr/>
        </p:nvSpPr>
        <p:spPr>
          <a:xfrm>
            <a:off x="3708360" y="2133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Text Box 8"/>
          <p:cNvSpPr/>
          <p:nvPr/>
        </p:nvSpPr>
        <p:spPr>
          <a:xfrm>
            <a:off x="1403280" y="21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啮沙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坎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Text Box 9"/>
          <p:cNvSpPr/>
          <p:nvPr/>
        </p:nvSpPr>
        <p:spPr>
          <a:xfrm>
            <a:off x="646200" y="31478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AutoShape 10"/>
          <p:cNvSpPr/>
          <p:nvPr/>
        </p:nvSpPr>
        <p:spPr>
          <a:xfrm>
            <a:off x="1258920" y="321300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Text Box 11"/>
          <p:cNvSpPr/>
          <p:nvPr/>
        </p:nvSpPr>
        <p:spPr>
          <a:xfrm>
            <a:off x="1332000" y="2852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再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Text Box 12"/>
          <p:cNvSpPr/>
          <p:nvPr/>
        </p:nvSpPr>
        <p:spPr>
          <a:xfrm>
            <a:off x="3348000" y="28544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Text Box 13"/>
          <p:cNvSpPr/>
          <p:nvPr/>
        </p:nvSpPr>
        <p:spPr>
          <a:xfrm>
            <a:off x="1332000" y="35020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其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14"/>
          <p:cNvSpPr/>
          <p:nvPr/>
        </p:nvSpPr>
        <p:spPr>
          <a:xfrm>
            <a:off x="3276720" y="350208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依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Text Box 15"/>
          <p:cNvSpPr/>
          <p:nvPr/>
        </p:nvSpPr>
        <p:spPr>
          <a:xfrm>
            <a:off x="1403280" y="1413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众服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确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Text Box 16"/>
          <p:cNvSpPr/>
          <p:nvPr/>
        </p:nvSpPr>
        <p:spPr>
          <a:xfrm>
            <a:off x="3564000" y="1413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矩形 2"/>
          <p:cNvSpPr/>
          <p:nvPr/>
        </p:nvSpPr>
        <p:spPr>
          <a:xfrm>
            <a:off x="0" y="79200"/>
            <a:ext cx="1600200" cy="61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1" descr="p_large_rr63_04a6000191a32d12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914" name="Text Box 2"/>
          <p:cNvSpPr/>
          <p:nvPr/>
        </p:nvSpPr>
        <p:spPr>
          <a:xfrm>
            <a:off x="3124080" y="380880"/>
            <a:ext cx="337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古今异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Text Box 3"/>
          <p:cNvSpPr/>
          <p:nvPr/>
        </p:nvSpPr>
        <p:spPr>
          <a:xfrm>
            <a:off x="1528920" y="13003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Text Box 4"/>
          <p:cNvSpPr/>
          <p:nvPr/>
        </p:nvSpPr>
        <p:spPr>
          <a:xfrm>
            <a:off x="1528920" y="201456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Text Box 5"/>
          <p:cNvSpPr/>
          <p:nvPr/>
        </p:nvSpPr>
        <p:spPr>
          <a:xfrm>
            <a:off x="600120" y="1442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Text Box 6"/>
          <p:cNvSpPr/>
          <p:nvPr/>
        </p:nvSpPr>
        <p:spPr>
          <a:xfrm>
            <a:off x="2314440" y="1300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Text Box 7"/>
          <p:cNvSpPr/>
          <p:nvPr/>
        </p:nvSpPr>
        <p:spPr>
          <a:xfrm>
            <a:off x="2243160" y="1943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不潮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Text Box 8"/>
          <p:cNvSpPr/>
          <p:nvPr/>
        </p:nvSpPr>
        <p:spPr>
          <a:xfrm>
            <a:off x="628560" y="35528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Text Box 9"/>
          <p:cNvSpPr/>
          <p:nvPr/>
        </p:nvSpPr>
        <p:spPr>
          <a:xfrm>
            <a:off x="2557440" y="3267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Text Box 10"/>
          <p:cNvSpPr/>
          <p:nvPr/>
        </p:nvSpPr>
        <p:spPr>
          <a:xfrm>
            <a:off x="2771640" y="39099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Text Box 11"/>
          <p:cNvSpPr/>
          <p:nvPr/>
        </p:nvSpPr>
        <p:spPr>
          <a:xfrm>
            <a:off x="4390920" y="33195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物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Text Box 12"/>
          <p:cNvSpPr/>
          <p:nvPr/>
        </p:nvSpPr>
        <p:spPr>
          <a:xfrm>
            <a:off x="6462720" y="310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事物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Text Box 13"/>
          <p:cNvSpPr/>
          <p:nvPr/>
        </p:nvSpPr>
        <p:spPr>
          <a:xfrm>
            <a:off x="6605640" y="3819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一门学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Text Box 14"/>
          <p:cNvSpPr/>
          <p:nvPr/>
        </p:nvSpPr>
        <p:spPr>
          <a:xfrm>
            <a:off x="4629240" y="1285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Text Box 15"/>
          <p:cNvSpPr/>
          <p:nvPr/>
        </p:nvSpPr>
        <p:spPr>
          <a:xfrm>
            <a:off x="6486480" y="1143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Text Box 16"/>
          <p:cNvSpPr/>
          <p:nvPr/>
        </p:nvSpPr>
        <p:spPr>
          <a:xfrm>
            <a:off x="5943600" y="18572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表判断的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Text Box 17"/>
          <p:cNvSpPr/>
          <p:nvPr/>
        </p:nvSpPr>
        <p:spPr>
          <a:xfrm>
            <a:off x="623880" y="54291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Text Box 18"/>
          <p:cNvSpPr/>
          <p:nvPr/>
        </p:nvSpPr>
        <p:spPr>
          <a:xfrm>
            <a:off x="2481120" y="5072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Text Box 19"/>
          <p:cNvSpPr/>
          <p:nvPr/>
        </p:nvSpPr>
        <p:spPr>
          <a:xfrm>
            <a:off x="2481120" y="5786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已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Text Box 3"/>
          <p:cNvSpPr/>
          <p:nvPr/>
        </p:nvSpPr>
        <p:spPr>
          <a:xfrm>
            <a:off x="1557360" y="32670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Text Box 3"/>
          <p:cNvSpPr/>
          <p:nvPr/>
        </p:nvSpPr>
        <p:spPr>
          <a:xfrm>
            <a:off x="5748480" y="31050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Text Box 3"/>
          <p:cNvSpPr/>
          <p:nvPr/>
        </p:nvSpPr>
        <p:spPr>
          <a:xfrm>
            <a:off x="5486400" y="11430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Text Box 3"/>
          <p:cNvSpPr/>
          <p:nvPr/>
        </p:nvSpPr>
        <p:spPr>
          <a:xfrm>
            <a:off x="1623960" y="500076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古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Text Box 4"/>
          <p:cNvSpPr/>
          <p:nvPr/>
        </p:nvSpPr>
        <p:spPr>
          <a:xfrm>
            <a:off x="1628640" y="390996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Text Box 4"/>
          <p:cNvSpPr/>
          <p:nvPr/>
        </p:nvSpPr>
        <p:spPr>
          <a:xfrm>
            <a:off x="5676840" y="36766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Text Box 4"/>
          <p:cNvSpPr/>
          <p:nvPr/>
        </p:nvSpPr>
        <p:spPr>
          <a:xfrm>
            <a:off x="1623960" y="57862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Text Box 4"/>
          <p:cNvSpPr/>
          <p:nvPr/>
        </p:nvSpPr>
        <p:spPr>
          <a:xfrm>
            <a:off x="5415120" y="185724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今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左大括号 28"/>
          <p:cNvSpPr/>
          <p:nvPr/>
        </p:nvSpPr>
        <p:spPr>
          <a:xfrm>
            <a:off x="1457280" y="144288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左大括号 29"/>
          <p:cNvSpPr/>
          <p:nvPr/>
        </p:nvSpPr>
        <p:spPr>
          <a:xfrm>
            <a:off x="5343480" y="13572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左大括号 30"/>
          <p:cNvSpPr/>
          <p:nvPr/>
        </p:nvSpPr>
        <p:spPr>
          <a:xfrm>
            <a:off x="1343160" y="3409920"/>
            <a:ext cx="214200" cy="10573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057320"/>
              <a:gd name="textAreaBottom" fmla="*/ 1051920 h 10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2"/>
                  <a:pt x="10800" y="364"/>
                </a:cubicBezTo>
                <a:lnTo>
                  <a:pt x="10800" y="10436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2"/>
                  <a:pt x="10800" y="11164"/>
                </a:cubicBezTo>
                <a:lnTo>
                  <a:pt x="10800" y="21236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左大括号 31"/>
          <p:cNvSpPr/>
          <p:nvPr/>
        </p:nvSpPr>
        <p:spPr>
          <a:xfrm>
            <a:off x="5605560" y="33195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左大括号 32"/>
          <p:cNvSpPr/>
          <p:nvPr/>
        </p:nvSpPr>
        <p:spPr>
          <a:xfrm>
            <a:off x="1481040" y="52149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2997360" y="-36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690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原指船桨，这里是划船的意思。（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名词活用作动词。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暴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这里是指暴涨的洪水。（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动词活用作名词。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矩形 2"/>
          <p:cNvSpPr/>
          <p:nvPr/>
        </p:nvSpPr>
        <p:spPr>
          <a:xfrm>
            <a:off x="0" y="79200"/>
            <a:ext cx="1600200" cy="61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Text Box 2"/>
          <p:cNvSpPr/>
          <p:nvPr/>
        </p:nvSpPr>
        <p:spPr>
          <a:xfrm>
            <a:off x="3556080" y="154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通假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Text Box 3"/>
          <p:cNvSpPr/>
          <p:nvPr/>
        </p:nvSpPr>
        <p:spPr>
          <a:xfrm>
            <a:off x="1065240" y="11574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不亦颠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Text Box 4"/>
          <p:cNvSpPr/>
          <p:nvPr/>
        </p:nvSpPr>
        <p:spPr>
          <a:xfrm>
            <a:off x="1077120" y="2278080"/>
            <a:ext cx="493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颠”通“颠”，疯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矩形 2"/>
          <p:cNvSpPr/>
          <p:nvPr/>
        </p:nvSpPr>
        <p:spPr>
          <a:xfrm>
            <a:off x="0" y="79200"/>
            <a:ext cx="1600200" cy="61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WordArt 2"/>
          <p:cNvSpPr txBox="1"/>
          <p:nvPr/>
        </p:nvSpPr>
        <p:spPr>
          <a:xfrm>
            <a:off x="3255840" y="17784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特殊句式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53" name="Text Box 3"/>
          <p:cNvSpPr/>
          <p:nvPr/>
        </p:nvSpPr>
        <p:spPr>
          <a:xfrm>
            <a:off x="1716840" y="148608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被动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岂能为暴涨携之去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Text Box 4"/>
          <p:cNvSpPr/>
          <p:nvPr/>
        </p:nvSpPr>
        <p:spPr>
          <a:xfrm>
            <a:off x="741960" y="3147840"/>
            <a:ext cx="53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倒装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当求之于上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求石兽于水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矩形 2"/>
          <p:cNvSpPr/>
          <p:nvPr/>
        </p:nvSpPr>
        <p:spPr>
          <a:xfrm>
            <a:off x="0" y="79200"/>
            <a:ext cx="1600200" cy="61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文本框 2"/>
          <p:cNvSpPr/>
          <p:nvPr/>
        </p:nvSpPr>
        <p:spPr>
          <a:xfrm>
            <a:off x="1800360" y="4957920"/>
            <a:ext cx="62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状语后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正常语序为“于水中求二石兽”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矩形 2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Rectangle 3"/>
          <p:cNvSpPr/>
          <p:nvPr/>
        </p:nvSpPr>
        <p:spPr>
          <a:xfrm>
            <a:off x="839880" y="1149480"/>
            <a:ext cx="636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篇文章讲了一个什么故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文本框 181252"/>
          <p:cNvSpPr/>
          <p:nvPr/>
        </p:nvSpPr>
        <p:spPr>
          <a:xfrm>
            <a:off x="1066680" y="6094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说一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Rectangle 3"/>
          <p:cNvSpPr/>
          <p:nvPr/>
        </p:nvSpPr>
        <p:spPr>
          <a:xfrm>
            <a:off x="825480" y="2486160"/>
            <a:ext cx="749304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讲的是一个寺庙门口的石兽，倒塌到河里，十几年后，人们找到石兽的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"/>
          <p:cNvSpPr txBox="1"/>
          <p:nvPr/>
        </p:nvSpPr>
        <p:spPr>
          <a:xfrm>
            <a:off x="1066680" y="1142640"/>
            <a:ext cx="701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文中主要说出了几位主要人物，概括他们各自寻找河中石兽的四种方法及结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为什么前三种方法是错的，只有老河兵的方法是对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2" name="Picture 4" descr="问号"/>
          <p:cNvPicPr/>
          <p:nvPr/>
        </p:nvPicPr>
        <p:blipFill>
          <a:blip r:embed="rId1"/>
          <a:stretch/>
        </p:blipFill>
        <p:spPr>
          <a:xfrm>
            <a:off x="6553080" y="495288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963" name="矩形 3"/>
          <p:cNvSpPr/>
          <p:nvPr/>
        </p:nvSpPr>
        <p:spPr>
          <a:xfrm>
            <a:off x="0" y="0"/>
            <a:ext cx="3710160" cy="898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课文内容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Text Box 3"/>
          <p:cNvSpPr/>
          <p:nvPr/>
        </p:nvSpPr>
        <p:spPr>
          <a:xfrm>
            <a:off x="1828800" y="5335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总结四种寻找石兽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Text Box 4"/>
          <p:cNvSpPr/>
          <p:nvPr/>
        </p:nvSpPr>
        <p:spPr>
          <a:xfrm>
            <a:off x="5257800" y="12952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6" name=""/>
          <p:cNvGraphicFramePr/>
          <p:nvPr/>
        </p:nvGraphicFramePr>
        <p:xfrm>
          <a:off x="1066680" y="1295280"/>
          <a:ext cx="7238880" cy="4343400"/>
        </p:xfrm>
        <a:graphic>
          <a:graphicData uri="http://schemas.openxmlformats.org/drawingml/2006/table">
            <a:tbl>
              <a:tblPr/>
              <a:tblGrid>
                <a:gridCol w="1809720"/>
                <a:gridCol w="1542960"/>
                <a:gridCol w="2076480"/>
                <a:gridCol w="1809720"/>
              </a:tblGrid>
              <a:tr h="838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寻找经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寻找的地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7" name="Text Box 39"/>
          <p:cNvSpPr/>
          <p:nvPr/>
        </p:nvSpPr>
        <p:spPr>
          <a:xfrm>
            <a:off x="1371600" y="2286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Text Box 40"/>
          <p:cNvSpPr/>
          <p:nvPr/>
        </p:nvSpPr>
        <p:spPr>
          <a:xfrm>
            <a:off x="3276720" y="2133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Text Box 41"/>
          <p:cNvSpPr/>
          <p:nvPr/>
        </p:nvSpPr>
        <p:spPr>
          <a:xfrm>
            <a:off x="1371600" y="3048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Text Box 42"/>
          <p:cNvSpPr/>
          <p:nvPr/>
        </p:nvSpPr>
        <p:spPr>
          <a:xfrm>
            <a:off x="3276720" y="3048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43"/>
          <p:cNvSpPr/>
          <p:nvPr/>
        </p:nvSpPr>
        <p:spPr>
          <a:xfrm>
            <a:off x="4419720" y="3048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之下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Text Box 44"/>
          <p:cNvSpPr/>
          <p:nvPr/>
        </p:nvSpPr>
        <p:spPr>
          <a:xfrm>
            <a:off x="1371600" y="3886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Text Box 45"/>
          <p:cNvSpPr/>
          <p:nvPr/>
        </p:nvSpPr>
        <p:spPr>
          <a:xfrm>
            <a:off x="2895480" y="3809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讲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Text Box 46"/>
          <p:cNvSpPr/>
          <p:nvPr/>
        </p:nvSpPr>
        <p:spPr>
          <a:xfrm>
            <a:off x="4419720" y="3886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地沙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Text Box 47"/>
          <p:cNvSpPr/>
          <p:nvPr/>
        </p:nvSpPr>
        <p:spPr>
          <a:xfrm>
            <a:off x="1371600" y="4800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Text Box 48"/>
          <p:cNvSpPr/>
          <p:nvPr/>
        </p:nvSpPr>
        <p:spPr>
          <a:xfrm>
            <a:off x="2895480" y="4800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河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Text Box 49"/>
          <p:cNvSpPr/>
          <p:nvPr/>
        </p:nvSpPr>
        <p:spPr>
          <a:xfrm>
            <a:off x="4749480" y="4876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之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Text Box 50"/>
          <p:cNvSpPr/>
          <p:nvPr/>
        </p:nvSpPr>
        <p:spPr>
          <a:xfrm>
            <a:off x="6629400" y="449568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果得于数里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Text Box 51"/>
          <p:cNvSpPr/>
          <p:nvPr/>
        </p:nvSpPr>
        <p:spPr>
          <a:xfrm>
            <a:off x="6781680" y="3886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Text Box 52"/>
          <p:cNvSpPr/>
          <p:nvPr/>
        </p:nvSpPr>
        <p:spPr>
          <a:xfrm>
            <a:off x="4495680" y="2286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地水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Text Box 53"/>
          <p:cNvSpPr/>
          <p:nvPr/>
        </p:nvSpPr>
        <p:spPr>
          <a:xfrm>
            <a:off x="6553080" y="2209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可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Text Box 54"/>
          <p:cNvSpPr/>
          <p:nvPr/>
        </p:nvSpPr>
        <p:spPr>
          <a:xfrm>
            <a:off x="6705720" y="3048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Line 55"/>
          <p:cNvSpPr/>
          <p:nvPr/>
        </p:nvSpPr>
        <p:spPr>
          <a:xfrm>
            <a:off x="4419720" y="56386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矩形 21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5" name="Picture 3" descr="99"/>
          <p:cNvPicPr/>
          <p:nvPr/>
        </p:nvPicPr>
        <p:blipFill>
          <a:blip r:embed="rId1"/>
          <a:stretch/>
        </p:blipFill>
        <p:spPr>
          <a:xfrm rot="20418600">
            <a:off x="6019920" y="838080"/>
            <a:ext cx="923760" cy="1714680"/>
          </a:xfrm>
          <a:prstGeom prst="rect">
            <a:avLst/>
          </a:prstGeom>
          <a:ln w="0">
            <a:noFill/>
          </a:ln>
        </p:spPr>
      </p:pic>
      <p:sp>
        <p:nvSpPr>
          <p:cNvPr id="2986" name="Text Box 4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Line 5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Oval 8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Oval 9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WordArt 10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93" name="WordArt 11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994" name="Picture 12" descr="u=1981761599,2222145136&amp;fm=21&amp;gp=0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766960"/>
          </a:xfrm>
          <a:prstGeom prst="rect">
            <a:avLst/>
          </a:prstGeom>
          <a:ln w="0">
            <a:noFill/>
          </a:ln>
        </p:spPr>
      </p:pic>
      <p:pic>
        <p:nvPicPr>
          <p:cNvPr id="2995" name="Picture 13" descr="u=4054640601,1650306011&amp;fm=21&amp;gp=0"/>
          <p:cNvPicPr/>
          <p:nvPr/>
        </p:nvPicPr>
        <p:blipFill>
          <a:blip r:embed="rId3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8611 L -0.00052 0.41945 E">
                                      <p:cBhvr>
                                        <p:cTn id="924" dur="2000" fill="hold"/>
                                        <p:tgtEl>
                                          <p:spTgt spid="2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1"/>
                            </p:stCondLst>
                            <p:childTnLst>
                              <p:par>
                                <p:cTn id="9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7" name="Picture 3" descr="99"/>
          <p:cNvPicPr/>
          <p:nvPr/>
        </p:nvPicPr>
        <p:blipFill>
          <a:blip r:embed="rId1"/>
          <a:stretch/>
        </p:blipFill>
        <p:spPr>
          <a:xfrm rot="20470200">
            <a:off x="5866920" y="3886200"/>
            <a:ext cx="924120" cy="1714680"/>
          </a:xfrm>
          <a:prstGeom prst="rect">
            <a:avLst/>
          </a:prstGeom>
          <a:ln w="0">
            <a:noFill/>
          </a:ln>
        </p:spPr>
      </p:pic>
      <p:sp>
        <p:nvSpPr>
          <p:cNvPr id="2998" name="Line 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5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6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7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8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Oval 10"/>
          <p:cNvSpPr/>
          <p:nvPr/>
        </p:nvSpPr>
        <p:spPr>
          <a:xfrm>
            <a:off x="5867280" y="5029200"/>
            <a:ext cx="38124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Oval 11"/>
          <p:cNvSpPr/>
          <p:nvPr/>
        </p:nvSpPr>
        <p:spPr>
          <a:xfrm>
            <a:off x="6858000" y="4952880"/>
            <a:ext cx="5335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WordArt 12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07" name="WordArt 13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008" name="Picture 14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009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Rectangle 3"/>
          <p:cNvSpPr/>
          <p:nvPr/>
        </p:nvSpPr>
        <p:spPr>
          <a:xfrm>
            <a:off x="1676520" y="457200"/>
            <a:ext cx="67863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Rectangle 4"/>
          <p:cNvSpPr/>
          <p:nvPr/>
        </p:nvSpPr>
        <p:spPr>
          <a:xfrm>
            <a:off x="3203640" y="457200"/>
            <a:ext cx="5118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纪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字       ，   代著明名学者、文学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性诙谐风趣。任            总纂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古今图书为                            四部，故名四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Rectangle 5"/>
          <p:cNvSpPr/>
          <p:nvPr/>
        </p:nvSpPr>
        <p:spPr>
          <a:xfrm>
            <a:off x="3327480" y="3297240"/>
            <a:ext cx="5400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选自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纪昀晚年所作的一部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说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材以妖怪鬼狐为主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但于人事异闻、名物典故等也有记述，内容相当广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矩形 8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5" name="图片 41991" descr="纪晓岚"/>
          <p:cNvPicPr/>
          <p:nvPr/>
        </p:nvPicPr>
        <p:blipFill>
          <a:blip r:embed="rId1"/>
          <a:stretch/>
        </p:blipFill>
        <p:spPr>
          <a:xfrm>
            <a:off x="304920" y="457200"/>
            <a:ext cx="2609640" cy="4903920"/>
          </a:xfrm>
          <a:prstGeom prst="rect">
            <a:avLst/>
          </a:prstGeom>
          <a:ln w="0">
            <a:noFill/>
          </a:ln>
        </p:spPr>
      </p:pic>
      <p:sp>
        <p:nvSpPr>
          <p:cNvPr id="2726" name="Text Box 3"/>
          <p:cNvSpPr/>
          <p:nvPr/>
        </p:nvSpPr>
        <p:spPr>
          <a:xfrm>
            <a:off x="5549760" y="457200"/>
            <a:ext cx="13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晓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3"/>
          <p:cNvSpPr/>
          <p:nvPr/>
        </p:nvSpPr>
        <p:spPr>
          <a:xfrm>
            <a:off x="7000920" y="4572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3"/>
          <p:cNvSpPr/>
          <p:nvPr/>
        </p:nvSpPr>
        <p:spPr>
          <a:xfrm>
            <a:off x="4524480" y="1353960"/>
            <a:ext cx="24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库全书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6"/>
          <p:cNvSpPr/>
          <p:nvPr/>
        </p:nvSpPr>
        <p:spPr>
          <a:xfrm>
            <a:off x="5538960" y="180324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经、史、子、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6"/>
          <p:cNvSpPr/>
          <p:nvPr/>
        </p:nvSpPr>
        <p:spPr>
          <a:xfrm>
            <a:off x="5538960" y="329724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阅微草堂笔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 Box 6"/>
          <p:cNvSpPr/>
          <p:nvPr/>
        </p:nvSpPr>
        <p:spPr>
          <a:xfrm>
            <a:off x="3470400" y="431172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文言笔记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1" name="Picture 3" descr="99"/>
          <p:cNvPicPr/>
          <p:nvPr/>
        </p:nvPicPr>
        <p:blipFill>
          <a:blip r:embed="rId1"/>
          <a:stretch/>
        </p:blipFill>
        <p:spPr>
          <a:xfrm rot="20502000">
            <a:off x="6019560" y="3885840"/>
            <a:ext cx="923760" cy="1714680"/>
          </a:xfrm>
          <a:prstGeom prst="rect">
            <a:avLst/>
          </a:prstGeom>
          <a:ln w="0">
            <a:noFill/>
          </a:ln>
        </p:spPr>
      </p:pic>
      <p:sp>
        <p:nvSpPr>
          <p:cNvPr id="3012" name="Line 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Line 5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Line 6"/>
          <p:cNvSpPr/>
          <p:nvPr/>
        </p:nvSpPr>
        <p:spPr>
          <a:xfrm>
            <a:off x="152280" y="472428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Line 7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Text Box 8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Text Box 9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Oval 10"/>
          <p:cNvSpPr/>
          <p:nvPr/>
        </p:nvSpPr>
        <p:spPr>
          <a:xfrm>
            <a:off x="4267080" y="487692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Oval 11"/>
          <p:cNvSpPr/>
          <p:nvPr/>
        </p:nvSpPr>
        <p:spPr>
          <a:xfrm>
            <a:off x="7010280" y="4800600"/>
            <a:ext cx="12193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WordArt 12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21" name="WordArt 13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022" name="Picture 16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3023" name="Line 17"/>
          <p:cNvSpPr/>
          <p:nvPr/>
        </p:nvSpPr>
        <p:spPr>
          <a:xfrm flipH="1">
            <a:off x="5562720" y="46483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Line 18"/>
          <p:cNvSpPr/>
          <p:nvPr/>
        </p:nvSpPr>
        <p:spPr>
          <a:xfrm flipH="1">
            <a:off x="548640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5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Line 4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Oval 8"/>
          <p:cNvSpPr/>
          <p:nvPr/>
        </p:nvSpPr>
        <p:spPr>
          <a:xfrm>
            <a:off x="4267080" y="495288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3" name="Picture 9" descr="99"/>
          <p:cNvPicPr/>
          <p:nvPr/>
        </p:nvPicPr>
        <p:blipFill>
          <a:blip r:embed="rId1"/>
          <a:stretch/>
        </p:blipFill>
        <p:spPr>
          <a:xfrm>
            <a:off x="4343400" y="457200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3034" name="Line 10"/>
          <p:cNvSpPr/>
          <p:nvPr/>
        </p:nvSpPr>
        <p:spPr>
          <a:xfrm>
            <a:off x="-1219320" y="480060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Oval 11"/>
          <p:cNvSpPr/>
          <p:nvPr/>
        </p:nvSpPr>
        <p:spPr>
          <a:xfrm rot="21073800">
            <a:off x="6095880" y="4800240"/>
            <a:ext cx="121932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Oval 12"/>
          <p:cNvSpPr/>
          <p:nvPr/>
        </p:nvSpPr>
        <p:spPr>
          <a:xfrm rot="21073800">
            <a:off x="3873600" y="5257800"/>
            <a:ext cx="121896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Oval 13"/>
          <p:cNvSpPr/>
          <p:nvPr/>
        </p:nvSpPr>
        <p:spPr>
          <a:xfrm rot="1768800">
            <a:off x="6019920" y="4876560"/>
            <a:ext cx="121896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WordArt 14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39" name="WordArt 15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040" name="Picture 18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041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Line 4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Oval 8"/>
          <p:cNvSpPr/>
          <p:nvPr/>
        </p:nvSpPr>
        <p:spPr>
          <a:xfrm>
            <a:off x="4267080" y="4952880"/>
            <a:ext cx="1905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9" name="Picture 9" descr="99"/>
          <p:cNvPicPr/>
          <p:nvPr/>
        </p:nvPicPr>
        <p:blipFill>
          <a:blip r:embed="rId1"/>
          <a:stretch/>
        </p:blipFill>
        <p:spPr>
          <a:xfrm>
            <a:off x="4343400" y="457200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3050" name="Oval 10"/>
          <p:cNvSpPr/>
          <p:nvPr/>
        </p:nvSpPr>
        <p:spPr>
          <a:xfrm>
            <a:off x="2971800" y="4495680"/>
            <a:ext cx="13716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Oval 11"/>
          <p:cNvSpPr/>
          <p:nvPr/>
        </p:nvSpPr>
        <p:spPr>
          <a:xfrm rot="20733000">
            <a:off x="5714640" y="4648320"/>
            <a:ext cx="1752480" cy="10317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Line 12"/>
          <p:cNvSpPr/>
          <p:nvPr/>
        </p:nvSpPr>
        <p:spPr>
          <a:xfrm>
            <a:off x="-1066680" y="472428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Oval 13"/>
          <p:cNvSpPr/>
          <p:nvPr/>
        </p:nvSpPr>
        <p:spPr>
          <a:xfrm>
            <a:off x="3809880" y="5334120"/>
            <a:ext cx="147816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WordArt 14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5" name="WordArt 15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056" name="Picture 18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3057" name="Line 19"/>
          <p:cNvSpPr/>
          <p:nvPr/>
        </p:nvSpPr>
        <p:spPr>
          <a:xfrm flipH="1">
            <a:off x="3962160" y="5105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20"/>
          <p:cNvSpPr/>
          <p:nvPr/>
        </p:nvSpPr>
        <p:spPr>
          <a:xfrm flipH="1">
            <a:off x="3581280" y="48006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9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Line 4"/>
          <p:cNvSpPr/>
          <p:nvPr/>
        </p:nvSpPr>
        <p:spPr>
          <a:xfrm>
            <a:off x="-609480" y="4267080"/>
            <a:ext cx="3733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Line 9"/>
          <p:cNvSpPr/>
          <p:nvPr/>
        </p:nvSpPr>
        <p:spPr>
          <a:xfrm>
            <a:off x="-2552760" y="487692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8" name="Picture 10" descr="99"/>
          <p:cNvPicPr/>
          <p:nvPr/>
        </p:nvPicPr>
        <p:blipFill>
          <a:blip r:embed="rId1"/>
          <a:stretch/>
        </p:blipFill>
        <p:spPr>
          <a:xfrm rot="17391600">
            <a:off x="2881080" y="44337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3069" name="Oval 11"/>
          <p:cNvSpPr/>
          <p:nvPr/>
        </p:nvSpPr>
        <p:spPr>
          <a:xfrm rot="8533200">
            <a:off x="3580920" y="5028480"/>
            <a:ext cx="137160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Oval 12"/>
          <p:cNvSpPr/>
          <p:nvPr/>
        </p:nvSpPr>
        <p:spPr>
          <a:xfrm rot="2296800">
            <a:off x="457200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Oval 13"/>
          <p:cNvSpPr/>
          <p:nvPr/>
        </p:nvSpPr>
        <p:spPr>
          <a:xfrm rot="7696800">
            <a:off x="243828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Line 14"/>
          <p:cNvSpPr/>
          <p:nvPr/>
        </p:nvSpPr>
        <p:spPr>
          <a:xfrm>
            <a:off x="4800600" y="4343400"/>
            <a:ext cx="3809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WordArt 15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74" name="WordArt 16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075" name="Picture 19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076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Line 4"/>
          <p:cNvSpPr/>
          <p:nvPr/>
        </p:nvSpPr>
        <p:spPr>
          <a:xfrm>
            <a:off x="-1866960" y="44197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4" name="Picture 9" descr="99"/>
          <p:cNvPicPr/>
          <p:nvPr/>
        </p:nvPicPr>
        <p:blipFill>
          <a:blip r:embed="rId1"/>
          <a:stretch/>
        </p:blipFill>
        <p:spPr>
          <a:xfrm rot="14756400">
            <a:off x="2500200" y="4357440"/>
            <a:ext cx="1714320" cy="924120"/>
          </a:xfrm>
          <a:prstGeom prst="rect">
            <a:avLst/>
          </a:prstGeom>
          <a:ln w="0">
            <a:noFill/>
          </a:ln>
        </p:spPr>
      </p:pic>
      <p:sp>
        <p:nvSpPr>
          <p:cNvPr id="3085" name="Oval 10"/>
          <p:cNvSpPr/>
          <p:nvPr/>
        </p:nvSpPr>
        <p:spPr>
          <a:xfrm rot="9360600">
            <a:off x="3701160" y="4882320"/>
            <a:ext cx="160020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Oval 11"/>
          <p:cNvSpPr/>
          <p:nvPr/>
        </p:nvSpPr>
        <p:spPr>
          <a:xfrm rot="2296800">
            <a:off x="4572000" y="518148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Oval 12"/>
          <p:cNvSpPr/>
          <p:nvPr/>
        </p:nvSpPr>
        <p:spPr>
          <a:xfrm rot="11535000">
            <a:off x="1515600" y="4866840"/>
            <a:ext cx="16765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Oval 13"/>
          <p:cNvSpPr/>
          <p:nvPr/>
        </p:nvSpPr>
        <p:spPr>
          <a:xfrm rot="2296800">
            <a:off x="3657240" y="4952880"/>
            <a:ext cx="1143000" cy="60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Line 14"/>
          <p:cNvSpPr/>
          <p:nvPr/>
        </p:nvSpPr>
        <p:spPr>
          <a:xfrm>
            <a:off x="-2971800" y="487692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WordArt 15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1" name="WordArt 16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092" name="Picture 18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3093" name="Line 20"/>
          <p:cNvSpPr/>
          <p:nvPr/>
        </p:nvSpPr>
        <p:spPr>
          <a:xfrm flipH="1">
            <a:off x="2209680" y="5029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Line 21"/>
          <p:cNvSpPr/>
          <p:nvPr/>
        </p:nvSpPr>
        <p:spPr>
          <a:xfrm flipH="1">
            <a:off x="2286000" y="4724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5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Line 4"/>
          <p:cNvSpPr/>
          <p:nvPr/>
        </p:nvSpPr>
        <p:spPr>
          <a:xfrm>
            <a:off x="114300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Oval 8"/>
          <p:cNvSpPr/>
          <p:nvPr/>
        </p:nvSpPr>
        <p:spPr>
          <a:xfrm>
            <a:off x="3048120" y="45720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Line 9"/>
          <p:cNvSpPr/>
          <p:nvPr/>
        </p:nvSpPr>
        <p:spPr>
          <a:xfrm>
            <a:off x="-228600" y="4800600"/>
            <a:ext cx="19810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Oval 10"/>
          <p:cNvSpPr/>
          <p:nvPr/>
        </p:nvSpPr>
        <p:spPr>
          <a:xfrm rot="7696800">
            <a:off x="2362320" y="502920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Oval 11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6" name="Picture 12" descr="99"/>
          <p:cNvPicPr/>
          <p:nvPr/>
        </p:nvPicPr>
        <p:blipFill>
          <a:blip r:embed="rId1"/>
          <a:stretch/>
        </p:blipFill>
        <p:spPr>
          <a:xfrm rot="11653800">
            <a:off x="1828440" y="4723560"/>
            <a:ext cx="1714680" cy="924120"/>
          </a:xfrm>
          <a:prstGeom prst="rect">
            <a:avLst/>
          </a:prstGeom>
          <a:ln w="0">
            <a:noFill/>
          </a:ln>
        </p:spPr>
      </p:pic>
      <p:sp>
        <p:nvSpPr>
          <p:cNvPr id="3107" name="Oval 13"/>
          <p:cNvSpPr/>
          <p:nvPr/>
        </p:nvSpPr>
        <p:spPr>
          <a:xfrm rot="2296800">
            <a:off x="1447560" y="5105160"/>
            <a:ext cx="303120" cy="322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Line 14"/>
          <p:cNvSpPr/>
          <p:nvPr/>
        </p:nvSpPr>
        <p:spPr>
          <a:xfrm flipH="1">
            <a:off x="1447920" y="4724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Line 15"/>
          <p:cNvSpPr/>
          <p:nvPr/>
        </p:nvSpPr>
        <p:spPr>
          <a:xfrm flipH="1">
            <a:off x="1066680" y="45720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WordArt 16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11" name="WordArt 17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112" name="Picture 20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sp>
        <p:nvSpPr>
          <p:cNvPr id="3113" name="Rectangle 21"/>
          <p:cNvSpPr/>
          <p:nvPr/>
        </p:nvSpPr>
        <p:spPr>
          <a:xfrm>
            <a:off x="3505320" y="5105520"/>
            <a:ext cx="761760" cy="6094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AutoShape 22"/>
          <p:cNvSpPr/>
          <p:nvPr/>
        </p:nvSpPr>
        <p:spPr>
          <a:xfrm>
            <a:off x="3505320" y="4800600"/>
            <a:ext cx="961920" cy="914400"/>
          </a:xfrm>
          <a:prstGeom prst="pentagon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Oval 23"/>
          <p:cNvSpPr/>
          <p:nvPr/>
        </p:nvSpPr>
        <p:spPr>
          <a:xfrm>
            <a:off x="3657600" y="4724280"/>
            <a:ext cx="1295280" cy="10670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6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Line 4"/>
          <p:cNvSpPr/>
          <p:nvPr/>
        </p:nvSpPr>
        <p:spPr>
          <a:xfrm>
            <a:off x="3809880" y="426708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5"/>
          <p:cNvSpPr/>
          <p:nvPr/>
        </p:nvSpPr>
        <p:spPr>
          <a:xfrm>
            <a:off x="9144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8"/>
          <p:cNvSpPr/>
          <p:nvPr/>
        </p:nvSpPr>
        <p:spPr>
          <a:xfrm>
            <a:off x="3657600" y="4648320"/>
            <a:ext cx="51055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Oval 9"/>
          <p:cNvSpPr/>
          <p:nvPr/>
        </p:nvSpPr>
        <p:spPr>
          <a:xfrm rot="7696800">
            <a:off x="2362320" y="502920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Oval 10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Oval 11"/>
          <p:cNvSpPr/>
          <p:nvPr/>
        </p:nvSpPr>
        <p:spPr>
          <a:xfrm rot="2296800">
            <a:off x="2477880" y="4635000"/>
            <a:ext cx="968400" cy="10670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7" name="Picture 12" descr="99"/>
          <p:cNvPicPr/>
          <p:nvPr/>
        </p:nvPicPr>
        <p:blipFill>
          <a:blip r:embed="rId1"/>
          <a:stretch/>
        </p:blipFill>
        <p:spPr>
          <a:xfrm rot="7502400">
            <a:off x="1281240" y="4357440"/>
            <a:ext cx="1714320" cy="923760"/>
          </a:xfrm>
          <a:prstGeom prst="rect">
            <a:avLst/>
          </a:prstGeom>
          <a:ln w="0">
            <a:noFill/>
          </a:ln>
        </p:spPr>
      </p:pic>
      <p:sp>
        <p:nvSpPr>
          <p:cNvPr id="3128" name="Oval 13"/>
          <p:cNvSpPr/>
          <p:nvPr/>
        </p:nvSpPr>
        <p:spPr>
          <a:xfrm rot="2296800">
            <a:off x="2307960" y="4844880"/>
            <a:ext cx="414360" cy="10494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Line 14"/>
          <p:cNvSpPr/>
          <p:nvPr/>
        </p:nvSpPr>
        <p:spPr>
          <a:xfrm>
            <a:off x="0" y="4419720"/>
            <a:ext cx="160020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15"/>
          <p:cNvSpPr/>
          <p:nvPr/>
        </p:nvSpPr>
        <p:spPr>
          <a:xfrm>
            <a:off x="-304920" y="4876920"/>
            <a:ext cx="160020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Line 16"/>
          <p:cNvSpPr/>
          <p:nvPr/>
        </p:nvSpPr>
        <p:spPr>
          <a:xfrm flipH="1">
            <a:off x="837720" y="45720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17"/>
          <p:cNvSpPr/>
          <p:nvPr/>
        </p:nvSpPr>
        <p:spPr>
          <a:xfrm flipH="1">
            <a:off x="838080" y="48006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WordArt 18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34" name="WordArt 19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135" name="Picture 22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136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Line 4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Line 5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Oval 8"/>
          <p:cNvSpPr/>
          <p:nvPr/>
        </p:nvSpPr>
        <p:spPr>
          <a:xfrm>
            <a:off x="1523880" y="4419720"/>
            <a:ext cx="1067040" cy="14475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9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Oval 10"/>
          <p:cNvSpPr/>
          <p:nvPr/>
        </p:nvSpPr>
        <p:spPr>
          <a:xfrm rot="7696800">
            <a:off x="2133720" y="5029200"/>
            <a:ext cx="76176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Oval 11"/>
          <p:cNvSpPr/>
          <p:nvPr/>
        </p:nvSpPr>
        <p:spPr>
          <a:xfrm rot="11535000">
            <a:off x="1599840" y="4842000"/>
            <a:ext cx="1035000" cy="7617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Oval 12"/>
          <p:cNvSpPr/>
          <p:nvPr/>
        </p:nvSpPr>
        <p:spPr>
          <a:xfrm rot="2296800">
            <a:off x="1371600" y="4952880"/>
            <a:ext cx="1219320" cy="6098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8" name="Picture 13" descr="99"/>
          <p:cNvPicPr/>
          <p:nvPr/>
        </p:nvPicPr>
        <p:blipFill>
          <a:blip r:embed="rId1"/>
          <a:stretch/>
        </p:blipFill>
        <p:spPr>
          <a:xfrm rot="5203800">
            <a:off x="137880" y="42051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3149" name="Line 14"/>
          <p:cNvSpPr/>
          <p:nvPr/>
        </p:nvSpPr>
        <p:spPr>
          <a:xfrm>
            <a:off x="-914400" y="4343400"/>
            <a:ext cx="1447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15"/>
          <p:cNvSpPr/>
          <p:nvPr/>
        </p:nvSpPr>
        <p:spPr>
          <a:xfrm>
            <a:off x="-1066680" y="4724280"/>
            <a:ext cx="1447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Line 16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17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WordArt 18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4" name="WordArt 19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155" name="Picture 22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156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Line 4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Line 5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Line 8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Oval 9"/>
          <p:cNvSpPr/>
          <p:nvPr/>
        </p:nvSpPr>
        <p:spPr>
          <a:xfrm rot="7696800">
            <a:off x="2209680" y="4876560"/>
            <a:ext cx="76212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Oval 10"/>
          <p:cNvSpPr/>
          <p:nvPr/>
        </p:nvSpPr>
        <p:spPr>
          <a:xfrm rot="11535000">
            <a:off x="1371240" y="4571640"/>
            <a:ext cx="1035000" cy="762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Oval 11"/>
          <p:cNvSpPr/>
          <p:nvPr/>
        </p:nvSpPr>
        <p:spPr>
          <a:xfrm rot="2296800">
            <a:off x="1066320" y="4876920"/>
            <a:ext cx="1219320" cy="609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12"/>
          <p:cNvSpPr/>
          <p:nvPr/>
        </p:nvSpPr>
        <p:spPr>
          <a:xfrm>
            <a:off x="-914400" y="4343400"/>
            <a:ext cx="1447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13"/>
          <p:cNvSpPr/>
          <p:nvPr/>
        </p:nvSpPr>
        <p:spPr>
          <a:xfrm>
            <a:off x="-1066680" y="4724280"/>
            <a:ext cx="1447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4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15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Oval 16"/>
          <p:cNvSpPr/>
          <p:nvPr/>
        </p:nvSpPr>
        <p:spPr>
          <a:xfrm rot="2296800">
            <a:off x="1294920" y="5257800"/>
            <a:ext cx="60984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Oval 17"/>
          <p:cNvSpPr/>
          <p:nvPr/>
        </p:nvSpPr>
        <p:spPr>
          <a:xfrm rot="2296800">
            <a:off x="380880" y="5410080"/>
            <a:ext cx="45720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3" name="Picture 18" descr="99"/>
          <p:cNvPicPr/>
          <p:nvPr/>
        </p:nvPicPr>
        <p:blipFill>
          <a:blip r:embed="rId1"/>
          <a:stretch/>
        </p:blipFill>
        <p:spPr>
          <a:xfrm rot="3631800">
            <a:off x="-394920" y="4205160"/>
            <a:ext cx="1714680" cy="923760"/>
          </a:xfrm>
          <a:prstGeom prst="rect">
            <a:avLst/>
          </a:prstGeom>
          <a:ln w="0">
            <a:noFill/>
          </a:ln>
        </p:spPr>
      </p:pic>
      <p:sp>
        <p:nvSpPr>
          <p:cNvPr id="3174" name="Oval 19"/>
          <p:cNvSpPr/>
          <p:nvPr/>
        </p:nvSpPr>
        <p:spPr>
          <a:xfrm rot="2296800">
            <a:off x="304560" y="5486400"/>
            <a:ext cx="4572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Oval 20"/>
          <p:cNvSpPr/>
          <p:nvPr/>
        </p:nvSpPr>
        <p:spPr>
          <a:xfrm rot="2296800">
            <a:off x="-214200" y="4984920"/>
            <a:ext cx="5331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WordArt 21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77" name="WordArt 22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178" name="Picture 25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179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Text Box 2"/>
          <p:cNvSpPr/>
          <p:nvPr/>
        </p:nvSpPr>
        <p:spPr>
          <a:xfrm>
            <a:off x="0" y="2819520"/>
            <a:ext cx="9144000" cy="366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Line 3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Line 4"/>
          <p:cNvSpPr/>
          <p:nvPr/>
        </p:nvSpPr>
        <p:spPr>
          <a:xfrm>
            <a:off x="3809880" y="4191120"/>
            <a:ext cx="3733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Line 5"/>
          <p:cNvSpPr/>
          <p:nvPr/>
        </p:nvSpPr>
        <p:spPr>
          <a:xfrm>
            <a:off x="3657600" y="3809880"/>
            <a:ext cx="495288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Text Box 7"/>
          <p:cNvSpPr/>
          <p:nvPr/>
        </p:nvSpPr>
        <p:spPr>
          <a:xfrm>
            <a:off x="0" y="5791320"/>
            <a:ext cx="914400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Line 8"/>
          <p:cNvSpPr/>
          <p:nvPr/>
        </p:nvSpPr>
        <p:spPr>
          <a:xfrm>
            <a:off x="2133720" y="4572000"/>
            <a:ext cx="51051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Oval 9"/>
          <p:cNvSpPr/>
          <p:nvPr/>
        </p:nvSpPr>
        <p:spPr>
          <a:xfrm rot="9360600">
            <a:off x="3257280" y="5266800"/>
            <a:ext cx="1228680" cy="3812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Oval 10"/>
          <p:cNvSpPr/>
          <p:nvPr/>
        </p:nvSpPr>
        <p:spPr>
          <a:xfrm rot="11535000">
            <a:off x="1371240" y="4952520"/>
            <a:ext cx="1035000" cy="762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Oval 11"/>
          <p:cNvSpPr/>
          <p:nvPr/>
        </p:nvSpPr>
        <p:spPr>
          <a:xfrm rot="2296800">
            <a:off x="650520" y="4611600"/>
            <a:ext cx="1219320" cy="9907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12"/>
          <p:cNvSpPr/>
          <p:nvPr/>
        </p:nvSpPr>
        <p:spPr>
          <a:xfrm>
            <a:off x="-914400" y="4343400"/>
            <a:ext cx="144792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13"/>
          <p:cNvSpPr/>
          <p:nvPr/>
        </p:nvSpPr>
        <p:spPr>
          <a:xfrm>
            <a:off x="-1066680" y="4724280"/>
            <a:ext cx="1447560" cy="0"/>
          </a:xfrm>
          <a:prstGeom prst="line">
            <a:avLst/>
          </a:prstGeom>
          <a:ln w="38160">
            <a:solidFill>
              <a:srgbClr val="66cc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Line 14"/>
          <p:cNvSpPr/>
          <p:nvPr/>
        </p:nvSpPr>
        <p:spPr>
          <a:xfrm flipH="1">
            <a:off x="0" y="4419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Line 15"/>
          <p:cNvSpPr/>
          <p:nvPr/>
        </p:nvSpPr>
        <p:spPr>
          <a:xfrm flipH="1">
            <a:off x="15192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Oval 16"/>
          <p:cNvSpPr/>
          <p:nvPr/>
        </p:nvSpPr>
        <p:spPr>
          <a:xfrm rot="2296800">
            <a:off x="1294920" y="5257800"/>
            <a:ext cx="60984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Oval 17"/>
          <p:cNvSpPr/>
          <p:nvPr/>
        </p:nvSpPr>
        <p:spPr>
          <a:xfrm rot="2296800">
            <a:off x="380880" y="5410080"/>
            <a:ext cx="45720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6" name="Picture 18" descr="99"/>
          <p:cNvPicPr/>
          <p:nvPr/>
        </p:nvPicPr>
        <p:blipFill>
          <a:blip r:embed="rId1"/>
          <a:stretch/>
        </p:blipFill>
        <p:spPr>
          <a:xfrm rot="1107000">
            <a:off x="-1066680" y="4266720"/>
            <a:ext cx="1714320" cy="924120"/>
          </a:xfrm>
          <a:prstGeom prst="rect">
            <a:avLst/>
          </a:prstGeom>
          <a:ln w="0">
            <a:noFill/>
          </a:ln>
        </p:spPr>
      </p:pic>
      <p:sp>
        <p:nvSpPr>
          <p:cNvPr id="3197" name="Oval 19"/>
          <p:cNvSpPr/>
          <p:nvPr/>
        </p:nvSpPr>
        <p:spPr>
          <a:xfrm rot="2296800">
            <a:off x="304560" y="5486400"/>
            <a:ext cx="4572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WordArt 20"/>
          <p:cNvSpPr txBox="1"/>
          <p:nvPr/>
        </p:nvSpPr>
        <p:spPr>
          <a:xfrm>
            <a:off x="228600" y="1981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上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99" name="WordArt 21"/>
          <p:cNvSpPr txBox="1"/>
          <p:nvPr/>
        </p:nvSpPr>
        <p:spPr>
          <a:xfrm>
            <a:off x="8001000" y="380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下游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200" name="Picture 24" descr="u=4054640601,1650306011&amp;fm=21&amp;gp=0"/>
          <p:cNvPicPr/>
          <p:nvPr/>
        </p:nvPicPr>
        <p:blipFill>
          <a:blip r:embed="rId2"/>
          <a:stretch/>
        </p:blipFill>
        <p:spPr>
          <a:xfrm>
            <a:off x="0" y="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3201" name="Picture 15" descr="u=1981761599,2222145136&amp;fm=21&amp;gp=0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TextBox 1"/>
          <p:cNvSpPr/>
          <p:nvPr/>
        </p:nvSpPr>
        <p:spPr>
          <a:xfrm>
            <a:off x="900000" y="155736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0" lang="zh-CN" sz="9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读课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2d050"/>
                </a:solidFill>
                <a:latin typeface="Times New Roman"/>
                <a:ea typeface="宋体"/>
              </a:rPr>
              <a:t>注意红色字的读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矩形 7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4" name="24 河中石兽" descr=""/>
          <p:cNvPicPr/>
          <p:nvPr/>
        </p:nvPicPr>
        <p:blipFill>
          <a:blip r:embed="rId1"/>
          <a:stretch/>
        </p:blipFill>
        <p:spPr>
          <a:xfrm>
            <a:off x="4137120" y="467676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35026" fill="hold"/>
                                        <p:tgtEl>
                                          <p:spTgt spid="2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Text Box 3"/>
          <p:cNvSpPr/>
          <p:nvPr/>
        </p:nvSpPr>
        <p:spPr>
          <a:xfrm>
            <a:off x="609480" y="1066680"/>
            <a:ext cx="31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4"/>
          <p:cNvSpPr/>
          <p:nvPr/>
        </p:nvSpPr>
        <p:spPr>
          <a:xfrm>
            <a:off x="1981080" y="9907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考虑流水、石兽、泥沙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Text Box 5"/>
          <p:cNvSpPr/>
          <p:nvPr/>
        </p:nvSpPr>
        <p:spPr>
          <a:xfrm>
            <a:off x="609480" y="167652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僧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Text Box 6"/>
          <p:cNvSpPr/>
          <p:nvPr/>
        </p:nvSpPr>
        <p:spPr>
          <a:xfrm>
            <a:off x="1905120" y="1676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考虑了流水，没考虑石兽、泥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Text Box 7"/>
          <p:cNvSpPr/>
          <p:nvPr/>
        </p:nvSpPr>
        <p:spPr>
          <a:xfrm>
            <a:off x="380880" y="28954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Text Box 8"/>
          <p:cNvSpPr/>
          <p:nvPr/>
        </p:nvSpPr>
        <p:spPr>
          <a:xfrm>
            <a:off x="609480" y="2514600"/>
            <a:ext cx="41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讲学家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Text Box 9"/>
          <p:cNvSpPr/>
          <p:nvPr/>
        </p:nvSpPr>
        <p:spPr>
          <a:xfrm>
            <a:off x="2743200" y="2438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考虑了石兽和泥沙的关系，忽略了流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Text Box 10"/>
          <p:cNvSpPr/>
          <p:nvPr/>
        </p:nvSpPr>
        <p:spPr>
          <a:xfrm>
            <a:off x="609480" y="35053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老河兵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Text Box 11"/>
          <p:cNvSpPr/>
          <p:nvPr/>
        </p:nvSpPr>
        <p:spPr>
          <a:xfrm>
            <a:off x="2743200" y="3505320"/>
            <a:ext cx="58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既有理论又有实践，准确把握了三者的性质及相互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矩形 10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矩形 10"/>
          <p:cNvSpPr/>
          <p:nvPr/>
        </p:nvSpPr>
        <p:spPr>
          <a:xfrm>
            <a:off x="127080" y="12708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15800" y="69804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老河兵的判断为什么是正确的？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498240" y="1525320"/>
            <a:ext cx="78102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常年在河边劳动，了解水、沙、石等自然事物特性，把理论知识和多年经验结合起来分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5" name="图片 22531" descr="w028"/>
          <p:cNvPicPr/>
          <p:nvPr/>
        </p:nvPicPr>
        <p:blipFill>
          <a:blip r:embed="rId1"/>
          <a:stretch/>
        </p:blipFill>
        <p:spPr>
          <a:xfrm>
            <a:off x="2700360" y="5734080"/>
            <a:ext cx="1676520" cy="1123920"/>
          </a:xfrm>
          <a:prstGeom prst="rect">
            <a:avLst/>
          </a:prstGeom>
          <a:ln w="0">
            <a:noFill/>
          </a:ln>
        </p:spPr>
      </p:pic>
      <p:pic>
        <p:nvPicPr>
          <p:cNvPr id="3216" name="图片 22532" descr="w028"/>
          <p:cNvPicPr/>
          <p:nvPr/>
        </p:nvPicPr>
        <p:blipFill>
          <a:blip r:embed="rId2"/>
          <a:stretch/>
        </p:blipFill>
        <p:spPr>
          <a:xfrm>
            <a:off x="7467480" y="5805360"/>
            <a:ext cx="1676520" cy="1052640"/>
          </a:xfrm>
          <a:prstGeom prst="rect">
            <a:avLst/>
          </a:prstGeom>
          <a:ln w="0">
            <a:noFill/>
          </a:ln>
        </p:spPr>
      </p:pic>
      <p:sp>
        <p:nvSpPr>
          <p:cNvPr id="3217" name="标题 22529"/>
          <p:cNvSpPr/>
          <p:nvPr/>
        </p:nvSpPr>
        <p:spPr>
          <a:xfrm>
            <a:off x="252360" y="5527800"/>
            <a:ext cx="82296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作者由此得出了什么结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 txBox="1"/>
          <p:nvPr/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然则天下之事，但知其一，不知其二者多矣。可据理臆断欤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矩形 10"/>
          <p:cNvSpPr/>
          <p:nvPr/>
        </p:nvSpPr>
        <p:spPr>
          <a:xfrm>
            <a:off x="127080" y="12708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矩形 10"/>
          <p:cNvSpPr/>
          <p:nvPr/>
        </p:nvSpPr>
        <p:spPr>
          <a:xfrm>
            <a:off x="0" y="5257800"/>
            <a:ext cx="1143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矩形 11"/>
          <p:cNvSpPr/>
          <p:nvPr/>
        </p:nvSpPr>
        <p:spPr>
          <a:xfrm>
            <a:off x="990720" y="5867280"/>
            <a:ext cx="159516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emmmm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矩形 10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文本框 3"/>
          <p:cNvSpPr/>
          <p:nvPr/>
        </p:nvSpPr>
        <p:spPr>
          <a:xfrm>
            <a:off x="590400" y="555480"/>
            <a:ext cx="883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文章中的一些细节描写增加了文章的趣味性和可读性，如写到了两次“笑”，你怎么理解其中的意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5" name="Picture 2" descr="图片2"/>
          <p:cNvPicPr/>
          <p:nvPr/>
        </p:nvPicPr>
        <p:blipFill>
          <a:blip r:embed="rId1"/>
          <a:stretch/>
        </p:blipFill>
        <p:spPr>
          <a:xfrm>
            <a:off x="1093680" y="3355920"/>
            <a:ext cx="1730520" cy="2438280"/>
          </a:xfrm>
          <a:prstGeom prst="rect">
            <a:avLst/>
          </a:prstGeom>
          <a:ln w="0">
            <a:noFill/>
          </a:ln>
        </p:spPr>
      </p:pic>
      <p:pic>
        <p:nvPicPr>
          <p:cNvPr id="3226" name="Picture 3" descr="图片22"/>
          <p:cNvPicPr/>
          <p:nvPr/>
        </p:nvPicPr>
        <p:blipFill>
          <a:blip r:embed="rId2"/>
          <a:stretch/>
        </p:blipFill>
        <p:spPr>
          <a:xfrm>
            <a:off x="3635280" y="3355920"/>
            <a:ext cx="1871640" cy="2148120"/>
          </a:xfrm>
          <a:prstGeom prst="rect">
            <a:avLst/>
          </a:prstGeom>
          <a:ln w="0">
            <a:noFill/>
          </a:ln>
        </p:spPr>
      </p:pic>
      <p:sp>
        <p:nvSpPr>
          <p:cNvPr id="3227" name="矩形 10"/>
          <p:cNvSpPr/>
          <p:nvPr/>
        </p:nvSpPr>
        <p:spPr>
          <a:xfrm>
            <a:off x="127080" y="12708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8" name="图片 1" descr=""/>
          <p:cNvPicPr/>
          <p:nvPr/>
        </p:nvPicPr>
        <p:blipFill>
          <a:blip r:embed="rId3"/>
          <a:stretch/>
        </p:blipFill>
        <p:spPr>
          <a:xfrm>
            <a:off x="6423120" y="3500280"/>
            <a:ext cx="2249280" cy="2100600"/>
          </a:xfrm>
          <a:prstGeom prst="rect">
            <a:avLst/>
          </a:prstGeom>
          <a:ln w="0">
            <a:noFill/>
          </a:ln>
        </p:spPr>
      </p:pic>
      <p:sp>
        <p:nvSpPr>
          <p:cNvPr id="3229" name="椭圆形标注 2"/>
          <p:cNvSpPr/>
          <p:nvPr/>
        </p:nvSpPr>
        <p:spPr>
          <a:xfrm>
            <a:off x="3075120" y="2436840"/>
            <a:ext cx="2074680" cy="493560"/>
          </a:xfrm>
          <a:prstGeom prst="wedgeEllipseCallout">
            <a:avLst>
              <a:gd name="adj1" fmla="val -20837"/>
              <a:gd name="adj2" fmla="val 15939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嘻嘻嘻 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╭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(╯^╰)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云形标注 6"/>
          <p:cNvSpPr/>
          <p:nvPr/>
        </p:nvSpPr>
        <p:spPr>
          <a:xfrm>
            <a:off x="5965920" y="5600880"/>
            <a:ext cx="1904760" cy="167616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云形标注 7"/>
          <p:cNvSpPr/>
          <p:nvPr/>
        </p:nvSpPr>
        <p:spPr>
          <a:xfrm>
            <a:off x="6926400" y="2470320"/>
            <a:ext cx="1600200" cy="535320"/>
          </a:xfrm>
          <a:prstGeom prst="cloudCallout">
            <a:avLst>
              <a:gd name="adj1" fmla="val -20851"/>
              <a:gd name="adj2" fmla="val 13608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哈哈哈哈 傻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圆角矩形标注 8"/>
          <p:cNvSpPr/>
          <p:nvPr/>
        </p:nvSpPr>
        <p:spPr>
          <a:xfrm flipH="1" flipV="1">
            <a:off x="990720" y="5711040"/>
            <a:ext cx="1752480" cy="762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文本框 2"/>
          <p:cNvSpPr/>
          <p:nvPr/>
        </p:nvSpPr>
        <p:spPr>
          <a:xfrm>
            <a:off x="476280" y="3448080"/>
            <a:ext cx="790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老河兵的“笑”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则是因为富于实际经验，笑讲学家主观臆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矩形 10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文本框 4"/>
          <p:cNvSpPr/>
          <p:nvPr/>
        </p:nvSpPr>
        <p:spPr>
          <a:xfrm>
            <a:off x="476280" y="1181160"/>
            <a:ext cx="834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讲学家的“笑”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是自以为懂得“物理”，笑寺僧不具备这方面的知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6" name="Picture 2" descr="图片2"/>
          <p:cNvPicPr/>
          <p:nvPr/>
        </p:nvPicPr>
        <p:blipFill>
          <a:blip r:embed="rId1"/>
          <a:stretch/>
        </p:blipFill>
        <p:spPr>
          <a:xfrm>
            <a:off x="838080" y="533520"/>
            <a:ext cx="1730520" cy="2438280"/>
          </a:xfrm>
          <a:prstGeom prst="rect">
            <a:avLst/>
          </a:prstGeom>
          <a:ln w="0">
            <a:noFill/>
          </a:ln>
        </p:spPr>
      </p:pic>
      <p:pic>
        <p:nvPicPr>
          <p:cNvPr id="3237" name="Picture 3" descr="图片22"/>
          <p:cNvPicPr/>
          <p:nvPr/>
        </p:nvPicPr>
        <p:blipFill>
          <a:blip r:embed="rId2"/>
          <a:stretch/>
        </p:blipFill>
        <p:spPr>
          <a:xfrm>
            <a:off x="6586560" y="2514600"/>
            <a:ext cx="1871640" cy="2147760"/>
          </a:xfrm>
          <a:prstGeom prst="rect">
            <a:avLst/>
          </a:prstGeom>
          <a:ln w="0">
            <a:noFill/>
          </a:ln>
        </p:spPr>
      </p:pic>
      <p:sp>
        <p:nvSpPr>
          <p:cNvPr id="3238" name="AutoShape 4"/>
          <p:cNvSpPr/>
          <p:nvPr/>
        </p:nvSpPr>
        <p:spPr>
          <a:xfrm>
            <a:off x="3505320" y="1295280"/>
            <a:ext cx="4572000" cy="1330560"/>
          </a:xfrm>
          <a:prstGeom prst="wedgeRectCallout">
            <a:avLst>
              <a:gd name="adj1" fmla="val -71458"/>
              <a:gd name="adj2" fmla="val 515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仿宋_GB2312"/>
                <a:ea typeface="仿宋_GB2312"/>
              </a:rPr>
              <a:t>阅十余岁，僧募金重修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见其毅力坚定但经验不足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不深思熟虑而盲目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9" name="Picture 5" descr="小花-2"/>
          <p:cNvPicPr/>
          <p:nvPr/>
        </p:nvPicPr>
        <p:blipFill>
          <a:blip r:embed="rId3"/>
          <a:stretch/>
        </p:blipFill>
        <p:spPr>
          <a:xfrm>
            <a:off x="0" y="6334200"/>
            <a:ext cx="1447920" cy="523800"/>
          </a:xfrm>
          <a:prstGeom prst="rect">
            <a:avLst/>
          </a:prstGeom>
          <a:ln w="0">
            <a:noFill/>
          </a:ln>
        </p:spPr>
      </p:pic>
      <p:sp>
        <p:nvSpPr>
          <p:cNvPr id="3240" name="AutoShape 6"/>
          <p:cNvSpPr/>
          <p:nvPr/>
        </p:nvSpPr>
        <p:spPr>
          <a:xfrm>
            <a:off x="609480" y="3048120"/>
            <a:ext cx="4569120" cy="1600200"/>
          </a:xfrm>
          <a:prstGeom prst="wedgeRectCallout">
            <a:avLst>
              <a:gd name="adj1" fmla="val 81981"/>
              <a:gd name="adj2" fmla="val -1458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仿宋_GB2312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仿宋_GB2312"/>
              </a:rPr>
              <a:t>笑曰”“尔辈不能究物理”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仿宋_GB2312"/>
              </a:rPr>
              <a:t>足显其一知半解而好为人师，自视清高而轻视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WordArt 7"/>
          <p:cNvSpPr txBox="1"/>
          <p:nvPr/>
        </p:nvSpPr>
        <p:spPr>
          <a:xfrm>
            <a:off x="609480" y="53341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老河兵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242" name="AutoShape 8"/>
          <p:cNvSpPr/>
          <p:nvPr/>
        </p:nvSpPr>
        <p:spPr>
          <a:xfrm>
            <a:off x="2666880" y="5257800"/>
            <a:ext cx="5791320" cy="838080"/>
          </a:xfrm>
          <a:prstGeom prst="wedgeRectCallout">
            <a:avLst>
              <a:gd name="adj1" fmla="val -61675"/>
              <a:gd name="adj2" fmla="val -7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仿宋_GB2312"/>
              </a:rPr>
              <a:t>有实际经验，自信满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矩形 8"/>
          <p:cNvSpPr/>
          <p:nvPr/>
        </p:nvSpPr>
        <p:spPr>
          <a:xfrm>
            <a:off x="205740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章可以反应出每个人什么样的性格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图片 1" descr=""/>
          <p:cNvPicPr/>
          <p:nvPr/>
        </p:nvPicPr>
        <p:blipFill>
          <a:blip r:embed="rId6"/>
          <a:stretch/>
        </p:blipFill>
        <p:spPr>
          <a:xfrm>
            <a:off x="523800" y="4765680"/>
            <a:ext cx="1708200" cy="1593720"/>
          </a:xfrm>
          <a:prstGeom prst="rect">
            <a:avLst/>
          </a:prstGeom>
          <a:ln w="0">
            <a:noFill/>
          </a:ln>
        </p:spPr>
      </p:pic>
      <p:sp>
        <p:nvSpPr>
          <p:cNvPr id="3245" name="矩形 10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Text Box 5"/>
          <p:cNvSpPr/>
          <p:nvPr/>
        </p:nvSpPr>
        <p:spPr>
          <a:xfrm>
            <a:off x="990720" y="2819520"/>
            <a:ext cx="7516800" cy="916920"/>
          </a:xfrm>
          <a:prstGeom prst="rect">
            <a:avLst/>
          </a:prstGeom>
          <a:noFill/>
          <a:ln cap="rnd" w="2844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下之事只知其一不知其二的太多，不能主观臆断，实践才能出真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矩形 2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Rectangle 3"/>
          <p:cNvSpPr/>
          <p:nvPr/>
        </p:nvSpPr>
        <p:spPr>
          <a:xfrm>
            <a:off x="770040" y="106848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个故事说有了一个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文本框 181252"/>
          <p:cNvSpPr/>
          <p:nvPr/>
        </p:nvSpPr>
        <p:spPr>
          <a:xfrm>
            <a:off x="1066680" y="6094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问题探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矩形 2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Rectangle 3"/>
          <p:cNvSpPr/>
          <p:nvPr/>
        </p:nvSpPr>
        <p:spPr>
          <a:xfrm>
            <a:off x="609480" y="1681200"/>
            <a:ext cx="79250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在我们日常生活中，是否也存在凭主观臆断的事例，你能举例说说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文本框 181252"/>
          <p:cNvSpPr/>
          <p:nvPr/>
        </p:nvSpPr>
        <p:spPr>
          <a:xfrm>
            <a:off x="1066680" y="6094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知识拓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"/>
          <p:cNvSpPr txBox="1"/>
          <p:nvPr/>
        </p:nvSpPr>
        <p:spPr>
          <a:xfrm>
            <a:off x="395280" y="1483920"/>
            <a:ext cx="82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读准字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河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铁</a:t>
            </a: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木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坎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欤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5"/>
          <p:cNvSpPr/>
          <p:nvPr/>
        </p:nvSpPr>
        <p:spPr>
          <a:xfrm>
            <a:off x="1814040" y="2263680"/>
            <a:ext cx="9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6"/>
          <p:cNvSpPr/>
          <p:nvPr/>
        </p:nvSpPr>
        <p:spPr>
          <a:xfrm>
            <a:off x="4137480" y="2190600"/>
            <a:ext cx="5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7"/>
          <p:cNvSpPr/>
          <p:nvPr/>
        </p:nvSpPr>
        <p:spPr>
          <a:xfrm>
            <a:off x="6747840" y="2282760"/>
            <a:ext cx="12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zh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à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8"/>
          <p:cNvSpPr/>
          <p:nvPr/>
        </p:nvSpPr>
        <p:spPr>
          <a:xfrm>
            <a:off x="1226160" y="3141720"/>
            <a:ext cx="6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9"/>
          <p:cNvSpPr/>
          <p:nvPr/>
        </p:nvSpPr>
        <p:spPr>
          <a:xfrm>
            <a:off x="4264560" y="3068640"/>
            <a:ext cx="6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p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10"/>
          <p:cNvSpPr/>
          <p:nvPr/>
        </p:nvSpPr>
        <p:spPr>
          <a:xfrm>
            <a:off x="7160040" y="3141720"/>
            <a:ext cx="7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f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11"/>
          <p:cNvSpPr/>
          <p:nvPr/>
        </p:nvSpPr>
        <p:spPr>
          <a:xfrm>
            <a:off x="1325160" y="3848040"/>
            <a:ext cx="9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12"/>
          <p:cNvSpPr/>
          <p:nvPr/>
        </p:nvSpPr>
        <p:spPr>
          <a:xfrm>
            <a:off x="3770640" y="394020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ni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13"/>
          <p:cNvSpPr/>
          <p:nvPr/>
        </p:nvSpPr>
        <p:spPr>
          <a:xfrm>
            <a:off x="7094160" y="39402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x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14"/>
          <p:cNvSpPr/>
          <p:nvPr/>
        </p:nvSpPr>
        <p:spPr>
          <a:xfrm>
            <a:off x="3745800" y="473220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 Box 15"/>
          <p:cNvSpPr/>
          <p:nvPr/>
        </p:nvSpPr>
        <p:spPr>
          <a:xfrm>
            <a:off x="6775920" y="4732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16"/>
          <p:cNvSpPr/>
          <p:nvPr/>
        </p:nvSpPr>
        <p:spPr>
          <a:xfrm>
            <a:off x="160020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17"/>
          <p:cNvSpPr/>
          <p:nvPr/>
        </p:nvSpPr>
        <p:spPr>
          <a:xfrm>
            <a:off x="1568520" y="472428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矩形 7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Rectangle 2"/>
          <p:cNvSpPr/>
          <p:nvPr/>
        </p:nvSpPr>
        <p:spPr>
          <a:xfrm>
            <a:off x="639720" y="1346040"/>
            <a:ext cx="8256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沧州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寺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山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河，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石 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沉焉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十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重修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石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水中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可得，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顺流下矣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数小舟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十余里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"/>
          <p:cNvSpPr/>
          <p:nvPr/>
        </p:nvSpPr>
        <p:spPr>
          <a:xfrm>
            <a:off x="6485040" y="704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p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13"/>
          <p:cNvSpPr/>
          <p:nvPr/>
        </p:nvSpPr>
        <p:spPr>
          <a:xfrm>
            <a:off x="3406680" y="3622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z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15"/>
          <p:cNvSpPr/>
          <p:nvPr/>
        </p:nvSpPr>
        <p:spPr>
          <a:xfrm>
            <a:off x="5486400" y="3622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18"/>
          <p:cNvSpPr/>
          <p:nvPr/>
        </p:nvSpPr>
        <p:spPr>
          <a:xfrm>
            <a:off x="3927600" y="704880"/>
            <a:ext cx="10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g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Text Box 5"/>
          <p:cNvSpPr/>
          <p:nvPr/>
        </p:nvSpPr>
        <p:spPr>
          <a:xfrm>
            <a:off x="7094520" y="1866960"/>
            <a:ext cx="8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m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15"/>
          <p:cNvSpPr/>
          <p:nvPr/>
        </p:nvSpPr>
        <p:spPr>
          <a:xfrm>
            <a:off x="6667560" y="3622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p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矩形 7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Rectangle 2"/>
          <p:cNvSpPr/>
          <p:nvPr/>
        </p:nvSpPr>
        <p:spPr>
          <a:xfrm>
            <a:off x="257040" y="61272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讲学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设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寺中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闻  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笑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尔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 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究   物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非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暴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去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坚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沙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松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沙上，渐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渐深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沿河求之，不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乎？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服为确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Text Box 10"/>
          <p:cNvSpPr/>
          <p:nvPr/>
        </p:nvSpPr>
        <p:spPr>
          <a:xfrm>
            <a:off x="8408880" y="1655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Text Box 18"/>
          <p:cNvSpPr/>
          <p:nvPr/>
        </p:nvSpPr>
        <p:spPr>
          <a:xfrm>
            <a:off x="2997360" y="33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矩形 7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Rectangle 2"/>
          <p:cNvSpPr/>
          <p:nvPr/>
        </p:nvSpPr>
        <p:spPr>
          <a:xfrm>
            <a:off x="533520" y="83664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老河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又笑曰：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河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上游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坚重，沙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松浮，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冲石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力，必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下迎水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啮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沙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坎  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渐激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深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之半，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倒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坎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15"/>
          <p:cNvSpPr/>
          <p:nvPr/>
        </p:nvSpPr>
        <p:spPr>
          <a:xfrm>
            <a:off x="3203640" y="31082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n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Text Box 15"/>
          <p:cNvSpPr/>
          <p:nvPr/>
        </p:nvSpPr>
        <p:spPr>
          <a:xfrm>
            <a:off x="5227560" y="30002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k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Text Box 15"/>
          <p:cNvSpPr/>
          <p:nvPr/>
        </p:nvSpPr>
        <p:spPr>
          <a:xfrm>
            <a:off x="6307200" y="30002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x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Text Box 15"/>
          <p:cNvSpPr/>
          <p:nvPr/>
        </p:nvSpPr>
        <p:spPr>
          <a:xfrm>
            <a:off x="5443560" y="42102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矩形 7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Rectangle 2"/>
          <p:cNvSpPr/>
          <p:nvPr/>
        </p:nvSpPr>
        <p:spPr>
          <a:xfrm>
            <a:off x="401760" y="50472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再啮，石又再转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转  转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流逆上矣。求之下流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地中，不更颠乎？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言，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数里外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然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天下之事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一，不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其二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多矣，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据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⁄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Text Box 8"/>
          <p:cNvSpPr/>
          <p:nvPr/>
        </p:nvSpPr>
        <p:spPr>
          <a:xfrm>
            <a:off x="1990800" y="1009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Text Box 18"/>
          <p:cNvSpPr/>
          <p:nvPr/>
        </p:nvSpPr>
        <p:spPr>
          <a:xfrm>
            <a:off x="1990800" y="490536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y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Text Box 18"/>
          <p:cNvSpPr/>
          <p:nvPr/>
        </p:nvSpPr>
        <p:spPr>
          <a:xfrm>
            <a:off x="423720" y="490536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矩形 7"/>
          <p:cNvSpPr/>
          <p:nvPr/>
        </p:nvSpPr>
        <p:spPr>
          <a:xfrm>
            <a:off x="0" y="0"/>
            <a:ext cx="1600200" cy="6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01:27:00Z</dcterms:created>
  <dc:creator>lx</dc:creator>
  <dc:description/>
  <dc:language>en-US</dc:language>
  <cp:lastModifiedBy>lenovo</cp:lastModifiedBy>
  <dcterms:modified xsi:type="dcterms:W3CDTF">2019-06-04T09:12:00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61</vt:lpwstr>
  </property>
  <property fmtid="{D5CDD505-2E9C-101B-9397-08002B2CF9AE}" pid="3" name="Version">
    <vt:r8>1</vt:r8>
  </property>
</Properties>
</file>