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65B-1EF3-45A0-8081-3BD64423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823-8B5E-443B-8EDB-114C3FB1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E6F81-9E09-49DE-B4C0-ABB9D877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28CF8-1BC8-47B8-82D1-9A3504D5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AEB01-1EB9-4660-9985-1D770B94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9FBDA-AE3D-41D3-A700-075AA540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7982A-DCE7-4264-AB94-5C263750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745E3-3809-4319-839D-5BE33390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E1E53-5697-4E72-9ABF-FF03AC8F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FB61B-EE53-4B78-9ADA-AE33508E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17B34-6E84-4686-8233-D901C1FD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47C19-3FDB-4B5C-B15D-AA764748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C50-A17D-416C-A526-4F6DEFFF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16049-0B05-4C5B-A798-42BC0629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A70F3-9D28-44C5-BEF4-E0D9E87C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EBB42-6F2C-477F-AE81-32137BB7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0EB91-920E-4614-BE76-0365BE1F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BEB2E-2F96-42D1-8195-C2A40E16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6177D-036D-4525-8B2E-DD29DB46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70D81-5F6B-4CF9-8E4D-4E936D63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FEDF5-59C7-4960-8E38-6D0C8078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1D8EB-BA52-4E65-9106-0E4054EE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675D8-1981-45E9-B6F0-48EC3754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51E-8CE6-4E24-A0A9-F00143F9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D53EB-5EF4-4A8F-8630-02A4F92F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0F2E6-1BC0-4185-9513-4D3F38BC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DF6EE-4C39-45B1-8EC1-C5F1A6D2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540F3-01BF-4984-8492-9EB818C8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F7D05-B321-46D4-A9BF-7B5740D3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68C70-EAD0-4CAE-A214-ADBCB57E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0CDF4-87B3-4934-B9C4-C7803086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C6F55-12C3-45A7-BDF4-D123F6E0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1E724-CB5D-46B5-B784-F9DF99BC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C2582-327E-4E36-87FA-00310E16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4B8F-DD2F-45B3-AF75-5683C80E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4F70E-CB50-48C8-A6D5-E3B1CAFC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14503-3968-447B-86CD-4C75F89A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35B50-71B0-4E59-81DD-C22132BA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B38D-E1BE-4853-A91C-B28E25F2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D07B-A79D-4ACD-8682-CB317363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4E74-641B-43D6-9E47-4338B7CD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F119-A457-46A3-8268-9F467685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583E-EC92-4436-99FC-7C222802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075D-B768-425B-A74B-4CE2F8BE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715-F6DD-4116-A527-CCE3AB5D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BA04-1651-4E9F-82A5-2392F7A2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8815-3F4B-477E-AA71-18AE621D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57BE-3662-4112-80A5-BCCEA702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211A-FD1F-42C6-955B-93E262C6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6648-0348-41E6-A606-0B26B489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F9EE2-C192-468C-B25B-EF113308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947D5-F5E3-4251-A18D-3154646B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4DB85-6A63-43C0-A554-0D72E1DB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9846D-66A2-47E7-B44D-295FEAFC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F43E3-3B18-4402-9E10-5C90E271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CCF-93D9-4235-964F-BE772D28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785A-18CA-4F5F-A2CA-1EC081A3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F2286-0491-4152-98AA-8BA448C2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E28EA-A20D-4D2C-85DF-3D4445D8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74A75-49E5-4222-B760-CD5D0042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9706F-A5BB-450B-A02F-D876C56D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BCAEB-95D6-4F52-AFC2-FE156506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4B517-CE61-4A70-94FC-2988ABFD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CC280-1EAF-4541-98D4-E97FE357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66201-80BA-457F-BC8A-40E84F40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2B449-A424-4C25-9545-18EB92E5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CCD-9291-49D1-BA95-15EAED97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F7694-03A3-4A22-883D-4C6A2F2D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CE683-AA8D-4F19-9828-600FC5E4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DBB93-6C06-4F1F-B8C0-25B132ED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4395E-DD7A-479E-9BAE-2BCE4BCC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B8471-9DB4-419E-9C64-AA535F61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F7AE3-BBD9-48FD-B301-586ADAEC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64850-DBC1-4025-ACC1-B5211F73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2FF93-8704-4C51-9C29-8E9C02CE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53BFA-C6C8-43B4-962F-1C628BB5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58E7E-7A21-4738-BD26-A658B5C0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EA2-1E5B-4388-8F21-7FD1B88A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4B6B2-066C-455B-ABC2-983D7C06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58E3E-EA94-4EED-A7B6-C5240917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D1D25-2BC9-48DE-BC90-9CFF8690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E664A-138F-4B5A-B57A-A66DD45F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6B71B-EFFB-43D6-BA1B-E32309B8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18044-E87A-4A87-9711-EE16C14D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3E6EB-7B71-4993-862D-1ED886C6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DC6B1-EAC0-491C-BF39-C0808E6B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A5F1F-7056-425D-859F-DC866F6A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D6057-4A55-4FE9-B209-306E5099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123-1AEF-489D-A21D-5EB1069F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3BD91-B6BA-4585-B7B7-4CA4E9DC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C9B96-923E-4432-A883-6F15B5EF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8537B-77D3-4085-8A82-6255334A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218F1-1CF1-42CE-BB94-7EAFA0C9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FE73E-C81C-44CC-A44E-2633B16B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5958B-3649-4970-9079-C86F9FF1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17E8D-28BE-4BCF-B007-0C694356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F23D4-94A1-4DDB-9554-A6CC10AC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169CC-55C3-4B2D-B3B5-27047DE8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55200-1487-4D06-835C-D13617CD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1C9-57F9-4219-8864-CC8F61F1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6E250-E62B-42A0-8F4D-1AACBF6D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79FC1-C0E1-46AE-9F54-6A8DD9B4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C52F0-E047-452B-BC38-BDC1E4A5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C0B91-FC46-4788-A109-2DC63975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108EC-EDAE-4D68-A848-29853A39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CAED4-E01F-4F0C-A451-B1789EA4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11F55-970E-42EE-ABAF-6891E5D3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3A99D-E69C-45D8-AC50-A1A89CE9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E6073-1698-4F42-880F-2997CA80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2377C-79B3-4238-9EB1-5BB5C4F3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1FD-7EAF-400E-A294-44B65A45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7D379-25F5-4185-9AD6-4288C45D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90759-2376-4530-B709-5A48676C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8A68E-6541-4DF8-A28C-1D606A34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02424-D8A7-4D62-98DE-029F1618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95138-8885-45B4-BCA1-B1459FFA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7D1A8-37B0-439E-AC01-946766C0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00668-58B6-44AF-94D8-13F13C3A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7C82C-B3CE-479E-8EDB-3E961BBA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D482B-582F-44FA-BF9B-6DE47985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AA435-BDC3-4695-89DD-43E9DCC2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93C-4F9A-49C9-9083-02EEF8B5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ED8BA-7588-405B-9374-0FDF40CB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67911-EC94-406C-8475-412C452C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A8AA1-6CAC-4D7E-915F-941DA2BC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B4B70-7B1D-4B38-AE00-81DF36E2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4C674-CDB1-431B-905C-BBFA9DFC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833B8-4AAA-4BB7-AEF4-579FFC56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94F43-9560-42D7-AA37-5737800A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63722-6C09-4E86-A686-D2C96F51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123A1-D40F-45AF-99A1-1E337B0F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DBA89-2951-438B-8989-72074390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7EDE-8760-4510-A547-678EBE3296ED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1D4E-083C-4796-B93C-04683DD659AC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7f7f7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B0C8-51C2-405C-BA1B-1734D8DC2F2C}" type="slidenum">
              <a:rPr b="0" lang="zh-CN" sz="900" spc="-1" strike="noStrike">
                <a:solidFill>
                  <a:srgbClr val="7f7f7f"/>
                </a:solidFill>
                <a:latin typeface="黑体"/>
                <a:ea typeface="黑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7"/>
          <p:cNvSpPr/>
          <p:nvPr/>
        </p:nvSpPr>
        <p:spPr>
          <a:xfrm>
            <a:off x="3632040" y="4749840"/>
            <a:ext cx="193680" cy="257040"/>
          </a:xfrm>
          <a:prstGeom prst="ellipse">
            <a:avLst/>
          </a:prstGeom>
          <a:solidFill>
            <a:srgbClr val="48a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8"/>
          <p:cNvSpPr/>
          <p:nvPr/>
        </p:nvSpPr>
        <p:spPr>
          <a:xfrm>
            <a:off x="3971880" y="4749840"/>
            <a:ext cx="193680" cy="257040"/>
          </a:xfrm>
          <a:prstGeom prst="ellipse">
            <a:avLst/>
          </a:prstGeom>
          <a:solidFill>
            <a:srgbClr val="a4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9"/>
          <p:cNvSpPr/>
          <p:nvPr/>
        </p:nvSpPr>
        <p:spPr>
          <a:xfrm>
            <a:off x="4311720" y="4749840"/>
            <a:ext cx="191880" cy="257040"/>
          </a:xfrm>
          <a:prstGeom prst="ellipse">
            <a:avLst/>
          </a:prstGeom>
          <a:solidFill>
            <a:srgbClr val="48a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0"/>
          <p:cNvSpPr/>
          <p:nvPr/>
        </p:nvSpPr>
        <p:spPr>
          <a:xfrm>
            <a:off x="4651200" y="4749840"/>
            <a:ext cx="192240" cy="257040"/>
          </a:xfrm>
          <a:prstGeom prst="ellipse">
            <a:avLst/>
          </a:prstGeom>
          <a:solidFill>
            <a:srgbClr val="a4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1"/>
          <p:cNvSpPr/>
          <p:nvPr/>
        </p:nvSpPr>
        <p:spPr>
          <a:xfrm>
            <a:off x="4991040" y="4749840"/>
            <a:ext cx="192240" cy="257040"/>
          </a:xfrm>
          <a:prstGeom prst="ellipse">
            <a:avLst/>
          </a:prstGeom>
          <a:solidFill>
            <a:srgbClr val="48a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2"/>
          <p:cNvSpPr/>
          <p:nvPr/>
        </p:nvSpPr>
        <p:spPr>
          <a:xfrm>
            <a:off x="5329080" y="4749840"/>
            <a:ext cx="193680" cy="257040"/>
          </a:xfrm>
          <a:prstGeom prst="ellipse">
            <a:avLst/>
          </a:prstGeom>
          <a:solidFill>
            <a:srgbClr val="a4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3"/>
          <p:cNvSpPr/>
          <p:nvPr/>
        </p:nvSpPr>
        <p:spPr>
          <a:xfrm>
            <a:off x="5373720" y="2120760"/>
            <a:ext cx="406440" cy="0"/>
          </a:xfrm>
          <a:prstGeom prst="line">
            <a:avLst/>
          </a:prstGeom>
          <a:ln w="25560">
            <a:solidFill>
              <a:srgbClr val="48a2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14"/>
          <p:cNvSpPr/>
          <p:nvPr/>
        </p:nvSpPr>
        <p:spPr>
          <a:xfrm>
            <a:off x="3363840" y="2120760"/>
            <a:ext cx="406440" cy="0"/>
          </a:xfrm>
          <a:prstGeom prst="line">
            <a:avLst/>
          </a:prstGeom>
          <a:ln w="25560">
            <a:solidFill>
              <a:srgbClr val="48a2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3833-4738-481F-A71C-6642A63727A4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D99B-7961-43F9-BDF6-F52A20B82E1B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7"/>
          <p:cNvSpPr/>
          <p:nvPr/>
        </p:nvSpPr>
        <p:spPr>
          <a:xfrm>
            <a:off x="1211400" y="2057400"/>
            <a:ext cx="1839600" cy="2454120"/>
          </a:xfrm>
          <a:prstGeom prst="ellipse">
            <a:avLst/>
          </a:prstGeom>
          <a:solidFill>
            <a:srgbClr val="48a2a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8"/>
          <p:cNvSpPr/>
          <p:nvPr/>
        </p:nvSpPr>
        <p:spPr>
          <a:xfrm>
            <a:off x="2457360" y="3718080"/>
            <a:ext cx="593640" cy="793440"/>
          </a:xfrm>
          <a:prstGeom prst="ellipse">
            <a:avLst/>
          </a:prstGeom>
          <a:solidFill>
            <a:srgbClr val="48a2a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D712-48A6-4D68-A16E-054E55EC26D3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6572-8107-4D27-A9A9-226E5A190CB3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50C2-A001-480F-89A2-D7A621DCA44F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7"/>
          <p:cNvSpPr/>
          <p:nvPr/>
        </p:nvSpPr>
        <p:spPr>
          <a:xfrm>
            <a:off x="3632040" y="4268880"/>
            <a:ext cx="193680" cy="257040"/>
          </a:xfrm>
          <a:prstGeom prst="ellipse">
            <a:avLst/>
          </a:prstGeom>
          <a:solidFill>
            <a:srgbClr val="48a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8"/>
          <p:cNvSpPr/>
          <p:nvPr/>
        </p:nvSpPr>
        <p:spPr>
          <a:xfrm>
            <a:off x="3971880" y="4268880"/>
            <a:ext cx="193680" cy="257040"/>
          </a:xfrm>
          <a:prstGeom prst="ellipse">
            <a:avLst/>
          </a:prstGeom>
          <a:solidFill>
            <a:srgbClr val="a4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9"/>
          <p:cNvSpPr/>
          <p:nvPr/>
        </p:nvSpPr>
        <p:spPr>
          <a:xfrm>
            <a:off x="4311720" y="4268880"/>
            <a:ext cx="191880" cy="257040"/>
          </a:xfrm>
          <a:prstGeom prst="ellipse">
            <a:avLst/>
          </a:prstGeom>
          <a:solidFill>
            <a:srgbClr val="48a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0"/>
          <p:cNvSpPr/>
          <p:nvPr/>
        </p:nvSpPr>
        <p:spPr>
          <a:xfrm>
            <a:off x="4651200" y="4268880"/>
            <a:ext cx="192240" cy="257040"/>
          </a:xfrm>
          <a:prstGeom prst="ellipse">
            <a:avLst/>
          </a:prstGeom>
          <a:solidFill>
            <a:srgbClr val="a4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1"/>
          <p:cNvSpPr/>
          <p:nvPr/>
        </p:nvSpPr>
        <p:spPr>
          <a:xfrm>
            <a:off x="4991040" y="4268880"/>
            <a:ext cx="192240" cy="257040"/>
          </a:xfrm>
          <a:prstGeom prst="ellipse">
            <a:avLst/>
          </a:prstGeom>
          <a:solidFill>
            <a:srgbClr val="48a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12"/>
          <p:cNvSpPr/>
          <p:nvPr/>
        </p:nvSpPr>
        <p:spPr>
          <a:xfrm>
            <a:off x="5329080" y="4268880"/>
            <a:ext cx="193680" cy="257040"/>
          </a:xfrm>
          <a:prstGeom prst="ellipse">
            <a:avLst/>
          </a:prstGeom>
          <a:solidFill>
            <a:srgbClr val="a4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7f7f7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DFA2-C901-40AD-94B9-04F280B3282A}" type="slidenum">
              <a:rPr b="0" lang="zh-CN" sz="900" spc="-1" strike="noStrike">
                <a:solidFill>
                  <a:srgbClr val="7f7f7f"/>
                </a:solidFill>
                <a:latin typeface="黑体"/>
                <a:ea typeface="黑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A1FD-F3B5-4F47-816C-64D57A72FA80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9548-4D46-427A-AAF3-030F6885B0D2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78911193269178421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21640"/>
          </a:xfrm>
          <a:prstGeom prst="rect">
            <a:avLst/>
          </a:prstGeom>
          <a:ln w="0">
            <a:noFill/>
          </a:ln>
        </p:spPr>
      </p:pic>
      <p:sp>
        <p:nvSpPr>
          <p:cNvPr id="479" name="WordArt 3"/>
          <p:cNvSpPr txBox="1"/>
          <p:nvPr/>
        </p:nvSpPr>
        <p:spPr>
          <a:xfrm>
            <a:off x="1979640" y="1557360"/>
            <a:ext cx="568800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4214880" y="33336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周亚夫军细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5"/>
          <p:cNvSpPr/>
          <p:nvPr/>
        </p:nvSpPr>
        <p:spPr>
          <a:xfrm>
            <a:off x="6259680" y="1523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司马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"/>
          <p:cNvSpPr/>
          <p:nvPr/>
        </p:nvSpPr>
        <p:spPr>
          <a:xfrm>
            <a:off x="5640480" y="5354640"/>
            <a:ext cx="342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2"/>
          <p:cNvSpPr/>
          <p:nvPr/>
        </p:nvSpPr>
        <p:spPr>
          <a:xfrm>
            <a:off x="838080" y="1676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宋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说说你从本文获得了哪些启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3"/>
          <p:cNvSpPr/>
          <p:nvPr/>
        </p:nvSpPr>
        <p:spPr>
          <a:xfrm>
            <a:off x="46080" y="79200"/>
            <a:ext cx="2624040" cy="82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收获体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矩形 34820"/>
          <p:cNvSpPr/>
          <p:nvPr/>
        </p:nvSpPr>
        <p:spPr>
          <a:xfrm>
            <a:off x="222120" y="204480"/>
            <a:ext cx="2286000" cy="703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8a2a0"/>
                </a:solidFill>
                <a:latin typeface="楷体"/>
                <a:ea typeface="楷体"/>
              </a:rPr>
              <a:t>中考链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34822"/>
          <p:cNvSpPr/>
          <p:nvPr/>
        </p:nvSpPr>
        <p:spPr>
          <a:xfrm>
            <a:off x="324000" y="2370240"/>
            <a:ext cx="8424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解释下列红色字在句子中的意思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上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军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先驱曰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至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军士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，刀出鞘（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3352680" y="3200400"/>
            <a:ext cx="14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"/>
                <a:ea typeface="仿宋"/>
              </a:rPr>
              <a:t>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6041880" y="3505320"/>
            <a:ext cx="139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楷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将要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4572000" y="4648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通“披”，穿着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1"/>
          <p:cNvSpPr/>
          <p:nvPr/>
        </p:nvSpPr>
        <p:spPr>
          <a:xfrm>
            <a:off x="2830680" y="1293840"/>
            <a:ext cx="302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8a2a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48a2a0"/>
                </a:solidFill>
                <a:latin typeface="Times New Roman"/>
              </a:rPr>
              <a:t>阅读</a:t>
            </a:r>
            <a:r>
              <a:rPr b="1" lang="en-US" sz="3200" spc="-1" strike="noStrike">
                <a:solidFill>
                  <a:srgbClr val="48a2a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48a2a0"/>
                </a:solidFill>
                <a:latin typeface="Times New Roman"/>
              </a:rPr>
              <a:t>周亚夫军细柳</a:t>
            </a:r>
            <a:r>
              <a:rPr b="1" lang="en-US" sz="3200" spc="-1" strike="noStrike">
                <a:solidFill>
                  <a:srgbClr val="48a2a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48a2a0"/>
                </a:solidFill>
                <a:latin typeface="Times New Roman"/>
              </a:rPr>
              <a:t>，完成下列的题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矩形 34820"/>
          <p:cNvSpPr/>
          <p:nvPr/>
        </p:nvSpPr>
        <p:spPr>
          <a:xfrm>
            <a:off x="324000" y="498600"/>
            <a:ext cx="8064360" cy="57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把下列句子翻译成现代汉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）至营，将军亚夫持兵揖曰：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介胄之士不拜，请以军礼见。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到了主帅所在的营帐，将军周亚夫手执兵器拱手行礼，说：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穿戴着盔甲的将士不行跪拜礼，请允许我用军礼参见（皇上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居无何，上至，又不得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过了不久，文帝驾到，也不能够进入军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"/>
          <p:cNvSpPr/>
          <p:nvPr/>
        </p:nvSpPr>
        <p:spPr>
          <a:xfrm>
            <a:off x="611280" y="393372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"/>
          <p:cNvSpPr/>
          <p:nvPr/>
        </p:nvSpPr>
        <p:spPr>
          <a:xfrm>
            <a:off x="609480" y="594360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"/>
          <p:cNvSpPr/>
          <p:nvPr/>
        </p:nvSpPr>
        <p:spPr>
          <a:xfrm>
            <a:off x="1116000" y="2924280"/>
            <a:ext cx="720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7"/>
          <p:cNvSpPr/>
          <p:nvPr/>
        </p:nvSpPr>
        <p:spPr>
          <a:xfrm>
            <a:off x="539640" y="3429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文本框 39939"/>
          <p:cNvSpPr/>
          <p:nvPr/>
        </p:nvSpPr>
        <p:spPr>
          <a:xfrm>
            <a:off x="108000" y="428760"/>
            <a:ext cx="919152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e1e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1e1e1e"/>
                </a:solidFill>
                <a:latin typeface="黑体"/>
                <a:ea typeface="黑体"/>
              </a:rPr>
              <a:t>、下列说法不正确的一项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新宋体"/>
                <a:ea typeface="新宋体"/>
              </a:rPr>
              <a:t>A</a:t>
            </a:r>
            <a:r>
              <a:rPr b="1" lang="zh-CN" sz="2800" spc="-1" strike="noStrike">
                <a:solidFill>
                  <a:srgbClr val="1e1e1e"/>
                </a:solidFill>
                <a:latin typeface="新宋体"/>
                <a:ea typeface="新宋体"/>
              </a:rPr>
              <a:t>、课文第一段先点明背景：匈奴大举入侵，边关吃紧，这样就将守边将领周亚夫置于矛盾冲突之中，更有利于表现人物性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新宋体"/>
                <a:ea typeface="新宋体"/>
              </a:rPr>
              <a:t>B</a:t>
            </a:r>
            <a:r>
              <a:rPr b="1" lang="zh-CN" sz="2800" spc="-1" strike="noStrike">
                <a:solidFill>
                  <a:srgbClr val="1e1e1e"/>
                </a:solidFill>
                <a:latin typeface="新宋体"/>
                <a:ea typeface="新宋体"/>
              </a:rPr>
              <a:t>、周亚夫是文中的主人公，可课文并没有过多描写他，而是通过对比和衬托来突出他的性格特点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新宋体"/>
                <a:ea typeface="新宋体"/>
              </a:rPr>
              <a:t>C</a:t>
            </a:r>
            <a:r>
              <a:rPr b="1" lang="zh-CN" sz="2800" spc="-1" strike="noStrike">
                <a:solidFill>
                  <a:srgbClr val="1e1e1e"/>
                </a:solidFill>
                <a:latin typeface="新宋体"/>
                <a:ea typeface="新宋体"/>
              </a:rPr>
              <a:t>、皇帝赞周亚夫为“真将军”的含义是：周亚夫军纪严明，令行禁止，治军有方，是值得信赖的守边大将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新宋体"/>
                <a:ea typeface="新宋体"/>
              </a:rPr>
              <a:t>D</a:t>
            </a:r>
            <a:r>
              <a:rPr b="1" lang="zh-CN" sz="2800" spc="-1" strike="noStrike">
                <a:solidFill>
                  <a:srgbClr val="1e1e1e"/>
                </a:solidFill>
                <a:latin typeface="新宋体"/>
                <a:ea typeface="新宋体"/>
              </a:rPr>
              <a:t>、皇帝“改容式车，使人称谢”是迫于周亚夫的军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39940"/>
          <p:cNvSpPr/>
          <p:nvPr/>
        </p:nvSpPr>
        <p:spPr>
          <a:xfrm>
            <a:off x="4770360" y="428760"/>
            <a:ext cx="21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1e1e1e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DCC2-8FB2-4F98-A91D-FFCCB98BEE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101520" y="66600"/>
            <a:ext cx="3486240" cy="825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作业布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2"/>
          <p:cNvSpPr/>
          <p:nvPr/>
        </p:nvSpPr>
        <p:spPr>
          <a:xfrm>
            <a:off x="895320" y="3267000"/>
            <a:ext cx="82393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2"/>
          <p:cNvSpPr/>
          <p:nvPr/>
        </p:nvSpPr>
        <p:spPr>
          <a:xfrm>
            <a:off x="905040" y="3284640"/>
            <a:ext cx="82389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2"/>
          <p:cNvSpPr/>
          <p:nvPr/>
        </p:nvSpPr>
        <p:spPr>
          <a:xfrm>
            <a:off x="304920" y="1676520"/>
            <a:ext cx="90453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、周记：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(1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）运用正面描写和侧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描写相结合以及对比、衬托的写作手法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写一个同学。（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）题目自拟，字数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、了解《史记》里的其他人物，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一步感受司马迁塑造的人物的个性特点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写人的艺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-544320" y="2060640"/>
            <a:ext cx="12776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周亚夫军细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250920" y="549360"/>
            <a:ext cx="1368360" cy="5473440"/>
          </a:xfrm>
          <a:custGeom>
            <a:avLst/>
            <a:gdLst>
              <a:gd name="textAreaLeft" fmla="*/ 874440 w 1368360"/>
              <a:gd name="textAreaRight" fmla="*/ 1368720 w 1368360"/>
              <a:gd name="textAreaTop" fmla="*/ 142200 h 5473440"/>
              <a:gd name="textAreaBottom" fmla="*/ 5331240 h 54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4600" y="189000"/>
            <a:ext cx="127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明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7"/>
          <p:cNvSpPr/>
          <p:nvPr/>
        </p:nvSpPr>
        <p:spPr>
          <a:xfrm>
            <a:off x="1763640" y="0"/>
            <a:ext cx="719280" cy="2205000"/>
          </a:xfrm>
          <a:custGeom>
            <a:avLst/>
            <a:gdLst>
              <a:gd name="textAreaLeft" fmla="*/ 459720 w 719280"/>
              <a:gd name="textAreaRight" fmla="*/ 719640 w 719280"/>
              <a:gd name="textAreaTop" fmla="*/ 56880 h 2205000"/>
              <a:gd name="textAreaBottom" fmla="*/ 2148120 h 22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1"/>
                </a:cubicBezTo>
                <a:lnTo>
                  <a:pt x="10800" y="9009"/>
                </a:lnTo>
                <a:cubicBezTo>
                  <a:pt x="10800" y="9905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1"/>
                </a:cubicBezTo>
                <a:lnTo>
                  <a:pt x="10800" y="19809"/>
                </a:lnTo>
                <a:cubicBezTo>
                  <a:pt x="10800" y="207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2124000" y="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匈奴进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2124000" y="148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边关吃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1"/>
          <p:cNvSpPr/>
          <p:nvPr/>
        </p:nvSpPr>
        <p:spPr>
          <a:xfrm>
            <a:off x="4140360" y="0"/>
            <a:ext cx="144360" cy="2060640"/>
          </a:xfrm>
          <a:custGeom>
            <a:avLst/>
            <a:gdLst>
              <a:gd name="textAreaLeft" fmla="*/ 0 w 144360"/>
              <a:gd name="textAreaRight" fmla="*/ 52200 w 144360"/>
              <a:gd name="textAreaTop" fmla="*/ 53280 h 2060640"/>
              <a:gd name="textAreaBottom" fmla="*/ 2007360 h 20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6"/>
                  <a:pt x="10800" y="1791"/>
                </a:cubicBezTo>
                <a:lnTo>
                  <a:pt x="10800" y="9009"/>
                </a:lnTo>
                <a:cubicBezTo>
                  <a:pt x="10800" y="9905"/>
                  <a:pt x="16200" y="10800"/>
                  <a:pt x="21600" y="10800"/>
                </a:cubicBezTo>
                <a:cubicBezTo>
                  <a:pt x="16200" y="10800"/>
                  <a:pt x="10800" y="11696"/>
                  <a:pt x="10800" y="12591"/>
                </a:cubicBezTo>
                <a:lnTo>
                  <a:pt x="10800" y="19809"/>
                </a:lnTo>
                <a:cubicBezTo>
                  <a:pt x="10800" y="207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4211640" y="404640"/>
            <a:ext cx="194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奉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备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557640" y="2924280"/>
            <a:ext cx="12776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自劳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1547640" y="2492280"/>
            <a:ext cx="720720" cy="2881440"/>
          </a:xfrm>
          <a:custGeom>
            <a:avLst/>
            <a:gdLst>
              <a:gd name="textAreaLeft" fmla="*/ 460440 w 720720"/>
              <a:gd name="textAreaRight" fmla="*/ 721080 w 720720"/>
              <a:gd name="textAreaTop" fmla="*/ 74520 h 2881440"/>
              <a:gd name="textAreaBottom" fmla="*/ 280692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1"/>
                </a:cubicBezTo>
                <a:lnTo>
                  <a:pt x="10800" y="9009"/>
                </a:lnTo>
                <a:cubicBezTo>
                  <a:pt x="10800" y="9905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1"/>
                </a:cubicBezTo>
                <a:lnTo>
                  <a:pt x="10800" y="19809"/>
                </a:lnTo>
                <a:cubicBezTo>
                  <a:pt x="10800" y="207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1979640" y="22050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霸上、棘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驱直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6"/>
          <p:cNvSpPr/>
          <p:nvPr/>
        </p:nvSpPr>
        <p:spPr>
          <a:xfrm>
            <a:off x="1364040" y="3573360"/>
            <a:ext cx="1277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细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7"/>
          <p:cNvSpPr/>
          <p:nvPr/>
        </p:nvSpPr>
        <p:spPr>
          <a:xfrm>
            <a:off x="2411280" y="2852640"/>
            <a:ext cx="792360" cy="2592360"/>
          </a:xfrm>
          <a:custGeom>
            <a:avLst/>
            <a:gdLst>
              <a:gd name="textAreaLeft" fmla="*/ 506160 w 792360"/>
              <a:gd name="textAreaRight" fmla="*/ 792720 w 792360"/>
              <a:gd name="textAreaTop" fmla="*/ 66960 h 2592360"/>
              <a:gd name="textAreaBottom" fmla="*/ 252540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1"/>
                </a:cubicBezTo>
                <a:lnTo>
                  <a:pt x="10800" y="9009"/>
                </a:lnTo>
                <a:cubicBezTo>
                  <a:pt x="10800" y="9905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1"/>
                </a:cubicBezTo>
                <a:lnTo>
                  <a:pt x="10800" y="19809"/>
                </a:lnTo>
                <a:cubicBezTo>
                  <a:pt x="10800" y="207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2916360" y="270828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先驱不得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2843280" y="328464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闻天子之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2771640" y="3860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子不得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1"/>
          <p:cNvSpPr/>
          <p:nvPr/>
        </p:nvSpPr>
        <p:spPr>
          <a:xfrm>
            <a:off x="2700360" y="44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子按辔徐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2987640" y="5084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亚夫持兵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3"/>
          <p:cNvSpPr/>
          <p:nvPr/>
        </p:nvSpPr>
        <p:spPr>
          <a:xfrm>
            <a:off x="7093080" y="2421000"/>
            <a:ext cx="215640" cy="2952720"/>
          </a:xfrm>
          <a:custGeom>
            <a:avLst/>
            <a:gdLst>
              <a:gd name="textAreaLeft" fmla="*/ 0 w 215640"/>
              <a:gd name="textAreaRight" fmla="*/ 77760 w 215640"/>
              <a:gd name="textAreaTop" fmla="*/ 76320 h 2952720"/>
              <a:gd name="textAreaBottom" fmla="*/ 287640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6"/>
                  <a:pt x="10800" y="1791"/>
                </a:cubicBezTo>
                <a:lnTo>
                  <a:pt x="10800" y="9009"/>
                </a:lnTo>
                <a:cubicBezTo>
                  <a:pt x="10800" y="9905"/>
                  <a:pt x="16200" y="10800"/>
                  <a:pt x="21600" y="10800"/>
                </a:cubicBezTo>
                <a:cubicBezTo>
                  <a:pt x="16200" y="10800"/>
                  <a:pt x="10800" y="11696"/>
                  <a:pt x="10800" y="12591"/>
                </a:cubicBezTo>
                <a:lnTo>
                  <a:pt x="10800" y="19809"/>
                </a:lnTo>
                <a:cubicBezTo>
                  <a:pt x="10800" y="207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7240320" y="3141720"/>
            <a:ext cx="729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5"/>
          <p:cNvSpPr/>
          <p:nvPr/>
        </p:nvSpPr>
        <p:spPr>
          <a:xfrm>
            <a:off x="1547640" y="5661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帝之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赞周亚夫“此真将军矣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26"/>
          <p:cNvSpPr/>
          <p:nvPr/>
        </p:nvSpPr>
        <p:spPr>
          <a:xfrm>
            <a:off x="7667640" y="549360"/>
            <a:ext cx="576360" cy="5688000"/>
          </a:xfrm>
          <a:custGeom>
            <a:avLst/>
            <a:gdLst>
              <a:gd name="textAreaLeft" fmla="*/ 0 w 576360"/>
              <a:gd name="textAreaRight" fmla="*/ 208080 w 576360"/>
              <a:gd name="textAreaTop" fmla="*/ 147600 h 5688000"/>
              <a:gd name="textAreaBottom" fmla="*/ 5540400 h 56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6"/>
                  <a:pt x="10800" y="1791"/>
                </a:cubicBezTo>
                <a:lnTo>
                  <a:pt x="10800" y="9009"/>
                </a:lnTo>
                <a:cubicBezTo>
                  <a:pt x="10800" y="9905"/>
                  <a:pt x="16200" y="10800"/>
                  <a:pt x="21600" y="10800"/>
                </a:cubicBezTo>
                <a:cubicBezTo>
                  <a:pt x="16200" y="10800"/>
                  <a:pt x="10800" y="11696"/>
                  <a:pt x="10800" y="12591"/>
                </a:cubicBezTo>
                <a:lnTo>
                  <a:pt x="10800" y="19809"/>
                </a:lnTo>
                <a:cubicBezTo>
                  <a:pt x="10800" y="207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7"/>
          <p:cNvSpPr/>
          <p:nvPr/>
        </p:nvSpPr>
        <p:spPr>
          <a:xfrm>
            <a:off x="7699680" y="0"/>
            <a:ext cx="127764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治军有方，恪尽职守，刚正不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文本框 1"/>
          <p:cNvSpPr/>
          <p:nvPr/>
        </p:nvSpPr>
        <p:spPr>
          <a:xfrm>
            <a:off x="838080" y="380880"/>
            <a:ext cx="83059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理解本文的人物形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感受人物的精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体会本文刻画人物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838160" y="920880"/>
            <a:ext cx="6940800" cy="13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请简要复述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图片 2" descr=""/>
          <p:cNvPicPr/>
          <p:nvPr/>
        </p:nvPicPr>
        <p:blipFill>
          <a:blip r:embed="rId1"/>
          <a:stretch/>
        </p:blipFill>
        <p:spPr>
          <a:xfrm>
            <a:off x="1077840" y="2535120"/>
            <a:ext cx="6986520" cy="4043520"/>
          </a:xfrm>
          <a:prstGeom prst="rect">
            <a:avLst/>
          </a:prstGeom>
          <a:ln w="0">
            <a:noFill/>
          </a:ln>
        </p:spPr>
      </p:pic>
      <p:sp>
        <p:nvSpPr>
          <p:cNvPr id="486" name="文本框 1"/>
          <p:cNvSpPr/>
          <p:nvPr/>
        </p:nvSpPr>
        <p:spPr>
          <a:xfrm>
            <a:off x="50760" y="84240"/>
            <a:ext cx="2333520" cy="7034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整体感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2"/>
          <p:cNvSpPr/>
          <p:nvPr/>
        </p:nvSpPr>
        <p:spPr>
          <a:xfrm>
            <a:off x="274680" y="26020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为什么汉文帝称周亚夫为“真将军”？请大家从文中找出依据来说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3"/>
          <p:cNvSpPr/>
          <p:nvPr/>
        </p:nvSpPr>
        <p:spPr>
          <a:xfrm>
            <a:off x="57240" y="177840"/>
            <a:ext cx="3025800" cy="82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走近人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文本框 1" descr=""/>
          <p:cNvPicPr/>
          <p:nvPr/>
        </p:nvPicPr>
        <p:blipFill>
          <a:blip r:embed="rId1"/>
          <a:stretch/>
        </p:blipFill>
        <p:spPr>
          <a:xfrm>
            <a:off x="3297240" y="993600"/>
            <a:ext cx="2927520" cy="111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2"/>
          <p:cNvSpPr/>
          <p:nvPr/>
        </p:nvSpPr>
        <p:spPr>
          <a:xfrm>
            <a:off x="60480" y="1981080"/>
            <a:ext cx="923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文中在刻画周亚夫的形象时，运用了哪些写作方法？请结合文本说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2"/>
          <p:cNvSpPr/>
          <p:nvPr/>
        </p:nvSpPr>
        <p:spPr>
          <a:xfrm>
            <a:off x="895320" y="3267000"/>
            <a:ext cx="82393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2"/>
          <p:cNvSpPr/>
          <p:nvPr/>
        </p:nvSpPr>
        <p:spPr>
          <a:xfrm>
            <a:off x="905040" y="3200400"/>
            <a:ext cx="8238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250920" y="1649520"/>
            <a:ext cx="228600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直驰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Text Box 3" descr=""/>
          <p:cNvPicPr/>
          <p:nvPr/>
        </p:nvPicPr>
        <p:blipFill>
          <a:blip r:embed="rId1"/>
          <a:stretch/>
        </p:blipFill>
        <p:spPr>
          <a:xfrm>
            <a:off x="-73080" y="158760"/>
            <a:ext cx="3786120" cy="700200"/>
          </a:xfrm>
          <a:prstGeom prst="rect">
            <a:avLst/>
          </a:prstGeom>
          <a:ln w="0">
            <a:noFill/>
          </a:ln>
        </p:spPr>
      </p:pic>
      <p:pic>
        <p:nvPicPr>
          <p:cNvPr id="495" name="Text Box 4" descr=""/>
          <p:cNvPicPr/>
          <p:nvPr/>
        </p:nvPicPr>
        <p:blipFill>
          <a:blip r:embed="rId2"/>
          <a:stretch/>
        </p:blipFill>
        <p:spPr>
          <a:xfrm>
            <a:off x="5962680" y="158760"/>
            <a:ext cx="2773440" cy="7002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"/>
          <p:cNvSpPr/>
          <p:nvPr/>
        </p:nvSpPr>
        <p:spPr>
          <a:xfrm>
            <a:off x="84240" y="4029120"/>
            <a:ext cx="2958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2060"/>
                </a:solidFill>
                <a:latin typeface="Times New Roman"/>
              </a:rPr>
              <a:t>将以下骑送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"/>
          <p:cNvSpPr/>
          <p:nvPr/>
        </p:nvSpPr>
        <p:spPr>
          <a:xfrm>
            <a:off x="3705120" y="1413000"/>
            <a:ext cx="5392800" cy="212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军士吏被甲，锐兵刃， 彀弓弩，持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军中闻将军令，不闻天子之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不得入   又不得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不得驱驰     按辔徐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3333600" y="4029120"/>
            <a:ext cx="56642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2060"/>
                </a:solidFill>
                <a:latin typeface="Times New Roman"/>
              </a:rPr>
              <a:t>亚夫持兵揖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2060"/>
                </a:solidFill>
                <a:latin typeface="Times New Roman"/>
              </a:rPr>
              <a:t>介胄之士不拜，请军礼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14"/>
          <p:cNvSpPr txBox="1"/>
          <p:nvPr/>
        </p:nvSpPr>
        <p:spPr>
          <a:xfrm>
            <a:off x="3703680" y="266760"/>
            <a:ext cx="175248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对比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0" name="Text Box 15"/>
          <p:cNvSpPr/>
          <p:nvPr/>
        </p:nvSpPr>
        <p:spPr>
          <a:xfrm>
            <a:off x="3705120" y="6286680"/>
            <a:ext cx="518976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至于亚夫，可得而犯邪！真将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17"/>
          <p:cNvSpPr/>
          <p:nvPr/>
        </p:nvSpPr>
        <p:spPr>
          <a:xfrm>
            <a:off x="-44280" y="5765760"/>
            <a:ext cx="304308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其将固可袭而虏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"/>
          <p:cNvSpPr/>
          <p:nvPr/>
        </p:nvSpPr>
        <p:spPr>
          <a:xfrm>
            <a:off x="3705120" y="5573880"/>
            <a:ext cx="4864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天子为动，  改容式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WordArt 2"/>
          <p:cNvSpPr txBox="1"/>
          <p:nvPr/>
        </p:nvSpPr>
        <p:spPr>
          <a:xfrm>
            <a:off x="5486400" y="1676520"/>
            <a:ext cx="3200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正面描写</a:t>
            </a:r>
            <a:endParaRPr b="1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4" name="WordArt 3"/>
          <p:cNvSpPr txBox="1"/>
          <p:nvPr/>
        </p:nvSpPr>
        <p:spPr>
          <a:xfrm>
            <a:off x="5486400" y="3733920"/>
            <a:ext cx="3276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侧面描写</a:t>
            </a:r>
            <a:endParaRPr b="1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228600" y="1322280"/>
            <a:ext cx="485460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亚夫乃传言开壁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228600" y="2043000"/>
            <a:ext cx="485460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将军亚夫持兵揖曰： “介胄之士不拜，请以军礼见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374760" y="3859200"/>
            <a:ext cx="440820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属的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374760" y="4952880"/>
            <a:ext cx="411480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汉文帝和群臣的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2"/>
          <p:cNvSpPr/>
          <p:nvPr/>
        </p:nvSpPr>
        <p:spPr>
          <a:xfrm>
            <a:off x="-125280" y="213516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结合全文，说说你对汉文帝的看法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文本框 1" descr=""/>
          <p:cNvPicPr/>
          <p:nvPr/>
        </p:nvPicPr>
        <p:blipFill>
          <a:blip r:embed="rId1"/>
          <a:stretch/>
        </p:blipFill>
        <p:spPr>
          <a:xfrm>
            <a:off x="3230640" y="579600"/>
            <a:ext cx="2925720" cy="11160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3"/>
          <p:cNvSpPr/>
          <p:nvPr/>
        </p:nvSpPr>
        <p:spPr>
          <a:xfrm>
            <a:off x="112680" y="25560"/>
            <a:ext cx="3025800" cy="82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走近人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2"/>
          <p:cNvSpPr/>
          <p:nvPr/>
        </p:nvSpPr>
        <p:spPr>
          <a:xfrm>
            <a:off x="527040" y="2038320"/>
            <a:ext cx="839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主旨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文章通过写汉文帝慰劳军队的故事，表现了周亚夫治军严明、忠于职守、刚正不阿、不卑不亢的品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"/>
          <p:cNvSpPr/>
          <p:nvPr/>
        </p:nvSpPr>
        <p:spPr>
          <a:xfrm>
            <a:off x="58680" y="79200"/>
            <a:ext cx="2776680" cy="82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主旨归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4T01:08:50Z</dcterms:created>
  <dc:creator>XKW</dc:creator>
  <dc:description/>
  <dc:language>en-US</dc:language>
  <cp:lastModifiedBy>Administrator</cp:lastModifiedBy>
  <dcterms:modified xsi:type="dcterms:W3CDTF">2019-05-15T02:26:11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70</vt:lpwstr>
  </property>
  <property fmtid="{D5CDD505-2E9C-101B-9397-08002B2CF9AE}" pid="3" name="Version">
    <vt:r8>1</vt:r8>
  </property>
</Properties>
</file>