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34F0-77C0-4ACF-858B-69089649F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B314-6901-45B7-AA05-F175BBDB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729BC-B468-46A8-842E-1DCE082F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45EAA-97B9-4CA7-9093-1388EA53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782054-E118-4185-AC0B-E7C9921C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C7E2D-FC8D-4CDD-89BC-922A6C27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5D5B2-B17D-44AE-ACD4-0C3C1806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09B51-03CC-487C-BD08-2D86A164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9719B-BA7A-470F-BB08-3A470C1C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AAAE0-C342-4FBC-BDEE-D51E5E88A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AE7C1-D6BD-4E64-A654-46E128985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AEDAA-A916-4DE2-94BF-D251AED5C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8A9E-9E6B-4591-B7C2-4C5A24EEE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6A618F-D614-4158-98BB-D8F5625E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EA464-979D-4090-819E-62C57D1B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94E7E2-CDA4-434F-A49A-90CC9B8E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4AEC9E-D84C-49A4-9D74-3A6B224E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94606E-B984-4946-AF4E-0907F77C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D6867-ABC1-4B99-A9C4-271C88A2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F876B1-838D-4951-ACE8-BFF40B59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81864-34FB-4CEF-80BF-16DF9548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6080AF-49FB-49B3-A6E1-60527DD0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FB368C-E73A-40C2-9310-7CD2A6F7C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AEC4-AFD4-4F34-96D8-B4647B095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286AC-F678-470F-9B2A-C922F8376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30DF6-E56C-416D-821E-22629D953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24221-37D7-4371-BFDD-BC896148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94C64-70CD-48AE-BDC9-4EB94424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245C3-00F5-4737-98CC-EE0A7132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3FC9F-D87C-4AB9-8FB8-2F3885F6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46738-4B2C-48B6-8A51-F706B850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5A216-4371-41FE-A6A3-6FC32BDA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634C8-4808-43F0-8CE4-26C2ED96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6C455-0820-4958-92EB-A08DC202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21DC-82B3-4A93-A2BF-5098148A4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EBBC3-747A-45E3-BA2D-CE66728F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131F7-5D6A-4DE8-AC61-F5F38FD43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94B0A-3B95-49FE-8391-08B756DAA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BD83-3D48-4FD1-9384-AB9C85E3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FC28-DD49-4666-8E5D-B7FA9412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B893-8487-4D88-8BC0-F57E710C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303B-2934-454A-8376-2014ED7A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514B-EFEF-48D9-9D22-23FE3965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839F-71AC-43F5-BF76-7E82F428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37D6-7D10-49ED-9AAE-0C6BF4E1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64D6-C4CB-4298-9F65-5AAE05E7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CE29-FA48-41B1-BFD3-395EFE0E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3707-55D2-4247-B37D-4196E2D3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8B60-AE6F-4C92-B375-AA1F701DE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32A2-20E7-4B8D-841F-6943269E2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50A1E-56D7-4960-86CD-30F8A47E4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30887-E4B2-4FF3-B0C3-99CD80DC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8198B-FD9F-41BE-92E3-D3EFA324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5A1EE-C70D-4A52-8C30-D3CF0019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E2157-04F1-4160-A5C0-EC81CEF8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DEB2-DB78-40B7-AFBB-265C7A83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BB62F-FB9E-4D12-A573-A47A0420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28551-A621-42F3-B386-5967DBE8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11A55-10EF-44BE-8EFB-40C65E0C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C34F3-AE86-4F29-895D-153DF5DC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6BAA1-D344-4BD8-A4E3-289FED3D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96DC7-C4DB-4F30-9DE8-13C638BC3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7629C-A531-4282-A940-27C1652B4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CE05B-05CD-493D-948D-9A2ED1CB7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4001D-6DA8-4155-AD12-F63C01E1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F8964-C143-45D0-8236-033856DA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78D2-7218-4931-8D50-372BBB3E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DBC4C-6D6D-4529-B7DA-768F4530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99227-C401-4620-B470-DEA47AFC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F4B37-F197-42D4-B6C1-44B790B2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3B97F-0DBC-4CE3-A046-91BC5B9A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A2D11-5FB6-4A3E-8062-6BBCD4B9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B7B72-2B5D-42BA-8ED4-F997710E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9B141-C22C-4F03-A5D5-51219CC0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05657-6B59-467C-8B9B-C31476360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F4CAC-7763-4C48-BE88-E9DDC4680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BEDE2-30D0-463E-952F-6CE630E45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27E8-3AE4-4088-B004-C8FCDED4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F3FB5-9155-47E1-99EF-56A3A976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CE450-6D01-4AA4-8B9D-43572642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8C8F1-0842-49A6-B650-0D75E782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17783-4129-45A0-9B11-E5DCFD08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BF56C-695F-41D9-AAF1-B5AEB0AF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5B1DF-7A11-4973-87CE-EA8E45D8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480CC-192A-47EE-B745-D0D8966B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5534A-9679-49E4-BD28-1330EAD5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F0785-CDD9-498D-A30E-0348D11A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FE15A-C2A8-4CBF-8454-8FF8B001C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A85D-CEA9-437B-A479-33543F0C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EB603-AA2D-408F-A6DA-6DB140D2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F12B5-BF9D-4346-9CF3-DB743BB1A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B9D52-E302-4E12-A0CE-358ECB3D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F3D5B-DF59-4B73-8D57-77A33C2B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772B2-DA8F-47ED-B2ED-0EE81E2A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09CC6-72B4-42D9-AEF6-6A416BE0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5C51A-9932-4D62-87C2-D96FE949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D919D-784F-4D0A-9BE7-B509662B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17DB6-BF1E-4868-9677-D1457557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74650-805C-4B16-AA90-7B546D13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8AE0-E71B-47EB-A603-AAA89A57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48B45-7992-4679-BC05-B3C1B675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726C3-8F0A-4403-877B-70512B078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0C41E-2AB8-42BC-A781-0985AF7E1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3CE8E-85A0-485B-9A7B-D6FB7D64F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FF011-8B8D-4185-96CE-70D0AC7A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5FE37-E0B2-43CC-B1D2-A85BF31D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A1D09-C7A2-4174-86AA-9D2BDAD4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3D7AE-D9EC-4BD1-A42B-153B3A46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64F6F-99A2-448E-9970-A6F343AD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6BB05-6FD7-468C-BE48-BE86182D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4336-9341-4F2C-BA33-C28B2268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E6C81-3483-4B33-9929-1D509B15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B5404-0E4D-48A1-9335-40B75F2A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2CA35-B442-4BE3-A59F-DEC83FAF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BEACF-9391-4156-88FC-78796A509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80134-2A25-454A-AE37-352F8CC28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270C2-ECF7-49FB-AEE6-715CEF347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B20DC-60CE-41A9-9D8D-FEF5A1C9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FD23A-C9D5-4F72-8F41-3281B174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4867D-828B-4348-BA6A-5BCB4D40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ED719-1C84-4E44-9B81-5B5562C8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D998-1927-46C8-A49E-4C7002C4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D745C-E418-4B03-B085-F88FA836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A061A-F177-4700-900D-8273B3B5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37CCD-0708-4C4D-BC8D-CED7E57D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033C5-00E3-42ED-946D-E7184DF6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18E14-0CDA-49AA-BE30-4E8CC91F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CE0A5-58B1-4F75-85E4-6B3CC7D17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82BB1-420F-4567-AC5D-F93634C26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7E538-EA6A-458B-846A-76F90B310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780E5-CD7F-45AE-AC43-36186B55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55DB0-7667-4CC9-BF13-9B39DBFD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3650-C564-48EA-BCE0-FBA0FF6AD13C}" type="slidenum">
              <a:rPr b="0" lang="en-US" sz="9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8a2a0"/>
          </a:solidFill>
          <a:ln w="12600">
            <a:solidFill>
              <a:srgbClr val="3276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8a2a0"/>
          </a:solidFill>
          <a:ln w="12600">
            <a:solidFill>
              <a:srgbClr val="3276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8361-AEED-4422-9FC3-A957A7F9BB3F}" type="slidenum">
              <a:rPr b="0" lang="en-US" sz="9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8a2a0"/>
          </a:solidFill>
          <a:ln w="12600">
            <a:solidFill>
              <a:srgbClr val="3276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7f7f7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4EB9-4D04-4A4A-8CC3-1F6D0B9D21F6}" type="slidenum">
              <a:rPr b="0" lang="zh-CN" sz="900" spc="-1" strike="noStrike">
                <a:solidFill>
                  <a:srgbClr val="7f7f7f"/>
                </a:solidFill>
                <a:latin typeface="黑体"/>
                <a:ea typeface="黑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8a2a0"/>
          </a:solidFill>
          <a:ln w="12600">
            <a:solidFill>
              <a:srgbClr val="3276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7"/>
          <p:cNvSpPr/>
          <p:nvPr/>
        </p:nvSpPr>
        <p:spPr>
          <a:xfrm>
            <a:off x="3632040" y="4749840"/>
            <a:ext cx="193680" cy="257040"/>
          </a:xfrm>
          <a:prstGeom prst="ellipse">
            <a:avLst/>
          </a:prstGeom>
          <a:solidFill>
            <a:srgbClr val="48a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8"/>
          <p:cNvSpPr/>
          <p:nvPr/>
        </p:nvSpPr>
        <p:spPr>
          <a:xfrm>
            <a:off x="3971880" y="4749840"/>
            <a:ext cx="193680" cy="257040"/>
          </a:xfrm>
          <a:prstGeom prst="ellipse">
            <a:avLst/>
          </a:prstGeom>
          <a:solidFill>
            <a:srgbClr val="a4d6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9"/>
          <p:cNvSpPr/>
          <p:nvPr/>
        </p:nvSpPr>
        <p:spPr>
          <a:xfrm>
            <a:off x="4311720" y="4749840"/>
            <a:ext cx="191880" cy="257040"/>
          </a:xfrm>
          <a:prstGeom prst="ellipse">
            <a:avLst/>
          </a:prstGeom>
          <a:solidFill>
            <a:srgbClr val="48a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10"/>
          <p:cNvSpPr/>
          <p:nvPr/>
        </p:nvSpPr>
        <p:spPr>
          <a:xfrm>
            <a:off x="4651200" y="4749840"/>
            <a:ext cx="192240" cy="257040"/>
          </a:xfrm>
          <a:prstGeom prst="ellipse">
            <a:avLst/>
          </a:prstGeom>
          <a:solidFill>
            <a:srgbClr val="a4d6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11"/>
          <p:cNvSpPr/>
          <p:nvPr/>
        </p:nvSpPr>
        <p:spPr>
          <a:xfrm>
            <a:off x="4991040" y="4749840"/>
            <a:ext cx="192240" cy="257040"/>
          </a:xfrm>
          <a:prstGeom prst="ellipse">
            <a:avLst/>
          </a:prstGeom>
          <a:solidFill>
            <a:srgbClr val="48a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12"/>
          <p:cNvSpPr/>
          <p:nvPr/>
        </p:nvSpPr>
        <p:spPr>
          <a:xfrm>
            <a:off x="5329080" y="4749840"/>
            <a:ext cx="193680" cy="257040"/>
          </a:xfrm>
          <a:prstGeom prst="ellipse">
            <a:avLst/>
          </a:prstGeom>
          <a:solidFill>
            <a:srgbClr val="a4d6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接连接符 13"/>
          <p:cNvSpPr/>
          <p:nvPr/>
        </p:nvSpPr>
        <p:spPr>
          <a:xfrm>
            <a:off x="5373720" y="2120760"/>
            <a:ext cx="406440" cy="0"/>
          </a:xfrm>
          <a:prstGeom prst="line">
            <a:avLst/>
          </a:prstGeom>
          <a:ln w="25560">
            <a:solidFill>
              <a:srgbClr val="48a2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直接连接符 14"/>
          <p:cNvSpPr/>
          <p:nvPr/>
        </p:nvSpPr>
        <p:spPr>
          <a:xfrm>
            <a:off x="3363840" y="2120760"/>
            <a:ext cx="406440" cy="0"/>
          </a:xfrm>
          <a:prstGeom prst="line">
            <a:avLst/>
          </a:prstGeom>
          <a:ln w="25560">
            <a:solidFill>
              <a:srgbClr val="48a2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C37A-24B6-4E50-B7CF-B7849408C236}" type="slidenum">
              <a:rPr b="0" lang="en-US" sz="9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8a2a0"/>
          </a:solidFill>
          <a:ln w="12600">
            <a:solidFill>
              <a:srgbClr val="3276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1820-F43E-4ABD-9B16-3F4F35A5861B}" type="slidenum">
              <a:rPr b="0" lang="en-US" sz="9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8a2a0"/>
          </a:solidFill>
          <a:ln w="12600">
            <a:solidFill>
              <a:srgbClr val="3276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7"/>
          <p:cNvSpPr/>
          <p:nvPr/>
        </p:nvSpPr>
        <p:spPr>
          <a:xfrm>
            <a:off x="1211400" y="2057400"/>
            <a:ext cx="1839600" cy="2454120"/>
          </a:xfrm>
          <a:prstGeom prst="ellipse">
            <a:avLst/>
          </a:prstGeom>
          <a:solidFill>
            <a:srgbClr val="48a2a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8"/>
          <p:cNvSpPr/>
          <p:nvPr/>
        </p:nvSpPr>
        <p:spPr>
          <a:xfrm>
            <a:off x="2457360" y="3718080"/>
            <a:ext cx="593640" cy="793440"/>
          </a:xfrm>
          <a:prstGeom prst="ellipse">
            <a:avLst/>
          </a:prstGeom>
          <a:solidFill>
            <a:srgbClr val="48a2a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2A01-E577-4669-89A2-E48FFB255748}" type="slidenum">
              <a:rPr b="0" lang="en-US" sz="9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8a2a0"/>
          </a:solidFill>
          <a:ln w="12600">
            <a:solidFill>
              <a:srgbClr val="3276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8334-8148-4FBD-976B-04A534DE7571}" type="slidenum">
              <a:rPr b="0" lang="en-US" sz="9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8a2a0"/>
          </a:solidFill>
          <a:ln w="12600">
            <a:solidFill>
              <a:srgbClr val="3276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BC32-4D5D-4739-801F-B1E8FB30C1D0}" type="slidenum">
              <a:rPr b="0" lang="en-US" sz="9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8a2a0"/>
          </a:solidFill>
          <a:ln w="12600">
            <a:solidFill>
              <a:srgbClr val="3276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椭圆 7"/>
          <p:cNvSpPr/>
          <p:nvPr/>
        </p:nvSpPr>
        <p:spPr>
          <a:xfrm>
            <a:off x="3632040" y="4268880"/>
            <a:ext cx="193680" cy="257040"/>
          </a:xfrm>
          <a:prstGeom prst="ellipse">
            <a:avLst/>
          </a:prstGeom>
          <a:solidFill>
            <a:srgbClr val="48a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椭圆 8"/>
          <p:cNvSpPr/>
          <p:nvPr/>
        </p:nvSpPr>
        <p:spPr>
          <a:xfrm>
            <a:off x="3971880" y="4268880"/>
            <a:ext cx="193680" cy="257040"/>
          </a:xfrm>
          <a:prstGeom prst="ellipse">
            <a:avLst/>
          </a:prstGeom>
          <a:solidFill>
            <a:srgbClr val="a4d6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椭圆 9"/>
          <p:cNvSpPr/>
          <p:nvPr/>
        </p:nvSpPr>
        <p:spPr>
          <a:xfrm>
            <a:off x="4311720" y="4268880"/>
            <a:ext cx="191880" cy="257040"/>
          </a:xfrm>
          <a:prstGeom prst="ellipse">
            <a:avLst/>
          </a:prstGeom>
          <a:solidFill>
            <a:srgbClr val="48a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椭圆 10"/>
          <p:cNvSpPr/>
          <p:nvPr/>
        </p:nvSpPr>
        <p:spPr>
          <a:xfrm>
            <a:off x="4651200" y="4268880"/>
            <a:ext cx="192240" cy="257040"/>
          </a:xfrm>
          <a:prstGeom prst="ellipse">
            <a:avLst/>
          </a:prstGeom>
          <a:solidFill>
            <a:srgbClr val="a4d6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椭圆 11"/>
          <p:cNvSpPr/>
          <p:nvPr/>
        </p:nvSpPr>
        <p:spPr>
          <a:xfrm>
            <a:off x="4991040" y="4268880"/>
            <a:ext cx="192240" cy="257040"/>
          </a:xfrm>
          <a:prstGeom prst="ellipse">
            <a:avLst/>
          </a:prstGeom>
          <a:solidFill>
            <a:srgbClr val="48a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椭圆 12"/>
          <p:cNvSpPr/>
          <p:nvPr/>
        </p:nvSpPr>
        <p:spPr>
          <a:xfrm>
            <a:off x="5329080" y="4268880"/>
            <a:ext cx="193680" cy="257040"/>
          </a:xfrm>
          <a:prstGeom prst="ellipse">
            <a:avLst/>
          </a:prstGeom>
          <a:solidFill>
            <a:srgbClr val="a4d6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7f7f7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67A1-C8CD-4732-BA1D-E1A7E3D4A5A1}" type="slidenum">
              <a:rPr b="0" lang="zh-CN" sz="900" spc="-1" strike="noStrike">
                <a:solidFill>
                  <a:srgbClr val="7f7f7f"/>
                </a:solidFill>
                <a:latin typeface="黑体"/>
                <a:ea typeface="黑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8a2a0"/>
          </a:solidFill>
          <a:ln w="12600">
            <a:solidFill>
              <a:srgbClr val="3276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E2A4-4721-4502-93E0-91B45790B513}" type="slidenum">
              <a:rPr b="0" lang="en-US" sz="9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8a2a0"/>
          </a:solidFill>
          <a:ln w="12600">
            <a:solidFill>
              <a:srgbClr val="3276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7716-5A58-44F5-8446-6F783065E096}" type="slidenum">
              <a:rPr b="0" lang="en-US" sz="9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2" descr="78911193269178421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21640"/>
          </a:xfrm>
          <a:prstGeom prst="rect">
            <a:avLst/>
          </a:prstGeom>
          <a:ln w="0">
            <a:noFill/>
          </a:ln>
        </p:spPr>
      </p:pic>
      <p:sp>
        <p:nvSpPr>
          <p:cNvPr id="479" name="WordArt 3"/>
          <p:cNvSpPr txBox="1"/>
          <p:nvPr/>
        </p:nvSpPr>
        <p:spPr>
          <a:xfrm>
            <a:off x="1979640" y="1557360"/>
            <a:ext cx="5688000" cy="17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0" name="TextBox 4"/>
          <p:cNvSpPr/>
          <p:nvPr/>
        </p:nvSpPr>
        <p:spPr>
          <a:xfrm>
            <a:off x="4214880" y="33336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周亚夫军细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5"/>
          <p:cNvSpPr/>
          <p:nvPr/>
        </p:nvSpPr>
        <p:spPr>
          <a:xfrm>
            <a:off x="6259680" y="15238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司马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2"/>
          <p:cNvSpPr/>
          <p:nvPr/>
        </p:nvSpPr>
        <p:spPr>
          <a:xfrm>
            <a:off x="5640480" y="5354640"/>
            <a:ext cx="342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第二课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Box 2"/>
          <p:cNvSpPr/>
          <p:nvPr/>
        </p:nvSpPr>
        <p:spPr>
          <a:xfrm>
            <a:off x="838080" y="167652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宋体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请说说你从本文获得了哪些启示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3"/>
          <p:cNvSpPr/>
          <p:nvPr/>
        </p:nvSpPr>
        <p:spPr>
          <a:xfrm>
            <a:off x="46080" y="79200"/>
            <a:ext cx="2624040" cy="825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楷体"/>
                <a:ea typeface="楷体"/>
              </a:rPr>
              <a:t>收获体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矩形 34820"/>
          <p:cNvSpPr/>
          <p:nvPr/>
        </p:nvSpPr>
        <p:spPr>
          <a:xfrm>
            <a:off x="222120" y="204480"/>
            <a:ext cx="2286000" cy="703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8a2a0"/>
                </a:solidFill>
                <a:latin typeface="楷体"/>
                <a:ea typeface="楷体"/>
              </a:rPr>
              <a:t>中考链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文本框 34822"/>
          <p:cNvSpPr/>
          <p:nvPr/>
        </p:nvSpPr>
        <p:spPr>
          <a:xfrm>
            <a:off x="324000" y="2370240"/>
            <a:ext cx="8424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解释下列红色字在句子中的意思。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上自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军（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先驱曰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至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军士吏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甲，刀出鞘（       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3352680" y="3200400"/>
            <a:ext cx="143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"/>
                <a:ea typeface="仿宋"/>
              </a:rPr>
              <a:t>慰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6041880" y="3505320"/>
            <a:ext cx="1393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楷体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将要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4572000" y="46483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楷体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通“披”，穿着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文本框 1"/>
          <p:cNvSpPr/>
          <p:nvPr/>
        </p:nvSpPr>
        <p:spPr>
          <a:xfrm>
            <a:off x="2830680" y="1293840"/>
            <a:ext cx="302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8a2a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48a2a0"/>
                </a:solidFill>
                <a:latin typeface="Times New Roman"/>
              </a:rPr>
              <a:t>阅读</a:t>
            </a:r>
            <a:r>
              <a:rPr b="1" lang="en-US" sz="3200" spc="-1" strike="noStrike">
                <a:solidFill>
                  <a:srgbClr val="48a2a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48a2a0"/>
                </a:solidFill>
                <a:latin typeface="Times New Roman"/>
              </a:rPr>
              <a:t>周亚夫军细柳</a:t>
            </a:r>
            <a:r>
              <a:rPr b="1" lang="en-US" sz="3200" spc="-1" strike="noStrike">
                <a:solidFill>
                  <a:srgbClr val="48a2a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48a2a0"/>
                </a:solidFill>
                <a:latin typeface="Times New Roman"/>
              </a:rPr>
              <a:t>，完成下列的题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矩形 34820"/>
          <p:cNvSpPr/>
          <p:nvPr/>
        </p:nvSpPr>
        <p:spPr>
          <a:xfrm>
            <a:off x="324000" y="498600"/>
            <a:ext cx="8064360" cy="57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把下列句子翻译成现代汉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）至营，将军亚夫持兵揖曰：</a:t>
            </a:r>
            <a:r>
              <a:rPr b="1" lang="en-US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介胄之士不拜，请以军礼见。</a:t>
            </a:r>
            <a:r>
              <a:rPr b="1" lang="en-US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到了主帅所在的营帐，将军周亚夫手执兵器拱手行礼，说：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穿戴着盔甲的将士不行跪拜礼，请允许我用军礼参见（皇上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居无何，上至，又不得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过了不久，文帝驾到，也不能够进入军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4"/>
          <p:cNvSpPr/>
          <p:nvPr/>
        </p:nvSpPr>
        <p:spPr>
          <a:xfrm>
            <a:off x="611280" y="393372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"/>
          <p:cNvSpPr/>
          <p:nvPr/>
        </p:nvSpPr>
        <p:spPr>
          <a:xfrm>
            <a:off x="609480" y="5943600"/>
            <a:ext cx="769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6"/>
          <p:cNvSpPr/>
          <p:nvPr/>
        </p:nvSpPr>
        <p:spPr>
          <a:xfrm>
            <a:off x="1116000" y="2924280"/>
            <a:ext cx="720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7"/>
          <p:cNvSpPr/>
          <p:nvPr/>
        </p:nvSpPr>
        <p:spPr>
          <a:xfrm>
            <a:off x="539640" y="342900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文本框 39939"/>
          <p:cNvSpPr/>
          <p:nvPr/>
        </p:nvSpPr>
        <p:spPr>
          <a:xfrm>
            <a:off x="108000" y="428760"/>
            <a:ext cx="9191520" cy="41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1e1e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1e1e1e"/>
                </a:solidFill>
                <a:latin typeface="黑体"/>
                <a:ea typeface="黑体"/>
              </a:rPr>
              <a:t>、下列说法不正确的一项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e1e1e"/>
                </a:solidFill>
                <a:latin typeface="新宋体"/>
                <a:ea typeface="新宋体"/>
              </a:rPr>
              <a:t>A</a:t>
            </a:r>
            <a:r>
              <a:rPr b="1" lang="zh-CN" sz="2800" spc="-1" strike="noStrike">
                <a:solidFill>
                  <a:srgbClr val="1e1e1e"/>
                </a:solidFill>
                <a:latin typeface="新宋体"/>
                <a:ea typeface="新宋体"/>
              </a:rPr>
              <a:t>、课文第一段先点明背景：匈奴大举入侵，边关吃紧，这样就将守边将领周亚夫置于矛盾冲突之中，更有利于表现人物性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e1e1e"/>
                </a:solidFill>
                <a:latin typeface="新宋体"/>
                <a:ea typeface="新宋体"/>
              </a:rPr>
              <a:t>B</a:t>
            </a:r>
            <a:r>
              <a:rPr b="1" lang="zh-CN" sz="2800" spc="-1" strike="noStrike">
                <a:solidFill>
                  <a:srgbClr val="1e1e1e"/>
                </a:solidFill>
                <a:latin typeface="新宋体"/>
                <a:ea typeface="新宋体"/>
              </a:rPr>
              <a:t>、周亚夫是文中的主人公，可课文并没有过多描写他，而是通过对比和衬托来突出他的性格特点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e1e1e"/>
                </a:solidFill>
                <a:latin typeface="新宋体"/>
                <a:ea typeface="新宋体"/>
              </a:rPr>
              <a:t>C</a:t>
            </a:r>
            <a:r>
              <a:rPr b="1" lang="zh-CN" sz="2800" spc="-1" strike="noStrike">
                <a:solidFill>
                  <a:srgbClr val="1e1e1e"/>
                </a:solidFill>
                <a:latin typeface="新宋体"/>
                <a:ea typeface="新宋体"/>
              </a:rPr>
              <a:t>、皇帝赞周亚夫为“真将军”的含义是：周亚夫军纪严明，令行禁止，治军有方，是值得信赖的守边大将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e1e1e"/>
                </a:solidFill>
                <a:latin typeface="新宋体"/>
                <a:ea typeface="新宋体"/>
              </a:rPr>
              <a:t>D</a:t>
            </a:r>
            <a:r>
              <a:rPr b="1" lang="zh-CN" sz="2800" spc="-1" strike="noStrike">
                <a:solidFill>
                  <a:srgbClr val="1e1e1e"/>
                </a:solidFill>
                <a:latin typeface="新宋体"/>
                <a:ea typeface="新宋体"/>
              </a:rPr>
              <a:t>、皇帝“改容式车，使人称谢”是迫于周亚夫的军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文本框 39940"/>
          <p:cNvSpPr/>
          <p:nvPr/>
        </p:nvSpPr>
        <p:spPr>
          <a:xfrm>
            <a:off x="4770360" y="428760"/>
            <a:ext cx="21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3600" spc="-1" strike="noStrike">
                <a:solidFill>
                  <a:srgbClr val="1e1e1e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灯片编号占位符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8C3A-F404-4B30-B7D3-207CBEDE47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Box 3"/>
          <p:cNvSpPr/>
          <p:nvPr/>
        </p:nvSpPr>
        <p:spPr>
          <a:xfrm>
            <a:off x="101520" y="66600"/>
            <a:ext cx="3486240" cy="825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楷体"/>
                <a:ea typeface="楷体"/>
              </a:rPr>
              <a:t> </a:t>
            </a:r>
            <a:r>
              <a:rPr b="1" lang="zh-CN" sz="4800" spc="-1" strike="noStrike">
                <a:solidFill>
                  <a:srgbClr val="c00000"/>
                </a:solidFill>
                <a:latin typeface="楷体"/>
                <a:ea typeface="楷体"/>
              </a:rPr>
              <a:t>作业布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文本框 2"/>
          <p:cNvSpPr/>
          <p:nvPr/>
        </p:nvSpPr>
        <p:spPr>
          <a:xfrm>
            <a:off x="895320" y="3267000"/>
            <a:ext cx="82393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文本框 2"/>
          <p:cNvSpPr/>
          <p:nvPr/>
        </p:nvSpPr>
        <p:spPr>
          <a:xfrm>
            <a:off x="905040" y="3284640"/>
            <a:ext cx="823896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文本框 2"/>
          <p:cNvSpPr/>
          <p:nvPr/>
        </p:nvSpPr>
        <p:spPr>
          <a:xfrm>
            <a:off x="304920" y="1676520"/>
            <a:ext cx="90453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sz="3600" spc="-1" strike="noStrike">
                <a:solidFill>
                  <a:srgbClr val="000000"/>
                </a:solidFill>
                <a:latin typeface="宋体"/>
              </a:rPr>
              <a:t>、周记：</a:t>
            </a:r>
            <a:r>
              <a:rPr b="1" sz="3600" spc="-1" strike="noStrike">
                <a:solidFill>
                  <a:srgbClr val="000000"/>
                </a:solidFill>
                <a:latin typeface="宋体"/>
              </a:rPr>
              <a:t>(1</a:t>
            </a:r>
            <a:r>
              <a:rPr b="1" sz="3600" spc="-1" strike="noStrike">
                <a:solidFill>
                  <a:srgbClr val="000000"/>
                </a:solidFill>
                <a:latin typeface="宋体"/>
              </a:rPr>
              <a:t>）运用正面描写和侧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宋体"/>
              </a:rPr>
              <a:t>描写相结合以及对比、衬托的写作手法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宋体"/>
              </a:rPr>
              <a:t>写一个同学。（</a:t>
            </a:r>
            <a:r>
              <a:rPr b="1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sz="3600" spc="-1" strike="noStrike">
                <a:solidFill>
                  <a:srgbClr val="000000"/>
                </a:solidFill>
                <a:latin typeface="宋体"/>
              </a:rPr>
              <a:t>）题目自拟，字数</a:t>
            </a:r>
            <a:r>
              <a:rPr b="1" sz="36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1" sz="3600" spc="-1" strike="noStrike">
                <a:solidFill>
                  <a:srgbClr val="000000"/>
                </a:solidFill>
                <a:latin typeface="宋体"/>
              </a:rPr>
              <a:t>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宋体"/>
              </a:rPr>
              <a:t>以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sz="3600" spc="-1" strike="noStrike">
                <a:solidFill>
                  <a:srgbClr val="000000"/>
                </a:solidFill>
                <a:latin typeface="宋体"/>
              </a:rPr>
              <a:t>、了解《史记》里的其他人物，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宋体"/>
              </a:rPr>
              <a:t>一步感受司马迁塑造的人物的个性特点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宋体"/>
              </a:rPr>
              <a:t>写人的艺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-544320" y="2060640"/>
            <a:ext cx="127764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周亚夫军细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5"/>
          <p:cNvSpPr/>
          <p:nvPr/>
        </p:nvSpPr>
        <p:spPr>
          <a:xfrm>
            <a:off x="250920" y="549360"/>
            <a:ext cx="1368360" cy="5473440"/>
          </a:xfrm>
          <a:custGeom>
            <a:avLst/>
            <a:gdLst>
              <a:gd name="textAreaLeft" fmla="*/ 874440 w 1368360"/>
              <a:gd name="textAreaRight" fmla="*/ 1368720 w 1368360"/>
              <a:gd name="textAreaTop" fmla="*/ 142200 h 5473440"/>
              <a:gd name="textAreaBottom" fmla="*/ 5331240 h 547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5"/>
                </a:cubicBezTo>
                <a:lnTo>
                  <a:pt x="10800" y="9005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5"/>
                </a:cubicBezTo>
                <a:lnTo>
                  <a:pt x="10800" y="19805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714600" y="189000"/>
            <a:ext cx="127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点明背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7"/>
          <p:cNvSpPr/>
          <p:nvPr/>
        </p:nvSpPr>
        <p:spPr>
          <a:xfrm>
            <a:off x="1763640" y="0"/>
            <a:ext cx="719280" cy="2205000"/>
          </a:xfrm>
          <a:custGeom>
            <a:avLst/>
            <a:gdLst>
              <a:gd name="textAreaLeft" fmla="*/ 459720 w 719280"/>
              <a:gd name="textAreaRight" fmla="*/ 719640 w 719280"/>
              <a:gd name="textAreaTop" fmla="*/ 56880 h 2205000"/>
              <a:gd name="textAreaBottom" fmla="*/ 2148120 h 220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6"/>
                  <a:pt x="10800" y="1791"/>
                </a:cubicBezTo>
                <a:lnTo>
                  <a:pt x="10800" y="9009"/>
                </a:lnTo>
                <a:cubicBezTo>
                  <a:pt x="10800" y="9905"/>
                  <a:pt x="5400" y="10800"/>
                  <a:pt x="0" y="10800"/>
                </a:cubicBezTo>
                <a:cubicBezTo>
                  <a:pt x="5400" y="10800"/>
                  <a:pt x="10800" y="11696"/>
                  <a:pt x="10800" y="12591"/>
                </a:cubicBezTo>
                <a:lnTo>
                  <a:pt x="10800" y="19809"/>
                </a:lnTo>
                <a:cubicBezTo>
                  <a:pt x="10800" y="207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8"/>
          <p:cNvSpPr/>
          <p:nvPr/>
        </p:nvSpPr>
        <p:spPr>
          <a:xfrm>
            <a:off x="2124000" y="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匈奴进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9"/>
          <p:cNvSpPr/>
          <p:nvPr/>
        </p:nvSpPr>
        <p:spPr>
          <a:xfrm>
            <a:off x="2124000" y="1484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边关吃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1"/>
          <p:cNvSpPr/>
          <p:nvPr/>
        </p:nvSpPr>
        <p:spPr>
          <a:xfrm>
            <a:off x="4140360" y="0"/>
            <a:ext cx="144360" cy="2060640"/>
          </a:xfrm>
          <a:custGeom>
            <a:avLst/>
            <a:gdLst>
              <a:gd name="textAreaLeft" fmla="*/ 0 w 144360"/>
              <a:gd name="textAreaRight" fmla="*/ 52200 w 144360"/>
              <a:gd name="textAreaTop" fmla="*/ 53280 h 2060640"/>
              <a:gd name="textAreaBottom" fmla="*/ 2007360 h 206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6"/>
                  <a:pt x="10800" y="1791"/>
                </a:cubicBezTo>
                <a:lnTo>
                  <a:pt x="10800" y="9009"/>
                </a:lnTo>
                <a:cubicBezTo>
                  <a:pt x="10800" y="9905"/>
                  <a:pt x="16200" y="10800"/>
                  <a:pt x="21600" y="10800"/>
                </a:cubicBezTo>
                <a:cubicBezTo>
                  <a:pt x="16200" y="10800"/>
                  <a:pt x="10800" y="11696"/>
                  <a:pt x="10800" y="12591"/>
                </a:cubicBezTo>
                <a:lnTo>
                  <a:pt x="10800" y="19809"/>
                </a:lnTo>
                <a:cubicBezTo>
                  <a:pt x="10800" y="2070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2"/>
          <p:cNvSpPr/>
          <p:nvPr/>
        </p:nvSpPr>
        <p:spPr>
          <a:xfrm>
            <a:off x="4211640" y="404640"/>
            <a:ext cx="1942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奉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备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3"/>
          <p:cNvSpPr/>
          <p:nvPr/>
        </p:nvSpPr>
        <p:spPr>
          <a:xfrm>
            <a:off x="557640" y="2924280"/>
            <a:ext cx="1277640" cy="20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自劳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4"/>
          <p:cNvSpPr/>
          <p:nvPr/>
        </p:nvSpPr>
        <p:spPr>
          <a:xfrm>
            <a:off x="1547640" y="2492280"/>
            <a:ext cx="720720" cy="2881440"/>
          </a:xfrm>
          <a:custGeom>
            <a:avLst/>
            <a:gdLst>
              <a:gd name="textAreaLeft" fmla="*/ 460440 w 720720"/>
              <a:gd name="textAreaRight" fmla="*/ 721080 w 720720"/>
              <a:gd name="textAreaTop" fmla="*/ 74520 h 2881440"/>
              <a:gd name="textAreaBottom" fmla="*/ 2806920 h 28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6"/>
                  <a:pt x="10800" y="1791"/>
                </a:cubicBezTo>
                <a:lnTo>
                  <a:pt x="10800" y="9009"/>
                </a:lnTo>
                <a:cubicBezTo>
                  <a:pt x="10800" y="9905"/>
                  <a:pt x="5400" y="10800"/>
                  <a:pt x="0" y="10800"/>
                </a:cubicBezTo>
                <a:cubicBezTo>
                  <a:pt x="5400" y="10800"/>
                  <a:pt x="10800" y="11696"/>
                  <a:pt x="10800" y="12591"/>
                </a:cubicBezTo>
                <a:lnTo>
                  <a:pt x="10800" y="19809"/>
                </a:lnTo>
                <a:cubicBezTo>
                  <a:pt x="10800" y="207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5"/>
          <p:cNvSpPr/>
          <p:nvPr/>
        </p:nvSpPr>
        <p:spPr>
          <a:xfrm>
            <a:off x="1979640" y="220500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霸上、棘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长驱直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6"/>
          <p:cNvSpPr/>
          <p:nvPr/>
        </p:nvSpPr>
        <p:spPr>
          <a:xfrm>
            <a:off x="1364040" y="3573360"/>
            <a:ext cx="1277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细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7"/>
          <p:cNvSpPr/>
          <p:nvPr/>
        </p:nvSpPr>
        <p:spPr>
          <a:xfrm>
            <a:off x="2411280" y="2852640"/>
            <a:ext cx="792360" cy="2592360"/>
          </a:xfrm>
          <a:custGeom>
            <a:avLst/>
            <a:gdLst>
              <a:gd name="textAreaLeft" fmla="*/ 506160 w 792360"/>
              <a:gd name="textAreaRight" fmla="*/ 792720 w 792360"/>
              <a:gd name="textAreaTop" fmla="*/ 66960 h 2592360"/>
              <a:gd name="textAreaBottom" fmla="*/ 252540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6"/>
                  <a:pt x="10800" y="1791"/>
                </a:cubicBezTo>
                <a:lnTo>
                  <a:pt x="10800" y="9009"/>
                </a:lnTo>
                <a:cubicBezTo>
                  <a:pt x="10800" y="9905"/>
                  <a:pt x="5400" y="10800"/>
                  <a:pt x="0" y="10800"/>
                </a:cubicBezTo>
                <a:cubicBezTo>
                  <a:pt x="5400" y="10800"/>
                  <a:pt x="10800" y="11696"/>
                  <a:pt x="10800" y="12591"/>
                </a:cubicBezTo>
                <a:lnTo>
                  <a:pt x="10800" y="19809"/>
                </a:lnTo>
                <a:cubicBezTo>
                  <a:pt x="10800" y="207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8"/>
          <p:cNvSpPr/>
          <p:nvPr/>
        </p:nvSpPr>
        <p:spPr>
          <a:xfrm>
            <a:off x="2916360" y="2708280"/>
            <a:ext cx="39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先驱不得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9"/>
          <p:cNvSpPr/>
          <p:nvPr/>
        </p:nvSpPr>
        <p:spPr>
          <a:xfrm>
            <a:off x="2843280" y="3284640"/>
            <a:ext cx="42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闻天子之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0"/>
          <p:cNvSpPr/>
          <p:nvPr/>
        </p:nvSpPr>
        <p:spPr>
          <a:xfrm>
            <a:off x="2771640" y="3860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天子不得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21"/>
          <p:cNvSpPr/>
          <p:nvPr/>
        </p:nvSpPr>
        <p:spPr>
          <a:xfrm>
            <a:off x="2700360" y="44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天子按辔徐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22"/>
          <p:cNvSpPr/>
          <p:nvPr/>
        </p:nvSpPr>
        <p:spPr>
          <a:xfrm>
            <a:off x="2987640" y="508464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亚夫持兵揖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23"/>
          <p:cNvSpPr/>
          <p:nvPr/>
        </p:nvSpPr>
        <p:spPr>
          <a:xfrm>
            <a:off x="7093080" y="2421000"/>
            <a:ext cx="215640" cy="2952720"/>
          </a:xfrm>
          <a:custGeom>
            <a:avLst/>
            <a:gdLst>
              <a:gd name="textAreaLeft" fmla="*/ 0 w 215640"/>
              <a:gd name="textAreaRight" fmla="*/ 77760 w 215640"/>
              <a:gd name="textAreaTop" fmla="*/ 76320 h 2952720"/>
              <a:gd name="textAreaBottom" fmla="*/ 2876400 h 29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6"/>
                  <a:pt x="10800" y="1791"/>
                </a:cubicBezTo>
                <a:lnTo>
                  <a:pt x="10800" y="9009"/>
                </a:lnTo>
                <a:cubicBezTo>
                  <a:pt x="10800" y="9905"/>
                  <a:pt x="16200" y="10800"/>
                  <a:pt x="21600" y="10800"/>
                </a:cubicBezTo>
                <a:cubicBezTo>
                  <a:pt x="16200" y="10800"/>
                  <a:pt x="10800" y="11696"/>
                  <a:pt x="10800" y="12591"/>
                </a:cubicBezTo>
                <a:lnTo>
                  <a:pt x="10800" y="19809"/>
                </a:lnTo>
                <a:cubicBezTo>
                  <a:pt x="10800" y="2070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4"/>
          <p:cNvSpPr/>
          <p:nvPr/>
        </p:nvSpPr>
        <p:spPr>
          <a:xfrm>
            <a:off x="7240320" y="3141720"/>
            <a:ext cx="729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对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25"/>
          <p:cNvSpPr/>
          <p:nvPr/>
        </p:nvSpPr>
        <p:spPr>
          <a:xfrm>
            <a:off x="1547640" y="566100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文帝之口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赞周亚夫“此真将军矣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26"/>
          <p:cNvSpPr/>
          <p:nvPr/>
        </p:nvSpPr>
        <p:spPr>
          <a:xfrm>
            <a:off x="7667640" y="549360"/>
            <a:ext cx="576360" cy="5688000"/>
          </a:xfrm>
          <a:custGeom>
            <a:avLst/>
            <a:gdLst>
              <a:gd name="textAreaLeft" fmla="*/ 0 w 576360"/>
              <a:gd name="textAreaRight" fmla="*/ 208080 w 576360"/>
              <a:gd name="textAreaTop" fmla="*/ 147600 h 5688000"/>
              <a:gd name="textAreaBottom" fmla="*/ 5540400 h 568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6"/>
                  <a:pt x="10800" y="1791"/>
                </a:cubicBezTo>
                <a:lnTo>
                  <a:pt x="10800" y="9009"/>
                </a:lnTo>
                <a:cubicBezTo>
                  <a:pt x="10800" y="9905"/>
                  <a:pt x="16200" y="10800"/>
                  <a:pt x="21600" y="10800"/>
                </a:cubicBezTo>
                <a:cubicBezTo>
                  <a:pt x="16200" y="10800"/>
                  <a:pt x="10800" y="11696"/>
                  <a:pt x="10800" y="12591"/>
                </a:cubicBezTo>
                <a:lnTo>
                  <a:pt x="10800" y="19809"/>
                </a:lnTo>
                <a:cubicBezTo>
                  <a:pt x="10800" y="2070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27"/>
          <p:cNvSpPr/>
          <p:nvPr/>
        </p:nvSpPr>
        <p:spPr>
          <a:xfrm>
            <a:off x="7699680" y="0"/>
            <a:ext cx="127764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治军有方，恪尽职守，刚正不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文本框 1"/>
          <p:cNvSpPr/>
          <p:nvPr/>
        </p:nvSpPr>
        <p:spPr>
          <a:xfrm>
            <a:off x="838080" y="380880"/>
            <a:ext cx="83059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学习目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理解本文的人物形象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感受人物的精神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体会本文刻画人物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方法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838160" y="920880"/>
            <a:ext cx="6940800" cy="13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请简要复述故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图片 2" descr=""/>
          <p:cNvPicPr/>
          <p:nvPr/>
        </p:nvPicPr>
        <p:blipFill>
          <a:blip r:embed="rId1"/>
          <a:stretch/>
        </p:blipFill>
        <p:spPr>
          <a:xfrm>
            <a:off x="1077840" y="2535120"/>
            <a:ext cx="6986520" cy="4043520"/>
          </a:xfrm>
          <a:prstGeom prst="rect">
            <a:avLst/>
          </a:prstGeom>
          <a:ln w="0">
            <a:noFill/>
          </a:ln>
        </p:spPr>
      </p:pic>
      <p:sp>
        <p:nvSpPr>
          <p:cNvPr id="486" name="文本框 1"/>
          <p:cNvSpPr/>
          <p:nvPr/>
        </p:nvSpPr>
        <p:spPr>
          <a:xfrm>
            <a:off x="50760" y="84240"/>
            <a:ext cx="2333520" cy="7034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整体感知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Box 2"/>
          <p:cNvSpPr/>
          <p:nvPr/>
        </p:nvSpPr>
        <p:spPr>
          <a:xfrm>
            <a:off x="274680" y="260208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为什么汉文帝称周亚夫为“真将军”？请大家从文中找出依据来说明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3"/>
          <p:cNvSpPr/>
          <p:nvPr/>
        </p:nvSpPr>
        <p:spPr>
          <a:xfrm>
            <a:off x="57240" y="177840"/>
            <a:ext cx="3025800" cy="825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楷体"/>
                <a:ea typeface="楷体"/>
              </a:rPr>
              <a:t> </a:t>
            </a:r>
            <a:r>
              <a:rPr b="1" lang="zh-CN" sz="4800" spc="-1" strike="noStrike">
                <a:solidFill>
                  <a:srgbClr val="c00000"/>
                </a:solidFill>
                <a:latin typeface="楷体"/>
                <a:ea typeface="楷体"/>
              </a:rPr>
              <a:t>走近人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文本框 1" descr=""/>
          <p:cNvPicPr/>
          <p:nvPr/>
        </p:nvPicPr>
        <p:blipFill>
          <a:blip r:embed="rId1"/>
          <a:stretch/>
        </p:blipFill>
        <p:spPr>
          <a:xfrm>
            <a:off x="3297240" y="993600"/>
            <a:ext cx="2927520" cy="1116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Box 2"/>
          <p:cNvSpPr/>
          <p:nvPr/>
        </p:nvSpPr>
        <p:spPr>
          <a:xfrm>
            <a:off x="60480" y="1981080"/>
            <a:ext cx="923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文中在刻画周亚夫的形象时，运用了哪些写作方法？请结合文本说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2"/>
          <p:cNvSpPr/>
          <p:nvPr/>
        </p:nvSpPr>
        <p:spPr>
          <a:xfrm>
            <a:off x="895320" y="3267000"/>
            <a:ext cx="82393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2"/>
          <p:cNvSpPr/>
          <p:nvPr/>
        </p:nvSpPr>
        <p:spPr>
          <a:xfrm>
            <a:off x="905040" y="3200400"/>
            <a:ext cx="82389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2"/>
          <p:cNvSpPr/>
          <p:nvPr/>
        </p:nvSpPr>
        <p:spPr>
          <a:xfrm>
            <a:off x="250920" y="1649520"/>
            <a:ext cx="228600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直驰入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Text Box 3" descr=""/>
          <p:cNvPicPr/>
          <p:nvPr/>
        </p:nvPicPr>
        <p:blipFill>
          <a:blip r:embed="rId1"/>
          <a:stretch/>
        </p:blipFill>
        <p:spPr>
          <a:xfrm>
            <a:off x="-73080" y="158760"/>
            <a:ext cx="3786120" cy="700200"/>
          </a:xfrm>
          <a:prstGeom prst="rect">
            <a:avLst/>
          </a:prstGeom>
          <a:ln w="0">
            <a:noFill/>
          </a:ln>
        </p:spPr>
      </p:pic>
      <p:pic>
        <p:nvPicPr>
          <p:cNvPr id="495" name="Text Box 4" descr=""/>
          <p:cNvPicPr/>
          <p:nvPr/>
        </p:nvPicPr>
        <p:blipFill>
          <a:blip r:embed="rId2"/>
          <a:stretch/>
        </p:blipFill>
        <p:spPr>
          <a:xfrm>
            <a:off x="5962680" y="158760"/>
            <a:ext cx="2773440" cy="70020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5"/>
          <p:cNvSpPr/>
          <p:nvPr/>
        </p:nvSpPr>
        <p:spPr>
          <a:xfrm>
            <a:off x="84240" y="4029120"/>
            <a:ext cx="2958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2060"/>
                </a:solidFill>
                <a:latin typeface="Times New Roman"/>
              </a:rPr>
              <a:t>将以下骑送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8"/>
          <p:cNvSpPr/>
          <p:nvPr/>
        </p:nvSpPr>
        <p:spPr>
          <a:xfrm>
            <a:off x="3705120" y="1413000"/>
            <a:ext cx="5392800" cy="212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军士吏被甲，锐兵刃， 彀弓弩，持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军中闻将军令，不闻天子之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不得入   又不得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不得驱驰     按辔徐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2"/>
          <p:cNvSpPr/>
          <p:nvPr/>
        </p:nvSpPr>
        <p:spPr>
          <a:xfrm>
            <a:off x="3333600" y="4029120"/>
            <a:ext cx="566424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2060"/>
                </a:solidFill>
                <a:latin typeface="Times New Roman"/>
              </a:rPr>
              <a:t>亚夫持兵揖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2060"/>
                </a:solidFill>
                <a:latin typeface="Times New Roman"/>
              </a:rPr>
              <a:t>介胄之士不拜，请军礼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WordArt 14"/>
          <p:cNvSpPr txBox="1"/>
          <p:nvPr/>
        </p:nvSpPr>
        <p:spPr>
          <a:xfrm>
            <a:off x="3703680" y="266760"/>
            <a:ext cx="175248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6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对比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0" name="Text Box 15"/>
          <p:cNvSpPr/>
          <p:nvPr/>
        </p:nvSpPr>
        <p:spPr>
          <a:xfrm>
            <a:off x="3705120" y="6286680"/>
            <a:ext cx="5189760" cy="52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至于亚夫，可得而犯邪！真将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17"/>
          <p:cNvSpPr/>
          <p:nvPr/>
        </p:nvSpPr>
        <p:spPr>
          <a:xfrm>
            <a:off x="-44280" y="5765760"/>
            <a:ext cx="3043080" cy="52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其将固可袭而虏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1"/>
          <p:cNvSpPr/>
          <p:nvPr/>
        </p:nvSpPr>
        <p:spPr>
          <a:xfrm>
            <a:off x="3705120" y="5573880"/>
            <a:ext cx="4864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天子为动，  改容式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WordArt 2"/>
          <p:cNvSpPr txBox="1"/>
          <p:nvPr/>
        </p:nvSpPr>
        <p:spPr>
          <a:xfrm>
            <a:off x="5486400" y="1676520"/>
            <a:ext cx="32004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正面描写</a:t>
            </a:r>
            <a:endParaRPr b="1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4" name="WordArt 3"/>
          <p:cNvSpPr txBox="1"/>
          <p:nvPr/>
        </p:nvSpPr>
        <p:spPr>
          <a:xfrm>
            <a:off x="5486400" y="3733920"/>
            <a:ext cx="32767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侧面描写</a:t>
            </a:r>
            <a:endParaRPr b="1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228600" y="1322280"/>
            <a:ext cx="4854600" cy="581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亚夫乃传言开壁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5"/>
          <p:cNvSpPr/>
          <p:nvPr/>
        </p:nvSpPr>
        <p:spPr>
          <a:xfrm>
            <a:off x="228600" y="2043000"/>
            <a:ext cx="4854600" cy="581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将军亚夫持兵揖曰： “介胄之士不拜，请以军礼见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374760" y="3859200"/>
            <a:ext cx="4408200" cy="581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属的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374760" y="4952880"/>
            <a:ext cx="4114800" cy="581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汉文帝和群臣的反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Box 2"/>
          <p:cNvSpPr/>
          <p:nvPr/>
        </p:nvSpPr>
        <p:spPr>
          <a:xfrm>
            <a:off x="-125280" y="2135160"/>
            <a:ext cx="8762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请结合全文，说说你对汉文帝的看法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文本框 1" descr=""/>
          <p:cNvPicPr/>
          <p:nvPr/>
        </p:nvPicPr>
        <p:blipFill>
          <a:blip r:embed="rId1"/>
          <a:stretch/>
        </p:blipFill>
        <p:spPr>
          <a:xfrm>
            <a:off x="3230640" y="579600"/>
            <a:ext cx="2925720" cy="1116000"/>
          </a:xfrm>
          <a:prstGeom prst="rect">
            <a:avLst/>
          </a:prstGeom>
          <a:ln w="0">
            <a:noFill/>
          </a:ln>
        </p:spPr>
      </p:pic>
      <p:sp>
        <p:nvSpPr>
          <p:cNvPr id="511" name="TextBox 3"/>
          <p:cNvSpPr/>
          <p:nvPr/>
        </p:nvSpPr>
        <p:spPr>
          <a:xfrm>
            <a:off x="112680" y="25560"/>
            <a:ext cx="3025800" cy="825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c00000"/>
                </a:solidFill>
                <a:latin typeface="楷体"/>
                <a:ea typeface="楷体"/>
              </a:rPr>
              <a:t>走近人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Box 2"/>
          <p:cNvSpPr/>
          <p:nvPr/>
        </p:nvSpPr>
        <p:spPr>
          <a:xfrm>
            <a:off x="527040" y="2038320"/>
            <a:ext cx="8396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主旨：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文章通过写汉文帝慰劳军队的故事，表现了周亚夫治军严明、忠于职守、刚正不阿、不卑不亢的品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3"/>
          <p:cNvSpPr/>
          <p:nvPr/>
        </p:nvSpPr>
        <p:spPr>
          <a:xfrm>
            <a:off x="58680" y="79200"/>
            <a:ext cx="2776680" cy="825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楷体"/>
                <a:ea typeface="楷体"/>
              </a:rPr>
              <a:t>主旨归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24T01:08:50Z</dcterms:created>
  <dc:creator>XKW</dc:creator>
  <dc:description/>
  <dc:language>en-US</dc:language>
  <cp:lastModifiedBy>Administrator</cp:lastModifiedBy>
  <dcterms:modified xsi:type="dcterms:W3CDTF">2019-05-15T02:26:11Z</dcterms:modified>
  <cp:revision>9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670</vt:lpwstr>
  </property>
  <property fmtid="{D5CDD505-2E9C-101B-9397-08002B2CF9AE}" pid="3" name="Version">
    <vt:r8>1</vt:r8>
  </property>
</Properties>
</file>