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6.jpeg" ContentType="image/jpeg"/>
  <Override PartName="/ppt/media/image18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DE4-048E-429C-8B7E-2FE7F41A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FD4-EFAC-41DD-BDB2-E9E9D27B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AD2-CCEC-483B-9153-A5F30D9A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CC6-9DD4-4723-A221-4AD99DE8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4C88-0D8B-4943-B605-87A973B1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BC31-6CD1-4174-BDC7-25DFE9D3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E9DE-01E6-4808-8764-87327E7F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9441-03F8-4D15-99E4-610A8B01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FF1F-3D0A-461E-B6AA-C3C19360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B821-6417-4D09-BB6B-75E1B9A8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EEEF-E338-4A31-92B1-7CF50DF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326-5358-4A46-ACAF-DFE50454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FF92-F0CC-42C1-9635-8BD22507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F5E4-66C8-4706-B824-FB0C0277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81F2-B2F2-4A95-8803-CBE15C6E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C5E1-72A3-4B49-AAAF-04736E42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AB78-C381-4DBB-A2B0-B412867A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F0B-A834-4ED7-B0BF-51FBFD5B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73E-7403-4C54-8E6B-6750D787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BBB-C6A2-45C5-8202-80B9759C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786-462D-4F78-844B-A0882797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90D-4625-48CF-810D-386CF9B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77A-9667-4E42-A634-F54AD0BC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070-2310-45DA-87C2-6459905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64FC-F89D-4902-8F01-79EA52978A2D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C6E6-0D59-4572-83FA-440C183211FF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image" Target="../media/image24.jpeg"/><Relationship Id="rId6" Type="http://schemas.openxmlformats.org/officeDocument/2006/relationships/image" Target="../media/image20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60360" y="134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语文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版 六年级 语文 下册 第六单元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 rot="507600">
            <a:off x="1763280" y="1916280"/>
            <a:ext cx="4753080" cy="23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6.</a:t>
            </a: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理想的风筝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65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081"/>
                </a:solidFill>
                <a:latin typeface="Times New Roman"/>
              </a:rPr>
              <a:t>文昌中心小学   张茂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84720" y="1557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imes New Roman"/>
                <a:ea typeface="楷体_GB2312"/>
              </a:rPr>
              <a:t>思考：文中讲了一些什么内容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40000"/>
                </a:solidFill>
                <a:latin typeface="Tahoma"/>
              </a:rPr>
              <a:t>将课文分为三个部分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第一部分（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1~3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）：由春天放风筝的情形联想到刘老师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第二部分（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4~9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回忆刘老师讲课和放风筝时的情景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第三部分（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10~12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）：写对刘老师的怀念与赞美之情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32000" y="1450080"/>
            <a:ext cx="7127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学习课文第一部分（</a:t>
            </a: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~3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自然段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思考：为什么每逢这时候，我就会不由自主地想起我的刘老师，想起他放上天空的风筝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32000" y="266796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课文第二自然段的景物描写不是闲笔。春天万物复苏，充满生机与活力的景象，和春天里的风筝勾起了作者对爱放风筝的刘老师的回忆 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ahoma"/>
              </a:rPr>
              <a:t>默读思考，初步感知主要内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默读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4——10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自然段，思考：课文回忆了刘老师的几件事情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笑谈腿疾、上课情景、关爱学生、放风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40000"/>
                </a:solidFill>
                <a:latin typeface="Tahoma"/>
              </a:rPr>
              <a:t>从这样几件事中我们可以看出刘老师是一个怎样的老师？课文是怎样表现这些特点的？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刘老师是笑着谈到自己残疾的身体，作者和在场的每一名同学听后，他们的情感发生了哪些变化？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笑谈“丢”腿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（第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自然段）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教室里升腾起一片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，是因为                      。 但笑过之后，每个学生的心头都泛起一股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感情，是因为                               。同时更增加了对刘老师的尊敬，又是因为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1268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40000"/>
                </a:solidFill>
                <a:uFillTx/>
                <a:latin typeface="Times New Roman"/>
              </a:rPr>
              <a:t>笑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177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刘老师的风趣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220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40000"/>
                </a:solidFill>
                <a:uFillTx/>
                <a:latin typeface="Times New Roman"/>
              </a:rPr>
              <a:t>酸涩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2708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充满着理解与同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刘老师的坚强乐观，与孩子亲密无间，令孩子们敬佩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这淡淡的同情与理解在学生心中渐渐地油然而生，你从哪个词感受到的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泛！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40000"/>
                </a:solidFill>
                <a:latin typeface="Tahoma"/>
              </a:rPr>
              <a:t>“泛”字用的准确，能感受到“慢慢产生”的复杂情感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在这简单的一句话中描写了学生心中不同情感的微妙变化，这就是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细节描写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0000"/>
                </a:solidFill>
                <a:latin typeface="Tahoma"/>
              </a:rPr>
              <a:t>笑谈“丢”腿</a:t>
            </a:r>
            <a:br>
              <a:rPr sz="40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（第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自然段）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565360"/>
            <a:ext cx="74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笑谈“丢”腿——刘老师是一位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乐观幽默</a:t>
            </a: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的老师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学习目标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、有感情地朗读课文，背诵自己喜欢的段落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、把握课文内容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了解作者回忆了刘老师的那几件事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体会刘老师是一个对工作、对生活有着强烈的爱与崇高的追求的人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；感悟作者的思想感情，体会描写“我”的心情、想法与表现刘老师的精神、品质之间的关系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、会认“哽、蜈、蚣、翩”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个字，会认写“筝、哽、翩”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个字，掌握多音字“翘”和“咽”以及“风筝、哽咽、翩翩起舞、忠厚、酸涩、沉醉、精妙”等词语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讲课时，刘老师“自豪、慷慨激昂、哽咽”，学生“激动得落泪、沉重地低下头”，从刘老师和同学们情感变化中体会到刘老师的什么品质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才华横溢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上课情景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上课情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0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上课时慷慨激昂——刘老师是一位课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讲得极好、爱国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的老师</a:t>
            </a:r>
            <a:r>
              <a:rPr b="0" lang="en-US" sz="3200" spc="-1" strike="noStrike">
                <a:solidFill>
                  <a:srgbClr val="04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提问时认真倾听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①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倘若同学回答得正确、深刻，他便静静地……微仰着头……细细的听…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②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倘若有的同学回答得不好，他就吃惊地瞪大眼睛，关切地……一边……一边……这时候，他比……紧张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语言、神态、动作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描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关爱学生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提问时认真倾听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（第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自然段）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提问时认真倾听——刘老师是一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热爱学生、与学生心心相印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的好老师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用心品读第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7——10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自然段，找出刘老师放风筝时的感人细节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课余放风筝</a:t>
            </a:r>
            <a:br>
              <a:rPr sz="40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7——10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自然段）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①“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他的腿自然不便于奔跑，但他却决不肯失去亲手把风筝送上蓝天的快乐。…… 他仰望白云，看那青黑的小燕在风中翱翔盘旋，仿佛他的心也一齐跃上了蓝天。…… 有一次，他故意撒手……他笑着……蹦跳着……脸上飘起得意和满意足的稚气。……感到了生命的力量。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通过对刘老师放风筝时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动作、神态、欢声笑语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，体现出刘老师对生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活的热爱与追求 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②“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这情景使我深深感动。一个年过五十身有残疾的老师，对生活有着那样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Tahoma"/>
              </a:rPr>
              <a:t>纯朴、强烈的爱与追求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，一个活泼的少年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Tahoma"/>
              </a:rPr>
              <a:t>又该怎么样呢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？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热爱生活   自信坚强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刘老师“身教”给学生的影响，使“我”在心灵里升起了理想的风筝——要像刘老师那样意志坚强、乐观向上、热爱生活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课余放风筝</a:t>
            </a:r>
            <a:br>
              <a:rPr sz="40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7——10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自然段）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课余放风筝——刘老师是一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热爱生活、意志坚强、有理想、有追求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的老师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089000" cy="129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1917720"/>
            <a:ext cx="885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舒展（伸展）  连翘花    喇叭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天穹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由自主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酸涩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慷慨激昂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屈辱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哽咽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倘若      亲切  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关切 （关心，冷淡）      蜈蚣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翩翩起舞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扶摇直上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气喘吁吁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稚气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 纯朴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总结升华，感悟品质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上课笑谈“丢”腿，这就是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刘老师；为祖国的历史而自豪，为祖国历史的屈辱而哽咽，这就是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刘老师；关心每一位学生的成长进步，这就是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刘老师；拄着拐杖放飞、追赶风筝，这就是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刘老师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35280" y="2276640"/>
            <a:ext cx="50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0000"/>
                </a:solidFill>
                <a:latin typeface="Times New Roman"/>
              </a:rPr>
              <a:t>题目为什么要加上“理想的”？理想的风筝什么样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29624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ahoma"/>
              </a:rPr>
              <a:t>理想的风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40000"/>
                </a:solidFill>
                <a:latin typeface="Tahoma"/>
                <a:ea typeface="方正楷体_GBK"/>
              </a:rPr>
              <a:t>文中刘老师放飞的风筝是他对生活无限热爱的标志，刘老师腿有残疾、行动不便，但他借自由翱翔的风筝来寄托自己要在广阔天地间大有作为的理想。题目中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方正楷体_GBK"/>
              </a:rPr>
              <a:t>理想的风筝是指刘老师对生活的乐观态度与不懈追求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404640"/>
            <a:ext cx="74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24088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545472"/>
                </a:solidFill>
                <a:latin typeface="Arial"/>
              </a:rPr>
              <a:t>著名作家苏叔阳，</a:t>
            </a:r>
            <a:r>
              <a:rPr b="1" lang="en-US" sz="4000" spc="-1" strike="noStrike">
                <a:solidFill>
                  <a:srgbClr val="545472"/>
                </a:solidFill>
                <a:latin typeface="Arial"/>
              </a:rPr>
              <a:t>1993</a:t>
            </a:r>
            <a:r>
              <a:rPr b="1" lang="zh-CN" sz="4000" spc="-1" strike="noStrike">
                <a:solidFill>
                  <a:srgbClr val="545472"/>
                </a:solidFill>
                <a:latin typeface="Arial"/>
              </a:rPr>
              <a:t>年患肾癌，</a:t>
            </a:r>
            <a:r>
              <a:rPr b="1" lang="en-US" sz="4000" spc="-1" strike="noStrike">
                <a:solidFill>
                  <a:srgbClr val="545472"/>
                </a:solidFill>
                <a:latin typeface="Arial"/>
              </a:rPr>
              <a:t>2001</a:t>
            </a:r>
            <a:r>
              <a:rPr b="1" lang="zh-CN" sz="4000" spc="-1" strike="noStrike">
                <a:solidFill>
                  <a:srgbClr val="545472"/>
                </a:solidFill>
                <a:latin typeface="Arial"/>
              </a:rPr>
              <a:t>年癌细胞转移到肺部，先后多次手术。如今，</a:t>
            </a:r>
            <a:r>
              <a:rPr b="1" lang="en-US" sz="4000" spc="-1" strike="noStrike">
                <a:solidFill>
                  <a:srgbClr val="545472"/>
                </a:solidFill>
                <a:latin typeface="Arial"/>
              </a:rPr>
              <a:t>68</a:t>
            </a:r>
            <a:r>
              <a:rPr b="1" lang="zh-CN" sz="4000" spc="-1" strike="noStrike">
                <a:solidFill>
                  <a:srgbClr val="545472"/>
                </a:solidFill>
                <a:latin typeface="Arial"/>
              </a:rPr>
              <a:t>岁仍笔耕不辍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400800" cy="4376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1066680" y="5257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仅剩下一个手指头能活动的科学巨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霍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7010280" cy="46832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33520" y="5410080"/>
            <a:ext cx="78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她是坐在轮椅上的作家、医生和硕士研究生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张海迪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632040" y="457200"/>
            <a:ext cx="4826160" cy="5791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7010280" y="5486400"/>
            <a:ext cx="1295640" cy="685800"/>
          </a:xfrm>
          <a:prstGeom prst="rect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8200" y="609480"/>
            <a:ext cx="1399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　　他听不见声音，但却是历史上最伟大的音乐 家之一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贝多芬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346640" cy="53341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4952880" y="22860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海伦 凯勒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她创造了一个奇迹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Tahoma"/>
              </a:rPr>
              <a:t>历史之父————司马迁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413080" y="2638440"/>
            <a:ext cx="34560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032520" y="0"/>
            <a:ext cx="3111480" cy="3733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990720" y="5486400"/>
            <a:ext cx="7162560" cy="1219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rcRect l="47948" t="0" r="0" b="0"/>
          <a:stretch/>
        </p:blipFill>
        <p:spPr>
          <a:xfrm>
            <a:off x="152280" y="2971800"/>
            <a:ext cx="2895840" cy="3886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5"/>
          <a:srcRect l="3605" t="0" r="13390" b="11764"/>
          <a:stretch/>
        </p:blipFill>
        <p:spPr>
          <a:xfrm>
            <a:off x="3276720" y="3276720"/>
            <a:ext cx="2454120" cy="32004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914400" y="5486400"/>
            <a:ext cx="7010280" cy="1371600"/>
          </a:xfrm>
          <a:prstGeom prst="rect">
            <a:avLst/>
          </a:prstGeom>
          <a:solidFill>
            <a:srgbClr val="ff99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3851280" y="0"/>
            <a:ext cx="22683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914400" y="3284640"/>
            <a:ext cx="8194680" cy="3497040"/>
            <a:chOff x="914400" y="3284640"/>
            <a:chExt cx="8194680" cy="3497040"/>
          </a:xfrm>
        </p:grpSpPr>
        <p:sp>
          <p:nvSpPr>
            <p:cNvPr id="235" name=""/>
            <p:cNvSpPr txBox="1"/>
            <p:nvPr/>
          </p:nvSpPr>
          <p:spPr>
            <a:xfrm>
              <a:off x="914400" y="5715000"/>
              <a:ext cx="6858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97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宋体"/>
                </a:rPr>
                <a:t>放飞我们的理想！</a:t>
              </a:r>
              <a:endPara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948720" y="3284640"/>
              <a:ext cx="2160360" cy="288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240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40464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连翘</a:t>
            </a:r>
            <a:r>
              <a:rPr b="0" lang="en-US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[qiáo]</a:t>
            </a:r>
            <a:r>
              <a:rPr b="0" lang="zh-CN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花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378936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翘首以待（形容殷切盼望，拭目以待） 翘楚（比喻杰出的人才或事物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翘尾巴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55180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哽咽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咽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狼吞虎咽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95640" y="141300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苏叔阳，当代作家，笔名舒扬、余平夫。河北省保定人。他创作的话剧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丹心谱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，获庆祝中华人民共和国成立三十周年献礼演出创作一等奖。近年来代表作有电影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夕照街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，长篇小说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故土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2749" t="1814" r="612" b="7469"/>
          <a:stretch/>
        </p:blipFill>
        <p:spPr>
          <a:xfrm>
            <a:off x="611280" y="1268280"/>
            <a:ext cx="324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71600" y="-1074960"/>
            <a:ext cx="850680" cy="82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Arial"/>
              </a:rPr>
              <a:t>山东省潍坊市“</a:t>
            </a:r>
            <a:r>
              <a:rPr b="1" lang="zh-CN" sz="4400" spc="-1" strike="noStrike">
                <a:solidFill>
                  <a:srgbClr val="040000"/>
                </a:solidFill>
                <a:latin typeface="Impact"/>
                <a:ea typeface="隶书"/>
              </a:rPr>
              <a:t>潍坊风筝</a:t>
            </a:r>
            <a:r>
              <a:rPr b="1" lang="zh-CN" sz="4400" spc="-1" strike="noStrike">
                <a:solidFill>
                  <a:srgbClr val="ff0000"/>
                </a:solidFill>
                <a:latin typeface="Impact"/>
                <a:ea typeface="黑体"/>
              </a:rPr>
              <a:t>”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75112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71628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江苏省南通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40000"/>
                </a:solidFill>
                <a:latin typeface="Arial"/>
              </a:rPr>
              <a:t>南通板鹞风筝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 ”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52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80360" cy="6923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743960" y="-52560"/>
            <a:ext cx="100332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北京“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  <a:ea typeface="隶书"/>
              </a:rPr>
              <a:t>哈市风筝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926480" y="465480"/>
            <a:ext cx="10033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天津“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  <a:ea typeface="隶书"/>
              </a:rPr>
              <a:t>风筝魏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1:31:59Z</dcterms:created>
  <dc:creator>wangliping</dc:creator>
  <dc:description/>
  <dc:language>en-US</dc:language>
  <cp:lastModifiedBy>USER</cp:lastModifiedBy>
  <dcterms:modified xsi:type="dcterms:W3CDTF">2013-05-21T01:44:46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