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16.png" ContentType="image/png"/>
  <Override PartName="/ppt/media/chimes.wav" ContentType="audio/x-wav"/>
  <Override PartName="/ppt/media/image5.png" ContentType="image/png"/>
  <Override PartName="/ppt/media/image10.png" ContentType="image/png"/>
  <Override PartName="/ppt/media/drumroll.wav" ContentType="audio/x-wav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547E-4277-4137-94E7-72CB89A348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9808-6B3C-49A3-83D7-3CD817C76B7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C5BB-CEDB-4FDF-A6CE-892362F5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D2C7-5C4F-4342-9F4D-C2DD59C6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B689-C477-47FA-8119-0D8528E1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37E9-758D-4FC2-A0C1-E12B7037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8C32-0C35-4A01-B40B-918B930F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7624-DB48-4FBA-8F1D-33465BB6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81D5-01C6-4B1C-90CB-07EEE188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E3D0-3DE6-4416-B9AC-11518AE5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037-F324-4D8F-921D-C7C1FDE8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93E8-4CC0-49DF-8524-E3E7DC3F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1421-B7B3-42C6-B4BD-64798E0D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CA65-A631-45AA-8FB1-8EE1DDA0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D14A-1E90-4F52-A72B-B09036FF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7383-6B94-4007-93E1-B2B41A88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A61D-66CB-4C20-BB61-568C8B87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2DB7-B08F-4E26-B271-430723A1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3285-F8ED-4D6A-BD53-664A45FD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B9A2-7F41-4C3A-8936-E0AB07E3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1B72-3F3F-4012-8080-039C965B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5CF4-0B56-4BB3-B5BC-87CBBA08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106D-3C65-4EA7-B405-9C2F7814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23BC-4622-4F8C-A65E-6EF1FB67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5992-2395-4492-B127-B3B7DD25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978C-8790-41B6-8A55-B5A3B14F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71BE-55B2-4870-B162-CD20CEF45C5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E4FC-848D-4059-8E66-DE1658206B8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audio" Target="../media/chimes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5"/>
          <p:cNvSpPr/>
          <p:nvPr/>
        </p:nvSpPr>
        <p:spPr>
          <a:xfrm>
            <a:off x="0" y="4149720"/>
            <a:ext cx="9144000" cy="165564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4130"/>
          <p:cNvSpPr/>
          <p:nvPr/>
        </p:nvSpPr>
        <p:spPr>
          <a:xfrm>
            <a:off x="1547640" y="4294080"/>
            <a:ext cx="60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诗经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二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7"/>
          <p:cNvSpPr/>
          <p:nvPr/>
        </p:nvSpPr>
        <p:spPr>
          <a:xfrm>
            <a:off x="1474920" y="5157720"/>
            <a:ext cx="6194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4130"/>
          <p:cNvSpPr/>
          <p:nvPr/>
        </p:nvSpPr>
        <p:spPr>
          <a:xfrm>
            <a:off x="3246480" y="5262480"/>
            <a:ext cx="26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R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八年级语文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17409" descr="图片16"/>
          <p:cNvPicPr/>
          <p:nvPr/>
        </p:nvPicPr>
        <p:blipFill>
          <a:blip r:embed="rId2"/>
          <a:stretch/>
        </p:blipFill>
        <p:spPr>
          <a:xfrm>
            <a:off x="7184880" y="2803680"/>
            <a:ext cx="1648080" cy="3116160"/>
          </a:xfrm>
          <a:prstGeom prst="rect">
            <a:avLst/>
          </a:prstGeom>
          <a:ln w="0">
            <a:noFill/>
          </a:ln>
        </p:spPr>
      </p:pic>
      <p:sp>
        <p:nvSpPr>
          <p:cNvPr id="214" name="矩形 17411"/>
          <p:cNvSpPr txBox="1"/>
          <p:nvPr/>
        </p:nvSpPr>
        <p:spPr>
          <a:xfrm>
            <a:off x="2008080" y="378000"/>
            <a:ext cx="4292640" cy="54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理一理“相思之路”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15" name="文本框 17412"/>
          <p:cNvSpPr/>
          <p:nvPr/>
        </p:nvSpPr>
        <p:spPr>
          <a:xfrm>
            <a:off x="2631960" y="1109520"/>
            <a:ext cx="2952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所听：关关雎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所见：在河之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所思：窈窕淑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所愿：君子好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7413"/>
          <p:cNvSpPr/>
          <p:nvPr/>
        </p:nvSpPr>
        <p:spPr>
          <a:xfrm>
            <a:off x="468360" y="2933640"/>
            <a:ext cx="685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7414"/>
          <p:cNvSpPr/>
          <p:nvPr/>
        </p:nvSpPr>
        <p:spPr>
          <a:xfrm>
            <a:off x="4229280" y="571824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7415"/>
          <p:cNvSpPr/>
          <p:nvPr/>
        </p:nvSpPr>
        <p:spPr>
          <a:xfrm>
            <a:off x="7323120" y="44640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左大括号 17416"/>
          <p:cNvSpPr/>
          <p:nvPr/>
        </p:nvSpPr>
        <p:spPr>
          <a:xfrm>
            <a:off x="1208160" y="1638360"/>
            <a:ext cx="228600" cy="4222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2840 h 4222800"/>
              <a:gd name="textAreaBottom" fmla="*/ 4179960 h 422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3"/>
                  <a:pt x="10800" y="705"/>
                </a:cubicBezTo>
                <a:lnTo>
                  <a:pt x="10800" y="10095"/>
                </a:lnTo>
                <a:cubicBezTo>
                  <a:pt x="10800" y="10448"/>
                  <a:pt x="5400" y="10800"/>
                  <a:pt x="0" y="10800"/>
                </a:cubicBezTo>
                <a:cubicBezTo>
                  <a:pt x="5400" y="10800"/>
                  <a:pt x="10800" y="11153"/>
                  <a:pt x="10800" y="11505"/>
                </a:cubicBezTo>
                <a:lnTo>
                  <a:pt x="10800" y="20895"/>
                </a:lnTo>
                <a:cubicBezTo>
                  <a:pt x="10800" y="2124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7417"/>
          <p:cNvSpPr/>
          <p:nvPr/>
        </p:nvSpPr>
        <p:spPr>
          <a:xfrm>
            <a:off x="1401840" y="1733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爱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下箭头 17418"/>
          <p:cNvSpPr/>
          <p:nvPr/>
        </p:nvSpPr>
        <p:spPr>
          <a:xfrm>
            <a:off x="1855800" y="2367000"/>
            <a:ext cx="152280" cy="685800"/>
          </a:xfrm>
          <a:prstGeom prst="downArrow">
            <a:avLst>
              <a:gd name="adj1" fmla="val 50000"/>
              <a:gd name="adj2" fmla="val 22517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7419"/>
          <p:cNvSpPr/>
          <p:nvPr/>
        </p:nvSpPr>
        <p:spPr>
          <a:xfrm>
            <a:off x="1401840" y="35067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下箭头 17420"/>
          <p:cNvSpPr/>
          <p:nvPr/>
        </p:nvSpPr>
        <p:spPr>
          <a:xfrm>
            <a:off x="1874880" y="4259160"/>
            <a:ext cx="152280" cy="685800"/>
          </a:xfrm>
          <a:prstGeom prst="downArrow">
            <a:avLst>
              <a:gd name="adj1" fmla="val 50000"/>
              <a:gd name="adj2" fmla="val 22517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7421"/>
          <p:cNvSpPr/>
          <p:nvPr/>
        </p:nvSpPr>
        <p:spPr>
          <a:xfrm>
            <a:off x="1401840" y="50799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梦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左大括号 17422"/>
          <p:cNvSpPr/>
          <p:nvPr/>
        </p:nvSpPr>
        <p:spPr>
          <a:xfrm>
            <a:off x="2392200" y="1190520"/>
            <a:ext cx="228600" cy="1611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4200 h 1611360"/>
              <a:gd name="textAreaBottom" fmla="*/ 1577160 h 161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4"/>
                  <a:pt x="10800" y="1467"/>
                </a:cubicBezTo>
                <a:lnTo>
                  <a:pt x="10800" y="9333"/>
                </a:lnTo>
                <a:cubicBezTo>
                  <a:pt x="10800" y="10067"/>
                  <a:pt x="5400" y="10800"/>
                  <a:pt x="0" y="10800"/>
                </a:cubicBezTo>
                <a:cubicBezTo>
                  <a:pt x="5400" y="10800"/>
                  <a:pt x="10800" y="11534"/>
                  <a:pt x="10800" y="12267"/>
                </a:cubicBezTo>
                <a:lnTo>
                  <a:pt x="10800" y="20133"/>
                </a:lnTo>
                <a:cubicBezTo>
                  <a:pt x="10800" y="2086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左大括号 17423"/>
          <p:cNvSpPr/>
          <p:nvPr/>
        </p:nvSpPr>
        <p:spPr>
          <a:xfrm>
            <a:off x="2405160" y="3301920"/>
            <a:ext cx="212760" cy="952560"/>
          </a:xfrm>
          <a:custGeom>
            <a:avLst/>
            <a:gdLst>
              <a:gd name="textAreaLeft" fmla="*/ 136080 w 212760"/>
              <a:gd name="textAreaRight" fmla="*/ 213120 w 212760"/>
              <a:gd name="textAreaTop" fmla="*/ 24480 h 952560"/>
              <a:gd name="textAreaBottom" fmla="*/ 928080 h 95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6"/>
                  <a:pt x="10800" y="1792"/>
                </a:cubicBezTo>
                <a:lnTo>
                  <a:pt x="10800" y="9008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6"/>
                  <a:pt x="10800" y="12592"/>
                </a:cubicBezTo>
                <a:lnTo>
                  <a:pt x="10800" y="19808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7424"/>
          <p:cNvSpPr/>
          <p:nvPr/>
        </p:nvSpPr>
        <p:spPr>
          <a:xfrm>
            <a:off x="2617920" y="3068640"/>
            <a:ext cx="3581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寤寐求之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追慕之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辗转反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相思之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左大括号 17425"/>
          <p:cNvSpPr/>
          <p:nvPr/>
        </p:nvSpPr>
        <p:spPr>
          <a:xfrm>
            <a:off x="2403360" y="4886280"/>
            <a:ext cx="228600" cy="94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440 h 949320"/>
              <a:gd name="textAreaBottom" fmla="*/ 929880 h 94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16"/>
                  <a:pt x="10800" y="1431"/>
                </a:cubicBezTo>
                <a:lnTo>
                  <a:pt x="10800" y="9369"/>
                </a:lnTo>
                <a:cubicBezTo>
                  <a:pt x="10800" y="10085"/>
                  <a:pt x="5400" y="10800"/>
                  <a:pt x="0" y="10800"/>
                </a:cubicBezTo>
                <a:cubicBezTo>
                  <a:pt x="5400" y="10800"/>
                  <a:pt x="10800" y="11516"/>
                  <a:pt x="10800" y="12231"/>
                </a:cubicBezTo>
                <a:lnTo>
                  <a:pt x="10800" y="20169"/>
                </a:lnTo>
                <a:cubicBezTo>
                  <a:pt x="10800" y="2088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7426"/>
          <p:cNvSpPr/>
          <p:nvPr/>
        </p:nvSpPr>
        <p:spPr>
          <a:xfrm>
            <a:off x="2649600" y="4697280"/>
            <a:ext cx="35402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琴瑟友之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亲密相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钟鼓乐之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欢快热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右大括号 17427"/>
          <p:cNvSpPr/>
          <p:nvPr/>
        </p:nvSpPr>
        <p:spPr>
          <a:xfrm>
            <a:off x="6300720" y="1208160"/>
            <a:ext cx="304920" cy="4579920"/>
          </a:xfrm>
          <a:custGeom>
            <a:avLst/>
            <a:gdLst>
              <a:gd name="textAreaLeft" fmla="*/ 0 w 304920"/>
              <a:gd name="textAreaRight" fmla="*/ 110160 w 304920"/>
              <a:gd name="textAreaTop" fmla="*/ 37440 h 4579920"/>
              <a:gd name="textAreaBottom" fmla="*/ 4542480 h 457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4"/>
                  <a:pt x="10800" y="568"/>
                </a:cubicBezTo>
                <a:lnTo>
                  <a:pt x="10800" y="10232"/>
                </a:lnTo>
                <a:cubicBezTo>
                  <a:pt x="10800" y="10516"/>
                  <a:pt x="16200" y="10800"/>
                  <a:pt x="21600" y="10800"/>
                </a:cubicBezTo>
                <a:cubicBezTo>
                  <a:pt x="16200" y="10800"/>
                  <a:pt x="10800" y="11084"/>
                  <a:pt x="10800" y="11368"/>
                </a:cubicBezTo>
                <a:lnTo>
                  <a:pt x="10800" y="21032"/>
                </a:lnTo>
                <a:cubicBezTo>
                  <a:pt x="10800" y="2131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232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主题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7"/>
          <p:cNvSpPr txBox="1"/>
          <p:nvPr/>
        </p:nvSpPr>
        <p:spPr>
          <a:xfrm>
            <a:off x="2189160" y="1278000"/>
            <a:ext cx="4767120" cy="84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诗人思想感情变化的过程</a:t>
            </a:r>
            <a:endParaRPr b="1" i="1" lang="en-US" sz="1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35" name="矩形 8"/>
          <p:cNvSpPr txBox="1"/>
          <p:nvPr/>
        </p:nvSpPr>
        <p:spPr>
          <a:xfrm>
            <a:off x="520560" y="2529000"/>
            <a:ext cx="2038320" cy="72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渴望与追求</a:t>
            </a:r>
            <a:endParaRPr b="1" lang="en-US" sz="1800" spc="1" strike="noStrike">
              <a:ln cap="sq"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6" name="矩形 9"/>
          <p:cNvSpPr txBox="1"/>
          <p:nvPr/>
        </p:nvSpPr>
        <p:spPr>
          <a:xfrm>
            <a:off x="3035160" y="4797360"/>
            <a:ext cx="22860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忧思与烦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7" name="矩形 10"/>
          <p:cNvSpPr txBox="1"/>
          <p:nvPr/>
        </p:nvSpPr>
        <p:spPr>
          <a:xfrm>
            <a:off x="6515280" y="2227320"/>
            <a:ext cx="210960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欢聚和成亲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8" name="直接连接符 11"/>
          <p:cNvSpPr/>
          <p:nvPr/>
        </p:nvSpPr>
        <p:spPr>
          <a:xfrm flipV="1">
            <a:off x="5510160" y="3088800"/>
            <a:ext cx="1629000" cy="2103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12"/>
          <p:cNvSpPr/>
          <p:nvPr/>
        </p:nvSpPr>
        <p:spPr>
          <a:xfrm>
            <a:off x="1395360" y="3430440"/>
            <a:ext cx="144792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3"/>
          <p:cNvSpPr txBox="1"/>
          <p:nvPr/>
        </p:nvSpPr>
        <p:spPr>
          <a:xfrm>
            <a:off x="2395440" y="3697200"/>
            <a:ext cx="106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受挫</a:t>
            </a:r>
            <a:endParaRPr b="0" lang="en-US" sz="2800" spc="-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41" name="矩形 14"/>
          <p:cNvSpPr txBox="1"/>
          <p:nvPr/>
        </p:nvSpPr>
        <p:spPr>
          <a:xfrm>
            <a:off x="6375240" y="4230720"/>
            <a:ext cx="129564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幻想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15361"/>
          <p:cNvSpPr/>
          <p:nvPr/>
        </p:nvSpPr>
        <p:spPr>
          <a:xfrm>
            <a:off x="250920" y="1484280"/>
            <a:ext cx="862488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首情诗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在语言运用上：反复咏唱，朴素优美、韵律和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在追求的方式上：弹琴鼓瑟，敲锣打鼓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在追求的对象上：是劳动中的女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4"/>
          <p:cNvSpPr txBox="1"/>
          <p:nvPr/>
        </p:nvSpPr>
        <p:spPr>
          <a:xfrm>
            <a:off x="3259080" y="4797360"/>
            <a:ext cx="2625840" cy="124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古朴美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44" name="Picture 7" descr="未标题-1"/>
          <p:cNvPicPr/>
          <p:nvPr/>
        </p:nvPicPr>
        <p:blipFill>
          <a:blip r:embed="rId2"/>
          <a:stretch/>
        </p:blipFill>
        <p:spPr>
          <a:xfrm>
            <a:off x="128520" y="404640"/>
            <a:ext cx="2319480" cy="700200"/>
          </a:xfrm>
          <a:prstGeom prst="rect">
            <a:avLst/>
          </a:prstGeom>
          <a:ln w="0">
            <a:noFill/>
          </a:ln>
        </p:spPr>
      </p:pic>
      <p:sp>
        <p:nvSpPr>
          <p:cNvPr id="245" name="文本框 2"/>
          <p:cNvSpPr/>
          <p:nvPr/>
        </p:nvSpPr>
        <p:spPr>
          <a:xfrm>
            <a:off x="665280" y="48096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黑体"/>
                <a:ea typeface="黑体"/>
              </a:rPr>
              <a:t>写作特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250920" y="549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托物起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4"/>
          <p:cNvSpPr/>
          <p:nvPr/>
        </p:nvSpPr>
        <p:spPr>
          <a:xfrm>
            <a:off x="250920" y="1339920"/>
            <a:ext cx="8632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兴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对于诗歌中渲染气氛、创造意境起着极大的作用。开头以雎鸠和鸣的情景起兴，是为了渲染一种情意绵绵、痴心相恋的情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鸟儿的呼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关关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从听觉上触动了诗人的情怀；随声望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在河之洲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又从视觉上引起诗人的遐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那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窈窕淑女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真是自己理想的伴侣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文又多次以所爱的人劳动时的优美身姿起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1"/>
          <p:cNvSpPr/>
          <p:nvPr/>
        </p:nvSpPr>
        <p:spPr>
          <a:xfrm>
            <a:off x="250920" y="674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韵律和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3"/>
          <p:cNvSpPr/>
          <p:nvPr/>
        </p:nvSpPr>
        <p:spPr>
          <a:xfrm>
            <a:off x="1989000" y="1557360"/>
            <a:ext cx="5166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运用重言（关关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运用双声（参差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运用叠韵（窈窕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运用重章复唱的手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未标题-1"/>
          <p:cNvPicPr/>
          <p:nvPr/>
        </p:nvPicPr>
        <p:blipFill>
          <a:blip r:embed="rId2"/>
          <a:stretch/>
        </p:blipFill>
        <p:spPr>
          <a:xfrm>
            <a:off x="128520" y="404640"/>
            <a:ext cx="2319480" cy="70020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2"/>
          <p:cNvSpPr/>
          <p:nvPr/>
        </p:nvSpPr>
        <p:spPr>
          <a:xfrm>
            <a:off x="665280" y="48096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黑体"/>
                <a:ea typeface="黑体"/>
              </a:rPr>
              <a:t>小  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"/>
          <p:cNvSpPr/>
          <p:nvPr/>
        </p:nvSpPr>
        <p:spPr>
          <a:xfrm>
            <a:off x="665280" y="1749600"/>
            <a:ext cx="76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这是一首青年男子的恋歌，描绘他对一位姑娘一往情深的追求和对美满婚姻的渴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762120" y="4762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254" name="张卓 - 蒹葭.mp3" descr=""/>
          <p:cNvPicPr/>
          <p:nvPr/>
        </p:nvPicPr>
        <p:blipFill>
          <a:blip r:embed="rId3"/>
          <a:stretch/>
        </p:blipFill>
        <p:spPr>
          <a:xfrm>
            <a:off x="7878600" y="5678640"/>
            <a:ext cx="56844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8" dur="272248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256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矩形 4"/>
          <p:cNvSpPr/>
          <p:nvPr/>
        </p:nvSpPr>
        <p:spPr>
          <a:xfrm>
            <a:off x="250920" y="1268280"/>
            <a:ext cx="8632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诗歌写的是哪个季节的什么时间的内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诗中都写了哪些景物，各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"/>
          <p:cNvSpPr/>
          <p:nvPr/>
        </p:nvSpPr>
        <p:spPr>
          <a:xfrm>
            <a:off x="549360" y="2293920"/>
            <a:ext cx="75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秋季（深秋）的清晨（拂晓），从白露为霜，白露未晞，白露未已可以看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文本框 2"/>
          <p:cNvSpPr/>
          <p:nvPr/>
        </p:nvSpPr>
        <p:spPr>
          <a:xfrm>
            <a:off x="504720" y="785880"/>
            <a:ext cx="1657440" cy="5205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艺术形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3"/>
          <p:cNvSpPr/>
          <p:nvPr/>
        </p:nvSpPr>
        <p:spPr>
          <a:xfrm>
            <a:off x="3486240" y="785880"/>
            <a:ext cx="1314360" cy="5205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4"/>
          <p:cNvSpPr/>
          <p:nvPr/>
        </p:nvSpPr>
        <p:spPr>
          <a:xfrm>
            <a:off x="398520" y="1743120"/>
            <a:ext cx="2624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芦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白露秋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河畔道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秋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5"/>
          <p:cNvSpPr/>
          <p:nvPr/>
        </p:nvSpPr>
        <p:spPr>
          <a:xfrm>
            <a:off x="2800440" y="1500120"/>
            <a:ext cx="3676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丛生茂密，秋来变黄，霜袭后发白，秋风摇曳中更添凄凉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6"/>
          <p:cNvSpPr/>
          <p:nvPr/>
        </p:nvSpPr>
        <p:spPr>
          <a:xfrm>
            <a:off x="2800440" y="2652840"/>
            <a:ext cx="34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洁白、晶莹、凉凉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7"/>
          <p:cNvSpPr/>
          <p:nvPr/>
        </p:nvSpPr>
        <p:spPr>
          <a:xfrm>
            <a:off x="2800440" y="34624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崎岖难行，险阻重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8"/>
          <p:cNvSpPr/>
          <p:nvPr/>
        </p:nvSpPr>
        <p:spPr>
          <a:xfrm>
            <a:off x="2840040" y="4309920"/>
            <a:ext cx="35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柔和、沉静、澄明、清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9"/>
          <p:cNvSpPr/>
          <p:nvPr/>
        </p:nvSpPr>
        <p:spPr>
          <a:xfrm>
            <a:off x="6553080" y="885960"/>
            <a:ext cx="54612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清冷、孤寂、凄迷、迷离的氛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图片 11" descr=""/>
          <p:cNvPicPr/>
          <p:nvPr/>
        </p:nvPicPr>
        <p:blipFill>
          <a:blip r:embed="rId2"/>
          <a:stretch/>
        </p:blipFill>
        <p:spPr>
          <a:xfrm>
            <a:off x="285840" y="5025960"/>
            <a:ext cx="1695240" cy="133992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12" descr=""/>
          <p:cNvPicPr/>
          <p:nvPr/>
        </p:nvPicPr>
        <p:blipFill>
          <a:blip r:embed="rId3"/>
          <a:stretch/>
        </p:blipFill>
        <p:spPr>
          <a:xfrm>
            <a:off x="6881760" y="5000760"/>
            <a:ext cx="2062080" cy="13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271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细节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矩形 5"/>
          <p:cNvSpPr/>
          <p:nvPr/>
        </p:nvSpPr>
        <p:spPr>
          <a:xfrm>
            <a:off x="1796760" y="1395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首诗是怎样表现诗人执着的爱情追求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7"/>
          <p:cNvSpPr/>
          <p:nvPr/>
        </p:nvSpPr>
        <p:spPr>
          <a:xfrm>
            <a:off x="250920" y="2125800"/>
            <a:ext cx="8632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内容来看，每章前两句写景，点明节令，烘托气氛；后六句写寻求“伊人”的情况。全诗回旋三叠，反复歌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诗人热烈地追求其所爱慕的“伊人”，虽然在大河上下反复寻求，可望而不可即，仍然神魂颠倒执着专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文本框 1"/>
          <p:cNvSpPr/>
          <p:nvPr/>
        </p:nvSpPr>
        <p:spPr>
          <a:xfrm>
            <a:off x="250920" y="1530360"/>
            <a:ext cx="86328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了解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诗经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在我国文学史上的地位。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反复诵读诗歌，体味它朴素优美、韵律和谐的语言特点。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感受古诗优美的节奏和艺术魅力，正确认识古代劳动人民对美好爱情的追求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9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165" name="Picture 18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Picture 7" descr="http://p0.so.qhmsg.com/bdr/_240_/t01d2578332921ecbaf.jpg"/>
          <p:cNvPicPr/>
          <p:nvPr/>
        </p:nvPicPr>
        <p:blipFill>
          <a:blip r:embed="rId3"/>
          <a:srcRect l="22603" t="8468" r="0" b="0"/>
          <a:stretch/>
        </p:blipFill>
        <p:spPr>
          <a:xfrm>
            <a:off x="7070760" y="4905360"/>
            <a:ext cx="167148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1"/>
          <p:cNvSpPr/>
          <p:nvPr/>
        </p:nvSpPr>
        <p:spPr>
          <a:xfrm>
            <a:off x="250920" y="148104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首诗各章的基本内容是相同的，仅仅是换了几个词语，你认为这样写是否重复？为什么？请简要说说你的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http://img2.3png.com/baf659bcac9bf11ab0ae3279b9a7201a4c55.png"/>
          <p:cNvPicPr/>
          <p:nvPr/>
        </p:nvPicPr>
        <p:blipFill>
          <a:blip r:embed="rId2"/>
          <a:srcRect l="2878" t="0" r="5675" b="10417"/>
          <a:stretch/>
        </p:blipFill>
        <p:spPr>
          <a:xfrm>
            <a:off x="281160" y="4508640"/>
            <a:ext cx="2473200" cy="17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矩形 1"/>
          <p:cNvSpPr/>
          <p:nvPr/>
        </p:nvSpPr>
        <p:spPr>
          <a:xfrm>
            <a:off x="260280" y="1268280"/>
            <a:ext cx="86328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注意景与情的结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全诗情调凄婉动人，意境朦胧深邃。苍苍的芦苇，露结的白霜，茫茫的秋水，曲折的河流，水中的小洲宛然在目和见之无踪的伊人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这一切都与诗人的彷徨失望和执着追求融为一体。（注意起兴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279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小   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矩形 4"/>
          <p:cNvSpPr/>
          <p:nvPr/>
        </p:nvSpPr>
        <p:spPr>
          <a:xfrm>
            <a:off x="250920" y="1268280"/>
            <a:ext cx="8632800" cy="26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全诗三章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用岸边的秋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起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抒发了主人公与日夜相思的心上人相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艰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用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反复咏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，更深入一层把主人公企求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失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情绪推向高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反复咏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表现了依然是可望而不可会晤的深沉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相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文本框 11265"/>
          <p:cNvSpPr/>
          <p:nvPr/>
        </p:nvSpPr>
        <p:spPr>
          <a:xfrm>
            <a:off x="2717640" y="1832040"/>
            <a:ext cx="37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起兴手法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重章叠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284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艺术特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6" name="Picture 4" descr="http://img2.3png.com/baf659bcac9bf11ab0ae3279b9a7201a4c55.png"/>
          <p:cNvPicPr/>
          <p:nvPr/>
        </p:nvPicPr>
        <p:blipFill>
          <a:blip r:embed="rId3"/>
          <a:srcRect l="2878" t="0" r="5675" b="10417"/>
          <a:stretch/>
        </p:blipFill>
        <p:spPr>
          <a:xfrm>
            <a:off x="281160" y="4508640"/>
            <a:ext cx="247320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文本框 17417"/>
          <p:cNvSpPr/>
          <p:nvPr/>
        </p:nvSpPr>
        <p:spPr>
          <a:xfrm>
            <a:off x="981000" y="201312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音韵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直接箭头连接符 3"/>
          <p:cNvCxnSpPr/>
          <p:nvPr/>
        </p:nvCxnSpPr>
        <p:spPr>
          <a:xfrm flipV="1">
            <a:off x="2371320" y="1631160"/>
            <a:ext cx="1499400" cy="55332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sp>
        <p:nvSpPr>
          <p:cNvPr id="289" name="文本框 17417"/>
          <p:cNvSpPr/>
          <p:nvPr/>
        </p:nvSpPr>
        <p:spPr>
          <a:xfrm>
            <a:off x="3870360" y="1268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字句：二二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17417"/>
          <p:cNvSpPr/>
          <p:nvPr/>
        </p:nvSpPr>
        <p:spPr>
          <a:xfrm>
            <a:off x="3870360" y="1760400"/>
            <a:ext cx="209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押韵：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ng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i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直接箭头连接符 9"/>
          <p:cNvCxnSpPr>
            <a:endCxn id="290" idx="1"/>
          </p:cNvCxnSpPr>
          <p:nvPr/>
        </p:nvCxnSpPr>
        <p:spPr>
          <a:xfrm flipV="1">
            <a:off x="2371320" y="2359800"/>
            <a:ext cx="1499400" cy="4860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sp>
        <p:nvSpPr>
          <p:cNvPr id="292" name="文本框 17417"/>
          <p:cNvSpPr/>
          <p:nvPr/>
        </p:nvSpPr>
        <p:spPr>
          <a:xfrm>
            <a:off x="3870360" y="31989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叠词：苍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萋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7417"/>
          <p:cNvSpPr/>
          <p:nvPr/>
        </p:nvSpPr>
        <p:spPr>
          <a:xfrm>
            <a:off x="3870360" y="43988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重章：反复咏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直接箭头连接符 15"/>
          <p:cNvCxnSpPr>
            <a:endCxn id="290" idx="1"/>
          </p:cNvCxnSpPr>
          <p:nvPr/>
        </p:nvCxnSpPr>
        <p:spPr>
          <a:xfrm>
            <a:off x="6093000" y="1527120"/>
            <a:ext cx="1008720" cy="65808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295" name="直接箭头连接符 18"/>
          <p:cNvCxnSpPr>
            <a:endCxn id="290" idx="1"/>
          </p:cNvCxnSpPr>
          <p:nvPr/>
        </p:nvCxnSpPr>
        <p:spPr>
          <a:xfrm flipV="1">
            <a:off x="4890960" y="2407680"/>
            <a:ext cx="2139120" cy="10836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sp>
        <p:nvSpPr>
          <p:cNvPr id="296" name="文本框 17417"/>
          <p:cNvSpPr/>
          <p:nvPr/>
        </p:nvSpPr>
        <p:spPr>
          <a:xfrm>
            <a:off x="7174080" y="2106720"/>
            <a:ext cx="99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直接箭头连接符 22"/>
          <p:cNvCxnSpPr>
            <a:endCxn id="290" idx="1"/>
          </p:cNvCxnSpPr>
          <p:nvPr/>
        </p:nvCxnSpPr>
        <p:spPr>
          <a:xfrm flipV="1">
            <a:off x="5300640" y="3758760"/>
            <a:ext cx="1729440" cy="4032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298" name="直接箭头连接符 25"/>
          <p:cNvCxnSpPr>
            <a:endCxn id="290" idx="1"/>
          </p:cNvCxnSpPr>
          <p:nvPr/>
        </p:nvCxnSpPr>
        <p:spPr>
          <a:xfrm flipV="1">
            <a:off x="6114600" y="4223520"/>
            <a:ext cx="986760" cy="40572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sp>
        <p:nvSpPr>
          <p:cNvPr id="299" name="文本框 17417"/>
          <p:cNvSpPr/>
          <p:nvPr/>
        </p:nvSpPr>
        <p:spPr>
          <a:xfrm>
            <a:off x="7174080" y="3446640"/>
            <a:ext cx="99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唱三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7417"/>
          <p:cNvSpPr/>
          <p:nvPr/>
        </p:nvSpPr>
        <p:spPr>
          <a:xfrm>
            <a:off x="395280" y="4861080"/>
            <a:ext cx="70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7933c"/>
                </a:solidFill>
                <a:latin typeface="黑体"/>
                <a:ea typeface="黑体"/>
              </a:rPr>
              <a:t>蒹 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直接箭头连接符 29"/>
          <p:cNvCxnSpPr>
            <a:endCxn id="292" idx="1"/>
          </p:cNvCxnSpPr>
          <p:nvPr/>
        </p:nvCxnSpPr>
        <p:spPr>
          <a:xfrm>
            <a:off x="2349000" y="2566800"/>
            <a:ext cx="1521720" cy="123192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302" name="直接箭头连接符 31"/>
          <p:cNvCxnSpPr>
            <a:endCxn id="293" idx="1"/>
          </p:cNvCxnSpPr>
          <p:nvPr/>
        </p:nvCxnSpPr>
        <p:spPr>
          <a:xfrm>
            <a:off x="2349000" y="2784600"/>
            <a:ext cx="1521720" cy="184536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pic>
        <p:nvPicPr>
          <p:cNvPr id="303" name="Picture 4" descr="http://img2.3png.com/baf659bcac9bf11ab0ae3279b9a7201a4c55.png"/>
          <p:cNvPicPr/>
          <p:nvPr/>
        </p:nvPicPr>
        <p:blipFill>
          <a:blip r:embed="rId2"/>
          <a:srcRect l="2878" t="0" r="5675" b="10417"/>
          <a:stretch/>
        </p:blipFill>
        <p:spPr>
          <a:xfrm>
            <a:off x="1082520" y="4827600"/>
            <a:ext cx="201312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17417"/>
          <p:cNvSpPr/>
          <p:nvPr/>
        </p:nvSpPr>
        <p:spPr>
          <a:xfrm>
            <a:off x="4032360" y="609480"/>
            <a:ext cx="115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诗 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直接箭头连接符 3"/>
          <p:cNvCxnSpPr/>
          <p:nvPr/>
        </p:nvCxnSpPr>
        <p:spPr>
          <a:xfrm flipH="1">
            <a:off x="3526920" y="1253880"/>
            <a:ext cx="518400" cy="46260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sp>
        <p:nvSpPr>
          <p:cNvPr id="306" name="文本框 17417"/>
          <p:cNvSpPr/>
          <p:nvPr/>
        </p:nvSpPr>
        <p:spPr>
          <a:xfrm>
            <a:off x="3166920" y="18334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直接箭头连接符 9"/>
          <p:cNvCxnSpPr/>
          <p:nvPr/>
        </p:nvCxnSpPr>
        <p:spPr>
          <a:xfrm flipH="1">
            <a:off x="4607640" y="1254240"/>
            <a:ext cx="11880" cy="65160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308" name="直接箭头连接符 11"/>
          <p:cNvCxnSpPr/>
          <p:nvPr/>
        </p:nvCxnSpPr>
        <p:spPr>
          <a:xfrm>
            <a:off x="5051520" y="1261800"/>
            <a:ext cx="421200" cy="57204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sp>
        <p:nvSpPr>
          <p:cNvPr id="309" name="文本框 17417"/>
          <p:cNvSpPr/>
          <p:nvPr/>
        </p:nvSpPr>
        <p:spPr>
          <a:xfrm>
            <a:off x="4361040" y="19051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17417"/>
          <p:cNvSpPr/>
          <p:nvPr/>
        </p:nvSpPr>
        <p:spPr>
          <a:xfrm>
            <a:off x="5472000" y="18334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17417"/>
          <p:cNvSpPr/>
          <p:nvPr/>
        </p:nvSpPr>
        <p:spPr>
          <a:xfrm>
            <a:off x="2924280" y="23907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白露为霜、未晞、未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直接箭头连接符 16"/>
          <p:cNvCxnSpPr/>
          <p:nvPr/>
        </p:nvCxnSpPr>
        <p:spPr>
          <a:xfrm flipH="1">
            <a:off x="4618800" y="2873520"/>
            <a:ext cx="11880" cy="65160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sp>
        <p:nvSpPr>
          <p:cNvPr id="313" name="文本框 17417"/>
          <p:cNvSpPr/>
          <p:nvPr/>
        </p:nvSpPr>
        <p:spPr>
          <a:xfrm>
            <a:off x="3095640" y="36338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痴痴守望、不畏险阻、可望而不可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直接箭头连接符 18"/>
          <p:cNvCxnSpPr/>
          <p:nvPr/>
        </p:nvCxnSpPr>
        <p:spPr>
          <a:xfrm flipH="1">
            <a:off x="4642560" y="4464000"/>
            <a:ext cx="11880" cy="65160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sp>
        <p:nvSpPr>
          <p:cNvPr id="315" name="文本框 17417"/>
          <p:cNvSpPr/>
          <p:nvPr/>
        </p:nvSpPr>
        <p:spPr>
          <a:xfrm>
            <a:off x="3321000" y="5218200"/>
            <a:ext cx="26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友情、爱情、理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7417"/>
          <p:cNvSpPr/>
          <p:nvPr/>
        </p:nvSpPr>
        <p:spPr>
          <a:xfrm>
            <a:off x="395280" y="4861080"/>
            <a:ext cx="70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7933c"/>
                </a:solidFill>
                <a:latin typeface="黑体"/>
                <a:ea typeface="黑体"/>
              </a:rPr>
              <a:t>蒹 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http://img2.3png.com/baf659bcac9bf11ab0ae3279b9a7201a4c55.png"/>
          <p:cNvPicPr/>
          <p:nvPr/>
        </p:nvPicPr>
        <p:blipFill>
          <a:blip r:embed="rId2"/>
          <a:srcRect l="2878" t="0" r="5675" b="10417"/>
          <a:stretch/>
        </p:blipFill>
        <p:spPr>
          <a:xfrm>
            <a:off x="1082520" y="4827600"/>
            <a:ext cx="201312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2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8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矩形 15"/>
          <p:cNvSpPr/>
          <p:nvPr/>
        </p:nvSpPr>
        <p:spPr>
          <a:xfrm>
            <a:off x="241200" y="1609560"/>
            <a:ext cx="8642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写一个男子对女子的思念、追求的过程，写求之不得的焦虑和求而得之的喜悦，表现了古代劳动人民对爱情的追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蒹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对实际情景的描写和对想象、幻想的描述，淋漓尽致地表达了主人公对意中人的强烈思念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320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2" name="Picture 2" descr="http://p0.so.qhmsg.com/bdr/_240_/t0116ee690449e411ff.jpg"/>
          <p:cNvPicPr/>
          <p:nvPr/>
        </p:nvPicPr>
        <p:blipFill>
          <a:blip r:embed="rId3"/>
          <a:srcRect l="4819" t="6460" r="8177" b="8397"/>
          <a:stretch/>
        </p:blipFill>
        <p:spPr>
          <a:xfrm>
            <a:off x="7543800" y="5084640"/>
            <a:ext cx="1271520" cy="1149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文本框 20482"/>
          <p:cNvSpPr/>
          <p:nvPr/>
        </p:nvSpPr>
        <p:spPr>
          <a:xfrm>
            <a:off x="306360" y="2359080"/>
            <a:ext cx="85327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选自十五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国风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的</a:t>
            </a:r>
            <a:r>
              <a:rPr b="1" lang="zh-CN" sz="3000" spc="-1" strike="noStrike" u="sng">
                <a:solidFill>
                  <a:srgbClr val="0000ff"/>
                </a:solidFill>
                <a:uFillTx/>
                <a:latin typeface="宋体"/>
              </a:rPr>
              <a:t>          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，属秦国民歌。“秦风”多言车马田猎，粗犷质朴，而本诗却神韵缥缈，引人遐想，也是一首优美的怀人诗作。蒹葭的意思是</a:t>
            </a:r>
            <a:r>
              <a:rPr b="1" lang="zh-CN" sz="3000" spc="-1" strike="noStrike" u="sng">
                <a:solidFill>
                  <a:srgbClr val="0000ff"/>
                </a:solidFill>
                <a:uFillTx/>
                <a:latin typeface="宋体"/>
              </a:rPr>
              <a:t>                 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 ，生于水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2"/>
          <p:cNvSpPr txBox="1"/>
          <p:nvPr/>
        </p:nvSpPr>
        <p:spPr>
          <a:xfrm>
            <a:off x="3166920" y="1265400"/>
            <a:ext cx="281016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22320">
                  <a:solidFill>
                    <a:srgbClr val="ffff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《蒹 葭》</a:t>
            </a:r>
            <a:endParaRPr b="1" lang="en-US" sz="4800" spc="1" strike="noStrike">
              <a:ln w="22320">
                <a:solidFill>
                  <a:srgbClr val="ffff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5" name="文本框 20483"/>
          <p:cNvSpPr/>
          <p:nvPr/>
        </p:nvSpPr>
        <p:spPr>
          <a:xfrm>
            <a:off x="4572000" y="2357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秦风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20484"/>
          <p:cNvSpPr/>
          <p:nvPr/>
        </p:nvSpPr>
        <p:spPr>
          <a:xfrm>
            <a:off x="3502080" y="44434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芦苇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328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随堂练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9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169" name="Picture 10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新课导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Picture 7" descr="http://www.51wendang.com/pic/d3c26ed4edfc2853ae048d3d/1-810-jpg_6-1080-0-0-1080.jpg"/>
          <p:cNvPicPr/>
          <p:nvPr/>
        </p:nvPicPr>
        <p:blipFill>
          <a:blip r:embed="rId3"/>
          <a:srcRect l="0" t="14758" r="20945" b="0"/>
          <a:stretch/>
        </p:blipFill>
        <p:spPr>
          <a:xfrm>
            <a:off x="971640" y="1268280"/>
            <a:ext cx="6048360" cy="4892760"/>
          </a:xfrm>
          <a:prstGeom prst="rect">
            <a:avLst/>
          </a:prstGeom>
          <a:ln w="0">
            <a:noFill/>
          </a:ln>
        </p:spPr>
      </p:pic>
      <p:pic>
        <p:nvPicPr>
          <p:cNvPr id="172" name="宋祖英 - 关雎.mp3" descr=""/>
          <p:cNvPicPr/>
          <p:nvPr/>
        </p:nvPicPr>
        <p:blipFill>
          <a:blip r:embed="rId4"/>
          <a:stretch/>
        </p:blipFill>
        <p:spPr>
          <a:xfrm>
            <a:off x="8066160" y="5549760"/>
            <a:ext cx="465120" cy="406440"/>
          </a:xfrm>
          <a:prstGeom prst="rect">
            <a:avLst/>
          </a:prstGeom>
          <a:ln w="0">
            <a:noFill/>
          </a:ln>
        </p:spPr>
      </p:pic>
      <p:pic>
        <p:nvPicPr>
          <p:cNvPr id="173" name="宋祖英 - 关雎" descr=""/>
          <p:cNvPicPr/>
          <p:nvPr/>
        </p:nvPicPr>
        <p:blipFill>
          <a:blip r:embed="rId5"/>
          <a:stretch/>
        </p:blipFill>
        <p:spPr>
          <a:xfrm>
            <a:off x="4262400" y="311940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93982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93982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93982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175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走近作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14"/>
          <p:cNvSpPr/>
          <p:nvPr/>
        </p:nvSpPr>
        <p:spPr>
          <a:xfrm>
            <a:off x="250920" y="1386000"/>
            <a:ext cx="86328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诗经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是我国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最早的诗歌总集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被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儒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家奉为经典，相传为孔子所编订。原本只称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诗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后世才称为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诗经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。收录了从西周到春秋时期的诗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05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篇，分为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“风”“雅”“颂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三个部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3"/>
          <a:stretch/>
        </p:blipFill>
        <p:spPr>
          <a:xfrm>
            <a:off x="5129280" y="4365720"/>
            <a:ext cx="36115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左大括号 8193"/>
          <p:cNvSpPr/>
          <p:nvPr/>
        </p:nvSpPr>
        <p:spPr>
          <a:xfrm>
            <a:off x="1568520" y="789120"/>
            <a:ext cx="288720" cy="2241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28440 h 2241360"/>
              <a:gd name="textAreaBottom" fmla="*/ 2212920 h 224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3"/>
                  <a:pt x="10800" y="885"/>
                </a:cubicBezTo>
                <a:lnTo>
                  <a:pt x="10800" y="9915"/>
                </a:lnTo>
                <a:cubicBezTo>
                  <a:pt x="10800" y="10358"/>
                  <a:pt x="5400" y="10800"/>
                  <a:pt x="0" y="10800"/>
                </a:cubicBezTo>
                <a:cubicBezTo>
                  <a:pt x="5400" y="10800"/>
                  <a:pt x="10800" y="11243"/>
                  <a:pt x="10800" y="11685"/>
                </a:cubicBezTo>
                <a:lnTo>
                  <a:pt x="10800" y="20715"/>
                </a:lnTo>
                <a:cubicBezTo>
                  <a:pt x="10800" y="2115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8195"/>
          <p:cNvSpPr/>
          <p:nvPr/>
        </p:nvSpPr>
        <p:spPr>
          <a:xfrm>
            <a:off x="826920" y="1252440"/>
            <a:ext cx="5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体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8197"/>
          <p:cNvSpPr/>
          <p:nvPr/>
        </p:nvSpPr>
        <p:spPr>
          <a:xfrm>
            <a:off x="1887480" y="749160"/>
            <a:ext cx="4032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十五国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雅、小雅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周颂、鲁颂、商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8199"/>
          <p:cNvSpPr/>
          <p:nvPr/>
        </p:nvSpPr>
        <p:spPr>
          <a:xfrm>
            <a:off x="6012000" y="78408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风土之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200"/>
          <p:cNvSpPr/>
          <p:nvPr/>
        </p:nvSpPr>
        <p:spPr>
          <a:xfrm>
            <a:off x="6012000" y="1649520"/>
            <a:ext cx="204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朝廷之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8201"/>
          <p:cNvSpPr/>
          <p:nvPr/>
        </p:nvSpPr>
        <p:spPr>
          <a:xfrm>
            <a:off x="6012000" y="246852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宗庙之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7348680" y="4892760"/>
            <a:ext cx="1707840" cy="1182600"/>
          </a:xfrm>
          <a:prstGeom prst="rect">
            <a:avLst/>
          </a:prstGeom>
          <a:ln w="0">
            <a:noFill/>
          </a:ln>
        </p:spPr>
      </p:pic>
      <p:sp>
        <p:nvSpPr>
          <p:cNvPr id="186" name="左大括号 8194"/>
          <p:cNvSpPr/>
          <p:nvPr/>
        </p:nvSpPr>
        <p:spPr>
          <a:xfrm>
            <a:off x="1494000" y="3268800"/>
            <a:ext cx="288720" cy="2625480"/>
          </a:xfrm>
          <a:custGeom>
            <a:avLst/>
            <a:gdLst>
              <a:gd name="textAreaLeft" fmla="*/ 184680 w 288720"/>
              <a:gd name="textAreaRight" fmla="*/ 289080 w 288720"/>
              <a:gd name="textAreaTop" fmla="*/ 28440 h 2625480"/>
              <a:gd name="textAreaBottom" fmla="*/ 2597040 h 262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8"/>
                  <a:pt x="10800" y="756"/>
                </a:cubicBezTo>
                <a:lnTo>
                  <a:pt x="10800" y="10044"/>
                </a:lnTo>
                <a:cubicBezTo>
                  <a:pt x="10800" y="10422"/>
                  <a:pt x="5400" y="10800"/>
                  <a:pt x="0" y="10800"/>
                </a:cubicBezTo>
                <a:cubicBezTo>
                  <a:pt x="5400" y="10800"/>
                  <a:pt x="10800" y="11178"/>
                  <a:pt x="10800" y="11556"/>
                </a:cubicBezTo>
                <a:lnTo>
                  <a:pt x="10800" y="20844"/>
                </a:lnTo>
                <a:cubicBezTo>
                  <a:pt x="10800" y="2122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8196"/>
          <p:cNvSpPr/>
          <p:nvPr/>
        </p:nvSpPr>
        <p:spPr>
          <a:xfrm>
            <a:off x="736560" y="3340080"/>
            <a:ext cx="758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表现手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8198"/>
          <p:cNvSpPr/>
          <p:nvPr/>
        </p:nvSpPr>
        <p:spPr>
          <a:xfrm>
            <a:off x="1857240" y="3214800"/>
            <a:ext cx="9320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8202"/>
          <p:cNvSpPr/>
          <p:nvPr/>
        </p:nvSpPr>
        <p:spPr>
          <a:xfrm>
            <a:off x="2489040" y="3340080"/>
            <a:ext cx="608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赋者，敷陈其事而直言之者也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8203"/>
          <p:cNvSpPr/>
          <p:nvPr/>
        </p:nvSpPr>
        <p:spPr>
          <a:xfrm>
            <a:off x="2627280" y="4200480"/>
            <a:ext cx="515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比者，以彼物比此物也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8204"/>
          <p:cNvSpPr/>
          <p:nvPr/>
        </p:nvSpPr>
        <p:spPr>
          <a:xfrm>
            <a:off x="2627280" y="5064120"/>
            <a:ext cx="611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兴者，先言他物以引起所咏之词也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193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文本框 1"/>
          <p:cNvSpPr/>
          <p:nvPr/>
        </p:nvSpPr>
        <p:spPr>
          <a:xfrm>
            <a:off x="754200" y="1663560"/>
            <a:ext cx="801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诗讲了一个什么故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何表现男主人公的相思之苦和追求过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"/>
          <p:cNvSpPr/>
          <p:nvPr/>
        </p:nvSpPr>
        <p:spPr>
          <a:xfrm>
            <a:off x="852480" y="2428920"/>
            <a:ext cx="58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写一个男子对一位女子的相思和追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图片 3" descr=""/>
          <p:cNvPicPr/>
          <p:nvPr/>
        </p:nvPicPr>
        <p:blipFill>
          <a:blip r:embed="rId3"/>
          <a:stretch/>
        </p:blipFill>
        <p:spPr>
          <a:xfrm>
            <a:off x="7259760" y="662040"/>
            <a:ext cx="166032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矩形 1"/>
          <p:cNvSpPr/>
          <p:nvPr/>
        </p:nvSpPr>
        <p:spPr>
          <a:xfrm>
            <a:off x="250920" y="1185840"/>
            <a:ext cx="864216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第一章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】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见物起兴，直写自己的愿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以立在河洲上鸣叫的关雎起兴，引出淑女是君子喜爱的配偶的情思，奠定全篇的基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7412"/>
          <p:cNvSpPr/>
          <p:nvPr/>
        </p:nvSpPr>
        <p:spPr>
          <a:xfrm>
            <a:off x="3875040" y="3960720"/>
            <a:ext cx="2952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关关雎鸠   所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在河之洲   所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窈窕淑女   所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君子好逑   所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右大括号 2"/>
          <p:cNvSpPr/>
          <p:nvPr/>
        </p:nvSpPr>
        <p:spPr>
          <a:xfrm>
            <a:off x="6732720" y="3932280"/>
            <a:ext cx="287280" cy="180036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1800360"/>
              <a:gd name="textAreaBottom" fmla="*/ 17931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4"/>
                  <a:pt x="10800" y="287"/>
                </a:cubicBezTo>
                <a:lnTo>
                  <a:pt x="10800" y="10513"/>
                </a:lnTo>
                <a:cubicBezTo>
                  <a:pt x="10800" y="10657"/>
                  <a:pt x="16200" y="10800"/>
                  <a:pt x="21600" y="10800"/>
                </a:cubicBezTo>
                <a:cubicBezTo>
                  <a:pt x="16200" y="10800"/>
                  <a:pt x="10800" y="10944"/>
                  <a:pt x="10800" y="11087"/>
                </a:cubicBezTo>
                <a:lnTo>
                  <a:pt x="10800" y="21313"/>
                </a:lnTo>
                <a:cubicBezTo>
                  <a:pt x="10800" y="2145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"/>
          <p:cNvSpPr/>
          <p:nvPr/>
        </p:nvSpPr>
        <p:spPr>
          <a:xfrm>
            <a:off x="7346880" y="4253040"/>
            <a:ext cx="14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层次突出语约义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未标题-1"/>
          <p:cNvPicPr/>
          <p:nvPr/>
        </p:nvPicPr>
        <p:blipFill>
          <a:blip r:embed="rId2"/>
          <a:stretch/>
        </p:blipFill>
        <p:spPr>
          <a:xfrm>
            <a:off x="128520" y="404640"/>
            <a:ext cx="2319480" cy="70020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2"/>
          <p:cNvSpPr/>
          <p:nvPr/>
        </p:nvSpPr>
        <p:spPr>
          <a:xfrm>
            <a:off x="665280" y="48096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黑体"/>
                <a:ea typeface="黑体"/>
              </a:rPr>
              <a:t>细读感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"/>
          <p:cNvSpPr/>
          <p:nvPr/>
        </p:nvSpPr>
        <p:spPr>
          <a:xfrm>
            <a:off x="250920" y="765000"/>
            <a:ext cx="864216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第二、三章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】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写自己的爱慕之心和相思之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2"/>
          <p:cNvSpPr/>
          <p:nvPr/>
        </p:nvSpPr>
        <p:spPr>
          <a:xfrm>
            <a:off x="574560" y="1650960"/>
            <a:ext cx="799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位采荇菜的姑娘在水边劳动时的窈窕身影，使他日夜相思，已到了长夜不眠的程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3"/>
          <p:cNvSpPr/>
          <p:nvPr/>
        </p:nvSpPr>
        <p:spPr>
          <a:xfrm>
            <a:off x="3841920" y="3686040"/>
            <a:ext cx="4168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寤寐求之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追慕之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辗转反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相思之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4" descr=""/>
          <p:cNvPicPr/>
          <p:nvPr/>
        </p:nvPicPr>
        <p:blipFill>
          <a:blip r:embed="rId2"/>
          <a:stretch/>
        </p:blipFill>
        <p:spPr>
          <a:xfrm>
            <a:off x="162000" y="4594320"/>
            <a:ext cx="345276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1"/>
          <p:cNvSpPr/>
          <p:nvPr/>
        </p:nvSpPr>
        <p:spPr>
          <a:xfrm>
            <a:off x="250920" y="765000"/>
            <a:ext cx="864216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第四、五章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】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设想愿望实现时的欢乐场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"/>
          <p:cNvSpPr/>
          <p:nvPr/>
        </p:nvSpPr>
        <p:spPr>
          <a:xfrm>
            <a:off x="574560" y="1650960"/>
            <a:ext cx="799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君子兴奋地弹奏琴瑟，敲击钟鼓来亲近她，友爱她，并使她快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3"/>
          <p:cNvSpPr/>
          <p:nvPr/>
        </p:nvSpPr>
        <p:spPr>
          <a:xfrm>
            <a:off x="4184640" y="3219480"/>
            <a:ext cx="4167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琴瑟友之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亲密相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钟鼓乐之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欢快热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5" descr=""/>
          <p:cNvPicPr/>
          <p:nvPr/>
        </p:nvPicPr>
        <p:blipFill>
          <a:blip r:embed="rId2"/>
          <a:stretch/>
        </p:blipFill>
        <p:spPr>
          <a:xfrm>
            <a:off x="250920" y="3376440"/>
            <a:ext cx="3205080" cy="294804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6" descr=""/>
          <p:cNvPicPr/>
          <p:nvPr/>
        </p:nvPicPr>
        <p:blipFill>
          <a:blip r:embed="rId3"/>
          <a:stretch/>
        </p:blipFill>
        <p:spPr>
          <a:xfrm>
            <a:off x="6141960" y="4786200"/>
            <a:ext cx="26942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8T06:44:00Z</dcterms:created>
  <dc:creator/>
  <dc:description/>
  <cp:keywords/>
  <dc:language>en-US</dc:language>
  <cp:lastModifiedBy>微软用户</cp:lastModifiedBy>
  <dcterms:modified xsi:type="dcterms:W3CDTF">2019-03-13T03:09:04Z</dcterms:modified>
  <cp:revision>4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