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6.png" ContentType="image/png"/>
  <Override PartName="/ppt/media/chimes.wav" ContentType="audio/x-wav"/>
  <Override PartName="/ppt/media/image5.png" ContentType="image/png"/>
  <Override PartName="/ppt/media/image10.png" ContentType="image/png"/>
  <Override PartName="/ppt/media/drumroll.wav" ContentType="audio/x-wav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69C-E9E0-4111-8B2D-02EB0EEB15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CD17-B071-459E-A438-6A134BF86C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F39-693D-4F74-8076-B3E1C478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393-5D0C-4E64-BCE9-43E6537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AAA-C830-44CC-954E-12977FB9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E52-AE6C-4556-8DA6-0DA51EF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7A4-8277-4383-BA26-2F6EAA1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9AB-FA32-4A21-BA81-BEEE514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806-4637-46A2-B879-77E3681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CA4-6150-4CE1-ACEF-9DA43BE1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C66-B260-4AEE-8284-AA4A67A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ED2-FCA9-4A29-AF3A-D8CA10C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CCE-FD73-48F6-9FE2-4512C8EF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FAC-C474-4E79-B875-9D0FFD51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C1F3-4074-44C1-85D8-0320C431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51D4-BA87-40F9-8254-E494F62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6AEE-077E-47CB-8958-429C7432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64D-FB8F-4231-A83E-D83ED074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178-4622-40BF-8E2E-B22A11B6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2D2-622E-4714-BE6B-373E55E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B2B-0E32-461E-8EB3-7A3A6A8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40F0-5D6A-459E-A07E-B1BA006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645-3D6E-40EC-A13D-E47DA87A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9BB5-B0DC-4E92-B609-B850199C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6E39-FDF7-44FA-8A01-82FDA0D1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91D-A07C-4BEF-A6B8-25D4511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CCD8-FD0F-49ED-AF0F-BA4E4CBD544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251-24D2-46E6-B79A-38AB62D4D83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"/>
          <p:cNvSpPr/>
          <p:nvPr/>
        </p:nvSpPr>
        <p:spPr>
          <a:xfrm>
            <a:off x="0" y="4149720"/>
            <a:ext cx="9144000" cy="16556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30"/>
          <p:cNvSpPr/>
          <p:nvPr/>
        </p:nvSpPr>
        <p:spPr>
          <a:xfrm>
            <a:off x="1547640" y="42940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"/>
          <p:cNvSpPr/>
          <p:nvPr/>
        </p:nvSpPr>
        <p:spPr>
          <a:xfrm>
            <a:off x="1474920" y="5157720"/>
            <a:ext cx="619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30"/>
          <p:cNvSpPr/>
          <p:nvPr/>
        </p:nvSpPr>
        <p:spPr>
          <a:xfrm>
            <a:off x="3246480" y="52624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八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7409" descr="图片16"/>
          <p:cNvPicPr/>
          <p:nvPr/>
        </p:nvPicPr>
        <p:blipFill>
          <a:blip r:embed="rId2"/>
          <a:stretch/>
        </p:blipFill>
        <p:spPr>
          <a:xfrm>
            <a:off x="7184880" y="2803680"/>
            <a:ext cx="1648080" cy="3116160"/>
          </a:xfrm>
          <a:prstGeom prst="rect">
            <a:avLst/>
          </a:prstGeom>
          <a:ln w="0">
            <a:noFill/>
          </a:ln>
        </p:spPr>
      </p:pic>
      <p:sp>
        <p:nvSpPr>
          <p:cNvPr id="214" name="矩形 17411"/>
          <p:cNvSpPr txBox="1"/>
          <p:nvPr/>
        </p:nvSpPr>
        <p:spPr>
          <a:xfrm>
            <a:off x="2008080" y="378000"/>
            <a:ext cx="429264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理一理“相思之路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5" name="文本框 17412"/>
          <p:cNvSpPr/>
          <p:nvPr/>
        </p:nvSpPr>
        <p:spPr>
          <a:xfrm>
            <a:off x="2631960" y="11095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听：关关雎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见：在河之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思：窈窕淑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愿：君子好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413"/>
          <p:cNvSpPr/>
          <p:nvPr/>
        </p:nvSpPr>
        <p:spPr>
          <a:xfrm>
            <a:off x="468360" y="293364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7414"/>
          <p:cNvSpPr/>
          <p:nvPr/>
        </p:nvSpPr>
        <p:spPr>
          <a:xfrm>
            <a:off x="4229280" y="57182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7415"/>
          <p:cNvSpPr/>
          <p:nvPr/>
        </p:nvSpPr>
        <p:spPr>
          <a:xfrm>
            <a:off x="7323120" y="4464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左大括号 17416"/>
          <p:cNvSpPr/>
          <p:nvPr/>
        </p:nvSpPr>
        <p:spPr>
          <a:xfrm>
            <a:off x="1208160" y="1638360"/>
            <a:ext cx="228600" cy="4222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2840 h 4222800"/>
              <a:gd name="textAreaBottom" fmla="*/ 4179960 h 42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3"/>
                  <a:pt x="10800" y="705"/>
                </a:cubicBezTo>
                <a:lnTo>
                  <a:pt x="10800" y="10095"/>
                </a:lnTo>
                <a:cubicBezTo>
                  <a:pt x="10800" y="10448"/>
                  <a:pt x="5400" y="10800"/>
                  <a:pt x="0" y="10800"/>
                </a:cubicBezTo>
                <a:cubicBezTo>
                  <a:pt x="5400" y="10800"/>
                  <a:pt x="10800" y="11153"/>
                  <a:pt x="10800" y="11505"/>
                </a:cubicBezTo>
                <a:lnTo>
                  <a:pt x="10800" y="20895"/>
                </a:lnTo>
                <a:cubicBezTo>
                  <a:pt x="10800" y="212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417"/>
          <p:cNvSpPr/>
          <p:nvPr/>
        </p:nvSpPr>
        <p:spPr>
          <a:xfrm>
            <a:off x="1401840" y="173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下箭头 17418"/>
          <p:cNvSpPr/>
          <p:nvPr/>
        </p:nvSpPr>
        <p:spPr>
          <a:xfrm>
            <a:off x="1855800" y="236700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7419"/>
          <p:cNvSpPr/>
          <p:nvPr/>
        </p:nvSpPr>
        <p:spPr>
          <a:xfrm>
            <a:off x="1401840" y="3506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箭头 17420"/>
          <p:cNvSpPr/>
          <p:nvPr/>
        </p:nvSpPr>
        <p:spPr>
          <a:xfrm>
            <a:off x="1874880" y="425916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7421"/>
          <p:cNvSpPr/>
          <p:nvPr/>
        </p:nvSpPr>
        <p:spPr>
          <a:xfrm>
            <a:off x="1401840" y="5079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梦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左大括号 17422"/>
          <p:cNvSpPr/>
          <p:nvPr/>
        </p:nvSpPr>
        <p:spPr>
          <a:xfrm>
            <a:off x="2392200" y="1190520"/>
            <a:ext cx="228600" cy="1611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4200 h 1611360"/>
              <a:gd name="textAreaBottom" fmla="*/ 157716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4"/>
                  <a:pt x="10800" y="1467"/>
                </a:cubicBezTo>
                <a:lnTo>
                  <a:pt x="10800" y="9333"/>
                </a:lnTo>
                <a:cubicBezTo>
                  <a:pt x="10800" y="10067"/>
                  <a:pt x="5400" y="10800"/>
                  <a:pt x="0" y="10800"/>
                </a:cubicBezTo>
                <a:cubicBezTo>
                  <a:pt x="5400" y="10800"/>
                  <a:pt x="10800" y="11534"/>
                  <a:pt x="10800" y="12267"/>
                </a:cubicBezTo>
                <a:lnTo>
                  <a:pt x="10800" y="20133"/>
                </a:lnTo>
                <a:cubicBezTo>
                  <a:pt x="10800" y="208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左大括号 17423"/>
          <p:cNvSpPr/>
          <p:nvPr/>
        </p:nvSpPr>
        <p:spPr>
          <a:xfrm>
            <a:off x="2405160" y="3301920"/>
            <a:ext cx="212760" cy="952560"/>
          </a:xfrm>
          <a:custGeom>
            <a:avLst/>
            <a:gdLst>
              <a:gd name="textAreaLeft" fmla="*/ 136080 w 212760"/>
              <a:gd name="textAreaRight" fmla="*/ 213120 w 212760"/>
              <a:gd name="textAreaTop" fmla="*/ 24480 h 952560"/>
              <a:gd name="textAreaBottom" fmla="*/ 928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7424"/>
          <p:cNvSpPr/>
          <p:nvPr/>
        </p:nvSpPr>
        <p:spPr>
          <a:xfrm>
            <a:off x="2617920" y="3068640"/>
            <a:ext cx="3581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17425"/>
          <p:cNvSpPr/>
          <p:nvPr/>
        </p:nvSpPr>
        <p:spPr>
          <a:xfrm>
            <a:off x="2403360" y="4886280"/>
            <a:ext cx="228600" cy="94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440 h 949320"/>
              <a:gd name="textAreaBottom" fmla="*/ 92988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369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6"/>
                  <a:pt x="10800" y="12231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7426"/>
          <p:cNvSpPr/>
          <p:nvPr/>
        </p:nvSpPr>
        <p:spPr>
          <a:xfrm>
            <a:off x="2649600" y="4697280"/>
            <a:ext cx="3540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大括号 17427"/>
          <p:cNvSpPr/>
          <p:nvPr/>
        </p:nvSpPr>
        <p:spPr>
          <a:xfrm>
            <a:off x="6300720" y="1208160"/>
            <a:ext cx="304920" cy="4579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4579920"/>
              <a:gd name="textAreaBottom" fmla="*/ 4542480 h 457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32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主题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7"/>
          <p:cNvSpPr txBox="1"/>
          <p:nvPr/>
        </p:nvSpPr>
        <p:spPr>
          <a:xfrm>
            <a:off x="2189160" y="1278000"/>
            <a:ext cx="476712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5" name="矩形 8"/>
          <p:cNvSpPr txBox="1"/>
          <p:nvPr/>
        </p:nvSpPr>
        <p:spPr>
          <a:xfrm>
            <a:off x="520560" y="2529000"/>
            <a:ext cx="203832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矩形 9"/>
          <p:cNvSpPr txBox="1"/>
          <p:nvPr/>
        </p:nvSpPr>
        <p:spPr>
          <a:xfrm>
            <a:off x="3035160" y="4797360"/>
            <a:ext cx="2286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矩形 10"/>
          <p:cNvSpPr txBox="1"/>
          <p:nvPr/>
        </p:nvSpPr>
        <p:spPr>
          <a:xfrm>
            <a:off x="6515280" y="2227320"/>
            <a:ext cx="21096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欢聚和成亲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直接连接符 11"/>
          <p:cNvSpPr/>
          <p:nvPr/>
        </p:nvSpPr>
        <p:spPr>
          <a:xfrm flipV="1">
            <a:off x="5510160" y="3088800"/>
            <a:ext cx="1629000" cy="2103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2"/>
          <p:cNvSpPr/>
          <p:nvPr/>
        </p:nvSpPr>
        <p:spPr>
          <a:xfrm>
            <a:off x="1395360" y="343044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"/>
          <p:cNvSpPr txBox="1"/>
          <p:nvPr/>
        </p:nvSpPr>
        <p:spPr>
          <a:xfrm>
            <a:off x="2395440" y="369720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受挫</a:t>
            </a:r>
            <a:endParaRPr b="0" lang="en-US" sz="2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1" name="矩形 14"/>
          <p:cNvSpPr txBox="1"/>
          <p:nvPr/>
        </p:nvSpPr>
        <p:spPr>
          <a:xfrm>
            <a:off x="6375240" y="4230720"/>
            <a:ext cx="1295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5361"/>
          <p:cNvSpPr/>
          <p:nvPr/>
        </p:nvSpPr>
        <p:spPr>
          <a:xfrm>
            <a:off x="250920" y="1484280"/>
            <a:ext cx="86248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情诗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语言运用上：反复咏唱，朴素优美、韵律和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方式上：弹琴鼓瑟，敲锣打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对象上：是劳动中的女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 txBox="1"/>
          <p:nvPr/>
        </p:nvSpPr>
        <p:spPr>
          <a:xfrm>
            <a:off x="3259080" y="4797360"/>
            <a:ext cx="262584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古朴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44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250920" y="549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托物起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250920" y="1339920"/>
            <a:ext cx="8632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兴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于诗歌中渲染气氛、创造意境起着极大的作用。开头以雎鸠和鸣的情景起兴，是为了渲染一种情意绵绵、痴心相恋的情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鸟儿的呼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听觉上触动了诗人的情怀；随声望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河之洲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又从视觉上引起诗人的遐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窈窕淑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是自己理想的伴侣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文又多次以所爱的人劳动时的优美身姿起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250920" y="67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韵律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1989000" y="1557360"/>
            <a:ext cx="5166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言（关关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双声（参差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叠韵（窈窕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章复唱的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小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"/>
          <p:cNvSpPr/>
          <p:nvPr/>
        </p:nvSpPr>
        <p:spPr>
          <a:xfrm>
            <a:off x="665280" y="174960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这是一首青年男子的恋歌，描绘他对一位姑娘一往情深的追求和对美满婚姻的渴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762120" y="476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54" name="张卓 - 蒹葭.mp3" descr=""/>
          <p:cNvPicPr/>
          <p:nvPr/>
        </p:nvPicPr>
        <p:blipFill>
          <a:blip r:embed="rId3"/>
          <a:stretch/>
        </p:blipFill>
        <p:spPr>
          <a:xfrm>
            <a:off x="7878600" y="5678640"/>
            <a:ext cx="5684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72248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56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4"/>
          <p:cNvSpPr/>
          <p:nvPr/>
        </p:nvSpPr>
        <p:spPr>
          <a:xfrm>
            <a:off x="250920" y="1268280"/>
            <a:ext cx="8632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歌写的是哪个季节的什么时间的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中都写了哪些景物，各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549360" y="229392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秋季（深秋）的清晨（拂晓），从白露为霜，白露未晞，白露未已可以看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2"/>
          <p:cNvSpPr/>
          <p:nvPr/>
        </p:nvSpPr>
        <p:spPr>
          <a:xfrm>
            <a:off x="504720" y="785880"/>
            <a:ext cx="16574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艺术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3"/>
          <p:cNvSpPr/>
          <p:nvPr/>
        </p:nvSpPr>
        <p:spPr>
          <a:xfrm>
            <a:off x="3486240" y="785880"/>
            <a:ext cx="131436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"/>
          <p:cNvSpPr/>
          <p:nvPr/>
        </p:nvSpPr>
        <p:spPr>
          <a:xfrm>
            <a:off x="398520" y="1743120"/>
            <a:ext cx="262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露秋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畔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"/>
          <p:cNvSpPr/>
          <p:nvPr/>
        </p:nvSpPr>
        <p:spPr>
          <a:xfrm>
            <a:off x="2800440" y="1500120"/>
            <a:ext cx="367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丛生茂密，秋来变黄，霜袭后发白，秋风摇曳中更添凄凉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6"/>
          <p:cNvSpPr/>
          <p:nvPr/>
        </p:nvSpPr>
        <p:spPr>
          <a:xfrm>
            <a:off x="2800440" y="2652840"/>
            <a:ext cx="34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洁白、晶莹、凉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7"/>
          <p:cNvSpPr/>
          <p:nvPr/>
        </p:nvSpPr>
        <p:spPr>
          <a:xfrm>
            <a:off x="2800440" y="346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崎岖难行，险阻重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8"/>
          <p:cNvSpPr/>
          <p:nvPr/>
        </p:nvSpPr>
        <p:spPr>
          <a:xfrm>
            <a:off x="2840040" y="430992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柔和、沉静、澄明、清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9"/>
          <p:cNvSpPr/>
          <p:nvPr/>
        </p:nvSpPr>
        <p:spPr>
          <a:xfrm>
            <a:off x="6553080" y="885960"/>
            <a:ext cx="54612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冷、孤寂、凄迷、迷离的氛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1" descr=""/>
          <p:cNvPicPr/>
          <p:nvPr/>
        </p:nvPicPr>
        <p:blipFill>
          <a:blip r:embed="rId2"/>
          <a:stretch/>
        </p:blipFill>
        <p:spPr>
          <a:xfrm>
            <a:off x="285840" y="5025960"/>
            <a:ext cx="1695240" cy="13399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2" descr=""/>
          <p:cNvPicPr/>
          <p:nvPr/>
        </p:nvPicPr>
        <p:blipFill>
          <a:blip r:embed="rId3"/>
          <a:stretch/>
        </p:blipFill>
        <p:spPr>
          <a:xfrm>
            <a:off x="6881760" y="5000760"/>
            <a:ext cx="206208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1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节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矩形 5"/>
          <p:cNvSpPr/>
          <p:nvPr/>
        </p:nvSpPr>
        <p:spPr>
          <a:xfrm>
            <a:off x="1796760" y="1395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是怎样表现诗人执着的爱情追求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250920" y="2125800"/>
            <a:ext cx="863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内容来看，每章前两句写景，点明节令，烘托气氛；后六句写寻求“伊人”的情况。全诗回旋三叠，反复歌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人热烈地追求其所爱慕的“伊人”，虽然在大河上下反复寻求，可望而不可即，仍然神魂颠倒执着专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250920" y="1530360"/>
            <a:ext cx="8632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我国文学史上的地位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反复诵读诗歌，体味它朴素优美、韵律和谐的语言特点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感受古诗优美的节奏和艺术魅力，正确认识古代劳动人民对美好爱情的追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5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7" descr="http://p0.so.qhmsg.com/bdr/_240_/t01d2578332921ecbaf.jpg"/>
          <p:cNvPicPr/>
          <p:nvPr/>
        </p:nvPicPr>
        <p:blipFill>
          <a:blip r:embed="rId3"/>
          <a:srcRect l="22603" t="8468" r="0" b="0"/>
          <a:stretch/>
        </p:blipFill>
        <p:spPr>
          <a:xfrm>
            <a:off x="7070760" y="4905360"/>
            <a:ext cx="16714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250920" y="148104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各章的基本内容是相同的，仅仅是换了几个词语，你认为这样写是否重复？为什么？请简要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260280" y="126828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注意景与情的结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全诗情调凄婉动人，意境朦胧深邃。苍苍的芦苇，露结的白霜，茫茫的秋水，曲折的河流，水中的小洲宛然在目和见之无踪的伊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一切都与诗人的彷徨失望和执着追求融为一体。（注意起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9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小   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4"/>
          <p:cNvSpPr/>
          <p:nvPr/>
        </p:nvSpPr>
        <p:spPr>
          <a:xfrm>
            <a:off x="250920" y="1268280"/>
            <a:ext cx="86328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全诗三章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岸边的秋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起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抒发了主人公与日夜相思的心上人相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艰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，更深入一层把主人公企求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失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情绪推向高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表现了依然是可望而不可会晤的深沉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1265"/>
          <p:cNvSpPr/>
          <p:nvPr/>
        </p:nvSpPr>
        <p:spPr>
          <a:xfrm>
            <a:off x="2717640" y="1832040"/>
            <a:ext cx="37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起兴手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重章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84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4" descr="http://img2.3png.com/baf659bcac9bf11ab0ae3279b9a7201a4c55.png"/>
          <p:cNvPicPr/>
          <p:nvPr/>
        </p:nvPicPr>
        <p:blipFill>
          <a:blip r:embed="rId3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7417"/>
          <p:cNvSpPr/>
          <p:nvPr/>
        </p:nvSpPr>
        <p:spPr>
          <a:xfrm>
            <a:off x="981000" y="201312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音韵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直接箭头连接符 3"/>
          <p:cNvCxnSpPr/>
          <p:nvPr/>
        </p:nvCxnSpPr>
        <p:spPr>
          <a:xfrm flipV="1">
            <a:off x="2371320" y="1631160"/>
            <a:ext cx="1499400" cy="553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89" name="文本框 17417"/>
          <p:cNvSpPr/>
          <p:nvPr/>
        </p:nvSpPr>
        <p:spPr>
          <a:xfrm>
            <a:off x="387036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字句：二二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7417"/>
          <p:cNvSpPr/>
          <p:nvPr/>
        </p:nvSpPr>
        <p:spPr>
          <a:xfrm>
            <a:off x="3870360" y="17604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押韵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n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直接箭头连接符 9"/>
          <p:cNvCxnSpPr>
            <a:endCxn id="290" idx="1"/>
          </p:cNvCxnSpPr>
          <p:nvPr/>
        </p:nvCxnSpPr>
        <p:spPr>
          <a:xfrm flipV="1">
            <a:off x="2371320" y="2359800"/>
            <a:ext cx="1499400" cy="48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2" name="文本框 17417"/>
          <p:cNvSpPr/>
          <p:nvPr/>
        </p:nvSpPr>
        <p:spPr>
          <a:xfrm>
            <a:off x="3870360" y="31989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叠词：苍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萋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417"/>
          <p:cNvSpPr/>
          <p:nvPr/>
        </p:nvSpPr>
        <p:spPr>
          <a:xfrm>
            <a:off x="3870360" y="43988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重章：反复咏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直接箭头连接符 15"/>
          <p:cNvCxnSpPr>
            <a:endCxn id="290" idx="1"/>
          </p:cNvCxnSpPr>
          <p:nvPr/>
        </p:nvCxnSpPr>
        <p:spPr>
          <a:xfrm>
            <a:off x="6093000" y="1527120"/>
            <a:ext cx="1008720" cy="65808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5" name="直接箭头连接符 18"/>
          <p:cNvCxnSpPr>
            <a:endCxn id="290" idx="1"/>
          </p:cNvCxnSpPr>
          <p:nvPr/>
        </p:nvCxnSpPr>
        <p:spPr>
          <a:xfrm flipV="1">
            <a:off x="4890960" y="2407680"/>
            <a:ext cx="2139120" cy="108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6" name="文本框 17417"/>
          <p:cNvSpPr/>
          <p:nvPr/>
        </p:nvSpPr>
        <p:spPr>
          <a:xfrm>
            <a:off x="7174080" y="210672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22"/>
          <p:cNvCxnSpPr>
            <a:endCxn id="290" idx="1"/>
          </p:cNvCxnSpPr>
          <p:nvPr/>
        </p:nvCxnSpPr>
        <p:spPr>
          <a:xfrm flipV="1">
            <a:off x="5300640" y="3758760"/>
            <a:ext cx="1729440" cy="40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8" name="直接箭头连接符 25"/>
          <p:cNvCxnSpPr>
            <a:endCxn id="290" idx="1"/>
          </p:cNvCxnSpPr>
          <p:nvPr/>
        </p:nvCxnSpPr>
        <p:spPr>
          <a:xfrm flipV="1">
            <a:off x="6114600" y="4223520"/>
            <a:ext cx="986760" cy="4057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9" name="文本框 17417"/>
          <p:cNvSpPr/>
          <p:nvPr/>
        </p:nvSpPr>
        <p:spPr>
          <a:xfrm>
            <a:off x="7174080" y="344664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唱三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29"/>
          <p:cNvCxnSpPr>
            <a:endCxn id="292" idx="1"/>
          </p:cNvCxnSpPr>
          <p:nvPr/>
        </p:nvCxnSpPr>
        <p:spPr>
          <a:xfrm>
            <a:off x="2349000" y="2566800"/>
            <a:ext cx="1521720" cy="12319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2" name="直接箭头连接符 31"/>
          <p:cNvCxnSpPr>
            <a:endCxn id="293" idx="1"/>
          </p:cNvCxnSpPr>
          <p:nvPr/>
        </p:nvCxnSpPr>
        <p:spPr>
          <a:xfrm>
            <a:off x="2349000" y="2784600"/>
            <a:ext cx="1521720" cy="1845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pic>
        <p:nvPicPr>
          <p:cNvPr id="303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7417"/>
          <p:cNvSpPr/>
          <p:nvPr/>
        </p:nvSpPr>
        <p:spPr>
          <a:xfrm>
            <a:off x="4032360" y="6094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诗 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箭头连接符 3"/>
          <p:cNvCxnSpPr/>
          <p:nvPr/>
        </p:nvCxnSpPr>
        <p:spPr>
          <a:xfrm flipH="1">
            <a:off x="3526920" y="1253880"/>
            <a:ext cx="518400" cy="462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6" name="文本框 17417"/>
          <p:cNvSpPr/>
          <p:nvPr/>
        </p:nvSpPr>
        <p:spPr>
          <a:xfrm>
            <a:off x="3166920" y="18334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9"/>
          <p:cNvCxnSpPr/>
          <p:nvPr/>
        </p:nvCxnSpPr>
        <p:spPr>
          <a:xfrm flipH="1">
            <a:off x="4607640" y="125424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8" name="直接箭头连接符 11"/>
          <p:cNvCxnSpPr/>
          <p:nvPr/>
        </p:nvCxnSpPr>
        <p:spPr>
          <a:xfrm>
            <a:off x="5051520" y="1261800"/>
            <a:ext cx="421200" cy="57204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9" name="文本框 17417"/>
          <p:cNvSpPr/>
          <p:nvPr/>
        </p:nvSpPr>
        <p:spPr>
          <a:xfrm>
            <a:off x="4361040" y="1905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7417"/>
          <p:cNvSpPr/>
          <p:nvPr/>
        </p:nvSpPr>
        <p:spPr>
          <a:xfrm>
            <a:off x="5472000" y="18334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7417"/>
          <p:cNvSpPr/>
          <p:nvPr/>
        </p:nvSpPr>
        <p:spPr>
          <a:xfrm>
            <a:off x="2924280" y="23907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露为霜、未晞、未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直接箭头连接符 16"/>
          <p:cNvCxnSpPr/>
          <p:nvPr/>
        </p:nvCxnSpPr>
        <p:spPr>
          <a:xfrm flipH="1">
            <a:off x="4618800" y="287352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3" name="文本框 17417"/>
          <p:cNvSpPr/>
          <p:nvPr/>
        </p:nvSpPr>
        <p:spPr>
          <a:xfrm>
            <a:off x="3095640" y="36338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痴痴守望、不畏险阻、可望而不可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箭头连接符 18"/>
          <p:cNvCxnSpPr/>
          <p:nvPr/>
        </p:nvCxnSpPr>
        <p:spPr>
          <a:xfrm flipH="1">
            <a:off x="4642560" y="446400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5" name="文本框 17417"/>
          <p:cNvSpPr/>
          <p:nvPr/>
        </p:nvSpPr>
        <p:spPr>
          <a:xfrm>
            <a:off x="3321000" y="52182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友情、爱情、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5"/>
          <p:cNvSpPr/>
          <p:nvPr/>
        </p:nvSpPr>
        <p:spPr>
          <a:xfrm>
            <a:off x="241200" y="1609560"/>
            <a:ext cx="8642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一个男子对女子的思念、追求的过程，写求之不得的焦虑和求而得之的喜悦，表现了古代劳动人民对爱情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蒹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对实际情景的描写和对想象、幻想的描述，淋漓尽致地表达了主人公对意中人的强烈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0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http://p0.so.qhmsg.com/bdr/_240_/t0116ee690449e411ff.jpg"/>
          <p:cNvPicPr/>
          <p:nvPr/>
        </p:nvPicPr>
        <p:blipFill>
          <a:blip r:embed="rId3"/>
          <a:srcRect l="4819" t="6460" r="8177" b="8397"/>
          <a:stretch/>
        </p:blipFill>
        <p:spPr>
          <a:xfrm>
            <a:off x="7543800" y="5084640"/>
            <a:ext cx="127152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20482"/>
          <p:cNvSpPr/>
          <p:nvPr/>
        </p:nvSpPr>
        <p:spPr>
          <a:xfrm>
            <a:off x="306360" y="2359080"/>
            <a:ext cx="8532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选自十五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国风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，属秦国民歌。“秦风”多言车马田猎，粗犷质朴，而本诗却神韵缥缈，引人遐想，也是一首优美的怀人诗作。蒹葭的意思是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，生于水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 txBox="1"/>
          <p:nvPr/>
        </p:nvSpPr>
        <p:spPr>
          <a:xfrm>
            <a:off x="3166920" y="1265400"/>
            <a:ext cx="281016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《蒹 葭》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文本框 20483"/>
          <p:cNvSpPr/>
          <p:nvPr/>
        </p:nvSpPr>
        <p:spPr>
          <a:xfrm>
            <a:off x="4572000" y="2357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秦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484"/>
          <p:cNvSpPr/>
          <p:nvPr/>
        </p:nvSpPr>
        <p:spPr>
          <a:xfrm>
            <a:off x="3502080" y="44434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芦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8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9" name="Picture 10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7" descr="http://www.51wendang.com/pic/d3c26ed4edfc2853ae048d3d/1-810-jpg_6-1080-0-0-1080.jpg"/>
          <p:cNvPicPr/>
          <p:nvPr/>
        </p:nvPicPr>
        <p:blipFill>
          <a:blip r:embed="rId3"/>
          <a:srcRect l="0" t="14758" r="20945" b="0"/>
          <a:stretch/>
        </p:blipFill>
        <p:spPr>
          <a:xfrm>
            <a:off x="971640" y="1268280"/>
            <a:ext cx="6048360" cy="4892760"/>
          </a:xfrm>
          <a:prstGeom prst="rect">
            <a:avLst/>
          </a:prstGeom>
          <a:ln w="0">
            <a:noFill/>
          </a:ln>
        </p:spPr>
      </p:pic>
      <p:pic>
        <p:nvPicPr>
          <p:cNvPr id="172" name="宋祖英 - 关雎.mp3" descr=""/>
          <p:cNvPicPr/>
          <p:nvPr/>
        </p:nvPicPr>
        <p:blipFill>
          <a:blip r:embed="rId4"/>
          <a:stretch/>
        </p:blipFill>
        <p:spPr>
          <a:xfrm>
            <a:off x="8066160" y="5549760"/>
            <a:ext cx="46512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宋祖英 - 关雎" descr=""/>
          <p:cNvPicPr/>
          <p:nvPr/>
        </p:nvPicPr>
        <p:blipFill>
          <a:blip r:embed="rId5"/>
          <a:stretch/>
        </p:blipFill>
        <p:spPr>
          <a:xfrm>
            <a:off x="4262400" y="31194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9398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3982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9398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75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4"/>
          <p:cNvSpPr/>
          <p:nvPr/>
        </p:nvSpPr>
        <p:spPr>
          <a:xfrm>
            <a:off x="250920" y="138600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我国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最早的诗歌总集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被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儒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家奉为经典，相传为孔子所编订。原本只称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后世才称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收录了从西周到春秋时期的诗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0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篇，分为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“风”“雅”“颂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三个部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3"/>
          <a:stretch/>
        </p:blipFill>
        <p:spPr>
          <a:xfrm>
            <a:off x="5129280" y="4365720"/>
            <a:ext cx="3611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左大括号 8193"/>
          <p:cNvSpPr/>
          <p:nvPr/>
        </p:nvSpPr>
        <p:spPr>
          <a:xfrm>
            <a:off x="1568520" y="789120"/>
            <a:ext cx="288720" cy="2241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241360"/>
              <a:gd name="textAreaBottom" fmla="*/ 2212920 h 22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3"/>
                  <a:pt x="10800" y="885"/>
                </a:cubicBezTo>
                <a:lnTo>
                  <a:pt x="10800" y="9915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3"/>
                  <a:pt x="10800" y="11685"/>
                </a:cubicBezTo>
                <a:lnTo>
                  <a:pt x="10800" y="20715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5"/>
          <p:cNvSpPr/>
          <p:nvPr/>
        </p:nvSpPr>
        <p:spPr>
          <a:xfrm>
            <a:off x="826920" y="125244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体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7"/>
          <p:cNvSpPr/>
          <p:nvPr/>
        </p:nvSpPr>
        <p:spPr>
          <a:xfrm>
            <a:off x="1887480" y="749160"/>
            <a:ext cx="4032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十五国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雅、小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周颂、鲁颂、商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6012000" y="7840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土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200"/>
          <p:cNvSpPr/>
          <p:nvPr/>
        </p:nvSpPr>
        <p:spPr>
          <a:xfrm>
            <a:off x="6012000" y="164952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朝廷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201"/>
          <p:cNvSpPr/>
          <p:nvPr/>
        </p:nvSpPr>
        <p:spPr>
          <a:xfrm>
            <a:off x="6012000" y="24685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宗庙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48680" y="4892760"/>
            <a:ext cx="1707840" cy="1182600"/>
          </a:xfrm>
          <a:prstGeom prst="rect">
            <a:avLst/>
          </a:prstGeom>
          <a:ln w="0">
            <a:noFill/>
          </a:ln>
        </p:spPr>
      </p:pic>
      <p:sp>
        <p:nvSpPr>
          <p:cNvPr id="186" name="左大括号 8194"/>
          <p:cNvSpPr/>
          <p:nvPr/>
        </p:nvSpPr>
        <p:spPr>
          <a:xfrm>
            <a:off x="1494000" y="3268800"/>
            <a:ext cx="288720" cy="26254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625480"/>
              <a:gd name="textAreaBottom" fmla="*/ 2597040 h 26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196"/>
          <p:cNvSpPr/>
          <p:nvPr/>
        </p:nvSpPr>
        <p:spPr>
          <a:xfrm>
            <a:off x="736560" y="3340080"/>
            <a:ext cx="75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8"/>
          <p:cNvSpPr/>
          <p:nvPr/>
        </p:nvSpPr>
        <p:spPr>
          <a:xfrm>
            <a:off x="1857240" y="3214800"/>
            <a:ext cx="932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202"/>
          <p:cNvSpPr/>
          <p:nvPr/>
        </p:nvSpPr>
        <p:spPr>
          <a:xfrm>
            <a:off x="2489040" y="3340080"/>
            <a:ext cx="60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赋者，敷陈其事而直言之者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203"/>
          <p:cNvSpPr/>
          <p:nvPr/>
        </p:nvSpPr>
        <p:spPr>
          <a:xfrm>
            <a:off x="2627280" y="4200480"/>
            <a:ext cx="515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比者，以彼物比此物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204"/>
          <p:cNvSpPr/>
          <p:nvPr/>
        </p:nvSpPr>
        <p:spPr>
          <a:xfrm>
            <a:off x="2627280" y="5064120"/>
            <a:ext cx="611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兴者，先言他物以引起所咏之词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93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1"/>
          <p:cNvSpPr/>
          <p:nvPr/>
        </p:nvSpPr>
        <p:spPr>
          <a:xfrm>
            <a:off x="754200" y="1663560"/>
            <a:ext cx="80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诗讲了一个什么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表现男主人公的相思之苦和追求过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852480" y="2428920"/>
            <a:ext cx="58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一个男子对一位女子的相思和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3"/>
          <a:stretch/>
        </p:blipFill>
        <p:spPr>
          <a:xfrm>
            <a:off x="7259760" y="662040"/>
            <a:ext cx="16603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250920" y="1185840"/>
            <a:ext cx="86421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见物起兴，直写自己的愿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立在河洲上鸣叫的关雎起兴，引出淑女是君子喜爱的配偶的情思，奠定全篇的基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412"/>
          <p:cNvSpPr/>
          <p:nvPr/>
        </p:nvSpPr>
        <p:spPr>
          <a:xfrm>
            <a:off x="3875040" y="39607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关关雎鸠   所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河之洲   所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窈窕淑女   所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君子好逑   所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大括号 2"/>
          <p:cNvSpPr/>
          <p:nvPr/>
        </p:nvSpPr>
        <p:spPr>
          <a:xfrm>
            <a:off x="6732720" y="3932280"/>
            <a:ext cx="287280" cy="1800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800360"/>
              <a:gd name="textAreaBottom" fmla="*/ 1793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7"/>
                </a:cubicBezTo>
                <a:lnTo>
                  <a:pt x="10800" y="10513"/>
                </a:lnTo>
                <a:cubicBezTo>
                  <a:pt x="10800" y="10657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7"/>
                </a:cubicBezTo>
                <a:lnTo>
                  <a:pt x="10800" y="21313"/>
                </a:lnTo>
                <a:cubicBezTo>
                  <a:pt x="10800" y="2145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"/>
          <p:cNvSpPr/>
          <p:nvPr/>
        </p:nvSpPr>
        <p:spPr>
          <a:xfrm>
            <a:off x="7346880" y="425304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层次突出语约义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细读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二、三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写自己的爱慕之心和相思之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位采荇菜的姑娘在水边劳动时的窈窕身影，使他日夜相思，已到了长夜不眠的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"/>
          <p:cNvSpPr/>
          <p:nvPr/>
        </p:nvSpPr>
        <p:spPr>
          <a:xfrm>
            <a:off x="3841920" y="3686040"/>
            <a:ext cx="41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4" descr=""/>
          <p:cNvPicPr/>
          <p:nvPr/>
        </p:nvPicPr>
        <p:blipFill>
          <a:blip r:embed="rId2"/>
          <a:stretch/>
        </p:blipFill>
        <p:spPr>
          <a:xfrm>
            <a:off x="162000" y="4594320"/>
            <a:ext cx="34527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四、五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设想愿望实现时的欢乐场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君子兴奋地弹奏琴瑟，敲击钟鼓来亲近她，友爱她，并使她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184640" y="3219480"/>
            <a:ext cx="4167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250920" y="3376440"/>
            <a:ext cx="3205080" cy="29480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6" descr=""/>
          <p:cNvPicPr/>
          <p:nvPr/>
        </p:nvPicPr>
        <p:blipFill>
          <a:blip r:embed="rId3"/>
          <a:stretch/>
        </p:blipFill>
        <p:spPr>
          <a:xfrm>
            <a:off x="6141960" y="4786200"/>
            <a:ext cx="26942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00Z</dcterms:created>
  <dc:creator/>
  <dc:description/>
  <cp:keywords/>
  <dc:language>en-US</dc:language>
  <cp:lastModifiedBy>微软用户</cp:lastModifiedBy>
  <dcterms:modified xsi:type="dcterms:W3CDTF">2019-03-13T03:09:04Z</dcterms:modified>
  <cp:revision>4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