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34B-E76F-4B73-AD39-D84CE0CC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DB8-3AF7-4271-89DF-8F88DCA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3B09-2188-42D0-B6F6-3390A13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A4B9B-2672-4E32-B112-973358B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13C63-EE66-4352-BBF8-8B68CC01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2C7B7-DBE5-4488-A7B0-8E040A28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4283-1026-475F-A76A-795EEB2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D7BC-3958-489D-B49B-F6E020F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EA47-2383-4908-83E7-FD299171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E4CBA-B43A-420A-BF9D-4CDB81BD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B4012-797C-4488-BC26-6FE6CF10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67E01-514A-48F6-9FF3-B44C4DA6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6D2-29B7-4D81-983D-9354B2C7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4738D-BD9C-41B2-AE12-F4E8793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522F5-801C-40C5-98D4-1037F75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FB2ED-769F-4726-B374-7147F251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3E64A-BA6C-48D7-8E44-9EA19FE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EB530-0DFE-4697-A4FC-6FC63DC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0D90-88FB-449F-9D7E-4CC61C0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425F-EEEA-4B81-BF2B-CC5E2DA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106FB-F631-420B-9A94-1EA914B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CBE3D-5411-46E9-99AF-0F7668E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B280B-D932-47A3-89D4-7C4E9E01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0F9-86BD-4DA2-8260-0EA2ECCC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0BA24-77BF-46EC-9348-40295F17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92EF-2281-40FC-8D9F-BF03B9F8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8EFB-1588-4E87-A162-B62BB99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2E4A-54C0-43A6-B7B9-6BC5007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6CE13-01F5-48E4-8A11-420A4C1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45FE7-121D-4612-B92A-5ECC8CA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8F12-AC9E-4B94-9A1F-F293F2C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2548-0D52-4478-B76B-6CE3F8F6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E2A6-053E-417C-841B-1E43A78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5656-9323-48D6-9227-9CF4886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8AEC-2F1E-41E1-80FE-71A7B379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0093-6411-431D-9E7F-B7EA208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24CCB-EF5B-47CC-AC1F-C28A25DC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28C5-54A8-4394-9ED0-FC80BA1C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87D-B642-4B7B-9EB1-64CD63C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679-92A1-4A69-A081-EE1174A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F14-4A49-4723-ADBB-B0FA86F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B1F-28EB-4B18-8761-DC1E07DE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5F0-632B-486E-AAB4-C36363B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EEE-25D9-483A-B4CB-08DF5CD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372-5C75-4BC9-AD2F-2CBBE07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4C3A-2EC0-4DA3-8BA3-98B72F1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9894-F00F-4985-9377-1D32230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DFAA-FDCB-477A-9C39-F2A6BAA6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BAD-3933-4505-934C-6E4BC374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396-66AC-4ED6-B8E3-0FAFF17F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6A67-EF6A-4C2B-A9A3-DA62E73F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3543-1F35-45DD-A674-490E7016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DC5D-7F98-4E24-9804-D465B1B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77BC-3332-480E-A111-FC007268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7E60-F658-468B-BC9C-AE2865BA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A15-0B61-4226-97FE-8AD82DF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9B0E-42E7-4088-AD47-FC3CC044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FE45-6E0C-4B70-ADEF-EBE56FF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C527-398B-4ADD-BD46-A37A27F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A2A8-26E9-4A34-8147-A4BCB6DA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E74D-3231-402E-BBDC-08E52971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3EA7-B138-48E7-B0A3-54BE61E5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6BE9-F202-47ED-BE9C-8EDC2E73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A500-9F28-481C-B904-46E550B3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F644-75A2-4BD7-803E-4047DF6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E746-9639-459C-BB6E-9617E6C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FD2-BE71-4C69-A3D5-6A2DD2F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EAF1-0394-4CE0-8D43-323B276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01C3-B901-43A7-AB66-2668D499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2FFF-C153-4B08-B89B-ED3FBAB1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33B8-7AA7-4554-B899-C3622E6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0242-CA45-41B4-ADC4-545C1BD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7485-F74F-4808-8E95-995FDCD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8B95-7D4B-44B7-9B68-F5D2CDB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E7EB-59E7-4B61-8C64-309EC1F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D81C-A17F-4A5F-A5BC-8B470049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3AE6B-BBAE-466A-B0A2-EA067BF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A4E-1302-400A-AE1C-2AFEB8B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86CF9-5E46-47D3-8746-0A78282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22C52-A413-4CF4-9668-77796EE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2B13B-A7B4-4AF6-89A3-747928B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7C818-E2C9-4225-97A1-FE6640AC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CA1AD-6A8E-42D4-B12B-D653B092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5EA2C-4CFF-4A5F-B222-BF976DA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EB658-2FE3-42CF-A433-726C0E4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93811-E968-4EDD-8E63-3502B26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2DC85-6FA8-4AD0-A8DD-957F502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89547-2608-4A65-A933-3F3905F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47F-4411-4E7D-92D9-21F4128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76304-2335-4578-A476-72710C95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794A-B940-4AC3-8BB7-4B3C59A6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BC58-7777-4CF7-9017-EC60655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2228-7702-4E82-BEBA-132F986B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FD4D-556F-43E7-9C2C-EC81CE8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7D68-354E-4BEA-8C49-8851CA8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1A2E0-0937-4E54-BEDF-F1C1689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F9F6-D881-47DC-867D-747BF1E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C7CA-9B0D-40A7-ABE1-B75FFCE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5ED8-B1B0-4A0E-8007-292B4B4B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176-14B0-469F-9B2B-6956235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7776-C156-4BC0-9D1D-AE41334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744E-0B79-4DE8-B9B4-E2F20F74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F9ED-7B23-49A3-AB13-373CC01F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2410-A552-4CFE-A853-F7EA5383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BAC13-4DE1-4EB1-9A04-65C323E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A118-39BE-45C5-8323-0D999EFE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7906-AE4E-43CB-90F3-1EC7EE5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7C34-DDC6-4CDF-AFC3-65D0EC1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55A5-E654-42DE-A00E-D7EEEF4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8B7B-46B5-4B62-AA85-45B6372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EE4-6E88-4240-AABE-248C7DB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AE6C-FE4B-40A2-93E1-C5A548C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25A7-A597-4939-B990-4D586E5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C369-BF0C-4878-ABBC-29A0234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B26F-B8F3-416B-8F72-D0143C48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A3C1-0CD4-4F7F-87B9-E91EF9F2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3E64-AA56-4DC8-95EB-4BE78401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5B03-9A98-4D52-929A-9473F106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173F-CD9A-48FC-9FA3-9A70422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12B15-836F-4281-8012-D4CCEC9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5739-5DF4-4EAA-9622-2D9F2C8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9B5-E2AC-47D4-8859-8A24B33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0FC0-30E9-46FB-BC8D-859AABAF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4A07-A2C1-44F3-BC3E-D6D6D3E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F23E-81C1-42BB-84BB-5D20E78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5CE5-F45D-40BB-8C05-3BD3DD6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D952-8E77-4782-AFBC-985EC88B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3DC7-0486-419C-8EDA-350D5CE0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F6A0B-A66E-4E74-A6E1-599A44F7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4E8E-E7D4-4A15-8F74-FF7D9DFC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D4404-68B0-4769-9823-F278A88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8B56C-2CFC-4305-BF92-D4077D6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8A96-64AE-4CE8-B315-5B6D41555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7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40D7-1538-4353-9CFA-57BEF6C259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4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95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D86B-2D3B-4B2B-A6D8-BB0EDC3B86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B55D-DA29-4A16-BE0C-487C0263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031-66A3-4875-A637-55CF8C0A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C494-687E-42E6-AAED-7F6D3C72F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B329-88DA-4F03-ACEB-7EAD083664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0C6-3519-4357-809D-336D58FE4C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521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5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524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>
                    <a:gd name="textAreaLeft" fmla="*/ 0 w 808200"/>
                    <a:gd name="textAreaRight" fmla="*/ 808560 w 8082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>
                    <a:gd name="textAreaLeft" fmla="*/ 0 w 1213200"/>
                    <a:gd name="textAreaRight" fmla="*/ 1213560 w 1213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7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>
              <a:off x="5141160" y="1036080"/>
              <a:ext cx="1085040" cy="511200"/>
            </a:xfrm>
            <a:custGeom>
              <a:avLst/>
              <a:gdLst>
                <a:gd name="textAreaLeft" fmla="*/ 0 w 1085040"/>
                <a:gd name="textAreaRight" fmla="*/ 1085400 w 1085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385680" y="2482920"/>
              <a:ext cx="800640" cy="829080"/>
            </a:xfrm>
            <a:custGeom>
              <a:avLst/>
              <a:gdLst>
                <a:gd name="textAreaLeft" fmla="*/ 0 w 800640"/>
                <a:gd name="textAreaRight" fmla="*/ 801000 w 80064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>
                <a:gd name="textAreaLeft" fmla="*/ 0 w 938880"/>
                <a:gd name="textAreaRight" fmla="*/ 939240 w 93888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8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3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B8C-25B9-469D-950D-7B542109A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B446-D857-439D-807E-CA293F46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30E0-3455-425F-B41A-BD78A3102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图片 2" descr="4471174_4471174_1278677948156_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1002" name="矩形 2" descr=""/>
          <p:cNvPicPr/>
          <p:nvPr/>
        </p:nvPicPr>
        <p:blipFill>
          <a:blip r:embed="rId2"/>
          <a:stretch/>
        </p:blipFill>
        <p:spPr>
          <a:xfrm>
            <a:off x="1828800" y="384120"/>
            <a:ext cx="5486400" cy="12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t01a7eb9d6457d47ae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4" descr="荷花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6"/>
          <p:cNvSpPr/>
          <p:nvPr/>
        </p:nvSpPr>
        <p:spPr>
          <a:xfrm>
            <a:off x="1692360" y="90792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黑体"/>
                <a:ea typeface="黑体"/>
              </a:rPr>
              <a:t>荷花淀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2252520" y="836640"/>
            <a:ext cx="4204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通过对话展示人物性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诗情画意般的环境描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3" descr="荷塘月色-荷花7"/>
          <p:cNvPicPr/>
          <p:nvPr/>
        </p:nvPicPr>
        <p:blipFill>
          <a:blip r:embed="rId1"/>
          <a:stretch/>
        </p:blipFill>
        <p:spPr>
          <a:xfrm>
            <a:off x="5435640" y="4476600"/>
            <a:ext cx="370836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" descr="t01a7eb9d6457d47ae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2" descr="wx_t2_3"/>
          <p:cNvPicPr/>
          <p:nvPr/>
        </p:nvPicPr>
        <p:blipFill>
          <a:blip r:embed="rId1"/>
          <a:stretch/>
        </p:blipFill>
        <p:spPr>
          <a:xfrm>
            <a:off x="4932360" y="26028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3"/>
          <p:cNvSpPr/>
          <p:nvPr/>
        </p:nvSpPr>
        <p:spPr>
          <a:xfrm>
            <a:off x="0" y="549360"/>
            <a:ext cx="49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犁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3—20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北省安平县人，“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”事变前夕，曾在白洋淀当过小学教师。抗战以后参加晋察冀边区的革命工作。他的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白洋淀纪事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在延安写的，其中许多短篇，深刻地反映了冀中儿女在抗日战争时期的精神风貌，具有鲜明的时代特色。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荷花淀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他的代表作品之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4" descr="hh"/>
          <p:cNvPicPr/>
          <p:nvPr/>
        </p:nvPicPr>
        <p:blipFill>
          <a:blip r:embed="rId2"/>
          <a:stretch/>
        </p:blipFill>
        <p:spPr>
          <a:xfrm>
            <a:off x="4788000" y="3860640"/>
            <a:ext cx="3995640" cy="251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1"/>
          <p:cNvSpPr/>
          <p:nvPr/>
        </p:nvSpPr>
        <p:spPr>
          <a:xfrm>
            <a:off x="0" y="0"/>
            <a:ext cx="925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家作品及创作风格：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孙犁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13—199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原名孙树勋，河北安平县人，现代作家。主要作品有长篇小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Arial"/>
              </a:rPr>
              <a:t>风云初记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中篇小说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铁木前传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短篇小说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白洋淀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荷花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采蒲台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嘱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小说散文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白洋淀纪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。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4"/>
          <p:cNvSpPr/>
          <p:nvPr/>
        </p:nvSpPr>
        <p:spPr>
          <a:xfrm>
            <a:off x="0" y="40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洋淀纪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结集显示了作家成熟了的独特的艺术风格，这就是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淡雅疏朗的诗情画意与朴素清新的泥土气息的完美统一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这一独特风格对当代文学发生极大的影响，造成一个数量相当可观的河北作家群，被当代文坛誉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荷花淀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山药蛋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赵树理风格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齐名。由于他这一独特的艺术风格，他的小说又被称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诗体小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Text Box 4"/>
          <p:cNvSpPr/>
          <p:nvPr/>
        </p:nvSpPr>
        <p:spPr>
          <a:xfrm>
            <a:off x="0" y="10152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</a:rPr>
              <a:t>情节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"/>
          <p:cNvSpPr/>
          <p:nvPr/>
        </p:nvSpPr>
        <p:spPr>
          <a:xfrm>
            <a:off x="2987640" y="1628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夫妻夜话挥泪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59280" y="2997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探夫未遇反遇敌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3059280" y="44370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助夫杀敌成长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0" y="274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节              对话                   性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611280" y="256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3960" y="129816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夫妻夜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8"/>
          <p:cNvSpPr/>
          <p:nvPr/>
        </p:nvSpPr>
        <p:spPr>
          <a:xfrm>
            <a:off x="1403280" y="134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问：“今天怎么回来得这么晚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"/>
          <p:cNvSpPr/>
          <p:nvPr/>
        </p:nvSpPr>
        <p:spPr>
          <a:xfrm>
            <a:off x="1619280" y="3213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0"/>
          <p:cNvSpPr/>
          <p:nvPr/>
        </p:nvSpPr>
        <p:spPr>
          <a:xfrm>
            <a:off x="1547640" y="33577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总是很积极的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1"/>
          <p:cNvSpPr/>
          <p:nvPr/>
        </p:nvSpPr>
        <p:spPr>
          <a:xfrm>
            <a:off x="7164360" y="13255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关切责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2"/>
          <p:cNvSpPr/>
          <p:nvPr/>
        </p:nvSpPr>
        <p:spPr>
          <a:xfrm>
            <a:off x="7164360" y="17575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聪明智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3"/>
          <p:cNvSpPr/>
          <p:nvPr/>
        </p:nvSpPr>
        <p:spPr>
          <a:xfrm>
            <a:off x="7164360" y="218916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柔中有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4"/>
          <p:cNvSpPr/>
          <p:nvPr/>
        </p:nvSpPr>
        <p:spPr>
          <a:xfrm>
            <a:off x="7164360" y="26226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嗔怪关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730908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自豪埋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6"/>
          <p:cNvSpPr/>
          <p:nvPr/>
        </p:nvSpPr>
        <p:spPr>
          <a:xfrm>
            <a:off x="7020000" y="4221000"/>
            <a:ext cx="16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爱的理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7"/>
          <p:cNvSpPr/>
          <p:nvPr/>
        </p:nvSpPr>
        <p:spPr>
          <a:xfrm>
            <a:off x="7020000" y="378936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勇挑重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8"/>
          <p:cNvSpPr/>
          <p:nvPr/>
        </p:nvSpPr>
        <p:spPr>
          <a:xfrm>
            <a:off x="7020000" y="4724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情深意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6372360" y="5013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0"/>
          <p:cNvSpPr/>
          <p:nvPr/>
        </p:nvSpPr>
        <p:spPr>
          <a:xfrm>
            <a:off x="7020000" y="537372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温柔和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3"/>
          <p:cNvSpPr/>
          <p:nvPr/>
        </p:nvSpPr>
        <p:spPr>
          <a:xfrm>
            <a:off x="2071440" y="1767960"/>
            <a:ext cx="24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问：“他们几个呢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7"/>
          <p:cNvSpPr/>
          <p:nvPr/>
        </p:nvSpPr>
        <p:spPr>
          <a:xfrm>
            <a:off x="2505600" y="2348640"/>
            <a:ext cx="37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问：“他们几个为什么还不回来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9"/>
          <p:cNvSpPr/>
          <p:nvPr/>
        </p:nvSpPr>
        <p:spPr>
          <a:xfrm>
            <a:off x="2074320" y="2775960"/>
            <a:ext cx="251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问：“怎么了，你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1"/>
          <p:cNvSpPr/>
          <p:nvPr/>
        </p:nvSpPr>
        <p:spPr>
          <a:xfrm>
            <a:off x="2535480" y="3712680"/>
            <a:ext cx="366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走，我不拦你，家里怎么办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3575520" y="422028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明白家里的难处就好了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35"/>
          <p:cNvSpPr/>
          <p:nvPr/>
        </p:nvSpPr>
        <p:spPr>
          <a:xfrm>
            <a:off x="2247840" y="4723560"/>
            <a:ext cx="28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有什么话嘱咐我吧！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7"/>
          <p:cNvSpPr/>
          <p:nvPr/>
        </p:nvSpPr>
        <p:spPr>
          <a:xfrm>
            <a:off x="2032200" y="566028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嗯，还有什么？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/>
          <p:cNvSpPr/>
          <p:nvPr/>
        </p:nvSpPr>
        <p:spPr>
          <a:xfrm>
            <a:off x="1672560" y="515700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嗯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17"/>
          <p:cNvGrpSpPr/>
          <p:nvPr/>
        </p:nvGrpSpPr>
        <p:grpSpPr>
          <a:xfrm>
            <a:off x="755640" y="3500280"/>
            <a:ext cx="7489800" cy="3024360"/>
            <a:chOff x="755640" y="3500280"/>
            <a:chExt cx="7489800" cy="3024360"/>
          </a:xfrm>
        </p:grpSpPr>
        <p:sp>
          <p:nvSpPr>
            <p:cNvPr id="1051" name="AutoShape 10"/>
            <p:cNvSpPr/>
            <p:nvPr/>
          </p:nvSpPr>
          <p:spPr>
            <a:xfrm>
              <a:off x="755640" y="3500280"/>
              <a:ext cx="7489800" cy="3024360"/>
            </a:xfrm>
            <a:prstGeom prst="wedgeEllipseCallout">
              <a:avLst>
                <a:gd name="adj1" fmla="val -52416"/>
                <a:gd name="adj2" fmla="val -91944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1"/>
            <p:cNvSpPr/>
            <p:nvPr/>
          </p:nvSpPr>
          <p:spPr>
            <a:xfrm>
              <a:off x="3068280" y="4076640"/>
              <a:ext cx="3198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平衡情绪，不让丈夫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看到自己的软弱，显示了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她性格中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坚强</a:t>
              </a: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的一面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Rectangle 5"/>
          <p:cNvSpPr/>
          <p:nvPr/>
        </p:nvSpPr>
        <p:spPr>
          <a:xfrm>
            <a:off x="324000" y="620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女人的手指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震动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了一下，想是叫苇眉子划破了手，她把一个手指放在嘴里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吮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了一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395280" y="2565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细节描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16"/>
          <p:cNvGrpSpPr/>
          <p:nvPr/>
        </p:nvGrpSpPr>
        <p:grpSpPr>
          <a:xfrm>
            <a:off x="971640" y="3394080"/>
            <a:ext cx="7632360" cy="3463560"/>
            <a:chOff x="971640" y="3394080"/>
            <a:chExt cx="7632360" cy="3463560"/>
          </a:xfrm>
        </p:grpSpPr>
        <p:sp>
          <p:nvSpPr>
            <p:cNvPr id="1056" name="AutoShape 14"/>
            <p:cNvSpPr/>
            <p:nvPr/>
          </p:nvSpPr>
          <p:spPr>
            <a:xfrm>
              <a:off x="971640" y="3394080"/>
              <a:ext cx="7632360" cy="3463560"/>
            </a:xfrm>
            <a:prstGeom prst="wedgeEllipseCallout">
              <a:avLst>
                <a:gd name="adj1" fmla="val -10337"/>
                <a:gd name="adj2" fmla="val -11924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5"/>
            <p:cNvSpPr/>
            <p:nvPr/>
          </p:nvSpPr>
          <p:spPr>
            <a:xfrm>
              <a:off x="2353320" y="3865680"/>
              <a:ext cx="52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丈夫明天就要到大部队去，的确出乎意料，不由自主地手指震动，这是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内心震动</a:t>
              </a:r>
              <a:r>
                <a:rPr b="1" lang="zh-CN" sz="3600" spc="-1" strike="noStrike">
                  <a:solidFill>
                    <a:srgbClr val="6600ff"/>
                  </a:solidFill>
                  <a:latin typeface="Arial"/>
                </a:rPr>
                <a:t>的外在表现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图片 1" descr="4427728_4427728_1278324247218_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AutoShape 11"/>
          <p:cNvSpPr/>
          <p:nvPr/>
        </p:nvSpPr>
        <p:spPr>
          <a:xfrm>
            <a:off x="0" y="549360"/>
            <a:ext cx="9144000" cy="3887640"/>
          </a:xfrm>
          <a:prstGeom prst="cloudCallout">
            <a:avLst>
              <a:gd name="adj1" fmla="val -44287"/>
              <a:gd name="adj2" fmla="val 6114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67680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生嫂形象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5"/>
          <p:cNvSpPr/>
          <p:nvPr/>
        </p:nvSpPr>
        <p:spPr>
          <a:xfrm>
            <a:off x="3448080" y="105264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勤劳善良  温柔体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3368520" y="177336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慧 柔韧 多情坚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3368520" y="24210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丈夫  顾全大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3636360" y="31417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满爱心 爱家乡 爱亲人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10" descr="小荷花5"/>
          <p:cNvPicPr/>
          <p:nvPr/>
        </p:nvPicPr>
        <p:blipFill>
          <a:blip r:embed="rId1"/>
          <a:stretch/>
        </p:blipFill>
        <p:spPr>
          <a:xfrm>
            <a:off x="6084720" y="4419720"/>
            <a:ext cx="3059280" cy="243828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12"/>
          <p:cNvSpPr/>
          <p:nvPr/>
        </p:nvSpPr>
        <p:spPr>
          <a:xfrm>
            <a:off x="755640" y="47242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都是她由家庭妇女成长为游击战士的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思想基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4"/>
          <p:cNvSpPr/>
          <p:nvPr/>
        </p:nvSpPr>
        <p:spPr>
          <a:xfrm>
            <a:off x="0" y="274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节                对话                       性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"/>
          <p:cNvSpPr/>
          <p:nvPr/>
        </p:nvSpPr>
        <p:spPr>
          <a:xfrm>
            <a:off x="-910440" y="1844640"/>
            <a:ext cx="2009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商量探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1403280" y="1052640"/>
            <a:ext cx="58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说他们还在这里没走。我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拖尾巴，可是忘下了一件衣裳。”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6877080" y="1197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机智伶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6877080" y="2205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爽朗直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6877080" y="3141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性急冒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1"/>
          <p:cNvSpPr/>
          <p:nvPr/>
        </p:nvSpPr>
        <p:spPr>
          <a:xfrm>
            <a:off x="6877080" y="4365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忸怩羞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13"/>
          <p:cNvSpPr/>
          <p:nvPr/>
        </p:nvSpPr>
        <p:spPr>
          <a:xfrm rot="16200000">
            <a:off x="4995000" y="2358000"/>
            <a:ext cx="504720" cy="6535800"/>
          </a:xfrm>
          <a:custGeom>
            <a:avLst/>
            <a:gdLst>
              <a:gd name="textAreaLeft" fmla="*/ 322560 w 504720"/>
              <a:gd name="textAreaRight" fmla="*/ 505080 w 504720"/>
              <a:gd name="textAreaTop" fmla="*/ 170280 h 6535800"/>
              <a:gd name="textAreaBottom" fmla="*/ 6365520 h 653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14"/>
          <p:cNvSpPr/>
          <p:nvPr/>
        </p:nvSpPr>
        <p:spPr>
          <a:xfrm>
            <a:off x="3251520" y="5950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乐观可爱的水乡女儿群体形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6"/>
          <p:cNvSpPr/>
          <p:nvPr/>
        </p:nvSpPr>
        <p:spPr>
          <a:xfrm>
            <a:off x="2341800" y="2848320"/>
            <a:ext cx="319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里就碰得那么巧，我们快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回来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8"/>
          <p:cNvSpPr/>
          <p:nvPr/>
        </p:nvSpPr>
        <p:spPr>
          <a:xfrm>
            <a:off x="2422080" y="3929400"/>
            <a:ext cx="353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本来不想去，可是俺婆婆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我再去看看他，有什么看头啊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0"/>
          <p:cNvSpPr/>
          <p:nvPr/>
        </p:nvSpPr>
        <p:spPr>
          <a:xfrm>
            <a:off x="3618000" y="2199960"/>
            <a:ext cx="7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有句要紧的话得和他说说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4"/>
          <p:cNvSpPr/>
          <p:nvPr/>
        </p:nvSpPr>
        <p:spPr>
          <a:xfrm>
            <a:off x="0" y="27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节         对话                                性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-819720" y="2133720"/>
            <a:ext cx="1826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胜利之后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7"/>
          <p:cNvSpPr/>
          <p:nvPr/>
        </p:nvSpPr>
        <p:spPr>
          <a:xfrm>
            <a:off x="1187280" y="119700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好像我们给他们丢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人似的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6804000" y="2133720"/>
            <a:ext cx="20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不甘落后追求进步追求平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勇敢自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1"/>
          <p:cNvSpPr/>
          <p:nvPr/>
        </p:nvSpPr>
        <p:spPr>
          <a:xfrm>
            <a:off x="1258920" y="270252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生嫂，回去我们也成立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伍，不然以后还能出门吗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3"/>
          <p:cNvSpPr/>
          <p:nvPr/>
        </p:nvSpPr>
        <p:spPr>
          <a:xfrm>
            <a:off x="2442600" y="4281840"/>
            <a:ext cx="338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当上兵就小看我们，过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更把我们看得一钱不值了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比谁落后多少呢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4"/>
          <p:cNvSpPr/>
          <p:nvPr/>
        </p:nvSpPr>
        <p:spPr>
          <a:xfrm>
            <a:off x="0" y="27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情节         对话          性格             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5"/>
          <p:cNvSpPr/>
          <p:nvPr/>
        </p:nvSpPr>
        <p:spPr>
          <a:xfrm>
            <a:off x="468360" y="27813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商量探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468360" y="14130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夫妻夜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7"/>
          <p:cNvSpPr/>
          <p:nvPr/>
        </p:nvSpPr>
        <p:spPr>
          <a:xfrm>
            <a:off x="539640" y="4797360"/>
            <a:ext cx="11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胜利之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9"/>
          <p:cNvSpPr/>
          <p:nvPr/>
        </p:nvSpPr>
        <p:spPr>
          <a:xfrm>
            <a:off x="2557440" y="148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20"/>
          <p:cNvSpPr/>
          <p:nvPr/>
        </p:nvSpPr>
        <p:spPr>
          <a:xfrm>
            <a:off x="4861080" y="1557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1"/>
          <p:cNvSpPr/>
          <p:nvPr/>
        </p:nvSpPr>
        <p:spPr>
          <a:xfrm>
            <a:off x="4861080" y="472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2"/>
          <p:cNvSpPr/>
          <p:nvPr/>
        </p:nvSpPr>
        <p:spPr>
          <a:xfrm>
            <a:off x="2557440" y="47242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3"/>
          <p:cNvSpPr/>
          <p:nvPr/>
        </p:nvSpPr>
        <p:spPr>
          <a:xfrm>
            <a:off x="2557440" y="2997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4"/>
          <p:cNvSpPr/>
          <p:nvPr/>
        </p:nvSpPr>
        <p:spPr>
          <a:xfrm>
            <a:off x="4789800" y="299736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7380360" y="1989000"/>
            <a:ext cx="12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家庭主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7524720" y="450864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游击战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29"/>
          <p:cNvSpPr/>
          <p:nvPr/>
        </p:nvSpPr>
        <p:spPr>
          <a:xfrm>
            <a:off x="6372360" y="1916280"/>
            <a:ext cx="936360" cy="1490400"/>
          </a:xfrm>
          <a:custGeom>
            <a:avLst/>
            <a:gdLst>
              <a:gd name="textAreaLeft" fmla="*/ 0 w 936360"/>
              <a:gd name="textAreaRight" fmla="*/ 338040 w 93636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30"/>
          <p:cNvSpPr/>
          <p:nvPr/>
        </p:nvSpPr>
        <p:spPr>
          <a:xfrm>
            <a:off x="6516720" y="4724280"/>
            <a:ext cx="792000" cy="770040"/>
          </a:xfrm>
          <a:custGeom>
            <a:avLst/>
            <a:gdLst>
              <a:gd name="textAreaLeft" fmla="*/ 0 w 792000"/>
              <a:gd name="textAreaRight" fmla="*/ 285840 w 79200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31"/>
          <p:cNvSpPr/>
          <p:nvPr/>
        </p:nvSpPr>
        <p:spPr>
          <a:xfrm rot="5400000">
            <a:off x="7494840" y="35298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4"/>
          <p:cNvSpPr/>
          <p:nvPr/>
        </p:nvSpPr>
        <p:spPr>
          <a:xfrm>
            <a:off x="0" y="476280"/>
            <a:ext cx="9144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我喜爱写欢乐的东西，我以为女人比男人更乐观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而人生的悲欢离合总是与她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们有关，所以常常以崇拜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心情写到她们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孙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5" descr="小荷花3"/>
          <p:cNvPicPr/>
          <p:nvPr/>
        </p:nvPicPr>
        <p:blipFill>
          <a:blip r:embed="rId1"/>
          <a:stretch/>
        </p:blipFill>
        <p:spPr>
          <a:xfrm>
            <a:off x="5334120" y="407664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4"/>
          <p:cNvSpPr/>
          <p:nvPr/>
        </p:nvSpPr>
        <p:spPr>
          <a:xfrm>
            <a:off x="462600" y="11916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539640" y="126828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中国妇女为切入点，再现了抗日战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大题材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（以小见大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勤劳善良的劳动妇女，在战争年代表现出既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温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坚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既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爱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爱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崇高品质，这是根据地人民的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精神风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是抗战胜利的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精神源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fefd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611280" y="1268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中国妇女起来之日，就是中国革命胜利之时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毛泽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7"/>
          <p:cNvSpPr/>
          <p:nvPr/>
        </p:nvSpPr>
        <p:spPr>
          <a:xfrm>
            <a:off x="3179160" y="42210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渲染清新宁静的氛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3179160" y="5013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人物活动提供背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3637800" y="58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烘托勤劳纯朴的人物形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2" descr="荷躺22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1109" name="Text Box 13"/>
          <p:cNvSpPr/>
          <p:nvPr/>
        </p:nvSpPr>
        <p:spPr>
          <a:xfrm>
            <a:off x="3960" y="-14184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月夜荷香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8" descr="荷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Text Box 9"/>
          <p:cNvSpPr/>
          <p:nvPr/>
        </p:nvSpPr>
        <p:spPr>
          <a:xfrm>
            <a:off x="-807480" y="287280"/>
            <a:ext cx="20091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淀上风光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1" descr="rdn_55c1cf97e1b47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9" descr="别样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8"/>
          <p:cNvSpPr/>
          <p:nvPr/>
        </p:nvSpPr>
        <p:spPr>
          <a:xfrm>
            <a:off x="-515160" y="907920"/>
            <a:ext cx="2009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荷花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矩形 1"/>
          <p:cNvSpPr/>
          <p:nvPr/>
        </p:nvSpPr>
        <p:spPr>
          <a:xfrm>
            <a:off x="0" y="-722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2"/>
          <p:cNvSpPr/>
          <p:nvPr/>
        </p:nvSpPr>
        <p:spPr>
          <a:xfrm>
            <a:off x="0" y="-171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fff9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华北明珠白洋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在华北平原上，有一个美丽的地方，那就是白洋淀。白洋淀由九十多个浅水湖组成，那里一年四季都有迷人的景色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春天，芦苇冒出新芽，生机勃勃，一望无边，像是绿色的海洋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夏天，一片片荷叶挨挨挤挤，一枝枝荷花迎风盛开，有白的，有粉的，还有红的，真好看！淀上渔舟三五成群，渔网上下翻飞，一派繁忙景象。等到鱼儿满舱的时候，一只只渔舟就在落日云霞中向村边划去。从船上飘出的渔歌，洒在荡漾的碧波上，渐渐消失在淡淡的炊烟里。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矩形 1"/>
          <p:cNvSpPr/>
          <p:nvPr/>
        </p:nvSpPr>
        <p:spPr>
          <a:xfrm>
            <a:off x="108000" y="260280"/>
            <a:ext cx="9036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，芦苇泛出金黄，无边的苇絮在秋风中摇摆，淀上像飘浮着一层白云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冬天，白雪皑皑，冰封大淀，一派北国风光。冰床来来往往，像燕子一样轻盈地飞驰在这个巨大的天然滑冰场上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人们把白洋淀称为“华北明珠”。这里每年都吸引了中外很多游人。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4"/>
          <p:cNvSpPr/>
          <p:nvPr/>
        </p:nvSpPr>
        <p:spPr>
          <a:xfrm>
            <a:off x="250920" y="47628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诗体小说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5"/>
          <p:cNvSpPr/>
          <p:nvPr/>
        </p:nvSpPr>
        <p:spPr>
          <a:xfrm>
            <a:off x="324000" y="1773360"/>
            <a:ext cx="84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孙犁用散文般的语言写小说，善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造一种诗一般的意境。这几处环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没有战争的硝烟，只有荷花的清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课文增添了无限的诗情画意，给人一种美的感受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1"/>
          <p:cNvSpPr/>
          <p:nvPr/>
        </p:nvSpPr>
        <p:spPr>
          <a:xfrm>
            <a:off x="684360" y="1557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如今的白洋淀有着怎样的重要性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2" descr="55e34aa55ed711ebcf6fbf6eb50514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00301316850_6c9c24c5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4" descr="荷花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3" name="WordArt 5"/>
          <p:cNvSpPr txBox="1"/>
          <p:nvPr/>
        </p:nvSpPr>
        <p:spPr>
          <a:xfrm>
            <a:off x="3132000" y="2060640"/>
            <a:ext cx="44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0034034824200792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2" descr="t01546ca0a525bbad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t015006c00fde58258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3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63715676_1508479183360_mthumb.jpg"/>
          <p:cNvPicPr/>
          <p:nvPr/>
        </p:nvPicPr>
        <p:blipFill>
          <a:blip r:embed="rId1"/>
          <a:stretch/>
        </p:blipFill>
        <p:spPr>
          <a:xfrm>
            <a:off x="250920" y="189000"/>
            <a:ext cx="8607240" cy="63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16764587_16764587_1356016196500_mthumb.jpg"/>
          <p:cNvPicPr/>
          <p:nvPr/>
        </p:nvPicPr>
        <p:blipFill>
          <a:blip r:embed="rId1"/>
          <a:stretch/>
        </p:blipFill>
        <p:spPr>
          <a:xfrm>
            <a:off x="0" y="0"/>
            <a:ext cx="8893080" cy="710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30210387_30210387_1388627937234_mthumb.jpg"/>
          <p:cNvPicPr/>
          <p:nvPr/>
        </p:nvPicPr>
        <p:blipFill>
          <a:blip r:embed="rId1"/>
          <a:stretch/>
        </p:blipFill>
        <p:spPr>
          <a:xfrm>
            <a:off x="179280" y="-387360"/>
            <a:ext cx="8569440" cy="835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8:57Z</dcterms:created>
  <dc:creator>lz103</dc:creator>
  <dc:description/>
  <dc:language>en-US</dc:language>
  <cp:lastModifiedBy>Administrator</cp:lastModifiedBy>
  <dcterms:modified xsi:type="dcterms:W3CDTF">2019-03-09T03:35:49Z</dcterms:modified>
  <cp:revision>36</cp:revision>
  <dc:subject/>
  <dc:title>幻灯片 1</dc:title>
</cp:coreProperties>
</file>