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1A9-FA63-45D7-8351-B8407A8A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627-B06F-4FB4-B592-DDFA34C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5BDB0-A0BA-4CA2-AC21-7B68D452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2EBF8-D157-421F-8188-5680BF5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47CC-CC1A-45E9-B5CB-E42FC45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069E8-1210-441D-ABD4-D9768C5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424A-5B94-44B7-88DE-81E0E29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78921-1EAB-4624-A92F-0E37AA1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09AC9-13FE-4BE8-8DCA-697DCF5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E83BE-0086-4C46-BC0B-BB678CE0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BDA8-6FC3-4843-A6AA-F5929AE2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2D1EE-94BB-47D0-8E76-ABA3DD07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E5B-6581-40BA-A5E3-3CFC07B0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5A855-79B0-436C-97B0-1F027437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F99DB-CCCD-4D54-A338-A8E14D0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AA83F-32D1-4B05-B4A6-93D2E3A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1D522-A350-4C0C-A062-5BDCA9F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3AC21-CCF5-401D-B789-04EF01B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16AD5-D250-4816-9F16-B7505781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3719D-9B4D-4730-B642-C9903CB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091A3-9F02-4F38-AF9B-19E0ED4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38054-E14B-4542-997C-55F0421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82EE-7A61-4680-A819-DF047CE8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8BB-73F4-411B-AA4B-5EFD0384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E7EE9-71E8-430E-BBD9-EB0E071D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D8F7-8248-4828-86BD-22D6EEC2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14FBC-6E95-4B6A-9836-46C1A8E9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21A3-FAF2-43D2-9377-A343DC54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E75D4-70AE-4E83-BECF-16AB0563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81D07-97B6-4B6E-841E-C385950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B975-070B-4B44-8372-515E7B8C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D7A20-C1C9-4F36-94CE-0E81DE7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B4FB-6F12-4301-B471-570C91C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71398-5606-4644-BE3C-51D1A84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23B-5260-42A1-938D-ECD037E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A269A-67CD-47F8-87A4-01CDD7F3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61E2-6BD8-48DC-B193-52F39290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02DBB-5199-4CE4-8876-AD6769B0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D6D7-F1B1-444A-AA1B-2FB0E8C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B4B6-6743-486B-AC7A-4779CEF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68EB-F497-4B11-870E-6B96909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29C-7888-49E0-94D2-26DA6FA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D53-E070-49F3-A3F8-5F70CA6C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255-6EF5-4245-9354-1F2A49A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D0F-04CB-4E6B-A004-FF9440F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968-4EDC-4EC5-89F5-BED7567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F753-FFB2-4E04-B313-4ADCC04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4F30-84E6-426C-95C1-78401500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A11-112A-4102-AFD0-011B310F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C1B4-FC0A-45AB-9816-F363E669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994E-E09C-46B4-A984-CF0CE676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573F-C588-4221-8300-5AF8182B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C31F-4D3B-4D1B-9D04-45D75A0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D60A-ECD8-466D-B136-4E19345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B7AF-71BF-4D7E-BF66-3E5FFC9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E17-F427-4827-B157-523BB8B5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50B7-FE31-4347-B762-E1188082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7A4E-CCDC-4FEE-B81D-3703B9AD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80E4-06FB-4123-8004-347F6A5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29A3-2CC6-4257-857D-7C2EF0A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AE90-7A11-4FD7-A0E6-74FD2CB7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312D-1DC7-4826-82B6-6AA25F9E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22A2-11EA-4243-B690-A9134DB5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AFA9-9164-4DAE-BDFE-440CDBCF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3BC4-EDBE-4F9C-99FF-30D3726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28CC-53E0-48FA-AD13-CF72BF00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FF9-AFF5-46DD-B848-412856FD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80F9-958E-410C-B2F7-6141B626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F2DC-3AFF-4DC1-9F81-646D0E44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C007-BF83-4CF0-A093-FF9756F9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893C-4BF1-4811-978B-97B9304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3163-9C84-476C-8226-914782E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961D-31CF-41BA-9DC4-34DA309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0E57-335C-4758-85D4-05A1558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E764C-A6FC-4EA0-90E8-4B1F684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33BA-07BE-468C-9988-B5A686A5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FBE60-1C06-4285-A697-95922B4B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98F-740D-421E-B995-A26F4AE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7DB02-4F36-4704-851B-925E265A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10406-57E5-4C67-B401-A8D4062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33928-9F9D-4260-9A99-65E6E93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7A4B4-A953-4F96-B9C8-9EF49F63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2D3EA-B46B-4B43-ADFF-9F95DEA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159D9-8E96-4C7D-9A76-66EB368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6B414-3545-4970-8A6A-01B81FCD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AD17D-58FB-4F33-9307-21756F6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22F37-B739-488A-BAFD-24FD87DF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5DAA8-78EA-4DEF-8683-8F018BF7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1B7-0270-430E-BA31-7F4DBB1F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B31AF-6499-4E3C-BCF9-2AD55426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74E0-ADB4-4C0B-B96C-7A40B0C8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8693-C4BA-44A3-9FBC-8C0F74F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7452-DD99-48A4-A323-DE2647E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9A43-8D91-4516-BFA6-A676AA5D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FB48E-5B17-4099-B0CD-EF9BB59F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3B43-387E-4828-B0B4-9EA4C7B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419A3-047B-4002-9A79-725F001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799E-5EF9-4B1D-AE88-AC781F8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BC90-A924-4536-A578-7A2439E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9FE-3AED-4524-B635-B7861BC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88B8-E9F7-4254-BBA0-BF25254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B280-C64C-481E-A74B-EC4AA21B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C8E7-7498-45E0-AA57-AE95B36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ECA23-D25B-4B94-8FB6-2A7AD6B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2B5F-987E-4118-91ED-8EDF312D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1DD5-D1B3-4670-A430-6C13971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CD36-1F31-42DA-A807-21C8D9B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C4571-83C6-487A-B9C9-21733D6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B7674-CEBF-49F8-97D7-CFF5265E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22C3D-B87F-49D4-8B41-15894D6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9DC-1B84-426D-9229-34E6BA4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8FFD-A120-4D66-A0B5-66E1DB1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ED89-ED82-48F2-9909-5110124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4748-34C3-4825-BFD1-34E6B93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3AAA1-5A9B-4C39-9BEE-4C3CEF5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9C96-92FB-4437-9BEA-8C0265D4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21FA-84BA-41A2-AB28-AEB5BFB8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92D0D-9015-4A5E-8082-6BC29C2C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FA8E-20B8-487F-B1B1-2DB24EDA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022D-5089-4550-B61D-4ECFA65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5927-8661-4249-82F2-5FD4D19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693-7300-4E4F-B862-7ABDD6A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CDA5A-78A5-43FC-B707-229234E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2861-8C79-4A4A-AC64-99001B9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A7C84-CADE-49FF-A77B-864B459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B053-30FB-497C-9C82-33CC4DD6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85B9F-F769-4894-826F-BEF9353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DC28-5318-437B-A5DB-FE16B553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03FF-1510-4A99-81C8-993B0454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B9F9E-CBD0-40DA-BEC2-7D7A1A32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E9276-A176-434D-9593-849DCEB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3530-2989-457F-84A1-C61FB6C4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DB43-1425-4C3F-B588-A7BE958A4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7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AED5-62DA-4652-BF9C-72E2339420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4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95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C77A-9C21-424D-AAE9-DA5A513916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1AF3-A946-460B-8960-63C979F8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491-B7CD-4C3C-A90A-F592148EB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0B8-5DCD-4EE9-9EEC-D167441C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970-A681-4CB7-B76B-94A7857F5A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7653-EEE1-4C5F-BAD1-17730C9E5F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521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5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524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>
                    <a:gd name="textAreaLeft" fmla="*/ 0 w 808200"/>
                    <a:gd name="textAreaRight" fmla="*/ 808560 w 8082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>
                    <a:gd name="textAreaLeft" fmla="*/ 0 w 1213200"/>
                    <a:gd name="textAreaRight" fmla="*/ 1213560 w 1213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7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>
              <a:off x="5141160" y="1036080"/>
              <a:ext cx="1085040" cy="511200"/>
            </a:xfrm>
            <a:custGeom>
              <a:avLst/>
              <a:gdLst>
                <a:gd name="textAreaLeft" fmla="*/ 0 w 1085040"/>
                <a:gd name="textAreaRight" fmla="*/ 1085400 w 1085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385680" y="2482920"/>
              <a:ext cx="800640" cy="829080"/>
            </a:xfrm>
            <a:custGeom>
              <a:avLst/>
              <a:gdLst>
                <a:gd name="textAreaLeft" fmla="*/ 0 w 800640"/>
                <a:gd name="textAreaRight" fmla="*/ 801000 w 80064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>
                <a:gd name="textAreaLeft" fmla="*/ 0 w 938880"/>
                <a:gd name="textAreaRight" fmla="*/ 939240 w 93888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8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3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9457-6896-4440-BAE8-5B50C1300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F567-B572-47AC-94C6-FFC67FF72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74E-0C5C-457F-A33A-C94016610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图片 2" descr="4471174_4471174_1278677948156_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1002" name="矩形 2" descr=""/>
          <p:cNvPicPr/>
          <p:nvPr/>
        </p:nvPicPr>
        <p:blipFill>
          <a:blip r:embed="rId2"/>
          <a:stretch/>
        </p:blipFill>
        <p:spPr>
          <a:xfrm>
            <a:off x="1828800" y="384120"/>
            <a:ext cx="5486400" cy="12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t01a7eb9d6457d47ae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4" descr="荷花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6"/>
          <p:cNvSpPr/>
          <p:nvPr/>
        </p:nvSpPr>
        <p:spPr>
          <a:xfrm>
            <a:off x="1692360" y="90792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黑体"/>
                <a:ea typeface="黑体"/>
              </a:rPr>
              <a:t>荷花淀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2252520" y="836640"/>
            <a:ext cx="4204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通过对话展示人物性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诗情画意般的环境描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3" descr="荷塘月色-荷花7"/>
          <p:cNvPicPr/>
          <p:nvPr/>
        </p:nvPicPr>
        <p:blipFill>
          <a:blip r:embed="rId1"/>
          <a:stretch/>
        </p:blipFill>
        <p:spPr>
          <a:xfrm>
            <a:off x="5435640" y="4476600"/>
            <a:ext cx="370836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" descr="t01a7eb9d6457d47ae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2" descr="wx_t2_3"/>
          <p:cNvPicPr/>
          <p:nvPr/>
        </p:nvPicPr>
        <p:blipFill>
          <a:blip r:embed="rId1"/>
          <a:stretch/>
        </p:blipFill>
        <p:spPr>
          <a:xfrm>
            <a:off x="4932360" y="26028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3"/>
          <p:cNvSpPr/>
          <p:nvPr/>
        </p:nvSpPr>
        <p:spPr>
          <a:xfrm>
            <a:off x="0" y="549360"/>
            <a:ext cx="49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犁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3—20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北省安平县人，“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”事变前夕，曾在白洋淀当过小学教师。抗战以后参加晋察冀边区的革命工作。他的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白洋淀纪事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在延安写的，其中许多短篇，深刻地反映了冀中儿女在抗日战争时期的精神风貌，具有鲜明的时代特色。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荷花淀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他的代表作品之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4" descr="hh"/>
          <p:cNvPicPr/>
          <p:nvPr/>
        </p:nvPicPr>
        <p:blipFill>
          <a:blip r:embed="rId2"/>
          <a:stretch/>
        </p:blipFill>
        <p:spPr>
          <a:xfrm>
            <a:off x="4788000" y="3860640"/>
            <a:ext cx="3995640" cy="251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1"/>
          <p:cNvSpPr/>
          <p:nvPr/>
        </p:nvSpPr>
        <p:spPr>
          <a:xfrm>
            <a:off x="0" y="0"/>
            <a:ext cx="925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家作品及创作风格：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孙犁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13—199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原名孙树勋，河北安平县人，现代作家。主要作品有长篇小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Arial"/>
              </a:rPr>
              <a:t>风云初记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中篇小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铁木前传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短篇小说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白洋淀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荷花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采蒲台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嘱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小说散文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白洋淀纪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。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4"/>
          <p:cNvSpPr/>
          <p:nvPr/>
        </p:nvSpPr>
        <p:spPr>
          <a:xfrm>
            <a:off x="0" y="40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洋淀纪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结集显示了作家成熟了的独特的艺术风格，这就是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淡雅疏朗的诗情画意与朴素清新的泥土气息的完美统一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这一独特风格对当代文学发生极大的影响，造成一个数量相当可观的河北作家群，被当代文坛誉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荷花淀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山药蛋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赵树理风格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齐名。由于他这一独特的艺术风格，他的小说又被称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诗体小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Text Box 4"/>
          <p:cNvSpPr/>
          <p:nvPr/>
        </p:nvSpPr>
        <p:spPr>
          <a:xfrm>
            <a:off x="0" y="10152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</a:rPr>
              <a:t>情节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"/>
          <p:cNvSpPr/>
          <p:nvPr/>
        </p:nvSpPr>
        <p:spPr>
          <a:xfrm>
            <a:off x="2987640" y="1628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夫妻夜话挥泪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59280" y="2997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探夫未遇反遇敌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3059280" y="44370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助夫杀敌成长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0" y="274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节              对话                   性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611280" y="256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3960" y="129816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夫妻夜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8"/>
          <p:cNvSpPr/>
          <p:nvPr/>
        </p:nvSpPr>
        <p:spPr>
          <a:xfrm>
            <a:off x="1403280" y="134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问：“今天怎么回来得这么晚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"/>
          <p:cNvSpPr/>
          <p:nvPr/>
        </p:nvSpPr>
        <p:spPr>
          <a:xfrm>
            <a:off x="1619280" y="3213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0"/>
          <p:cNvSpPr/>
          <p:nvPr/>
        </p:nvSpPr>
        <p:spPr>
          <a:xfrm>
            <a:off x="1547640" y="33577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总是很积极的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1"/>
          <p:cNvSpPr/>
          <p:nvPr/>
        </p:nvSpPr>
        <p:spPr>
          <a:xfrm>
            <a:off x="7164360" y="13255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关切责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2"/>
          <p:cNvSpPr/>
          <p:nvPr/>
        </p:nvSpPr>
        <p:spPr>
          <a:xfrm>
            <a:off x="7164360" y="17575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聪明智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3"/>
          <p:cNvSpPr/>
          <p:nvPr/>
        </p:nvSpPr>
        <p:spPr>
          <a:xfrm>
            <a:off x="7164360" y="218916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柔中有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4"/>
          <p:cNvSpPr/>
          <p:nvPr/>
        </p:nvSpPr>
        <p:spPr>
          <a:xfrm>
            <a:off x="7164360" y="26226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嗔怪关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730908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自豪埋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6"/>
          <p:cNvSpPr/>
          <p:nvPr/>
        </p:nvSpPr>
        <p:spPr>
          <a:xfrm>
            <a:off x="7020000" y="4221000"/>
            <a:ext cx="16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爱的理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7"/>
          <p:cNvSpPr/>
          <p:nvPr/>
        </p:nvSpPr>
        <p:spPr>
          <a:xfrm>
            <a:off x="7020000" y="378936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勇挑重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8"/>
          <p:cNvSpPr/>
          <p:nvPr/>
        </p:nvSpPr>
        <p:spPr>
          <a:xfrm>
            <a:off x="7020000" y="4724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情深意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6372360" y="5013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0"/>
          <p:cNvSpPr/>
          <p:nvPr/>
        </p:nvSpPr>
        <p:spPr>
          <a:xfrm>
            <a:off x="7020000" y="537372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温柔和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3"/>
          <p:cNvSpPr/>
          <p:nvPr/>
        </p:nvSpPr>
        <p:spPr>
          <a:xfrm>
            <a:off x="2071440" y="1767960"/>
            <a:ext cx="24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问：“他们几个呢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7"/>
          <p:cNvSpPr/>
          <p:nvPr/>
        </p:nvSpPr>
        <p:spPr>
          <a:xfrm>
            <a:off x="2505600" y="2348640"/>
            <a:ext cx="37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问：“他们几个为什么还不回来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9"/>
          <p:cNvSpPr/>
          <p:nvPr/>
        </p:nvSpPr>
        <p:spPr>
          <a:xfrm>
            <a:off x="2074320" y="2775960"/>
            <a:ext cx="251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问：“怎么了，你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1"/>
          <p:cNvSpPr/>
          <p:nvPr/>
        </p:nvSpPr>
        <p:spPr>
          <a:xfrm>
            <a:off x="2535480" y="3712680"/>
            <a:ext cx="366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走，我不拦你，家里怎么办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3575520" y="422028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明白家里的难处就好了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35"/>
          <p:cNvSpPr/>
          <p:nvPr/>
        </p:nvSpPr>
        <p:spPr>
          <a:xfrm>
            <a:off x="2247840" y="4723560"/>
            <a:ext cx="28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有什么话嘱咐我吧！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7"/>
          <p:cNvSpPr/>
          <p:nvPr/>
        </p:nvSpPr>
        <p:spPr>
          <a:xfrm>
            <a:off x="2032200" y="566028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嗯，还有什么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/>
          <p:cNvSpPr/>
          <p:nvPr/>
        </p:nvSpPr>
        <p:spPr>
          <a:xfrm>
            <a:off x="1672560" y="515700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嗯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17"/>
          <p:cNvGrpSpPr/>
          <p:nvPr/>
        </p:nvGrpSpPr>
        <p:grpSpPr>
          <a:xfrm>
            <a:off x="755640" y="3500280"/>
            <a:ext cx="7489800" cy="3024360"/>
            <a:chOff x="755640" y="3500280"/>
            <a:chExt cx="7489800" cy="3024360"/>
          </a:xfrm>
        </p:grpSpPr>
        <p:sp>
          <p:nvSpPr>
            <p:cNvPr id="1051" name="AutoShape 10"/>
            <p:cNvSpPr/>
            <p:nvPr/>
          </p:nvSpPr>
          <p:spPr>
            <a:xfrm>
              <a:off x="755640" y="3500280"/>
              <a:ext cx="7489800" cy="3024360"/>
            </a:xfrm>
            <a:prstGeom prst="wedgeEllipseCallout">
              <a:avLst>
                <a:gd name="adj1" fmla="val -52416"/>
                <a:gd name="adj2" fmla="val -91944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1"/>
            <p:cNvSpPr/>
            <p:nvPr/>
          </p:nvSpPr>
          <p:spPr>
            <a:xfrm>
              <a:off x="3068280" y="4076640"/>
              <a:ext cx="3198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平衡情绪，不让丈夫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看到自己的软弱，显示了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她性格中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坚强</a:t>
              </a: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的一面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Rectangle 5"/>
          <p:cNvSpPr/>
          <p:nvPr/>
        </p:nvSpPr>
        <p:spPr>
          <a:xfrm>
            <a:off x="324000" y="620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女人的手指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震动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了一下，想是叫苇眉子划破了手，她把一个手指放在嘴里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吮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了一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395280" y="2565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细节描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16"/>
          <p:cNvGrpSpPr/>
          <p:nvPr/>
        </p:nvGrpSpPr>
        <p:grpSpPr>
          <a:xfrm>
            <a:off x="971640" y="3394080"/>
            <a:ext cx="7632360" cy="3463560"/>
            <a:chOff x="971640" y="3394080"/>
            <a:chExt cx="7632360" cy="3463560"/>
          </a:xfrm>
        </p:grpSpPr>
        <p:sp>
          <p:nvSpPr>
            <p:cNvPr id="1056" name="AutoShape 14"/>
            <p:cNvSpPr/>
            <p:nvPr/>
          </p:nvSpPr>
          <p:spPr>
            <a:xfrm>
              <a:off x="971640" y="3394080"/>
              <a:ext cx="7632360" cy="3463560"/>
            </a:xfrm>
            <a:prstGeom prst="wedgeEllipseCallout">
              <a:avLst>
                <a:gd name="adj1" fmla="val -10337"/>
                <a:gd name="adj2" fmla="val -11924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5"/>
            <p:cNvSpPr/>
            <p:nvPr/>
          </p:nvSpPr>
          <p:spPr>
            <a:xfrm>
              <a:off x="2353320" y="3865680"/>
              <a:ext cx="52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丈夫明天就要到大部队去，的确出乎意料，不由自主地手指震动，这是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内心震动</a:t>
              </a: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的外在表现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图片 1" descr="4427728_4427728_1278324247218_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AutoShape 11"/>
          <p:cNvSpPr/>
          <p:nvPr/>
        </p:nvSpPr>
        <p:spPr>
          <a:xfrm>
            <a:off x="0" y="549360"/>
            <a:ext cx="9144000" cy="3887640"/>
          </a:xfrm>
          <a:prstGeom prst="cloudCallout">
            <a:avLst>
              <a:gd name="adj1" fmla="val -44287"/>
              <a:gd name="adj2" fmla="val 6114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67680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生嫂形象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5"/>
          <p:cNvSpPr/>
          <p:nvPr/>
        </p:nvSpPr>
        <p:spPr>
          <a:xfrm>
            <a:off x="3448080" y="105264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勤劳善良  温柔体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3368520" y="177336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慧 柔韧 多情坚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3368520" y="24210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丈夫  顾全大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3636360" y="31417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满爱心 爱家乡 爱亲人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10" descr="小荷花5"/>
          <p:cNvPicPr/>
          <p:nvPr/>
        </p:nvPicPr>
        <p:blipFill>
          <a:blip r:embed="rId1"/>
          <a:stretch/>
        </p:blipFill>
        <p:spPr>
          <a:xfrm>
            <a:off x="6084720" y="4419720"/>
            <a:ext cx="3059280" cy="243828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12"/>
          <p:cNvSpPr/>
          <p:nvPr/>
        </p:nvSpPr>
        <p:spPr>
          <a:xfrm>
            <a:off x="755640" y="47242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都是她由家庭妇女成长为游击战士的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思想基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4"/>
          <p:cNvSpPr/>
          <p:nvPr/>
        </p:nvSpPr>
        <p:spPr>
          <a:xfrm>
            <a:off x="0" y="274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节                对话                       性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"/>
          <p:cNvSpPr/>
          <p:nvPr/>
        </p:nvSpPr>
        <p:spPr>
          <a:xfrm>
            <a:off x="-910440" y="1844640"/>
            <a:ext cx="2009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商量探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1403280" y="1052640"/>
            <a:ext cx="58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说他们还在这里没走。我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拖尾巴，可是忘下了一件衣裳。”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6877080" y="1197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机智伶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6877080" y="2205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爽朗直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6877080" y="3141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性急冒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1"/>
          <p:cNvSpPr/>
          <p:nvPr/>
        </p:nvSpPr>
        <p:spPr>
          <a:xfrm>
            <a:off x="6877080" y="4365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忸怩羞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13"/>
          <p:cNvSpPr/>
          <p:nvPr/>
        </p:nvSpPr>
        <p:spPr>
          <a:xfrm rot="16200000">
            <a:off x="4995000" y="2358000"/>
            <a:ext cx="504720" cy="6535800"/>
          </a:xfrm>
          <a:custGeom>
            <a:avLst/>
            <a:gdLst>
              <a:gd name="textAreaLeft" fmla="*/ 322560 w 504720"/>
              <a:gd name="textAreaRight" fmla="*/ 505080 w 504720"/>
              <a:gd name="textAreaTop" fmla="*/ 170280 h 6535800"/>
              <a:gd name="textAreaBottom" fmla="*/ 6365520 h 653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14"/>
          <p:cNvSpPr/>
          <p:nvPr/>
        </p:nvSpPr>
        <p:spPr>
          <a:xfrm>
            <a:off x="3251520" y="5950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乐观可爱的水乡女儿群体形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6"/>
          <p:cNvSpPr/>
          <p:nvPr/>
        </p:nvSpPr>
        <p:spPr>
          <a:xfrm>
            <a:off x="2341800" y="2848320"/>
            <a:ext cx="319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里就碰得那么巧，我们快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回来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8"/>
          <p:cNvSpPr/>
          <p:nvPr/>
        </p:nvSpPr>
        <p:spPr>
          <a:xfrm>
            <a:off x="2422080" y="3929400"/>
            <a:ext cx="353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本来不想去，可是俺婆婆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我再去看看他，有什么看头啊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0"/>
          <p:cNvSpPr/>
          <p:nvPr/>
        </p:nvSpPr>
        <p:spPr>
          <a:xfrm>
            <a:off x="3618000" y="2199960"/>
            <a:ext cx="7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有句要紧的话得和他说说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4"/>
          <p:cNvSpPr/>
          <p:nvPr/>
        </p:nvSpPr>
        <p:spPr>
          <a:xfrm>
            <a:off x="0" y="27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节         对话                                性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-819720" y="2133720"/>
            <a:ext cx="1826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胜利之后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7"/>
          <p:cNvSpPr/>
          <p:nvPr/>
        </p:nvSpPr>
        <p:spPr>
          <a:xfrm>
            <a:off x="1187280" y="119700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好像我们给他们丢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人似的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6804000" y="2133720"/>
            <a:ext cx="20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不甘落后追求进步追求平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勇敢自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1"/>
          <p:cNvSpPr/>
          <p:nvPr/>
        </p:nvSpPr>
        <p:spPr>
          <a:xfrm>
            <a:off x="1258920" y="270252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生嫂，回去我们也成立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伍，不然以后还能出门吗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3"/>
          <p:cNvSpPr/>
          <p:nvPr/>
        </p:nvSpPr>
        <p:spPr>
          <a:xfrm>
            <a:off x="2442600" y="4281840"/>
            <a:ext cx="338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当上兵就小看我们，过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更把我们看得一钱不值了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比谁落后多少呢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4"/>
          <p:cNvSpPr/>
          <p:nvPr/>
        </p:nvSpPr>
        <p:spPr>
          <a:xfrm>
            <a:off x="0" y="27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情节         对话          性格             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5"/>
          <p:cNvSpPr/>
          <p:nvPr/>
        </p:nvSpPr>
        <p:spPr>
          <a:xfrm>
            <a:off x="468360" y="27813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商量探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468360" y="14130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夫妻夜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7"/>
          <p:cNvSpPr/>
          <p:nvPr/>
        </p:nvSpPr>
        <p:spPr>
          <a:xfrm>
            <a:off x="539640" y="4797360"/>
            <a:ext cx="11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胜利之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9"/>
          <p:cNvSpPr/>
          <p:nvPr/>
        </p:nvSpPr>
        <p:spPr>
          <a:xfrm>
            <a:off x="2557440" y="148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20"/>
          <p:cNvSpPr/>
          <p:nvPr/>
        </p:nvSpPr>
        <p:spPr>
          <a:xfrm>
            <a:off x="4861080" y="1557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1"/>
          <p:cNvSpPr/>
          <p:nvPr/>
        </p:nvSpPr>
        <p:spPr>
          <a:xfrm>
            <a:off x="4861080" y="472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2"/>
          <p:cNvSpPr/>
          <p:nvPr/>
        </p:nvSpPr>
        <p:spPr>
          <a:xfrm>
            <a:off x="2557440" y="472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3"/>
          <p:cNvSpPr/>
          <p:nvPr/>
        </p:nvSpPr>
        <p:spPr>
          <a:xfrm>
            <a:off x="2557440" y="2997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4"/>
          <p:cNvSpPr/>
          <p:nvPr/>
        </p:nvSpPr>
        <p:spPr>
          <a:xfrm>
            <a:off x="4789800" y="299736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7380360" y="1989000"/>
            <a:ext cx="12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家庭主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7524720" y="450864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游击战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29"/>
          <p:cNvSpPr/>
          <p:nvPr/>
        </p:nvSpPr>
        <p:spPr>
          <a:xfrm>
            <a:off x="6372360" y="1916280"/>
            <a:ext cx="936360" cy="1490400"/>
          </a:xfrm>
          <a:custGeom>
            <a:avLst/>
            <a:gdLst>
              <a:gd name="textAreaLeft" fmla="*/ 0 w 936360"/>
              <a:gd name="textAreaRight" fmla="*/ 338040 w 93636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30"/>
          <p:cNvSpPr/>
          <p:nvPr/>
        </p:nvSpPr>
        <p:spPr>
          <a:xfrm>
            <a:off x="6516720" y="4724280"/>
            <a:ext cx="792000" cy="770040"/>
          </a:xfrm>
          <a:custGeom>
            <a:avLst/>
            <a:gdLst>
              <a:gd name="textAreaLeft" fmla="*/ 0 w 792000"/>
              <a:gd name="textAreaRight" fmla="*/ 285840 w 79200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31"/>
          <p:cNvSpPr/>
          <p:nvPr/>
        </p:nvSpPr>
        <p:spPr>
          <a:xfrm rot="5400000">
            <a:off x="7494840" y="35298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4"/>
          <p:cNvSpPr/>
          <p:nvPr/>
        </p:nvSpPr>
        <p:spPr>
          <a:xfrm>
            <a:off x="0" y="476280"/>
            <a:ext cx="9144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我喜爱写欢乐的东西，我以为女人比男人更乐观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而人生的悲欢离合总是与她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们有关，所以常常以崇拜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心情写到她们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孙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5" descr="小荷花3"/>
          <p:cNvPicPr/>
          <p:nvPr/>
        </p:nvPicPr>
        <p:blipFill>
          <a:blip r:embed="rId1"/>
          <a:stretch/>
        </p:blipFill>
        <p:spPr>
          <a:xfrm>
            <a:off x="5334120" y="407664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4"/>
          <p:cNvSpPr/>
          <p:nvPr/>
        </p:nvSpPr>
        <p:spPr>
          <a:xfrm>
            <a:off x="462600" y="11916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539640" y="126828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中国妇女为切入点，再现了抗日战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大题材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（以小见大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勤劳善良的劳动妇女，在战争年代表现出既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温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坚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既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爱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爱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崇高品质，这是根据地人民的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精神风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是抗战胜利的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精神源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fefd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611280" y="1268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中国妇女起来之日，就是中国革命胜利之时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毛泽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7"/>
          <p:cNvSpPr/>
          <p:nvPr/>
        </p:nvSpPr>
        <p:spPr>
          <a:xfrm>
            <a:off x="3179160" y="42210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渲染清新宁静的氛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3179160" y="5013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人物活动提供背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3637800" y="58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烘托勤劳纯朴的人物形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2" descr="荷躺22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1109" name="Text Box 13"/>
          <p:cNvSpPr/>
          <p:nvPr/>
        </p:nvSpPr>
        <p:spPr>
          <a:xfrm>
            <a:off x="3960" y="-14184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月夜荷香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8" descr="荷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Text Box 9"/>
          <p:cNvSpPr/>
          <p:nvPr/>
        </p:nvSpPr>
        <p:spPr>
          <a:xfrm>
            <a:off x="-807480" y="287280"/>
            <a:ext cx="20091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淀上风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1" descr="rdn_55c1cf97e1b47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9" descr="别样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8"/>
          <p:cNvSpPr/>
          <p:nvPr/>
        </p:nvSpPr>
        <p:spPr>
          <a:xfrm>
            <a:off x="-515160" y="907920"/>
            <a:ext cx="2009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荷花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矩形 1"/>
          <p:cNvSpPr/>
          <p:nvPr/>
        </p:nvSpPr>
        <p:spPr>
          <a:xfrm>
            <a:off x="0" y="-722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2"/>
          <p:cNvSpPr/>
          <p:nvPr/>
        </p:nvSpPr>
        <p:spPr>
          <a:xfrm>
            <a:off x="0" y="-171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fff9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华北明珠白洋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在华北平原上，有一个美丽的地方，那就是白洋淀。白洋淀由九十多个浅水湖组成，那里一年四季都有迷人的景色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春天，芦苇冒出新芽，生机勃勃，一望无边，像是绿色的海洋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夏天，一片片荷叶挨挨挤挤，一枝枝荷花迎风盛开，有白的，有粉的，还有红的，真好看！淀上渔舟三五成群，渔网上下翻飞，一派繁忙景象。等到鱼儿满舱的时候，一只只渔舟就在落日云霞中向村边划去。从船上飘出的渔歌，洒在荡漾的碧波上，渐渐消失在淡淡的炊烟里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矩形 1"/>
          <p:cNvSpPr/>
          <p:nvPr/>
        </p:nvSpPr>
        <p:spPr>
          <a:xfrm>
            <a:off x="108000" y="260280"/>
            <a:ext cx="9036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，芦苇泛出金黄，无边的苇絮在秋风中摇摆，淀上像飘浮着一层白云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冬天，白雪皑皑，冰封大淀，一派北国风光。冰床来来往往，像燕子一样轻盈地飞驰在这个巨大的天然滑冰场上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人们把白洋淀称为“华北明珠”。这里每年都吸引了中外很多游人。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4"/>
          <p:cNvSpPr/>
          <p:nvPr/>
        </p:nvSpPr>
        <p:spPr>
          <a:xfrm>
            <a:off x="250920" y="47628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诗体小说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5"/>
          <p:cNvSpPr/>
          <p:nvPr/>
        </p:nvSpPr>
        <p:spPr>
          <a:xfrm>
            <a:off x="324000" y="1773360"/>
            <a:ext cx="84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孙犁用散文般的语言写小说，善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造一种诗一般的意境。这几处环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没有战争的硝烟，只有荷花的清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课文增添了无限的诗情画意，给人一种美的感受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1"/>
          <p:cNvSpPr/>
          <p:nvPr/>
        </p:nvSpPr>
        <p:spPr>
          <a:xfrm>
            <a:off x="684360" y="1557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如今的白洋淀有着怎样的重要性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2" descr="55e34aa55ed711ebcf6fbf6eb50514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00301316850_6c9c24c5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4" descr="荷花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3" name="WordArt 5"/>
          <p:cNvSpPr txBox="1"/>
          <p:nvPr/>
        </p:nvSpPr>
        <p:spPr>
          <a:xfrm>
            <a:off x="3132000" y="2060640"/>
            <a:ext cx="44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0034034824200792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2" descr="t01546ca0a525bbad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t015006c00fde58258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3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63715676_1508479183360_mthumb.jpg"/>
          <p:cNvPicPr/>
          <p:nvPr/>
        </p:nvPicPr>
        <p:blipFill>
          <a:blip r:embed="rId1"/>
          <a:stretch/>
        </p:blipFill>
        <p:spPr>
          <a:xfrm>
            <a:off x="250920" y="189000"/>
            <a:ext cx="8607240" cy="63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16764587_16764587_1356016196500_mthumb.jpg"/>
          <p:cNvPicPr/>
          <p:nvPr/>
        </p:nvPicPr>
        <p:blipFill>
          <a:blip r:embed="rId1"/>
          <a:stretch/>
        </p:blipFill>
        <p:spPr>
          <a:xfrm>
            <a:off x="0" y="0"/>
            <a:ext cx="8893080" cy="710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30210387_30210387_1388627937234_mthumb.jpg"/>
          <p:cNvPicPr/>
          <p:nvPr/>
        </p:nvPicPr>
        <p:blipFill>
          <a:blip r:embed="rId1"/>
          <a:stretch/>
        </p:blipFill>
        <p:spPr>
          <a:xfrm>
            <a:off x="179280" y="-387360"/>
            <a:ext cx="8569440" cy="835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8:57Z</dcterms:created>
  <dc:creator>lz103</dc:creator>
  <dc:description/>
  <dc:language>en-US</dc:language>
  <cp:lastModifiedBy>Administrator</cp:lastModifiedBy>
  <dcterms:modified xsi:type="dcterms:W3CDTF">2019-03-09T03:35:49Z</dcterms:modified>
  <cp:revision>36</cp:revision>
  <dc:subject/>
  <dc:title>幻灯片 1</dc:title>
</cp:coreProperties>
</file>