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type.wav" ContentType="audio/x-wav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22.jpeg" ContentType="image/jpeg"/>
  <Override PartName="/ppt/media/image7.png" ContentType="image/png"/>
  <Override PartName="/ppt/media/image5.png" ContentType="image/png"/>
  <Override PartName="/ppt/media/image10.jpeg" ContentType="image/jpeg"/>
  <Override PartName="/ppt/media/image12.jpeg" ContentType="image/jpeg"/>
  <Override PartName="/ppt/media/voltage.wav" ContentType="audio/x-wav"/>
  <Override PartName="/ppt/media/image28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3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chimes.wav" ContentType="audio/x-wav"/>
  <Override PartName="/ppt/media/image21.jpeg" ContentType="image/jpeg"/>
  <Override PartName="/ppt/media/image23.jpeg" ContentType="image/jpeg"/>
  <Override PartName="/ppt/media/image26.gif" ContentType="image/gif"/>
  <Override PartName="/ppt/media/image20.jpeg" ContentType="image/jpe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26C-4B9E-4A1A-B75A-74C34D44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667-BE39-4551-A931-0A733D4E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3D1-545D-4BED-BA45-09B7DCD1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9D2-DE49-4DC8-821B-FBAACF7B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A2D-26FC-498D-939A-6662D4F9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F4B-D97F-41B5-BFE1-6E38B2AB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090-A3D3-4078-89BB-7857A8CE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D01-6D6B-4225-83F3-F9BF8169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B8E-0641-4501-B086-0CD6D9E6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330-E298-459D-9E7A-8E911128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299-8C63-4A94-B25C-BD38661E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6C6-E6E0-4DEF-82CC-EA4CB369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C3EF-E065-45A2-8786-CEECAB27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F859-3789-4AB0-959D-8D18A96E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FD47-D0AD-47A5-B0E5-1FCCC3E8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08DE-70B9-4A62-9F1A-AF9D6B81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5F95-21CB-4AE8-91CF-F6956A9F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D16B-CD54-410C-A84B-FEE486B3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275F-E142-4241-AE10-8189DFBD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7D9E-DBE3-4C5C-87D1-3F75927B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F252-EBDE-4AB7-9FA9-E8067CD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4F93-0CDF-4B89-A224-6417CDF3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EC32-E025-4F87-B4C8-AAA32989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744F-8268-4B85-8422-71C1D033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2176-7F6C-4A24-998E-B2948C74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5118F-09CF-44FE-9B1B-A221AE8E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548E-A23C-4DA6-8904-8D9C4AB0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D1EE-CFCC-4AD7-AA06-7CCCFEB6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0959-F289-4561-9848-52A698E6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2E998-A71F-4FFB-AB9C-22DD03EB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59E7-A9E2-415D-BCA4-656556A2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D2F4-D2B7-4C94-9CB5-9159577E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BFE4-37BB-4AA0-9FF8-F34A657F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A5A24-D59F-4D53-9D62-7AE055DF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B0CF-902E-4AA0-BB08-BE3A9E51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0AF4-BDA3-414F-A179-5E2A9A06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7777-75C6-41F8-98A2-F32FB21D8E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115" name="Oval 4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5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CC1C-86FB-410A-9A16-B56C06B33D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162" name="Oval 3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744F-C416-4811-8D8B-482570EC489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image" Target="../media/image15.jpeg"/><Relationship Id="rId4" Type="http://schemas.openxmlformats.org/officeDocument/2006/relationships/image" Target="../media/image8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木兰3"/>
          <p:cNvPicPr/>
          <p:nvPr/>
        </p:nvPicPr>
        <p:blipFill>
          <a:blip r:embed="rId1"/>
          <a:srcRect l="0" t="24008" r="0" b="23931"/>
          <a:stretch/>
        </p:blipFill>
        <p:spPr>
          <a:xfrm>
            <a:off x="-33480" y="-73080"/>
            <a:ext cx="9215640" cy="5400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785880" y="160200"/>
            <a:ext cx="47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99"/>
                </a:solidFill>
                <a:latin typeface="Arial"/>
                <a:ea typeface="华文行楷"/>
              </a:rPr>
              <a:t>谁说女子不如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85840" y="857160"/>
            <a:ext cx="8607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刘大哥讲话理太偏         谁说女子享清闲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男子打仗到边关           女子纺织在家园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白天去种地               夜晚来纺棉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不分昼夜辛勤把活干       将士们才能有这吃和穿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你要不相信哪             请往这身上看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咱们的鞋和袜             还有衣和衫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这千针万线都是她们连哪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有许多女英雄             也把功劳建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为国杀敌                 是代代出英贤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这女子们                 哪一点儿不如儿男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谁说女子不如男.mp3" descr=""/>
          <p:cNvPicPr/>
          <p:nvPr/>
        </p:nvPicPr>
        <p:blipFill>
          <a:blip r:embed="rId2"/>
          <a:stretch/>
        </p:blipFill>
        <p:spPr>
          <a:xfrm>
            <a:off x="8839080" y="4768920"/>
            <a:ext cx="304920" cy="2286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7"/>
          <p:cNvSpPr/>
          <p:nvPr/>
        </p:nvSpPr>
        <p:spPr>
          <a:xfrm>
            <a:off x="214200" y="396540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你知道著名的豫剧演员常香玉这唱段中的女英雄是谁？下面我们一起来了解她的故事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325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5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2585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昨夜送军贴"/>
          <p:cNvPicPr/>
          <p:nvPr/>
        </p:nvPicPr>
        <p:blipFill>
          <a:blip r:embed="rId1"/>
          <a:stretch/>
        </p:blipFill>
        <p:spPr>
          <a:xfrm>
            <a:off x="684360" y="303120"/>
            <a:ext cx="4286160" cy="219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边框4"/>
          <p:cNvPicPr/>
          <p:nvPr/>
        </p:nvPicPr>
        <p:blipFill>
          <a:blip r:embed="rId2"/>
          <a:stretch/>
        </p:blipFill>
        <p:spPr>
          <a:xfrm>
            <a:off x="-142920" y="106200"/>
            <a:ext cx="5997600" cy="2571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5796000" y="195120"/>
            <a:ext cx="3033720" cy="3147480"/>
          </a:xfrm>
          <a:prstGeom prst="rect">
            <a:avLst/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23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Arial"/>
              </a:rPr>
              <a:t>昨夜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军贴</a:t>
            </a:r>
            <a:r>
              <a:rPr b="1" lang="zh-CN" sz="3600" spc="-1" strike="noStrike">
                <a:solidFill>
                  <a:srgbClr val="ff6699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23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可汗</a:t>
            </a:r>
            <a:r>
              <a:rPr b="1" lang="zh-CN" sz="3600" spc="-1" strike="noStrike">
                <a:solidFill>
                  <a:srgbClr val="ff6699"/>
                </a:solidFill>
                <a:latin typeface="Arial"/>
              </a:rPr>
              <a:t>大点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23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Arial"/>
              </a:rPr>
              <a:t>军书十二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23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Arial"/>
              </a:rPr>
              <a:t>卷卷有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爷</a:t>
            </a:r>
            <a:r>
              <a:rPr b="1" lang="zh-CN" sz="3600" spc="-1" strike="noStrike">
                <a:solidFill>
                  <a:srgbClr val="ff6699"/>
                </a:solidFill>
                <a:latin typeface="Arial"/>
              </a:rPr>
              <a:t>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611280" y="262728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军帖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tiě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征兵的文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可汗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h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古代西北地区民族对君主的称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军书十二卷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征兵的名册很多卷。十二，表示很多，不是确指。下文的“十二转”、“十二年”，与此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爷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下文的“阿爷”一样，都指父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8"/>
          <p:cNvSpPr/>
          <p:nvPr/>
        </p:nvSpPr>
        <p:spPr>
          <a:xfrm>
            <a:off x="181080" y="4179960"/>
            <a:ext cx="8785080" cy="520560"/>
          </a:xfrm>
          <a:prstGeom prst="rect">
            <a:avLst/>
          </a:prstGeom>
          <a:solidFill>
            <a:srgbClr val="e5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昨夜看见军中的文告，知道皇上大规模地征兵，征兵的名册有很多卷，每一卷都有父亲的名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无大儿"/>
          <p:cNvPicPr/>
          <p:nvPr/>
        </p:nvPicPr>
        <p:blipFill>
          <a:blip r:embed="rId1"/>
          <a:stretch/>
        </p:blipFill>
        <p:spPr>
          <a:xfrm>
            <a:off x="4214880" y="482760"/>
            <a:ext cx="4286160" cy="1820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边框4"/>
          <p:cNvPicPr/>
          <p:nvPr/>
        </p:nvPicPr>
        <p:blipFill>
          <a:blip r:embed="rId2"/>
          <a:stretch/>
        </p:blipFill>
        <p:spPr>
          <a:xfrm>
            <a:off x="3429000" y="268200"/>
            <a:ext cx="5929200" cy="22287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7"/>
          <p:cNvSpPr/>
          <p:nvPr/>
        </p:nvSpPr>
        <p:spPr>
          <a:xfrm>
            <a:off x="468360" y="24098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愿为市鞍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ān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马：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wèi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为此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买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鞍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泛指马和马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8"/>
          <p:cNvSpPr/>
          <p:nvPr/>
        </p:nvSpPr>
        <p:spPr>
          <a:xfrm>
            <a:off x="468360" y="3429000"/>
            <a:ext cx="8424720" cy="581400"/>
          </a:xfrm>
          <a:prstGeom prst="rect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父亲没有长大成人的儿子，木兰没有长年的哥哥，我愿意为了这次征兵去马和鞍，从此代替年老的父亲从军去打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468360" y="357120"/>
            <a:ext cx="2951280" cy="2288520"/>
          </a:xfrm>
          <a:prstGeom prst="rect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阿爷无大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木兰无长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愿为</a:t>
            </a:r>
            <a:r>
              <a:rPr b="1" lang="zh-CN" sz="3600" spc="-1" strike="noStrike">
                <a:solidFill>
                  <a:srgbClr val="00b050"/>
                </a:solidFill>
                <a:latin typeface="宋体"/>
              </a:rPr>
              <a:t>市鞍马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从此替爷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边框4"/>
          <p:cNvPicPr/>
          <p:nvPr/>
        </p:nvPicPr>
        <p:blipFill>
          <a:blip r:embed="rId1"/>
          <a:stretch/>
        </p:blipFill>
        <p:spPr>
          <a:xfrm>
            <a:off x="4000680" y="1982880"/>
            <a:ext cx="5500440" cy="2854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东市买骏马"/>
          <p:cNvPicPr/>
          <p:nvPr/>
        </p:nvPicPr>
        <p:blipFill>
          <a:blip r:embed="rId2"/>
          <a:stretch/>
        </p:blipFill>
        <p:spPr>
          <a:xfrm>
            <a:off x="4857840" y="2249640"/>
            <a:ext cx="3786120" cy="2314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539640" y="141120"/>
            <a:ext cx="8137800" cy="1477080"/>
          </a:xfrm>
          <a:prstGeom prst="rect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ff6699"/>
                </a:solidFill>
                <a:latin typeface="宋体"/>
              </a:rPr>
              <a:t>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市</a:t>
            </a:r>
            <a:r>
              <a:rPr b="1" lang="zh-CN" sz="3600" spc="-1" strike="noStrike">
                <a:solidFill>
                  <a:srgbClr val="ff6699"/>
                </a:solidFill>
                <a:latin typeface="宋体"/>
              </a:rPr>
              <a:t>买骏马，西市买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鞯</a:t>
            </a:r>
            <a:r>
              <a:rPr b="1" lang="zh-CN" sz="3600" spc="-1" strike="noStrike">
                <a:solidFill>
                  <a:srgbClr val="ff6699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宋体"/>
              </a:rPr>
              <a:t>南市买辔头，北市买长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8"/>
          <p:cNvSpPr/>
          <p:nvPr/>
        </p:nvSpPr>
        <p:spPr>
          <a:xfrm>
            <a:off x="468360" y="133020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鞯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iān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鞍下的垫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辔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è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驾驭牲口用的嚼子、笼头和缰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9"/>
          <p:cNvSpPr/>
          <p:nvPr/>
        </p:nvSpPr>
        <p:spPr>
          <a:xfrm>
            <a:off x="539640" y="213984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到东市集市上买一匹好马，到西边集市上买马鞍和鞍垫，到南边集市上买嚼子和缰绳，到北边集市上买根长长的马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黄河边"/>
          <p:cNvPicPr/>
          <p:nvPr/>
        </p:nvPicPr>
        <p:blipFill>
          <a:blip r:embed="rId1"/>
          <a:stretch/>
        </p:blipFill>
        <p:spPr>
          <a:xfrm>
            <a:off x="4643280" y="2517840"/>
            <a:ext cx="4029120" cy="1554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边框4"/>
          <p:cNvPicPr/>
          <p:nvPr/>
        </p:nvPicPr>
        <p:blipFill>
          <a:blip r:embed="rId2"/>
          <a:stretch/>
        </p:blipFill>
        <p:spPr>
          <a:xfrm>
            <a:off x="3786120" y="2357280"/>
            <a:ext cx="5786640" cy="1881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辞行"/>
          <p:cNvPicPr/>
          <p:nvPr/>
        </p:nvPicPr>
        <p:blipFill>
          <a:blip r:embed="rId3"/>
          <a:stretch/>
        </p:blipFill>
        <p:spPr>
          <a:xfrm>
            <a:off x="857160" y="374760"/>
            <a:ext cx="3143520" cy="20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边框4"/>
          <p:cNvPicPr/>
          <p:nvPr/>
        </p:nvPicPr>
        <p:blipFill>
          <a:blip r:embed="rId4"/>
          <a:stretch/>
        </p:blipFill>
        <p:spPr>
          <a:xfrm>
            <a:off x="108000" y="141120"/>
            <a:ext cx="4500360" cy="2525760"/>
          </a:xfrm>
          <a:prstGeom prst="rect">
            <a:avLst/>
          </a:prstGeom>
          <a:ln w="0">
            <a:noFill/>
          </a:ln>
        </p:spPr>
      </p:pic>
      <p:sp>
        <p:nvSpPr>
          <p:cNvPr id="279" name="矩形 9"/>
          <p:cNvSpPr/>
          <p:nvPr/>
        </p:nvSpPr>
        <p:spPr>
          <a:xfrm>
            <a:off x="395280" y="267984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辞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离开，辞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溅溅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iān jiā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水流激射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旦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但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听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0"/>
          <p:cNvSpPr/>
          <p:nvPr/>
        </p:nvSpPr>
        <p:spPr>
          <a:xfrm>
            <a:off x="395280" y="4232160"/>
            <a:ext cx="8534520" cy="435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早晨辞别父母上路，傍晚宿营在黄河边，听不见父母呼唤女儿的声音，只能听到黄河的流水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4325760" y="374760"/>
            <a:ext cx="4461120" cy="2043720"/>
          </a:xfrm>
          <a:prstGeom prst="rect">
            <a:avLst/>
          </a:prstGeom>
          <a:solidFill>
            <a:srgbClr val="e5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旦辞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爷娘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暮宿黄河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闻爷娘唤女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但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黄河流水鸣</a:t>
            </a: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溅溅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5" name="type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鸣啾啾"/>
          <p:cNvPicPr/>
          <p:nvPr/>
        </p:nvPicPr>
        <p:blipFill>
          <a:blip r:embed="rId1"/>
          <a:stretch/>
        </p:blipFill>
        <p:spPr>
          <a:xfrm>
            <a:off x="857160" y="2303640"/>
            <a:ext cx="2386080" cy="2571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边框4"/>
          <p:cNvPicPr/>
          <p:nvPr/>
        </p:nvPicPr>
        <p:blipFill>
          <a:blip r:embed="rId2"/>
          <a:stretch/>
        </p:blipFill>
        <p:spPr>
          <a:xfrm>
            <a:off x="250920" y="2030400"/>
            <a:ext cx="3429000" cy="3097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木兰3"/>
          <p:cNvPicPr/>
          <p:nvPr/>
        </p:nvPicPr>
        <p:blipFill>
          <a:blip r:embed="rId3"/>
          <a:srcRect l="0" t="24008" r="0" b="23931"/>
          <a:stretch/>
        </p:blipFill>
        <p:spPr>
          <a:xfrm>
            <a:off x="4857840" y="482760"/>
            <a:ext cx="3714840" cy="1768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边框4"/>
          <p:cNvPicPr/>
          <p:nvPr/>
        </p:nvPicPr>
        <p:blipFill>
          <a:blip r:embed="rId4"/>
          <a:stretch/>
        </p:blipFill>
        <p:spPr>
          <a:xfrm>
            <a:off x="3995640" y="141120"/>
            <a:ext cx="5410440" cy="2357640"/>
          </a:xfrm>
          <a:prstGeom prst="rect">
            <a:avLst/>
          </a:prstGeom>
          <a:ln w="0">
            <a:noFill/>
          </a:ln>
        </p:spPr>
      </p:pic>
      <p:sp>
        <p:nvSpPr>
          <p:cNvPr id="286" name="矩形 9"/>
          <p:cNvSpPr/>
          <p:nvPr/>
        </p:nvSpPr>
        <p:spPr>
          <a:xfrm>
            <a:off x="3571920" y="251784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胡骑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ì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胡人的战马。胡，古代对北方少数民族的称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啾啾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iū jiū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马叫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0"/>
          <p:cNvSpPr/>
          <p:nvPr/>
        </p:nvSpPr>
        <p:spPr>
          <a:xfrm>
            <a:off x="3643200" y="3483000"/>
            <a:ext cx="5105520" cy="48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木兰早晨辞别黄河上路，傍晚到达燕山头，听不见父母呼唤女儿的声音，只能听到燕山胡马的马叫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1"/>
          <p:cNvSpPr/>
          <p:nvPr/>
        </p:nvSpPr>
        <p:spPr>
          <a:xfrm>
            <a:off x="539640" y="374760"/>
            <a:ext cx="381960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旦辞黄河去，暮至黑山头。不闻爷娘唤女声，但闻燕山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胡骑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j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鸣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啾啾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5" name="type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500"/>
                            </p:stCondLst>
                            <p:childTnLst>
                              <p:par>
                                <p:cTn id="4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万里赴戒机"/>
          <p:cNvPicPr/>
          <p:nvPr/>
        </p:nvPicPr>
        <p:blipFill>
          <a:blip r:embed="rId1"/>
          <a:stretch/>
        </p:blipFill>
        <p:spPr>
          <a:xfrm>
            <a:off x="0" y="0"/>
            <a:ext cx="4714920" cy="5143680"/>
          </a:xfrm>
          <a:prstGeom prst="rect">
            <a:avLst/>
          </a:prstGeom>
          <a:ln w="0">
            <a:noFill/>
          </a:ln>
        </p:spPr>
      </p:pic>
      <p:sp>
        <p:nvSpPr>
          <p:cNvPr id="290" name="矩形 7"/>
          <p:cNvSpPr/>
          <p:nvPr/>
        </p:nvSpPr>
        <p:spPr>
          <a:xfrm>
            <a:off x="4932360" y="3868560"/>
            <a:ext cx="39290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木兰不远万里奔赴战场，像飞一样越过关塞和群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005440" y="1339920"/>
            <a:ext cx="37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万里赴戎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远万 里，奔赴战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r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ó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ng)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战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关山度若飞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像飞一样地跨过一道道的关，越过一座座的山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越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5143680" y="268200"/>
            <a:ext cx="3571560" cy="13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万里赴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戎机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关山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度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若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2" name="type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杀场"/>
          <p:cNvPicPr/>
          <p:nvPr/>
        </p:nvPicPr>
        <p:blipFill>
          <a:blip r:embed="rId1"/>
          <a:stretch/>
        </p:blipFill>
        <p:spPr>
          <a:xfrm>
            <a:off x="6357960" y="482760"/>
            <a:ext cx="2286000" cy="2840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边框4"/>
          <p:cNvPicPr/>
          <p:nvPr/>
        </p:nvPicPr>
        <p:blipFill>
          <a:blip r:embed="rId2"/>
          <a:stretch/>
        </p:blipFill>
        <p:spPr>
          <a:xfrm>
            <a:off x="5857920" y="160200"/>
            <a:ext cx="3286080" cy="3537000"/>
          </a:xfrm>
          <a:prstGeom prst="rect">
            <a:avLst/>
          </a:prstGeom>
          <a:ln w="0">
            <a:noFill/>
          </a:ln>
        </p:spPr>
      </p:pic>
      <p:sp>
        <p:nvSpPr>
          <p:cNvPr id="295" name="矩形 7"/>
          <p:cNvSpPr/>
          <p:nvPr/>
        </p:nvSpPr>
        <p:spPr>
          <a:xfrm>
            <a:off x="396720" y="3643200"/>
            <a:ext cx="8461440" cy="483840"/>
          </a:xfrm>
          <a:prstGeom prst="rect">
            <a:avLst/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北方的寒气传来打更的声音，清冷的月光映照着战士的铠甲。战士们经过上百次的战斗，有的牺牲了，木兰等壮士们经过十多年征战，胜利归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8"/>
          <p:cNvSpPr/>
          <p:nvPr/>
        </p:nvSpPr>
        <p:spPr>
          <a:xfrm>
            <a:off x="395280" y="13842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朔</a:t>
            </a:r>
            <a:r>
              <a:rPr b="1" lang="en-US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(shuò)</a:t>
            </a:r>
            <a:r>
              <a:rPr b="1" lang="zh-CN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气传金柝（</a:t>
            </a:r>
            <a:r>
              <a:rPr b="1" lang="en-US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tuò</a:t>
            </a:r>
            <a:r>
              <a:rPr b="1" lang="zh-CN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） ：</a:t>
            </a:r>
            <a:r>
              <a:rPr b="1" lang="zh-CN" sz="24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北方的寒气传送着打更的声音。朔，北方。</a:t>
            </a:r>
            <a:r>
              <a:rPr b="1" lang="zh-CN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金柝，</a:t>
            </a:r>
            <a:r>
              <a:rPr b="1" lang="zh-CN" sz="24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即刁斗。古代军中用的一种铁锅，白天用来做饭，晚上用来报更。一说金为刁斗，柝为木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寒光照铁衣：</a:t>
            </a:r>
            <a:r>
              <a:rPr b="1" lang="zh-CN" sz="24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冰冷的月光照在将士们的铠甲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9"/>
          <p:cNvSpPr/>
          <p:nvPr/>
        </p:nvSpPr>
        <p:spPr>
          <a:xfrm>
            <a:off x="396720" y="303120"/>
            <a:ext cx="53596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朔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传金柝，寒光照</a:t>
            </a: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铁衣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将军百战死，壮士十年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天子"/>
          <p:cNvPicPr/>
          <p:nvPr/>
        </p:nvPicPr>
        <p:blipFill>
          <a:blip r:embed="rId1"/>
          <a:stretch/>
        </p:blipFill>
        <p:spPr>
          <a:xfrm>
            <a:off x="468360" y="303120"/>
            <a:ext cx="3857400" cy="1768680"/>
          </a:xfrm>
          <a:prstGeom prst="rect">
            <a:avLst/>
          </a:prstGeom>
          <a:ln w="0">
            <a:noFill/>
          </a:ln>
        </p:spPr>
      </p:pic>
      <p:sp>
        <p:nvSpPr>
          <p:cNvPr id="299" name="矩形 7"/>
          <p:cNvSpPr/>
          <p:nvPr/>
        </p:nvSpPr>
        <p:spPr>
          <a:xfrm>
            <a:off x="468360" y="240984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木兰从前线回来拜见天子，天子高坐在举行大典的朝堂上；木兰被记了很大的功劳，赏赐了很多财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8"/>
          <p:cNvSpPr/>
          <p:nvPr/>
        </p:nvSpPr>
        <p:spPr>
          <a:xfrm>
            <a:off x="4716360" y="24912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天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即“可汗”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明堂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亮的的厅堂，此指宫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策勋十二转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zhuǎn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很大的功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策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记功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勋级每升一级叫一转，十二转为最高勋级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十二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不是确数，形容功劳极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赏赐百千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q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g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赏赐很多的财物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百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形容数量多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有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9"/>
          <p:cNvSpPr/>
          <p:nvPr/>
        </p:nvSpPr>
        <p:spPr>
          <a:xfrm>
            <a:off x="4788000" y="3268800"/>
            <a:ext cx="3744720" cy="2043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归来见天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天子坐明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策勋十二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赏赐百千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2" name="type.wav"/>
      </p:stSnd>
    </p:sndAc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战场"/>
          <p:cNvPicPr/>
          <p:nvPr/>
        </p:nvPicPr>
        <p:blipFill>
          <a:blip r:embed="rId1"/>
          <a:stretch/>
        </p:blipFill>
        <p:spPr>
          <a:xfrm>
            <a:off x="684360" y="1330200"/>
            <a:ext cx="4267080" cy="2400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边框4"/>
          <p:cNvPicPr/>
          <p:nvPr/>
        </p:nvPicPr>
        <p:blipFill>
          <a:blip r:embed="rId2"/>
          <a:stretch/>
        </p:blipFill>
        <p:spPr>
          <a:xfrm>
            <a:off x="-322200" y="1006560"/>
            <a:ext cx="6399000" cy="3035160"/>
          </a:xfrm>
          <a:prstGeom prst="rect">
            <a:avLst/>
          </a:prstGeom>
          <a:ln w="0">
            <a:noFill/>
          </a:ln>
        </p:spPr>
      </p:pic>
      <p:sp>
        <p:nvSpPr>
          <p:cNvPr id="304" name="矩形 7"/>
          <p:cNvSpPr/>
          <p:nvPr/>
        </p:nvSpPr>
        <p:spPr>
          <a:xfrm>
            <a:off x="396720" y="4071960"/>
            <a:ext cx="8352000" cy="581400"/>
          </a:xfrm>
          <a:prstGeom prst="rect">
            <a:avLst/>
          </a:prstGeom>
          <a:solidFill>
            <a:srgbClr val="fab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天子问木兰想要什么，木兰不愿做官，只希望骑上一匹千里马，返回故乡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8"/>
          <p:cNvSpPr/>
          <p:nvPr/>
        </p:nvSpPr>
        <p:spPr>
          <a:xfrm>
            <a:off x="5654520" y="1071720"/>
            <a:ext cx="309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所欲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（木 兰）想要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愿意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尚书郎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尚书省的官。尚书省是古代朝廷中管理国家政事的机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愿驰千里足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望骑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千里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9"/>
          <p:cNvSpPr/>
          <p:nvPr/>
        </p:nvSpPr>
        <p:spPr>
          <a:xfrm>
            <a:off x="541440" y="214200"/>
            <a:ext cx="8208720" cy="581400"/>
          </a:xfrm>
          <a:prstGeom prst="rect">
            <a:avLst/>
          </a:prstGeom>
          <a:solidFill>
            <a:srgbClr val="c2d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汗问所欲，木兰不用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尚书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愿驰千里足，送儿还故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出郭相扶将"/>
          <p:cNvPicPr/>
          <p:nvPr/>
        </p:nvPicPr>
        <p:blipFill>
          <a:blip r:embed="rId1"/>
          <a:stretch/>
        </p:blipFill>
        <p:spPr>
          <a:xfrm>
            <a:off x="5000760" y="1392120"/>
            <a:ext cx="3538440" cy="1714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边框4"/>
          <p:cNvPicPr/>
          <p:nvPr/>
        </p:nvPicPr>
        <p:blipFill>
          <a:blip r:embed="rId2"/>
          <a:stretch/>
        </p:blipFill>
        <p:spPr>
          <a:xfrm>
            <a:off x="4068720" y="1114560"/>
            <a:ext cx="5362560" cy="2251080"/>
          </a:xfrm>
          <a:prstGeom prst="rect">
            <a:avLst/>
          </a:prstGeom>
          <a:ln w="0">
            <a:noFill/>
          </a:ln>
        </p:spPr>
      </p:pic>
      <p:sp>
        <p:nvSpPr>
          <p:cNvPr id="309" name="矩形 7"/>
          <p:cNvSpPr/>
          <p:nvPr/>
        </p:nvSpPr>
        <p:spPr>
          <a:xfrm>
            <a:off x="395280" y="3535200"/>
            <a:ext cx="8354880" cy="483840"/>
          </a:xfrm>
          <a:prstGeom prst="rect">
            <a:avLst/>
          </a:prstGeom>
          <a:solidFill>
            <a:srgbClr val="c2d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父母听说女儿回来了，互相搀扶着到外城来迎接木兰；姐姐听说妹妹回来了，对着门户梳妆打扮起来；弟弟听说姐姐回来了，忙着霍霍地磨刀准备杀猪宰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8"/>
          <p:cNvSpPr/>
          <p:nvPr/>
        </p:nvSpPr>
        <p:spPr>
          <a:xfrm>
            <a:off x="395280" y="1276200"/>
            <a:ext cx="4392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郭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城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扶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扶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将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iāng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助词，不译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姊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姐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理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梳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妆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uāng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女子的艳丽装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霍霍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huò huò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模拟磨刀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9"/>
          <p:cNvSpPr/>
          <p:nvPr/>
        </p:nvSpPr>
        <p:spPr>
          <a:xfrm>
            <a:off x="396720" y="268200"/>
            <a:ext cx="8461440" cy="1068840"/>
          </a:xfrm>
          <a:prstGeom prst="rect">
            <a:avLst/>
          </a:prstGeom>
          <a:solidFill>
            <a:srgbClr val="e5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爷娘闻女来，出郭相扶将；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阿姊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闻妹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当户理红妆；小弟闻姊来，磨刀霍霍向猪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500"/>
                            </p:stCondLst>
                            <p:childTnLst>
                              <p:par>
                                <p:cTn id="6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副标题 2"/>
          <p:cNvSpPr/>
          <p:nvPr/>
        </p:nvSpPr>
        <p:spPr>
          <a:xfrm>
            <a:off x="1865160" y="4508640"/>
            <a:ext cx="5381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七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标题 1"/>
          <p:cNvSpPr/>
          <p:nvPr/>
        </p:nvSpPr>
        <p:spPr>
          <a:xfrm>
            <a:off x="2717640" y="3757680"/>
            <a:ext cx="36766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木兰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9"/>
          <p:cNvSpPr/>
          <p:nvPr/>
        </p:nvSpPr>
        <p:spPr>
          <a:xfrm>
            <a:off x="2654280" y="4500720"/>
            <a:ext cx="389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7"/>
          <p:cNvSpPr/>
          <p:nvPr/>
        </p:nvSpPr>
        <p:spPr>
          <a:xfrm>
            <a:off x="324000" y="3489480"/>
            <a:ext cx="8464320" cy="520560"/>
          </a:xfrm>
          <a:prstGeom prst="rect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句意：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木兰回到了原来的房间，打开各个房间的门，坐一会儿各个房间的床，脱去打仗时穿的战袍，穿上以前的旧衣裙，对着窗户对着镜子梳理头发贴饰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8"/>
          <p:cNvSpPr/>
          <p:nvPr/>
        </p:nvSpPr>
        <p:spPr>
          <a:xfrm>
            <a:off x="3565440" y="1762200"/>
            <a:ext cx="51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zhu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ó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假字 通“着”，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云鬓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ì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像云那样的鬓发，形容好看的头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帖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tiē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花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帖”通假字 通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花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古代妇女的一种面部装饰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9"/>
          <p:cNvSpPr/>
          <p:nvPr/>
        </p:nvSpPr>
        <p:spPr>
          <a:xfrm>
            <a:off x="3565440" y="250920"/>
            <a:ext cx="5184720" cy="581400"/>
          </a:xfrm>
          <a:prstGeom prst="rect">
            <a:avLst/>
          </a:prstGeom>
          <a:solidFill>
            <a:srgbClr val="c5d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开我东阁门，坐我西阁床。脱我战时袍，著我旧时裳。当窗理云鬓，对镜帖花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木兰换装"/>
          <p:cNvPicPr/>
          <p:nvPr/>
        </p:nvPicPr>
        <p:blipFill>
          <a:blip r:embed="rId1"/>
          <a:stretch/>
        </p:blipFill>
        <p:spPr>
          <a:xfrm>
            <a:off x="325440" y="250920"/>
            <a:ext cx="2952720" cy="2970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  <p:sndAc>
      <p:stSnd>
        <p:snd r:embed="rId2" name="type.wav"/>
      </p:stSnd>
    </p:sndAc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000"/>
                            </p:stCondLst>
                            <p:childTnLst>
                              <p:par>
                                <p:cTn id="64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6" descr="出门见众人"/>
          <p:cNvPicPr/>
          <p:nvPr/>
        </p:nvPicPr>
        <p:blipFill>
          <a:blip r:embed="rId1"/>
          <a:stretch/>
        </p:blipFill>
        <p:spPr>
          <a:xfrm>
            <a:off x="395280" y="573120"/>
            <a:ext cx="3071880" cy="38577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边框4"/>
          <p:cNvPicPr/>
          <p:nvPr/>
        </p:nvPicPr>
        <p:blipFill>
          <a:blip r:embed="rId2"/>
          <a:stretch/>
        </p:blipFill>
        <p:spPr>
          <a:xfrm>
            <a:off x="-250920" y="88920"/>
            <a:ext cx="4356360" cy="4821120"/>
          </a:xfrm>
          <a:prstGeom prst="rect">
            <a:avLst/>
          </a:prstGeom>
          <a:ln w="0">
            <a:noFill/>
          </a:ln>
        </p:spPr>
      </p:pic>
      <p:sp>
        <p:nvSpPr>
          <p:cNvPr id="318" name="矩形 7"/>
          <p:cNvSpPr/>
          <p:nvPr/>
        </p:nvSpPr>
        <p:spPr>
          <a:xfrm>
            <a:off x="3995640" y="3544920"/>
            <a:ext cx="4786560" cy="1263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出门去见同去出征的伙伴，伙伴们都很吃惊；同行多年，竟然不知道木兰是个姑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3997440" y="214164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火”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“伙”。古时一起打仗的人用同一个锅吃饭，后意译为同行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行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9"/>
          <p:cNvSpPr/>
          <p:nvPr/>
        </p:nvSpPr>
        <p:spPr>
          <a:xfrm>
            <a:off x="3995640" y="303120"/>
            <a:ext cx="4714920" cy="22885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出门看火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火伴皆惊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同行十二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不知木兰是女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兔1"/>
          <p:cNvPicPr/>
          <p:nvPr/>
        </p:nvPicPr>
        <p:blipFill>
          <a:blip r:embed="rId1"/>
          <a:stretch/>
        </p:blipFill>
        <p:spPr>
          <a:xfrm>
            <a:off x="5715000" y="857160"/>
            <a:ext cx="2971800" cy="1517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兔2"/>
          <p:cNvPicPr/>
          <p:nvPr/>
        </p:nvPicPr>
        <p:blipFill>
          <a:blip r:embed="rId2"/>
          <a:stretch/>
        </p:blipFill>
        <p:spPr>
          <a:xfrm>
            <a:off x="468360" y="2571840"/>
            <a:ext cx="2819520" cy="23018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退出"/>
          <p:cNvPicPr/>
          <p:nvPr/>
        </p:nvPicPr>
        <p:blipFill>
          <a:blip r:embed="rId3"/>
          <a:stretch/>
        </p:blipFill>
        <p:spPr>
          <a:xfrm>
            <a:off x="8610480" y="4756320"/>
            <a:ext cx="533520" cy="387360"/>
          </a:xfrm>
          <a:prstGeom prst="rect">
            <a:avLst/>
          </a:prstGeom>
          <a:ln w="0">
            <a:noFill/>
          </a:ln>
        </p:spPr>
      </p:pic>
      <p:sp>
        <p:nvSpPr>
          <p:cNvPr id="324" name="矩形 8"/>
          <p:cNvSpPr/>
          <p:nvPr/>
        </p:nvSpPr>
        <p:spPr>
          <a:xfrm>
            <a:off x="3635280" y="2571840"/>
            <a:ext cx="518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据说，提着兔子的耳朵悬在半空中时，雄兔的两只前脚时时动弹，雌兔的两只眼睛时常眯着（所以容易辨认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雄雌两兔一起并排贴着地面跑，怎能分辨得出哪个是雄兔，哪个是雌兔呢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9"/>
          <p:cNvSpPr/>
          <p:nvPr/>
        </p:nvSpPr>
        <p:spPr>
          <a:xfrm>
            <a:off x="395280" y="122076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扑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爬搔。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迷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眯着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傍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(b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à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ng)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地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贴着地面并排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0"/>
          <p:cNvSpPr/>
          <p:nvPr/>
        </p:nvSpPr>
        <p:spPr>
          <a:xfrm>
            <a:off x="395280" y="2491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雄兔脚扑朔，雌兔眼迷离；双兔傍地走，安能辨我是雄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4" name="type.wav"/>
      </p:stSnd>
    </p:sndAc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艺术字 5"/>
          <p:cNvSpPr txBox="1"/>
          <p:nvPr/>
        </p:nvSpPr>
        <p:spPr>
          <a:xfrm>
            <a:off x="-31680" y="185760"/>
            <a:ext cx="4321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648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latin typeface="华文行楷"/>
              </a:rPr>
              <a:t>交流讨论</a:t>
            </a:r>
            <a:endParaRPr b="1" lang="en-US" sz="6000" spc="1" strike="noStrike">
              <a:ln w="6480">
                <a:solidFill>
                  <a:srgbClr val="ff3300"/>
                </a:solidFill>
                <a:miter/>
              </a:ln>
              <a:solidFill>
                <a:srgbClr val="ff0066"/>
              </a:solidFill>
              <a:latin typeface="华文行楷"/>
              <a:ea typeface="华文行楷"/>
            </a:endParaRPr>
          </a:p>
        </p:txBody>
      </p:sp>
      <p:sp>
        <p:nvSpPr>
          <p:cNvPr id="328" name="文本框 6"/>
          <p:cNvSpPr/>
          <p:nvPr/>
        </p:nvSpPr>
        <p:spPr>
          <a:xfrm>
            <a:off x="539640" y="1762200"/>
            <a:ext cx="777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这首诗讲述了花木兰什么故事？有哪些情节？请概括一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1" dur="1500" autoRev="1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2" dur="1500" autoRev="1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3" dur="1500" autoRev="1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3"/>
          <p:cNvSpPr/>
          <p:nvPr/>
        </p:nvSpPr>
        <p:spPr>
          <a:xfrm>
            <a:off x="5043960" y="633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读课文，概括各段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855800" y="1322280"/>
            <a:ext cx="703080" cy="5954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1855800" y="1916280"/>
            <a:ext cx="703080" cy="5968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1855800" y="4294080"/>
            <a:ext cx="703080" cy="5940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1855800" y="2511360"/>
            <a:ext cx="703080" cy="593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1855800" y="3105000"/>
            <a:ext cx="703080" cy="5940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1855800" y="3699000"/>
            <a:ext cx="703080" cy="5950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"/>
          <p:cNvSpPr/>
          <p:nvPr/>
        </p:nvSpPr>
        <p:spPr>
          <a:xfrm flipH="1">
            <a:off x="2556720" y="1320840"/>
            <a:ext cx="5457960" cy="4888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12" y="0"/>
                </a:lnTo>
                <a:lnTo>
                  <a:pt x="21600" y="10800"/>
                </a:lnTo>
                <a:lnTo>
                  <a:pt x="164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写木兰决定代父从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1"/>
          <p:cNvSpPr/>
          <p:nvPr/>
        </p:nvSpPr>
        <p:spPr>
          <a:xfrm flipH="1">
            <a:off x="2564640" y="1973160"/>
            <a:ext cx="5457960" cy="43020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42" y="0"/>
                </a:lnTo>
                <a:lnTo>
                  <a:pt x="21600" y="10800"/>
                </a:lnTo>
                <a:lnTo>
                  <a:pt x="170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写木兰准备出征和奔赴战场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 flipH="1">
            <a:off x="2556720" y="2567160"/>
            <a:ext cx="5457960" cy="43164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45" y="0"/>
                </a:lnTo>
                <a:lnTo>
                  <a:pt x="21600" y="10800"/>
                </a:lnTo>
                <a:lnTo>
                  <a:pt x="170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概写木兰十年征战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3"/>
          <p:cNvSpPr/>
          <p:nvPr/>
        </p:nvSpPr>
        <p:spPr>
          <a:xfrm flipH="1">
            <a:off x="2555280" y="3159000"/>
            <a:ext cx="5459400" cy="433440"/>
          </a:xfrm>
          <a:custGeom>
            <a:avLst/>
            <a:gdLst>
              <a:gd name="textAreaLeft" fmla="*/ -360 w 5459400"/>
              <a:gd name="textAreaRight" fmla="*/ 5459400 w 54594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27" y="0"/>
                </a:lnTo>
                <a:lnTo>
                  <a:pt x="21600" y="10800"/>
                </a:lnTo>
                <a:lnTo>
                  <a:pt x="170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写木兰还朝辞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4"/>
          <p:cNvSpPr/>
          <p:nvPr/>
        </p:nvSpPr>
        <p:spPr>
          <a:xfrm flipH="1">
            <a:off x="2556720" y="3697200"/>
            <a:ext cx="5457960" cy="4888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12" y="0"/>
                </a:lnTo>
                <a:lnTo>
                  <a:pt x="21600" y="10800"/>
                </a:lnTo>
                <a:lnTo>
                  <a:pt x="164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写木兰还乡与亲人团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5"/>
          <p:cNvSpPr/>
          <p:nvPr/>
        </p:nvSpPr>
        <p:spPr>
          <a:xfrm flipH="1">
            <a:off x="2556720" y="4290840"/>
            <a:ext cx="5457960" cy="48924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489240"/>
              <a:gd name="textAreaBottom" fmla="*/ 489240 h 4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12" y="0"/>
                </a:lnTo>
                <a:lnTo>
                  <a:pt x="21600" y="10800"/>
                </a:lnTo>
                <a:lnTo>
                  <a:pt x="164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用比喻作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343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整体感知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"/>
          <p:cNvGrpSpPr/>
          <p:nvPr/>
        </p:nvGrpSpPr>
        <p:grpSpPr>
          <a:xfrm>
            <a:off x="2301840" y="2049480"/>
            <a:ext cx="6176880" cy="1698120"/>
            <a:chOff x="2301840" y="2049480"/>
            <a:chExt cx="6176880" cy="1698120"/>
          </a:xfrm>
        </p:grpSpPr>
        <p:sp>
          <p:nvSpPr>
            <p:cNvPr id="346" name="AutoShape 4"/>
            <p:cNvSpPr/>
            <p:nvPr/>
          </p:nvSpPr>
          <p:spPr>
            <a:xfrm>
              <a:off x="2301840" y="2056320"/>
              <a:ext cx="6176880" cy="1691280"/>
            </a:xfrm>
            <a:prstGeom prst="borderCallout1">
              <a:avLst>
                <a:gd name="adj1" fmla="val 18750"/>
                <a:gd name="adj2" fmla="val -8333"/>
                <a:gd name="adj3" fmla="val 47643"/>
                <a:gd name="adj4" fmla="val -588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5"/>
            <p:cNvSpPr/>
            <p:nvPr/>
          </p:nvSpPr>
          <p:spPr>
            <a:xfrm>
              <a:off x="2421360" y="2049480"/>
              <a:ext cx="60235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    </a:t>
              </a:r>
              <a:r>
                <a:rPr b="1" lang="zh-CN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木兰当户织时的心事重重，木兰准备行装时的活动，木兰奔赴战场时的心态，木兰回家后家人的欢乐，木兰重着</a:t>
              </a:r>
              <a:r>
                <a:rPr b="1" lang="zh-CN" sz="26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“</a:t>
              </a:r>
              <a:r>
                <a:rPr b="1" lang="zh-CN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女儿装</a:t>
              </a:r>
              <a:r>
                <a:rPr b="1" lang="zh-CN" sz="26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”</a:t>
              </a:r>
              <a:r>
                <a:rPr b="1" lang="zh-CN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时的欣喜等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6"/>
          <p:cNvSpPr/>
          <p:nvPr/>
        </p:nvSpPr>
        <p:spPr>
          <a:xfrm>
            <a:off x="770040" y="1039680"/>
            <a:ext cx="81518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首诗歌中所写的故事时间跨度大，内容丰富而复杂，作者是如何作出详略安排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/>
          <p:cNvSpPr/>
          <p:nvPr/>
        </p:nvSpPr>
        <p:spPr>
          <a:xfrm>
            <a:off x="2301840" y="3868560"/>
            <a:ext cx="6176880" cy="878040"/>
          </a:xfrm>
          <a:prstGeom prst="borderCallout2">
            <a:avLst>
              <a:gd name="adj1" fmla="val 18750"/>
              <a:gd name="adj2" fmla="val -8333"/>
              <a:gd name="adj3" fmla="val 37763"/>
              <a:gd name="adj4" fmla="val -32"/>
              <a:gd name="adj5" fmla="val 32240"/>
              <a:gd name="adj6" fmla="val -6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2301840" y="3868560"/>
            <a:ext cx="617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楷体"/>
              </a:rPr>
              <a:t>       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战斗的过程。十年征战，寥寥几句就交代完了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楷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1104840" y="2514600"/>
            <a:ext cx="833400" cy="77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详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1"/>
          <p:cNvSpPr/>
          <p:nvPr/>
        </p:nvSpPr>
        <p:spPr>
          <a:xfrm>
            <a:off x="1104840" y="3755880"/>
            <a:ext cx="833400" cy="77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略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354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合作探究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5"/>
          <p:cNvSpPr/>
          <p:nvPr/>
        </p:nvSpPr>
        <p:spPr>
          <a:xfrm>
            <a:off x="870120" y="1500120"/>
            <a:ext cx="7654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同学们仔细分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军百战死，壮士十年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句，思考这两句的确切意思，并说说在语意表达形式上有何特点？又该如何去翻译这两句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358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研读赏析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2"/>
          <p:cNvSpPr/>
          <p:nvPr/>
        </p:nvSpPr>
        <p:spPr>
          <a:xfrm>
            <a:off x="571680" y="949320"/>
            <a:ext cx="7976880" cy="21844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779400" y="1049400"/>
            <a:ext cx="7561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上下句的意思互相交错、补充。这是互文的手法。（上下两句或一句话中的两个部分，看似各说一件事，实则是互相呼应，互相阐发，互相补充，说的是一件事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翻译：将军和壮士身经百战，有的不幸战死了，有的转战数载胜利回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36440" y="1973160"/>
            <a:ext cx="89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东市买骏马，西市买鞍鞯，南市买辔头，北市买长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314280" y="739800"/>
            <a:ext cx="8406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中运用互文手法描写的句子还有哪些？找出来并解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9"/>
          <p:cNvGrpSpPr/>
          <p:nvPr/>
        </p:nvGrpSpPr>
        <p:grpSpPr>
          <a:xfrm>
            <a:off x="687240" y="2863800"/>
            <a:ext cx="7959960" cy="1235160"/>
            <a:chOff x="687240" y="2863800"/>
            <a:chExt cx="7959960" cy="1235160"/>
          </a:xfrm>
        </p:grpSpPr>
        <p:sp>
          <p:nvSpPr>
            <p:cNvPr id="365" name="AutoShape 10"/>
            <p:cNvSpPr/>
            <p:nvPr/>
          </p:nvSpPr>
          <p:spPr>
            <a:xfrm>
              <a:off x="687240" y="2863800"/>
              <a:ext cx="7959960" cy="123516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1"/>
            <p:cNvSpPr/>
            <p:nvPr/>
          </p:nvSpPr>
          <p:spPr>
            <a:xfrm>
              <a:off x="749520" y="3166920"/>
              <a:ext cx="7770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41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9900cc"/>
                  </a:solidFill>
                  <a:latin typeface="宋体"/>
                </a:rPr>
                <a:t>意思：跑遍了许多市集，购齐了出征所需之物，而不是在某一个集市上只买某一样东西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825480" y="682560"/>
            <a:ext cx="62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开我东阁门，坐我西阁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974880" y="1450800"/>
            <a:ext cx="7067520" cy="733680"/>
            <a:chOff x="974880" y="1450800"/>
            <a:chExt cx="7067520" cy="733680"/>
          </a:xfrm>
        </p:grpSpPr>
        <p:sp>
          <p:nvSpPr>
            <p:cNvPr id="369" name="AutoShape 4"/>
            <p:cNvSpPr/>
            <p:nvPr/>
          </p:nvSpPr>
          <p:spPr>
            <a:xfrm>
              <a:off x="974880" y="1450800"/>
              <a:ext cx="7067520" cy="73368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"/>
            <p:cNvSpPr/>
            <p:nvPr/>
          </p:nvSpPr>
          <p:spPr>
            <a:xfrm>
              <a:off x="974880" y="1537200"/>
              <a:ext cx="67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宋体"/>
                </a:rPr>
                <a:t>意思：打开每间房门，进去看看，坐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8"/>
          <p:cNvSpPr/>
          <p:nvPr/>
        </p:nvSpPr>
        <p:spPr>
          <a:xfrm>
            <a:off x="1601640" y="2465280"/>
            <a:ext cx="184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12"/>
          <p:cNvGrpSpPr/>
          <p:nvPr/>
        </p:nvGrpSpPr>
        <p:grpSpPr>
          <a:xfrm>
            <a:off x="974880" y="3317760"/>
            <a:ext cx="7344720" cy="1140120"/>
            <a:chOff x="974880" y="3317760"/>
            <a:chExt cx="7344720" cy="1140120"/>
          </a:xfrm>
        </p:grpSpPr>
        <p:sp>
          <p:nvSpPr>
            <p:cNvPr id="373" name="AutoShape 13"/>
            <p:cNvSpPr/>
            <p:nvPr/>
          </p:nvSpPr>
          <p:spPr>
            <a:xfrm>
              <a:off x="974880" y="3317760"/>
              <a:ext cx="7223040" cy="114012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4"/>
            <p:cNvSpPr/>
            <p:nvPr/>
          </p:nvSpPr>
          <p:spPr>
            <a:xfrm>
              <a:off x="1077840" y="3583440"/>
              <a:ext cx="724176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宋体"/>
                </a:rPr>
                <a:t>意思：当着窗子，对着镜子，先理云鬓，后贴花黄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15"/>
          <p:cNvSpPr/>
          <p:nvPr/>
        </p:nvSpPr>
        <p:spPr>
          <a:xfrm>
            <a:off x="1547640" y="3922560"/>
            <a:ext cx="1843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25480" y="2602080"/>
            <a:ext cx="62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窗理云鬓，对镜帖花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0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61960" y="1054080"/>
            <a:ext cx="833112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乐府诗的特点；熟读并背诵课文，疏通文意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会故事情节曲折、富于戏剧性、充满传奇色彩的表现方法；体会不同修辞手法对塑造人物形象、突出中心的作用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难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木兰这位巾帼英雄自立、自强的高尚品质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219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334800" y="752400"/>
            <a:ext cx="85456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同学们看看下列句子划线部分各有什么句式特点，从诗中再找些类似的句子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问女何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思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问女何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军书十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卷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有爷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万里赴戎机，关山度若飞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爷娘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闻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女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出郭相扶将；阿姊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闻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妹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当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理红妆；小弟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闻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姊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磨刀霍霍向猪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571680" y="385920"/>
            <a:ext cx="79419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这两句是复沓句。两句文字基本相同，只更换少数词语。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女亦无所思，女亦无所忆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，以及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旦辞爷娘去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但闻燕山胡骑鸣啾啾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两节八句，也是复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这两句是顶真句，又称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联珠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，后一句开头的词语与前一句末尾的词语相同，首尾相连。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壮士十年归，归来见天子，天子坐明堂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出门看火伴， 火伴皆惊忙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，也是顶真。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614520" y="741240"/>
            <a:ext cx="78930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这两句是很工整的对偶句。此外，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朔气传金柝，寒光照铁衣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也是很工整的对偶句。另有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阿爷无大儿，木兰无长兄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开我东阁门，坐我西阁床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脱我战时袍，著我旧时裳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雄兔脚扑朔，雌兔眼迷离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等不是很工整的对偶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这几句是排比句。</a:t>
            </a:r>
            <a:r>
              <a:rPr b="1" lang="zh-CN" sz="2800" spc="-1" strike="noStrike">
                <a:solidFill>
                  <a:srgbClr val="0066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东市买骏马</a:t>
            </a:r>
            <a:r>
              <a:rPr b="1" lang="zh-CN" sz="2800" spc="-1" strike="noStrike">
                <a:solidFill>
                  <a:srgbClr val="006600"/>
                </a:solidFill>
                <a:latin typeface="楷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北市买长鞭</a:t>
            </a:r>
            <a:r>
              <a:rPr b="1" lang="zh-CN" sz="2800" spc="-1" strike="noStrike">
                <a:solidFill>
                  <a:srgbClr val="0066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一节四句，也是排比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30"/>
          <p:cNvSpPr/>
          <p:nvPr/>
        </p:nvSpPr>
        <p:spPr>
          <a:xfrm>
            <a:off x="6962760" y="1244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二一二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7130880" y="2852640"/>
            <a:ext cx="14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二三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2"/>
          <p:cNvSpPr/>
          <p:nvPr/>
        </p:nvSpPr>
        <p:spPr>
          <a:xfrm>
            <a:off x="6991200" y="394344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二二一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888840" y="371520"/>
            <a:ext cx="65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请同学们根据语意及句式划分节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503720" y="1003320"/>
            <a:ext cx="4731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唧 唧 复 唧 唧　　昨 夜 见 军 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可 汗 大 点 兵　　万 里 赴 戎 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归 来 见 天 子　　天 子 坐 明 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3"/>
          <p:cNvSpPr/>
          <p:nvPr/>
        </p:nvSpPr>
        <p:spPr>
          <a:xfrm>
            <a:off x="6815160" y="1144440"/>
            <a:ext cx="233280" cy="1360800"/>
          </a:xfrm>
          <a:custGeom>
            <a:avLst/>
            <a:gdLst>
              <a:gd name="textAreaLeft" fmla="*/ 0 w 233280"/>
              <a:gd name="textAreaRight" fmla="*/ 84240 w 233280"/>
              <a:gd name="textAreaTop" fmla="*/ 31680 h 1360800"/>
              <a:gd name="textAreaBottom" fmla="*/ 1329120 h 136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9"/>
                  <a:pt x="10800" y="1618"/>
                </a:cubicBezTo>
                <a:lnTo>
                  <a:pt x="10800" y="9182"/>
                </a:lnTo>
                <a:cubicBezTo>
                  <a:pt x="10800" y="9991"/>
                  <a:pt x="16200" y="10800"/>
                  <a:pt x="21600" y="10800"/>
                </a:cubicBezTo>
                <a:cubicBezTo>
                  <a:pt x="16200" y="10800"/>
                  <a:pt x="10800" y="11609"/>
                  <a:pt x="10800" y="12418"/>
                </a:cubicBezTo>
                <a:lnTo>
                  <a:pt x="10800" y="19982"/>
                </a:lnTo>
                <a:cubicBezTo>
                  <a:pt x="10800" y="2079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03720" y="2608200"/>
            <a:ext cx="4731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不 闻 机 杼 声　　唯 闻 女 叹 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问 女 何 所 思　　问 女 何 所 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愿 为 市 鞍 马　　从 此 替 爷 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4"/>
          <p:cNvSpPr/>
          <p:nvPr/>
        </p:nvSpPr>
        <p:spPr>
          <a:xfrm>
            <a:off x="6845400" y="2743200"/>
            <a:ext cx="234720" cy="1366920"/>
          </a:xfrm>
          <a:custGeom>
            <a:avLst/>
            <a:gdLst>
              <a:gd name="textAreaLeft" fmla="*/ 0 w 234720"/>
              <a:gd name="textAreaRight" fmla="*/ 84600 w 234720"/>
              <a:gd name="textAreaTop" fmla="*/ 33840 h 1366920"/>
              <a:gd name="textAreaBottom" fmla="*/ 1333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6"/>
                  <a:pt x="10800" y="1711"/>
                </a:cubicBezTo>
                <a:lnTo>
                  <a:pt x="10800" y="9089"/>
                </a:lnTo>
                <a:cubicBezTo>
                  <a:pt x="10800" y="9945"/>
                  <a:pt x="16200" y="10800"/>
                  <a:pt x="21600" y="10800"/>
                </a:cubicBezTo>
                <a:cubicBezTo>
                  <a:pt x="16200" y="10800"/>
                  <a:pt x="10800" y="11656"/>
                  <a:pt x="10800" y="12511"/>
                </a:cubicBezTo>
                <a:lnTo>
                  <a:pt x="10800" y="19889"/>
                </a:lnTo>
                <a:cubicBezTo>
                  <a:pt x="10800" y="2074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468440" y="4178160"/>
            <a:ext cx="4803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将 军 百 战 死　  壮 士 十 年 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1851120" y="1014480"/>
            <a:ext cx="2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3"/>
          <p:cNvSpPr/>
          <p:nvPr/>
        </p:nvSpPr>
        <p:spPr>
          <a:xfrm>
            <a:off x="2374920" y="101124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3"/>
          <p:cNvSpPr/>
          <p:nvPr/>
        </p:nvSpPr>
        <p:spPr>
          <a:xfrm>
            <a:off x="5092560" y="101772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3"/>
          <p:cNvSpPr/>
          <p:nvPr/>
        </p:nvSpPr>
        <p:spPr>
          <a:xfrm>
            <a:off x="5614920" y="101772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1868400" y="154296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2381400" y="154620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072040" y="155088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3"/>
          <p:cNvSpPr/>
          <p:nvPr/>
        </p:nvSpPr>
        <p:spPr>
          <a:xfrm>
            <a:off x="5638680" y="154944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3"/>
          <p:cNvSpPr/>
          <p:nvPr/>
        </p:nvSpPr>
        <p:spPr>
          <a:xfrm>
            <a:off x="1879560" y="262260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5059440" y="2625840"/>
            <a:ext cx="2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1833480" y="317340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3"/>
          <p:cNvSpPr/>
          <p:nvPr/>
        </p:nvSpPr>
        <p:spPr>
          <a:xfrm>
            <a:off x="5059440" y="3168720"/>
            <a:ext cx="2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1833480" y="368604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3"/>
          <p:cNvSpPr/>
          <p:nvPr/>
        </p:nvSpPr>
        <p:spPr>
          <a:xfrm>
            <a:off x="5065560" y="369900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1820880" y="428004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3"/>
          <p:cNvSpPr/>
          <p:nvPr/>
        </p:nvSpPr>
        <p:spPr>
          <a:xfrm>
            <a:off x="2916360" y="4264200"/>
            <a:ext cx="2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5092560" y="426708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6122880" y="426420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3"/>
          <p:cNvSpPr/>
          <p:nvPr/>
        </p:nvSpPr>
        <p:spPr>
          <a:xfrm>
            <a:off x="1849320" y="207180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2374920" y="207000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5008680" y="206856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5608800" y="207504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3"/>
          <p:cNvSpPr/>
          <p:nvPr/>
        </p:nvSpPr>
        <p:spPr>
          <a:xfrm>
            <a:off x="430200" y="1901880"/>
            <a:ext cx="8464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首先，诗中花木兰的形象，既富有传奇色彩，又真切动人。木兰既是奇女子又是普通人，既是巾帼英雄又是平民少女，既是矫健的勇士又是娇美的女儿。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花木兰是古今作品中难得一见的完美的妇女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430200" y="76032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千多年来，花木兰的形象一直深受人们喜爱，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3"/>
          <p:cNvSpPr/>
          <p:nvPr/>
        </p:nvSpPr>
        <p:spPr>
          <a:xfrm>
            <a:off x="617400" y="1008000"/>
            <a:ext cx="8089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其次，与故事情节也密不可分。一个弱女子，女扮男装，代父从军，且建功立业，却又要辞官还乡。情节离奇曲折，扣人心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战场"/>
          <p:cNvPicPr/>
          <p:nvPr/>
        </p:nvPicPr>
        <p:blipFill>
          <a:blip r:embed="rId1"/>
          <a:stretch/>
        </p:blipFill>
        <p:spPr>
          <a:xfrm>
            <a:off x="3044880" y="2820960"/>
            <a:ext cx="299556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0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5"/>
          <p:cNvSpPr/>
          <p:nvPr/>
        </p:nvSpPr>
        <p:spPr>
          <a:xfrm>
            <a:off x="293760" y="1409760"/>
            <a:ext cx="8466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《木兰诗》通过木兰从军，英勇征战，凯旋团聚的故事，塑造了一位巾帼女英雄形象，充分体现了我国古代劳动人们勤劳、智慧、谨慎、果敢、坚强、不慕高官厚禄而热爱和平生活的优秀品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1"/>
          <p:cNvSpPr/>
          <p:nvPr/>
        </p:nvSpPr>
        <p:spPr>
          <a:xfrm>
            <a:off x="2184480" y="744480"/>
            <a:ext cx="49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voltage.wav"/>
      </p:stSnd>
    </p:sndAc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418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板书设计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Text Box 4"/>
          <p:cNvSpPr/>
          <p:nvPr/>
        </p:nvSpPr>
        <p:spPr>
          <a:xfrm>
            <a:off x="598320" y="1951200"/>
            <a:ext cx="57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木兰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左大括号 16"/>
          <p:cNvSpPr/>
          <p:nvPr/>
        </p:nvSpPr>
        <p:spPr>
          <a:xfrm>
            <a:off x="1225440" y="1135080"/>
            <a:ext cx="270000" cy="3373560"/>
          </a:xfrm>
          <a:custGeom>
            <a:avLst/>
            <a:gdLst>
              <a:gd name="textAreaLeft" fmla="*/ 172440 w 270000"/>
              <a:gd name="textAreaRight" fmla="*/ 270360 w 270000"/>
              <a:gd name="textAreaTop" fmla="*/ 36000 h 3373560"/>
              <a:gd name="textAreaBottom" fmla="*/ 3337560 h 337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0"/>
                  <a:pt x="10800" y="739"/>
                </a:cubicBezTo>
                <a:lnTo>
                  <a:pt x="10800" y="10061"/>
                </a:lnTo>
                <a:cubicBezTo>
                  <a:pt x="10800" y="10431"/>
                  <a:pt x="5400" y="10800"/>
                  <a:pt x="0" y="10800"/>
                </a:cubicBezTo>
                <a:cubicBezTo>
                  <a:pt x="5400" y="10800"/>
                  <a:pt x="10800" y="11170"/>
                  <a:pt x="10800" y="11539"/>
                </a:cubicBezTo>
                <a:lnTo>
                  <a:pt x="10800" y="20861"/>
                </a:lnTo>
                <a:cubicBezTo>
                  <a:pt x="10800" y="2123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1454040" y="1641600"/>
            <a:ext cx="165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替父从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右大括号 18"/>
          <p:cNvSpPr/>
          <p:nvPr/>
        </p:nvSpPr>
        <p:spPr>
          <a:xfrm>
            <a:off x="6581880" y="1135080"/>
            <a:ext cx="253800" cy="3373560"/>
          </a:xfrm>
          <a:custGeom>
            <a:avLst/>
            <a:gdLst>
              <a:gd name="textAreaLeft" fmla="*/ 0 w 253800"/>
              <a:gd name="textAreaRight" fmla="*/ 91440 w 253800"/>
              <a:gd name="textAreaTop" fmla="*/ 35640 h 3373560"/>
              <a:gd name="textAreaBottom" fmla="*/ 33379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5"/>
                  <a:pt x="10800" y="730"/>
                </a:cubicBezTo>
                <a:lnTo>
                  <a:pt x="10800" y="10070"/>
                </a:lnTo>
                <a:cubicBezTo>
                  <a:pt x="10800" y="10435"/>
                  <a:pt x="16200" y="10800"/>
                  <a:pt x="21600" y="10800"/>
                </a:cubicBezTo>
                <a:cubicBezTo>
                  <a:pt x="16200" y="10800"/>
                  <a:pt x="10800" y="11165"/>
                  <a:pt x="10800" y="11530"/>
                </a:cubicBezTo>
                <a:lnTo>
                  <a:pt x="10800" y="20870"/>
                </a:lnTo>
                <a:cubicBezTo>
                  <a:pt x="10800" y="2123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6835680" y="2216160"/>
            <a:ext cx="215424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勤劳，善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机智，勇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左大括号 20"/>
          <p:cNvSpPr/>
          <p:nvPr/>
        </p:nvSpPr>
        <p:spPr>
          <a:xfrm>
            <a:off x="2871720" y="1157400"/>
            <a:ext cx="225360" cy="1460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21960 h 1460520"/>
              <a:gd name="textAreaBottom" fmla="*/ 143856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1"/>
                  <a:pt x="10800" y="1042"/>
                </a:cubicBezTo>
                <a:lnTo>
                  <a:pt x="10800" y="9758"/>
                </a:lnTo>
                <a:cubicBezTo>
                  <a:pt x="10800" y="10279"/>
                  <a:pt x="5400" y="10800"/>
                  <a:pt x="0" y="10800"/>
                </a:cubicBezTo>
                <a:cubicBezTo>
                  <a:pt x="5400" y="10800"/>
                  <a:pt x="10800" y="11321"/>
                  <a:pt x="10800" y="11842"/>
                </a:cubicBezTo>
                <a:lnTo>
                  <a:pt x="10800" y="20558"/>
                </a:lnTo>
                <a:cubicBezTo>
                  <a:pt x="10800" y="2107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7"/>
          <p:cNvSpPr/>
          <p:nvPr/>
        </p:nvSpPr>
        <p:spPr>
          <a:xfrm>
            <a:off x="3052800" y="1082520"/>
            <a:ext cx="34686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交代身份，揭示忧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说明原因，决心应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积极准备，踏上征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8"/>
          <p:cNvSpPr/>
          <p:nvPr/>
        </p:nvSpPr>
        <p:spPr>
          <a:xfrm>
            <a:off x="1512720" y="3433680"/>
            <a:ext cx="165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辞官归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左大括号 25"/>
          <p:cNvSpPr/>
          <p:nvPr/>
        </p:nvSpPr>
        <p:spPr>
          <a:xfrm>
            <a:off x="2878200" y="2973240"/>
            <a:ext cx="225360" cy="1462320"/>
          </a:xfrm>
          <a:custGeom>
            <a:avLst/>
            <a:gdLst>
              <a:gd name="textAreaLeft" fmla="*/ 144000 w 225360"/>
              <a:gd name="textAreaRight" fmla="*/ 225720 w 225360"/>
              <a:gd name="textAreaTop" fmla="*/ 21960 h 1462320"/>
              <a:gd name="textAreaBottom" fmla="*/ 1440360 h 14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1"/>
                  <a:pt x="10800" y="1041"/>
                </a:cubicBezTo>
                <a:lnTo>
                  <a:pt x="10800" y="9759"/>
                </a:lnTo>
                <a:cubicBezTo>
                  <a:pt x="10800" y="10280"/>
                  <a:pt x="5400" y="10800"/>
                  <a:pt x="0" y="10800"/>
                </a:cubicBezTo>
                <a:cubicBezTo>
                  <a:pt x="5400" y="10800"/>
                  <a:pt x="10800" y="11321"/>
                  <a:pt x="10800" y="11841"/>
                </a:cubicBezTo>
                <a:lnTo>
                  <a:pt x="10800" y="20559"/>
                </a:lnTo>
                <a:cubicBezTo>
                  <a:pt x="10800" y="2108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7"/>
          <p:cNvSpPr/>
          <p:nvPr/>
        </p:nvSpPr>
        <p:spPr>
          <a:xfrm>
            <a:off x="3052800" y="2879640"/>
            <a:ext cx="348624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谢辞高官，功成身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喜归故里，重著旧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以兔为喻，解释原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3960000" y="49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写作鉴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477720" y="1316160"/>
            <a:ext cx="8299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民歌风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木兰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乐府民歌的独特风格，开篇一问一答，是民歌中常见的。语言生动质朴，极少雕饰斧凿。“小弟闻姊来，磨刀霍霍向猪羊”流传千百年，至今仍是人们津津乐道的口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407880" y="720720"/>
            <a:ext cx="82026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而且语言丰富多彩，有朴素自然的口语，也有字句谐适的排比。排比如“东市”“西市”“南市”“北市”等句子，渲染了木兰从军准备工作的繁忙与有条不紊，表达了木兰的乐观精神。还有新奇幽默的比喻，如最后四句，体现了作者对女英雄的赞美之意。还有非常工整的对偶，如“朔气传金柝，寒光照铁衣”，这两句形象地写出了北方的苦寒，极言战地生活的艰辛，用环境来烘托木兰勇敢顽强的性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5383080" y="844560"/>
            <a:ext cx="241632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817640" y="3795120"/>
            <a:ext cx="5657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96800" y="1419120"/>
            <a:ext cx="829944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木兰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的时代背景众说纷纭，但据其最早著录于陈释智匠所撰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古今乐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可证其产生之时代不晚于陈。诗中称天子为“可汗”，征战地点皆在北方，则其产生之地域在北朝。诗中有“旦辞黄河去，暮至黑山头”，“但闻燕山胡骑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225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写作背景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393840" y="812880"/>
            <a:ext cx="8583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详略得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诗是一首叙事诗，有集中完整的故事情节，在叙事上有详有略，详略得当。诗歌对木兰代父从军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缘由、离别、辞官还乡、家人团聚的内容写得较详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对出征前的准备和几十年的征战内容则写得较简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样处理详略不只是为了求得行文的变化，使结构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密有致，更重要的是为了更好地刻画人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3"/>
          <p:cNvSpPr/>
          <p:nvPr/>
        </p:nvSpPr>
        <p:spPr>
          <a:xfrm>
            <a:off x="743040" y="1246320"/>
            <a:ext cx="7818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同学们，学习本文，我们了解了传颂千古的花木兰的完美品格，了解了古代民歌久远的艺术魅力。其实，在现实当中，在我们的身边，也有许多像花木兰一样的优秀妇女。请大家用自己的眼睛去发现现实中的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花木兰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，用自己的文笔去歌颂这现实中的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花木兰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436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课堂小结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"/>
          <p:cNvSpPr/>
          <p:nvPr/>
        </p:nvSpPr>
        <p:spPr>
          <a:xfrm>
            <a:off x="966960" y="1203480"/>
            <a:ext cx="2514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仿宋_GB2312"/>
                <a:ea typeface="黑体"/>
              </a:rPr>
              <a:t>对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仿宋_GB2312"/>
                <a:ea typeface="黑体"/>
              </a:rPr>
              <a:t>帖</a:t>
            </a:r>
            <a:r>
              <a:rPr b="1" lang="zh-CN" sz="2800" spc="-1" strike="noStrike">
                <a:solidFill>
                  <a:srgbClr val="9900cc"/>
                </a:solidFill>
                <a:latin typeface="仿宋_GB2312"/>
                <a:ea typeface="黑体"/>
              </a:rPr>
              <a:t>花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仿宋_GB2312"/>
                <a:ea typeface="黑体"/>
              </a:rPr>
              <a:t>出门看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仿宋_GB2312"/>
                <a:ea typeface="黑体"/>
              </a:rPr>
              <a:t>火</a:t>
            </a:r>
            <a:r>
              <a:rPr b="1" lang="zh-CN" sz="2800" spc="-1" strike="noStrike">
                <a:solidFill>
                  <a:srgbClr val="9900cc"/>
                </a:solidFill>
                <a:latin typeface="仿宋_GB2312"/>
                <a:ea typeface="黑体"/>
              </a:rPr>
              <a:t>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3252960" y="1260360"/>
            <a:ext cx="38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黑体"/>
              </a:rPr>
              <a:t>帖”通“贴”，粘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252960" y="1878120"/>
            <a:ext cx="38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黑体"/>
              </a:rPr>
              <a:t>火”通“伙”，伙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550800" y="676440"/>
            <a:ext cx="14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通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550800" y="2549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966960" y="311004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愿为市鞍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策勋十二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3139920" y="3103560"/>
            <a:ext cx="5981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市，名词用作动词，译为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买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策，名词用作动词，译为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记下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7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8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8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8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8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3"/>
          <p:cNvSpPr/>
          <p:nvPr/>
        </p:nvSpPr>
        <p:spPr>
          <a:xfrm>
            <a:off x="1565280" y="776160"/>
            <a:ext cx="22464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军书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十二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卷卷有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爷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朔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气传金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赏赐百千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胡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162320" y="776160"/>
            <a:ext cx="3808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表示多数，不是确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古义指父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北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有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战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6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9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2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8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8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8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8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8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8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3"/>
          <p:cNvSpPr/>
          <p:nvPr/>
        </p:nvSpPr>
        <p:spPr>
          <a:xfrm>
            <a:off x="1320840" y="654120"/>
            <a:ext cx="3197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木兰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不用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尚书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愿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驰千里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出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郭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相扶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著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我旧时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双兔傍地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4611600" y="654120"/>
            <a:ext cx="19875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不愿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外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nodeType="clickEffect" fill="hold">
                      <p:stCondLst>
                        <p:cond delay="0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3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6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9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2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5" dur="5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0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4"/>
          <p:cNvSpPr/>
          <p:nvPr/>
        </p:nvSpPr>
        <p:spPr>
          <a:xfrm>
            <a:off x="1440000" y="1644480"/>
            <a:ext cx="65340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284120" y="1135080"/>
            <a:ext cx="5940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万里赴戎机，关山度若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朔气传金柝，寒光照铁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284120" y="1644480"/>
            <a:ext cx="7285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木兰不远万里奔赴战场，像飞一样地跨过一道道的关，越过一座座的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1284120" y="3543480"/>
            <a:ext cx="7215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北方的寒气传送着打更的声音，清冷的月光映照着战士们的铁甲战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454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翻译句子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9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"/>
          <p:cNvSpPr/>
          <p:nvPr/>
        </p:nvSpPr>
        <p:spPr>
          <a:xfrm>
            <a:off x="461880" y="487440"/>
            <a:ext cx="831528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雄兔脚扑朔，雌兔眼迷离；双兔傍地走，安能辨我是雄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策勋十二转，赏赐百千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617400" y="1666800"/>
            <a:ext cx="8002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雄兔的两只前脚时时动弹，雌兔的两只眼睛时常眯着。雄雌两兔一起并排着跑，怎能分辨得出哪个是雄兔，哪个是雌兔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2586960" y="40384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木兰被记了很大的功劳，赏赐了很多财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nodeType="clickEffect" fill="hold">
                      <p:stCondLst>
                        <p:cond delay="0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5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5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88920"/>
            <a:ext cx="41148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课堂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3640" y="682560"/>
            <a:ext cx="856908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理解性默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①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中写木兰从军的原因是：</a:t>
            </a:r>
            <a:r>
              <a:rPr b="1" lang="zh-CN" sz="2800" spc="-1" strike="noStrike" u="sng">
                <a:solidFill>
                  <a:srgbClr val="663300"/>
                </a:solidFill>
                <a:uFillTx/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 </a:t>
            </a:r>
            <a:r>
              <a:rPr b="1" lang="zh-CN" sz="2800" spc="-1" strike="noStrike" u="sng">
                <a:solidFill>
                  <a:srgbClr val="663300"/>
                </a:solidFill>
                <a:uFillTx/>
                <a:latin typeface="宋体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</a:t>
            </a:r>
            <a:r>
              <a:rPr b="1" lang="zh-CN" sz="2800" spc="-1" strike="noStrike" u="sng">
                <a:solidFill>
                  <a:srgbClr val="663300"/>
                </a:solidFill>
                <a:uFillTx/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   </a:t>
            </a:r>
            <a:r>
              <a:rPr b="1" lang="zh-CN" sz="2800" spc="-1" strike="noStrike" u="sng">
                <a:solidFill>
                  <a:srgbClr val="663300"/>
                </a:solidFill>
                <a:uFillTx/>
                <a:latin typeface="宋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写木兰深明大义，代父从军的句子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③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中表现木兰出征前紧张繁忙、周密有序的准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备情形的句子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④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中描写木兰辞别父母踏上征途情景、思念亲人的诗句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1" name="type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411480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课堂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950400"/>
            <a:ext cx="849600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描写宿营地空寂荒凉，衬托思亲之情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⑥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夸张描写木兰矫健雄姿的句子：（夸张地描写了木兰身跨战马，万里迢迢奔赴战场的句子）是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⑦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中运用对偶写边塞夜景和军营寒苦（最能反映木兰艰辛的战场生活的句子）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⑧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中描写战争旷日持久，战斗激烈悲壮，将士终于凯旋的名句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411480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课堂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23640" y="898560"/>
            <a:ext cx="8497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⑨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凉州词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诗云：“醉卧沙场君莫笑，古来征战几人回。”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中有相似的两句诗是：</a:t>
            </a:r>
            <a:r>
              <a:rPr b="1" lang="zh-CN" sz="3200" spc="-1" strike="noStrike" u="sng">
                <a:solidFill>
                  <a:srgbClr val="663300"/>
                </a:solidFill>
                <a:uFillTx/>
                <a:latin typeface="宋体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⑩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侧面描写木兰战功显赫的句子是：</a:t>
            </a:r>
            <a:r>
              <a:rPr b="1" lang="zh-CN" sz="3200" spc="-1" strike="noStrike" u="sng">
                <a:solidFill>
                  <a:srgbClr val="663300"/>
                </a:solidFill>
                <a:uFillTx/>
                <a:latin typeface="宋体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⑾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写木兰辞官不就，突出她不图富贵功名利禄的高尚品格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⑿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表现木兰归乡心切的语句：</a:t>
            </a:r>
            <a:r>
              <a:rPr b="1" lang="zh-CN" sz="3200" spc="-1" strike="noStrike" u="sng">
                <a:solidFill>
                  <a:srgbClr val="663300"/>
                </a:solidFill>
                <a:uFillTx/>
                <a:latin typeface="宋体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5383080" y="844560"/>
            <a:ext cx="241632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817640" y="3795120"/>
            <a:ext cx="5657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44680" y="762120"/>
            <a:ext cx="8300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啾啾”语。黑山即杀虎山，在今内蒙古呼和浩特市东南，距离黄河不远。燕山指燕然山，即今蒙古境内的杭爱山。据此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木兰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之战事，当发生于北魏与柔然之间。柔然是北方游牧族大国，立国一百五十八年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94—55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间，与北魏及东魏、北齐曾发生过多次战争。而最主要之战场，正是黑山、燕然山一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95280" y="843120"/>
            <a:ext cx="842472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⒀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描写木兰回家，家人兴高采烈的迎接木兰归来的诗句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⒁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描写木兰回到后喜悦心情的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3300"/>
                </a:solidFill>
                <a:uFillTx/>
                <a:latin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⒂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赞颂木兰谨慎、聪明、勇敢、能力不逊于男子的议论句（用比喻巧妙解答木兰女扮男装奥秘的句子）是：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457200" y="208080"/>
            <a:ext cx="41148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课堂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1" name="type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%HCNQEPP%LSDZ@5$A0YEVJS"/>
          <p:cNvPicPr/>
          <p:nvPr/>
        </p:nvPicPr>
        <p:blipFill>
          <a:blip r:embed="rId1"/>
          <a:stretch/>
        </p:blipFill>
        <p:spPr>
          <a:xfrm>
            <a:off x="0" y="-9360"/>
            <a:ext cx="9137520" cy="51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5383080" y="844560"/>
            <a:ext cx="241632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1817640" y="3795120"/>
            <a:ext cx="5657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84280" y="1503360"/>
            <a:ext cx="8123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乐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汉朝的音乐机构，本是汉武帝设立的音乐机构，其职责为训练乐工，制谱度曲，采集民间歌谣等。后人将乐府中收集编录的诗称为“汉乐府诗”，简称汉乐府。六朝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乐府乃由机关的名称变为一种带有音乐性的诗体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234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知识备查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1674720" y="1116000"/>
            <a:ext cx="63565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）   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）   金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）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）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）头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）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）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）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053520" y="112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815200" y="182736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k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h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084840" y="2536920"/>
            <a:ext cx="8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704320" y="329256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p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5848560" y="327348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355920" y="398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5754960" y="253692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ró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6232680" y="1824120"/>
            <a:ext cx="742680" cy="4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t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6302160" y="1093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ti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5816520" y="398628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à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248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字词注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边框4"/>
          <p:cNvPicPr/>
          <p:nvPr/>
        </p:nvPicPr>
        <p:blipFill>
          <a:blip r:embed="rId1"/>
          <a:stretch/>
        </p:blipFill>
        <p:spPr>
          <a:xfrm>
            <a:off x="5500800" y="160200"/>
            <a:ext cx="3786120" cy="3751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当户织"/>
          <p:cNvPicPr/>
          <p:nvPr/>
        </p:nvPicPr>
        <p:blipFill>
          <a:blip r:embed="rId2"/>
          <a:stretch/>
        </p:blipFill>
        <p:spPr>
          <a:xfrm>
            <a:off x="6143760" y="534960"/>
            <a:ext cx="250020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0"/>
          <p:cNvSpPr/>
          <p:nvPr/>
        </p:nvSpPr>
        <p:spPr>
          <a:xfrm>
            <a:off x="539640" y="3963960"/>
            <a:ext cx="8280360" cy="7765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叹息声唧唧又唧唧，木兰对着门织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听不到织布机的响声，只听到木兰一阵阵的叹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539640" y="1438200"/>
            <a:ext cx="5112000" cy="1800360"/>
          </a:xfrm>
          <a:prstGeom prst="rect">
            <a:avLst/>
          </a:prstGeom>
          <a:solidFill>
            <a:srgbClr val="fab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唧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ī j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纺织机的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āng 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对着门或在门旁，泛指在家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杼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声：织布机发出的声音。机：指织布机。杼：织布梭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u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惟：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39640" y="411120"/>
            <a:ext cx="5112000" cy="581400"/>
          </a:xfrm>
          <a:prstGeom prst="rect">
            <a:avLst/>
          </a:prstGeom>
          <a:solidFill>
            <a:srgbClr val="e5b8b7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唧唧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唧唧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，木兰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户织。不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机杼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声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惟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闻女叹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问女何所思"/>
          <p:cNvPicPr/>
          <p:nvPr/>
        </p:nvPicPr>
        <p:blipFill>
          <a:blip r:embed="rId1"/>
          <a:stretch/>
        </p:blipFill>
        <p:spPr>
          <a:xfrm>
            <a:off x="539640" y="627120"/>
            <a:ext cx="2643120" cy="2948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边框4"/>
          <p:cNvPicPr/>
          <p:nvPr/>
        </p:nvPicPr>
        <p:blipFill>
          <a:blip r:embed="rId2"/>
          <a:stretch/>
        </p:blipFill>
        <p:spPr>
          <a:xfrm>
            <a:off x="0" y="268200"/>
            <a:ext cx="3784680" cy="3483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3564000" y="519120"/>
            <a:ext cx="5286240" cy="5814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问女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何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所思，问女何所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忆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。女亦无所思，女亦无所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1131480" y="376092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何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忆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思念，惦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4284720" y="1654200"/>
            <a:ext cx="4500360" cy="18478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4800" spc="-1" strike="noStrike">
                <a:solidFill>
                  <a:srgbClr val="0070c0"/>
                </a:solidFill>
                <a:latin typeface="Arial"/>
              </a:rPr>
              <a:t>问木兰在想什么，在思念什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Arial"/>
              </a:rPr>
              <a:t>女儿也没有想什么，女儿也没有思念什么。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/>
  <dc:language>en-US</dc:language>
  <cp:lastModifiedBy>微软用户</cp:lastModifiedBy>
  <dcterms:modified xsi:type="dcterms:W3CDTF">2019-03-04T10:25:45Z</dcterms:modified>
  <cp:revision>12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