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0F0-719C-44CA-94D2-FBCA24C9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5C1-51DB-42DE-A4B1-5F16510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3AE-DBAC-4C0F-B4BC-B04AE71F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CD1-06F6-4655-8C3F-A4B7B011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754-0072-4D16-BA29-C62398E2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73B-B4C8-4266-A7CC-79590D4F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B27-E1CD-476E-9E54-9C28413C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4D5-9722-4E56-A63F-DB72DD77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2EB-B1DD-4550-9C12-3BE77BF2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DCF-E899-42B7-B8BC-BC06CDD2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7D2-BED1-4308-A359-B7AB4462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FC8-7DBF-4AF5-91CC-52663DC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D123-1D2A-42FA-97F0-7F54AD685A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10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11.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内容占位符 5" descr="12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内容占位符 3" descr="13..jpg"/>
          <p:cNvPicPr/>
          <p:nvPr/>
        </p:nvPicPr>
        <p:blipFill>
          <a:blip r:embed="rId1"/>
          <a:stretch/>
        </p:blipFill>
        <p:spPr>
          <a:xfrm>
            <a:off x="-60480" y="0"/>
            <a:ext cx="920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内容占位符 5" descr="14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内容占位符 3" descr="15.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内容占位符 3" descr="16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内容占位符 3" descr="17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内容占位符 3" descr="18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内容占位符 3" descr="19.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内容占位符 3" descr="2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20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21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22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23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内容占位符 3" descr="24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内容占位符 3" descr="25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再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内容占位符 3" descr="3.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4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内容占位符 3" descr="5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内容占位符 3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8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内容占位符 3" descr="8..jpg"/>
          <p:cNvPicPr/>
          <p:nvPr/>
        </p:nvPicPr>
        <p:blipFill>
          <a:blip r:embed="rId1"/>
          <a:stretch/>
        </p:blipFill>
        <p:spPr>
          <a:xfrm>
            <a:off x="-7452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内容占位符 3" descr="10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1:51:15Z</dcterms:created>
  <dc:creator>xbany</dc:creator>
  <dc:description/>
  <dc:language>en-US</dc:language>
  <cp:lastModifiedBy>xbany</cp:lastModifiedBy>
  <dcterms:modified xsi:type="dcterms:W3CDTF">2018-08-13T12:23:08Z</dcterms:modified>
  <cp:revision>9</cp:revision>
  <dc:subject/>
  <dc:title>幻灯片 1</dc:title>
</cp:coreProperties>
</file>