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E9BC-B43C-4A07-9304-1BA4403B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18AC-B555-4781-AA0E-EA61F465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8704-8344-4AC2-83FF-AC78D9B8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C6BC-C421-4D9C-91DA-4FCAF583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CDB3-E909-47B8-BCD1-58E2A3B4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D100-D567-4A45-9A7D-F98DCFBB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2060-B4F0-46E5-8F61-44124970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652F-1616-4EB5-BA63-449D3183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8FE5-20DB-4982-8D4E-2F7729B8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4B77-050A-400C-8E83-BBE7568B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CE41-916A-460F-B0DB-123C31DA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1079-7CE2-4E50-93B0-1B18AB16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4070-FAC2-48A4-AFC0-AE126168C8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图片 3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内容占位符 3" descr="10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内容占位符 3" descr="11.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内容占位符 5" descr="12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内容占位符 3" descr="13..jpg"/>
          <p:cNvPicPr/>
          <p:nvPr/>
        </p:nvPicPr>
        <p:blipFill>
          <a:blip r:embed="rId1"/>
          <a:stretch/>
        </p:blipFill>
        <p:spPr>
          <a:xfrm>
            <a:off x="-60480" y="0"/>
            <a:ext cx="920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内容占位符 5" descr="14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内容占位符 3" descr="15.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内容占位符 3" descr="16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内容占位符 3" descr="17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内容占位符 3" descr="18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内容占位符 3" descr="19..jpg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内容占位符 3" descr="2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内容占位符 3" descr="20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内容占位符 3" descr="21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内容占位符 3" descr="22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内容占位符 3" descr="23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内容占位符 3" descr="24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内容占位符 3" descr="25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Calibri"/>
              </a:rPr>
              <a:t>           </a:t>
            </a:r>
            <a:r>
              <a:rPr b="1" lang="zh-CN" sz="8000" spc="-1" strike="noStrike">
                <a:solidFill>
                  <a:srgbClr val="ff0000"/>
                </a:solidFill>
                <a:latin typeface="Calibri"/>
              </a:rPr>
              <a:t>再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内容占位符 3" descr="3..jpg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内容占位符 3" descr="4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内容占位符 3" descr="5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内容占位符 3" descr="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内容占位符 3" descr="8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内容占位符 3" descr="8..jpg"/>
          <p:cNvPicPr/>
          <p:nvPr/>
        </p:nvPicPr>
        <p:blipFill>
          <a:blip r:embed="rId1"/>
          <a:stretch/>
        </p:blipFill>
        <p:spPr>
          <a:xfrm>
            <a:off x="-74520" y="0"/>
            <a:ext cx="921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内容占位符 3" descr="10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3T11:51:15Z</dcterms:created>
  <dc:creator>xbany</dc:creator>
  <dc:description/>
  <dc:language>en-US</dc:language>
  <cp:lastModifiedBy>xbany</cp:lastModifiedBy>
  <dcterms:modified xsi:type="dcterms:W3CDTF">2018-08-13T12:23:08Z</dcterms:modified>
  <cp:revision>9</cp:revision>
  <dc:subject/>
  <dc:title>幻灯片 1</dc:title>
</cp:coreProperties>
</file>