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5.png" ContentType="image/png"/>
  <Override PartName="/ppt/media/image6.gif" ContentType="image/gif"/>
  <Override PartName="/ppt/media/cashreg.wav" ContentType="audio/x-wav"/>
  <Override PartName="/ppt/media/image8.gif" ContentType="image/gif"/>
  <Override PartName="/ppt/media/image18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.jpeg" ContentType="image/jpeg"/>
  <Override PartName="/ppt/media/image24.png" ContentType="image/png"/>
  <Override PartName="/ppt/media/camera.wav" ContentType="audio/x-wav"/>
  <Override PartName="/ppt/media/image21.png" ContentType="image/png"/>
  <Override PartName="/ppt/media/image23.png" ContentType="image/png"/>
  <Override PartName="/ppt/media/image13.jpeg" ContentType="image/jpeg"/>
  <Override PartName="/ppt/media/coin.wav" ContentType="audio/x-wav"/>
  <Override PartName="/ppt/media/image20.png" ContentType="image/png"/>
  <Override PartName="/ppt/media/image19.jpeg" ContentType="image/jpeg"/>
  <Override PartName="/ppt/media/image17.jpeg" ContentType="image/jpeg"/>
  <Override PartName="/ppt/media/chimes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70EA-5F55-47A7-8E21-7D93F7B3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103C-07FA-4829-9CF5-5E3F85B8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8E54-4BEE-431C-8E27-347E8FF9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8A00-31CC-4DB3-B495-A1A04380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BA03-3007-4808-9102-351E9762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DDC4-EE87-405B-BB12-198FDF14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127C-04CC-4C20-A519-4E2B0FD7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03F1-6C61-43D3-87FF-6E9E41BA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1BE8-5982-4685-A7F8-2D4C74D1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DDE9-1089-4145-95CB-E69D1591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30A2-0DE1-4CE9-BB55-E62B8CDE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99D2-858A-4F1F-9294-A80EA529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ECD0-3A3E-4E1C-827C-C29513C1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5205-AC31-45CB-9B66-42AF24E6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FAFB-6553-4DC1-AA4E-300F398F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FA15-30F2-4ECB-A15C-B7247A0F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43BE-5969-42A7-915F-1BFE4FB2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6FF8-F420-4220-9A4E-D09BB14E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4451-01FA-4E8B-84CA-8D324FAE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FB87-A813-4FBB-B531-80BCCA00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5EA6-39A9-46B6-A525-B82CD62C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B759-27A8-475A-9F81-FA010640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0052-C23D-43E7-BAD3-0F8B9053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6708-08DF-42D6-9795-614AE679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BC35-1A55-4946-8F0C-A7AFFF0C2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BFE7-411B-466D-931F-05E5F75476B1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" Target="slide7.xml"/><Relationship Id="rId7" Type="http://schemas.openxmlformats.org/officeDocument/2006/relationships/image" Target="../media/image8.gif"/><Relationship Id="rId8" Type="http://schemas.openxmlformats.org/officeDocument/2006/relationships/slide" Target="slide9.xml"/><Relationship Id="rId9" Type="http://schemas.openxmlformats.org/officeDocument/2006/relationships/image" Target="../media/image8.gif"/><Relationship Id="rId10" Type="http://schemas.openxmlformats.org/officeDocument/2006/relationships/slide" Target="slide4.xml"/><Relationship Id="rId11" Type="http://schemas.openxmlformats.org/officeDocument/2006/relationships/image" Target="../media/image8.gif"/><Relationship Id="rId12" Type="http://schemas.openxmlformats.org/officeDocument/2006/relationships/slide" Target="slide8.xml"/><Relationship Id="rId13" Type="http://schemas.openxmlformats.org/officeDocument/2006/relationships/image" Target="../media/image8.gif"/><Relationship Id="rId14" Type="http://schemas.openxmlformats.org/officeDocument/2006/relationships/slide" Target="slide6.xml"/><Relationship Id="rId15" Type="http://schemas.openxmlformats.org/officeDocument/2006/relationships/image" Target="../media/image8.gif"/><Relationship Id="rId16" Type="http://schemas.openxmlformats.org/officeDocument/2006/relationships/slide" Target="slide5.xml"/><Relationship Id="rId17" Type="http://schemas.openxmlformats.org/officeDocument/2006/relationships/image" Target="../media/image8.gif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5_162089_460df9d21f207f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7481880" y="1978200"/>
            <a:ext cx="45864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908000" y="1628280"/>
            <a:ext cx="72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岁时不幸因病瘫痪，风华正茂的他不得不终生以轮椅为伴，永远离开了正常人的生活。这是一份多么沉重的苦难呀！瘫痪的双腿，残缺的天空，不完美的人生，曾一度使他失去了生活的信心。他终日沉浸在自己的苦难中难以自拔。以至于忽视了慈爱的母亲对他的无微不至的照顾，尤其是母亲身患重病，他竟全然不知。当他发现母亲病情严重时，母亲却永远地离开了他。</a:t>
            </a:r>
            <a:br>
              <a:rPr sz="2800"/>
            </a:b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8028000" y="6237360"/>
            <a:ext cx="936720" cy="431640"/>
          </a:xfrm>
          <a:prstGeom prst="flowChartAlternateProcess">
            <a:avLst/>
          </a:prstGeom>
          <a:gradFill rotWithShape="0">
            <a:gsLst>
              <a:gs pos="0">
                <a:srgbClr val="ec90df"/>
              </a:gs>
              <a:gs pos="100000">
                <a:srgbClr val="6d436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下一页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3760" y="757080"/>
            <a:ext cx="8304120" cy="10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、文中写了哪几件事情表现母亲对“我”的关爱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2128320"/>
            <a:ext cx="8134560" cy="35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一、</a:t>
            </a:r>
            <a:r>
              <a:rPr b="1" lang="zh-CN" sz="3600" spc="-1" strike="noStrike">
                <a:solidFill>
                  <a:srgbClr val="990033"/>
                </a:solidFill>
                <a:latin typeface="黑体"/>
                <a:ea typeface="黑体"/>
              </a:rPr>
              <a:t>身患重病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的母亲强忍着一颗破碎的心，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宽慰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因双腿瘫痪而暴躁绝望的儿子。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第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节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二、在</a:t>
            </a:r>
            <a:r>
              <a:rPr b="1" lang="zh-CN" sz="3600" spc="-1" strike="noStrike">
                <a:solidFill>
                  <a:srgbClr val="990033"/>
                </a:solidFill>
                <a:latin typeface="黑体"/>
                <a:ea typeface="黑体"/>
              </a:rPr>
              <a:t>病危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那天，母亲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央求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儿子去北海看花。（第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节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三、在</a:t>
            </a:r>
            <a:r>
              <a:rPr b="1" lang="zh-CN" sz="3600" spc="-1" strike="noStrike">
                <a:solidFill>
                  <a:srgbClr val="990033"/>
                </a:solidFill>
                <a:latin typeface="黑体"/>
                <a:ea typeface="黑体"/>
              </a:rPr>
              <a:t>临终前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，还在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念叨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生病的儿子和未成年的女儿。（第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节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39640" y="285264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en-US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  </a:t>
            </a:r>
            <a:r>
              <a:rPr b="1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双腿瘫痪后，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我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楷体_GB2312"/>
              </a:rPr>
              <a:t>”</a:t>
            </a:r>
            <a:r>
              <a:rPr b="1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是怎样的状态？  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311120" y="2997360"/>
            <a:ext cx="5565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63480" y="2859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WordArt 10"/>
          <p:cNvSpPr txBox="1"/>
          <p:nvPr/>
        </p:nvSpPr>
        <p:spPr>
          <a:xfrm>
            <a:off x="2411280" y="333360"/>
            <a:ext cx="4464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思 我悟</a:t>
            </a:r>
            <a:endParaRPr b="1" lang="en-US" sz="1800" spc="1" strike="noStrike">
              <a:ln w="255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  <p:sndAc>
      <p:stSnd>
        <p:snd r:embed="rId1" name="coin.wav"/>
      </p:stSnd>
    </p:sndAc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1058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33cc"/>
                </a:solidFill>
                <a:latin typeface="隶书"/>
                <a:ea typeface="隶书"/>
              </a:rPr>
              <a:t>望着望着天上北归的雁阵，我会</a:t>
            </a:r>
            <a:r>
              <a:rPr b="1" lang="zh-CN" sz="3700" spc="-1" strike="noStrike">
                <a:solidFill>
                  <a:srgbClr val="007572"/>
                </a:solidFill>
                <a:latin typeface="隶书"/>
                <a:ea typeface="隶书"/>
              </a:rPr>
              <a:t> </a:t>
            </a:r>
            <a:endParaRPr b="0" lang="en-US" sz="37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6920" y="1268280"/>
            <a:ext cx="640908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突然把面前的玻璃砸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042920" y="1989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听着听着收音机里甜美的歌声，我会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971640" y="328464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妈妈让我去看菊花，我会说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042920" y="256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猛地把手边的东西摔向四周的墙壁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971640" y="393372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不，我不去！我活着有什么劲！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900000" y="4869000"/>
            <a:ext cx="48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楷体_GB2312"/>
              </a:rPr>
              <a:t>双腿瘫痪后，我的脾气变的                  。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WordArt 17"/>
          <p:cNvSpPr txBox="1"/>
          <p:nvPr/>
        </p:nvSpPr>
        <p:spPr>
          <a:xfrm>
            <a:off x="2627280" y="5516640"/>
            <a:ext cx="237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007572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暴怒无常</a:t>
            </a:r>
            <a:endParaRPr b="1" lang="en-US" sz="1800" spc="1" strike="noStrike">
              <a:ln w="6480">
                <a:solidFill>
                  <a:srgbClr val="ff0000"/>
                </a:solidFill>
                <a:miter/>
              </a:ln>
              <a:solidFill>
                <a:srgbClr val="007572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p:transition>
    <p:wedg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animClr clrSpc="rgb">
                                      <p:cBhvr>
                                        <p:cTn id="321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322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23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24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25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7"/>
          <p:cNvSpPr/>
          <p:nvPr/>
        </p:nvSpPr>
        <p:spPr>
          <a:xfrm>
            <a:off x="1311120" y="2997360"/>
            <a:ext cx="5565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663480" y="2859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539640" y="2421000"/>
            <a:ext cx="1069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面对我的暴怒悲观，母亲是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怎么说的，又是怎么做的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1455840" y="371520"/>
            <a:ext cx="527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WordArt 11"/>
          <p:cNvSpPr txBox="1"/>
          <p:nvPr/>
        </p:nvSpPr>
        <p:spPr>
          <a:xfrm>
            <a:off x="468360" y="189000"/>
            <a:ext cx="41036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思 我悟</a:t>
            </a:r>
            <a:endParaRPr b="1" lang="en-US" sz="1800" spc="1" strike="noStrike">
              <a:ln w="255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  <p:sndAc>
      <p:stSnd>
        <p:snd r:embed="rId1" name="cashreg.wav"/>
      </p:stSnd>
    </p:sndAc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6" descr="黄色4"/>
          <p:cNvPicPr/>
          <p:nvPr/>
        </p:nvPicPr>
        <p:blipFill>
          <a:blip r:embed="rId1"/>
          <a:stretch/>
        </p:blipFill>
        <p:spPr>
          <a:xfrm>
            <a:off x="0" y="0"/>
            <a:ext cx="4284720" cy="2781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白色7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2781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紫红5"/>
          <p:cNvPicPr/>
          <p:nvPr/>
        </p:nvPicPr>
        <p:blipFill>
          <a:blip r:embed="rId3"/>
          <a:stretch/>
        </p:blipFill>
        <p:spPr>
          <a:xfrm>
            <a:off x="0" y="4365720"/>
            <a:ext cx="4284720" cy="2492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粉红"/>
          <p:cNvPicPr/>
          <p:nvPr/>
        </p:nvPicPr>
        <p:blipFill>
          <a:blip r:embed="rId4"/>
          <a:stretch/>
        </p:blipFill>
        <p:spPr>
          <a:xfrm>
            <a:off x="4284720" y="4365720"/>
            <a:ext cx="4859280" cy="2492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2"/>
          <p:cNvSpPr/>
          <p:nvPr/>
        </p:nvSpPr>
        <p:spPr>
          <a:xfrm>
            <a:off x="0" y="1916280"/>
            <a:ext cx="29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淡雅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7020000" y="1989000"/>
            <a:ext cx="21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高洁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2700360" y="6095880"/>
            <a:ext cx="47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热烈而深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WordArt 17"/>
          <p:cNvSpPr txBox="1"/>
          <p:nvPr/>
        </p:nvSpPr>
        <p:spPr>
          <a:xfrm>
            <a:off x="1042920" y="2708280"/>
            <a:ext cx="6624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33cc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母亲为什么要带我去看菊花？</a:t>
            </a:r>
            <a:endParaRPr b="0" lang="en-US" sz="5400" spc="1" strike="noStrike">
              <a:ln w="12600">
                <a:solidFill>
                  <a:srgbClr val="0033cc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huang"/>
          <p:cNvPicPr/>
          <p:nvPr/>
        </p:nvPicPr>
        <p:blipFill>
          <a:blip r:embed="rId1"/>
          <a:stretch/>
        </p:blipFill>
        <p:spPr>
          <a:xfrm>
            <a:off x="0" y="0"/>
            <a:ext cx="2124000" cy="1873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白色7"/>
          <p:cNvPicPr/>
          <p:nvPr/>
        </p:nvPicPr>
        <p:blipFill>
          <a:blip r:embed="rId2"/>
          <a:stretch/>
        </p:blipFill>
        <p:spPr>
          <a:xfrm>
            <a:off x="0" y="2133720"/>
            <a:ext cx="2124000" cy="21715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/>
          <p:cNvSpPr/>
          <p:nvPr/>
        </p:nvSpPr>
        <p:spPr>
          <a:xfrm>
            <a:off x="2556000" y="27082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微软雅黑"/>
                <a:ea typeface="微软雅黑"/>
              </a:rPr>
              <a:t>白的花高洁</a:t>
            </a:r>
            <a:r>
              <a:rPr b="1" lang="en-US" sz="3600" spc="-1" strike="noStrike">
                <a:solidFill>
                  <a:srgbClr val="000066"/>
                </a:solidFill>
                <a:latin typeface="微软雅黑"/>
                <a:ea typeface="微软雅黑"/>
              </a:rPr>
              <a:t>--</a:t>
            </a:r>
            <a:r>
              <a:rPr b="1" lang="zh-CN" sz="3600" spc="-1" strike="noStrike">
                <a:solidFill>
                  <a:srgbClr val="000066"/>
                </a:solidFill>
                <a:latin typeface="微软雅黑"/>
                <a:ea typeface="微软雅黑"/>
              </a:rPr>
              <a:t>要活得高尚而纯洁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0" name="Picture 5" descr="5bd4c7c48f7cf8b58326ac40"/>
          <p:cNvPicPr/>
          <p:nvPr/>
        </p:nvPicPr>
        <p:blipFill>
          <a:blip r:embed="rId3"/>
          <a:stretch/>
        </p:blipFill>
        <p:spPr>
          <a:xfrm>
            <a:off x="0" y="4508640"/>
            <a:ext cx="2124000" cy="21733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2411280" y="189000"/>
            <a:ext cx="39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微软雅黑"/>
                <a:ea typeface="微软雅黑"/>
              </a:rPr>
              <a:t>黄的花淡雅</a:t>
            </a:r>
            <a:r>
              <a:rPr b="1" lang="en-US" sz="3200" spc="-1" strike="noStrike">
                <a:solidFill>
                  <a:srgbClr val="ff6600"/>
                </a:solidFill>
                <a:latin typeface="微软雅黑"/>
                <a:ea typeface="微软雅黑"/>
              </a:rPr>
              <a:t>--</a:t>
            </a:r>
            <a:r>
              <a:rPr b="1" lang="zh-CN" sz="3200" spc="-1" strike="noStrike">
                <a:solidFill>
                  <a:srgbClr val="ff6600"/>
                </a:solidFill>
                <a:latin typeface="微软雅黑"/>
                <a:ea typeface="微软雅黑"/>
              </a:rPr>
              <a:t>要活得平淡，做一个实实在在的人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2484360" y="472428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红的花热烈而深沉</a:t>
            </a:r>
            <a:r>
              <a:rPr b="1" lang="en-US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--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要活得有热情、有活力，而不张扬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919200" y="1125360"/>
            <a:ext cx="13993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母亲的希望和鼓励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0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1341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  <a:ea typeface="隶书"/>
              </a:rPr>
              <a:t>母亲此时，自己的情况是怎样的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811160" y="2809800"/>
            <a:ext cx="3510000" cy="15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身患绝症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儿子瘫痪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6" name="Picture 4" descr="花"/>
          <p:cNvPicPr/>
          <p:nvPr/>
        </p:nvPicPr>
        <p:blipFill>
          <a:blip r:embed="rId1"/>
          <a:stretch/>
        </p:blipFill>
        <p:spPr>
          <a:xfrm>
            <a:off x="6732720" y="4437000"/>
            <a:ext cx="2365200" cy="24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  <a:ea typeface="隶书"/>
              </a:rPr>
              <a:t>深受苦楚的母亲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68" name="Picture 3" descr="花"/>
          <p:cNvPicPr/>
          <p:nvPr/>
        </p:nvPicPr>
        <p:blipFill>
          <a:blip r:embed="rId1"/>
          <a:stretch/>
        </p:blipFill>
        <p:spPr>
          <a:xfrm>
            <a:off x="6732720" y="4437000"/>
            <a:ext cx="2365200" cy="24051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907920"/>
            <a:ext cx="640872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有没有突然把面前的玻璃砸碎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4360" y="21337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有没有猛地把手边的东西摔向四周的墙壁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755640" y="3429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有没有大声呼喊我活着什么劲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900000" y="14842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没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826920" y="278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没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900000" y="400536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没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684360" y="4797360"/>
            <a:ext cx="583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自己做坚强的母亲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让儿子成为坚强的儿子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-396720" y="-316080"/>
          <a:ext cx="9718560" cy="741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-316080"/>
                    <a:ext cx="9718560" cy="7413840"/>
                  </a:xfrm>
                  <a:prstGeom prst="rect">
                    <a:avLst/>
                  </a:prstGeom>
                  <a:ln w="936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8" name="Text Box 3"/>
          <p:cNvSpPr/>
          <p:nvPr/>
        </p:nvSpPr>
        <p:spPr>
          <a:xfrm>
            <a:off x="179280" y="141300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我                                                                              母亲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暴怒无常                                                                     耐心抚慰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50920" y="2997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浑然不知                                                                     重病缠身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250920" y="4005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同意看花                                                                     喜出望外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2268360" y="566100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懂得母亲   秋天怀念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2" name="Picture 7" descr="xing4"/>
          <p:cNvPicPr/>
          <p:nvPr/>
        </p:nvPicPr>
        <p:blipFill>
          <a:blip r:embed="rId3"/>
          <a:stretch/>
        </p:blipFill>
        <p:spPr>
          <a:xfrm>
            <a:off x="2700360" y="3429000"/>
            <a:ext cx="3384360" cy="2089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laoren"/>
          <p:cNvPicPr/>
          <p:nvPr/>
        </p:nvPicPr>
        <p:blipFill>
          <a:blip r:embed="rId4"/>
          <a:stretch/>
        </p:blipFill>
        <p:spPr>
          <a:xfrm>
            <a:off x="2771640" y="1125360"/>
            <a:ext cx="3384720" cy="1963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9"/>
          <p:cNvSpPr/>
          <p:nvPr/>
        </p:nvSpPr>
        <p:spPr>
          <a:xfrm>
            <a:off x="3990240" y="36450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华文新魏"/>
              </a:rPr>
              <a:t>爱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092400" y="3913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愧疚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3308400" y="4560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怀念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5108400" y="3860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坚强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4716360" y="4581360"/>
            <a:ext cx="7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无私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77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4" dur="770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6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8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6"/>
          <p:cNvSpPr/>
          <p:nvPr/>
        </p:nvSpPr>
        <p:spPr>
          <a:xfrm>
            <a:off x="4408560" y="372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WordArt 9"/>
          <p:cNvSpPr txBox="1"/>
          <p:nvPr/>
        </p:nvSpPr>
        <p:spPr>
          <a:xfrm>
            <a:off x="1187280" y="765000"/>
            <a:ext cx="65898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感恩的心 细说母爱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611280" y="3284640"/>
            <a:ext cx="626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572"/>
                </a:solidFill>
                <a:latin typeface="Arial"/>
                <a:ea typeface="楷体_GB2312"/>
              </a:rPr>
              <a:t>母爱是</a:t>
            </a:r>
            <a:r>
              <a:rPr b="1" lang="en-US" sz="6600" spc="-1" strike="noStrike">
                <a:solidFill>
                  <a:srgbClr val="007572"/>
                </a:solidFill>
                <a:latin typeface="Arial"/>
                <a:ea typeface="楷体_GB2312"/>
              </a:rPr>
              <a:t>……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3276720" y="4292640"/>
            <a:ext cx="453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3132000" y="4365720"/>
            <a:ext cx="4608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1" name="chimes.wav"/>
      </p:stSnd>
    </p:sndAc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77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4" dur="770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6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8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79280" y="260280"/>
            <a:ext cx="878544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史铁生（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1951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年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月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日—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2010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年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12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月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31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日），出生于北京，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1969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年去延安一带插队。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岁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因双腿瘫痪于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1972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年回到北京。后来又患肾病并发展到尿毒症，需要靠透析维持生命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979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年开始发表作品。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自称是“职业是生病，业余在写作”。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史铁生创作的散文《我与地坛》鼓励了无数的人。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2002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年获华语文学传媒大奖年度杰出成就奖。曾任中国作家协会全国委员会委员，北京作家协会副主席，中国残疾人协会评议委员会委员。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2010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年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12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月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31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日凌晨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点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46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分因突发脑溢血逝世。根据其生前遗愿，他的脊椎、大脑将捐给医学研究；他的肝脏将捐给需要的患者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史铁生多年来与疾病顽强抗争，在病榻上创作出了大量优秀的、广为人知的文学作品。他的作品多次获得国内外重要文学奖项，多部作品被译为日、英、法、德等文字在海外出版。他为人低调，严于律己，品德高尚，是作家中的楷模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主要代表作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小说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《我的遥远的清平湾》《命若琴弦》《务虚笔记》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散文集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《我与地坛》 《病隙碎笔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母爱是妈妈在校门口寻找我的目光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母爱是妈妈为我捧出的香喷喷的热汤面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7072200" y="4946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6" name="WordArt 6" descr=""/>
          <p:cNvPicPr/>
          <p:nvPr/>
        </p:nvPicPr>
        <p:blipFill>
          <a:blip r:embed="rId1"/>
          <a:stretch/>
        </p:blipFill>
        <p:spPr>
          <a:xfrm>
            <a:off x="530280" y="324000"/>
            <a:ext cx="8053200" cy="839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amera.wav"/>
      </p:stSnd>
    </p:sndAc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0" y="3290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463840" y="2603520"/>
            <a:ext cx="527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23882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母爱是一首田园诗，幽远纯净，和雅清淡；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母爱是一幅山水画，洗去铅华雕饰，留下清新自然；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母爱是一首深情的歌，婉转悠扬，轻吟浅唱；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母爱是一阵和煦的风，吹去朔雪纷飞，带来春光无限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377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cc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作者通过记叙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自己双腿瘫痪之后，母亲强忍着内心极度的痛苦和重病的折磨，无比关怀爱护鼓励病残儿子的感人情景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展示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博大深沉、崇高无私的母爱</a:t>
            </a:r>
            <a:r>
              <a:rPr b="1" lang="zh-CN" sz="3600" spc="-1" strike="noStrike">
                <a:solidFill>
                  <a:srgbClr val="fcff23"/>
                </a:solidFill>
                <a:latin typeface="Arial"/>
                <a:ea typeface="黑体"/>
              </a:rPr>
              <a:t>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抒发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对母亲无限深切的怀念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203640" y="549360"/>
            <a:ext cx="29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cc0099"/>
                </a:solidFill>
                <a:latin typeface="Arial"/>
                <a:ea typeface="华文彩云"/>
              </a:rPr>
              <a:t>主 旨：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20760" y="1774800"/>
            <a:ext cx="8645400" cy="25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她还在大口大口地吐着鲜血。我没有想到她已经</a:t>
            </a:r>
            <a:r>
              <a:rPr b="1" lang="zh-CN" sz="3200" spc="-1" strike="noStrike">
                <a:solidFill>
                  <a:srgbClr val="fcfc10"/>
                </a:solidFill>
                <a:latin typeface="楷体_GB2312"/>
                <a:ea typeface="楷体_GB2312"/>
              </a:rPr>
              <a:t>病成那样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母亲昏迷前的</a:t>
            </a:r>
            <a:r>
              <a:rPr b="1" lang="zh-CN" sz="3200" spc="-1" strike="noStrike">
                <a:solidFill>
                  <a:srgbClr val="fcfc10"/>
                </a:solidFill>
                <a:latin typeface="楷体_GB2312"/>
                <a:ea typeface="楷体_GB2312"/>
              </a:rPr>
              <a:t>最后一句话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是：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那个生病的儿子，还有那个未成年的女儿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……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f309"/>
                </a:solidFill>
                <a:latin typeface="Arial"/>
                <a:ea typeface="黑体"/>
              </a:rPr>
              <a:t>（语言描写，描写了母亲在痛苦的弥留之际的语言，心里惦记着的依然只有自己的儿女！，表现了母亲无私的爱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84232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哪些语句最能表现母亲对儿子的关爱？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>
            <a:off x="3851280" y="234936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5003640" y="3573360"/>
            <a:ext cx="100836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4932360" y="29322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黑体"/>
              </a:rPr>
              <a:t>对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3780000" y="170964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黑体"/>
              </a:rPr>
              <a:t>对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826920" y="4005360"/>
            <a:ext cx="172908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母亲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作者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5160960" y="1792440"/>
            <a:ext cx="30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黑体"/>
              </a:rPr>
              <a:t>母亲的体贴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026040" y="3087720"/>
            <a:ext cx="300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黑体"/>
              </a:rPr>
              <a:t>母亲的坚强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2987640" y="429264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坚强、无私、伟大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2987640" y="5229360"/>
            <a:ext cx="50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愧疚、怀念、热爱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1126440" y="1773360"/>
            <a:ext cx="213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黑体"/>
              </a:rPr>
              <a:t>我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黑体"/>
              </a:rPr>
              <a:t>的暴怒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84360" y="309888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黑体"/>
              </a:rPr>
              <a:t>我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黑体"/>
              </a:rPr>
              <a:t>对生活的绝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3448080" y="6922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黑体"/>
              </a:rPr>
              <a:t>对比手法的运用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隶书"/>
              </a:rPr>
              <a:t>作者在文中多次提到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隶书"/>
              </a:rPr>
              <a:t>菊花，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隶书"/>
              </a:rPr>
              <a:t>有何用意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母亲带我看花，是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想唤起我生存的欲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菊花的淡雅高洁，是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母亲品质的写照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菊花热烈深沉，是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母爱的写照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母亲爱花，我看菊花是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对母亲的缅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菊花在我眼里五彩缤纷，泼泼洒洒，也是在告诉读者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我的人生态度发生了转变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。（文中何处可见？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2"/>
          <p:cNvSpPr txBox="1"/>
          <p:nvPr/>
        </p:nvSpPr>
        <p:spPr>
          <a:xfrm>
            <a:off x="395280" y="260280"/>
            <a:ext cx="4176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拓展与延伸</a:t>
            </a:r>
            <a:endParaRPr b="0" lang="en-US" sz="6000" spc="1" strike="noStrike">
              <a:ln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539640" y="206064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79280" y="3284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 学习了这篇课文，你一定会有更多更深的感受，此刻你最想说的是什么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95280" y="1557360"/>
            <a:ext cx="84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又是秋天，当作者站在母亲的墓前看着母亲的遗像，他会说些什么呢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0" y="141300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572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母亲，儿子来看您了。自从您秋天走后，我和妹妹都懂了您的话，您放心吧，我俩在一块，活得好好的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0" y="33544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是啊！母爱多么伟大！ 妈妈每天忙这忙那，还不都是为了我们！有时候，我们不耐烦地嫌她唠叨。现在我们明白了母爱是世界上最伟大的爱。 小时候，妈妈把好的都留给我们，长大后，我们应该体谅、关心妈妈，帮助妈妈干力所能及的家务活。 妈妈，在明年春暖花开、五彩缤纷、绿草如茵的五月，我一定送您一束最美丽、最鲜艳的花！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6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5" dur="2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2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1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3" descr="201105061653447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毛阿敏-烛光里的妈妈.mp3" descr=""/>
          <p:cNvPicPr/>
          <p:nvPr/>
        </p:nvPicPr>
        <p:blipFill>
          <a:blip r:embed="rId2"/>
          <a:stretch/>
        </p:blipFill>
        <p:spPr>
          <a:xfrm>
            <a:off x="8244000" y="54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6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2008481313419"/>
          <p:cNvPicPr/>
          <p:nvPr/>
        </p:nvPicPr>
        <p:blipFill>
          <a:blip r:embed="rId1"/>
          <a:stretch/>
        </p:blipFill>
        <p:spPr>
          <a:xfrm>
            <a:off x="179280" y="1413000"/>
            <a:ext cx="3024360" cy="5013360"/>
          </a:xfrm>
          <a:prstGeom prst="rect">
            <a:avLst/>
          </a:prstGeom>
          <a:ln w="0">
            <a:noFill/>
          </a:ln>
        </p:spPr>
      </p:pic>
      <p:sp>
        <p:nvSpPr>
          <p:cNvPr id="88" name="WordArt 3"/>
          <p:cNvSpPr txBox="1"/>
          <p:nvPr/>
        </p:nvSpPr>
        <p:spPr>
          <a:xfrm>
            <a:off x="395280" y="189000"/>
            <a:ext cx="288144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663300"/>
                </a:solidFill>
                <a:latin typeface="华文行楷"/>
              </a:rPr>
              <a:t>作者简介</a:t>
            </a:r>
            <a:endParaRPr b="0" lang="en-US" sz="4800" spc="1" strike="noStrike">
              <a:ln w="9360">
                <a:solidFill>
                  <a:srgbClr val="0033cc"/>
                </a:solidFill>
                <a:miter/>
              </a:ln>
              <a:solidFill>
                <a:srgbClr val="663300"/>
              </a:solidFill>
              <a:latin typeface="华文行楷"/>
              <a:ea typeface="华文行楷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492360" y="1935360"/>
            <a:ext cx="5651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史铁生是当代中国最令人敬佩的作家之一。他的写作与他的生命完全同构在了一起，在自己的</a:t>
            </a: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写作之夜</a:t>
            </a: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，史铁生用残缺的身体，说出了最为健全而丰满的思想。他体验到的是生命的苦难，表达出的却是存在的明朗和欢乐，他睿智的言辞，照亮的反而是我们日益幽暗的内心。他的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病隙碎笔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作为二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O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二年度中国文学最为重要的收获，一如既往地思考着生与死、残缺与爱情、苦难。如何活出意义来这些普遍性的精神难题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华语文学传媒大奖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002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年度杰出成就奖得主史铁生授奖词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572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7572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7572"/>
                </a:solidFill>
                <a:latin typeface="Arial"/>
              </a:rPr>
              <a:t>我们从史铁生的文字里看得到一个人内心无一日止息的起伏，同 时也在这个人内心的起伏中解读了宁静。</a:t>
            </a:r>
            <a:r>
              <a:rPr b="1" lang="zh-CN" sz="2000" spc="-1" strike="noStrike">
                <a:solidFill>
                  <a:srgbClr val="007572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007572"/>
                </a:solidFill>
                <a:latin typeface="Arial"/>
              </a:rPr>
              <a:t>                    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――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蒋子丹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他说自己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职业是生病，业余在写作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他的著名散文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我与地坛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鼓励了无数的人，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黄叶1"/>
          <p:cNvPicPr/>
          <p:nvPr/>
        </p:nvPicPr>
        <p:blipFill>
          <a:blip r:embed="rId1"/>
          <a:srcRect l="0" t="0" r="0" b="2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dayan"/>
          <p:cNvPicPr/>
          <p:nvPr/>
        </p:nvPicPr>
        <p:blipFill>
          <a:blip r:embed="rId2"/>
          <a:stretch/>
        </p:blipFill>
        <p:spPr>
          <a:xfrm>
            <a:off x="4876920" y="762120"/>
            <a:ext cx="1066680" cy="903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dayan"/>
          <p:cNvPicPr/>
          <p:nvPr/>
        </p:nvPicPr>
        <p:blipFill>
          <a:blip r:embed="rId3"/>
          <a:stretch/>
        </p:blipFill>
        <p:spPr>
          <a:xfrm>
            <a:off x="7924680" y="228600"/>
            <a:ext cx="609840" cy="515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dayan"/>
          <p:cNvPicPr/>
          <p:nvPr/>
        </p:nvPicPr>
        <p:blipFill>
          <a:blip r:embed="rId4"/>
          <a:stretch/>
        </p:blipFill>
        <p:spPr>
          <a:xfrm>
            <a:off x="6019920" y="609480"/>
            <a:ext cx="838080" cy="709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dayan"/>
          <p:cNvPicPr/>
          <p:nvPr/>
        </p:nvPicPr>
        <p:blipFill>
          <a:blip r:embed="rId5"/>
          <a:stretch/>
        </p:blipFill>
        <p:spPr>
          <a:xfrm>
            <a:off x="7086600" y="380880"/>
            <a:ext cx="685800" cy="581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yzdh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57200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yzdh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72400" y="5257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yzdh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80880" y="2895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yzdh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477120" y="5867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yzdh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657600" y="3200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yzdh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133720" y="22096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3"/>
          <p:cNvSpPr txBox="1"/>
          <p:nvPr/>
        </p:nvSpPr>
        <p:spPr>
          <a:xfrm>
            <a:off x="838080" y="2286000"/>
            <a:ext cx="7086600" cy="17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9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秋天的怀念</a:t>
            </a:r>
            <a:endParaRPr b="1" lang="en-US" sz="5400" spc="1" strike="noStrike">
              <a:ln w="19080">
                <a:solidFill>
                  <a:srgbClr val="0000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395280" y="2349360"/>
            <a:ext cx="81360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瘫痪       侍弄       整宿       憔悴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仿膳       豌豆       诀别       烂漫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翻来覆去      絮絮叨叨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0" y="177336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7572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7572"/>
                </a:solidFill>
                <a:latin typeface="Arial"/>
              </a:rPr>
              <a:t>ā</a:t>
            </a:r>
            <a:r>
              <a:rPr b="0" lang="en-US" sz="2800" spc="-1" strike="noStrike">
                <a:solidFill>
                  <a:srgbClr val="007572"/>
                </a:solidFill>
                <a:latin typeface="Arial"/>
              </a:rPr>
              <a:t>n hu</a:t>
            </a:r>
            <a:r>
              <a:rPr b="1" lang="en-US" sz="2800" spc="-1" strike="noStrike">
                <a:solidFill>
                  <a:srgbClr val="007572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007572"/>
                </a:solidFill>
                <a:latin typeface="Arial"/>
              </a:rPr>
              <a:t>n     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7572"/>
                </a:solidFill>
                <a:latin typeface="Arial"/>
              </a:rPr>
              <a:t>sh</a:t>
            </a:r>
            <a:r>
              <a:rPr b="1" lang="en-US" sz="2800" spc="-1" strike="noStrike">
                <a:solidFill>
                  <a:srgbClr val="007572"/>
                </a:solidFill>
                <a:latin typeface="Arial"/>
              </a:rPr>
              <a:t>ì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7572"/>
                </a:solidFill>
                <a:latin typeface="Arial"/>
              </a:rPr>
              <a:t>xi</a:t>
            </a:r>
            <a:r>
              <a:rPr b="1" lang="en-US" sz="2800" spc="-1" strike="noStrike">
                <a:solidFill>
                  <a:srgbClr val="007572"/>
                </a:solidFill>
                <a:latin typeface="Arial"/>
              </a:rPr>
              <a:t>ǔ</a:t>
            </a:r>
            <a:r>
              <a:rPr b="0" lang="en-US" sz="2800" spc="-1" strike="noStrike">
                <a:solidFill>
                  <a:srgbClr val="007572"/>
                </a:solidFill>
                <a:latin typeface="Arial"/>
              </a:rPr>
              <a:t>       qi</a:t>
            </a:r>
            <a:r>
              <a:rPr b="1" lang="en-US" sz="2800" spc="-1" strike="noStrike">
                <a:solidFill>
                  <a:srgbClr val="007572"/>
                </a:solidFill>
                <a:latin typeface="Arial"/>
              </a:rPr>
              <a:t>á</a:t>
            </a:r>
            <a:r>
              <a:rPr b="0" lang="en-US" sz="2800" spc="-1" strike="noStrike">
                <a:solidFill>
                  <a:srgbClr val="007572"/>
                </a:solidFill>
                <a:latin typeface="Arial"/>
              </a:rPr>
              <a:t>o cu</a:t>
            </a:r>
            <a:r>
              <a:rPr b="1" lang="en-US" sz="2800" spc="-1" strike="noStrike">
                <a:solidFill>
                  <a:srgbClr val="007572"/>
                </a:solidFill>
                <a:latin typeface="Arial"/>
              </a:rPr>
              <a:t>ì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55640" y="33577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h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             jué                 m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547640" y="5084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ù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xù     dāo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WordArt 8"/>
          <p:cNvSpPr txBox="1"/>
          <p:nvPr/>
        </p:nvSpPr>
        <p:spPr>
          <a:xfrm>
            <a:off x="395280" y="189000"/>
            <a:ext cx="31687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492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我会读！</a:t>
            </a:r>
            <a:endParaRPr b="0" lang="en-US" sz="1800" spc="1" strike="noStrike">
              <a:ln w="3492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d"/>
    <p:sndAc>
      <p:stSnd>
        <p:snd r:embed="rId2" name="cashreg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侍弄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憔悴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诀别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絮絮叨叨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喜出望外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179280" y="0"/>
            <a:ext cx="4321440" cy="15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492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我理解！</a:t>
            </a:r>
            <a:endParaRPr b="0" lang="en-US" sz="1800" spc="1" strike="noStrike">
              <a:ln w="3492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611280" y="191628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195640" y="1557360"/>
            <a:ext cx="576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  <a:ea typeface="楷体_GB2312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  <a:ea typeface="楷体_GB2312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2411280" y="299736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楷体_GB2312"/>
              </a:rPr>
              <a:t>形容人瘦弱，面色不好看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2411280" y="1989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楷体_GB2312"/>
              </a:rPr>
              <a:t>经营照管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2268360" y="3645000"/>
            <a:ext cx="41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2411280" y="39337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楷体_GB2312"/>
              </a:rPr>
              <a:t>多指不再相见的分别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2340000" y="4586400"/>
            <a:ext cx="633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2411280" y="48690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楷体_GB2312"/>
              </a:rPr>
              <a:t>形容说话啰嗦，唠叨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4083840" y="573408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楷体_GB2312"/>
              </a:rPr>
              <a:t>遇到出乎意料的事情而特别高兴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d"/>
    <p:sndAc>
      <p:stSnd>
        <p:snd r:embed="rId2" name="cashreg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1242397_170424011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547280" y="155736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76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577600"/>
                </a:solidFill>
                <a:latin typeface="Arial"/>
              </a:rPr>
              <a:t>瘫痪：</a:t>
            </a: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形容因某些原因使脚不能走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776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577600"/>
                </a:solidFill>
                <a:latin typeface="Arial"/>
              </a:rPr>
              <a:t>暴怒无常：</a:t>
            </a: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时不时就生气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776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577600"/>
                </a:solidFill>
                <a:latin typeface="Arial"/>
              </a:rPr>
              <a:t>憔悴：</a:t>
            </a: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指脸色难看，身体虚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77600"/>
                </a:solidFill>
                <a:latin typeface="Arial"/>
              </a:rPr>
              <a:t>④</a:t>
            </a:r>
            <a:r>
              <a:rPr b="1" lang="zh-CN" sz="3600" spc="-1" strike="noStrike">
                <a:solidFill>
                  <a:srgbClr val="577600"/>
                </a:solidFill>
                <a:latin typeface="Arial"/>
              </a:rPr>
              <a:t>絮絮叨叨：</a:t>
            </a: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形容说话罗嗦烦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2"/>
          <p:cNvPicPr/>
          <p:nvPr/>
        </p:nvPicPr>
        <p:blipFill>
          <a:blip r:embed="rId1"/>
          <a:stretch/>
        </p:blipFill>
        <p:spPr>
          <a:xfrm>
            <a:off x="0" y="6858000"/>
            <a:ext cx="9144000" cy="1000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826920" y="3141720"/>
            <a:ext cx="77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听读课文，</a:t>
            </a:r>
            <a:r>
              <a:rPr b="1" i="1" lang="zh-CN" sz="3600" spc="-1" strike="noStrike">
                <a:solidFill>
                  <a:srgbClr val="0033cc"/>
                </a:solidFill>
                <a:latin typeface="Arial"/>
              </a:rPr>
              <a:t>思考问题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作者在秋天怀念的是谁？为什么是怀念？为什么会在秋天怀念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1635120" y="1258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WordArt 12"/>
          <p:cNvSpPr txBox="1"/>
          <p:nvPr/>
        </p:nvSpPr>
        <p:spPr>
          <a:xfrm>
            <a:off x="2627280" y="907920"/>
            <a:ext cx="396252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007572"/>
                  </a:solidFill>
                  <a:miter/>
                </a:ln>
                <a:solidFill>
                  <a:srgbClr val="007572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听    我感 </a:t>
            </a:r>
            <a:endParaRPr b="1" lang="en-US" sz="4800" spc="1" strike="noStrike">
              <a:ln w="19080">
                <a:solidFill>
                  <a:srgbClr val="007572"/>
                </a:solidFill>
                <a:miter/>
              </a:ln>
              <a:solidFill>
                <a:srgbClr val="007572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6" name="秋天的怀念.mp3" descr=""/>
          <p:cNvPicPr/>
          <p:nvPr/>
        </p:nvPicPr>
        <p:blipFill>
          <a:blip r:embed="rId2"/>
          <a:stretch/>
        </p:blipFill>
        <p:spPr>
          <a:xfrm>
            <a:off x="8101080" y="587700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355109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592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7525"/>
                </a:solidFill>
                <a:latin typeface="黑体"/>
                <a:ea typeface="黑体"/>
              </a:rPr>
              <a:t>为什么在秋天怀念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.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秋天”对于作者来说有着特殊意义：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Wingdings"/>
                <a:ea typeface="Wingdings"/>
              </a:rPr>
              <a:t>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作者的腿是秋天瘫痪的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Wingdings"/>
                <a:ea typeface="Wingdings"/>
              </a:rPr>
              <a:t>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因为作者的母亲是秋天去世的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Wingdings"/>
                <a:ea typeface="Wingdings"/>
              </a:rPr>
              <a:t>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母亲最后的愿望是带“我”看秋天的菊花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表达对母亲的思念之情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0T00:21:46Z</dcterms:created>
  <dc:creator>win7</dc:creator>
  <dc:description/>
  <dc:language>en-US</dc:language>
  <cp:lastModifiedBy>XHJ</cp:lastModifiedBy>
  <dcterms:modified xsi:type="dcterms:W3CDTF">2018-09-16T23:10:08Z</dcterms:modified>
  <cp:revision>23</cp:revision>
  <dc:subject/>
  <dc:title>幻灯片 1</dc:title>
</cp:coreProperties>
</file>