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drumroll.wav" ContentType="audio/x-wav"/>
  <Override PartName="/ppt/media/image3.jpeg" ContentType="image/jpeg"/>
  <Override PartName="/ppt/media/image9.jpeg" ContentType="image/jpeg"/>
  <Override PartName="/ppt/media/image11.jpeg" ContentType="image/jpeg"/>
  <Override PartName="/ppt/media/type.wav" ContentType="audio/x-wav"/>
  <Override PartName="/ppt/media/image1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9F0-B14B-411E-B1AF-BC956CB1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239-F807-4F51-90CA-7399869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7AF-BBDC-4622-A872-C92CB246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A39-AFFA-46BF-AF73-19CA3523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27E-0AA8-4497-B658-4677C42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F18-BF0D-40D5-8952-1E0F6B4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C0B-E7C8-44CE-BD5F-DFF6AB9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FCC-B513-4C42-A96D-D6FBFB7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DDC-9ED6-4605-BA44-FE2853AF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C27-00AA-429C-9C7E-A17FA38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6A1-69DD-45DB-A92C-51D33CB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F8D-E37C-49CD-9D08-84364FB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E27-4AA5-4722-9CA5-2DF22C35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3" descr="28100453_3d6a720c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9" descr="62q58PICCPe_1024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716360" y="306864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军容严整，常备不懈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严阵以待，军纪严明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79280" y="270828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4221000"/>
            <a:ext cx="35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以下骑送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258920" y="1890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对比、衬托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148360" y="522936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周亚夫恪尽职守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刚正不阿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567080" y="1700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棘门、霸上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5824800" y="17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细柳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3286800" y="2477160"/>
            <a:ext cx="78984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衬托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592200" y="3357720"/>
            <a:ext cx="112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军纪松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守备松懈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765360" y="530064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受宠若惊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曲意逢迎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80n58PIC8pB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378900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一写：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探究周亚夫将军忠于职守精神的现实意义，理解严明的纪律对事业成功的重要作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5" descr="58PIC58PICk58PIC4jm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612720" y="184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22228b"/>
                </a:solidFill>
                <a:latin typeface="华文行楷"/>
                <a:ea typeface="华文行楷"/>
              </a:rPr>
              <a:t>我们认识了一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2228b"/>
                </a:solidFill>
                <a:latin typeface="华文行楷"/>
                <a:ea typeface="华文行楷"/>
              </a:rPr>
              <a:t>的将军，学习了两种手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 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————————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891760" y="3068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军有方、刚正不阿、恪尽职守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981520" y="5445000"/>
            <a:ext cx="11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面描写侧面描写结合、对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衬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2" name="图片 3" descr="01706d56d6613132f875520fae23c8.gif"/>
          <p:cNvPicPr/>
          <p:nvPr/>
        </p:nvPicPr>
        <p:blipFill>
          <a:blip r:embed="rId2"/>
          <a:stretch/>
        </p:blipFill>
        <p:spPr>
          <a:xfrm>
            <a:off x="6858000" y="3743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2676600"/>
            <a:ext cx="914400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风劲角弓鸣，将军猎渭城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草枯鹰眼疾，雪尽马蹄轻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忽过新丰市，还归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细柳营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回看射雕处，千里暮云平。 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7" name="Picture 6" descr="观猎"/>
          <p:cNvPicPr/>
          <p:nvPr/>
        </p:nvPicPr>
        <p:blipFill>
          <a:blip r:embed="rId2"/>
          <a:stretch/>
        </p:blipFill>
        <p:spPr>
          <a:xfrm>
            <a:off x="5219640" y="-316080"/>
            <a:ext cx="3924360" cy="3067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132000" y="2852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-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]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维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255400" y="206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观猎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7891119326917842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1979640" y="1557360"/>
            <a:ext cx="568800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214880" y="3333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华文行楷"/>
                <a:ea typeface="华文行楷"/>
              </a:rPr>
              <a:t>周亚夫军细柳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7408800" y="162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司马迁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3777120" y="1668600"/>
            <a:ext cx="17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说一说：故事情节我来说。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53680" y="11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整体感知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6" name="图片 3" descr="01706d56d6613132f875520fae23c8.gif"/>
          <p:cNvPicPr/>
          <p:nvPr/>
        </p:nvPicPr>
        <p:blipFill>
          <a:blip r:embed="rId2"/>
          <a:stretch/>
        </p:blipFill>
        <p:spPr>
          <a:xfrm>
            <a:off x="3429000" y="3867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895320" y="3267000"/>
            <a:ext cx="82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想一想：经历了几次波折才礼成呢？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4" descr="52P58PICyH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19640" y="0"/>
            <a:ext cx="51847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汉文帝后六年（公元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），匈奴入侵，烧杀劫掠，形势严峻。为了加强防卫，朝廷委派刘、徐、周三位将军分别驻扎在霸上、棘门、细柳。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710440" y="-10656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故事背景我知晓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2" descr="20150407H2652_fjSTk.thumb.700_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50920" y="213372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先驱不得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3213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子又不得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422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得驱驰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11280" y="551664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拜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WordArt 8"/>
          <p:cNvSpPr txBox="1"/>
          <p:nvPr/>
        </p:nvSpPr>
        <p:spPr>
          <a:xfrm>
            <a:off x="179280" y="1890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913280" y="2276640"/>
            <a:ext cx="14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容严整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备不懈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纪整肃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令严明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85824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四次波折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023440" y="5300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军礼严谨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丝不苟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467460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军容军纪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7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6" descr="11c58PICh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周亚夫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Arial"/>
                <a:ea typeface="隶书"/>
              </a:rPr>
              <a:t>研读鉴赏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26920" y="1628640"/>
            <a:ext cx="36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治军有方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恪尽职守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刚正不 阿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卑不亢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6" name="Picture 5" descr="U92P28T3D647025F326DT20050202172810"/>
          <p:cNvPicPr/>
          <p:nvPr/>
        </p:nvPicPr>
        <p:blipFill>
          <a:blip r:embed="rId2"/>
          <a:srcRect l="38501" t="0" r="24496" b="0"/>
          <a:stretch/>
        </p:blipFill>
        <p:spPr>
          <a:xfrm>
            <a:off x="45450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U36P27T1D271351F3DT20050307111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4596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文帝曰：“此真将军矣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lick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内容占位符 5" descr="52.jpg"/>
          <p:cNvPicPr/>
          <p:nvPr/>
        </p:nvPicPr>
        <p:blipFill>
          <a:blip r:embed="rId1"/>
          <a:stretch/>
        </p:blipFill>
        <p:spPr>
          <a:xfrm>
            <a:off x="-324000" y="158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995640" y="321300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564000" y="1844640"/>
            <a:ext cx="518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议一议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本文的标题是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周亚夫军细柳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为何还要写天子到霸上和棘门劳军的情形？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06:42:41Z</dcterms:created>
  <dc:creator>wujinping</dc:creator>
  <dc:description/>
  <dc:language>en-US</dc:language>
  <cp:lastModifiedBy>xb21cn</cp:lastModifiedBy>
  <dcterms:modified xsi:type="dcterms:W3CDTF">2018-11-06T01:21:50Z</dcterms:modified>
  <cp:revision>3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66</vt:lpwstr>
  </property>
</Properties>
</file>