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105-B65C-48FB-8541-E6CFD5D9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7D9-9EBC-4F66-9E51-8E433600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FF9-1E51-46E1-BE70-BE854FE9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55E-9E2C-42ED-9F0D-BE5F7E91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FFD-E748-4377-8E14-9DD1B20A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987-D563-4049-814E-84EE341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B97-7859-405D-8C31-B621289C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56D-90AC-44FF-B482-7ABD6F7C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F77-14AF-4D07-B4A3-B670AB9D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45B-177C-4C66-A29F-DAEA399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3FD-4F9E-460C-A161-D54D5D1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77A-9A8F-474A-BD9B-00E04A4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04AD-7C81-4573-9ED7-5CE06B4D64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979560"/>
            <a:ext cx="705636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16000" y="133992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13440" y="15559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浅说一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『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清明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』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绝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3645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周汝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6000" y="4941720"/>
            <a:ext cx="672840" cy="56700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16000" y="907920"/>
            <a:ext cx="165744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692280"/>
            <a:ext cx="2666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5520" y="17002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比较、联想与想像，再现画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40360" y="285120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16000" y="2492280"/>
            <a:ext cx="3960720" cy="2930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2920" y="97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又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5589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9280" y="1459080"/>
            <a:ext cx="1152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 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74760" y="22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8120" y="2682720"/>
            <a:ext cx="137556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纷纷”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2394000"/>
            <a:ext cx="2808360" cy="9471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夏天的暴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“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淅淅沥沥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秋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2898720"/>
            <a:ext cx="936720" cy="144360"/>
          </a:xfrm>
          <a:prstGeom prst="leftRightArrow">
            <a:avLst>
              <a:gd name="adj1" fmla="val 50000"/>
              <a:gd name="adj2" fmla="val 1291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3648240"/>
            <a:ext cx="194472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6920" y="3863880"/>
            <a:ext cx="936360" cy="144720"/>
          </a:xfrm>
          <a:prstGeom prst="leftRightArrow">
            <a:avLst>
              <a:gd name="adj1" fmla="val 50000"/>
              <a:gd name="adj2" fmla="val 1288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691080"/>
            <a:ext cx="287964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游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560" y="4554360"/>
            <a:ext cx="194472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断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6920" y="4770360"/>
            <a:ext cx="936360" cy="144720"/>
          </a:xfrm>
          <a:prstGeom prst="leftRightArrow">
            <a:avLst>
              <a:gd name="adj1" fmla="val 50000"/>
              <a:gd name="adj2" fmla="val 1288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4556160"/>
            <a:ext cx="287964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灵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53400" y="1197000"/>
            <a:ext cx="1247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联想与想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1916280"/>
            <a:ext cx="7056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0760" y="442764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4520" y="2344680"/>
            <a:ext cx="137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纷纷”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牧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遥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63196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86720" y="2128680"/>
            <a:ext cx="201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淅淅”秋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纷纷扬扬”的大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421080"/>
            <a:ext cx="609840" cy="76320"/>
          </a:xfrm>
          <a:prstGeom prst="rightArrow">
            <a:avLst>
              <a:gd name="adj1" fmla="val 50000"/>
              <a:gd name="adj2" fmla="val 19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8280" y="313704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《小放牛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4356000"/>
            <a:ext cx="609840" cy="76320"/>
          </a:xfrm>
          <a:prstGeom prst="rightArrow">
            <a:avLst>
              <a:gd name="adj1" fmla="val 50000"/>
              <a:gd name="adj2" fmla="val 19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8559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红杏梢头   酒帘《红楼梦》的杏帘在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522936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1341360"/>
            <a:ext cx="743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实际上，一个人愿意坐下来静静地听一会雨</a:t>
            </a:r>
            <a:r>
              <a:rPr b="0" lang="en-US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，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他的心中一定有了某种牵念和感喟，尽管有时是淡淡的，连自己也不轻易察觉。雨丝最能扯动昔日的情思，雨声也最易叩响感情的门环。垂老的将帅有“</a:t>
            </a:r>
            <a:r>
              <a:rPr b="0" lang="zh-CN" sz="1800" spc="-1" strike="noStrike" u="sng">
                <a:solidFill>
                  <a:srgbClr val="800000"/>
                </a:solidFill>
                <a:uFillTx/>
                <a:latin typeface="华文细黑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”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的回味，迟暮的美人有“</a:t>
            </a:r>
            <a:r>
              <a:rPr b="0" lang="zh-CN" sz="1800" spc="-1" strike="noStrike" u="sng">
                <a:solidFill>
                  <a:srgbClr val="800000"/>
                </a:solidFill>
                <a:uFillTx/>
                <a:latin typeface="华文细黑"/>
                <a:ea typeface="华文细黑"/>
              </a:rPr>
              <a:t>         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”的幽怨，多情的诗人有“</a:t>
            </a:r>
            <a:r>
              <a:rPr b="0" lang="zh-CN" sz="1800" spc="-1" strike="noStrike" u="sng">
                <a:solidFill>
                  <a:srgbClr val="800000"/>
                </a:solidFill>
                <a:uFillTx/>
                <a:latin typeface="华文细黑"/>
                <a:ea typeface="华文细黑"/>
              </a:rPr>
              <a:t>            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”的遐想。当然，在人的种种倾诉中，应数爱情最令人心动勾人魂魄了。作为男性，我时常把雨声想像成顾盼生辉的少女在舞蹈。他们的舞步时而齐整，时而凌乱，时而轻盈，时而沉重，传达出变化多端的情感体验。有时候，像在诉说喃喃的情话，有时又像在焦急地呼喊，想要答应，又辨不清是谁的声音…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(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朱胜国《瓦屋听雨》</a:t>
            </a:r>
            <a:r>
              <a:rPr b="0" lang="en-US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96520" y="44370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小楼一夜听春雨，深巷明朝卖杏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797360"/>
            <a:ext cx="39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雨中黄叶树，灯下白头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8520" y="588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515772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夜阑卧听风吹雨，铁马冰河入梦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27720" y="19162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2200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6520" y="221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42080" y="747720"/>
            <a:ext cx="127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想想像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89120" y="1341360"/>
            <a:ext cx="1082520" cy="585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3213000"/>
            <a:ext cx="151308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清明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艺术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206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理性评价议论，感受艺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9280" y="270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语言：自然之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29280" y="31417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音节：和谐圆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354816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形象：清新生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080" y="397980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境界：优美隐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34016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构：起承转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8760" y="134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最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285264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45800" y="112392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阅读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1773360"/>
            <a:ext cx="6624720" cy="38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60720" y="2131920"/>
            <a:ext cx="495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形成画面轮廓，进入情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抓住关键词语，品味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比较联想与想像，再现画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理性评价议论，感受艺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41400" y="211788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初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1400" y="299736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再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41400" y="386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又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41400" y="4653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1440000"/>
            <a:ext cx="777708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文艺鉴赏并不是摊开两只手、专等文艺给我们一些什么，也不是单凭一时的现象，给文艺加上一些形容词语。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宋体"/>
              </a:rPr>
              <a:t>文艺中间讲到一些事物，我们就得问：“作者为什么要讲到这些事物？文艺中间描写风景，表达情感，我们就得问：作者这样描写和表达是不是最为有效？我们不但说了个好就算，还要说得出好在哪里，不但说了个不好就算，还要说得出不好在哪里。这样才够得上称为文艺鉴赏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。这样，从好的文艺得到的感动自然更深切。文艺方面如果有什么不完美的地方，也会觉察出来，不至于一味照单全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鲁迅的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孔乙己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，现在小学高年级和初级中学都选作国语教材，读过的人很多了。读过的人说：“这样一个偷东西被打折了腿的瘪三，写他有什么意思呢？”但是，有耐心去鉴赏的人不这么看。有的说：“孔乙己说回字有四样写法，如果作者让孔乙己把四样写法都写出来，那就索然无味了。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有的说：“这一篇写的孔乙己，虽然颓唐、下流，却处处要面子，处处显示出他所受的教育给与他的影响，绝不同于一般的瘪三，这是一篇的出色处。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有一个深深体会了世味的人说：“这一篇中，我以为最妙的文字是‘孔乙己是这样的使人快活，可是没有他，别人也便这么过。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49560" y="932040"/>
            <a:ext cx="1857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叶圣陶谈文艺作品的鉴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566100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8600" y="0"/>
            <a:ext cx="9372600" cy="6842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4437000"/>
            <a:ext cx="167652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95640" y="915840"/>
            <a:ext cx="5832360" cy="4714920"/>
            <a:chOff x="2195640" y="915840"/>
            <a:chExt cx="5832360" cy="4714920"/>
          </a:xfrm>
        </p:grpSpPr>
        <p:sp>
          <p:nvSpPr>
            <p:cNvPr id="160" name=""/>
            <p:cNvSpPr/>
            <p:nvPr/>
          </p:nvSpPr>
          <p:spPr>
            <a:xfrm>
              <a:off x="2195640" y="981000"/>
              <a:ext cx="5832360" cy="460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11240" y="1412640"/>
              <a:ext cx="170424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000"/>
                  </a:solidFill>
                  <a:latin typeface="Arial"/>
                  <a:ea typeface="隶书"/>
                </a:rPr>
                <a:t>天净沙  秋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Arial"/>
                  <a:ea typeface="隶书"/>
                </a:rPr>
                <a:t>               </a:t>
              </a:r>
              <a:r>
                <a:rPr b="0" lang="zh-CN" sz="2000" spc="-1" strike="noStrike">
                  <a:solidFill>
                    <a:srgbClr val="008000"/>
                  </a:solidFill>
                  <a:latin typeface="Arial"/>
                  <a:ea typeface="隶书"/>
                </a:rPr>
                <a:t>马致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62840" y="91584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Arial"/>
                  <a:ea typeface="隶书"/>
                </a:rPr>
                <a:t>枯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藤老树昏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73880" y="183600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小桥流</a:t>
              </a:r>
              <a:r>
                <a:rPr b="0" lang="zh-CN" sz="2400" spc="-1" strike="noStrike">
                  <a:solidFill>
                    <a:srgbClr val="ccccff"/>
                  </a:solidFill>
                  <a:latin typeface="Arial"/>
                  <a:ea typeface="华文彩云"/>
                </a:rPr>
                <a:t>水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人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8960" y="91584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古道西风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幼圆"/>
                </a:rPr>
                <a:t>瘦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49880" y="2092320"/>
              <a:ext cx="54612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夕</a:t>
              </a:r>
              <a:r>
                <a:rPr b="0" lang="zh-CN" sz="2400" spc="-1" strike="noStrike">
                  <a:solidFill>
                    <a:srgbClr val="cc3300"/>
                  </a:solidFill>
                  <a:latin typeface="Arial"/>
                  <a:ea typeface="方正准圆简体"/>
                </a:rPr>
                <a:t>阳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西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304956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断肠人在天</a:t>
              </a:r>
              <a:r>
                <a:rPr b="0" lang="zh-CN" sz="2400" spc="-1" strike="noStrike">
                  <a:solidFill>
                    <a:srgbClr val="003366"/>
                  </a:solidFill>
                  <a:latin typeface="Arial"/>
                  <a:ea typeface="方正琥珀简体"/>
                </a:rPr>
                <a:t>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280160" y="1413000"/>
            <a:ext cx="485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背诵这首小令，指出异体字的含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5589720"/>
            <a:ext cx="67284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6877080" cy="514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4788000" y="1197000"/>
            <a:ext cx="2950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清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杜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清明时节雨纷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路上行人欲断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借问酒家何处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牧童遥指杏花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530064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1916280"/>
            <a:ext cx="7129440" cy="2289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史家之绝唱，无韵之离骚。”    ──鲁迅评《史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鬼写妖高人一等，刺贪刺官入骨三分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                      ─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郭沫若评《聊斋志异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孤松矮屋板桥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“十亩桑荫接稻畦”；“桃花流水鳜鱼肥”许多佳句寓形象美于语言美，诗中有画，脍炙人口。但仔细分析，其中主要还是偏文学的意境美，如从绘画的角度来看，连片的桑园接稻田可能很单调；孤松、矮屋与板桥的形象结构是否美还须具体环境具体分析；桃花流水的画面有时抒情，有时腻人，通俗与庸俗之间时乖千里，时决一绳，文学修养不等于审美眼力……          ──《吴冠中的画韵美文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87280" y="1197000"/>
            <a:ext cx="489744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形形色色的文艺评论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58920" y="1341360"/>
            <a:ext cx="6624720" cy="396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844640"/>
            <a:ext cx="187164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4320" y="2793960"/>
            <a:ext cx="51814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邈然（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趱路（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料峭（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0360" y="290988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miăo  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3120" y="341316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zăn  l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01040" y="394668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liào  qià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530064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9520" y="1257480"/>
            <a:ext cx="1511280" cy="577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200" y="181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24040" y="128592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初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71880" y="2122560"/>
            <a:ext cx="46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形成画面轮廓，进入情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9520" y="2914560"/>
            <a:ext cx="63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你将《清明》这首诗口头改写成一篇散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0064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1125360"/>
            <a:ext cx="1552680" cy="662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7016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1320" y="2227320"/>
            <a:ext cx="25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抓住关键词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品味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5576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8920" y="122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再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2485800" cy="3000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1640" y="5300640"/>
            <a:ext cx="67284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16360" y="2709720"/>
            <a:ext cx="3229200" cy="2565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332000" y="1197000"/>
            <a:ext cx="33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杜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为人性僻耽佳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语不惊人死不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2700360"/>
            <a:ext cx="3168720" cy="26049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859280" y="119700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贾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两句三年得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一吟双泪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836640"/>
            <a:ext cx="727236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2176560"/>
            <a:ext cx="5011560" cy="3759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907920"/>
            <a:ext cx="3387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泊船瓜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安石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京口瓜州一水间，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钟山只隔数重山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春风又绿江南岸，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明月何时照我还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08720" y="2060640"/>
            <a:ext cx="574920" cy="1728720"/>
          </a:xfrm>
          <a:prstGeom prst="wedgeRoundRectCallout">
            <a:avLst>
              <a:gd name="adj1" fmla="val -387847"/>
              <a:gd name="adj2" fmla="val 29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42200" y="226224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吹？到？过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1773360"/>
            <a:ext cx="6553080" cy="3933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清明时节雨纷纷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路上行人欲断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借问酒家何处有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牧童遥指杏花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90792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欣赏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5:07:25Z</dcterms:created>
  <dc:creator>微软用户</dc:creator>
  <dc:description/>
  <dc:language>en-US</dc:language>
  <cp:lastModifiedBy>微软用户</cp:lastModifiedBy>
  <dcterms:modified xsi:type="dcterms:W3CDTF">2009-08-25T15:09:17Z</dcterms:modified>
  <cp:revision>1</cp:revision>
  <dc:subject/>
  <dc:title>幻灯片 1</dc:title>
</cp:coreProperties>
</file>