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gif" ContentType="image/gif"/>
  <Override PartName="/ppt/media/image10.gif" ContentType="image/gif"/>
  <Override PartName="/ppt/media/image1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207E-2CF3-435E-A2DD-AFA82B96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52F0-6FFF-4E6D-AA40-BFB53784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F50F-4A5B-47FB-808D-69844AB3D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814E-0D61-466A-AB99-FABF464F3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64D8-A918-47F9-A144-8CAF1495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2FD4-CA97-433A-ABDA-0C74E9AC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521E-3C3B-4679-B62F-EDA7B854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424C-6919-4991-883A-4A920EDC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301A-6AE9-461B-B9B8-66048B83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BD3C-FCF1-4F5F-A161-B352A654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55BA-DF2F-4E06-BB91-D27DB441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7287-19EC-46DA-BC0B-929C5FA7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03E9-F34B-4CF7-8BAF-2A609925D3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4720" y="979560"/>
            <a:ext cx="705636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116000" y="1339920"/>
            <a:ext cx="4537080" cy="3786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13440" y="155592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浅说一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『</a:t>
            </a: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清明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』</a:t>
            </a: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绝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32720" y="3645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周汝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36000" y="4941720"/>
            <a:ext cx="672840" cy="567000"/>
          </a:xfrm>
          <a:custGeom>
            <a:avLst/>
            <a:gdLst/>
            <a:ahLst/>
            <a:rect l="l" t="t" r="r" b="b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116000" y="907920"/>
            <a:ext cx="1657440" cy="576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03640" y="692280"/>
            <a:ext cx="2666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65520" y="170028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比较、联想与想像，再现画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140360" y="2851200"/>
            <a:ext cx="3887640" cy="2916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116000" y="2492280"/>
            <a:ext cx="3960720" cy="2930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672920" y="979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又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24720" y="5589720"/>
            <a:ext cx="673200" cy="566640"/>
          </a:xfrm>
          <a:custGeom>
            <a:avLst/>
            <a:gdLst/>
            <a:ahLst/>
            <a:rect l="l" t="t" r="r" b="b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29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3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19280" y="1459080"/>
            <a:ext cx="115236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比 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74760" y="2270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68120" y="2682720"/>
            <a:ext cx="1375560" cy="520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纷纷”春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2394000"/>
            <a:ext cx="2808360" cy="9471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夏天的暴雨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 “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淅淅沥沥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”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秋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35280" y="2898720"/>
            <a:ext cx="936720" cy="144360"/>
          </a:xfrm>
          <a:prstGeom prst="leftRightArrow">
            <a:avLst>
              <a:gd name="adj1" fmla="val 50000"/>
              <a:gd name="adj2" fmla="val 1291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90560" y="3648240"/>
            <a:ext cx="1944720" cy="520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行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06920" y="3863880"/>
            <a:ext cx="936360" cy="144720"/>
          </a:xfrm>
          <a:prstGeom prst="leftRightArrow">
            <a:avLst>
              <a:gd name="adj1" fmla="val 50000"/>
              <a:gd name="adj2" fmla="val 1288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88000" y="3691080"/>
            <a:ext cx="2879640" cy="520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游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90560" y="4554360"/>
            <a:ext cx="1944720" cy="520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断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06920" y="4770360"/>
            <a:ext cx="936360" cy="144720"/>
          </a:xfrm>
          <a:prstGeom prst="leftRightArrow">
            <a:avLst>
              <a:gd name="adj1" fmla="val 50000"/>
              <a:gd name="adj2" fmla="val 1288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88000" y="4556160"/>
            <a:ext cx="2879640" cy="520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灵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51640" y="5373720"/>
            <a:ext cx="673200" cy="566640"/>
          </a:xfrm>
          <a:custGeom>
            <a:avLst/>
            <a:gdLst/>
            <a:ahLst/>
            <a:rect l="l" t="t" r="r" b="b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4365720"/>
            <a:ext cx="9144000" cy="2492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53400" y="1197000"/>
            <a:ext cx="12474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联想与想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16000" y="1916280"/>
            <a:ext cx="7056360" cy="3313080"/>
          </a:xfrm>
          <a:prstGeom prst="rect">
            <a:avLst/>
          </a:prstGeom>
          <a:solidFill>
            <a:srgbClr val="ffff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20760" y="442764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4520" y="2344680"/>
            <a:ext cx="1375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纷纷”春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牧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遥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2631960"/>
            <a:ext cx="533520" cy="7632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86720" y="2128680"/>
            <a:ext cx="201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淅淅”秋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纷纷扬扬”的大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421080"/>
            <a:ext cx="609840" cy="76320"/>
          </a:xfrm>
          <a:prstGeom prst="rightArrow">
            <a:avLst>
              <a:gd name="adj1" fmla="val 50000"/>
              <a:gd name="adj2" fmla="val 199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18280" y="313704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《小放牛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35280" y="4356000"/>
            <a:ext cx="609840" cy="76320"/>
          </a:xfrm>
          <a:prstGeom prst="rightArrow">
            <a:avLst>
              <a:gd name="adj1" fmla="val 50000"/>
              <a:gd name="adj2" fmla="val 199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3855960"/>
            <a:ext cx="33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红杏梢头   酒帘《红楼梦》的杏帘在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51640" y="5229360"/>
            <a:ext cx="673200" cy="566640"/>
          </a:xfrm>
          <a:custGeom>
            <a:avLst/>
            <a:gdLst/>
            <a:ahLst/>
            <a:rect l="l" t="t" r="r" b="b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71640" y="1341360"/>
            <a:ext cx="743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800000"/>
                </a:solidFill>
                <a:latin typeface="华文细黑"/>
                <a:ea typeface="华文细黑"/>
              </a:rPr>
              <a:t>实际上，一个人愿意坐下来静静地听一会雨</a:t>
            </a:r>
            <a:r>
              <a:rPr b="0" lang="en-US" sz="1800" spc="-1" strike="noStrike">
                <a:solidFill>
                  <a:srgbClr val="800000"/>
                </a:solidFill>
                <a:latin typeface="华文细黑"/>
                <a:ea typeface="华文细黑"/>
              </a:rPr>
              <a:t>，</a:t>
            </a:r>
            <a:r>
              <a:rPr b="0" lang="zh-CN" sz="1800" spc="-1" strike="noStrike">
                <a:solidFill>
                  <a:srgbClr val="800000"/>
                </a:solidFill>
                <a:latin typeface="华文细黑"/>
                <a:ea typeface="华文细黑"/>
              </a:rPr>
              <a:t>他的心中一定有了某种牵念和感喟，尽管有时是淡淡的，连自己也不轻易察觉。雨丝最能扯动昔日的情思，雨声也最易叩响感情的门环。垂老的将帅有“</a:t>
            </a:r>
            <a:r>
              <a:rPr b="0" lang="zh-CN" sz="1800" spc="-1" strike="noStrike" u="sng">
                <a:solidFill>
                  <a:srgbClr val="800000"/>
                </a:solidFill>
                <a:uFillTx/>
                <a:latin typeface="华文细黑"/>
                <a:ea typeface="华文细黑"/>
              </a:rPr>
              <a:t>      </a:t>
            </a:r>
            <a:r>
              <a:rPr b="0" lang="en-US" sz="1800" spc="-1" strike="noStrike">
                <a:solidFill>
                  <a:srgbClr val="800000"/>
                </a:solidFill>
                <a:latin typeface="华文细黑"/>
                <a:ea typeface="华文细黑"/>
              </a:rPr>
              <a:t>”</a:t>
            </a:r>
            <a:r>
              <a:rPr b="0" lang="zh-CN" sz="1800" spc="-1" strike="noStrike">
                <a:solidFill>
                  <a:srgbClr val="800000"/>
                </a:solidFill>
                <a:latin typeface="华文细黑"/>
                <a:ea typeface="华文细黑"/>
              </a:rPr>
              <a:t>的回味，迟暮的美人有“</a:t>
            </a:r>
            <a:r>
              <a:rPr b="0" lang="zh-CN" sz="1800" spc="-1" strike="noStrike" u="sng">
                <a:solidFill>
                  <a:srgbClr val="800000"/>
                </a:solidFill>
                <a:uFillTx/>
                <a:latin typeface="华文细黑"/>
                <a:ea typeface="华文细黑"/>
              </a:rPr>
              <a:t>                </a:t>
            </a:r>
            <a:r>
              <a:rPr b="0" lang="zh-CN" sz="1800" spc="-1" strike="noStrike">
                <a:solidFill>
                  <a:srgbClr val="800000"/>
                </a:solidFill>
                <a:latin typeface="华文细黑"/>
                <a:ea typeface="华文细黑"/>
              </a:rPr>
              <a:t>”的幽怨，多情的诗人有“</a:t>
            </a:r>
            <a:r>
              <a:rPr b="0" lang="zh-CN" sz="1800" spc="-1" strike="noStrike" u="sng">
                <a:solidFill>
                  <a:srgbClr val="800000"/>
                </a:solidFill>
                <a:uFillTx/>
                <a:latin typeface="华文细黑"/>
                <a:ea typeface="华文细黑"/>
              </a:rPr>
              <a:t>                   </a:t>
            </a:r>
            <a:r>
              <a:rPr b="0" lang="zh-CN" sz="1800" spc="-1" strike="noStrike">
                <a:solidFill>
                  <a:srgbClr val="800000"/>
                </a:solidFill>
                <a:latin typeface="华文细黑"/>
                <a:ea typeface="华文细黑"/>
              </a:rPr>
              <a:t>”的遐想。当然，在人的种种倾诉中，应数爱情最令人心动勾人魂魄了。作为男性，我时常把雨声想像成顾盼生辉的少女在舞蹈。他们的舞步时而齐整，时而凌乱，时而轻盈，时而沉重，传达出变化多端的情感体验。有时候，像在诉说喃喃的情话，有时又像在焦急地呼喊，想要答应，又辨不清是谁的声音……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</a:t>
            </a:r>
            <a:r>
              <a:rPr b="0" lang="zh-CN" sz="1800" spc="-1" strike="noStrike">
                <a:solidFill>
                  <a:srgbClr val="800000"/>
                </a:solidFill>
                <a:latin typeface="华文细黑"/>
                <a:ea typeface="华文细黑"/>
              </a:rPr>
              <a:t>(</a:t>
            </a:r>
            <a:r>
              <a:rPr b="0" lang="zh-CN" sz="1800" spc="-1" strike="noStrike">
                <a:solidFill>
                  <a:srgbClr val="800000"/>
                </a:solidFill>
                <a:latin typeface="华文细黑"/>
                <a:ea typeface="华文细黑"/>
              </a:rPr>
              <a:t>朱胜国《瓦屋听雨》</a:t>
            </a:r>
            <a:r>
              <a:rPr b="0" lang="en-US" sz="1800" spc="-1" strike="noStrike">
                <a:solidFill>
                  <a:srgbClr val="800000"/>
                </a:solidFill>
                <a:latin typeface="华文细黑"/>
                <a:ea typeface="华文细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96520" y="443700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小楼一夜听春雨，深巷明朝卖杏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19280" y="4797360"/>
            <a:ext cx="39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雨中黄叶树，灯下白头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78520" y="5884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19280" y="5157720"/>
            <a:ext cx="49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夜阑卧听风吹雨，铁马冰河入梦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27720" y="191628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35480" y="2200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66520" y="2212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42080" y="747720"/>
            <a:ext cx="12780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联想想像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51640" y="5373720"/>
            <a:ext cx="673200" cy="566640"/>
          </a:xfrm>
          <a:custGeom>
            <a:avLst/>
            <a:gdLst/>
            <a:ahLst/>
            <a:rect l="l" t="t" r="r" b="b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689120" y="1341360"/>
            <a:ext cx="1082520" cy="585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68360" y="3213000"/>
            <a:ext cx="1513080" cy="8254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《清明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艺术特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2060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理性评价议论，感受艺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29280" y="27097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语言：自然之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29280" y="314172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音节：和谐圆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11640" y="3548160"/>
            <a:ext cx="32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形象：清新生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13080" y="3979800"/>
            <a:ext cx="32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境界：优美隐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4340160"/>
            <a:ext cx="33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结构：起承转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58760" y="1341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最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95640" y="2852640"/>
            <a:ext cx="216000" cy="1728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51640" y="5373720"/>
            <a:ext cx="673200" cy="566640"/>
          </a:xfrm>
          <a:custGeom>
            <a:avLst/>
            <a:gdLst/>
            <a:ahLst/>
            <a:rect l="l" t="t" r="r" b="b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945800" y="1123920"/>
            <a:ext cx="9122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阅读四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32000" y="1773360"/>
            <a:ext cx="6624720" cy="388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60720" y="2131920"/>
            <a:ext cx="4959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形成画面轮廓，进入情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抓住关键词语，品味语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比较联想与想像，再现画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理性评价议论，感受艺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41400" y="2117880"/>
            <a:ext cx="9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初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41400" y="2997360"/>
            <a:ext cx="95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再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41400" y="386064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又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41400" y="465300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最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51640" y="5373720"/>
            <a:ext cx="673200" cy="566640"/>
          </a:xfrm>
          <a:custGeom>
            <a:avLst/>
            <a:gdLst/>
            <a:ahLst/>
            <a:rect l="l" t="t" r="r" b="b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4360" y="1440000"/>
            <a:ext cx="7777080" cy="11912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文艺鉴赏并不是摊开两只手、专等文艺给我们一些什么，也不是单凭一时的现象，给文艺加上一些形容词语。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宋体"/>
              </a:rPr>
              <a:t>文艺中间讲到一些事物，我们就得问：“作者为什么要讲到这些事物？文艺中间描写风景，表达情感，我们就得问：作者这样描写和表达是不是最为有效？我们不但说了个好就算，还要说得出好在哪里，不但说了个不好就算，还要说得出不好在哪里。这样才够得上称为文艺鉴赏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。这样，从好的文艺得到的感动自然更深切。文艺方面如果有什么不完美的地方，也会觉察出来，不至于一味照单全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鲁迅的</a:t>
            </a:r>
            <a:r>
              <a:rPr b="0" lang="en-US" sz="18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孔乙己</a:t>
            </a:r>
            <a:r>
              <a:rPr b="0" lang="en-US" sz="18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，现在小学高年级和初级中学都选作国语教材，读过的人很多了。读过的人说：“这样一个偷东西被打折了腿的瘪三，写他有什么意思呢？”但是，有耐心去鉴赏的人不这么看。有的说：“孔乙己说回字有四样写法，如果作者让孔乙己把四样写法都写出来，那就索然无味了。</a:t>
            </a:r>
            <a:r>
              <a:rPr b="0" lang="en-US" sz="1800" spc="-1" strike="noStrike">
                <a:solidFill>
                  <a:srgbClr val="0000ff"/>
                </a:solidFill>
                <a:latin typeface="宋体"/>
              </a:rPr>
              <a:t>”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有的说：“这一篇写的孔乙己，虽然颓唐、下流，却处处要面子，处处显示出他所受的教育给与他的影响，绝不同于一般的瘪三，这是一篇的出色处。</a:t>
            </a:r>
            <a:r>
              <a:rPr b="0" lang="en-US" sz="1800" spc="-1" strike="noStrike">
                <a:solidFill>
                  <a:srgbClr val="0000ff"/>
                </a:solidFill>
                <a:latin typeface="宋体"/>
              </a:rPr>
              <a:t>”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</a:rPr>
              <a:t>有一个深深体会了世味的人说：“这一篇中，我以为最妙的文字是‘孔乙己是这样的使人快活，可是没有他，别人也便这么过。</a:t>
            </a:r>
            <a:r>
              <a:rPr b="0" lang="en-US" sz="1800" spc="-1" strike="noStrike">
                <a:solidFill>
                  <a:srgbClr val="0000ff"/>
                </a:solidFill>
                <a:latin typeface="宋体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49560" y="932040"/>
            <a:ext cx="1857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叶圣陶谈文艺作品的鉴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12000" y="5661000"/>
            <a:ext cx="673200" cy="566640"/>
          </a:xfrm>
          <a:custGeom>
            <a:avLst/>
            <a:gdLst/>
            <a:ahLst/>
            <a:rect l="l" t="t" r="r" b="b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28600" y="0"/>
            <a:ext cx="9372600" cy="6842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26920" y="4581360"/>
            <a:ext cx="1200240" cy="9939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4437000"/>
            <a:ext cx="167652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隶书"/>
              </a:rPr>
              <a:t>作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195640" y="915840"/>
            <a:ext cx="5832360" cy="4714920"/>
            <a:chOff x="2195640" y="915840"/>
            <a:chExt cx="5832360" cy="4714920"/>
          </a:xfrm>
        </p:grpSpPr>
        <p:sp>
          <p:nvSpPr>
            <p:cNvPr id="160" name=""/>
            <p:cNvSpPr/>
            <p:nvPr/>
          </p:nvSpPr>
          <p:spPr>
            <a:xfrm>
              <a:off x="2195640" y="981000"/>
              <a:ext cx="5832360" cy="4608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11240" y="1412640"/>
              <a:ext cx="1704240" cy="26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8000"/>
                  </a:solidFill>
                  <a:latin typeface="Arial"/>
                  <a:ea typeface="隶书"/>
                </a:rPr>
                <a:t>天净沙  秋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8000"/>
                  </a:solidFill>
                  <a:latin typeface="Arial"/>
                  <a:ea typeface="隶书"/>
                </a:rPr>
                <a:t>               </a:t>
              </a:r>
              <a:r>
                <a:rPr b="0" lang="zh-CN" sz="2000" spc="-1" strike="noStrike">
                  <a:solidFill>
                    <a:srgbClr val="008000"/>
                  </a:solidFill>
                  <a:latin typeface="Arial"/>
                  <a:ea typeface="隶书"/>
                </a:rPr>
                <a:t>马致远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62840" y="915840"/>
              <a:ext cx="546120" cy="25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800000"/>
                  </a:solidFill>
                  <a:latin typeface="Arial"/>
                  <a:ea typeface="隶书"/>
                </a:rPr>
                <a:t>枯</a:t>
              </a:r>
              <a:r>
                <a:rPr b="0" lang="zh-CN" sz="2400" spc="-1" strike="noStrike">
                  <a:solidFill>
                    <a:srgbClr val="ff9900"/>
                  </a:solidFill>
                  <a:latin typeface="Arial"/>
                  <a:ea typeface="隶书"/>
                </a:rPr>
                <a:t>藤老树昏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73880" y="1836000"/>
              <a:ext cx="546120" cy="25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900"/>
                  </a:solidFill>
                  <a:latin typeface="Arial"/>
                  <a:ea typeface="隶书"/>
                </a:rPr>
                <a:t>小桥流</a:t>
              </a:r>
              <a:r>
                <a:rPr b="0" lang="zh-CN" sz="2400" spc="-1" strike="noStrike">
                  <a:solidFill>
                    <a:srgbClr val="ccccff"/>
                  </a:solidFill>
                  <a:latin typeface="Arial"/>
                  <a:ea typeface="华文彩云"/>
                </a:rPr>
                <a:t>水</a:t>
              </a:r>
              <a:r>
                <a:rPr b="0" lang="zh-CN" sz="2400" spc="-1" strike="noStrike">
                  <a:solidFill>
                    <a:srgbClr val="ff9900"/>
                  </a:solidFill>
                  <a:latin typeface="Arial"/>
                  <a:ea typeface="隶书"/>
                </a:rPr>
                <a:t>人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98960" y="915840"/>
              <a:ext cx="546120" cy="25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900"/>
                  </a:solidFill>
                  <a:latin typeface="Arial"/>
                  <a:ea typeface="隶书"/>
                </a:rPr>
                <a:t>古道西风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幼圆"/>
                </a:rPr>
                <a:t>瘦</a:t>
              </a:r>
              <a:r>
                <a:rPr b="0" lang="zh-CN" sz="2400" spc="-1" strike="noStrike">
                  <a:solidFill>
                    <a:srgbClr val="ff9900"/>
                  </a:solidFill>
                  <a:latin typeface="Arial"/>
                  <a:ea typeface="隶书"/>
                </a:rPr>
                <a:t>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49880" y="2092320"/>
              <a:ext cx="546120" cy="17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900"/>
                  </a:solidFill>
                  <a:latin typeface="Arial"/>
                  <a:ea typeface="隶书"/>
                </a:rPr>
                <a:t>夕</a:t>
              </a:r>
              <a:r>
                <a:rPr b="0" lang="zh-CN" sz="2400" spc="-1" strike="noStrike">
                  <a:solidFill>
                    <a:srgbClr val="cc3300"/>
                  </a:solidFill>
                  <a:latin typeface="Arial"/>
                  <a:ea typeface="方正准圆简体"/>
                </a:rPr>
                <a:t>阳</a:t>
              </a:r>
              <a:r>
                <a:rPr b="0" lang="zh-CN" sz="2400" spc="-1" strike="noStrike">
                  <a:solidFill>
                    <a:srgbClr val="ff9900"/>
                  </a:solidFill>
                  <a:latin typeface="Arial"/>
                  <a:ea typeface="隶书"/>
                </a:rPr>
                <a:t>西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73520" y="3049560"/>
              <a:ext cx="546120" cy="25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900"/>
                  </a:solidFill>
                  <a:latin typeface="Arial"/>
                  <a:ea typeface="隶书"/>
                </a:rPr>
                <a:t>断肠人在天</a:t>
              </a:r>
              <a:r>
                <a:rPr b="0" lang="zh-CN" sz="2400" spc="-1" strike="noStrike">
                  <a:solidFill>
                    <a:srgbClr val="003366"/>
                  </a:solidFill>
                  <a:latin typeface="Arial"/>
                  <a:ea typeface="方正琥珀简体"/>
                </a:rPr>
                <a:t>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280160" y="1413000"/>
            <a:ext cx="4852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背诵这首小令，指出异体字的含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596360" y="5589720"/>
            <a:ext cx="672840" cy="566640"/>
          </a:xfrm>
          <a:custGeom>
            <a:avLst/>
            <a:gdLst/>
            <a:ahLst/>
            <a:rect l="l" t="t" r="r" b="b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187280" y="836640"/>
            <a:ext cx="6877080" cy="51483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4788000" y="1197000"/>
            <a:ext cx="29509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清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杜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清明时节雨纷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路上行人欲断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借问酒家何处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牧童遥指杏花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08720" y="5300640"/>
            <a:ext cx="673200" cy="566640"/>
          </a:xfrm>
          <a:custGeom>
            <a:avLst/>
            <a:gdLst/>
            <a:ahLst/>
            <a:rect l="l" t="t" r="r" b="b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42920" y="1916280"/>
            <a:ext cx="7129440" cy="22892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“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史家之绝唱，无韵之离骚。”    ──鲁迅评《史记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写鬼写妖高人一等，刺贪刺官入骨三分。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                          ─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郭沫若评《聊斋志异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孤松矮屋板桥西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；“十亩桑荫接稻畦”；“桃花流水鳜鱼肥”许多佳句寓形象美于语言美，诗中有画，脍炙人口。但仔细分析，其中主要还是偏文学的意境美，如从绘画的角度来看，连片的桑园接稻田可能很单调；孤松、矮屋与板桥的形象结构是否美还须具体环境具体分析；桃花流水的画面有时抒情，有时腻人，通俗与庸俗之间时乖千里，时决一绳，文学修养不等于审美眼力……          ──《吴冠中的画韵美文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187280" y="1197000"/>
            <a:ext cx="489744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gradFill rotWithShape="0">
                  <a:gsLst>
                    <a:gs pos="0">
                      <a:srgbClr val="cc0066"/>
                    </a:gs>
                    <a:gs pos="100000">
                      <a:srgbClr val="0033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形形色色的文艺评论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cc0066"/>
                  </a:gs>
                  <a:gs pos="100000">
                    <a:srgbClr val="0033cc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"/>
          <p:cNvSpPr/>
          <p:nvPr/>
        </p:nvSpPr>
        <p:spPr>
          <a:xfrm>
            <a:off x="7451640" y="5373720"/>
            <a:ext cx="673200" cy="566640"/>
          </a:xfrm>
          <a:custGeom>
            <a:avLst/>
            <a:gdLst/>
            <a:ahLst/>
            <a:rect l="l" t="t" r="r" b="b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58920" y="1341360"/>
            <a:ext cx="6624720" cy="396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0920" y="1844640"/>
            <a:ext cx="1871640" cy="5814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幼圆"/>
              </a:rPr>
              <a:t>读准字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4320" y="2793960"/>
            <a:ext cx="518148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66"/>
                </a:solidFill>
                <a:latin typeface="华文细黑"/>
                <a:ea typeface="华文细黑"/>
              </a:rPr>
              <a:t>邈然（                  </a:t>
            </a:r>
            <a:r>
              <a:rPr b="0" lang="en-US" sz="2800" spc="-1" strike="noStrike">
                <a:solidFill>
                  <a:srgbClr val="cc0066"/>
                </a:solidFill>
                <a:latin typeface="华文细黑"/>
                <a:ea typeface="华文细黑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66"/>
                </a:solidFill>
                <a:latin typeface="华文细黑"/>
                <a:ea typeface="华文细黑"/>
              </a:rPr>
              <a:t>趱路（                  </a:t>
            </a:r>
            <a:r>
              <a:rPr b="0" lang="en-US" sz="2800" spc="-1" strike="noStrike">
                <a:solidFill>
                  <a:srgbClr val="cc0066"/>
                </a:solidFill>
                <a:latin typeface="华文细黑"/>
                <a:ea typeface="华文细黑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66"/>
                </a:solidFill>
                <a:latin typeface="华文细黑"/>
                <a:ea typeface="华文细黑"/>
              </a:rPr>
              <a:t>料峭（                  </a:t>
            </a:r>
            <a:r>
              <a:rPr b="0" lang="en-US" sz="2800" spc="-1" strike="noStrike">
                <a:solidFill>
                  <a:srgbClr val="cc0066"/>
                </a:solidFill>
                <a:latin typeface="华文细黑"/>
                <a:ea typeface="华文细黑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50360" y="2909880"/>
            <a:ext cx="17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华文细黑"/>
                <a:ea typeface="华文细黑"/>
              </a:rPr>
              <a:t>miăo  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73120" y="3413160"/>
            <a:ext cx="126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华文细黑"/>
                <a:ea typeface="华文细黑"/>
              </a:rPr>
              <a:t>zăn  l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01040" y="3946680"/>
            <a:ext cx="168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华文细黑"/>
                <a:ea typeface="华文细黑"/>
              </a:rPr>
              <a:t>liào  qià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08720" y="5300640"/>
            <a:ext cx="673200" cy="566640"/>
          </a:xfrm>
          <a:custGeom>
            <a:avLst/>
            <a:gdLst/>
            <a:ahLst/>
            <a:rect l="l" t="t" r="r" b="b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79520" y="1257480"/>
            <a:ext cx="1511280" cy="577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200" y="1811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24040" y="1285920"/>
            <a:ext cx="103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初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71880" y="2122560"/>
            <a:ext cx="46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形成画面轮廓，进入情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9520" y="2914560"/>
            <a:ext cx="636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请你将《清明》这首诗口头改写成一篇散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08720" y="5300640"/>
            <a:ext cx="673200" cy="566640"/>
          </a:xfrm>
          <a:custGeom>
            <a:avLst/>
            <a:gdLst/>
            <a:ahLst/>
            <a:rect l="l" t="t" r="r" b="b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403280" y="1125360"/>
            <a:ext cx="1552680" cy="662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70160" y="40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1320" y="2227320"/>
            <a:ext cx="250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抓住关键词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品味语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55760" y="375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88920" y="1225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再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651640" y="2565360"/>
            <a:ext cx="2485800" cy="3000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71640" y="5300640"/>
            <a:ext cx="672840" cy="566640"/>
          </a:xfrm>
          <a:custGeom>
            <a:avLst/>
            <a:gdLst/>
            <a:ahLst/>
            <a:rect l="l" t="t" r="r" b="b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716360" y="2709720"/>
            <a:ext cx="3229200" cy="256572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1332000" y="1197000"/>
            <a:ext cx="338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杜甫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为人性僻耽佳句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语不惊人死不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258920" y="2700360"/>
            <a:ext cx="3168720" cy="26049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4859280" y="1197000"/>
            <a:ext cx="251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贾岛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两句三年得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一吟双泪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51640" y="5373720"/>
            <a:ext cx="673200" cy="566640"/>
          </a:xfrm>
          <a:custGeom>
            <a:avLst/>
            <a:gdLst/>
            <a:ahLst/>
            <a:rect l="l" t="t" r="r" b="b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00000" y="836640"/>
            <a:ext cx="7272360" cy="5113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2176560"/>
            <a:ext cx="5011560" cy="3759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708360" y="907920"/>
            <a:ext cx="33876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泊船瓜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王安石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京口瓜州一水间，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钟山只隔数重山。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春风又绿江南岸，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明月何时照我还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08720" y="2060640"/>
            <a:ext cx="574920" cy="1728720"/>
          </a:xfrm>
          <a:prstGeom prst="wedgeRoundRectCallout">
            <a:avLst>
              <a:gd name="adj1" fmla="val -387847"/>
              <a:gd name="adj2" fmla="val 2906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42200" y="2262240"/>
            <a:ext cx="9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吹？到？过？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451640" y="5373720"/>
            <a:ext cx="673200" cy="566640"/>
          </a:xfrm>
          <a:custGeom>
            <a:avLst/>
            <a:gdLst/>
            <a:ahLst/>
            <a:rect l="l" t="t" r="r" b="b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58920" y="1773360"/>
            <a:ext cx="6553080" cy="39330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清明时节雨纷纷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0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路上行人欲断魂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0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借问酒家何处有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0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牧童遥指杏花村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12360" y="907920"/>
            <a:ext cx="9122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99"/>
                </a:solidFill>
                <a:latin typeface="Times New Roman"/>
              </a:rPr>
              <a:t>欣赏词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451640" y="5373720"/>
            <a:ext cx="673200" cy="566640"/>
          </a:xfrm>
          <a:custGeom>
            <a:avLst/>
            <a:gdLst/>
            <a:ahLst/>
            <a:rect l="l" t="t" r="r" b="b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15:07:25Z</dcterms:created>
  <dc:creator>微软用户</dc:creator>
  <dc:description/>
  <dc:language>en-US</dc:language>
  <cp:lastModifiedBy>微软用户</cp:lastModifiedBy>
  <dcterms:modified xsi:type="dcterms:W3CDTF">2009-08-25T15:09:17Z</dcterms:modified>
  <cp:revision>1</cp:revision>
  <dc:subject/>
  <dc:title>幻灯片 1</dc:title>
</cp:coreProperties>
</file>