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3B7-58DA-4EBA-BED5-9AF08741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F5A-1B45-40F7-864F-A901AE71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46A-D00D-44B8-835D-165CD729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743-FAF3-4045-ABAB-380503B4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F4F-2185-4B64-8827-A417E8A7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7BE-D18B-4D24-8287-079C2EE3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4C2-3244-456F-88BF-FA9068BF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2B3-C2F2-4C84-BBA1-FC3BAF37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D93-1908-4F4A-98AA-E7DC476C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76F-595A-4824-A555-685476BF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BE1-42A7-478C-97D7-F01D654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716-A217-4045-BDA2-24A31F72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03F5-5B95-4D93-97D5-1A7DB24A5352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13ED-C2D4-4824-86FF-34214D687B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0880" y="907560"/>
            <a:ext cx="901692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九上总复习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字音、字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36572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桥学校      郑长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8EE4-1C1C-4B86-B5B1-6D4FCCE7D245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DDFA-6C1E-4AAB-8E9D-4634FE72CD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掺杂          驱除          镰刀          温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叠          玄虚          渺茫          麻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摧残          诓骗          凶险          视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信          虚妄          盲从          折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俗          墨守          停滞          探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意          压榨          中伤          遁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鲁钝          懦夫          豢养          灌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歇息          干系          怨怅          分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逞能          颠倒          勾当          聒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揖          见教          盘缠          心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星宿          桑梓          侥幸          拜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02BE-3350-406D-AD4A-A91116F52A75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3E3D-C44F-4EFB-B8FC-91C38AFB7E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失礼          傲慢          疏懒          愧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鄙贱          调停          发怔          岔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促狭          筵席          断章取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二法门          言不及义          荡然无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富丽堂皇          丰功伟绩          彬彬有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发雷霆          随心所欲          一意孤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吹自擂          矫揉造作          附庸风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扭捏作态          随机应变          自惭形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不容发          金戈铁马          形销骨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抽丝剥茧          鸠占鹊巢          李代桃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88E6-3723-4308-AF55-5487ADD16D22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CB6E-6148-4180-AC91-9D0900F8C2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得益彰         可望而不可即    与日俱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拿九稳         郑重其事           置之不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歇斯底里         怀古伤今           埋头苦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舍身求法         前仆后继           自欺欺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足为据         不攻自破           根深蒂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之有效         孜孜不倦           持之以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言而喻         轻而易举           画龙点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暴自弃         山穷水尽           走投无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省人事         不由分说           如雷贯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世奇才         思贤如渴           箪食壶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顿开茅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ABC4-C243-41AB-80D2-40E3DA77C9E8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E9F4-870A-4496-B717-9D30A62D1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成吉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婷               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）                    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亵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有礼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揉造作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惭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           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养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B473-D723-49CA-B587-AF90F8DBF75D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FE74-A8B3-4E56-A471-4B2D4B7871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2199960" y="26028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6592680" y="2602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696680" y="83664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450120" y="836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2054880" y="1413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447600" y="141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2054880" y="1989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6378480" y="198900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èd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2055600" y="256536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u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6088320" y="2565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2054880" y="314172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6088680" y="3141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1696680" y="371628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5945400" y="371628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2920320" y="42926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6377760" y="43657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2055600" y="4869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6375240" y="4941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2127240" y="55166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231600" y="5516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下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浩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汤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琅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伛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83B8-58F0-439E-BBB5-92B1CE3E5005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7DB5-CF63-4A27-BA90-B13B6A8D36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696320" y="189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6160320" y="189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055600" y="765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6088680" y="765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562840" y="134136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6231960" y="13413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2128320" y="191628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6591240" y="19162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1698120" y="24922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4790880" y="256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2199240" y="306864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4431960" y="306864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2128680" y="3645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6667200" y="3716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ángy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1698120" y="4292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6377040" y="4292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ǔl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1767600" y="4869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6231960" y="4869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1766880" y="5445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6377040" y="544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定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衣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沆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户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索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249E-7DFF-4CAC-8176-FEC3103C5D7D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6695-9EE9-4BF0-A269-EF75278F0E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625040" y="1890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871600" y="189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696680" y="765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6088320" y="765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129040" y="1341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085720" y="134136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àngd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1767240" y="19162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 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6161760" y="19162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2199960" y="2492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6303960" y="249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1695240" y="306864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6231600" y="31417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 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1768680" y="36450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6233760" y="37162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 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2201040" y="4292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6233400" y="4292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2200320" y="4869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6231240" y="48690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2"/>
          <p:cNvSpPr/>
          <p:nvPr/>
        </p:nvSpPr>
        <p:spPr>
          <a:xfrm>
            <a:off x="1839240" y="5445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3"/>
          <p:cNvSpPr/>
          <p:nvPr/>
        </p:nvSpPr>
        <p:spPr>
          <a:xfrm>
            <a:off x="6305400" y="544500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i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）了本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瓷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拮据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桥              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褴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  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嘟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颛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     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孜不倦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刀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553A-B0D7-4971-BE6F-A59A53678349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52FE-B1FB-4F73-9834-20BE1D6A3C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768680" y="4046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376680" y="333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201760" y="98100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ì s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6665400" y="98100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é j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1768680" y="155736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6663600" y="1628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 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2201760" y="21337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án l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6665400" y="21337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2203200" y="270828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ū n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6304680" y="270828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1840320" y="32846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5514480" y="328464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u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2203560" y="386064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uān x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6159960" y="3933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1838520" y="4437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6233760" y="4508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0"/>
          <p:cNvSpPr/>
          <p:nvPr/>
        </p:nvSpPr>
        <p:spPr>
          <a:xfrm>
            <a:off x="1982880" y="5013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1"/>
          <p:cNvSpPr/>
          <p:nvPr/>
        </p:nvSpPr>
        <p:spPr>
          <a:xfrm>
            <a:off x="6090480" y="5084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ē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2"/>
          <p:cNvSpPr/>
          <p:nvPr/>
        </p:nvSpPr>
        <p:spPr>
          <a:xfrm>
            <a:off x="1839240" y="5661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6304680" y="5661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意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兀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啰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）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事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           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子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CB4A-57FD-402B-9464-E968EC2EE0E3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3334-9D41-4C87-B1E0-EA353F730C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057760" y="40464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729040" y="40464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ǐ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1697040" y="9810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u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6162120" y="981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ù d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1768320" y="15573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5729400" y="15573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2202480" y="21337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uó z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799240" y="21337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2128320" y="270828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5657760" y="2708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1625040" y="328464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5729040" y="328464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1767960" y="38606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6231960" y="3933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1839600" y="4508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6304320" y="4508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0"/>
          <p:cNvSpPr/>
          <p:nvPr/>
        </p:nvSpPr>
        <p:spPr>
          <a:xfrm>
            <a:off x="1768320" y="508464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615888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2"/>
          <p:cNvSpPr/>
          <p:nvPr/>
        </p:nvSpPr>
        <p:spPr>
          <a:xfrm>
            <a:off x="1696680" y="566100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ì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3"/>
          <p:cNvSpPr/>
          <p:nvPr/>
        </p:nvSpPr>
        <p:spPr>
          <a:xfrm>
            <a:off x="5729400" y="56610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u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              存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）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蓼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徜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）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B9A2-18EA-43F2-BABC-45541019BB14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061A-F6E6-475B-AE00-1E3321807D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130120" y="260280"/>
            <a:ext cx="13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5945040" y="2602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200320" y="83664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5947560" y="83664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ǎ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200680" y="14842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ku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6088320" y="1413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1698480" y="19890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ā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6520320" y="1989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1911960" y="26370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4"/>
          <p:cNvSpPr/>
          <p:nvPr/>
        </p:nvSpPr>
        <p:spPr>
          <a:xfrm>
            <a:off x="6379200" y="263700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ǎo x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1769760" y="31417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i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6017040" y="31417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zh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7"/>
          <p:cNvSpPr/>
          <p:nvPr/>
        </p:nvSpPr>
        <p:spPr>
          <a:xfrm>
            <a:off x="1697040" y="37893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8"/>
          <p:cNvSpPr/>
          <p:nvPr/>
        </p:nvSpPr>
        <p:spPr>
          <a:xfrm>
            <a:off x="6016320" y="3789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9"/>
          <p:cNvSpPr/>
          <p:nvPr/>
        </p:nvSpPr>
        <p:spPr>
          <a:xfrm>
            <a:off x="2062080" y="436572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áng y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5945760" y="43657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滔滔          妖娆          折腰           风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骄          风流          嘶哑           汹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黎明          腐烂          轻灵           娉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鲜妍          冠冕          呢喃           丰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沉醉          忧戚          勃发           飘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漫游          流盼          摇曳           禅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微          旁骛          秘诀           羡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亵渎          浪荡          妄想           杜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和          赞誉          恍若           绸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琉璃          惊骇          瞥见           剪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劫掠          赃物          制裁           贸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324000" y="5661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C189-405E-4701-A43A-9DF227DFCD78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5ED1-EA01-4273-B0F3-B262AE9FE9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涵养          恪守          自持          汲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遵循          箴言          广袤          积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宽宥          游弋          困厄          濡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麾下          嘟嚷          灰烬          阴晦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萧索          祭祀          伶俐          愕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鄙夷          嗤笑          应酬          世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惘然          隔膜          恣睢          拮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栈桥          糟蹋          别墅          褴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婿          端详          恭维          阔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煞白          家底          觅食          嬉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旷          撩逗          炊烟          乖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468360" y="57326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7A7E-3226-4F3D-8411-8886F416982B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8030-D5B9-4F54-A6C1-F9520AB652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14:27:27Z</dcterms:created>
  <dc:creator>wxsa</dc:creator>
  <dc:description/>
  <cp:keywords/>
  <dc:language>en-US</dc:language>
  <cp:lastModifiedBy>CJ</cp:lastModifiedBy>
  <dcterms:modified xsi:type="dcterms:W3CDTF">2018-10-08T06:54:09Z</dcterms:modified>
  <cp:revision>182</cp:revision>
  <dc:subject/>
  <dc:title>第三讲   词语的理解与运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