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5735-DCA6-4591-9028-DA76475F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CC12-5C22-4F3F-8F4F-61AD2C06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34F9-BA89-49E0-91F8-64980C9D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9BAE-9C39-40CD-BA39-247FF814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17CD-B045-4B44-AFD3-DA5FA568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3850-75EF-4D6A-BDB4-29F06F10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4476-5AE5-432C-8606-D33FA345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353-B852-4F58-8CDD-A775989D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6315-7489-453E-B414-DAFE6402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1C95-2E65-464A-AC12-F7826D46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1F72-8C78-4FC8-BA4F-7970E02D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EE7B-04FE-42AA-B7EC-7773D658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7187-90B6-4EB1-AA3B-EFF1C6D0B69A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1989-3D09-496C-A0FC-1496829809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0880" y="907560"/>
            <a:ext cx="901692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九上总复习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字音、字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16000" y="436572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桥学校      郑长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9F71-1ACD-42CB-A63B-5531291618E6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9DEA-8E92-48E4-860A-B8C3AF0E55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掺杂          驱除          镰刀          温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叠          玄虚          渺茫          麻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摧残          诓骗          凶险          视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轻信          虚妄          盲从          折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俗          墨守          停滞          探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创意          压榨          中伤          遁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鲁钝          懦夫          豢养          灌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歇息          干系          怨怅          分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逞能          颠倒          勾当          聒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揖          见教          盘缠          心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星宿          桑梓          侥幸          拜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845F-78C2-4EE1-A5F5-7572C7605039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D951-B9B4-4BC3-83B7-D1FA3BF013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失礼          傲慢          疏懒          愧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鄙贱          调停          发怔          岔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促狭          筵席          断章取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二法门          言不及义          荡然无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富丽堂皇          丰功伟绩          彬彬有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发雷霆          随心所欲          一意孤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吹自擂          矫揉造作          附庸风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扭捏作态          随机应变          自惭形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间不容发          金戈铁马          形销骨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抽丝剥茧          鸠占鹊巢          李代桃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5315-5096-4AB7-B05C-5B2675C51644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683E-EEA3-487A-BD8A-92B35C2332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得益彰         可望而不可即    与日俱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拿九稳         郑重其事           置之不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歇斯底里         怀古伤今           埋头苦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舍身求法         前仆后继           自欺欺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足为据         不攻自破           根深蒂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之有效         孜孜不倦           持之以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言而喻         轻而易举           画龙点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暴自弃         山穷水尽           走投无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省人事         不由分说           如雷贯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世奇才         思贤如渴           箪食壶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顿开茅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8719-081E-435F-B6B0-E3E7431A6C16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F1C7-8286-478B-8726-8C467B9DB9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妖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         成吉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婷               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）                    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亵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有礼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揉造作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言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惭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           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                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养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9741-602F-495A-AF94-B04EC8D653F7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F9FF-F470-4BF8-B07C-51C8C55885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2199960" y="26028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6592680" y="26028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696680" y="83664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ī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450120" y="83664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2054880" y="14130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6447600" y="1413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2054880" y="19890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6378480" y="198900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ièd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2055600" y="256536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u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6088320" y="256536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2054880" y="314172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6088680" y="31417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k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1696680" y="371628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ji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7"/>
          <p:cNvSpPr/>
          <p:nvPr/>
        </p:nvSpPr>
        <p:spPr>
          <a:xfrm>
            <a:off x="5945400" y="371628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ē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8"/>
          <p:cNvSpPr/>
          <p:nvPr/>
        </p:nvSpPr>
        <p:spPr>
          <a:xfrm>
            <a:off x="2920320" y="429264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u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9"/>
          <p:cNvSpPr/>
          <p:nvPr/>
        </p:nvSpPr>
        <p:spPr>
          <a:xfrm>
            <a:off x="6377760" y="436572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2055600" y="48690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ò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6375240" y="49417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2127240" y="551664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6231600" y="5516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下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浩浩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汤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                 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琅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伛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2107-99D1-4D6D-868C-BCA5B5C3097D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7E5D-B78E-4EE9-84B3-10379B4E9A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1696320" y="18900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u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6160320" y="18900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2055600" y="7650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í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6088680" y="7650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2562840" y="1341360"/>
            <a:ext cx="13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h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6231960" y="134136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ē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2128320" y="191628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6591240" y="19162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1698120" y="249228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i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4790880" y="2565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2199240" y="306864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5"/>
          <p:cNvSpPr/>
          <p:nvPr/>
        </p:nvSpPr>
        <p:spPr>
          <a:xfrm>
            <a:off x="4431960" y="306864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ī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2128680" y="36450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6667200" y="3716280"/>
            <a:ext cx="14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ángy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1698120" y="429264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í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9"/>
          <p:cNvSpPr/>
          <p:nvPr/>
        </p:nvSpPr>
        <p:spPr>
          <a:xfrm>
            <a:off x="6377040" y="4292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ǔl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1767600" y="4869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1"/>
          <p:cNvSpPr/>
          <p:nvPr/>
        </p:nvSpPr>
        <p:spPr>
          <a:xfrm>
            <a:off x="6231960" y="48690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2"/>
          <p:cNvSpPr/>
          <p:nvPr/>
        </p:nvSpPr>
        <p:spPr>
          <a:xfrm>
            <a:off x="1766880" y="54450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3"/>
          <p:cNvSpPr/>
          <p:nvPr/>
        </p:nvSpPr>
        <p:spPr>
          <a:xfrm>
            <a:off x="6377040" y="544500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ō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定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衣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沆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户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潮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索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7DDE-27C4-4AA6-A80E-0EB33837B929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A549-C0F8-42DD-A8D5-31170CC6B8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1625040" y="18900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ē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5871600" y="1890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1696680" y="765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u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6088320" y="765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ku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2129040" y="134136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ō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5085720" y="134136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àngd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1767240" y="191628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 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6161760" y="191628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2199960" y="249228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u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6303960" y="24922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4"/>
          <p:cNvSpPr/>
          <p:nvPr/>
        </p:nvSpPr>
        <p:spPr>
          <a:xfrm>
            <a:off x="1695240" y="306864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6231600" y="314172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 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>
            <a:off x="1768680" y="36450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7"/>
          <p:cNvSpPr/>
          <p:nvPr/>
        </p:nvSpPr>
        <p:spPr>
          <a:xfrm>
            <a:off x="6233760" y="371628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u 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8"/>
          <p:cNvSpPr/>
          <p:nvPr/>
        </p:nvSpPr>
        <p:spPr>
          <a:xfrm>
            <a:off x="2201040" y="4292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í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9"/>
          <p:cNvSpPr/>
          <p:nvPr/>
        </p:nvSpPr>
        <p:spPr>
          <a:xfrm>
            <a:off x="6233400" y="429264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ji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0"/>
          <p:cNvSpPr/>
          <p:nvPr/>
        </p:nvSpPr>
        <p:spPr>
          <a:xfrm>
            <a:off x="2200320" y="48690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ù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1"/>
          <p:cNvSpPr/>
          <p:nvPr/>
        </p:nvSpPr>
        <p:spPr>
          <a:xfrm>
            <a:off x="6231240" y="486900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2"/>
          <p:cNvSpPr/>
          <p:nvPr/>
        </p:nvSpPr>
        <p:spPr>
          <a:xfrm>
            <a:off x="1839240" y="5445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3"/>
          <p:cNvSpPr/>
          <p:nvPr/>
        </p:nvSpPr>
        <p:spPr>
          <a:xfrm>
            <a:off x="6305400" y="544500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i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了本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瓷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拮据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桥              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褴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             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嘟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颛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     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孜不倦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刀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FE44-FBF6-4232-95DD-B2E0E972DC80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ECA8-D407-42E9-828F-5831DD0FF2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768680" y="4046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h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6376680" y="33336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2201760" y="981000"/>
            <a:ext cx="119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ì su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6665400" y="981000"/>
            <a:ext cx="11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jié j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1768680" y="155736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6663600" y="16286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 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2201760" y="213372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án l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6665400" y="213372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u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2"/>
          <p:cNvSpPr/>
          <p:nvPr/>
        </p:nvSpPr>
        <p:spPr>
          <a:xfrm>
            <a:off x="2203200" y="270828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ū n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3"/>
          <p:cNvSpPr/>
          <p:nvPr/>
        </p:nvSpPr>
        <p:spPr>
          <a:xfrm>
            <a:off x="6304680" y="270828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i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4"/>
          <p:cNvSpPr/>
          <p:nvPr/>
        </p:nvSpPr>
        <p:spPr>
          <a:xfrm>
            <a:off x="1840320" y="32846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5"/>
          <p:cNvSpPr/>
          <p:nvPr/>
        </p:nvSpPr>
        <p:spPr>
          <a:xfrm>
            <a:off x="5514480" y="3284640"/>
            <a:ext cx="13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ku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6"/>
          <p:cNvSpPr/>
          <p:nvPr/>
        </p:nvSpPr>
        <p:spPr>
          <a:xfrm>
            <a:off x="2203560" y="3860640"/>
            <a:ext cx="19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uān x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7"/>
          <p:cNvSpPr/>
          <p:nvPr/>
        </p:nvSpPr>
        <p:spPr>
          <a:xfrm>
            <a:off x="6159960" y="393372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k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8"/>
          <p:cNvSpPr/>
          <p:nvPr/>
        </p:nvSpPr>
        <p:spPr>
          <a:xfrm>
            <a:off x="1838520" y="4437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9"/>
          <p:cNvSpPr/>
          <p:nvPr/>
        </p:nvSpPr>
        <p:spPr>
          <a:xfrm>
            <a:off x="6233760" y="450864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0"/>
          <p:cNvSpPr/>
          <p:nvPr/>
        </p:nvSpPr>
        <p:spPr>
          <a:xfrm>
            <a:off x="1982880" y="50133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1"/>
          <p:cNvSpPr/>
          <p:nvPr/>
        </p:nvSpPr>
        <p:spPr>
          <a:xfrm>
            <a:off x="6090480" y="508464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ē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2"/>
          <p:cNvSpPr/>
          <p:nvPr/>
        </p:nvSpPr>
        <p:spPr>
          <a:xfrm>
            <a:off x="1839240" y="56610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3"/>
          <p:cNvSpPr/>
          <p:nvPr/>
        </p:nvSpPr>
        <p:spPr>
          <a:xfrm>
            <a:off x="6304680" y="56610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è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9528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意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兀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啰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）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事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               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               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               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子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769A-52B1-442C-96A2-97E0A2A2D84A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5010-1184-4EF4-834E-BD1468604A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2057760" y="404640"/>
            <a:ext cx="13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572904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ǐ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1697040" y="98100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u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6162120" y="98100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ù d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1768320" y="15573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9"/>
          <p:cNvSpPr/>
          <p:nvPr/>
        </p:nvSpPr>
        <p:spPr>
          <a:xfrm>
            <a:off x="5729400" y="155736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2202480" y="213372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uó z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5799240" y="213372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2128320" y="270828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5657760" y="270828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i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1625040" y="328464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5"/>
          <p:cNvSpPr/>
          <p:nvPr/>
        </p:nvSpPr>
        <p:spPr>
          <a:xfrm>
            <a:off x="5729040" y="328464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i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6"/>
          <p:cNvSpPr/>
          <p:nvPr/>
        </p:nvSpPr>
        <p:spPr>
          <a:xfrm>
            <a:off x="1767960" y="386064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u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6231960" y="3933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i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1839600" y="450864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9"/>
          <p:cNvSpPr/>
          <p:nvPr/>
        </p:nvSpPr>
        <p:spPr>
          <a:xfrm>
            <a:off x="6304320" y="450864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i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0"/>
          <p:cNvSpPr/>
          <p:nvPr/>
        </p:nvSpPr>
        <p:spPr>
          <a:xfrm>
            <a:off x="1768320" y="508464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1"/>
          <p:cNvSpPr/>
          <p:nvPr/>
        </p:nvSpPr>
        <p:spPr>
          <a:xfrm>
            <a:off x="6158880" y="5084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2"/>
          <p:cNvSpPr/>
          <p:nvPr/>
        </p:nvSpPr>
        <p:spPr>
          <a:xfrm>
            <a:off x="1696680" y="566100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ì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3"/>
          <p:cNvSpPr/>
          <p:nvPr/>
        </p:nvSpPr>
        <p:spPr>
          <a:xfrm>
            <a:off x="5729400" y="566100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u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鹤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愧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              存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蓼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徜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   ）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B92A-CF1D-41FF-978A-5C526FC81DD5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941F-51D2-408E-9C15-81F9DA1C96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2130120" y="260280"/>
            <a:ext cx="13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ǎ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5945040" y="2602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ò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2200320" y="83664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5947560" y="83664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ǎ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2200680" y="148428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ku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6088320" y="1413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1698480" y="198900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ā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6520320" y="19890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1911960" y="26370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4"/>
          <p:cNvSpPr/>
          <p:nvPr/>
        </p:nvSpPr>
        <p:spPr>
          <a:xfrm>
            <a:off x="6379200" y="2637000"/>
            <a:ext cx="14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ǎo x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1769760" y="31417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i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6"/>
          <p:cNvSpPr/>
          <p:nvPr/>
        </p:nvSpPr>
        <p:spPr>
          <a:xfrm>
            <a:off x="6017040" y="314172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7"/>
          <p:cNvSpPr/>
          <p:nvPr/>
        </p:nvSpPr>
        <p:spPr>
          <a:xfrm>
            <a:off x="1697040" y="378936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é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8"/>
          <p:cNvSpPr/>
          <p:nvPr/>
        </p:nvSpPr>
        <p:spPr>
          <a:xfrm>
            <a:off x="6016320" y="378936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ē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9"/>
          <p:cNvSpPr/>
          <p:nvPr/>
        </p:nvSpPr>
        <p:spPr>
          <a:xfrm>
            <a:off x="2062080" y="4365720"/>
            <a:ext cx="24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áng y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0"/>
          <p:cNvSpPr/>
          <p:nvPr/>
        </p:nvSpPr>
        <p:spPr>
          <a:xfrm>
            <a:off x="5945760" y="436572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滔滔          妖娆          折腰           风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骄          风流          嘶哑           汹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黎明          腐烂          轻灵           娉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鲜妍          冠冕          呢喃           丰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沉醉          忧戚          勃发           飘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漫游          流盼          摇曳           禅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精微          旁骛          秘诀           羡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亵渎          浪荡          妄想           杜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调和          赞誉          恍若           绸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琉璃          惊骇          瞥见           剪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劫掠          赃物          制裁           贸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324000" y="5661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FA65-35CA-49E8-993C-7172EE54D27D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ACF2-36E5-4A75-A2E7-007EAC6477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涵养          恪守          自持          汲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遵循          箴言          广袤          积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宽宥          游弋          困厄          濡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麾下          嘟嚷          灰烬          阴晦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萧索          祭祀          伶俐          愕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鄙夷          嗤笑          应酬          世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惘然          隔膜          恣睢          拮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栈桥          糟蹋          别墅          褴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女婿          端详          恭维          阔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煞白          家底          觅食          嬉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空旷          撩逗          炊烟          乖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468360" y="57326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DFAF-4D1D-49FB-9D51-DC5CE6719ECC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ECBE-9BD2-4419-8D28-1F5E996D50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9T14:27:27Z</dcterms:created>
  <dc:creator>wxsa</dc:creator>
  <dc:description/>
  <cp:keywords/>
  <dc:language>en-US</dc:language>
  <cp:lastModifiedBy>CJ</cp:lastModifiedBy>
  <dcterms:modified xsi:type="dcterms:W3CDTF">2018-10-08T06:54:09Z</dcterms:modified>
  <cp:revision>182</cp:revision>
  <dc:subject/>
  <dc:title>第三讲   词语的理解与运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