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4F5-1E4C-422A-B4B9-92B5A891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8B9-A61F-4114-AD55-44A83C2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C47-E160-43C6-B5AC-12E558DA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DEB-E57C-420E-BC5D-9584781A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4F5-4FE5-444E-B6A1-7508F00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A40-D231-4F34-965D-A288EC38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5DF-6DA5-45A5-8785-17491511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80C-8D11-4BDB-86C0-594A354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C33-68EA-4D1C-8161-95E1A52E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CCA-8E4B-4FB2-897D-F299DA0F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B52-19BE-47CB-A879-1D3D8CC7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8B1-AA7C-4864-9156-9B33DC4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E20B-7568-461C-AB3A-FB9A0718B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85345"/>
          <p:cNvGrpSpPr/>
          <p:nvPr/>
        </p:nvGrpSpPr>
        <p:grpSpPr>
          <a:xfrm>
            <a:off x="0" y="692280"/>
            <a:ext cx="9143640" cy="6165360"/>
            <a:chOff x="0" y="692280"/>
            <a:chExt cx="9143640" cy="6165360"/>
          </a:xfrm>
        </p:grpSpPr>
        <p:pic>
          <p:nvPicPr>
            <p:cNvPr id="42" name="图片 185346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364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185347" descr=""/>
            <p:cNvPicPr/>
            <p:nvPr/>
          </p:nvPicPr>
          <p:blipFill>
            <a:blip r:embed="rId2"/>
            <a:stretch/>
          </p:blipFill>
          <p:spPr>
            <a:xfrm>
              <a:off x="0" y="1922040"/>
              <a:ext cx="9143640" cy="12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185348" descr=""/>
            <p:cNvPicPr/>
            <p:nvPr/>
          </p:nvPicPr>
          <p:blipFill>
            <a:blip r:embed="rId3"/>
            <a:stretch/>
          </p:blipFill>
          <p:spPr>
            <a:xfrm>
              <a:off x="0" y="3151800"/>
              <a:ext cx="914364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85349" descr=""/>
            <p:cNvPicPr/>
            <p:nvPr/>
          </p:nvPicPr>
          <p:blipFill>
            <a:blip r:embed="rId4"/>
            <a:stretch/>
          </p:blipFill>
          <p:spPr>
            <a:xfrm>
              <a:off x="0" y="4381920"/>
              <a:ext cx="914364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85350" descr=""/>
            <p:cNvPicPr/>
            <p:nvPr/>
          </p:nvPicPr>
          <p:blipFill>
            <a:blip r:embed="rId5"/>
            <a:stretch/>
          </p:blipFill>
          <p:spPr>
            <a:xfrm>
              <a:off x="0" y="5612040"/>
              <a:ext cx="9143640" cy="12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文本框 185351"/>
          <p:cNvSpPr/>
          <p:nvPr/>
        </p:nvSpPr>
        <p:spPr>
          <a:xfrm>
            <a:off x="1835280" y="148428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85352"/>
          <p:cNvSpPr/>
          <p:nvPr/>
        </p:nvSpPr>
        <p:spPr>
          <a:xfrm>
            <a:off x="1066680" y="1066680"/>
            <a:ext cx="720108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　　悲剧是将人生有价值的东西毁灭给人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               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  <a:ea typeface="隶书"/>
              </a:rPr>
              <a:t>——</a:t>
            </a: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3315"/>
          <p:cNvSpPr/>
          <p:nvPr/>
        </p:nvSpPr>
        <p:spPr>
          <a:xfrm>
            <a:off x="1293840" y="836640"/>
            <a:ext cx="78501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音乐上，杂剧的每折用同一宫调的若干曲牌组成套曲。楔子只能用一二支小令，不能用套曲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宫调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，即调式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相当于现代音乐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调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调等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曲牌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，是曲调的名称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每个曲牌都属于一定的宫调，就好比词有词牌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17"/>
          <p:cNvSpPr/>
          <p:nvPr/>
        </p:nvSpPr>
        <p:spPr>
          <a:xfrm>
            <a:off x="250920" y="260280"/>
            <a:ext cx="76968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6387"/>
          <p:cNvSpPr/>
          <p:nvPr/>
        </p:nvSpPr>
        <p:spPr>
          <a:xfrm>
            <a:off x="1077840" y="692280"/>
            <a:ext cx="8066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元杂剧角色大致可分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末、旦、净、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四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末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男角，男主角叫正末，还有副末、冲末、大末、二末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旦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女角，女主角叫正旦，还有贴旦、花旦、老旦、小旦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多扮刚勇人物或喜剧角色，有净、副净、二净之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杂角，如孤（官员）、祗从（侍从）、孛老（老头）、卜儿（老妇）、徕儿（小孩）、细酸（书生）、邦老（盗贼流氓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388"/>
          <p:cNvSpPr/>
          <p:nvPr/>
        </p:nvSpPr>
        <p:spPr>
          <a:xfrm>
            <a:off x="2484360" y="0"/>
            <a:ext cx="2871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元杂剧的角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6390"/>
          <p:cNvSpPr/>
          <p:nvPr/>
        </p:nvSpPr>
        <p:spPr>
          <a:xfrm>
            <a:off x="179280" y="333360"/>
            <a:ext cx="77004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3555"/>
          <p:cNvSpPr/>
          <p:nvPr/>
        </p:nvSpPr>
        <p:spPr>
          <a:xfrm>
            <a:off x="415800" y="463680"/>
            <a:ext cx="849636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宋体"/>
              </a:rPr>
              <a:t>                     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时代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元王朝实行民族压迫政策，把全国人民划分为四个等级：第一等是蒙古人；第二等叫色目人，也就是西域各族和西夏人；第三等叫汉人，就是原来在金朝统治下的汉人、契丹、女真等族人；第四等叫南人，汉人和南人受到百般歧视。在残酷的阶级压迫和民族压迫下，各族劳动人民都过着悲惨的日子。贪污横行，冤案多得数也数不清。元世祖死后，元成宗时期，这种贪赃枉法的情况越来越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83297"/>
          <p:cNvSpPr/>
          <p:nvPr/>
        </p:nvSpPr>
        <p:spPr>
          <a:xfrm>
            <a:off x="685800" y="83664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窦娥冤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是我国十大古典悲剧之一，是元杂剧中悲剧的典范，具有极高的艺术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全剧共四折，开头有一个“楔子”（序幕），第一折为故事的开端，第二折是故事的发展，第三折是情节的高潮，第四折是故事的结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本文选的是前三折。第三折是戏剧矛盾冲突的高潮，也是窦娥性格发展到顶点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91489"/>
          <p:cNvSpPr/>
          <p:nvPr/>
        </p:nvSpPr>
        <p:spPr>
          <a:xfrm>
            <a:off x="539640" y="1125360"/>
            <a:ext cx="57214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ff"/>
                </a:solidFill>
                <a:latin typeface="Times New Roman"/>
                <a:ea typeface="黑体"/>
              </a:rPr>
              <a:t>整体感知课文</a:t>
            </a:r>
            <a:r>
              <a:rPr b="1" lang="en-US" sz="3900" spc="-1" strike="noStrike">
                <a:solidFill>
                  <a:srgbClr val="ffffff"/>
                </a:solidFill>
                <a:latin typeface="Times New Roman"/>
                <a:ea typeface="黑体"/>
              </a:rPr>
              <a:t>·</a:t>
            </a:r>
            <a:r>
              <a:rPr b="1" lang="zh-CN" sz="3900" spc="-1" strike="noStrike">
                <a:solidFill>
                  <a:srgbClr val="ffffff"/>
                </a:solidFill>
                <a:latin typeface="Times New Roman"/>
                <a:ea typeface="黑体"/>
              </a:rPr>
              <a:t>预习检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1490"/>
          <p:cNvSpPr/>
          <p:nvPr/>
        </p:nvSpPr>
        <p:spPr>
          <a:xfrm>
            <a:off x="2425680" y="2565360"/>
            <a:ext cx="41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这部剧共有四折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课文节选了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三折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请大家简要概括每一折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情节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89441"/>
          <p:cNvSpPr/>
          <p:nvPr/>
        </p:nvSpPr>
        <p:spPr>
          <a:xfrm>
            <a:off x="3560760" y="549360"/>
            <a:ext cx="203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课文情节</a:t>
            </a: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89442"/>
          <p:cNvSpPr/>
          <p:nvPr/>
        </p:nvSpPr>
        <p:spPr>
          <a:xfrm>
            <a:off x="704160" y="1413000"/>
            <a:ext cx="90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楔子</a:t>
            </a:r>
            <a:r>
              <a:rPr b="1" lang="en-US" sz="3300" spc="-1" strike="noStrike">
                <a:solidFill>
                  <a:srgbClr val="00ff00"/>
                </a:solidFill>
                <a:latin typeface="黑体"/>
                <a:ea typeface="黑体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89443"/>
          <p:cNvSpPr/>
          <p:nvPr/>
        </p:nvSpPr>
        <p:spPr>
          <a:xfrm>
            <a:off x="611280" y="2276640"/>
            <a:ext cx="8064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生窦天章因连本带利欠蔡婆四十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银子被迫把七岁的女儿抵她做童养媳，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后进京赶考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9444" descr="1"/>
          <p:cNvPicPr/>
          <p:nvPr/>
        </p:nvPicPr>
        <p:blipFill>
          <a:blip r:embed="rId1"/>
          <a:stretch/>
        </p:blipFill>
        <p:spPr>
          <a:xfrm>
            <a:off x="826920" y="4508640"/>
            <a:ext cx="3276720" cy="19713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89445" descr="2"/>
          <p:cNvPicPr/>
          <p:nvPr/>
        </p:nvPicPr>
        <p:blipFill>
          <a:blip r:embed="rId2"/>
          <a:stretch/>
        </p:blipFill>
        <p:spPr>
          <a:xfrm>
            <a:off x="4643280" y="4508640"/>
            <a:ext cx="332424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93537"/>
          <p:cNvSpPr/>
          <p:nvPr/>
        </p:nvSpPr>
        <p:spPr>
          <a:xfrm>
            <a:off x="3705120" y="620640"/>
            <a:ext cx="203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课文情节</a:t>
            </a: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3538"/>
          <p:cNvSpPr/>
          <p:nvPr/>
        </p:nvSpPr>
        <p:spPr>
          <a:xfrm>
            <a:off x="1098720" y="15573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第一折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93539"/>
          <p:cNvSpPr/>
          <p:nvPr/>
        </p:nvSpPr>
        <p:spPr>
          <a:xfrm>
            <a:off x="684360" y="2276640"/>
            <a:ext cx="7705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庸医赛卢医欠蔡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利二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两银子， 心生歹意要勒死蔡婆却被张驴儿父子俩搭救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驴儿乘机逼蔡婆婆媳俩分别嫁给他们父子俩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蔡婆无奈之下答应了， 回家后遭到生性刚烈的窦娥的责怪与反对， 只好先让张驴儿父子在家中住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93540" descr="3"/>
          <p:cNvPicPr/>
          <p:nvPr/>
        </p:nvPicPr>
        <p:blipFill>
          <a:blip r:embed="rId1"/>
          <a:stretch/>
        </p:blipFill>
        <p:spPr>
          <a:xfrm>
            <a:off x="6516720" y="5418000"/>
            <a:ext cx="241128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95585"/>
          <p:cNvSpPr/>
          <p:nvPr/>
        </p:nvSpPr>
        <p:spPr>
          <a:xfrm>
            <a:off x="3705120" y="404640"/>
            <a:ext cx="203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课文情节</a:t>
            </a: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95586"/>
          <p:cNvSpPr/>
          <p:nvPr/>
        </p:nvSpPr>
        <p:spPr>
          <a:xfrm>
            <a:off x="876600" y="1413000"/>
            <a:ext cx="1186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第二折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95587"/>
          <p:cNvSpPr/>
          <p:nvPr/>
        </p:nvSpPr>
        <p:spPr>
          <a:xfrm>
            <a:off x="434880" y="2008080"/>
            <a:ext cx="806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驴儿为达目的，心生恶意，找赛卢医讨了毒药欲毒死蔡婆，却阴差阳错被他父亲喝了，张驴儿顺势栽赃窦娥，逼她私了，嫁与自己为妻，被刚烈的窦娥断然拒绝。于是，两人对簿公堂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却不料碰上桃杌【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w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ù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】这个昏官，偏听张驴儿一面之词，窦娥为保蔡婆被屈打成招判了死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95588" descr="4"/>
          <p:cNvPicPr/>
          <p:nvPr/>
        </p:nvPicPr>
        <p:blipFill>
          <a:blip r:embed="rId1"/>
          <a:stretch/>
        </p:blipFill>
        <p:spPr>
          <a:xfrm>
            <a:off x="6084720" y="5157720"/>
            <a:ext cx="259092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97633"/>
          <p:cNvSpPr/>
          <p:nvPr/>
        </p:nvSpPr>
        <p:spPr>
          <a:xfrm>
            <a:off x="3633480" y="549360"/>
            <a:ext cx="203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课文情节</a:t>
            </a: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97634"/>
          <p:cNvSpPr/>
          <p:nvPr/>
        </p:nvSpPr>
        <p:spPr>
          <a:xfrm>
            <a:off x="805320" y="1628640"/>
            <a:ext cx="1186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ff00"/>
                </a:solidFill>
                <a:latin typeface="黑体"/>
                <a:ea typeface="黑体"/>
              </a:rPr>
              <a:t>第三折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97635"/>
          <p:cNvGrpSpPr/>
          <p:nvPr/>
        </p:nvGrpSpPr>
        <p:grpSpPr>
          <a:xfrm>
            <a:off x="539640" y="2492280"/>
            <a:ext cx="8064360" cy="1059120"/>
            <a:chOff x="539640" y="2492280"/>
            <a:chExt cx="8064360" cy="1059120"/>
          </a:xfrm>
        </p:grpSpPr>
        <p:sp>
          <p:nvSpPr>
            <p:cNvPr id="97" name="文本框 197636"/>
            <p:cNvSpPr/>
            <p:nvPr/>
          </p:nvSpPr>
          <p:spPr>
            <a:xfrm>
              <a:off x="539640" y="2492280"/>
              <a:ext cx="80643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被押往刑场的路上，窦娥激愤之下指天骂地，并在行刑前许下三桩誓愿    血溅白练、六月飞雪、亢【</a:t>
              </a:r>
              <a:r>
                <a:rPr b="1" lang="en-US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</a:t>
              </a:r>
              <a:r>
                <a:rPr b="1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à</a:t>
              </a:r>
              <a:r>
                <a:rPr b="1" lang="en-US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g</a:t>
              </a:r>
              <a:r>
                <a:rPr b="1" lang="zh-CN" sz="3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】旱三年，以示冤屈，窦娥死后誓言一一应验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011640" y="3551040"/>
              <a:ext cx="720720" cy="360"/>
              <a:chOff x="6011640" y="3551040"/>
              <a:chExt cx="720720" cy="360"/>
            </a:xfrm>
          </p:grpSpPr>
          <p:sp>
            <p:nvSpPr>
              <p:cNvPr id="99" name="直接连接符 197637"/>
              <p:cNvSpPr/>
              <p:nvPr/>
            </p:nvSpPr>
            <p:spPr>
              <a:xfrm>
                <a:off x="6011640" y="3551040"/>
                <a:ext cx="720720" cy="0"/>
              </a:xfrm>
              <a:prstGeom prst="line">
                <a:avLst/>
              </a:prstGeom>
              <a:ln cap="sq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6011640" y="355104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" name="图片 197638" descr="5"/>
          <p:cNvPicPr/>
          <p:nvPr/>
        </p:nvPicPr>
        <p:blipFill>
          <a:blip r:embed="rId1"/>
          <a:stretch/>
        </p:blipFill>
        <p:spPr>
          <a:xfrm>
            <a:off x="5076720" y="4876920"/>
            <a:ext cx="32958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每折戏的内容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楔   子：父将窦娥来抵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一折：蔡婆讨债赛卢医、恶人赖债害人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驴父子救蔡婆、父子逼人成婚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二折：张驴设计害蔡婆、张父食毒归西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驴逼婚挟窦娥、张驴诬陷告州官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昏官不察定死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三折：窦娥刑场发誓愿、三桩誓愿皆应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四折：窦天章考中做官、窦娥冤情得昭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0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062"/>
          <p:cNvSpPr/>
          <p:nvPr/>
        </p:nvSpPr>
        <p:spPr>
          <a:xfrm>
            <a:off x="376560" y="765000"/>
            <a:ext cx="31064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汉仪雪峰体简"/>
              </a:rPr>
              <a:t>窦娥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28353"/>
          <p:cNvSpPr/>
          <p:nvPr/>
        </p:nvSpPr>
        <p:spPr>
          <a:xfrm>
            <a:off x="3564000" y="149220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28354"/>
          <p:cNvSpPr/>
          <p:nvPr/>
        </p:nvSpPr>
        <p:spPr>
          <a:xfrm>
            <a:off x="611280" y="3213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教学要点：欣赏第三折戏的前两个场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248833"/>
          <p:cNvSpPr/>
          <p:nvPr/>
        </p:nvSpPr>
        <p:spPr>
          <a:xfrm>
            <a:off x="3533760" y="7650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新课讲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48834"/>
          <p:cNvSpPr/>
          <p:nvPr/>
        </p:nvSpPr>
        <p:spPr>
          <a:xfrm>
            <a:off x="438120" y="1773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第三折中，窦娥的形象在剧烈的戏剧冲突中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塑造的感人至深，催人泪下，请思考：本折可以分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个场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48835"/>
          <p:cNvSpPr/>
          <p:nvPr/>
        </p:nvSpPr>
        <p:spPr>
          <a:xfrm>
            <a:off x="1090440" y="3284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可分为三个场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48836"/>
          <p:cNvSpPr/>
          <p:nvPr/>
        </p:nvSpPr>
        <p:spPr>
          <a:xfrm>
            <a:off x="684360" y="4510080"/>
            <a:ext cx="18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情节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248837"/>
          <p:cNvSpPr/>
          <p:nvPr/>
        </p:nvSpPr>
        <p:spPr>
          <a:xfrm>
            <a:off x="2556000" y="4175280"/>
            <a:ext cx="215640" cy="122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48838"/>
          <p:cNvSpPr/>
          <p:nvPr/>
        </p:nvSpPr>
        <p:spPr>
          <a:xfrm>
            <a:off x="2771640" y="393372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赴法场       怨天     （窦娥指斥天地鬼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48839"/>
          <p:cNvSpPr/>
          <p:nvPr/>
        </p:nvSpPr>
        <p:spPr>
          <a:xfrm>
            <a:off x="2771640" y="4581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见蔡婆       遗嘱     （窦娥告别婆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48840"/>
          <p:cNvSpPr/>
          <p:nvPr/>
        </p:nvSpPr>
        <p:spPr>
          <a:xfrm>
            <a:off x="2771640" y="515772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在刑场       誓愿     （窦娥发下三桩誓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50881"/>
          <p:cNvSpPr/>
          <p:nvPr/>
        </p:nvSpPr>
        <p:spPr>
          <a:xfrm>
            <a:off x="3564000" y="8240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赴法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50882"/>
          <p:cNvSpPr/>
          <p:nvPr/>
        </p:nvSpPr>
        <p:spPr>
          <a:xfrm>
            <a:off x="343080" y="1843200"/>
            <a:ext cx="87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朗读这一场景的两段曲子体会窦娥当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情感，并回答这两段曲子主要写了些什么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容？哪两句话最能体现这一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0883"/>
          <p:cNvSpPr/>
          <p:nvPr/>
        </p:nvSpPr>
        <p:spPr>
          <a:xfrm>
            <a:off x="2075040" y="3789360"/>
            <a:ext cx="444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黑体"/>
              </a:rPr>
              <a:t>内容：控诉天地的不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50884"/>
          <p:cNvSpPr/>
          <p:nvPr/>
        </p:nvSpPr>
        <p:spPr>
          <a:xfrm>
            <a:off x="1476360" y="4581360"/>
            <a:ext cx="6840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3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地也，你不分好歹何为地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3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天也，你错勘贤愚枉做天！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50"/>
                            </p:stCondLst>
                            <p:childTnLst>
                              <p:par>
                                <p:cTn id="157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端正好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表现了窦娥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表现了窦娥满腹冤屈与怨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9901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概括地说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滚绣球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一曲表达了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9012"/>
          <p:cNvSpPr/>
          <p:nvPr/>
        </p:nvSpPr>
        <p:spPr>
          <a:xfrm>
            <a:off x="395280" y="4869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既表达了对天地不公的不满，又表现了主人公的反抗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引用“盗跖【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zh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】、颜渊”的典故有何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里是用以指责天地好坏不分，黑白颠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52929"/>
          <p:cNvSpPr/>
          <p:nvPr/>
        </p:nvSpPr>
        <p:spPr>
          <a:xfrm>
            <a:off x="3564000" y="8240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赴法场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52930"/>
          <p:cNvSpPr/>
          <p:nvPr/>
        </p:nvSpPr>
        <p:spPr>
          <a:xfrm>
            <a:off x="330120" y="1612800"/>
            <a:ext cx="877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在古代人的意识里，神圣的天地被看做是能够主宰世间万物包括人的命运的，是不容侵犯的，现在怎么却成了斥骂的对象了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52931"/>
          <p:cNvSpPr/>
          <p:nvPr/>
        </p:nvSpPr>
        <p:spPr>
          <a:xfrm>
            <a:off x="289080" y="3500280"/>
            <a:ext cx="8651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明确：窦娥受神权思想影响，开始也相信“青天大老爷”能主持正义，赏善罚恶。而天地面对人间的邪恶残暴竟无动于衷。在残酷的现实面前，她把矛头就指向了天地。既抒发了自己的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痛苦和悲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54977"/>
          <p:cNvSpPr/>
          <p:nvPr/>
        </p:nvSpPr>
        <p:spPr>
          <a:xfrm>
            <a:off x="3564000" y="8240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赴法场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54978"/>
          <p:cNvSpPr/>
          <p:nvPr/>
        </p:nvSpPr>
        <p:spPr>
          <a:xfrm>
            <a:off x="485640" y="1673280"/>
            <a:ext cx="846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窦娥的控诉难道只是对天地的一种简单的斥骂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54979"/>
          <p:cNvSpPr/>
          <p:nvPr/>
        </p:nvSpPr>
        <p:spPr>
          <a:xfrm>
            <a:off x="325440" y="2919240"/>
            <a:ext cx="84916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是，这里的“天” “地”应该封建统治者，所以窦娥的控诉应该是对整个社会秩序的怀疑，是对当时社会黑暗的激烈控诉。是窦娥承受深重冤屈后的觉醒，体现了窦娥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抗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精神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57025"/>
          <p:cNvSpPr/>
          <p:nvPr/>
        </p:nvSpPr>
        <p:spPr>
          <a:xfrm>
            <a:off x="3564000" y="824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赴法场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57026"/>
          <p:cNvSpPr/>
          <p:nvPr/>
        </p:nvSpPr>
        <p:spPr>
          <a:xfrm>
            <a:off x="623880" y="1700280"/>
            <a:ext cx="834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那么你从中读出了主人公一种什么样的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感？作者用了什么艺术手法营造这种效果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57027"/>
          <p:cNvSpPr/>
          <p:nvPr/>
        </p:nvSpPr>
        <p:spPr>
          <a:xfrm>
            <a:off x="1422360" y="2766960"/>
            <a:ext cx="1514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情感</a:t>
            </a:r>
            <a:r>
              <a:rPr b="1" lang="zh-CN" sz="29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怨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57028"/>
          <p:cNvSpPr/>
          <p:nvPr/>
        </p:nvSpPr>
        <p:spPr>
          <a:xfrm>
            <a:off x="150840" y="3305160"/>
            <a:ext cx="899316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艺术手法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偶、对比、呼告等，不仅抒发了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满怀冤屈的极端悲愤之情，深化了戏剧冲突，使窦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反抗精神更强烈有势、淋漓尽致地表达出来，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句式整齐，节奏鲜明，具有强烈的表达效果。又由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两个曲牌的唱腔高亢激越，音乐的艺术形式与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容的和谐统一，有一种强烈的感人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59073"/>
          <p:cNvSpPr/>
          <p:nvPr/>
        </p:nvSpPr>
        <p:spPr>
          <a:xfrm>
            <a:off x="3317760" y="8240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诀别婆婆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59074"/>
          <p:cNvSpPr/>
          <p:nvPr/>
        </p:nvSpPr>
        <p:spPr>
          <a:xfrm>
            <a:off x="755640" y="1916280"/>
            <a:ext cx="792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考：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认为这一场景写窦娥与婆婆诀别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感情基调是怎样的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59075"/>
          <p:cNvSpPr/>
          <p:nvPr/>
        </p:nvSpPr>
        <p:spPr>
          <a:xfrm>
            <a:off x="4426920" y="3384720"/>
            <a:ext cx="37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切痛楚，哀婉凄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61121"/>
          <p:cNvSpPr/>
          <p:nvPr/>
        </p:nvSpPr>
        <p:spPr>
          <a:xfrm>
            <a:off x="3317760" y="82404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析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诀别婆婆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1122"/>
          <p:cNvSpPr/>
          <p:nvPr/>
        </p:nvSpPr>
        <p:spPr>
          <a:xfrm>
            <a:off x="611280" y="1844640"/>
            <a:ext cx="85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考：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一场景表现了窦娥的什么性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特点？这对表现主题有什么帮助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1123"/>
          <p:cNvSpPr/>
          <p:nvPr/>
        </p:nvSpPr>
        <p:spPr>
          <a:xfrm>
            <a:off x="971640" y="3067200"/>
            <a:ext cx="511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性格：善良、孝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1124"/>
          <p:cNvSpPr/>
          <p:nvPr/>
        </p:nvSpPr>
        <p:spPr>
          <a:xfrm>
            <a:off x="488880" y="3862440"/>
            <a:ext cx="842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9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窦娥越是善良、孝顺，也就越发显出其冤屈，她的抗争与反抗也就越发令人同情，作者在这里是通过善良被毁灭来揭露社会的黑暗，揭露的意义就越深刻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076" descr="a5"/>
          <p:cNvPicPr/>
          <p:nvPr/>
        </p:nvPicPr>
        <p:blipFill>
          <a:blip r:embed="rId1"/>
          <a:stretch/>
        </p:blipFill>
        <p:spPr>
          <a:xfrm>
            <a:off x="6033960" y="0"/>
            <a:ext cx="311004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3078"/>
          <p:cNvSpPr/>
          <p:nvPr/>
        </p:nvSpPr>
        <p:spPr>
          <a:xfrm>
            <a:off x="179280" y="0"/>
            <a:ext cx="5761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关汉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号一斋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老年又号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己斋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大都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宋体"/>
              </a:rPr>
              <a:t>(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今北京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宋体"/>
              </a:rPr>
              <a:t>)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活于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21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左右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--13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左右年间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我国最早的也是古代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宋体"/>
              </a:rPr>
              <a:t>伟大的戏剧家，元杂剧的奠基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被誉为“梨园领袖”、“杂剧班头”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年被列入世界文化名人之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079"/>
          <p:cNvSpPr/>
          <p:nvPr/>
        </p:nvSpPr>
        <p:spPr>
          <a:xfrm>
            <a:off x="0" y="41497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关汉卿最杰出的杂剧首推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窦娥冤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其他代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救风尘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》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望江亭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》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单刀会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》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西蜀梦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散曲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南吕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一枝花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宋体"/>
              </a:rPr>
              <a:t>·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不伏老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263169"/>
          <p:cNvSpPr/>
          <p:nvPr/>
        </p:nvSpPr>
        <p:spPr>
          <a:xfrm>
            <a:off x="735120" y="11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3170"/>
          <p:cNvSpPr/>
          <p:nvPr/>
        </p:nvSpPr>
        <p:spPr>
          <a:xfrm>
            <a:off x="3560760" y="966960"/>
            <a:ext cx="24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作业布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3171"/>
          <p:cNvSpPr/>
          <p:nvPr/>
        </p:nvSpPr>
        <p:spPr>
          <a:xfrm>
            <a:off x="900000" y="2421000"/>
            <a:ext cx="662472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阅读分析窦娥的三桩誓愿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265217"/>
          <p:cNvSpPr/>
          <p:nvPr/>
        </p:nvSpPr>
        <p:spPr>
          <a:xfrm>
            <a:off x="3635280" y="10587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5218"/>
          <p:cNvSpPr/>
          <p:nvPr/>
        </p:nvSpPr>
        <p:spPr>
          <a:xfrm>
            <a:off x="173160" y="2554560"/>
            <a:ext cx="855180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学要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研读“三桩誓言”部分，揣摩剧本的艺术特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归纳主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70337"/>
          <p:cNvSpPr/>
          <p:nvPr/>
        </p:nvSpPr>
        <p:spPr>
          <a:xfrm>
            <a:off x="3835440" y="950760"/>
            <a:ext cx="2354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研析“三桩誓言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70338"/>
          <p:cNvSpPr/>
          <p:nvPr/>
        </p:nvSpPr>
        <p:spPr>
          <a:xfrm>
            <a:off x="395280" y="1773360"/>
            <a:ext cx="8569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窦娥临刑前发出了哪三桩誓言，运用了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典故？每桩誓愿表现了窦娥什么样的愿望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70339"/>
          <p:cNvSpPr/>
          <p:nvPr/>
        </p:nvSpPr>
        <p:spPr>
          <a:xfrm>
            <a:off x="324000" y="3429000"/>
            <a:ext cx="914400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血溅白练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用了</a:t>
            </a:r>
            <a:r>
              <a:rPr b="1" lang="zh-CN" sz="2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“苌弘化碧、望帝啼鹃”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典故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她希望刑场上的人们立刻了解她的冤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月飞雪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用了</a:t>
            </a:r>
            <a:r>
              <a:rPr b="1" lang="zh-CN" sz="2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“六月飞霜”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典故，她希望自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冤屈能让上天见证其清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亢旱三年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用了</a:t>
            </a:r>
            <a:r>
              <a:rPr b="1" lang="zh-CN" sz="2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“东海孝妇”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典故，她希望上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能惩治邪恶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76481"/>
          <p:cNvSpPr/>
          <p:nvPr/>
        </p:nvSpPr>
        <p:spPr>
          <a:xfrm>
            <a:off x="3835440" y="950760"/>
            <a:ext cx="2354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研析“三桩誓言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76482"/>
          <p:cNvSpPr/>
          <p:nvPr/>
        </p:nvSpPr>
        <p:spPr>
          <a:xfrm>
            <a:off x="249120" y="1988640"/>
            <a:ext cx="88948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窦娥所发的三桩誓愿能否交换一下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6483"/>
          <p:cNvSpPr/>
          <p:nvPr/>
        </p:nvSpPr>
        <p:spPr>
          <a:xfrm>
            <a:off x="2159640" y="3216240"/>
            <a:ext cx="498132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桩誓愿，从时间的延续上，一桩比一桩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久长；从空间范围上，一桩比一桩更扩大。三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誓愿依次递进的过程，也是窦娥反抗精神依次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升的过程，是她斗争的矛头更加明确的过程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94913"/>
          <p:cNvSpPr/>
          <p:nvPr/>
        </p:nvSpPr>
        <p:spPr>
          <a:xfrm>
            <a:off x="304920" y="38088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剧作家为什么要在这折戏的结尾安排“三大奇愿”这样的情节呢？为什么窦娥在赴法场时要咒骂天地，而这里又寄希望于天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94914"/>
          <p:cNvSpPr/>
          <p:nvPr/>
        </p:nvSpPr>
        <p:spPr>
          <a:xfrm>
            <a:off x="539640" y="1989000"/>
            <a:ext cx="81010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这三愿充分揭露了当时社会官吏昏聩，法制腐败，人民蒙受奇冤而又呼告无门的真实情况。它着力表现主人公至死不屈的斗争精神，这种精神甚至产生了感动天地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文章借助三桩奇愿充分体现了人民渴望天地伸张人间正义，杀尽贪官污吏，洗雪冤屈的良好意志与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309249"/>
          <p:cNvSpPr/>
          <p:nvPr/>
        </p:nvSpPr>
        <p:spPr>
          <a:xfrm>
            <a:off x="114696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分析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09250"/>
          <p:cNvGrpSpPr/>
          <p:nvPr/>
        </p:nvGrpSpPr>
        <p:grpSpPr>
          <a:xfrm>
            <a:off x="684360" y="3224160"/>
            <a:ext cx="7675560" cy="1213200"/>
            <a:chOff x="684360" y="3224160"/>
            <a:chExt cx="7675560" cy="1213200"/>
          </a:xfrm>
        </p:grpSpPr>
        <p:sp>
          <p:nvSpPr>
            <p:cNvPr id="156" name="文本框 309251"/>
            <p:cNvSpPr/>
            <p:nvPr/>
          </p:nvSpPr>
          <p:spPr>
            <a:xfrm>
              <a:off x="684360" y="3224160"/>
              <a:ext cx="767556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整体把握故事情节的过程中，我们接触到了一位受冤枉的女性    窦娥，那么窦娥到底是一个什么样的人呢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004000" y="4437000"/>
              <a:ext cx="720720" cy="360"/>
              <a:chOff x="5004000" y="4437000"/>
              <a:chExt cx="720720" cy="360"/>
            </a:xfrm>
          </p:grpSpPr>
          <p:sp>
            <p:nvSpPr>
              <p:cNvPr id="158" name="直接连接符 309252"/>
              <p:cNvSpPr/>
              <p:nvPr/>
            </p:nvSpPr>
            <p:spPr>
              <a:xfrm>
                <a:off x="5004000" y="4437000"/>
                <a:ext cx="720720" cy="0"/>
              </a:xfrm>
              <a:prstGeom prst="line">
                <a:avLst/>
              </a:prstGeom>
              <a:ln cap="sq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5004000" y="443700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文本框 309253"/>
          <p:cNvSpPr/>
          <p:nvPr/>
        </p:nvSpPr>
        <p:spPr>
          <a:xfrm>
            <a:off x="1258920" y="692280"/>
            <a:ext cx="597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66"/>
                </a:solidFill>
                <a:latin typeface="Times New Roman"/>
                <a:ea typeface="黑体"/>
              </a:rPr>
              <a:t>把握窦娥的性格特征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"/>
                            </p:stCondLst>
                            <p:childTnLst>
                              <p:par>
                                <p:cTn id="35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11297"/>
          <p:cNvSpPr/>
          <p:nvPr/>
        </p:nvSpPr>
        <p:spPr>
          <a:xfrm>
            <a:off x="1403280" y="2781360"/>
            <a:ext cx="756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黑体"/>
                <a:ea typeface="黑体"/>
              </a:rPr>
              <a:t>一</a:t>
            </a:r>
            <a:r>
              <a:rPr b="0" lang="en-US" sz="35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500" spc="-1" strike="noStrike">
                <a:solidFill>
                  <a:srgbClr val="ffff00"/>
                </a:solidFill>
                <a:latin typeface="黑体"/>
                <a:ea typeface="黑体"/>
              </a:rPr>
              <a:t>善良、安分守己、有主见、刚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11298"/>
          <p:cNvSpPr/>
          <p:nvPr/>
        </p:nvSpPr>
        <p:spPr>
          <a:xfrm>
            <a:off x="1403280" y="4098960"/>
            <a:ext cx="604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黑体"/>
                <a:ea typeface="黑体"/>
              </a:rPr>
              <a:t>二</a:t>
            </a:r>
            <a:r>
              <a:rPr b="0" lang="en-US" sz="35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500" spc="-1" strike="noStrike">
                <a:solidFill>
                  <a:srgbClr val="ffff00"/>
                </a:solidFill>
                <a:latin typeface="黑体"/>
                <a:ea typeface="黑体"/>
              </a:rPr>
              <a:t>具有强烈的反抗精神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11299"/>
          <p:cNvSpPr/>
          <p:nvPr/>
        </p:nvSpPr>
        <p:spPr>
          <a:xfrm>
            <a:off x="3706920" y="120636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ff00"/>
                </a:solidFill>
                <a:latin typeface="黑体"/>
                <a:ea typeface="黑体"/>
              </a:rPr>
              <a:t>窦 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13345"/>
          <p:cNvSpPr/>
          <p:nvPr/>
        </p:nvSpPr>
        <p:spPr>
          <a:xfrm>
            <a:off x="1332720" y="206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分析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13346"/>
          <p:cNvSpPr/>
          <p:nvPr/>
        </p:nvSpPr>
        <p:spPr>
          <a:xfrm>
            <a:off x="684360" y="2792520"/>
            <a:ext cx="9144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是一个善良、安分守己、刚强、孝顺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女子，但最终却落了个身首异处的悲惨结局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之过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13347"/>
          <p:cNvSpPr/>
          <p:nvPr/>
        </p:nvSpPr>
        <p:spPr>
          <a:xfrm>
            <a:off x="808200" y="1014480"/>
            <a:ext cx="44845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66"/>
                </a:solidFill>
                <a:latin typeface="Times New Roman"/>
                <a:ea typeface="黑体"/>
              </a:rPr>
              <a:t>初步探究社会意义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315393"/>
          <p:cNvSpPr/>
          <p:nvPr/>
        </p:nvSpPr>
        <p:spPr>
          <a:xfrm>
            <a:off x="1976760" y="2349720"/>
            <a:ext cx="539208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张驴儿父子，他们是窦娥悲剧的直接原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楚州太守桃杌，他是窦娥悲剧的主要原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庸医赛卢医，他既是造恶者，又是助恶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其父窦天章他是窦娥悲剧的间接责任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15394"/>
          <p:cNvSpPr/>
          <p:nvPr/>
        </p:nvSpPr>
        <p:spPr>
          <a:xfrm>
            <a:off x="539640" y="1303200"/>
            <a:ext cx="273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ff00"/>
                </a:solidFill>
                <a:latin typeface="黑体"/>
                <a:ea typeface="黑体"/>
              </a:rPr>
              <a:t>分 析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920"/>
                            </p:stCondLst>
                            <p:childTnLst>
                              <p:par>
                                <p:cTn id="402" dur="indefinite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840"/>
                            </p:stCondLst>
                            <p:childTnLst>
                              <p:par>
                                <p:cTn id="408" dur="indefinite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8760"/>
                            </p:stCondLst>
                            <p:childTnLst>
                              <p:par>
                                <p:cTn id="414" dur="indefinite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317441"/>
          <p:cNvSpPr/>
          <p:nvPr/>
        </p:nvSpPr>
        <p:spPr>
          <a:xfrm>
            <a:off x="1116000" y="1589040"/>
            <a:ext cx="7416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问题：从上面的分析看，当时的社会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个什么样的社会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17442"/>
          <p:cNvSpPr/>
          <p:nvPr/>
        </p:nvSpPr>
        <p:spPr>
          <a:xfrm>
            <a:off x="250920" y="3065400"/>
            <a:ext cx="86421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反映当时社会上以强欺弱、以恶欺善的现实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反映了当时吏治的黑暗，官吏的昏庸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贪赃枉法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反映了当时科举制度对人身心的摧残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dur="indefinite" nodeType="afterEffect" fill="hold" presetClass="entr" presetID="3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100"/>
                            </p:stCondLst>
                            <p:childTnLst>
                              <p:par>
                                <p:cTn id="440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9100"/>
                            </p:stCondLst>
                            <p:childTnLst>
                              <p:par>
                                <p:cTn id="447" dur="indefinite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六月飞雪”的神奇想象：惊天动地，惊世骇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仅此一项就可以列在世界十大悲剧中而不失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美学大师王国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曲尽人情，字字本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319489"/>
          <p:cNvSpPr/>
          <p:nvPr/>
        </p:nvSpPr>
        <p:spPr>
          <a:xfrm>
            <a:off x="826920" y="415800"/>
            <a:ext cx="79930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总之，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这是一个清浊不辨、是非颠倒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善恶错位、真假难分的世界，生活在这样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个暗无天日的社会里，窦娥这样的弱女子只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能是受人摆布，任人欺凌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19490"/>
          <p:cNvSpPr/>
          <p:nvPr/>
        </p:nvSpPr>
        <p:spPr>
          <a:xfrm>
            <a:off x="790560" y="3720960"/>
            <a:ext cx="806616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所以造成窦娥之死的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根本原因</a:t>
            </a: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就是那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清浊不辨、是非颠倒、善恶错位、真假难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的黑暗社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84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21537"/>
          <p:cNvSpPr/>
          <p:nvPr/>
        </p:nvSpPr>
        <p:spPr>
          <a:xfrm>
            <a:off x="684360" y="1087560"/>
            <a:ext cx="51116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66"/>
                </a:solidFill>
                <a:latin typeface="Times New Roman"/>
                <a:ea typeface="黑体"/>
              </a:rPr>
              <a:t>分析戏剧的矛盾冲突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21538"/>
          <p:cNvSpPr/>
          <p:nvPr/>
        </p:nvSpPr>
        <p:spPr>
          <a:xfrm>
            <a:off x="971640" y="2349360"/>
            <a:ext cx="792144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戏剧一般是通过矛盾冲突来塑造人物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象表达主题的，而戏剧冲突一般有三类：</a:t>
            </a:r>
            <a:r>
              <a:rPr b="1" lang="zh-CN" sz="3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物之间的冲突，人与环境的冲突，人物内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的冲突。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么本剧的主要矛盾冲突属于什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类型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323585"/>
          <p:cNvSpPr/>
          <p:nvPr/>
        </p:nvSpPr>
        <p:spPr>
          <a:xfrm>
            <a:off x="250920" y="765000"/>
            <a:ext cx="889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、窦娥与现实生活有哪些矛盾冲突？这些矛盾冲突表现了什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3586"/>
          <p:cNvSpPr/>
          <p:nvPr/>
        </p:nvSpPr>
        <p:spPr>
          <a:xfrm>
            <a:off x="684360" y="0"/>
            <a:ext cx="27003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ff00"/>
                </a:solidFill>
                <a:latin typeface="黑体"/>
                <a:ea typeface="黑体"/>
              </a:rPr>
              <a:t>讨 论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23587"/>
          <p:cNvSpPr/>
          <p:nvPr/>
        </p:nvSpPr>
        <p:spPr>
          <a:xfrm>
            <a:off x="-47520" y="1844640"/>
            <a:ext cx="91915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明确：窦娥与现实生活的矛盾冲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驴儿误把自己的父亲毒死，却诬陷清白的窦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本想依靠衙门洗清自己的冤枉，却反而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判以死罪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娥渴望清清白白地活着，却怕连累婆婆，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己心甘情愿担当死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3588"/>
          <p:cNvSpPr/>
          <p:nvPr/>
        </p:nvSpPr>
        <p:spPr>
          <a:xfrm>
            <a:off x="5919840" y="649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3589"/>
          <p:cNvSpPr/>
          <p:nvPr/>
        </p:nvSpPr>
        <p:spPr>
          <a:xfrm>
            <a:off x="755640" y="2924280"/>
            <a:ext cx="640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反映当时社会上强欺弱、恶欺善的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23590"/>
          <p:cNvSpPr/>
          <p:nvPr/>
        </p:nvSpPr>
        <p:spPr>
          <a:xfrm>
            <a:off x="611280" y="4508640"/>
            <a:ext cx="7940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反映了当时吏治的黑暗，官吏的昏庸，贪赃枉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23591"/>
          <p:cNvSpPr/>
          <p:nvPr/>
        </p:nvSpPr>
        <p:spPr>
          <a:xfrm>
            <a:off x="2813040" y="5962680"/>
            <a:ext cx="4474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表现了窦娥的孝顺和善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325633"/>
          <p:cNvSpPr/>
          <p:nvPr/>
        </p:nvSpPr>
        <p:spPr>
          <a:xfrm>
            <a:off x="826920" y="1413000"/>
            <a:ext cx="8317080" cy="14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3900" spc="-1" strike="noStrike">
                <a:solidFill>
                  <a:srgbClr val="00ff00"/>
                </a:solidFill>
                <a:latin typeface="黑体"/>
                <a:ea typeface="黑体"/>
              </a:rPr>
              <a:t>小结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从上面的分析可以看出，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剧的主要矛盾是人与社会环境的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25634"/>
          <p:cNvSpPr/>
          <p:nvPr/>
        </p:nvSpPr>
        <p:spPr>
          <a:xfrm>
            <a:off x="900000" y="3595680"/>
            <a:ext cx="856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鲁迅先生说所谓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剧</a:t>
            </a: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就是把美好的事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撕碎给人看。</a:t>
            </a:r>
            <a:r>
              <a:rPr b="1" lang="en-US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窦娥冤</a:t>
            </a:r>
            <a:r>
              <a:rPr b="1" lang="en-US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》</a:t>
            </a: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活生生地展示了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暗社会吞噬人的过程，使观众的情感得到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荡，激起人们对黑暗社会的痛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95200" y="692280"/>
            <a:ext cx="8353440" cy="547200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概括主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窦娥冤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我国十大古典悲剧之一。作者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通过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窦娥蒙受的千古奇冤，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揭露了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封建社会的黑暗，统治阶级的昏庸残暴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歌颂了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窦娥的美好心灵和反抗精神。窦娥的形象壮美动人，她的悲剧性格，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具有深刻的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社会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意义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强烈的感染力量。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品在艺术上，体现出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现实主义与浪漫主义风格的融合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品用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丰富的想像和大胆的夸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设计超现实的情节，显示出正义的强大力量，寄托了作者鲜明的爱憎，反映了广大人民伸张正义、惩治邪恶的愿望。 </a:t>
            </a:r>
            <a:br>
              <a:rPr sz="2800"/>
            </a:br>
            <a:br>
              <a:rPr sz="2800"/>
            </a:b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语言通俗自然，朴实生动，极富性格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评论家以“本色”二字概括其特色。课文中的曲词，都不事雕琢，感情真切，精练优美，浅显而深邃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84673"/>
          <p:cNvSpPr/>
          <p:nvPr/>
        </p:nvSpPr>
        <p:spPr>
          <a:xfrm>
            <a:off x="3572280" y="1557000"/>
            <a:ext cx="8481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思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84674"/>
          <p:cNvSpPr/>
          <p:nvPr/>
        </p:nvSpPr>
        <p:spPr>
          <a:xfrm>
            <a:off x="116676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84675"/>
          <p:cNvSpPr/>
          <p:nvPr/>
        </p:nvSpPr>
        <p:spPr>
          <a:xfrm>
            <a:off x="395280" y="32234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试比较分析窦娥、祥林嫂两个悲剧人物形象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7172"/>
          <p:cNvSpPr/>
          <p:nvPr/>
        </p:nvSpPr>
        <p:spPr>
          <a:xfrm>
            <a:off x="611280" y="189000"/>
            <a:ext cx="85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元曲”，一般包括杂剧和散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73"/>
          <p:cNvSpPr/>
          <p:nvPr/>
        </p:nvSpPr>
        <p:spPr>
          <a:xfrm>
            <a:off x="1476360" y="1268280"/>
            <a:ext cx="612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杂剧是元代文学最高成就的标志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4"/>
          <p:cNvSpPr/>
          <p:nvPr/>
        </p:nvSpPr>
        <p:spPr>
          <a:xfrm>
            <a:off x="250920" y="2421000"/>
            <a:ext cx="889308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散曲包括小令和套数两种形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小令是独立的只曲，相当于一首单调的词，主要是从民间的小曲和词调变化来的。如我们熟悉的马致远的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越调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天净沙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秋思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     　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套数是由两支以上同宫调的曲子联缀而成的组曲，各套曲子的联缀多有一定的顺序，末曲多以尾声结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24579"/>
          <p:cNvSpPr/>
          <p:nvPr/>
        </p:nvSpPr>
        <p:spPr>
          <a:xfrm>
            <a:off x="179280" y="1268280"/>
            <a:ext cx="89647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关汉卿  代表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窦娥冤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马致远　代表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汉宫秋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白朴   代表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墙头马上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梧桐雨》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郑光祖   代表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倩女离魂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580"/>
          <p:cNvSpPr/>
          <p:nvPr/>
        </p:nvSpPr>
        <p:spPr>
          <a:xfrm>
            <a:off x="2627280" y="189000"/>
            <a:ext cx="50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曲四大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8195"/>
          <p:cNvSpPr/>
          <p:nvPr/>
        </p:nvSpPr>
        <p:spPr>
          <a:xfrm>
            <a:off x="1476360" y="1989000"/>
            <a:ext cx="5905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窦娥冤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－－关汉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汉宫秋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－－马致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梧桐雨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－－白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《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赵氏孤儿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宋体"/>
              </a:rPr>
              <a:t>》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－－纪君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196"/>
          <p:cNvSpPr/>
          <p:nvPr/>
        </p:nvSpPr>
        <p:spPr>
          <a:xfrm>
            <a:off x="0" y="404640"/>
            <a:ext cx="3492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197"/>
          <p:cNvSpPr/>
          <p:nvPr/>
        </p:nvSpPr>
        <p:spPr>
          <a:xfrm>
            <a:off x="179280" y="1268280"/>
            <a:ext cx="2952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8198"/>
          <p:cNvSpPr/>
          <p:nvPr/>
        </p:nvSpPr>
        <p:spPr>
          <a:xfrm>
            <a:off x="3027960" y="404640"/>
            <a:ext cx="3106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四大悲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元杂剧的四大爱情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西厢记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－－王实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拜月亭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－－关汉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墙头马上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－－白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倩女离魂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－－郑光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2291"/>
          <p:cNvSpPr/>
          <p:nvPr/>
        </p:nvSpPr>
        <p:spPr>
          <a:xfrm>
            <a:off x="1332000" y="260280"/>
            <a:ext cx="766764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杂剧通常由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四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组成。之外可以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楔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楔【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xi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ē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】子一般放在第一折之前，类似现代剧中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序幕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剧本由曲词，宾白，科介三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曲词：剧中人物的唱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宾白：剧中人物的说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科介：关于动作，表情和音响效果的舞台提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296"/>
          <p:cNvSpPr/>
          <p:nvPr/>
        </p:nvSpPr>
        <p:spPr>
          <a:xfrm>
            <a:off x="5796000" y="6424560"/>
            <a:ext cx="295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293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867280" y="6497640"/>
            <a:ext cx="100836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29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5640" y="6497640"/>
            <a:ext cx="865080" cy="358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295" descr=""/>
          <p:cNvPicPr/>
          <p:nvPr/>
        </p:nvPicPr>
        <p:blipFill>
          <a:blip r:embed="rId3"/>
          <a:stretch/>
        </p:blipFill>
        <p:spPr>
          <a:xfrm>
            <a:off x="7738920" y="6497640"/>
            <a:ext cx="935280" cy="33336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2298"/>
          <p:cNvSpPr/>
          <p:nvPr/>
        </p:nvSpPr>
        <p:spPr>
          <a:xfrm>
            <a:off x="250920" y="333360"/>
            <a:ext cx="76968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汉仪雪峰体简"/>
                <a:ea typeface="汉仪雪峰体简"/>
              </a:rPr>
              <a:t>元杂剧的体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07:53:12Z</dcterms:created>
  <dc:creator>nhyz</dc:creator>
  <dc:description/>
  <dc:language>en-US</dc:language>
  <cp:lastModifiedBy>等风初赵</cp:lastModifiedBy>
  <dcterms:modified xsi:type="dcterms:W3CDTF">2018-05-21T03:38:47Z</dcterms:modified>
  <cp:revision>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